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753D2-37DD-4A63-B9B0-9A6CF45E0F7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5EB7E-08C3-451E-ADCB-57FBA282322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2F9A-D430-4149-9698-AEB00FB78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F8DA-C879-4237-A9CC-DED4443CF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5474-6F5A-469E-AC03-729E21C32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EE92-A047-4EA5-B7A6-709FB6070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F6AB-488F-4AE8-BCAE-1D7C58658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BB41-CDB8-47FC-B24B-8A17D02A4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3E65-CBEB-41BA-A7C2-B89451C50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7195-2D59-4B0B-9DE0-7A704EE14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250B-12A3-45AF-BB81-9F88421E0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9F73-F762-4804-B48F-57BDCCB8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A02A-B8B4-4459-A855-14240750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EABA-6B4E-439C-A545-B9F0CFC8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0A8EE-F7A2-447F-BEA1-B9EE57BD388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4000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analýza podmín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přístupů využívaných v České republice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91344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ázek 39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rázek 4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74880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výhody (potenciality)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rších pracov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nostní vlastnosti a schopnosti, jako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áž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kuše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evědo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středě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danost v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ěřenost ve finančních náro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věd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chvi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dal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truktura zprá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uální demografická situ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avení pracovníků ve věku 50+ na trhu práce v ČR, ve Finsku a v zemích E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daje o pracovní schopnosti stárnoucích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ující opatření na podporu zaměstnanosti 50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y age managementu v prax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žnosti uplatnění age managementu v praxi v Č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lková (úhrnná) míra plodnosti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1" descr=""/>
          <p:cNvPicPr/>
          <p:nvPr/>
        </p:nvPicPr>
        <p:blipFill>
          <a:blip r:embed="rId1"/>
          <a:stretch/>
        </p:blipFill>
        <p:spPr>
          <a:xfrm>
            <a:off x="177840" y="112536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ěje na dožití žen a mužů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7272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voj věkové struktury obyvatelstva ČR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letech 2005–2050 dle prognózy ČSÚ (2009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ázek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56144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ěr ekonomicky závislých osob v ČR, ve Finsku a v průměru zemí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rázek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7488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ce ekonomicky závislých osob do roku 2060 pro ČR, Finsko a země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7058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racovním procesu jsou třeb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i z pěti gener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755640" y="574560"/>
            <a:ext cx="72010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zaměstnanosti ve věkové skupině 50-64 let ve srovnání 27 zemí E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26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6:01:57Z</cp:lastPrinted>
  <dcterms:modified xsi:type="dcterms:W3CDTF">2012-01-04T16:19:40Z</dcterms:modified>
  <cp:revision>5</cp:revision>
  <dc:subject/>
  <dc:title>Snímek 1</dc:title>
</cp:coreProperties>
</file>