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9928225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28800" cy="679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62248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45624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62248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40601-FD51-4FFF-8377-559AACDB09B7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E59BA-5191-486A-B035-BEE226D562E8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Zástupný symbol pro datum 4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Zástupný symbol pro záhlaví 5"/>
          <p:cNvSpPr/>
          <p:nvPr/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4A927-3F42-485A-8433-73C600D4C8E7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Zástupný symbol pro datum 1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Zástupný symbol pro záhlaví 2"/>
          <p:cNvSpPr/>
          <p:nvPr/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90B99-B7D1-4BDF-812C-FE64710F7155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Zástupný symbol pro datum 1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Zástupný symbol pro záhlaví 2"/>
          <p:cNvSpPr/>
          <p:nvPr/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CA2A0-5D35-4DAD-A05F-CFCFB403B84E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Zástupný symbol pro datum 1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Zástupný symbol pro záhlaví 2"/>
          <p:cNvSpPr/>
          <p:nvPr/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0D807-6C0E-41D8-9929-727B88F94092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Zástupný symbol pro datum 1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Zástupný symbol pro záhlaví 2"/>
          <p:cNvSpPr/>
          <p:nvPr/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7CBAC-7253-4420-A3F7-FC3583BA0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3F467-D67B-49A8-9BFC-02717B72A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59786-C1AE-4367-AC0A-328B3CA23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D6795-0F70-49A2-909B-46BAD3AAB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45ABA-54DD-4DA3-88CA-7DDF05AD1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D7991-8A40-4449-B87E-67928C955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D52AE-42FB-43E6-916A-C8120DFFA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6B246-0F88-433E-946E-A5EE1DAF2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0CFF1-FF05-4BC1-9DB5-6C7A5D255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E3C0F-EE6A-4A60-A942-9F9857CF2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D2127-911E-4C26-A440-42E7833DC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6C330-7275-411C-B09E-C6D06A309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553F3-885F-4EC6-B8F2-2B1C3C34B5F7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0920" y="83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Work abilit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195640" y="2852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262673"/>
                </a:solidFill>
                <a:latin typeface="Arial"/>
              </a:rPr>
              <a:t>Koncept práceschopnosti (W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262673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262673"/>
                </a:solidFill>
                <a:latin typeface="Arial"/>
              </a:rPr>
              <a:t>Work Ability Ind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262673"/>
                </a:solidFill>
                <a:latin typeface="Arial"/>
              </a:rPr>
              <a:t>Proměny konceptu W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68360" y="141264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jetí WA se rozvíjí s postupem do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jde již jen o zdraví či nemoc - odklon od medicínského pojet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endence k multidimenzionálnímu pohl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WA  je spojena s mnoha faktory pracovního života, které jsou spojeny 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jak s jedincem, tak i s pracovním místem, prací samotnou, se sociálním prostředím či společnost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2" descr="MC900019283[1]"/>
          <p:cNvPicPr/>
          <p:nvPr/>
        </p:nvPicPr>
        <p:blipFill>
          <a:blip r:embed="rId1"/>
          <a:stretch/>
        </p:blipFill>
        <p:spPr>
          <a:xfrm>
            <a:off x="468360" y="1700280"/>
            <a:ext cx="4248000" cy="181296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953735"/>
                </a:solidFill>
                <a:latin typeface="Arial"/>
              </a:rPr>
              <a:t>Multidimenzionální WA model – Dům pracovní schopn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3995640" y="5300640"/>
            <a:ext cx="3889440" cy="914400"/>
          </a:xfrm>
          <a:prstGeom prst="rect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Zdraví a funkční kapac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6"/>
          <p:cNvSpPr/>
          <p:nvPr/>
        </p:nvSpPr>
        <p:spPr>
          <a:xfrm>
            <a:off x="3995640" y="4365720"/>
            <a:ext cx="3889440" cy="9349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chopnos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7"/>
          <p:cNvSpPr/>
          <p:nvPr/>
        </p:nvSpPr>
        <p:spPr>
          <a:xfrm>
            <a:off x="3995640" y="3429000"/>
            <a:ext cx="3889440" cy="10080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Hodno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osto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Motiv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8"/>
          <p:cNvSpPr/>
          <p:nvPr/>
        </p:nvSpPr>
        <p:spPr>
          <a:xfrm>
            <a:off x="3995640" y="2492280"/>
            <a:ext cx="3889440" cy="936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rá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racovní komun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Vede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5"/>
          <p:cNvSpPr/>
          <p:nvPr/>
        </p:nvSpPr>
        <p:spPr>
          <a:xfrm>
            <a:off x="3419640" y="3860640"/>
            <a:ext cx="576000" cy="5050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6"/>
          <p:cNvSpPr/>
          <p:nvPr/>
        </p:nvSpPr>
        <p:spPr>
          <a:xfrm>
            <a:off x="2050920" y="4869000"/>
            <a:ext cx="1584360" cy="136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Rod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7"/>
          <p:cNvSpPr/>
          <p:nvPr/>
        </p:nvSpPr>
        <p:spPr>
          <a:xfrm>
            <a:off x="468360" y="3716280"/>
            <a:ext cx="1942920" cy="12747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ociální kon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0"/>
          <p:cNvSpPr/>
          <p:nvPr/>
        </p:nvSpPr>
        <p:spPr>
          <a:xfrm>
            <a:off x="179280" y="981000"/>
            <a:ext cx="8785440" cy="432000"/>
          </a:xfrm>
          <a:prstGeom prst="rect">
            <a:avLst/>
          </a:prstGeom>
          <a:solidFill>
            <a:srgbClr val="bbe0e3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polečnost: kultura, legislativa, vzdělávací politika,                sociální a zdr. politi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9"/>
          <p:cNvSpPr/>
          <p:nvPr/>
        </p:nvSpPr>
        <p:spPr>
          <a:xfrm>
            <a:off x="3995640" y="907920"/>
            <a:ext cx="3889440" cy="1584360"/>
          </a:xfrm>
          <a:prstGeom prst="triangle">
            <a:avLst>
              <a:gd name="adj" fmla="val 50000"/>
            </a:avLst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Pracovní schopn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4"/>
          <p:cNvSpPr/>
          <p:nvPr/>
        </p:nvSpPr>
        <p:spPr>
          <a:xfrm>
            <a:off x="1042920" y="141300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Vnější prostřed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24000" y="33336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100" spc="-1" strike="noStrike">
                <a:solidFill>
                  <a:srgbClr val="262673"/>
                </a:solidFill>
                <a:latin typeface="Arial"/>
              </a:rPr>
              <a:t>WAI – Work Ability Index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68360" y="1125360"/>
            <a:ext cx="8229600" cy="49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Sebeposuzovací dotazník (škály). Dlouhá a krátká verz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0. Charakter práce: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zda je práce duševní či tělesná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1. Posouzení práceschopnosti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s ohledem k nejlepší práceschopnosti (0-10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90033"/>
                </a:solidFill>
                <a:latin typeface="Arial"/>
              </a:rPr>
              <a:t>2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Práceschopnost s ohledem k požadavkům práce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(tělesné a psychické požadavky) (násobí se 1,5 při tělesné práci, 0,5 při duševní, sečíst otázky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953735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Výčet aktuálních diagnóz 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– vlastních a lékařských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(úrazy, pohybový systém, kardiovaskulární systém, respirační choroby, psychické problémy, neurologické a smyslové choroby, gastrointestinální systém, močové cesty, kožní onemocnění, tumory a rakovinové onemocnění, nemoci hormonální a látkové výměny, cévní onemocnění, vrozené vady a další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376092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376092"/>
                </a:solidFill>
                <a:latin typeface="Arial"/>
              </a:rPr>
              <a:t>dlouhý (51) či krátký (14) výčet nemocí (více jak 5 nemocí = 1 bod, žádná nemoc = 7 bodů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500" spc="-1" strike="noStrike">
                <a:solidFill>
                  <a:srgbClr val="953735"/>
                </a:solidFill>
                <a:latin typeface="Arial"/>
              </a:rPr>
              <a:t>WAI – Work Ability Index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cs-CZ" sz="2500" spc="-1" strike="noStrike">
                <a:solidFill>
                  <a:srgbClr val="262673"/>
                </a:solidFill>
                <a:latin typeface="Arial"/>
              </a:rPr>
              <a:t>Odhad zhoršení pracovního  výkonu 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– omezení výkonu (1-6 bodů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1" lang="cs-CZ" sz="2500" spc="-1" strike="noStrike">
                <a:solidFill>
                  <a:srgbClr val="262673"/>
                </a:solidFill>
                <a:latin typeface="Arial"/>
              </a:rPr>
              <a:t>Nemocnost v posledním roce 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(1-5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1" lang="cs-CZ" sz="2500" spc="-1" strike="noStrike">
                <a:solidFill>
                  <a:srgbClr val="262673"/>
                </a:solidFill>
                <a:latin typeface="Arial"/>
              </a:rPr>
              <a:t>Odhad pracovní schopnosti 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ve dvou následujících letech (1,4 nebo 7 bodů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7. </a:t>
            </a:r>
            <a:r>
              <a:rPr b="1" lang="cs-CZ" sz="2500" spc="-1" strike="noStrike">
                <a:solidFill>
                  <a:srgbClr val="262673"/>
                </a:solidFill>
                <a:latin typeface="Arial"/>
              </a:rPr>
              <a:t>Psychické rezervy 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(radost, aktivita, víra v budoucnost) (sečíst 0-3 = 1 bod…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Nejvyšší dosažený počet bodů je 49 </a:t>
            </a:r>
            <a:r>
              <a:rPr b="0" lang="cs-CZ" sz="2500" spc="-1" strike="noStrike">
                <a:solidFill>
                  <a:srgbClr val="262673"/>
                </a:solidFill>
                <a:latin typeface="Arial"/>
              </a:rPr>
              <a:t>(maximální práceschopnost),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 nejnižší je 7 bodů  </a:t>
            </a:r>
            <a:r>
              <a:rPr b="0" lang="cs-CZ" sz="2500" spc="-1" strike="noStrike">
                <a:solidFill>
                  <a:srgbClr val="262673"/>
                </a:solidFill>
                <a:latin typeface="Arial"/>
              </a:rPr>
              <a:t>(minimální práceschopnost).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Všechny položky musí být zodpovězeny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262673"/>
                </a:solidFill>
                <a:latin typeface="Arial"/>
              </a:rPr>
              <a:t>Dimenze pracovní schopnosti - výzkum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68360" y="1052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Výsledky dotazování ve Finsku  (Finnish Health 2000 Survey) zaměřené na skupinu  pracovníků 30 – 64 let (přes 5.000 respondentů). Sledovali 3 indikátory WA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Odhad WA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(zcela fit, částečně omezen, zcela neschopen práce)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WA score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: na škále 0-10 posoudit míru práceschopnosti (ve vztahu k jejich nejvyšší dosažené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WA Index – Index práceschopnost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Určité skupiny lidí měly zhoršenou práceschopnost (starší lidé, starší ženy, nezaměstnaní, s nízkou úrovní vzdělání…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Ve srovnání s dřívějšími výzkumy ve Finsku se práceschopnost zvýšila. Dobrá práceschopnost byla zjištěna u pracovníků vykonávajících fyzicky lehkou práci, s vyšším vzděláním, s dobrým zdraví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Byly identifikovány faktory podporující práceschopnost: supervize, podpora kolegů, nízké požadavky na fyzickou sílu…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990033"/>
                </a:solidFill>
                <a:latin typeface="Arial"/>
              </a:rPr>
              <a:t>Představení WAI v Č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zbudil zájem jak praktiků, tak i výzkumníků (možné využití pro neziskové účel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tázky spojené s konstrukcí dotazníku (jednoduchost, spolehlivost – např. vázanost na aktuální náladu apod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tázky spojené s jeho aplikací – kde by měl být užíván, kým…, důvěrnost dat – etické otázky, ochota pracovníků vyplnit dotazník apod. – cíle využití (pro rozvoj jedi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yužití pro výzkumné účely (rozvoj institucí a politická doporučení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8T09:35:56Z</dcterms:created>
  <dc:creator>Slavek Hamadak</dc:creator>
  <dc:description/>
  <dc:language>en-US</dc:language>
  <cp:lastModifiedBy>Povolny</cp:lastModifiedBy>
  <cp:lastPrinted>2012-01-04T15:30:35Z</cp:lastPrinted>
  <dcterms:modified xsi:type="dcterms:W3CDTF">2012-01-04T16:19:44Z</dcterms:modified>
  <cp:revision>5</cp:revision>
  <dc:subject/>
  <dc:title>Snímek 1</dc:title>
</cp:coreProperties>
</file>