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60D2C-1743-44D7-804E-7C0C76B4D7F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0A4E6-FA4C-48FE-A472-4D5D583CBB2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F3EE-6831-438E-9CF2-46AB6D871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E764-92F4-4A54-8996-39C8FD107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94D3-6505-4A06-9A07-E1DDCECC0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65A8-DD17-4F3B-984E-41F3BDFFE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1CF8-11A8-497C-B163-6ABBD45A0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78CE-EE58-4D7B-A9CD-C91B3C752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38A4-DE7F-49E2-8B01-DF1506ACE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B630-59DE-4059-964E-108B9992F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0212-41CE-4455-89CC-AC76B6B00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0451-B9C1-4946-8B36-122E7C68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A54F-3241-4F9D-A5C1-2FAF3CEE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803B-87DA-4EDF-B938-2D022869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58F4A-F129-428E-8D54-171F5631E35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400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analýza podmín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přístupů využívaných v České republice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91344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ázek 39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rázek 4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74880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výhody (potenciality)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rších pracov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nostní vlastnosti a schopnosti, jako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áž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kuše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evědo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středě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danost v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ěřenost ve finančních náro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věd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chvi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dal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ruktura zprá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uální demografická situ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avení pracovníků ve věku 50+ na trhu práce v ČR, ve Finsku a v zemích E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daje o pracovní schopnosti stárnoucích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ující opatření na podporu zaměstnanosti 50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 age managementu v prax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žnosti uplatnění age managementu v praxi v Č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lková (úhrnná) míra plodnosti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1" descr=""/>
          <p:cNvPicPr/>
          <p:nvPr/>
        </p:nvPicPr>
        <p:blipFill>
          <a:blip r:embed="rId1"/>
          <a:stretch/>
        </p:blipFill>
        <p:spPr>
          <a:xfrm>
            <a:off x="177840" y="112536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ěje na dožití žen a mužů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7272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voj věkové struktury obyvatelstva ČR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letech 2005–2050 dle prognózy ČSÚ (2009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ázek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56144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ěr ekonomicky závislých osob v ČR, ve Finsku a v průměru zemí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ázek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488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ce ekonomicky závislých osob do roku 2060 pro ČR, Finsko a země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7058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racovním procesu jsou tře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i z pěti gener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755640" y="574560"/>
            <a:ext cx="72010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zaměstnanosti ve věkové skupině 50-64 let ve srovnání 27 zemí E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26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6:01:57Z</cp:lastPrinted>
  <dcterms:modified xsi:type="dcterms:W3CDTF">2012-01-04T16:19:40Z</dcterms:modified>
  <cp:revision>5</cp:revision>
  <dc:subject/>
  <dc:title>Snímek 1</dc:title>
</cp:coreProperties>
</file>