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AE693-439F-4890-8367-AC1347B8DF3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13F67-5E9B-420D-9F5A-96897DC55E6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Zástupný symbol pro datum 4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C003-A702-4DA0-B653-A2CBC0546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8C89-C19C-4971-BE00-863CE000C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B2C6-989A-4E7F-ADE7-4669F6109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C1A6-FF8F-4B89-8302-CF61CB12E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1E18-5CD9-4FBE-9F49-FBE1968E3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A00D-AECA-4F62-824F-068F8475D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505E-E2AA-469C-988E-4E3F53AA7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AA88-98D5-420F-8B9E-B500528D4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D662-EF6B-4992-B45C-AD6E1D429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8E8B-0F77-49B3-B1F2-9A4E20C12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BB22-1769-43C6-980D-F827EAA2F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B532-4C99-449E-89BA-3CACED64E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B2E3E-56AD-4994-85B5-3EC928659490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agemanagement@aivd.cz" TargetMode="External"/><Relationship Id="rId2" Type="http://schemas.openxmlformats.org/officeDocument/2006/relationships/hyperlink" Target="http://www.aivd.cz/agemanagement-oprojektu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773360"/>
            <a:ext cx="896472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ZÁKLADNÍ INFORMACE O PROJEKTU,</a:t>
            </a:r>
            <a:br>
              <a:rPr sz="3600"/>
            </a:b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FINSKÝ MODEL </a:t>
            </a:r>
            <a:br>
              <a:rPr sz="3600"/>
            </a:b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AGE MANAGEMEN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292720" y="5084640"/>
            <a:ext cx="327168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Mgr. Ilona Štorov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AIVD ČR, o. 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Arial"/>
              </a:rPr>
              <a:t>INFORMACE O PROJEK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sociace institucí vzdělávání dospělých ČR, o.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arlovo náměstí 14/292 | 120 00 Praha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gr. Ilona Štorová, vedoucí projektu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cs-CZ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gemanagement@aivd.c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l: 734 318 79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ivd.cz/agemanagement-o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ěkuji Vám za pozornos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333399"/>
                </a:solidFill>
                <a:latin typeface="Arial"/>
              </a:rPr>
              <a:t>STRATEGIE AGE MANAGEMENTU </a:t>
            </a:r>
            <a:br>
              <a:rPr sz="3600"/>
            </a:br>
            <a:r>
              <a:rPr b="1" lang="cs-CZ" sz="3600" spc="-1" strike="noStrike">
                <a:solidFill>
                  <a:srgbClr val="333399"/>
                </a:solidFill>
                <a:latin typeface="Arial"/>
              </a:rPr>
              <a:t>V ČESKÉ REPUBLIC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964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Číslo projektu: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CZ.1.04/5.1.01/51.00079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Identifikace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OP LZZ, 5.1 Mezinárodní spoluprá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oba realizace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1. 9. 2010 – 31. 7.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ealizátor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Asociace institucí vzdělávání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                           dospělých ČR,  o.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artneři: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Masarykova univerz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Univerzita Palackého v Olomou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Úřad práce České republiky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rajská pobočka v Brn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Zahraniční partner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Finnish Institute of Occupational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Health (FIOH), www.ttl.f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451"/>
              </a:spcBef>
              <a:buNone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451"/>
              </a:spcBef>
              <a:buNone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68000" y="1413000"/>
            <a:ext cx="84344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Přenos inovativních nástrojů k řešení problematiky cílové skupiny 50+ na trhu prác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0840">
              <a:lnSpc>
                <a:spcPct val="100000"/>
              </a:lnSpc>
              <a:spcBef>
                <a:spcPts val="2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Verdana"/>
              </a:rPr>
              <a:t>Age Management Trai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0840">
              <a:lnSpc>
                <a:spcPct val="100000"/>
              </a:lnSpc>
              <a:spcBef>
                <a:spcPts val="2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Verdana"/>
              </a:rPr>
              <a:t>Koncept Work Abil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0840">
              <a:lnSpc>
                <a:spcPct val="100000"/>
              </a:lnSpc>
              <a:spcBef>
                <a:spcPts val="2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Verdana"/>
              </a:rPr>
              <a:t>Work Ability Inde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Aplikace principů Age Managementu v Č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Široká publicita Age Managementu a jeho vizí v Č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HLAVNÍ CÍLE PROJEKT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99"/>
                </a:solidFill>
                <a:latin typeface="Arial"/>
              </a:rPr>
              <a:t>VÝSTUPY PROJEKT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45 proškolených českých expertů na problematiku Age Managemen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omparativní analýza přístupů a podmínek k cílové skupině 50+ na trhu práce v ČR a ve Fins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etodická příručka pro práci s cílovou skupinou 50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99"/>
                </a:solidFill>
                <a:latin typeface="Arial"/>
              </a:rPr>
              <a:t>FINSKÝ MODE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insko patří mezi nejaktivnější země v EU, které se zabývají situací stárnoucí pracovní síl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IOH, Ministerstvo práce, Ministerstvo sociálních věcí a zdraví a Ministerstvo vzdělávání Finské republiky uskutečnily celou řadu výzkumů a realizovaly mnoho programů, které byly zaměřeny na problémy stárnutí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99"/>
                </a:solidFill>
                <a:latin typeface="Arial"/>
              </a:rPr>
              <a:t>FINSKÉ ZKUŠENOST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81 – 2009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Dlouhodobé studie FIOH zaměřené na stárnoucí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acovníky. Sledování stejných osob po 7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, 16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a 28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lete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90 -1996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FinnAge –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ogram FIOH „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Respe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t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e stárnutí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96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abine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tn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o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mi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e: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Stárnoucí zaměstnanci v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acovním proces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98-2002 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Fin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ský národn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rogram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o stárnoucí pracovník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03 -2007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Nové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národn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rogram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y různých ministerste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05 -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Důchodová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reform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06 – 2010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Téma „Běh života a práce“ na FIO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11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Ustanovení skupiny zabývající se kariérními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změnami a diverzitou na FI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DŮCHODOVÁ REFORM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50920" y="1125000"/>
            <a:ext cx="864216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Rozhodnutí o odchodu do důchodu je rozhodnutím zaměstna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Flexibilní hranice věku odchodu (63 – 68 let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Stát finančně zvýhodňuje zaměstnance, kteří pracují dé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626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18 – 52 let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1,5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626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53 – 62 let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1,9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626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63  - 68 let 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4,5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Osoba, která odejde do důchodu v 68 letech má cca o 22,5 % vyšší penzi než kdyby odešla v 63 let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FINSKÝ VLÁDNÍ PROGRAM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50560" y="1773000"/>
            <a:ext cx="8713800" cy="29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Povinnost zaměstnavatelů udržovat pracovní schopnost zaměstnanc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Prodloužení pracovního živo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Rozvoj a podpora Age Managemen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ROK 201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95280" y="2781000"/>
            <a:ext cx="822960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ktivní stárnutí sleduje za cí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vytváření lepších příležitostí a pracovních podmínek pro starší pracovníky a jejich uplatnění na trhu prá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boj proti sociálnímu vyloučení posílením aktivního zapojení do společnost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podpora zdravého stárnu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"/>
          <p:cNvPicPr/>
          <p:nvPr/>
        </p:nvPicPr>
        <p:blipFill>
          <a:blip r:embed="rId1"/>
          <a:stretch/>
        </p:blipFill>
        <p:spPr>
          <a:xfrm>
            <a:off x="4643280" y="404640"/>
            <a:ext cx="4127760" cy="936720"/>
          </a:xfrm>
          <a:prstGeom prst="rect">
            <a:avLst/>
          </a:prstGeom>
          <a:ln w="0">
            <a:noFill/>
          </a:ln>
        </p:spPr>
      </p:pic>
      <p:sp>
        <p:nvSpPr>
          <p:cNvPr id="67" name="TextovéPole 3"/>
          <p:cNvSpPr/>
          <p:nvPr/>
        </p:nvSpPr>
        <p:spPr>
          <a:xfrm>
            <a:off x="395280" y="1557360"/>
            <a:ext cx="8280360" cy="10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Rok věnovaný problematice aktivního stárnutí a mezigenerační solidari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5:31:12Z</cp:lastPrinted>
  <dcterms:modified xsi:type="dcterms:W3CDTF">2012-01-04T16:19:42Z</dcterms:modified>
  <cp:revision>28</cp:revision>
  <dc:subject/>
  <dc:title>Snímek 1</dc:title>
</cp:coreProperties>
</file>