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4D001-D9EF-4191-A12F-6D16C5AA115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2F417-900E-4066-AD1B-5BC01BB677A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Zástupný symbol pro datum 4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D248-1393-40C3-B846-4AB998205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3FD5-2323-4E4A-9710-FD2DC2517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64CF-B6F8-4D63-9396-A5886536B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98A5-BD67-493A-8A51-98853E281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0213-F0CF-4AD6-BAAA-DE4BB63D5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5170-F7ED-4C52-9406-789A0B277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F60E-59B3-41E4-9EC9-50886854C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7D19-352C-434B-8EC8-48AFBF4E7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F58E-B136-489D-82E0-7DFB8F60F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139D-EC60-4FC3-A770-21F5B27A1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9948-C0F8-4EE8-BB26-6B34160CC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C352-2A87-451A-9B9B-F50539683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245D4-D20A-49D2-AB6F-5E383045DE58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AGE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340000" y="2421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mparativní analýza podmíne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přístupů využívaných v České republice a ve Fins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1258920" y="765000"/>
            <a:ext cx="6913440" cy="46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obrázek 39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78487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obrázek 42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74880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mparativní výhody (potenciality)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arších pracovník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sobnostní vlastnosti a schopnosti, jako j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ozváž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kuše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ílevědom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oustředě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danost vě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měřenost ve finančních nárocí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pověd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ochvil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 dalš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471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Struktura zpráv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ktuální demografická situa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stavení pracovníků ve věku 50+ na trhu práce v ČR, ve Finsku a v zemích E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daje o pracovní schopnosti stárnoucích pracovník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xistující opatření na podporu zaměstnanosti 50+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y age managementu v prax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ožnosti uplatnění age managementu v praxi v Č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elková (úhrnná) míra plodnosti v ČR a ve Finsku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obrázek 1" descr=""/>
          <p:cNvPicPr/>
          <p:nvPr/>
        </p:nvPicPr>
        <p:blipFill>
          <a:blip r:embed="rId1"/>
          <a:stretch/>
        </p:blipFill>
        <p:spPr>
          <a:xfrm>
            <a:off x="177840" y="1125360"/>
            <a:ext cx="864216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děje na dožití žen a mužů v ČR a ve Finsku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obrázek 2" descr=""/>
          <p:cNvPicPr/>
          <p:nvPr/>
        </p:nvPicPr>
        <p:blipFill>
          <a:blip r:embed="rId1"/>
          <a:stretch/>
        </p:blipFill>
        <p:spPr>
          <a:xfrm>
            <a:off x="179280" y="1341360"/>
            <a:ext cx="727236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voj věkové struktury obyvatelstva ČR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 letech 2005–2050 dle prognózy ČSÚ (2009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obrázek 4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7561440" cy="433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měr ekonomicky závislých osob v ČR, ve Finsku a v průměru zemí EU (27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obrázek 5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748800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jekce ekonomicky závislých osob do roku 2060 pro ČR, Finsko a země EU (27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obrázek 6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7705800" cy="45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71600" y="4653000"/>
            <a:ext cx="6400800" cy="98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 pracovním procesu jsou třeb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ři z pěti generac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755640" y="574560"/>
            <a:ext cx="7201080" cy="38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915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íra zaměstnanosti ve věkové skupině 50-64 let ve srovnání 27 zemí EU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obrázek 26" descr="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6:01:57Z</cp:lastPrinted>
  <dcterms:modified xsi:type="dcterms:W3CDTF">2012-01-04T16:19:40Z</dcterms:modified>
  <cp:revision>5</cp:revision>
  <dc:subject/>
  <dc:title>Snímek 1</dc:title>
</cp:coreProperties>
</file>