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6C9B8-1B6B-4B5D-BBE5-4807C2E9675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363EC-872E-41C9-90EF-CECA521CCB2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1E7A-423B-4390-B610-FBFADDAD7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3531-7320-4FAC-A86A-61A8D5617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350A-2EA8-4FF1-97F9-1A21E04A0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6A0A-4BD4-4334-BA79-44949211A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2F5D-8F87-4A8D-BC89-8A109A951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1063-D869-4B30-95B4-E31C023FD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9799-F3E1-46DE-88E1-343FA02E3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0B92-CC10-4D03-B6A7-326653FC7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FA42-3B4F-45A3-ADED-7BF99FEBF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B31C-0B2B-4D96-A16E-3A0920F4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3919-A1C6-4A53-8A42-887F4423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4B27-1CB9-4002-B12D-B7FE3A90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ED446-4E84-46B3-8AC8-63D4543A9E0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agemanagement@aivd.cz" TargetMode="External"/><Relationship Id="rId2" Type="http://schemas.openxmlformats.org/officeDocument/2006/relationships/hyperlink" Target="http://www.aivd.cz/agemanagement-oprojekt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8964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KLADNÍ INFORMACE O PROJEKTU,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INSKÝ MODEL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92720" y="5084640"/>
            <a:ext cx="32716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Mgr. Ilona Što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AIVD ČR, o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Arial"/>
              </a:rPr>
              <a:t>INFORMACE O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sociace institucí vzdělávání dospělých ČR, o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lovo náměstí 14/292 | 120 00 Prah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gr. Ilona Štorová, vedoucí projektu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gemanagement@aivd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: 734 318 7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ivd.cz/agemanagement-o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kuji Vám za pozorn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STRATEGIE AGE MANAGEMENTU </a:t>
            </a:r>
            <a:br>
              <a:rPr sz="3600"/>
            </a:b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V ČESKÉ REPUBL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íslo projektu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Z.1.04/5.1.01/51.0007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P LZZ, 5.1 Mezinárodní spolu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ba realiz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1. 9. 2010 – 31. 7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alizáto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sociace institucí vzdělá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                        dospělých ČR,  o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asarykova univerz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niverzita Palackého v Olomou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řad práce České republi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ajská pobočka v Brn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ahraniční partne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nnish Institute of Occupation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ealth (FIOH), www.ttl.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1413000"/>
            <a:ext cx="8434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řenos inovativních nástrojů k řešení problematiky cílové skupiny 50+ na trhu prá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Age Management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Koncept Work 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Work Ability Ind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plikace principů Age Managementu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Široká publicita Age Managementu a jeho vizí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HLAVNÍ CÍLE PROJEKT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VÝSTUPY PROJEKT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5 proškolených českých expertů na problematiku Age Manag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mparativní analýza přístupů a podmínek k cílové skupině 50+ na trhu práce v ČR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odická příručka pro práci s cílovou skupinou 50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Ý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nsko patří mezi nejaktivnější země v EU, které se zabývají situací stárnoucí pracovní sí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OH, Ministerstvo práce, Ministerstvo sociálních věcí a zdraví a Ministerstvo vzdělávání Finské republiky uskutečnily celou řadu výzkumů a realizovaly mnoho programů, které byly zaměřeny na problémy stárnut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É ZKUŠENOST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81 – 2009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louhodobé studie FIOH zaměřené na stárnouc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ky. Sledování stejných osob po 7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, 16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 28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let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0 -1996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nAge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gram FIOH „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esp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e stárnut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6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bin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mi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e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tárnoucí zaměstnanci v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m proce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8-2002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ký 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 stárnoucí pracovní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3 -2007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ov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y různých ministerste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5 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ůchodová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refor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6 – 2010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éma „Běh života a práce“ na FI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1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Ustanovení skupiny zabývající se kariérními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změnami a diverzitou na FI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DŮCHODOVÁ REFO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1125000"/>
            <a:ext cx="8642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hodnutí o odchodu do důchodu je rozhodnutím zaměst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Flexibilní hranice věku odchodu (63 – 68 l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tát finančně zvýhodňuje zaměstnance, kteří pracují dé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8 – 5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53 – 6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63  - 68 let 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4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soba, která odejde do důchodu v 68 letech má cca o 22,5 % vyšší penzi než kdyby odešla v 63 le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FINSKÝ VLÁDNÍ PROGRAM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773000"/>
            <a:ext cx="871380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vinnost zaměstnavatelů udržovat pracovní schopnost zaměstnanc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dloužení pracovního živ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ozvoj a podpora 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ROK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2781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ktivní stárnutí sleduje za cí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tváření lepších příležitostí a pracovních podmínek pro starší pracovníky a jejich uplatnění na trhu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oj proti sociálnímu vyloučení posílením aktivního zapojení do společn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pora zdravého stárn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643280" y="404640"/>
            <a:ext cx="4127760" cy="93672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3"/>
          <p:cNvSpPr/>
          <p:nvPr/>
        </p:nvSpPr>
        <p:spPr>
          <a:xfrm>
            <a:off x="395280" y="1557360"/>
            <a:ext cx="82803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k věnovaný problematice aktivního stárnutí a mezigenerační solidari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1:12Z</cp:lastPrinted>
  <dcterms:modified xsi:type="dcterms:W3CDTF">2012-01-04T16:19:42Z</dcterms:modified>
  <cp:revision>28</cp:revision>
  <dc:subject/>
  <dc:title>Snímek 1</dc:title>
</cp:coreProperties>
</file>