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047F8-C19A-4258-AB02-B3EA9A40741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B2A75-30C5-4998-BF2D-C6EFDA34D79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ástupný symbol pro záhlaví 5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83F88-9646-4CDA-B01B-AEA3B9FE065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67249-0B02-47A0-9189-C48FDDD76C5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CE4EF-08AC-409A-A6E6-A6B416136BF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FAA63-7CF7-49BA-9579-73A1FF4CAF1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6535-4699-4B6E-9B26-6CA7E7CA6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241A-B78A-4EAB-B7FA-AC862FFB0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8F48-459B-4AE7-9911-901F68017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DD7E-DA3A-4CAA-8613-A72AB1F2F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96E0-481E-4844-B4E2-6CFF19FF6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D54D-677C-49A5-9BA6-80AEF93FC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2C1B-314D-4FFD-A07C-11E666913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9F5A-2BD2-4357-8A74-08E68D01F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85F4-2E42-44D6-BA60-A11E72543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75C0-2EAC-480C-A19F-2ED19A73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41F0-CAFA-4C3D-8973-1828CDA8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1D8E-7D55-4ABA-BF31-EC3ADD8A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6187B-F186-483E-B7B9-2325553E665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ork abi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9564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Koncept práceschopnosti (W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Work Abi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62673"/>
                </a:solidFill>
                <a:latin typeface="Arial"/>
              </a:rPr>
              <a:t>Proměny konceptu 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jetí WA se rozvíjí s postupem do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de již jen o zdraví či nemoc - odklon od medicínského poj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ndence k multidimenzionálnímu pohl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A  je spojena s mnoha faktory pracovního života, které jsou spojeny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k s jedincem, tak i s pracovním místem, prací samotnou, se sociálním prostředím či společ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2" descr="MC900019283[1]"/>
          <p:cNvPicPr/>
          <p:nvPr/>
        </p:nvPicPr>
        <p:blipFill>
          <a:blip r:embed="rId1"/>
          <a:stretch/>
        </p:blipFill>
        <p:spPr>
          <a:xfrm>
            <a:off x="468360" y="1700280"/>
            <a:ext cx="4248000" cy="1812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Arial"/>
              </a:rPr>
              <a:t>Multidimenzionální WA model – Dům pracovní schop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95640" y="5300640"/>
            <a:ext cx="3889440" cy="9144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draví a funkční kapa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995640" y="4365720"/>
            <a:ext cx="3889440" cy="93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995640" y="3429000"/>
            <a:ext cx="388944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odn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tiv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995640" y="2492280"/>
            <a:ext cx="388944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covní komu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419640" y="3860640"/>
            <a:ext cx="57600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050920" y="4869000"/>
            <a:ext cx="158436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68360" y="3716280"/>
            <a:ext cx="1942920" cy="1274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k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179280" y="981000"/>
            <a:ext cx="8785440" cy="432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: kultura, legislativa, vzdělávací politika,                sociální a zdr. po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995640" y="907920"/>
            <a:ext cx="3889440" cy="158436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acovní schop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1042920" y="141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nější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262673"/>
                </a:solidFill>
                <a:latin typeface="Arial"/>
              </a:rPr>
              <a:t>WAI – Work Ability Ind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125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beposuzovací dotazník (škály). Dlouhá a krátká ver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0. Charakter práce: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da je práce duševní či tělesn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1. Posouzení práceschopnosti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 ohledem k nejlepší práceschopnosti (0-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Práceschopnost s ohledem k požadavkům prác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tělesné a psychické požadavky) (násobí se 1,5 při tělesné práci, 0,5 při duševní, sečíst otázk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Výčet aktuálních diagnóz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vlastních a lékařský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úrazy, pohybový systém, kardiovaskulární systém, respirační choroby, psychické problémy, neurologické a smyslové choroby, gastrointestinální systém, močové cesty, kožní onemocnění, tumory a rakovinové onemocnění, nemoci hormonální a látkové výměny, cévní onemocnění, vrozené vady a další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dlouhý (51) či krátký (14) výčet nemocí (více jak 5 nemocí = 1 bod, žádná nemoc = 7 bo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953735"/>
                </a:solidFill>
                <a:latin typeface="Arial"/>
              </a:rPr>
              <a:t>WAI – Work Ability Inde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zhoršení pracovního  výkonu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– omezení výkonu (1-6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Nemocnost v posledním roce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1-5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pracovní schopnosti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e dvou následujících letech (1,4 nebo 7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Psychické rezervy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radost, aktivita, víra v budoucnost) (sečíst 0-3 = 1 bod…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ejvyšší dosažený počet bodů je 49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aximální práceschopnost),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nejnižší je 7 bodů 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inimální práceschopnost).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šechny položky musí být zodpovězen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262673"/>
                </a:solidFill>
                <a:latin typeface="Arial"/>
              </a:rPr>
              <a:t>Dimenze pracovní schopnosti - výzkum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052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sledky dotazování ve Finsku  (Finnish Health 2000 Survey) zaměřené na skupinu  pracovníků 30 – 64 let (přes 5.000 respondentů). Sledovali 3 indikátory W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Odhad WA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zcela fit, částečně omezen, zcela neschopen práce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scor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na škále 0-10 posoudit míru práceschopnosti (ve vztahu k jejich nejvyšší dosažen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Index – Index práceschop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Určité skupiny lidí měly zhoršenou práceschopnost (starší lidé, starší ženy, nezaměstnaní, s nízkou úrovní vzdělání…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srovnání s dřívějšími výzkumy ve Finsku se práceschopnost zvýšila. Dobrá práceschopnost byla zjištěna u pracovníků vykonávajících fyzicky lehkou práci, s vyšším vzděláním, s dobrým zdrav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Byly identifikovány faktory podporující práceschopnost: supervize, podpora kolegů, nízké požadavky na fyzickou sílu…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33"/>
                </a:solidFill>
                <a:latin typeface="Arial"/>
              </a:rPr>
              <a:t>Představení WAI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budil zájem jak praktiků, tak i výzkumníků (možné využití pro neziskové úč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konstrukcí dotazníku (jednoduchost, spolehlivost – např. vázanost na aktuální náladu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jeho aplikací – kde by měl být užíván, kým…, důvěrnost dat – etické otázky, ochota pracovníků vyplnit dotazník apod. – cíle využití (pro rozvoj jedi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pro výzkumné účely (rozvoj institucí a politická doporu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0:35Z</cp:lastPrinted>
  <dcterms:modified xsi:type="dcterms:W3CDTF">2012-01-04T16:19:44Z</dcterms:modified>
  <cp:revision>5</cp:revision>
  <dc:subject/>
  <dc:title>Snímek 1</dc:title>
</cp:coreProperties>
</file>