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9928225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28800" cy="679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62248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45624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62248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A817C-4299-4756-AAC7-51927DE03CF1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0C73C-6901-4221-910B-BD29F68E54A4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Zástupný symbol pro datum 4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8F16C-E9F5-43FD-9709-215C5DB79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67F8B-F02B-4CF1-A940-639FF70ED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2BA84-296A-4F5B-8256-9B3E3F010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89158-E0C3-4AC4-8AC0-1BE90B6F4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80068-E374-4BFC-948A-772F03520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4C58C-AA01-4473-805F-019ACAF73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C78D1-9825-40C7-BEAC-9C814BD88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E1F92-0736-47CC-8550-572A624DA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7A63E-5771-4B18-8053-369AB64E2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B8BB6-E1FE-45EF-9997-432A7ED64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E58AE-40A0-4174-BD3C-F4F264278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4CAAF-4C0F-4212-AFF8-7F299E229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EE0EB-FDF6-4847-A1EA-88EEF175B313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agemanagement@aivd.cz" TargetMode="External"/><Relationship Id="rId2" Type="http://schemas.openxmlformats.org/officeDocument/2006/relationships/hyperlink" Target="http://www.aivd.cz/agemanagement-oprojektu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773360"/>
            <a:ext cx="8964720" cy="22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ZÁKLADNÍ INFORMACE O PROJEKTU,</a:t>
            </a:r>
            <a:br>
              <a:rPr sz="3600"/>
            </a:b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FINSKÝ MODEL </a:t>
            </a:r>
            <a:br>
              <a:rPr sz="3600"/>
            </a:b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AGE MANAGEMENT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292720" y="5084640"/>
            <a:ext cx="327168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99"/>
                </a:solidFill>
                <a:latin typeface="Arial"/>
              </a:rPr>
              <a:t>Mgr. Ilona Štorov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99"/>
                </a:solidFill>
                <a:latin typeface="Arial"/>
              </a:rPr>
              <a:t>AIVD ČR, o. 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333399"/>
                </a:solidFill>
                <a:latin typeface="Arial"/>
              </a:rPr>
              <a:t>INFORMACE O PROJEKT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Asociace institucí vzdělávání dospělých ČR, o.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arlovo náměstí 14/292 | 120 00 Praha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gr. Ilona Štorová, vedoucí projektu</a:t>
            </a:r>
            <a:br>
              <a:rPr sz="2800"/>
            </a:b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-mail: </a:t>
            </a:r>
            <a:r>
              <a:rPr b="0" lang="cs-CZ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gemanagement@aivd.c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el: 734 318 79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aivd.cz/agemanagement-oprojek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ěkuji Vám za pozornos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333399"/>
                </a:solidFill>
                <a:latin typeface="Arial"/>
              </a:rPr>
              <a:t>STRATEGIE AGE MANAGEMENTU </a:t>
            </a:r>
            <a:br>
              <a:rPr sz="3600"/>
            </a:br>
            <a:r>
              <a:rPr b="1" lang="cs-CZ" sz="3600" spc="-1" strike="noStrike">
                <a:solidFill>
                  <a:srgbClr val="333399"/>
                </a:solidFill>
                <a:latin typeface="Arial"/>
              </a:rPr>
              <a:t>V ČESKÉ REPUBLIC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896472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Číslo projektu: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CZ.1.04/5.1.01/51.00079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Identifikace: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OP LZZ, 5.1 Mezinárodní spoluprá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Doba realizace: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1. 9. 2010 – 31. 7. 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Realizátor: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Asociace institucí vzdělávání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                           dospělých ČR,  o.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Partneři: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Masarykova univerzi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601"/>
              </a:spcBef>
              <a:buNone/>
              <a:tabLst>
                <a:tab algn="l" pos="0"/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Univerzita Palackého v Olomou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601"/>
              </a:spcBef>
              <a:buNone/>
              <a:tabLst>
                <a:tab algn="l" pos="0"/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Úřad práce České republiky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601"/>
              </a:spcBef>
              <a:buNone/>
              <a:tabLst>
                <a:tab algn="l" pos="0"/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Krajská pobočka v Brně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Zahraniční partner: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Finnish Institute of Occupational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Health (FIOH), www.ttl.f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451"/>
              </a:spcBef>
              <a:buNone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451"/>
              </a:spcBef>
              <a:buNone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468000" y="1413000"/>
            <a:ext cx="843444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Přenos inovativních nástrojů k řešení problematiky cílové skupiny 50+ na trhu prác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510840">
              <a:lnSpc>
                <a:spcPct val="100000"/>
              </a:lnSpc>
              <a:spcBef>
                <a:spcPts val="24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99"/>
                </a:solidFill>
                <a:latin typeface="Verdana"/>
              </a:rPr>
              <a:t>Age Management Train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510840">
              <a:lnSpc>
                <a:spcPct val="100000"/>
              </a:lnSpc>
              <a:spcBef>
                <a:spcPts val="24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99"/>
                </a:solidFill>
                <a:latin typeface="Verdana"/>
              </a:rPr>
              <a:t>Koncept Work Abil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510840">
              <a:lnSpc>
                <a:spcPct val="100000"/>
              </a:lnSpc>
              <a:spcBef>
                <a:spcPts val="24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99"/>
                </a:solidFill>
                <a:latin typeface="Verdana"/>
              </a:rPr>
              <a:t>Work Ability Index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Aplikace principů Age Managementu v Č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Široká publicita Age Managementu a jeho vizí v Č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333399"/>
                </a:solidFill>
                <a:latin typeface="Arial"/>
              </a:rPr>
              <a:t>HLAVNÍ CÍLE PROJEKTU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333399"/>
                </a:solidFill>
                <a:latin typeface="Arial"/>
              </a:rPr>
              <a:t>VÝSTUPY PROJEKT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45 proškolených českých expertů na problematiku Age Managemen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omparativní analýza přístupů a podmínek k cílové skupině 50+ na trhu práce v ČR a ve Finsk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Metodická příručka pro práci s cílovou skupinou 50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333399"/>
                </a:solidFill>
                <a:latin typeface="Arial"/>
              </a:rPr>
              <a:t>FINSKÝ MODE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insko patří mezi nejaktivnější země v EU, které se zabývají situací stárnoucí pracovní síl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IOH, Ministerstvo práce, Ministerstvo sociálních věcí a zdraví a Ministerstvo vzdělávání Finské republiky uskutečnily celou řadu výzkumů a realizovaly mnoho programů, které byly zaměřeny na problémy stárnutí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333399"/>
                </a:solidFill>
                <a:latin typeface="Arial"/>
              </a:rPr>
              <a:t>FINSKÉ ZKUŠENOSTI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1981 – 2009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Dlouhodobé studie FIOH zaměřené na stárnoucí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racovníky. Sledování stejných osob po 7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, 16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a 28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letec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1990 -1996 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FinnAge –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rogram FIOH „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Respe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k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t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ke stárnutí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1996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K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abine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tní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ko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mi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s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e: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Stárnoucí zaměstnanci v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racovním proces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1998-2002  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Fin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ský národní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rogram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ro stárnoucí pracovník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2003 -2007 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Nové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národní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rogram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y různých ministerstev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2005 -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Důchodová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reform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2006 – 2010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Téma „Běh života a práce“ na FIO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2011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Ustanovení skupiny zabývající se kariérními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změnami a diverzitou na FIO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333399"/>
                </a:solidFill>
                <a:latin typeface="Arial"/>
              </a:rPr>
              <a:t>DŮCHODOVÁ REFORM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250920" y="1125000"/>
            <a:ext cx="864216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Rozhodnutí o odchodu do důchodu je rozhodnutím zaměstna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Flexibilní hranice věku odchodu (63 – 68 let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Stát finančně zvýhodňuje zaměstnance, kteří pracují dé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6267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18 – 52 let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1,5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6267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53 – 62 let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1,9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6267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63  - 68 let 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4,5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</a:rPr>
              <a:t>Osoba, která odejde do důchodu v 68 letech má cca o 22,5 % vyšší penzi než kdyby odešla v 63 lete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333399"/>
                </a:solidFill>
                <a:latin typeface="Arial"/>
              </a:rPr>
              <a:t>FINSKÝ VLÁDNÍ PROGRAM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250560" y="1773000"/>
            <a:ext cx="8713800" cy="297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Povinnost zaměstnavatelů udržovat pracovní schopnost zaměstnanc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Prodloužení pracovního živo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Rozvoj a podpora Age Management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333399"/>
                </a:solidFill>
                <a:latin typeface="Arial"/>
              </a:rPr>
              <a:t>ROK 201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395280" y="2781000"/>
            <a:ext cx="822960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Aktivní stárnutí sleduje za cí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vytváření lepších příležitostí a pracovních podmínek pro starší pracovníky a jejich uplatnění na trhu prá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boj proti sociálnímu vyloučení posílením aktivního zapojení do společnost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podpora zdravého stárnut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"/>
          <p:cNvPicPr/>
          <p:nvPr/>
        </p:nvPicPr>
        <p:blipFill>
          <a:blip r:embed="rId1"/>
          <a:stretch/>
        </p:blipFill>
        <p:spPr>
          <a:xfrm>
            <a:off x="4643280" y="404640"/>
            <a:ext cx="4127760" cy="936720"/>
          </a:xfrm>
          <a:prstGeom prst="rect">
            <a:avLst/>
          </a:prstGeom>
          <a:ln w="0">
            <a:noFill/>
          </a:ln>
        </p:spPr>
      </p:pic>
      <p:sp>
        <p:nvSpPr>
          <p:cNvPr id="67" name="TextovéPole 3"/>
          <p:cNvSpPr/>
          <p:nvPr/>
        </p:nvSpPr>
        <p:spPr>
          <a:xfrm>
            <a:off x="395280" y="1557360"/>
            <a:ext cx="8280360" cy="1068840"/>
          </a:xfrm>
          <a:prstGeom prst="rect">
            <a:avLst/>
          </a:prstGeom>
          <a:solidFill>
            <a:srgbClr val="ffffff"/>
          </a:solidFill>
          <a:ln w="93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Rok věnovaný problematice aktivního stárnutí a mezigenerační solidarit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8T09:35:56Z</dcterms:created>
  <dc:creator>Slavek Hamadak</dc:creator>
  <dc:description/>
  <dc:language>en-US</dc:language>
  <cp:lastModifiedBy>Povolny</cp:lastModifiedBy>
  <cp:lastPrinted>2012-01-04T15:31:12Z</cp:lastPrinted>
  <dcterms:modified xsi:type="dcterms:W3CDTF">2012-01-04T16:19:42Z</dcterms:modified>
  <cp:revision>28</cp:revision>
  <dc:subject/>
  <dc:title>Snímek 1</dc:title>
</cp:coreProperties>
</file>