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1ACCE-0C01-4060-9846-7F50F5275A0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A4719-53DB-42E6-8F3F-0A0DFE4B2D3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ástupný symbol pro záhlaví 5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321CF-B868-44EB-BFC3-429D9CDA96A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7CB8B-0E08-4967-B46B-9F0CFAA9D04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5D466-9539-4660-A726-DCAA3CA448C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CCB42-B7A9-4A76-814B-41547C8741D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6C6C-6687-46BC-A00D-CA7D992BA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4718-B92C-4C3B-88DE-5A6C5F848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DB6C-9277-43AA-93CE-70BB2AAB7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92F3-3D2F-49C4-A615-901702C8C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9752-1430-40D2-862E-DBA360E7B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1DA0-36D8-4BBE-8F22-A4A975E95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8E81-9491-4A3F-AF5C-141720C7C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D23D-A252-466B-BE72-B4CCD1799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9983-953D-42F8-9C4B-C11290401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9D22-DA61-4B94-BC7A-591436D4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453E-E1E9-4CA0-B298-DB49C607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5702-B20D-4A93-8EBD-A61E5A4D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B71AA-2197-4BAB-B3FD-D2B581E3B2F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Work abil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9564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Koncept práceschopnosti (W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Work Ability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262673"/>
                </a:solidFill>
                <a:latin typeface="Arial"/>
              </a:rPr>
              <a:t>Proměny konceptu W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jetí WA se rozvíjí s postupem do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de již jen o zdraví či nemoc - odklon od medicínského poje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ndence k multidimenzionálnímu pohl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A  je spojena s mnoha faktory pracovního života, které jsou spojeny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ak s jedincem, tak i s pracovním místem, prací samotnou, se sociálním prostředím či společn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2" descr="MC900019283[1]"/>
          <p:cNvPicPr/>
          <p:nvPr/>
        </p:nvPicPr>
        <p:blipFill>
          <a:blip r:embed="rId1"/>
          <a:stretch/>
        </p:blipFill>
        <p:spPr>
          <a:xfrm>
            <a:off x="468360" y="1700280"/>
            <a:ext cx="4248000" cy="1812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53735"/>
                </a:solidFill>
                <a:latin typeface="Arial"/>
              </a:rPr>
              <a:t>Multidimenzionální WA model – Dům pracovní schop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995640" y="5300640"/>
            <a:ext cx="3889440" cy="91440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draví a funkční kapac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995640" y="4365720"/>
            <a:ext cx="3889440" cy="93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3995640" y="3429000"/>
            <a:ext cx="388944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odno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st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tiv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3995640" y="2492280"/>
            <a:ext cx="3889440" cy="936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acovní komu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d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3419640" y="3860640"/>
            <a:ext cx="576000" cy="505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2050920" y="4869000"/>
            <a:ext cx="158436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468360" y="3716280"/>
            <a:ext cx="1942920" cy="1274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ciální k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179280" y="981000"/>
            <a:ext cx="8785440" cy="43200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lečnost: kultura, legislativa, vzdělávací politika,                sociální a zdr. poli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3995640" y="907920"/>
            <a:ext cx="3889440" cy="1584360"/>
          </a:xfrm>
          <a:prstGeom prst="triangle">
            <a:avLst>
              <a:gd name="adj" fmla="val 50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racovní schop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1042920" y="1413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nější prostře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262673"/>
                </a:solidFill>
                <a:latin typeface="Arial"/>
              </a:rPr>
              <a:t>WAI – Work Ability Index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125360"/>
            <a:ext cx="82296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ebeposuzovací dotazník (škály). Dlouhá a krátká ver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0. Charakter práce: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da je práce duševní či tělesná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1. Posouzení práceschopnosti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 ohledem k nejlepší práceschopnosti (0-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90033"/>
                </a:solidFill>
                <a:latin typeface="Arial"/>
              </a:rPr>
              <a:t>2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Práceschopnost s ohledem k požadavkům práce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tělesné a psychické požadavky) (násobí se 1,5 při tělesné práci, 0,5 při duševní, sečíst otázk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Výčet aktuálních diagnóz 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– vlastních a lékařský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úrazy, pohybový systém, kardiovaskulární systém, respirační choroby, psychické problémy, neurologické a smyslové choroby, gastrointestinální systém, močové cesty, kožní onemocnění, tumory a rakovinové onemocnění, nemoci hormonální a látkové výměny, cévní onemocnění, vrozené vady a další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dlouhý (51) či krátký (14) výčet nemocí (více jak 5 nemocí = 1 bod, žádná nemoc = 7 bodů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953735"/>
                </a:solidFill>
                <a:latin typeface="Arial"/>
              </a:rPr>
              <a:t>WAI – Work Ability Index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zhoršení pracovního  výkonu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– omezení výkonu (1-6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Nemocnost v posledním roce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1-5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pracovní schopnosti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e dvou následujících letech (1,4 nebo 7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Psychické rezervy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radost, aktivita, víra v budoucnost) (sečíst 0-3 = 1 bod…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Nejvyšší dosažený počet bodů je 49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aximální práceschopnost),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nejnižší je 7 bodů 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inimální práceschopnost).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šechny položky musí být zodpovězen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262673"/>
                </a:solidFill>
                <a:latin typeface="Arial"/>
              </a:rPr>
              <a:t>Dimenze pracovní schopnosti - výzkum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1052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ýsledky dotazování ve Finsku  (Finnish Health 2000 Survey) zaměřené na skupinu  pracovníků 30 – 64 let (přes 5.000 respondentů). Sledovali 3 indikátory W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Odhad WA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zcela fit, částečně omezen, zcela neschopen práce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scor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na škále 0-10 posoudit míru práceschopnosti (ve vztahu k jejich nejvyšší dosažené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Index – Index práceschop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Určité skupiny lidí měly zhoršenou práceschopnost (starší lidé, starší ženy, nezaměstnaní, s nízkou úrovní vzdělání…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e srovnání s dřívějšími výzkumy ve Finsku se práceschopnost zvýšila. Dobrá práceschopnost byla zjištěna u pracovníků vykonávajících fyzicky lehkou práci, s vyšším vzděláním, s dobrým zdraví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Byly identifikovány faktory podporující práceschopnost: supervize, podpora kolegů, nízké požadavky na fyzickou sílu…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990033"/>
                </a:solidFill>
                <a:latin typeface="Arial"/>
              </a:rPr>
              <a:t>Představení WAI 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budil zájem jak praktiků, tak i výzkumníků (možné využití pro neziskové úče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konstrukcí dotazníku (jednoduchost, spolehlivost – např. vázanost na aktuální náladu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jeho aplikací – kde by měl být užíván, kým…, důvěrnost dat – etické otázky, ochota pracovníků vyplnit dotazník apod. – cíle využití (pro rozvoj jedi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ití pro výzkumné účely (rozvoj institucí a politická doporuč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0:35Z</cp:lastPrinted>
  <dcterms:modified xsi:type="dcterms:W3CDTF">2012-01-04T16:19:44Z</dcterms:modified>
  <cp:revision>5</cp:revision>
  <dc:subject/>
  <dc:title>Snímek 1</dc:title>
</cp:coreProperties>
</file>