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B0BC5-42EA-41B2-A248-97AF535DA9E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E2CF5-C3B4-46FB-B88F-70B5CAF046E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34CB8-1566-4DB0-9131-30C55586C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C320-BA35-40E4-81B9-A71A56ADE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E177-B0DE-4D4B-92E2-037D218B8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F74D-7462-41AC-A203-FD4B03349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A253-F31F-4E20-987E-512B56DFB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02D7-3814-4837-84B3-1DE21B12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04C4-C937-42E0-8992-8958D62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84638-7E71-4B29-ABC7-13AD92A12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FBB7C-C19E-41D7-B953-47F52FDD8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D523-E258-4525-B1FA-7A912C8D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DB7C-0D5E-42B1-9C7F-1EB75FEA7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C17D8-FEBE-4177-829C-B8BB0EF29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5DAD-EEE5-4F30-969E-57F564E9A0D9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40000" y="2421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analýza podmín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 přístupů využívaných v České republice a ve Fins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3" descr=""/>
          <p:cNvPicPr/>
          <p:nvPr/>
        </p:nvPicPr>
        <p:blipFill>
          <a:blip r:embed="rId1"/>
          <a:stretch/>
        </p:blipFill>
        <p:spPr>
          <a:xfrm>
            <a:off x="1258920" y="765000"/>
            <a:ext cx="6913440" cy="46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obrázek 39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78487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obrázek 42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74880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mparativní výhody (potenciality) 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arších pracovník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34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obnostní vlastnosti a schopnosti, jako j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váž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kuše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ílevědom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středě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danost vě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řenost ve finančních nárocí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pověd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ochvil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 dalš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Struktura zpráv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ktuální demografická situ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avení pracovníků ve věku 50+ na trhu práce v ČR, ve Finsku a v zemích E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daje o pracovní schopnosti stárnoucích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xistující opatření na podporu zaměstnanosti 50+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klady age managementu v prax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ožnosti uplatnění age managementu v praxi v Č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lková (úhrnná) míra plodnosti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obrázek 1" descr=""/>
          <p:cNvPicPr/>
          <p:nvPr/>
        </p:nvPicPr>
        <p:blipFill>
          <a:blip r:embed="rId1"/>
          <a:stretch/>
        </p:blipFill>
        <p:spPr>
          <a:xfrm>
            <a:off x="177840" y="1125360"/>
            <a:ext cx="864216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děje na dožití žen a mužů v ČR a ve Finsk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obrázek 2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7272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voj věkové struktury obyvatelstva ČR 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 letech 2005–2050 dle prognózy ČSÚ (2009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obrázek 4" descr=""/>
          <p:cNvPicPr/>
          <p:nvPr/>
        </p:nvPicPr>
        <p:blipFill>
          <a:blip r:embed="rId1"/>
          <a:stretch/>
        </p:blipFill>
        <p:spPr>
          <a:xfrm>
            <a:off x="395280" y="1628640"/>
            <a:ext cx="7561440" cy="433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měr ekonomicky závislých osob v ČR, ve Finsku a v průměru zemí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obrázek 5" descr=""/>
          <p:cNvPicPr/>
          <p:nvPr/>
        </p:nvPicPr>
        <p:blipFill>
          <a:blip r:embed="rId1"/>
          <a:stretch/>
        </p:blipFill>
        <p:spPr>
          <a:xfrm>
            <a:off x="324000" y="1484280"/>
            <a:ext cx="748800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ce ekonomicky závislých osob do roku 2060 pro ČR, Finsko a země EU (27)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obrázek 6" descr=""/>
          <p:cNvPicPr/>
          <p:nvPr/>
        </p:nvPicPr>
        <p:blipFill>
          <a:blip r:embed="rId1"/>
          <a:stretch/>
        </p:blipFill>
        <p:spPr>
          <a:xfrm>
            <a:off x="250920" y="1484280"/>
            <a:ext cx="77058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71600" y="4653000"/>
            <a:ext cx="6400800" cy="98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 pracovním procesu jsou tře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ři z pěti generac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"/>
          <p:cNvPicPr/>
          <p:nvPr/>
        </p:nvPicPr>
        <p:blipFill>
          <a:blip r:embed="rId1"/>
          <a:stretch/>
        </p:blipFill>
        <p:spPr>
          <a:xfrm>
            <a:off x="755640" y="574560"/>
            <a:ext cx="720108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íra zaměstnanosti ve věkové skupině 50-64 let ve srovnání 27 zemí EU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obrázek 26" descr=""/>
          <p:cNvPicPr/>
          <p:nvPr/>
        </p:nvPicPr>
        <p:blipFill>
          <a:blip r:embed="rId1"/>
          <a:stretch/>
        </p:blipFill>
        <p:spPr>
          <a:xfrm>
            <a:off x="0" y="1125360"/>
            <a:ext cx="91440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6:01:57Z</cp:lastPrinted>
  <dcterms:modified xsi:type="dcterms:W3CDTF">2012-01-04T16:19:40Z</dcterms:modified>
  <cp:revision>5</cp:revision>
  <dc:subject/>
  <dc:title>Snímek 1</dc:title>
</cp:coreProperties>
</file>