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23B93-E848-450E-9C0B-D3A35BD8B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492D-9617-4FB8-BD65-11D71A9B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07CF-5E1F-451B-9464-3D7187FA9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DF5D-03F1-4089-B6CA-B4D8E5F9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3720-535D-409F-B48D-6015934F1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D8B9-E734-424B-B7A7-DD54D8D33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EA66-5A20-47D4-B037-CD369EBE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C920-D407-48AD-B3A7-D854EEF8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F3D6-B487-4129-8D63-F231902B9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F146-B94A-46DF-9F83-8C496B82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C3A2-AC6F-4618-A29A-54EADF87C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1F8A-A891-45B7-A95F-20AE01CF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AB8F6-0611-4AF5-9433-B368B25998E7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mailto:novotny@phil.muni.cz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620640"/>
            <a:ext cx="7772400" cy="252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Age management 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organizacích</a:t>
            </a:r>
            <a:br>
              <a:rPr sz="44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484360" y="4653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Arial"/>
              </a:rPr>
              <a:t>Děkuji za pozornost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doc. Mgr. Petr Novotný, Ph.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Ústav pedagogických věd FF 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Arna Nováka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602 00 B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novotny@phil.muni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Age management v podnicí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zaměstnanců a skupin zaměstnanců citlivé k věku zaměstnan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ytváření pracovních podmínek zohledňujících vě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R nový, nicméně ne zcela neznámý koncep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becné východisk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V České republice dosud nejsou v privátní sféře projekty cílené k podpoře starších pracovníků příliš rozšířeny nebo o nich není dostatečné povědomí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Náhledy do organizačního světa Age Management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droj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urofound. Ageing workforce. (online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očková, Hastrmanová, Havrdová (2011)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50+ Aktivně. Fakta, inspirace a rady a do druhé poloviny života.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Respekt institu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EM.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Postavení zaměstnanců nad padesát let na trhu práce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(2006) plus zdroje projektu </a:t>
            </a:r>
            <a:r>
              <a:rPr b="0" i="1" lang="cs-CZ" sz="2800" spc="-1" strike="noStrike">
                <a:solidFill>
                  <a:srgbClr val="000000"/>
                </a:solidFill>
                <a:latin typeface="Arial"/>
              </a:rPr>
              <a:t>Třetí kariéra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ahraniční zdroje (především finsk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Rozmanitost strategi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zdraví a ergonomii prá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hmann and Raus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specifické know-h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adice Slovác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nábor a vzdělá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lv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Orientace na politiku odměň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ayes Lemmerz Autok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Celostný příst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Škoda Auto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, a.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Organizace/podniky musí reagovat na mnoho problémů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chování a podporu zdraví a pracovní schopnosti pracovník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rozvíjení dovedností a zaměstnatelnosti starších pracovní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vhodných pracovních podmíne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 zajištění pracovních příležitostí pro stárnoucí pracovní síl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vě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Funkční jsou takové strategie, které jsou v souladu s cíli a kulturou organiz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někud více se angažují velké výrobní firmy, neboť zejména tato sféra disponuje finančními prostředky a ochotou investovat do lidských zdrojů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Zvláštní kategorii přestavují specializované malé podniky či sdružení, která pracují se specifickým know-how, jehož nositelem jsou „starší“ pracovníc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ouvislosti k diskuz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ociálně zodpovědný rozvoj lidských zdroj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iversit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Řízení inova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čení na pracovišti a pro pracoviš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dro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AGG: Program výzkumu v oblasti stárnutí pro 21. století (MPSV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lmarinen: Ageing workers in the European Union. (Helsinky, 199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aegele, Walker: A guide to good practice in age management (Dublin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ovotný: Učení pro pracoviště. (Brno, 200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abušicová, Rabušic: Učíme se po celý život? (Brno, 200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EM: Postavení zaměstnanců nad padesát let na trhu práce (Praha,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4:52:26Z</cp:lastPrinted>
  <dcterms:modified xsi:type="dcterms:W3CDTF">2012-01-04T16:19:38Z</dcterms:modified>
  <cp:revision>6</cp:revision>
  <dc:subject/>
  <dc:title>Snímek 1</dc:title>
</cp:coreProperties>
</file>