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9928225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9288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622480" y="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645624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62248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7EF4D-17E4-4ED3-B7FF-89B343E1F3B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4AEE1-4C1A-42C4-B957-75671AE5511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Zástupný symbol pro datum 4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ástupný symbol pro záhlaví 5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20220-830C-4D5D-964C-8939439B2FE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3C63F-2A22-4057-8B32-855DCEB10AD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DDDF3-E35D-41C6-87A1-8F68CDFB378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495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376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ástupný symbol pro číslo snímku 3"/>
          <p:cNvSpPr/>
          <p:nvPr/>
        </p:nvSpPr>
        <p:spPr>
          <a:xfrm>
            <a:off x="5622840" y="645624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22D17-1F27-41A6-B339-A279379E305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ástupný symbol pro datum 1"/>
          <p:cNvSpPr/>
          <p:nvPr/>
        </p:nvSpPr>
        <p:spPr>
          <a:xfrm>
            <a:off x="5622840" y="0"/>
            <a:ext cx="43038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5.1.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ástupný symbol pro záhlaví 2"/>
          <p:cNvSpPr/>
          <p:nvPr/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A311-57E8-4DD3-9674-B20598BD3F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FA16-0850-4D68-8501-26980E579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28B3-A798-4F23-9760-01D465247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CD3D-AA64-4ED2-8BA1-785818FB8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A8520-CB99-45C1-800C-07442EDFE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3463-FED2-4D93-8A65-A39C085BB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4A574-F191-4F50-BC1C-197432AE9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C4B8-AA29-4A33-AE18-C141B0092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FAD1-3507-4582-A92B-64E25A1A1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A622-9B66-4EF2-AE5F-75F13148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0E18D-EE50-40D5-85B2-9F5346FB2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825E-DDA9-4EAB-94B3-703FF47DB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1FC9F-5ADF-4DEC-A851-F11266858B4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50920" y="8362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Work abilit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95640" y="2852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Koncept práceschopnosti (W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262673"/>
                </a:solidFill>
                <a:latin typeface="Arial"/>
              </a:rPr>
              <a:t>Work Ability Ind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262673"/>
                </a:solidFill>
                <a:latin typeface="Arial"/>
              </a:rPr>
              <a:t>Proměny konceptu W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68360" y="141264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jetí WA se rozvíjí s postupem dob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ejde již jen o zdraví či nemoc - odklon od medicínského poje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tendence k multidimenzionálnímu pohl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WA  je spojena s mnoha faktory pracovního života, které jsou spojeny 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jak s jedincem, tak i s pracovním místem, prací samotnou, se sociálním prostředím či společnost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2" descr="MC900019283[1]"/>
          <p:cNvPicPr/>
          <p:nvPr/>
        </p:nvPicPr>
        <p:blipFill>
          <a:blip r:embed="rId1"/>
          <a:stretch/>
        </p:blipFill>
        <p:spPr>
          <a:xfrm>
            <a:off x="468360" y="1700280"/>
            <a:ext cx="4248000" cy="181296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953735"/>
                </a:solidFill>
                <a:latin typeface="Arial"/>
              </a:rPr>
              <a:t>Multidimenzionální WA model – Dům pracovní schopn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3995640" y="5300640"/>
            <a:ext cx="3889440" cy="914400"/>
          </a:xfrm>
          <a:prstGeom prst="rect">
            <a:avLst/>
          </a:prstGeom>
          <a:solidFill>
            <a:srgbClr val="8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Zdraví a funkční kapac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6"/>
          <p:cNvSpPr/>
          <p:nvPr/>
        </p:nvSpPr>
        <p:spPr>
          <a:xfrm>
            <a:off x="3995640" y="4365720"/>
            <a:ext cx="3889440" cy="9349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3995640" y="3429000"/>
            <a:ext cx="3889440" cy="10080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odno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st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otiv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3995640" y="2492280"/>
            <a:ext cx="3889440" cy="9367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acovní komun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ed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5"/>
          <p:cNvSpPr/>
          <p:nvPr/>
        </p:nvSpPr>
        <p:spPr>
          <a:xfrm>
            <a:off x="3419640" y="3860640"/>
            <a:ext cx="576000" cy="5050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6"/>
          <p:cNvSpPr/>
          <p:nvPr/>
        </p:nvSpPr>
        <p:spPr>
          <a:xfrm>
            <a:off x="2050920" y="4869000"/>
            <a:ext cx="1584360" cy="1368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7"/>
          <p:cNvSpPr/>
          <p:nvPr/>
        </p:nvSpPr>
        <p:spPr>
          <a:xfrm>
            <a:off x="468360" y="3716280"/>
            <a:ext cx="1942920" cy="12747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ociální kon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0"/>
          <p:cNvSpPr/>
          <p:nvPr/>
        </p:nvSpPr>
        <p:spPr>
          <a:xfrm>
            <a:off x="179280" y="981000"/>
            <a:ext cx="8785440" cy="432000"/>
          </a:xfrm>
          <a:prstGeom prst="rect">
            <a:avLst/>
          </a:prstGeom>
          <a:solidFill>
            <a:srgbClr val="bbe0e3">
              <a:alpha val="3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olečnost: kultura, legislativa, vzdělávací politika,                sociální a zdr. poli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9"/>
          <p:cNvSpPr/>
          <p:nvPr/>
        </p:nvSpPr>
        <p:spPr>
          <a:xfrm>
            <a:off x="3995640" y="907920"/>
            <a:ext cx="3889440" cy="1584360"/>
          </a:xfrm>
          <a:prstGeom prst="triangle">
            <a:avLst>
              <a:gd name="adj" fmla="val 50000"/>
            </a:avLst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ffff"/>
                </a:solidFill>
                <a:latin typeface="Arial"/>
              </a:rPr>
              <a:t>Pracovní schopn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4"/>
          <p:cNvSpPr/>
          <p:nvPr/>
        </p:nvSpPr>
        <p:spPr>
          <a:xfrm>
            <a:off x="1042920" y="1413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nější prostřed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100" spc="-1" strike="noStrike">
                <a:solidFill>
                  <a:srgbClr val="262673"/>
                </a:solidFill>
                <a:latin typeface="Arial"/>
              </a:rPr>
              <a:t>WAI – Work Ability Index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125360"/>
            <a:ext cx="8229600" cy="49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ebeposuzovací dotazník (škály). Dlouhá a krátká verz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0. Charakter práce: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zda je práce duševní či tělesná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1. Posouzení práceschopnosti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s ohledem k nejlepší práceschopnosti (0-10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90033"/>
                </a:solidFill>
                <a:latin typeface="Arial"/>
              </a:rPr>
              <a:t>2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Práceschopnost s ohledem k požadavkům práce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tělesné a psychické požadavky) (násobí se 1,5 při tělesné práci, 0,5 při duševní, sečíst otázk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Výčet aktuálních diagnóz 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– vlastních a lékařský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úrazy, pohybový systém, kardiovaskulární systém, respirační choroby, psychické problémy, neurologické a smyslové choroby, gastrointestinální systém, močové cesty, kožní onemocnění, tumory a rakovinové onemocnění, nemoci hormonální a látkové výměny, cévní onemocnění, vrozené vady a další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376092"/>
                </a:solidFill>
                <a:latin typeface="Arial"/>
              </a:rPr>
              <a:t>dlouhý (51) či krátký (14) výčet nemocí (více jak 5 nemocí = 1 bod, žádná nemoc = 7 bodů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500" spc="-1" strike="noStrike">
                <a:solidFill>
                  <a:srgbClr val="953735"/>
                </a:solidFill>
                <a:latin typeface="Arial"/>
              </a:rPr>
              <a:t>WAI – Work Ability Index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zhoršení pracovního  výkonu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– omezení výkonu (1-6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Nemocnost v posledním roce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1-5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6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Odhad pracovní schopnosti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e dvou následujících letech (1,4 nebo 7 bodů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7. </a:t>
            </a:r>
            <a:r>
              <a:rPr b="1" lang="cs-CZ" sz="2500" spc="-1" strike="noStrike">
                <a:solidFill>
                  <a:srgbClr val="262673"/>
                </a:solidFill>
                <a:latin typeface="Arial"/>
              </a:rPr>
              <a:t>Psychické rezervy 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(radost, aktivita, víra v budoucnost) (sečíst 0-3 = 1 bod…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Nejvyšší dosažený počet bodů je 49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aximální práceschopnost),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nejnižší je 7 bodů  </a:t>
            </a:r>
            <a:r>
              <a:rPr b="0" lang="cs-CZ" sz="2500" spc="-1" strike="noStrike">
                <a:solidFill>
                  <a:srgbClr val="262673"/>
                </a:solidFill>
                <a:latin typeface="Arial"/>
              </a:rPr>
              <a:t>(minimální práceschopnost).</a:t>
            </a: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500" spc="-1" strike="noStrike">
                <a:solidFill>
                  <a:srgbClr val="000000"/>
                </a:solidFill>
                <a:latin typeface="Arial"/>
              </a:rPr>
              <a:t>Všechny položky musí být zodpovězeny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262673"/>
                </a:solidFill>
                <a:latin typeface="Arial"/>
              </a:rPr>
              <a:t>Dimenze pracovní schopnosti - výzkum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68360" y="1052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ýsledky dotazování ve Finsku  (Finnish Health 2000 Survey) zaměřené na skupinu  pracovníků 30 – 64 let (přes 5.000 respondentů). Sledovali 3 indikátory WA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Odhad WA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(zcela fit, částečně omezen, zcela neschopen práce)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score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: na škále 0-10 posoudit míru práceschopnosti (ve vztahu k jejich nejvyšší dosažené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95373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953735"/>
                </a:solidFill>
                <a:latin typeface="Arial"/>
              </a:rPr>
              <a:t>WA Index – Index práceschop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Určité skupiny lidí měly zhoršenou práceschopnost (starší lidé, starší ženy, nezaměstnaní, s nízkou úrovní vzdělání…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Ve srovnání s dřívějšími výzkumy ve Finsku se práceschopnost zvýšila. Dobrá práceschopnost byla zjištěna u pracovníků vykonávajících fyzicky lehkou práci, s vyšším vzděláním, s dobrým zdraví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Byly identifikovány faktory podporující práceschopnost: supervize, podpora kolegů, nízké požadavky na fyzickou sílu…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990033"/>
                </a:solidFill>
                <a:latin typeface="Arial"/>
              </a:rPr>
              <a:t>Představení WAI v Č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budil zájem jak praktiků, tak i výzkumníků (možné využití pro neziskové úče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konstrukcí dotazníku (jednoduchost, spolehlivost – např. vázanost na aktuální náladu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tázky spojené s jeho aplikací – kde by měl být užíván, kým…, důvěrnost dat – etické otázky, ochota pracovníků vyplnit dotazník apod. – cíle využití (pro rozvoj jedi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yužití pro výzkumné účely (rozvoj institucí a politická doporuče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8T09:35:56Z</dcterms:created>
  <dc:creator>Slavek Hamadak</dc:creator>
  <dc:description/>
  <dc:language>en-US</dc:language>
  <cp:lastModifiedBy>Povolny</cp:lastModifiedBy>
  <cp:lastPrinted>2012-01-04T15:30:35Z</cp:lastPrinted>
  <dcterms:modified xsi:type="dcterms:W3CDTF">2012-01-04T16:19:44Z</dcterms:modified>
  <cp:revision>5</cp:revision>
  <dc:subject/>
  <dc:title>Snímek 1</dc:title>
</cp:coreProperties>
</file>