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91F9-3D6F-4F81-A6E8-2622BF34845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CAA98-8C19-4D95-910D-11906E1A5FE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B2A1-268B-4B8E-8782-D2763585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6EF-62F1-4AD7-8017-0C7DE578F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4D27-F1F8-4195-8E04-ABEF1BBEC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555CB-E1F1-46F3-BEF5-98666A938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E713-2503-4DA8-A59F-83BECC40A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08ED6-B32E-4811-BE15-EFEC642F0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1B054-2DC6-46DD-8E1A-CF2AF7B63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8EDA-9FEB-42B1-9B33-01E33FC3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08A9-EAF4-4A1D-9C3A-A2BAA652A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C96-3FAC-42AC-A4FD-1C38CA874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3AAE-6B86-4A65-BE81-A7A3F9BE4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34A6-1A90-43C7-BFD8-DFAADC19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4057-8BFE-45E5-A988-16F5140EB0A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agemanagement@aivd.cz" TargetMode="External"/><Relationship Id="rId2" Type="http://schemas.openxmlformats.org/officeDocument/2006/relationships/hyperlink" Target="http://www.aivd.cz/agemanagement-oprojektu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773360"/>
            <a:ext cx="8964720" cy="22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ZÁKLADNÍ INFORMACE O PROJEKTU,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FINSKÝ MODEL </a:t>
            </a:r>
            <a:br>
              <a:rPr sz="3600"/>
            </a:b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292720" y="5084640"/>
            <a:ext cx="327168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Mgr. Ilona Što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Arial"/>
              </a:rPr>
              <a:t>AIVD ČR, o. 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333399"/>
                </a:solidFill>
                <a:latin typeface="Arial"/>
              </a:rPr>
              <a:t>INFORMACE O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sociace institucí vzdělávání dospělých ČR, o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o náměstí 14/292 | 120 00 Praha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gr. Ilona Štorová, vedoucí projektu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agemanagement@aivd.c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: 734 318 7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aivd.cz/agemanagement-o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ěkuji Vám za pozornos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STRATEGIE AGE MANAGEMENTU </a:t>
            </a:r>
            <a:br>
              <a:rPr sz="3600"/>
            </a:br>
            <a:r>
              <a:rPr b="1" lang="cs-CZ" sz="3600" spc="-1" strike="noStrike">
                <a:solidFill>
                  <a:srgbClr val="333399"/>
                </a:solidFill>
                <a:latin typeface="Arial"/>
              </a:rPr>
              <a:t>V ČESKÉ REPUBLIC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Číslo projektu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CZ.1.04/5.1.01/51.0007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Identifik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OP LZZ, 5.1 Mezinárodní spoluprá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ba realizace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1. 9. 2010 – 31. 7.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Realizáto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Asociace institucí vzdělávání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                         dospělých ČR,  o.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artneři: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Masarykova univerz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Univerzita Palackého v Olomou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Úřad práce České republik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01"/>
              </a:spcBef>
              <a:buNone/>
              <a:tabLst>
                <a:tab algn="l" pos="0"/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rajská pobočka v Brně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Zahraniční partner: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Finnish Institute of Occupational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Health (FIOH), www.ttl.f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451"/>
              </a:spcBef>
              <a:buNone/>
              <a:tabLst>
                <a:tab algn="l" pos="399960"/>
                <a:tab algn="l" pos="800280"/>
                <a:tab algn="l" pos="1200240"/>
                <a:tab algn="l" pos="1600200"/>
                <a:tab algn="l" pos="2000160"/>
                <a:tab algn="l" pos="2400480"/>
                <a:tab algn="l" pos="2800440"/>
                <a:tab algn="l" pos="3200400"/>
                <a:tab algn="l" pos="3600360"/>
                <a:tab algn="l" pos="4000680"/>
                <a:tab algn="l" pos="4400640"/>
                <a:tab algn="l" pos="4800600"/>
                <a:tab algn="l" pos="5200560"/>
                <a:tab algn="l" pos="5600880"/>
                <a:tab algn="l" pos="6000840"/>
                <a:tab algn="l" pos="6400800"/>
                <a:tab algn="l" pos="6800760"/>
                <a:tab algn="l" pos="7201080"/>
                <a:tab algn="l" pos="7601040"/>
                <a:tab algn="l" pos="8001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468000" y="1413000"/>
            <a:ext cx="8434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Přenos inovativních nástrojů k řešení problematiky cílové skupiny 50+ na trhu práce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Age Management Train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Koncept Work Abil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311120" indent="-510840">
              <a:lnSpc>
                <a:spcPct val="100000"/>
              </a:lnSpc>
              <a:spcBef>
                <a:spcPts val="24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Verdana"/>
              </a:rPr>
              <a:t>Work Ability Index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Aplikace principů Age Managementu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Široká publicita Age Managementu a jeho vizí v Č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HLAVNÍ CÍLE PROJEKT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VÝSTUPY PROJEKT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45 proškolených českých expertů na problematiku Age Managemen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Komparativní analýza přístupů a podmínek k cílové skupině 50+ na trhu práce v ČR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Metodická příručka pro práci s cílovou skupinou 50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Ý MODE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nsko patří mezi nejaktivnější země v EU, které se zabývají situací stárnoucí pracovní síl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FIOH, Ministerstvo práce, Ministerstvo sociálních věcí a zdraví a Ministerstvo vzdělávání Finské republiky uskutečnily celou řadu výzkumů a realizovaly mnoho programů, které byly zaměřeny na problémy stárnut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333399"/>
                </a:solidFill>
                <a:latin typeface="Arial"/>
              </a:rPr>
              <a:t>FINSKÉ ZKUŠENOSTI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81 – 2009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louhodobé studie FIOH zaměřené na stárnoucí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ky. Sledování stejných osob po 7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, 16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 28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letec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0 -1996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nAge –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gram FIOH „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esp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t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e stárnutí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6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abine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ko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mi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e: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tárnoucí zaměstnanci v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acovním proces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1998-2002 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Fin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ský 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ro stárnoucí pracovní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3 -2007 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ové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národní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p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rogra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y různých ministerste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5 -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Důchodová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 reform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06 – 2010  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Téma „Běh života a práce“ na FIO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Georgia"/>
              </a:rPr>
              <a:t>2011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Ustanovení skupiny zabývající se kariérními 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	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  <a:ea typeface="Georgia"/>
              </a:rPr>
              <a:t>změnami a diverzitou na FI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DŮCHODOVÁ REFORM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0920" y="1125000"/>
            <a:ext cx="864216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Rozhodnutí o odchodu do důchodu je rozhodnutím zaměstna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Flexibilní hranice věku odchodu (63 – 68 let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Stát finančně zvýhodňuje zaměstnance, kteří pracují dé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8 – 5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53 – 62 let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1,9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6267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63  - 68 let 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	</a:t>
            </a:r>
            <a:r>
              <a:rPr b="1" lang="cs-CZ" sz="2800" spc="-1" strike="noStrike">
                <a:solidFill>
                  <a:srgbClr val="262673"/>
                </a:solidFill>
                <a:latin typeface="Arial"/>
              </a:rPr>
              <a:t>4,5 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000" spc="-1" strike="noStrike">
                <a:solidFill>
                  <a:srgbClr val="000000"/>
                </a:solidFill>
                <a:latin typeface="Arial"/>
              </a:rPr>
              <a:t>Osoba, která odejde do důchodu v 68 letech má cca o 22,5 % vyšší penzi než kdyby odešla v 63 le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FINSKÝ VLÁDNÍ PROGRAM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0560" y="1773000"/>
            <a:ext cx="8713800" cy="297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ovinnost zaměstnavatelů udržovat pracovní schopnost zaměstnanc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Prodloužení pracovního živo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Rozvoj a podpora Age Managemen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333399"/>
                </a:solidFill>
                <a:latin typeface="Arial"/>
              </a:rPr>
              <a:t>ROK 20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95280" y="2781000"/>
            <a:ext cx="822960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Aktivní stárnutí sleduje za cí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vytváření lepších příležitostí a pracovních podmínek pro starší pracovníky a jejich uplatnění na trhu 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boj proti sociálnímu vyloučení posílením aktivního zapojení do společn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Arial"/>
              </a:rPr>
              <a:t>podpora zdravého stárnut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"/>
          <p:cNvPicPr/>
          <p:nvPr/>
        </p:nvPicPr>
        <p:blipFill>
          <a:blip r:embed="rId1"/>
          <a:stretch/>
        </p:blipFill>
        <p:spPr>
          <a:xfrm>
            <a:off x="4643280" y="404640"/>
            <a:ext cx="4127760" cy="936720"/>
          </a:xfrm>
          <a:prstGeom prst="rect">
            <a:avLst/>
          </a:prstGeom>
          <a:ln w="0">
            <a:noFill/>
          </a:ln>
        </p:spPr>
      </p:pic>
      <p:sp>
        <p:nvSpPr>
          <p:cNvPr id="67" name="TextovéPole 3"/>
          <p:cNvSpPr/>
          <p:nvPr/>
        </p:nvSpPr>
        <p:spPr>
          <a:xfrm>
            <a:off x="395280" y="1557360"/>
            <a:ext cx="8280360" cy="1068840"/>
          </a:xfrm>
          <a:prstGeom prst="rect">
            <a:avLst/>
          </a:prstGeom>
          <a:solidFill>
            <a:srgbClr val="ffffff"/>
          </a:solidFill>
          <a:ln w="93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Rok věnovaný problematice aktivního stárnutí a mezigenerační solidari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1:12Z</cp:lastPrinted>
  <dcterms:modified xsi:type="dcterms:W3CDTF">2012-01-04T16:19:42Z</dcterms:modified>
  <cp:revision>28</cp:revision>
  <dc:subject/>
  <dc:title>Snímek 1</dc:title>
</cp:coreProperties>
</file>