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47EF0-D1DE-4AE8-AF7E-1D5976A59C4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AF376-25F4-4F4A-9F5B-BA9A000CE69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Zástupný symbol pro datum 4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1789-CAFC-4BC4-A6B9-6E0DE1843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FCBA-8773-43C5-8632-77F1122B6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68D3-893D-437A-B40E-D0D71F53E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3CA5-6F9B-49E8-966D-9481A0E3C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11CF-51AE-4B67-9631-5ED9DD1FC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75E6-829E-4211-8EFF-E27BBF6AA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3050-8B84-4B26-B02D-C797EB453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04CB-745E-47C9-858A-C14821D60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B413-D36E-4D57-A86D-0C00474F3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BFCA-EC73-4CCB-A706-8779C29E0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12D1-3ADA-49DD-838A-362A850F3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DB42-4D4A-4D8B-80CD-4D3373F82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3BA3E-DB3D-4516-9086-8E9DBA549ED3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AGE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340000" y="2421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mparativní analýza podmíne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přístupů využívaných v České republice a ve Fins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1258920" y="765000"/>
            <a:ext cx="6913440" cy="46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obrázek 39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78487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obrázek 42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74880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mparativní výhody (potenciality)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arších pracovník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sobnostní vlastnosti a schopnosti, jako j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ozváž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kuše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ílevědom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oustředě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danost vě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měřenost ve finančních nárocí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pověd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ochvil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 dalš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471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Struktura zpráv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ktuální demografická situa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stavení pracovníků ve věku 50+ na trhu práce v ČR, ve Finsku a v zemích E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daje o pracovní schopnosti stárnoucích pracovník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xistující opatření na podporu zaměstnanosti 50+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y age managementu v prax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ožnosti uplatnění age managementu v praxi v Č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elková (úhrnná) míra plodnosti v ČR a ve Finsku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obrázek 1" descr=""/>
          <p:cNvPicPr/>
          <p:nvPr/>
        </p:nvPicPr>
        <p:blipFill>
          <a:blip r:embed="rId1"/>
          <a:stretch/>
        </p:blipFill>
        <p:spPr>
          <a:xfrm>
            <a:off x="177840" y="1125360"/>
            <a:ext cx="864216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děje na dožití žen a mužů v ČR a ve Finsku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obrázek 2" descr=""/>
          <p:cNvPicPr/>
          <p:nvPr/>
        </p:nvPicPr>
        <p:blipFill>
          <a:blip r:embed="rId1"/>
          <a:stretch/>
        </p:blipFill>
        <p:spPr>
          <a:xfrm>
            <a:off x="179280" y="1341360"/>
            <a:ext cx="727236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voj věkové struktury obyvatelstva ČR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 letech 2005–2050 dle prognózy ČSÚ (2009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obrázek 4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7561440" cy="433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měr ekonomicky závislých osob v ČR, ve Finsku a v průměru zemí EU (27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obrázek 5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748800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jekce ekonomicky závislých osob do roku 2060 pro ČR, Finsko a země EU (27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obrázek 6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7705800" cy="45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71600" y="4653000"/>
            <a:ext cx="6400800" cy="98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 pracovním procesu jsou třeb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ři z pěti generac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755640" y="574560"/>
            <a:ext cx="7201080" cy="38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915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íra zaměstnanosti ve věkové skupině 50-64 let ve srovnání 27 zemí EU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obrázek 26" descr="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6:01:57Z</cp:lastPrinted>
  <dcterms:modified xsi:type="dcterms:W3CDTF">2012-01-04T16:19:40Z</dcterms:modified>
  <cp:revision>5</cp:revision>
  <dc:subject/>
  <dc:title>Snímek 1</dc:title>
</cp:coreProperties>
</file>