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BE2C-566A-4A8B-9976-D1C3E1B6D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035B-3669-4181-920E-7DEAA3EC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D694-8C79-4D57-B156-B7A62EB7B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9A80-1E2B-49A3-B8A1-13000D2B3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37EF-8AD9-4DB6-970D-8D7AD855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27F0-6C50-4F32-A44C-8554061E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32B8-206F-4547-BB05-D7BF726C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0630-761B-47D5-AF3E-22FED0EA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18B9-076B-4A66-94CF-4138D4BE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34BF-65AC-4281-945D-AB1C901D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CCBD-14CD-4023-AC93-60E6C238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97E0-7E9E-43EE-9F2E-36A78185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728B-7BDE-4EBD-9A91-F82F8E2CB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87400"/>
          <a:ext cx="7769520" cy="5083200"/>
        </p:xfrm>
        <a:graphic>
          <a:graphicData uri="http://schemas.openxmlformats.org/drawingml/2006/table">
            <a:tbl>
              <a:tblPr/>
              <a:tblGrid>
                <a:gridCol w="3884760"/>
                <a:gridCol w="38847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gnitivní, poznávac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řeby v dané kategorii produ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ědomí o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alost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ektivní, emocionální a smysl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ity vyvolané reklam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 reklam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liba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or na znač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kojenost se znač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ativní, behaviorál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zá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akovaný 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jalita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0:50Z</dcterms:created>
  <dc:creator>kozakova</dc:creator>
  <dc:description/>
  <dc:language>en-US</dc:language>
  <cp:lastModifiedBy>kozakova</cp:lastModifiedBy>
  <dcterms:modified xsi:type="dcterms:W3CDTF">2005-12-05T12:11:04Z</dcterms:modified>
  <cp:revision>1</cp:revision>
  <dc:subject/>
  <dc:title>Prezentace aplikace PowerPoint</dc:title>
</cp:coreProperties>
</file>