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9CB17-DA56-43BF-A2CB-C9735C180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01DAB-EEDE-44C1-B29E-C11AF9B11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FA60E-67EE-4A92-94D9-EE4ACB92D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1C44B-4809-4AAC-88EA-448DDBEE2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EFB04-29A2-4122-B247-BEC15F967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63E66-3CE9-4FA2-9CD8-D8DD6C11B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BF1B9-D8B2-4A9E-8A99-5AD940A1C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EBAE6-1A7A-4EE9-B64F-B0360B045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E71CC-0644-4040-96AC-88481A63F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B0194-8D4C-4D76-BE02-F2728AF74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DFDFC-E30D-4298-9F7B-7F8809938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F0FA1-BFE7-459B-9C7F-1B92D0C88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739F7-6A5A-44DC-A8FB-23E33C9456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90440" y="990720"/>
          <a:ext cx="8763120" cy="4876560"/>
        </p:xfrm>
        <a:graphic>
          <a:graphicData uri="http://schemas.openxmlformats.org/drawingml/2006/table">
            <a:tbl>
              <a:tblPr/>
              <a:tblGrid>
                <a:gridCol w="2921040"/>
                <a:gridCol w="2921040"/>
                <a:gridCol w="2921040"/>
              </a:tblGrid>
              <a:tr h="301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čekávané přínos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bavy a omeze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k překonat obavy a omeze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604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působ, jakým chcete postupova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808080"/>
                        </a:buClr>
                        <a:buSzPct val="11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ahájit proces strategického plánová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808080"/>
                        </a:buClr>
                        <a:buSzPct val="11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čkat se strategickým plánováním a začít s ním za příhodnějších podmíne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808080"/>
                        </a:buClr>
                        <a:buSzPct val="11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stoupit od myšlenky strategického plánová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2T13:50:42Z</dcterms:created>
  <dc:creator>kozakova</dc:creator>
  <dc:description/>
  <dc:language>en-US</dc:language>
  <cp:lastModifiedBy>kozakova</cp:lastModifiedBy>
  <dcterms:modified xsi:type="dcterms:W3CDTF">2005-12-02T13:51:14Z</dcterms:modified>
  <cp:revision>1</cp:revision>
  <dc:subject/>
  <dc:title>Prezentace aplikace PowerPoint</dc:title>
</cp:coreProperties>
</file>