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268A-5FAE-47FF-9148-8A3342889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1ED4-1722-4C41-94F5-9FADEC76A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DC1B-615E-425E-AEA3-52E390145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AAF0-3841-434A-B388-5A5E81439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AFCD-C69F-4CD5-A822-DBFBB1118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409F-2AF5-40A7-A475-FFC454127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2319-79DE-4E3F-9453-70056FF6F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01CB-763B-4FCF-8903-3DB9BC141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B793-E82E-49D8-8D80-863D2FB38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BB92-FEF2-4D65-B630-1527C152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18D7-018F-4553-8783-D0AA9CA83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4C84-6134-4834-885A-912CB4CF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0E786-A9E5-4052-9501-B9F268A141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248520" y="2590920"/>
            <a:ext cx="2438280" cy="26668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324480" y="335268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am se chceme dost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3124080"/>
            <a:ext cx="2514600" cy="144792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05320" y="34290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ak se tam dostane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2666880"/>
            <a:ext cx="2361960" cy="2514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3581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de js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676520"/>
            <a:ext cx="914400" cy="5331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705720" y="1752480"/>
            <a:ext cx="914400" cy="533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9880" y="1752480"/>
            <a:ext cx="914400" cy="533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1752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934320" y="1828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1828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48:50Z</dcterms:created>
  <dc:creator>kozakova</dc:creator>
  <dc:description/>
  <dc:language>en-US</dc:language>
  <cp:lastModifiedBy>kozakova</cp:lastModifiedBy>
  <dcterms:modified xsi:type="dcterms:W3CDTF">2005-12-02T13:49:30Z</dcterms:modified>
  <cp:revision>1</cp:revision>
  <dc:subject/>
  <dc:title>Prezentace aplikace PowerPoint</dc:title>
</cp:coreProperties>
</file>