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4764-B67C-45AD-9252-5DD339A60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593F-1A89-4DE5-9208-D5E1D485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E07B-AC7A-41DD-BF84-2C7114E8F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B8E2-6E2F-4157-B65F-83BA838A5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DC5C-CE84-47F3-854F-52C9A0BC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FFDB-1734-45D0-94FC-A041BDA2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FC48-525E-4F33-90A3-3AEBF76C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7DE8-84A3-46A9-A1B7-FBF57A96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77A1-4F7E-4C57-9A68-B6E12CA6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A92A-107E-4ACA-969F-8D69B93C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11B5-9A20-4C99-868C-F8C88121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7285-12C9-47EF-9EAC-4AEE2B9C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706E-8EA4-4A6C-9A0C-DC0BD2AD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0E28-736F-4E52-866C-AA0292AC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1F62-0E26-482F-BF51-B340E338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A0CF-2E8E-48B2-B70E-3B6BEB5F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68C5-E1B7-41BA-B1A9-C83E27FF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FDB1-7D3F-4994-ADFC-93758A80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2C1F-586A-46D4-BD32-84C249DD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8C15-4DE9-4EA7-B042-3A4F5153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A3E5-346C-4D5F-93C1-1EAFA8EC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0C1A-DE8D-4C81-BB8F-43D2F76A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2298-B349-412C-811A-02E37AAC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9CE7-2B28-4C7E-B898-BDE66F8B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5A4A-4223-4FF2-9376-22BCDE20637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7121-12AB-450E-A859-56C5595FF5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D116-72EC-4E06-97E2-3C782F7DBD7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3621-5A31-4D87-920C-6F8C41EE2B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Metody operační analýzy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ra Hrst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D215-8A73-45E3-8107-B683B02FCA1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DF0BEB8-9E3C-442C-9F24-18BB2C02AB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Konstrukce vhodného typu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 je určitým stupněm abstrakce reálných systém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2924280"/>
            <a:ext cx="1152720" cy="93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8000" y="30686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álný obj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80000" y="2924280"/>
            <a:ext cx="1152360" cy="93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24360" y="32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24360" y="2924280"/>
            <a:ext cx="1152720" cy="93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9080" y="32068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87640" y="3284640"/>
            <a:ext cx="720720" cy="215640"/>
          </a:xfrm>
          <a:prstGeom prst="rightArrow">
            <a:avLst>
              <a:gd name="adj1" fmla="val 50000"/>
              <a:gd name="adj2" fmla="val 83556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03640" y="3284640"/>
            <a:ext cx="648000" cy="215640"/>
          </a:xfrm>
          <a:prstGeom prst="rightArrow">
            <a:avLst>
              <a:gd name="adj1" fmla="val 50000"/>
              <a:gd name="adj2" fmla="val 7512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84360" y="422100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52720" y="4221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BB84-ACCE-493B-8B34-34197D38AD6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DE4B7-151D-40FA-A8DF-61C939D3DC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ztah mezi objektem a jeho      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model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04840" y="1981080"/>
            <a:ext cx="1981440" cy="83844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05440" y="5067360"/>
            <a:ext cx="1981440" cy="83808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05440" y="1981080"/>
            <a:ext cx="1981440" cy="83844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04840" y="5067360"/>
            <a:ext cx="1981440" cy="83808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3"/>
            <a:endCxn id="132" idx="1"/>
          </p:cNvCxnSpPr>
          <p:nvPr/>
        </p:nvCxnSpPr>
        <p:spPr>
          <a:xfrm>
            <a:off x="3085920" y="2400120"/>
            <a:ext cx="2819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32" idx="2"/>
            <a:endCxn id="131" idx="0"/>
          </p:cNvCxnSpPr>
          <p:nvPr/>
        </p:nvCxnSpPr>
        <p:spPr>
          <a:xfrm>
            <a:off x="6895800" y="2819520"/>
            <a:ext cx="1080" cy="224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31" idx="1"/>
            <a:endCxn id="133" idx="3"/>
          </p:cNvCxnSpPr>
          <p:nvPr/>
        </p:nvCxnSpPr>
        <p:spPr>
          <a:xfrm flipH="1">
            <a:off x="3085560" y="5486040"/>
            <a:ext cx="2819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3" idx="0"/>
            <a:endCxn id="130" idx="2"/>
          </p:cNvCxnSpPr>
          <p:nvPr/>
        </p:nvCxnSpPr>
        <p:spPr>
          <a:xfrm flipV="1">
            <a:off x="2095200" y="2819160"/>
            <a:ext cx="1080" cy="224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144792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7220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5257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50292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znatky o mod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50292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znatky o ob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19051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vor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15000" y="3505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řešení  mod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35053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ce   poznat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495288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znat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C95F-13A7-402F-B89E-65B6A1CAE57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713BBC-9C37-4B47-941C-FC9255E8E8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lasifikace model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dle očekávaného použití model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pisné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nostick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izač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le zobrazované stránky zkoumaného obje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y strukt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y chová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y smíše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dle tvaru výstup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istick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chastick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dle fyzické podoby model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menšené repliky reálných objekt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kční obdoby reálných objektů (analogové mode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y, které formalizují reálný objekt pomocí symbolů, matematických výrazů a vztahů – modely matematick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05EF-A81F-40EC-A019-A5BCE73025F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7B142C-59ED-4463-8780-28D6D1D087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ejčastější chyby při sestavování model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ílišné zjednodušení mode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zahrnuje zbytečné nebo nepodstatné velič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ktura modelu je nespráv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0C39-B5A7-4041-9239-7D4B67FFA1A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17F07C-289F-47E3-8A4B-29F55D75FD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ce matematického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ice parametr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ice proměnný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ulace účelové funk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ulace soustavy omezení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vantifikace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A085-F8D5-4F46-9982-B4F6A765F58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DBEC7-C5B1-4BB4-AC4B-DF752E76BC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tody operační analýz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tematické program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ícekriteriální rozhod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íťová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ie řízení zás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ie obn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ie hromadné obslu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ie 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ítačové simu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5207-8B47-45FC-B303-B9847910549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9EC0D-F2B3-4387-88A9-11777B33A0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ineární programování - histor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ecný model lineárního programování (LP) -  vytvořen při řízení výroby a organizaci hospodářství v průběhu II. světové války ve Velké Britanii a U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létech 1940-45 vypracov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. B. Dantzig simplexovou metod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univerzální algoritmus pro řešení úloh L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roce 1951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. Charnes a W. W. Coop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ačali využívat LP ve výrobě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následujících létech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. Bellma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tvořil teoretické a matematické základy pro dynamické programová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větší rozvoj LP nastal pak v létech 1955-6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F9C6-C6F1-4909-A376-470E479A5FE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A6A4D7-5BF8-4265-965A-C87B7520EA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íle přednášk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ozumět principům optimalizace při daných omezení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kázat formulovat model lineárního programování (LP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ět graficky řešit úlohu LP se dvěma proměnným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hopit obecné vlastnosti přípustných řešení úlohy L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0C22-0B0E-473F-AD34-83DEC4ACE42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97604-286B-44D1-8C57-7CA53A4F1E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nik vyrábí dva výrobky V1 a V2, které se zpracovávají na dvou typech strojů A a B. Zhotovení jednotky výrobku V1 vyžaduje 6 strojových hodin na stroji typu A a 3 hodiny práce na stroji typu B. Obdobně zhotovení výrobku V2 vyžaduje 4 strojové hodiny jak na stroji A tak i na stroji B. Podnik má měsíčně k dispozici celkem 3 000 strojových hodin na strojích typu A a 2500 strojových hodin na strojích typu B. Cena jednotky výrobku V1 činí 200 Kč a cena výrobku V2 je 300 Kč. Podnik má zaručený odbyt obou výrobků a není vázán na určitý sortiment. Je třeba rozhodnout, kolik má podnik vyrobit jednotlivých výrobků, aby dosáhl co nejvyšší celkové ceny odby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8E81-3467-4F49-8AA9-997A9FFEED1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8CC70-EB7C-467D-BF24-485C5F7646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ineární programová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ody lineárního programování jsou algebraické metody založené na řadě rovnic a nerovnic, které stanoví omezení pro úlohu a jsou užívány pro optimalizaci matematického výrazu, který nazýváme účelovou funkc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lová funkce a omezení daného problému musí být deterministické a musí být vyjádřeny v lineárním tvar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F57C-69EA-4DA8-94BB-1336C1E9BBC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26C56B-B678-4670-AF0C-1F291F545C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oporučená literatur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. Vaculík, J. Zaple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ODPŮRNÉ METODY ROZHODOVACÍCH PROCESŮ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MU v Brně, 199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. Jablons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OPERAČNÍ VÝZKUM,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VŠE Praha, 20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. Klapka, J. Dvořák, P. Popel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METODY OPERAČNÍHO VÝZKUMU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 VUT Brno, 1996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. Wisniewski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TODY MANAŽERSKÉHO ROZHODOVÁ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Grada Publishing,Praha,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7DB3-67A8-4DFE-8FD6-A6A152856F2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76071A-D1D6-4B10-A9B5-62B369CD88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ostup při formulaci modelu lineárního programování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rbální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mezení a identifikace problém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rbální popis problému (popis procesů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ovení cí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vantifikace jednotlivých prv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vantitativní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finování proměnných, jejichž hodnoty máme nalézt. Vymezení jejich nezáporno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ulace omezujících podmínek zobrazujících vztahy mezi procesy pomocí soustavy lineárních nerovnic, resp. rovn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ulace kriteriální lineární funkce, vyjadřující cíl výpočtu (kriteriální funkce slouží k posouzení výhodnosti jednotlivých procesů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3EB0-AC1F-4924-84D7-7850731E955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04E0D5-2F78-4E50-88BC-C00516830E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becná formulace modelu lineárního programování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lineárního programování lze obecně vyjádřit matematickým zápisem tak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íl: najít extré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čelové funk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a podmín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ice              je matice typu (m, n) a nazývá se matice soustavy omezujících podmínek,               je vektor proměnných,               je vektor pravých stran soustavy omezujících podmínek,               je vektor ce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580000" y="2276640"/>
            <a:ext cx="2156040" cy="431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348000" y="2781360"/>
            <a:ext cx="957240" cy="1512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050920" y="4365720"/>
            <a:ext cx="792360" cy="341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1086120" cy="2383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3203640" y="5084640"/>
            <a:ext cx="1076400" cy="2383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5796000" y="5445000"/>
            <a:ext cx="10764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8A6A-55BA-4165-8FB0-DC0FBBBFC60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BAD6D1-ECB4-412A-B944-8D6D31BB96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Úkolem je pak řešit tuto soustavu rovnic a nerovni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tzn. Nalézt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hodnot proměnných x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ž x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které rovnicím vyhovuj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oustava má řešení právě tehdy, je-li hodnost rozšířené matice soustavy A/b rovna hodnosti matice soustavy 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dnou z možností řešení soustavy je použit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aussovy eliminační 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sobíme-li libovolnou rovnici soustavy libovolným reálným číslem 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≠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řipočteme-li k libovolné rovnici soustavy k-násobek jiné rovnice soust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k soustava, kterou získáme je ekvivalentní soustavě původní a obě soustavy mají všechna řešení společn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5280" y="494172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D60F-5778-46C8-89AC-4108D6798DB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E30F74-B291-41E7-BBF8-3CDF40894D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Řešení probíhá v těchto krocíc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cházíme z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nonického tvar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oustavy (soustava je v kanonickém tvaru, jestliže matice A obsahuje jednotkovou submatici I, jejíž hodnost je h(I)=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leznem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chozí bazické řeš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bazické = základní řešení – proměnné x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n-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řiřadíme 0, ostatní = hodnotám vektoru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ransformací převedeme soustavu na jiný kanonický tva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tak, že z jedné nezákladní se stane základní a naop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alezneme nové řešení soustavy a postup opakujeme až nalezneme všechna základní řeš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33E5-A56E-4A76-8CDD-5CF7EDC1D32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9FE9B-B379-40C2-A9F3-52551AA3D9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jmy lineárního programová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řípustným řešení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úlohy lineárního programování je vektor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x, který vyhovuje soustavě omezení úlo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Bazické řešení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úlohy LP je takové přípustné řešení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, jehož kladné složky s´jsou hodnoty proměnných x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, jejichž sloupce koeficientů v soustavě omezení tvoří lineárně nezávislou soustavu vektor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ptimální řeš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úlohy LP je takové bazické řešení, které maximalizuje (minimalizuje) účelovou funk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2B79-A67D-4715-B945-C6D97FEA86A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E8395-8E87-4A0F-AC19-B03D8A6B8C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Grafické řešení úlohy lineárního programování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metrická interpretace lineárních nerovnic a vlastnosti konvexních množin umožňují řešit úlohu LP grafic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fická metoda se používá pro řešení úloh LP se dvěma proměnnými a konečným počtem omezujících podmín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oda je prakticky málo využitelná, neboť v praxi se zřídka vyskytují jednoduché problémy pouze se dvěma proměnný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ýznam grafické metody spočívá v názorné interpretaci základních vlastností modelu L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3692-D90A-445D-A080-080A39F0F54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73F3F1-1462-4889-9018-F5EAD4C005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stup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Formulace matematického model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Grafické vymezení množiny přípustných řeše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rafické zobrazení průběhu účelové funk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alezení extrému (maxima, minima) účelové funk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089C-084A-403B-A638-1C0AE8DB789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830AE-5F6E-4287-A5D1-763EEBF333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lová funk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= 3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2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mezující podmínk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14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5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10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100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2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32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1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mínky nezáporn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0, 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A25B-9EC4-4E67-8382-A0BD868FC1E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469AC-7387-4494-B310-150E47069B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fické řešení příklad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5040360" cy="44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6085-B0B4-4DC2-84E9-1C4FB976998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2DDFAC-A60D-45DF-8F91-B79301075A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becné vlastnosti přípustných řešení úlohy LP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nožina bodů se nazývá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vexn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jestliže splňuje podmínku: patří-li do ní dva různé body, patří do ní také všechny body úsečky určené oběma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ě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ožina přípustných řešení úlohy LP je konvexní množina s  konečným počtem vrch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843280" y="3141720"/>
            <a:ext cx="3600360" cy="134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1C65-9DD1-44C6-ADB5-428517C5B44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B39F1-3718-45A5-97EF-F6B46439D3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perační analýz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erační výzkum, Operational Research, Kvantitativní metody, Ekonomicko-matematické metody, Management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erations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erační analýza je aplikace vědeckých metod na komplex problémů vznikajících při řízení složitých systémů lidí, strojů, materiálních a fin. prostředků ve výrobě a obcho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elem je pomoci vedoucím pracovníkům podložit jejich rozhodnutí vědeckými metoda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perační analýza představuje způsob týmové práce, při které skupina specialistů různého odborného zaměření komplexně řeší složitý ekonomický, technický nebo organizační problém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100" spc="-1" strike="noStrike">
                <a:solidFill>
                  <a:srgbClr val="000000"/>
                </a:solidFill>
                <a:latin typeface="Arial"/>
              </a:rPr>
              <a:t>Kolektiv autorů VŠB-TU Ostra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050B-2190-4215-A6FC-57EBDCB9CA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C698D-DE05-4D21-8820-F5C2C87E22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Klasifikace množin přípustných řešení v modelu LP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ožina přípustných řešení je prázd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ožina přípustných řešení je konvexní polyed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67080" y="2422080"/>
            <a:ext cx="4210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771640" y="2133720"/>
            <a:ext cx="3168720" cy="15494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843280" y="4221000"/>
            <a:ext cx="3240000" cy="19386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227640" y="4076640"/>
            <a:ext cx="266544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Úloha má jediné řešen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když se přímka účelové funkce dotkne vrcholu polyedr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konečně mnoho řešen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dyž přímka účelové funkce protíná konvexní polyedr ve dvou vrchole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552B-0245-488B-AB4F-B19C85C0F2A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15BAB-8BD9-43AD-A6C9-C876ED931E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nožina přípustných řešení je neohraničen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411280" y="2565360"/>
            <a:ext cx="4248360" cy="293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6F2D-4B5A-4948-9F9C-84E77212A40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758666-3760-4F93-B291-BB93CDD4FD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Základní věta lineárního programování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čelová funkce v modelu lineárního programování nabývá svého extrému na hranici konvexní množiny přípustných řešení (ve vrcholu konvexního polyedru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základě základní věty LP je možno optimální řešení modelu LP vybírat z konečného počtu řešení: model LP má konečný počet omezujících podmínek a konvexní množina přípustných řešení má proto konečný počet vrcholů. V jednom z vrcholů je hledané řeše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55E0-9326-40CD-A4FE-7DCF9322F57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6D2DFD-7549-49C0-BB53-DFE416BA5B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y použití L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lohy výrobního plán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řezné probl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lohy směš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lohy doprav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oblém směsí v naftových a chemických rafinériích, výběr dodavatelů nebo odběratelů pro velké podniky s mnoha závody, určení expedičních tras a časových plá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20A1-75C6-4601-BB8D-9628294BD23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F3952-D10E-418A-86ED-39583A4F0C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implexová metod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rační výpočetní post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 nalezení optimálního řešení úlohy lineárního programová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 dvě základní f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novení výchozího základního přípustnéh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řeše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řechod od základního přípustného řešení k druhém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ak, aby se zlepšovala hodnota účelové funkce a dosáhla svého opti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7060-0A4F-4565-8B55-76C3D573EE7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0C4861-F2EE-43E8-9695-BA44E1F2FE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terační postu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8428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Určení klíčového sloup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určení nebazické proměnné, která bude vstupovat do báz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 maximalizace hledáme největší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│z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│z těch z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‹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 minimalizace hledáme největší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těch z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›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Určení klíčového řádk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(určení bazické proměnné, která bude vystupovat z báze a bude nahrazena proměnnou klíčového sloup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Hledáme min b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/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pro 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›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kud neexistuje ve sloupci 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›0, pak úloha nemá konečné optimální řeš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ovedeme výměn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proměnné vstupující do báze a proměnné vystupující z báze, přetransformujeme simplexovou tabul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stup opakujeme tak dlouho dokud nenalezneme optimální řešení nebo nezjistíme, že úloha optimální řešení nem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Řešení je optimální, jestliže v řádku cen při maximalizaci jsou všechna čísla nezáporná a při minimalizaci neklad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80BB-C44D-4901-821E-A5C4C5D1D8B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56FAF-1D74-4BD4-AF8F-FEA60672F9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harakteristika operační analýz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měření n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dporu rozhodová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ři řešení složitých problém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užití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ědeckého přístup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ři řešení problémů spojeného s aplikací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ové technik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ýmová organizace prá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ktování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k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chastické pova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álných proces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5C78-7905-40EA-A93B-9B1620E438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8D8D3-5A12-46FD-9164-976B450973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ozhodovací pro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49440" y="1685880"/>
          <a:ext cx="6497640" cy="43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9440" y="1685880"/>
                    <a:ext cx="649764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F2F5-918C-4CA9-BFC9-32FC9F614D9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3F8AAE-8D31-46F8-A0E0-C753B40A07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blasti využití MO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ánování a řízení výr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ast operativního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alizace výrobního programu, analýza výrobního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ast prodeje výrobků a jejich distribuce (hledání vhodného umístění skladů, prodejen at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klama )optimální lokalizace finančních prostředků do jednotlivých sdělovacích médi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ční plánování (optimalizace portfolia fir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Řízení projektů (výstavba nových objektů, organizace a řízení konferencí at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Řízení zás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zhodování za rizika a nejisto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0FC0-5B17-4431-AF4A-786ED31298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58347-7A5E-42B8-89A2-DA4A83A962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truktura postupu implementace metod operační analýz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Vymezení a definice problém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Konstrukce vhodného typu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Řešení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Interpretace výsledků ře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Realizace výsledků ře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Verif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3A73-533B-4216-BC1E-AF4E53CBF7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5E5A65-27D7-4A8C-B457-325E7705D0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Vymezení a definice problém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ovení cílů a definice problému ústí ve výběr těch prvků reálného objektu a vazeb mezi nimi, které jsou z hlediska řešeného problému významné – „definice systému na reálném objektu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ém – účelově zjednodušená verze reálného ob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ýsledkem pak může být grafické nebo tabulkové znázornění hlavních faktorů a vazeb mezi ni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67280" y="5084640"/>
            <a:ext cx="1008000" cy="719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DB4D-A38D-4E19-9EC0-5F9BC32EA67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E33DA4-4B1D-4925-9AEE-A73594425E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ce problému pak vyúsťuje 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rmulaci cí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kterého chceme řešením problému dosáhnou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ymezení hlavních ce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osažení stanoveného cíl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ýbě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lavních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ktorů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ůsobících na řešení problému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rčení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mezujících podmíne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v nichž se může řešení pohybov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67E3-A18F-4F6D-B51D-9F33107688C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7AFE8-B995-414C-996D-3CCB8A4EA9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7:46:05Z</dcterms:created>
  <dc:creator>hrstkova</dc:creator>
  <dc:description/>
  <dc:language>en-US</dc:language>
  <cp:lastModifiedBy>hrstkova</cp:lastModifiedBy>
  <dcterms:modified xsi:type="dcterms:W3CDTF">2004-10-01T08:29:43Z</dcterms:modified>
  <cp:revision>6</cp:revision>
  <dc:subject/>
  <dc:title>Metody operační analýzy</dc:title>
</cp:coreProperties>
</file>