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238D-FBA9-4B51-882B-BBF2F3BC5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9F2F-C911-4170-BD14-1AFEFB069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2F80-CA32-490C-8B58-7C78EAD60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BD36-39B2-4D60-B0D3-DDDE217B2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0FFCF-6C74-4F81-990E-614C6A631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7EC8D-CC1C-49EB-9FE7-590B17628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DCF1E-F92E-4CBF-9244-BDC4CD629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E6671-50D4-4425-8217-9E07BFA03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88AD0-E8E4-4745-A160-E60B8371F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84D3F-75FA-46C6-BE2F-C9B193103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C3FB7-59F0-4AAD-91A7-79AC2703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27D9-26F4-4966-8D3B-A3E997A13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74F80-9CF6-4F43-A28D-876A9CEF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3EDC9-5A12-434A-B979-6E46EF94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AD71A-A34D-49A4-8345-1A695F39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5FB2D-E1EA-449D-943E-2C6E47F65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95B6C-0688-4BD5-989B-F6FAAFD6F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130B-3CB1-4CDF-9EAB-924812CFF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AFD4-4500-4DEB-86BA-19F2AA9E2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C011-1AF5-4590-B72B-F19642A9B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5D97-BA15-4DBC-BC48-71FFC840A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ACB2-464E-49C2-87F3-B58120FF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EEBD-3406-420F-82E5-7E95390A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4660-8038-442A-9929-6D684B68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54574-2815-493D-AB0D-813E3A85F15C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F9C8-7EE0-4E70-9D13-191385D13AF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B1248-F018-475F-B602-3BCCC3DAFC3F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46F29-4DEC-44AE-8E18-7BB2EB2E782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Řízení projektů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tra Hrst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0033"/>
                </a:solidFill>
                <a:latin typeface="Arial"/>
              </a:rPr>
              <a:t>Rozsah projekt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scope) je soubor úkolů, které jsou předmětem řešení projektu. </a:t>
            </a:r>
            <a:r>
              <a:rPr b="0" lang="cs-CZ" sz="2800" spc="-1" strike="noStrike">
                <a:solidFill>
                  <a:srgbClr val="330033"/>
                </a:solidFill>
                <a:latin typeface="Arial"/>
              </a:rPr>
              <a:t>Harmonogram projekt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schedule) určuje dobu trvání a sekvenci provádění úkolů jakož i celkovou dobu trvání projektu. </a:t>
            </a:r>
            <a:r>
              <a:rPr b="0" lang="cs-CZ" sz="2800" spc="-1" strike="noStrike">
                <a:solidFill>
                  <a:srgbClr val="330033"/>
                </a:solidFill>
                <a:latin typeface="Arial"/>
              </a:rPr>
              <a:t>Zdroje projekt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resources) tvoří lidé, vybavení a peníze nezbytné pro provedení projekt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0033"/>
                </a:solidFill>
                <a:latin typeface="Arial"/>
              </a:rPr>
              <a:t>Úspěšné řízení projektu je procesem kontinuálního plánování a revidování dosahovaných výsledk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66B8-7B05-4086-BB09-16A37838208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51DE95-DC91-4664-8D10-79A925EDEC4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ostup plánování projekt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edmětem přípravy MP je vymezení a plánování postupu od hrubého plánu (draft outline) k detailnímu plánu (detailed plan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0033"/>
                </a:solidFill>
                <a:latin typeface="Arial"/>
              </a:rPr>
              <a:t>Stanovení obsahu projektu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j. identifikace problémů, definování cílů, výstupů a produktů, identifikace vhodných partnerů, určení ukazatelů a parametrů kvality a rizika, návrh strategie monitorování a hodnoc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0033"/>
                </a:solidFill>
                <a:latin typeface="Arial"/>
              </a:rPr>
              <a:t>Stanovení organizac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j. strukturování hlavních činností do etap a kroků, plánování milníků </a:t>
            </a:r>
            <a:r>
              <a:rPr b="0" lang="cs-CZ" sz="1800" spc="-1" strike="noStrike">
                <a:solidFill>
                  <a:srgbClr val="b2b2b2"/>
                </a:solidFill>
                <a:latin typeface="Arial"/>
              </a:rPr>
              <a:t>(milestones)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definování rolí, rozdělování a koordinace úkolů, plánování času (etapy, harmonogram), návrh interního komunikačního systém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0033"/>
                </a:solidFill>
                <a:latin typeface="Arial"/>
              </a:rPr>
              <a:t>Plánování interakc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uvnitř tj. výběr členů týmu, budování a vedení týmů, vytváření kultury projektu, sdílených hodnot, standardů a pravidel, řízení konflikt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0033"/>
                </a:solidFill>
                <a:latin typeface="Arial"/>
              </a:rPr>
              <a:t>Plánování interakcí s okolí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j. analyzování prostředí projektu, návrh marketingových strategií a plánování informačních činností (dissemin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0033"/>
                </a:solidFill>
                <a:latin typeface="Arial"/>
              </a:rPr>
              <a:t>Návrh administrativy a financ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tj. finanční plánování (plánování nákladů), návrh uplatnění kontraktačních požadavků, návrh systému a procedur podávání zpráv (report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1475-9689-4675-974D-585697BF4F9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085A5B-9F74-4729-BF3B-F219764BA06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ozdělení projektů do etap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 průběhu mezinárodních projektů lze rozdělit tak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dentifikace problému (n. příležitosti) - Opportunity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ormulování představy projektu - Feasibility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dentifikace vhodných partne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pracování plánu projektu a předložení přihlášky (projekt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odnocení přihlášek a výbě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jednávání a uzavírání kontra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hody s partnery (a uživatel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hájení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alizace projektu (implementace kontrakt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mpletování a hodnocení výsledků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ezentace a šíření výsled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končení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8B5A-8E8C-4899-83D7-5DC8B4756D1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03474A-F27A-46A0-BFDF-49D2FD9095A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tudie příležitost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A. Jaký problém - Co? Bude projekt řeš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B. PROČ se to bude projekt řeš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C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Koho se bude projekt dotýkat?(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otenciální uživatelé </a:t>
            </a:r>
            <a:r>
              <a:rPr b="0" lang="cs-CZ" sz="2400" spc="-1" strike="noStrike">
                <a:solidFill>
                  <a:srgbClr val="990033"/>
                </a:solidFill>
                <a:latin typeface="Arial"/>
              </a:rPr>
              <a:t>(target groups)</a:t>
            </a: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sp. zájmových skupin </a:t>
            </a:r>
            <a:r>
              <a:rPr b="0" lang="cs-CZ" sz="2400" spc="-1" strike="noStrike">
                <a:solidFill>
                  <a:srgbClr val="990033"/>
                </a:solidFill>
                <a:latin typeface="Arial"/>
              </a:rPr>
              <a:t>(stakeholders)</a:t>
            </a:r>
            <a:r>
              <a:rPr b="0" lang="cs-CZ" sz="2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stupujících či jinak ovlivňujících realizaci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D. Jaké přínosy se od projektu očekávaj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E. Jak se bude projekt financov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F. Jaké se mohou vyskytnout komplikace (rizika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79E6-FE59-4B64-84E5-CB8E8233D90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66977A-15B7-4E5E-8EF7-8251A31859D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hodné metod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1.1 Metoda problémového stromu</a:t>
            </a:r>
            <a:r>
              <a:rPr b="0" lang="cs-CZ" sz="2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TM (Problem Tree Method) předpokládá identifikaci problému a jeho rozpad ve smyslu souvislé analýzy příčin a následk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329480" y="3716280"/>
            <a:ext cx="6256080" cy="2298600"/>
            <a:chOff x="1329480" y="3716280"/>
            <a:chExt cx="6256080" cy="2298600"/>
          </a:xfrm>
        </p:grpSpPr>
        <p:sp>
          <p:nvSpPr>
            <p:cNvPr id="127" name=""/>
            <p:cNvSpPr/>
            <p:nvPr/>
          </p:nvSpPr>
          <p:spPr>
            <a:xfrm>
              <a:off x="3198600" y="3716280"/>
              <a:ext cx="1447560" cy="31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Problé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5400000">
              <a:off x="417600" y="4716720"/>
              <a:ext cx="220968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cccc99"/>
                  </a:solidFill>
                  <a:latin typeface="Times New Roman"/>
                </a:rPr>
                <a:t>Příči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70080" y="4338720"/>
              <a:ext cx="1675800" cy="31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Podproblém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36760" y="4960800"/>
              <a:ext cx="1599840" cy="31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Podproblém 2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74840" y="4338720"/>
              <a:ext cx="1676160" cy="31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Podproblém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180040" y="4960800"/>
              <a:ext cx="1713960" cy="31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Podproblém 2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2931840" y="4033800"/>
              <a:ext cx="1981080" cy="304920"/>
              <a:chOff x="2931840" y="4033800"/>
              <a:chExt cx="1981080" cy="304920"/>
            </a:xfrm>
          </p:grpSpPr>
          <p:sp>
            <p:nvSpPr>
              <p:cNvPr id="134" name=""/>
              <p:cNvSpPr/>
              <p:nvPr/>
            </p:nvSpPr>
            <p:spPr>
              <a:xfrm>
                <a:off x="2931840" y="4186080"/>
                <a:ext cx="198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931840" y="41860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912920" y="41860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922200" y="40338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3935160" y="4668840"/>
              <a:ext cx="1981080" cy="304920"/>
              <a:chOff x="3935160" y="4668840"/>
              <a:chExt cx="1981080" cy="304920"/>
            </a:xfrm>
          </p:grpSpPr>
          <p:sp>
            <p:nvSpPr>
              <p:cNvPr id="139" name=""/>
              <p:cNvSpPr/>
              <p:nvPr/>
            </p:nvSpPr>
            <p:spPr>
              <a:xfrm>
                <a:off x="3935160" y="4821120"/>
                <a:ext cx="198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935160" y="482112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916240" y="482112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925520" y="46688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1712880" y="3881520"/>
              <a:ext cx="0" cy="1828800"/>
            </a:xfrm>
            <a:prstGeom prst="line">
              <a:avLst/>
            </a:prstGeom>
            <a:ln w="9360">
              <a:solidFill>
                <a:srgbClr val="cc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7122960" y="3881520"/>
              <a:ext cx="0" cy="1828800"/>
            </a:xfrm>
            <a:prstGeom prst="line">
              <a:avLst/>
            </a:prstGeom>
            <a:ln w="9360">
              <a:solidFill>
                <a:srgbClr val="00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6200000">
              <a:off x="6287400" y="4716720"/>
              <a:ext cx="220968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ccff"/>
                  </a:solidFill>
                  <a:latin typeface="Times New Roman"/>
                </a:rPr>
                <a:t>Důslede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FBD6-86F3-49DB-85EF-8CD7DAD8E47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5CA841-4E56-4EEE-8B25-959094D2FF1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1.2 Analýza prostředí</a:t>
            </a:r>
            <a:r>
              <a:rPr b="0" lang="en-US" sz="2800" spc="-1" strike="noStrike">
                <a:solidFill>
                  <a:srgbClr val="00cc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Metoda PE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tředí projektů je určeno objektivními i subjektivními, vnitřními i vnějšími faktory, které ovlivňují jeho realiza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116000" y="3500280"/>
            <a:ext cx="2808000" cy="2665080"/>
            <a:chOff x="1116000" y="3500280"/>
            <a:chExt cx="2808000" cy="2665080"/>
          </a:xfrm>
        </p:grpSpPr>
        <p:grpSp>
          <p:nvGrpSpPr>
            <p:cNvPr id="149" name=""/>
            <p:cNvGrpSpPr/>
            <p:nvPr/>
          </p:nvGrpSpPr>
          <p:grpSpPr>
            <a:xfrm>
              <a:off x="1255320" y="3500280"/>
              <a:ext cx="2584800" cy="2665080"/>
              <a:chOff x="1255320" y="3500280"/>
              <a:chExt cx="2584800" cy="2665080"/>
            </a:xfrm>
          </p:grpSpPr>
          <p:sp>
            <p:nvSpPr>
              <p:cNvPr id="150" name=""/>
              <p:cNvSpPr/>
              <p:nvPr/>
            </p:nvSpPr>
            <p:spPr>
              <a:xfrm>
                <a:off x="1255320" y="3508560"/>
                <a:ext cx="2569320" cy="2656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70800" y="4834800"/>
                <a:ext cx="256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V="1">
                <a:off x="2516040" y="3500280"/>
                <a:ext cx="0" cy="265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1116000" y="3715920"/>
              <a:ext cx="148824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olitické &amp; právní prostřed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36120" y="3715920"/>
              <a:ext cx="148788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konomické prostřed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85480" y="4939200"/>
              <a:ext cx="148644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ciální a kulturní prostřed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436120" y="4939200"/>
              <a:ext cx="148788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Technologické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ost</a:t>
              </a: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ředí &amp; ekologi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4284720" y="3914640"/>
            <a:ext cx="41148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kt si v průběhu své realizace vytváří vlastní prostředí resp. sociální systém se specifickými vzorci chování, hodnotami, prioritami a identit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E28C-4B5A-48F4-B254-1760A2D6F9B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57DBCC-D7A1-4304-AE09-0B08F5C1085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1.3. Metoda SWOT analýz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5680" y="2362320"/>
            <a:ext cx="3381120" cy="3218400"/>
            <a:chOff x="4495680" y="2362320"/>
            <a:chExt cx="3381120" cy="3218400"/>
          </a:xfrm>
        </p:grpSpPr>
        <p:grpSp>
          <p:nvGrpSpPr>
            <p:cNvPr id="161" name=""/>
            <p:cNvGrpSpPr/>
            <p:nvPr/>
          </p:nvGrpSpPr>
          <p:grpSpPr>
            <a:xfrm>
              <a:off x="4952880" y="2362320"/>
              <a:ext cx="2831400" cy="2822400"/>
              <a:chOff x="4952880" y="2362320"/>
              <a:chExt cx="2831400" cy="2822400"/>
            </a:xfrm>
          </p:grpSpPr>
          <p:sp>
            <p:nvSpPr>
              <p:cNvPr id="162" name=""/>
              <p:cNvSpPr/>
              <p:nvPr/>
            </p:nvSpPr>
            <p:spPr>
              <a:xfrm>
                <a:off x="4952880" y="2370960"/>
                <a:ext cx="2814480" cy="2813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969800" y="3775680"/>
                <a:ext cx="2814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6334200" y="2362320"/>
                <a:ext cx="0" cy="281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4724280" y="2590920"/>
              <a:ext cx="3152520" cy="2240640"/>
              <a:chOff x="4724280" y="2590920"/>
              <a:chExt cx="3152520" cy="2240640"/>
            </a:xfrm>
          </p:grpSpPr>
          <p:sp>
            <p:nvSpPr>
              <p:cNvPr id="166" name=""/>
              <p:cNvSpPr/>
              <p:nvPr/>
            </p:nvSpPr>
            <p:spPr>
              <a:xfrm>
                <a:off x="4876560" y="2590920"/>
                <a:ext cx="1628640" cy="79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Silné stránk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„</a:t>
                </a: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Strengths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248160" y="2590920"/>
                <a:ext cx="1628640" cy="79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ff0000"/>
                    </a:solidFill>
                    <a:latin typeface="Times New Roman"/>
                  </a:rPr>
                  <a:t>W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Slabé stránky „Weaknesses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724280" y="4038840"/>
                <a:ext cx="1752480" cy="79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ff0000"/>
                    </a:solidFill>
                    <a:latin typeface="Times New Roman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Příležitost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„</a:t>
                </a: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Opportunities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248160" y="4038840"/>
                <a:ext cx="1628640" cy="79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ff0000"/>
                    </a:solidFill>
                    <a:latin typeface="Times New Roman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Ohrožení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„</a:t>
                </a: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Threats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016240" y="518184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otenciá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386400" y="518040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mezen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10800000">
              <a:off x="4495680" y="2362320"/>
              <a:ext cx="48528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oučasno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0800000">
              <a:off x="4495680" y="3810240"/>
              <a:ext cx="48528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udoucno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BCCF-0D77-448B-A2C2-FDB53BF1CE3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D453ED-B753-4FFF-834D-F05B7316028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etoda logického rámc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vrh konceptu projektu souvisí s formulováním základního konceptuálního návrhu (charakteristiky) projektu, vymezením základního cíle (účelu) projektu a dílčích cílů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 vypracování charakteristiky projektu se používá metoda logického rámce LFM (Logical Framework Method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. Analýza cí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2. Stanovení logiky interven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3. Definování indikátor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4. Definování předpokladů a riz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5. Stanovení činností a jejich posloupnosti (harmonogram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6. Stanovení a popis metod realizace a organ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7. Stanovení vstupů a rozpoč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E1B3-ECDC-4114-9673-8331A99010D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83E41E-A86F-4FCB-AD07-51B24B22AE8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atice logického rámc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6899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etoda logického rámce používá pro charakteristiku projektu matici, která se nazývá </a:t>
            </a:r>
            <a:r>
              <a:rPr b="0" lang="cs-CZ" sz="1800" spc="-1" strike="noStrike">
                <a:solidFill>
                  <a:srgbClr val="330033"/>
                </a:solidFill>
                <a:latin typeface="Arial"/>
              </a:rPr>
              <a:t>matice logického rám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LFM (Logical Framework Matrix) umožňuje vypracovat komplexní návrh projekt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187280" y="2492280"/>
          <a:ext cx="7210440" cy="2224080"/>
        </p:xfrm>
        <a:graphic>
          <a:graphicData uri="http://schemas.openxmlformats.org/drawingml/2006/table">
            <a:tbl>
              <a:tblPr/>
              <a:tblGrid>
                <a:gridCol w="1442880"/>
                <a:gridCol w="1441800"/>
                <a:gridCol w="1441440"/>
                <a:gridCol w="1441440"/>
                <a:gridCol w="1442880"/>
              </a:tblGrid>
              <a:tr h="751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pis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jektivně-ověřitelné ukazate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působ &amp; prostředky ověř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dpoklady&amp; rizi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Úč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í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stu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Čin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1042920" y="4797360"/>
            <a:ext cx="734544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33"/>
                </a:solidFill>
                <a:latin typeface="Arial"/>
              </a:rPr>
              <a:t>Účel projektu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mysl realizace projektu. 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Účel n. hlavní cíl projektu je pouze jeden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330033"/>
                </a:solidFill>
                <a:latin typeface="Arial"/>
              </a:rPr>
              <a:t>Cí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pecifické vymezení určitého cílového resp. žádoucího stavu (výstupů), kterých má být realizací projektu dosaženo. </a:t>
            </a:r>
            <a:r>
              <a:rPr b="0" lang="en-US" sz="1800" spc="-1" strike="noStrike">
                <a:solidFill>
                  <a:srgbClr val="330033"/>
                </a:solidFill>
                <a:latin typeface="Arial"/>
              </a:rPr>
              <a:t>Výstup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onkrétní výsledky realizace projektu. </a:t>
            </a:r>
            <a:r>
              <a:rPr b="0" lang="en-US" sz="1800" spc="-1" strike="noStrike">
                <a:solidFill>
                  <a:srgbClr val="330033"/>
                </a:solidFill>
                <a:latin typeface="Arial"/>
              </a:rPr>
              <a:t>Činnost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oubor prováděcích operací vedoucích k dosažení výstupů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741F-1C69-4B6C-A133-B4F870B6CC8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88ED77-8172-43D7-9A0E-9E543B2CB03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12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Stanovení logiky intervenc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ředstavuje: narativní popis projektu na 4 úrovních 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účel</a:t>
            </a:r>
            <a:r>
              <a:rPr b="0" lang="en-US" sz="2400" spc="-1" strike="noStrike">
                <a:solidFill>
                  <a:srgbClr val="990033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cíle</a:t>
            </a:r>
            <a:r>
              <a:rPr b="0" lang="en-US" sz="2400" spc="-1" strike="noStrike">
                <a:solidFill>
                  <a:srgbClr val="990033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výstupy</a:t>
            </a:r>
            <a:r>
              <a:rPr b="0" lang="en-US" sz="2400" spc="-1" strike="noStrike">
                <a:solidFill>
                  <a:srgbClr val="990033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činnosti</a:t>
            </a: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matici logického rám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042920" y="2565360"/>
          <a:ext cx="7499160" cy="2125800"/>
        </p:xfrm>
        <a:graphic>
          <a:graphicData uri="http://schemas.openxmlformats.org/drawingml/2006/table">
            <a:tbl>
              <a:tblPr/>
              <a:tblGrid>
                <a:gridCol w="1500120"/>
                <a:gridCol w="1500120"/>
                <a:gridCol w="1498680"/>
                <a:gridCol w="1500480"/>
                <a:gridCol w="1499760"/>
              </a:tblGrid>
              <a:tr h="767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pis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jektivně-ověřitelné ukazate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působ &amp; prostředky ověř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dpoklady&amp; rizi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Úč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í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stu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Čin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ccff"/>
                          </a:solidFill>
                          <a:latin typeface="Times New Roman"/>
                        </a:rPr>
                        <a:t>Vstup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ccff"/>
                          </a:solidFill>
                          <a:latin typeface="Times New Roman"/>
                        </a:rPr>
                        <a:t>Náklad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>
            <a:off x="1042920" y="5056200"/>
            <a:ext cx="756144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Stanovení logiky intervenc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e obvykle dostačující informace pro formulování základní představy projektu, která je podkladem pro další vyjednávání s partn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2286000" y="3006720"/>
            <a:ext cx="4800600" cy="1574640"/>
            <a:chOff x="2286000" y="3006720"/>
            <a:chExt cx="4800600" cy="1574640"/>
          </a:xfrm>
        </p:grpSpPr>
        <p:sp>
          <p:nvSpPr>
            <p:cNvPr id="185" name=""/>
            <p:cNvSpPr/>
            <p:nvPr/>
          </p:nvSpPr>
          <p:spPr>
            <a:xfrm flipV="1">
              <a:off x="2286000" y="3006720"/>
              <a:ext cx="0" cy="1574640"/>
            </a:xfrm>
            <a:prstGeom prst="line">
              <a:avLst/>
            </a:prstGeom>
            <a:ln w="9360">
              <a:solidFill>
                <a:srgbClr val="cccc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086600" y="3006720"/>
              <a:ext cx="0" cy="1574640"/>
            </a:xfrm>
            <a:prstGeom prst="line">
              <a:avLst/>
            </a:prstGeom>
            <a:ln w="9360">
              <a:solidFill>
                <a:srgbClr val="cccc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200400" y="4149720"/>
              <a:ext cx="2819520" cy="0"/>
            </a:xfrm>
            <a:prstGeom prst="line">
              <a:avLst/>
            </a:prstGeom>
            <a:ln w="9360">
              <a:solidFill>
                <a:srgbClr val="00cc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200400" y="3387600"/>
              <a:ext cx="2819520" cy="0"/>
            </a:xfrm>
            <a:prstGeom prst="line">
              <a:avLst/>
            </a:prstGeom>
            <a:ln w="9360">
              <a:solidFill>
                <a:srgbClr val="00cc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200400" y="3768480"/>
              <a:ext cx="2819520" cy="0"/>
            </a:xfrm>
            <a:prstGeom prst="line">
              <a:avLst/>
            </a:prstGeom>
            <a:ln w="9360">
              <a:solidFill>
                <a:srgbClr val="00cc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89EC-323F-4010-8ED7-DE187B037A2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0E1D96-E67B-477C-AF2E-2FB047A302B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ojek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330033"/>
                </a:solidFill>
                <a:latin typeface="Arial"/>
              </a:rPr>
              <a:t>Projek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je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do</a:t>
            </a: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časná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časově omezená) </a:t>
            </a: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složitějš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komplex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nerutinn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nelineár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zpravidla jednorázová neopakovatelná) operace resp. proces, jehož výstupem má být obvykle jedinečný produkt resp. služb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bvykle vyžaduje multiprofesní realizační tým, na který se aplikují formalizované metody plánování a řízení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8D1C-6C80-4114-AA56-FA7A6A1F8D6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CEEDC6-EB10-4417-9B24-D29AB36C45B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33520" y="471240"/>
            <a:ext cx="8153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tudie proveditelnost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1844640"/>
            <a:ext cx="8381880" cy="38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ditelnost projekt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Technic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a) obs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b) rozs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c) technické řeš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Operač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a) č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b) kapacity a zdroje (zejména lidské zdroj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Finanč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Riz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Specifikace přínosů (finanční analýz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5689-BE9B-4694-BE5C-41ABBECB17A7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7B0AE6-8A7F-409C-943C-CB2AA9576BB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16120" y="534960"/>
            <a:ext cx="807696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etody síťové analýz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41480" y="2300400"/>
            <a:ext cx="7826040" cy="21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zlově orientované grafy (hranově orientované graf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oda CPM - deterministická (metoda PERT - stochastická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ýza času - kritická ces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ýza nákladů - průběh nákladů v č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ýza zdrojů - potřeba  a využití zdrojů v č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ýpočty se provádějí pomocí počítačů (MS Proj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708B-5A82-4B8A-B582-81BEB02CDEA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BA7ACC-CD36-413A-BA35-1EC5DF864E2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Řízení projektu se skládá z několika základních manažerských činností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ce projektových cílů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ánování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dení lidských zdrojů – cílem je zajistit včasné a efektivní provedení naplánovaných činností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ování – sledování aktuálního stavu projektu a odhalení odchylek od aktuálního stavu (při odhalení odchylek je třeba aktualizovat plán, případně změnit styl vedení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končení projektu – ověření, že zadání projektu bylo splněno; předání výsledků projektu (například předání stavby a dokument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4108-697C-4A22-B8E3-7D37E61EB26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B82118-9D4D-486B-B495-0E647EF3B5B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Zkráceně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ý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té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aliz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1EB6-5DDC-4B68-947A-943D561502A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DE6677-2A15-4CB8-8B37-FCF8D6D8205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Základní pojm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íťový graf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orientovaný, neorientovaně souvislý, hranově ohodnocený, acyklický graf, vyjadřující závislost dílčích činností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rchol SG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představuje časovou událost – začátek nebo konec čin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Hrana SG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představuje činnost (potřebuje čas, zdroje, má dynamický charak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Činnos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je definována počátečním a koncovým uz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Kritická činnos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prodloužení doby trvání této činnosti, prodlouží dobu trvání celého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Kritická cest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sled kritických činností mezi začátkem a koncem projektu. Kritická cesta je definována jako (časově) nejdelší možná cesta z počátečního bodu grafu do koncového bodu graf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F5CB-B7CD-4435-8C53-102AB02254E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24CCF8-89FB-421C-951D-AC8D0E5B331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Každý graf projektu je specifický tím, že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zi libovolnou dvojicí kontrolních bodů vede maximálně jedna činnost. Pokud tomu tak v praxi není, lze pomocí tzv. fiktivních činností (činností s nulovou dobou trvání a s nulovými náklady) přejít na nový síťový graf projektu, pro který je již tento předpoklad splně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á právě jeden počáteční bod – kontrolní bod, ve kterém činnosti pouze začínají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á právě jeden koncový bod – kontrolní bod, ve kterém činnosti pouze konč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ždá hrana grafu je ohodnocena – ke každé hraně (činnosti) je přiřazena její časová a finanční náročnost (jedná o hranově ohodnocený síťový graf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01D3-A016-4809-91B2-47454A93BEB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2E21CA-17FC-49AA-A16B-C564AAE789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Uzlově orientované graf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1981080"/>
            <a:ext cx="7772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zly představují činnosti s udáním ča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rany představují označení posloupnosti činnost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73160" y="4578480"/>
            <a:ext cx="5968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825640" y="3892680"/>
            <a:ext cx="5968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25640" y="5416560"/>
            <a:ext cx="5968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73560" y="4654440"/>
            <a:ext cx="67320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178680" y="4654440"/>
            <a:ext cx="596880" cy="52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1682640" y="4184280"/>
            <a:ext cx="1130400" cy="62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682640" y="4959360"/>
            <a:ext cx="1130400" cy="67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359160" y="4121280"/>
            <a:ext cx="901800" cy="825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349880" y="5416560"/>
            <a:ext cx="67284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35480" y="571500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273560" y="3816360"/>
            <a:ext cx="5968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435480" y="411480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5035680" y="4946760"/>
            <a:ext cx="1130040" cy="77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959360" y="4952880"/>
            <a:ext cx="1054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959360" y="4121280"/>
            <a:ext cx="1130400" cy="74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702560" y="4578480"/>
            <a:ext cx="5968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788160" y="487692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61280" y="455760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805120" y="379584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96840" y="531972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253040" y="371952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244400" y="463392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321080" y="5319720"/>
            <a:ext cx="36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49160" y="4557600"/>
            <a:ext cx="41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601400" y="4481640"/>
            <a:ext cx="486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348560" y="478620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864520" y="410040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940480" y="554832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464720" y="562464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473000" y="478620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473000" y="394812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369480" y="478620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902000" y="471024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1CD0-B2CA-49EF-82CF-A7400829B06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D23BCC-B125-4C87-8372-DB1070D09DB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5443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Časová analýz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itická cesta - nejdelší cesta graf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Časové rezer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jdříve možné začát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jpozději nutné začát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jdříve možné ko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jpozději nutné ko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9F80-1975-4FEF-82E2-6036C21695B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2DA605-4AAC-4062-9115-C8C9E55144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5443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nalýza náklad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istogram průběhu nákladů (křivky průběhu nákladů A,B,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dely průběhu náklad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ypy náklad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ashflo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zor na Cost Benefit Analýzu (viz ekonomická analýza projekt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8577-5C36-492B-B197-5B4AEEA40A5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606496-ADDB-4910-93B6-23AE20DCF93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5443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nalýza zdroj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istogram potřeby zd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užití zd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etížení zdroje s ohledem na limit zd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zor na multiprojekové sdílení zdrojů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A5E4-C155-4A4D-A48D-D0C53AA4FB0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AAE88F-8841-40E5-921C-5357B65B2E4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o je projekt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476360" y="2060640"/>
            <a:ext cx="6321600" cy="368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1001-A684-45E4-AED9-2F519EB9FA5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5307E4-41D7-4654-B25E-30E9B18A62C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762120" y="1523880"/>
            <a:ext cx="83818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Ganttův (úsečkový, čárový) diagram představuje vyjádření souslednosti činností v čase. Obvykle se vykresluje na základě provedené síťové analýz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295280" y="2666520"/>
            <a:ext cx="6222960" cy="2916000"/>
            <a:chOff x="1295280" y="2666520"/>
            <a:chExt cx="6222960" cy="2916000"/>
          </a:xfrm>
        </p:grpSpPr>
        <p:sp>
          <p:nvSpPr>
            <p:cNvPr id="245" name=""/>
            <p:cNvSpPr/>
            <p:nvPr/>
          </p:nvSpPr>
          <p:spPr>
            <a:xfrm>
              <a:off x="6070320" y="5245200"/>
              <a:ext cx="1447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Č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1295280" y="2666520"/>
              <a:ext cx="6006600" cy="2603520"/>
              <a:chOff x="1295280" y="2666520"/>
              <a:chExt cx="6006600" cy="2603520"/>
            </a:xfrm>
          </p:grpSpPr>
          <p:grpSp>
            <p:nvGrpSpPr>
              <p:cNvPr id="247" name=""/>
              <p:cNvGrpSpPr/>
              <p:nvPr/>
            </p:nvGrpSpPr>
            <p:grpSpPr>
              <a:xfrm>
                <a:off x="2501640" y="2666520"/>
                <a:ext cx="4800240" cy="2603520"/>
                <a:chOff x="2501640" y="2666520"/>
                <a:chExt cx="4800240" cy="2603520"/>
              </a:xfrm>
            </p:grpSpPr>
            <p:grpSp>
              <p:nvGrpSpPr>
                <p:cNvPr id="248" name=""/>
                <p:cNvGrpSpPr/>
                <p:nvPr/>
              </p:nvGrpSpPr>
              <p:grpSpPr>
                <a:xfrm>
                  <a:off x="2501640" y="2666520"/>
                  <a:ext cx="4800240" cy="2603520"/>
                  <a:chOff x="2501640" y="2666520"/>
                  <a:chExt cx="4800240" cy="260352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 flipV="1">
                    <a:off x="2501640" y="2666520"/>
                    <a:ext cx="0" cy="2590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2501640" y="5257800"/>
                    <a:ext cx="4800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2501640" y="4952880"/>
                    <a:ext cx="472428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2514240" y="4317840"/>
                    <a:ext cx="472392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2514240" y="4648320"/>
                    <a:ext cx="472392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2514240" y="3683160"/>
                    <a:ext cx="472392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2514240" y="4000680"/>
                    <a:ext cx="472392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2514240" y="3352680"/>
                    <a:ext cx="472392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2514240" y="3009960"/>
                    <a:ext cx="472392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 flipV="1">
                    <a:off x="2818800" y="27432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 flipV="1">
                    <a:off x="3517560" y="2730240"/>
                    <a:ext cx="0" cy="250164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 flipV="1">
                    <a:off x="3161880" y="2730240"/>
                    <a:ext cx="0" cy="250164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 flipV="1">
                    <a:off x="6946560" y="2768400"/>
                    <a:ext cx="0" cy="250164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 flipV="1">
                    <a:off x="3847680" y="27432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 flipV="1">
                    <a:off x="4177800" y="27558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 flipV="1">
                    <a:off x="4495320" y="27558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 flipV="1">
                    <a:off x="4825440" y="27432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 flipV="1">
                    <a:off x="5193720" y="27432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 flipV="1">
                    <a:off x="5562000" y="27558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 flipV="1">
                    <a:off x="5917680" y="27432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V="1">
                    <a:off x="6247800" y="27558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V="1">
                    <a:off x="6603480" y="2730240"/>
                    <a:ext cx="0" cy="250164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2539440" y="3009960"/>
                  <a:ext cx="3999960" cy="1942920"/>
                  <a:chOff x="2539440" y="3009960"/>
                  <a:chExt cx="3999960" cy="1942920"/>
                </a:xfrm>
              </p:grpSpPr>
              <p:sp>
                <p:nvSpPr>
                  <p:cNvPr id="272" name=""/>
                  <p:cNvSpPr/>
                  <p:nvPr/>
                </p:nvSpPr>
                <p:spPr>
                  <a:xfrm>
                    <a:off x="2539440" y="3009960"/>
                    <a:ext cx="82512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3351960" y="3035160"/>
                    <a:ext cx="0" cy="304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2971080" y="4000680"/>
                    <a:ext cx="105372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3364560" y="3352680"/>
                    <a:ext cx="44424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3796560" y="3683160"/>
                    <a:ext cx="74880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3796560" y="3365640"/>
                    <a:ext cx="0" cy="304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3987000" y="4317840"/>
                    <a:ext cx="57096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4025160" y="4025880"/>
                    <a:ext cx="0" cy="304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4545720" y="3695760"/>
                    <a:ext cx="0" cy="952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4494960" y="4343400"/>
                    <a:ext cx="0" cy="304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4545720" y="4648320"/>
                    <a:ext cx="115524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5701320" y="4952880"/>
                    <a:ext cx="83808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5701320" y="4648320"/>
                    <a:ext cx="0" cy="304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5244120" y="3009960"/>
                    <a:ext cx="43164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5676120" y="3009960"/>
                    <a:ext cx="0" cy="1942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87" name=""/>
              <p:cNvSpPr/>
              <p:nvPr/>
            </p:nvSpPr>
            <p:spPr>
              <a:xfrm>
                <a:off x="1295280" y="2857320"/>
                <a:ext cx="1447560" cy="229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Činnost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Činnost 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Činnost 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Činnost 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Činnost 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Činnost 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Činnost 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076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Ganttovy diagram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1291-F410-45AA-915D-B7FB010856F6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678C4A-62BA-47F6-BE85-6B6C8802E7D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ýpočet celkových nákladů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33520" y="2003400"/>
            <a:ext cx="8381880" cy="40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Stanovení vstupů a rozpočt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ředpokládá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Stanovení prostředků potřebných pro realizaci každé čin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. pro každý předpokládaný výs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a) lidské zdroje – mzdy, cestov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b) materiální zdroje a potřebné vybavení, spotřební materiá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c) finanční zdro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Vyjádření prostředků v nákladových kategorií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Specifikování jednotek, množství a jednotkových ná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Určení zdroje financ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Stanovení harmonogramu čerpání rozpo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Rozdělení nákladů do kategorií rozpočtu a pří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zpočtových tabulek </a:t>
            </a: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rozpočtových vzorc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2311-1F05-4DB4-9AE6-31D2AE470BD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71459C-AE4F-4382-8694-ABA35840C5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611280" y="1700280"/>
            <a:ext cx="82296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ánování zdroj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54040" y="2133720"/>
            <a:ext cx="85899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ánování zdrojů představuje proces agregovaného a detailního rozvrhování potřebných a disponibilních zdrojů v čase, odhadování metrik na základě odhadů spotřeby a jejich následná optimaliz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714680" y="3646080"/>
            <a:ext cx="5763960" cy="2017440"/>
            <a:chOff x="1714680" y="3646080"/>
            <a:chExt cx="5763960" cy="2017440"/>
          </a:xfrm>
        </p:grpSpPr>
        <p:grpSp>
          <p:nvGrpSpPr>
            <p:cNvPr id="294" name=""/>
            <p:cNvGrpSpPr/>
            <p:nvPr/>
          </p:nvGrpSpPr>
          <p:grpSpPr>
            <a:xfrm>
              <a:off x="1714680" y="3646080"/>
              <a:ext cx="3621960" cy="2017440"/>
              <a:chOff x="1714680" y="3646080"/>
              <a:chExt cx="3621960" cy="2017440"/>
            </a:xfrm>
          </p:grpSpPr>
          <p:grpSp>
            <p:nvGrpSpPr>
              <p:cNvPr id="295" name=""/>
              <p:cNvGrpSpPr/>
              <p:nvPr/>
            </p:nvGrpSpPr>
            <p:grpSpPr>
              <a:xfrm>
                <a:off x="2014200" y="3646080"/>
                <a:ext cx="3212640" cy="1734840"/>
                <a:chOff x="2014200" y="3646080"/>
                <a:chExt cx="3212640" cy="1734840"/>
              </a:xfrm>
            </p:grpSpPr>
            <p:sp>
              <p:nvSpPr>
                <p:cNvPr id="296" name=""/>
                <p:cNvSpPr/>
                <p:nvPr/>
              </p:nvSpPr>
              <p:spPr>
                <a:xfrm flipV="1">
                  <a:off x="2014200" y="3646080"/>
                  <a:ext cx="0" cy="1726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2014200" y="5373360"/>
                  <a:ext cx="321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014200" y="5169960"/>
                  <a:ext cx="316188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2022840" y="4746600"/>
                  <a:ext cx="316152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2022840" y="4966920"/>
                  <a:ext cx="316152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2022840" y="4323600"/>
                  <a:ext cx="316152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022840" y="4535280"/>
                  <a:ext cx="316152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2022840" y="4103280"/>
                  <a:ext cx="316152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2022840" y="3875040"/>
                  <a:ext cx="316152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flipV="1">
                  <a:off x="2226600" y="369720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flipV="1">
                  <a:off x="2694240" y="3688200"/>
                  <a:ext cx="0" cy="16671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flipV="1">
                  <a:off x="2456280" y="3688200"/>
                  <a:ext cx="0" cy="16671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flipV="1">
                  <a:off x="4988880" y="3713760"/>
                  <a:ext cx="0" cy="16671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flipV="1">
                  <a:off x="2914920" y="369720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flipV="1">
                  <a:off x="3135960" y="370548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flipV="1">
                  <a:off x="3348360" y="370548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flipV="1">
                  <a:off x="3569400" y="369720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flipV="1">
                  <a:off x="3816000" y="369720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flipV="1">
                  <a:off x="4062240" y="370548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flipV="1">
                  <a:off x="4300560" y="369720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flipV="1">
                  <a:off x="4521240" y="370548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flipV="1">
                  <a:off x="4759560" y="3688200"/>
                  <a:ext cx="0" cy="16671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8" name=""/>
              <p:cNvSpPr/>
              <p:nvPr/>
            </p:nvSpPr>
            <p:spPr>
              <a:xfrm>
                <a:off x="2039760" y="4967280"/>
                <a:ext cx="4140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368600" y="5356440"/>
                <a:ext cx="968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Ča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6200000">
                <a:off x="1384560" y="4325400"/>
                <a:ext cx="966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droj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>
                <a:off x="2450880" y="4103640"/>
                <a:ext cx="0" cy="857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464920" y="4103640"/>
                <a:ext cx="4568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V="1">
                <a:off x="2909520" y="4095360"/>
                <a:ext cx="0" cy="211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916000" y="4314960"/>
                <a:ext cx="2091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V="1">
                <a:off x="3122280" y="4314600"/>
                <a:ext cx="0" cy="447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144600" y="4746600"/>
                <a:ext cx="6948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3819240" y="4737240"/>
                <a:ext cx="0" cy="449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841560" y="5170680"/>
                <a:ext cx="6948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022120" y="4332240"/>
                <a:ext cx="66168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V="1">
                <a:off x="2690640" y="4314600"/>
                <a:ext cx="0" cy="245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711160" y="4535640"/>
                <a:ext cx="64404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V="1">
                <a:off x="3342960" y="4525920"/>
                <a:ext cx="0" cy="4413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365280" y="4967280"/>
                <a:ext cx="71244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V="1">
                <a:off x="4057200" y="4949640"/>
                <a:ext cx="0" cy="244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087440" y="5203800"/>
                <a:ext cx="4395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598560" y="3929040"/>
                <a:ext cx="1402920" cy="276480"/>
              </a:xfrm>
              <a:prstGeom prst="rect">
                <a:avLst/>
              </a:prstGeom>
              <a:solidFill>
                <a:srgbClr val="0000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e1"/>
                    </a:solidFill>
                    <a:latin typeface="Times New Roman"/>
                  </a:rPr>
                  <a:t>Potřebné zdroj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595320" y="4256280"/>
                <a:ext cx="1415880" cy="27648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e1"/>
                    </a:solidFill>
                    <a:latin typeface="Times New Roman"/>
                  </a:rPr>
                  <a:t>Disponibilní zdroj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5283360" y="3646080"/>
              <a:ext cx="2195280" cy="2017080"/>
              <a:chOff x="5283360" y="3646080"/>
              <a:chExt cx="2195280" cy="2017080"/>
            </a:xfrm>
          </p:grpSpPr>
          <p:sp>
            <p:nvSpPr>
              <p:cNvPr id="339" name=""/>
              <p:cNvSpPr/>
              <p:nvPr/>
            </p:nvSpPr>
            <p:spPr>
              <a:xfrm>
                <a:off x="6513480" y="5356080"/>
                <a:ext cx="965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Ča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6200000">
                <a:off x="4546440" y="4398840"/>
                <a:ext cx="1780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racnos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1" name=""/>
              <p:cNvGrpSpPr/>
              <p:nvPr/>
            </p:nvGrpSpPr>
            <p:grpSpPr>
              <a:xfrm>
                <a:off x="5575320" y="3646080"/>
                <a:ext cx="1612800" cy="1725840"/>
                <a:chOff x="5575320" y="3646080"/>
                <a:chExt cx="1612800" cy="1725840"/>
              </a:xfrm>
            </p:grpSpPr>
            <p:grpSp>
              <p:nvGrpSpPr>
                <p:cNvPr id="342" name=""/>
                <p:cNvGrpSpPr/>
                <p:nvPr/>
              </p:nvGrpSpPr>
              <p:grpSpPr>
                <a:xfrm>
                  <a:off x="5575320" y="3646080"/>
                  <a:ext cx="1612800" cy="1725840"/>
                  <a:chOff x="5575320" y="3646080"/>
                  <a:chExt cx="1612800" cy="1725840"/>
                </a:xfrm>
              </p:grpSpPr>
              <p:sp>
                <p:nvSpPr>
                  <p:cNvPr id="343" name=""/>
                  <p:cNvSpPr/>
                  <p:nvPr/>
                </p:nvSpPr>
                <p:spPr>
                  <a:xfrm flipV="1">
                    <a:off x="5575320" y="3646080"/>
                    <a:ext cx="0" cy="1725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5575320" y="5371920"/>
                    <a:ext cx="1612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5575320" y="5168880"/>
                    <a:ext cx="156204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5583600" y="4745880"/>
                    <a:ext cx="155340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5583600" y="4965840"/>
                    <a:ext cx="155340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5583600" y="4322880"/>
                    <a:ext cx="155340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5583600" y="4534200"/>
                    <a:ext cx="155340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5583600" y="4102920"/>
                    <a:ext cx="155340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5583600" y="3874680"/>
                    <a:ext cx="155340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 flipV="1">
                    <a:off x="5786640" y="3697200"/>
                    <a:ext cx="0" cy="16660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 flipV="1">
                    <a:off x="6251400" y="3688560"/>
                    <a:ext cx="0" cy="16660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 flipV="1">
                    <a:off x="6014880" y="3688560"/>
                    <a:ext cx="0" cy="16660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 flipV="1">
                    <a:off x="6471360" y="3697200"/>
                    <a:ext cx="0" cy="16660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 flipV="1">
                    <a:off x="6691320" y="3705480"/>
                    <a:ext cx="0" cy="16660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 flipV="1">
                    <a:off x="6902640" y="3705480"/>
                    <a:ext cx="0" cy="16660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8" name=""/>
                <p:cNvSpPr/>
                <p:nvPr/>
              </p:nvSpPr>
              <p:spPr>
                <a:xfrm>
                  <a:off x="5642640" y="3874680"/>
                  <a:ext cx="1251360" cy="1074240"/>
                </a:xfrm>
                <a:custGeom>
                  <a:avLst/>
                  <a:gdLst/>
                  <a:ahLst/>
                  <a:rect l="l" t="t" r="r" b="b"/>
                  <a:pathLst>
                    <a:path w="1184" h="968">
                      <a:moveTo>
                        <a:pt x="0" y="968"/>
                      </a:moveTo>
                      <a:cubicBezTo>
                        <a:pt x="25" y="931"/>
                        <a:pt x="104" y="800"/>
                        <a:pt x="152" y="744"/>
                      </a:cubicBezTo>
                      <a:cubicBezTo>
                        <a:pt x="200" y="688"/>
                        <a:pt x="232" y="664"/>
                        <a:pt x="288" y="632"/>
                      </a:cubicBezTo>
                      <a:cubicBezTo>
                        <a:pt x="344" y="600"/>
                        <a:pt x="396" y="580"/>
                        <a:pt x="488" y="552"/>
                      </a:cubicBezTo>
                      <a:cubicBezTo>
                        <a:pt x="580" y="524"/>
                        <a:pt x="744" y="504"/>
                        <a:pt x="840" y="464"/>
                      </a:cubicBezTo>
                      <a:cubicBezTo>
                        <a:pt x="936" y="424"/>
                        <a:pt x="1012" y="364"/>
                        <a:pt x="1064" y="312"/>
                      </a:cubicBezTo>
                      <a:cubicBezTo>
                        <a:pt x="1116" y="260"/>
                        <a:pt x="1132" y="204"/>
                        <a:pt x="1152" y="152"/>
                      </a:cubicBezTo>
                      <a:cubicBezTo>
                        <a:pt x="1172" y="100"/>
                        <a:pt x="1177" y="32"/>
                        <a:pt x="1184" y="0"/>
                      </a:cubicBezTo>
                    </a:path>
                  </a:pathLst>
                </a:custGeom>
                <a:noFill/>
                <a:ln w="936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otřeba zdrojů pro realizac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03B9-E367-4533-ADFA-390A5FD43A5C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66091E-D020-4D6C-B3F2-26CE2ABC36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říklad CP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826920" y="1628640"/>
          <a:ext cx="7772040" cy="4530600"/>
        </p:xfrm>
        <a:graphic>
          <a:graphicData uri="http://schemas.openxmlformats.org/drawingml/2006/table">
            <a:tbl>
              <a:tblPr/>
              <a:tblGrid>
                <a:gridCol w="1024560"/>
                <a:gridCol w="3947400"/>
                <a:gridCol w="1224360"/>
                <a:gridCol w="1575720"/>
              </a:tblGrid>
              <a:tr h="82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Činno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Popis činnos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Doba trvání (týdn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Předchozí činnos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výběr a nákup vhodného objekt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žádn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0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zpracování projekt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obsazení pozice manaže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výběr personálu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B,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rekonstrukce a vybavení objekt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školení personál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výběr sortimentu zbož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B,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uzavření smluv s dodavate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nákup zbož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E,F,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rekla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45FD-41B8-484B-98DD-1198342D4445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30621C-A64E-4A0E-8927-88B7BDEE324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317520" y="3162240"/>
            <a:ext cx="81288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994040" y="3162240"/>
            <a:ext cx="81252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517920" y="3162240"/>
            <a:ext cx="81288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889520" y="3162240"/>
            <a:ext cx="81288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337440" y="3162240"/>
            <a:ext cx="88884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937640" y="3162240"/>
            <a:ext cx="88884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143000" y="3606840"/>
            <a:ext cx="8380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819520" y="360684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343400" y="3606840"/>
            <a:ext cx="5335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715000" y="3606840"/>
            <a:ext cx="6094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238880" y="360684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517920" y="1486080"/>
            <a:ext cx="812880" cy="812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889520" y="5067360"/>
            <a:ext cx="888840" cy="888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337440" y="5067360"/>
            <a:ext cx="888840" cy="888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666880" y="2235240"/>
            <a:ext cx="990720" cy="990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191120" y="3911760"/>
            <a:ext cx="914400" cy="12189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791320" y="5511960"/>
            <a:ext cx="5331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7086600" y="3911760"/>
            <a:ext cx="1066680" cy="12189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267080" y="2158920"/>
            <a:ext cx="2210040" cy="1143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886200" y="23875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6781680" y="398772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34960" y="3227400"/>
            <a:ext cx="378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211480" y="3303720"/>
            <a:ext cx="377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643200" y="1550880"/>
            <a:ext cx="622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659040" y="3227400"/>
            <a:ext cx="454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106960" y="3227400"/>
            <a:ext cx="530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106960" y="5208480"/>
            <a:ext cx="530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554880" y="5208480"/>
            <a:ext cx="377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54880" y="3227400"/>
            <a:ext cx="4539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8231040" y="3303720"/>
            <a:ext cx="378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220760" y="3075120"/>
            <a:ext cx="453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144440" y="3684600"/>
            <a:ext cx="606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(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287440" y="2160720"/>
            <a:ext cx="1140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B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73240" y="3075120"/>
            <a:ext cx="454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897280" y="3608280"/>
            <a:ext cx="911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183280" y="2084400"/>
            <a:ext cx="1596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E(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87640" y="2465280"/>
            <a:ext cx="136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X1(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421160" y="3075120"/>
            <a:ext cx="606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344840" y="3608280"/>
            <a:ext cx="68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792760" y="3075120"/>
            <a:ext cx="530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716440" y="3608280"/>
            <a:ext cx="68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392960" y="3075120"/>
            <a:ext cx="606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240680" y="3608280"/>
            <a:ext cx="911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802040" y="4294080"/>
            <a:ext cx="1521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G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792760" y="4979880"/>
            <a:ext cx="530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716440" y="5513400"/>
            <a:ext cx="758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173640" y="4294080"/>
            <a:ext cx="1444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X2 (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697880" y="4294080"/>
            <a:ext cx="106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J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7F99-3494-414F-B5FE-680A7533D1F3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552635-594E-4341-8C95-F4D204C88F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íťový graf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17520" y="3376440"/>
            <a:ext cx="81288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994040" y="3376440"/>
            <a:ext cx="81252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17920" y="3376440"/>
            <a:ext cx="81288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889520" y="3376440"/>
            <a:ext cx="81288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337440" y="3376440"/>
            <a:ext cx="88884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937640" y="3376440"/>
            <a:ext cx="88884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143000" y="3821040"/>
            <a:ext cx="83808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819520" y="382104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343400" y="3821040"/>
            <a:ext cx="5335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715000" y="3821040"/>
            <a:ext cx="6094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238880" y="3821040"/>
            <a:ext cx="68580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17920" y="1700280"/>
            <a:ext cx="81288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889520" y="5281560"/>
            <a:ext cx="888840" cy="889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37440" y="5281560"/>
            <a:ext cx="888840" cy="889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2666880" y="2449440"/>
            <a:ext cx="990720" cy="9907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191120" y="4125960"/>
            <a:ext cx="914400" cy="1219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791320" y="5726160"/>
            <a:ext cx="5331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7086600" y="4125600"/>
            <a:ext cx="1066680" cy="1219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267080" y="2373480"/>
            <a:ext cx="2210040" cy="11430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886200" y="260208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6781680" y="420192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34960" y="3441600"/>
            <a:ext cx="378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211480" y="3517920"/>
            <a:ext cx="377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643200" y="1765440"/>
            <a:ext cx="622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659040" y="3441600"/>
            <a:ext cx="454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106960" y="3441600"/>
            <a:ext cx="530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106960" y="5423040"/>
            <a:ext cx="530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554880" y="5423040"/>
            <a:ext cx="377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554880" y="3441600"/>
            <a:ext cx="4539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231040" y="3517920"/>
            <a:ext cx="378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220760" y="3289320"/>
            <a:ext cx="453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144440" y="3898800"/>
            <a:ext cx="606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(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287440" y="2374920"/>
            <a:ext cx="1140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B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973240" y="3289320"/>
            <a:ext cx="454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897280" y="3822840"/>
            <a:ext cx="911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183280" y="2298600"/>
            <a:ext cx="1596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E(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887640" y="2679840"/>
            <a:ext cx="136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X1(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421160" y="3289320"/>
            <a:ext cx="606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344840" y="3822840"/>
            <a:ext cx="68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792760" y="3289320"/>
            <a:ext cx="530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716440" y="3822840"/>
            <a:ext cx="68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392960" y="3289320"/>
            <a:ext cx="606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236000" y="3933720"/>
            <a:ext cx="911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802040" y="4508640"/>
            <a:ext cx="1521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G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792760" y="5194440"/>
            <a:ext cx="530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716440" y="5727600"/>
            <a:ext cx="758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173640" y="4508640"/>
            <a:ext cx="1444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X2 (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697880" y="4508640"/>
            <a:ext cx="106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J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5CDB-1A28-4E0D-918D-4609B4530923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4A4A82-DC1D-4EEC-BEF1-E5C33696669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ER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ozptyl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vyjadřuje míru rozptýlení hodnot náhodné proměnné okolo stř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měrodatná odchylk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odmocnina rozptylu – měří variabilitu v původních jednotkách náhodné proměn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Očekávaný čas trvání činnosti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střední hodnota) – převádí tři časové odhady dob trvání činností v jediný odhad střední hodnoty doby trvání činn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 – optimistický odhad doby trvání čin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 – modální odhad doby trvání čin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 – pesimistický odhad doby trvání čin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eij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=(a+4m+b)/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j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b-a)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/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FD53-D594-4E14-82B5-2981FCC8C37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110AE7-B6EB-4FE2-A00A-4E702B52CBE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ou-li známy (či odhadnuty) parametry pro všechny činnosti projektu, lze zjistit pomocí algoritmu kritickou cestu projektu. Stačí místo hodnot očekávaných dob trvání (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Tij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 dosadit střední hodnoty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Arial"/>
              </a:rPr>
              <a:t>e ij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počítané z výše uvedených vztah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řední hodnota celého projektu je rovna součtu středních hodnot činností ležících na kritické cestě graf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o samé platí i pro rozptyl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xistuje-li více kritických cest, je třeba vybrat tu s největším rozpty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140B-BD21-4A35-928D-030D1637747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84A5D7-7E0A-49FC-9571-41195C084BD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elková doba projektu se dá vypočítat jako součet dob trvání činností ležících na kritické cestě. (T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by trvání jsou nezávislé náhodné veličiny s Beta rozdělením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entrální limitní věta (Ljupunovova) říká, že normalizovaný součet nezávislých náhodných veličin lze pro dostatečně velký počet sčítanců aproximovat standardním normálním rozdělení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rmované proměnné jsou ve tva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u= (x-T</a:t>
            </a:r>
            <a:r>
              <a:rPr b="0" lang="cs-CZ" sz="21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)/ </a:t>
            </a:r>
            <a:r>
              <a:rPr b="0" lang="el-GR" sz="21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F71C-77C6-4949-B167-1AAB606287E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C1D983-4B2D-4638-AFC7-F9CC1B5A68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novení pravděpodobnosti dodržení termí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ypočteme hodnoty normované proměnné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u = (x-T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)/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, kde x je požadovaná doba trvání projek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V tabulkách normálního rozdělení najdeme odpovídající hodnotu distribuční funk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Úlohu lze obrátit a hledat takový termín, který bude dodržen s požadovanou pravděpodobnost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31CE-C780-483D-B942-8D07AF549E3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EAF86B-F229-490D-AFEA-DEC120EABA6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lastnosti projekt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dinečnost &amp; neopakovatelnost (acyklično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novený termín zahájení &amp; ukončení +přidělený rozpočet a zd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ultiprofesní projektový tým s dočasnou působn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soká neurčitost (riziko) spojené s definováním &amp; způsobem dosahování cíl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mplexnost a složitost předmětu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8993-9BED-44D3-951B-27B4B3D6DD7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21AF3E-A180-4CBA-89A2-F449D012A0F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Doporučené hodnoty pravděpodobností pro hodnocení stochastických sítí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914400" y="1600200"/>
          <a:ext cx="7772400" cy="4343400"/>
        </p:xfrm>
        <a:graphic>
          <a:graphicData uri="http://schemas.openxmlformats.org/drawingml/2006/table">
            <a:tbl>
              <a:tblPr/>
              <a:tblGrid>
                <a:gridCol w="3297240"/>
                <a:gridCol w="4475160"/>
              </a:tblGrid>
              <a:tr h="89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al pro hodnoty pravděpodobn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cen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 0,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dostatečné zabezpečení, hledat cesty, jak dosáhnout vyšších hodn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5 – 0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áce jsou dobře zabezpeče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 a ví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bezpečení projektu je nadbytečn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F429-F7D9-44BE-8480-6117BCCC4B19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13AD42-CDF4-4C62-ADCD-3C458C32043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říkla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eďte časovou analýzu síťového grafu (nejkratší dobu trvání, kritickou cestu), který reprezentuje model projektu zadaného v následující tabulce činnostmi, jejich návazností a dobou trván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DFA1-00EB-4A18-A407-3909EEDFC6F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7E9633-C271-4C4E-9A24-DEB8758F5AE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2411280" y="1557360"/>
            <a:ext cx="4181760" cy="488628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Zadání údaj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74D9-96FF-4648-BD3D-D85EE47AC4EE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BE2382-8751-49FA-B102-2BCA47BB1A8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Řešení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le návaznosti činností uvedených v tabulce sestrojíme hranový síťový graf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číslujeme uzly tak, aby každá hrana vždy vycházela z uzlu nižšího pořadového čísla do uzlu s vyšším čísle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íťový graf je na následujícím obrázk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DCAF-E784-4FD9-9602-69C436CD24BA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8E06E2-6846-4A97-9B11-407222DAA0F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íťový graf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547640" y="2060640"/>
            <a:ext cx="6343920" cy="327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9410-8D3C-458A-83EA-30B481AAEE1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D0EE14-A5C4-4747-9F23-26B6E859726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áze I – výpočet nejdříve možných začátků a konců činnost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1332000" y="2708280"/>
            <a:ext cx="635292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5E10-7F0F-4D87-B3F1-D957AB1A8CE4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24CF52-D107-4028-B358-02E642B66E8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áze II – výpočet nejpozději přípustných konců a začátků činn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1332000" y="2637000"/>
            <a:ext cx="6267240" cy="3209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0432-38D6-4F62-BD34-DD2E2E511A1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840C4C-2139-47A3-B3EB-A4548528872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ERT Příkla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– optimistický odhad doby trvání čin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 – modální odhad doby trvání čin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 – pesimistický odhad doby trvání čin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Charakteristik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řední hodnota 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yi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měrodatnou odchylku σ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i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rozptyl σ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ij</a:t>
            </a:r>
            <a:r>
              <a:rPr b="0" lang="cs-CZ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E46B-6617-4A22-8110-278CD571DA7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7DCBF1-6CB6-41AD-B95D-EF2DE268BDA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řední hodnota trvání libovolné činnosti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ěrodatná odchyl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zpty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3348000" y="2205000"/>
            <a:ext cx="1871640" cy="66996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2"/>
          <a:stretch/>
        </p:blipFill>
        <p:spPr>
          <a:xfrm>
            <a:off x="3419640" y="3789360"/>
            <a:ext cx="1368360" cy="64944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3"/>
          <a:stretch/>
        </p:blipFill>
        <p:spPr>
          <a:xfrm>
            <a:off x="3419640" y="5300640"/>
            <a:ext cx="1728720" cy="75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5831-C2C6-48F0-9DBA-43E9F1EDC21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3CC46A-1D29-4143-A29D-741E1ABC61A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 náhodnou veličinu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ovanou ve tva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terá má normální rozdělení s nulovou střední hodnotou a s jednotkovým rozptylem, lze nalézt odpovídající pravděpodobnosti v tabulce hodnot distribuční funkce normovaného normálního rozdělen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1"/>
          <a:stretch/>
        </p:blipFill>
        <p:spPr>
          <a:xfrm>
            <a:off x="3635280" y="2276640"/>
            <a:ext cx="1287720" cy="80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754A-8BA4-48AE-BE9F-ABE5028E785C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634FC3-335E-4EE0-8DF8-C2C4C3115B3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ojektové řízení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uží k rozplánování a realizaci složitých akcí, které je potřeba uskutečnit v požadovaném termínu s plánovanými náklady tak, aby se dostálo stanovených cíl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čně: účinné a efektivní dosahování změ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ředmětem projektového řízení je projek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žívané princi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ncip týmové prá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ncip systematické práce – podložené exaktními metodam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stémový přístup k řešení problém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87EF-FB40-4B9E-A16B-EEB9477A383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7C1209-710B-45DA-9ED7-B76E5CAED7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ER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6913440" cy="466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256B-500D-46AE-AF34-DA867902624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F47EB1-3CD4-468A-8622-955A41F3802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řepočtený síťový graf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2124000" y="2060640"/>
            <a:ext cx="4048200" cy="308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4805-60F7-4002-9440-DECBBC832B6E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1F9D36-CC22-4464-964C-C1B8047C5F4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řední hodnota doby realizace projektu </a:t>
            </a: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směrodatná odchylka doby trvání projektu σ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sou dány součtem odpovídajících hodnot kritických činností. Te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=168dní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=5,3 d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avděpodobnost, že projekt skončí o 10 dní dříve, než je spočtená střední hodnota </a:t>
            </a: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1332000" y="5445000"/>
            <a:ext cx="4464000" cy="62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D667-21EA-4549-8A13-C0B74DDDB88A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F79C00-383C-4BB7-B130-B3832ED2FA3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Řízení projekt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70640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Řízení projek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praxe stanovování dosažitelných cílů, řízení zdrojů a systematického vyhodnocování výkonů vzhledem ke stanoveným cílům a následné přijímání korektivních opatření k odstraňování odchyle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Projektové říze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je organizační systém řízení projektů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ízení formou projektu je vhodné tam, kde </a:t>
            </a: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rozsah, neobvyklost, složitost, obtížnost a rizikovos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realizace činností přesahují určitou míru.</a:t>
            </a: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 Řízení podle projektů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MBP (Management by Projects) způsob řízení, kdy organizační struktura a způsob práce v organizaci je přizpůsoben metodám projektového řízení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1407-4E9F-4FB9-8FA1-ED1C91C2427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D2CDDD-68AA-495C-8BA9-E0B731A33DE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brý systém řízení projektů je </a:t>
            </a: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obecně-použitelný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orientovaný na výstup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product-oriented) a zahrnující procesy definování cílů, systém plánování činností, proces výběru metod, systém rozdělování práce &amp; zdrojů, systém sledování postupu &amp; měření výsledk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4752-BFB9-4D7F-9248-1F732E5517B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CF0F21-AFBB-47C6-822C-BFDF4F644D5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AD4F-8D8A-4EFC-8F52-D3DB593E875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CBAEDE-3786-489F-83B2-A13D86310FD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Obsahem řízení projektů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je aplikování specifických kompetencí, nástrojů a technik na řízení činností s cílem dosáhnout požadovaných cílů resp. naplnit očekávání zájmových skupin. Úspěšné řízení projektu předpokládá rovnováhu mezi 3 komponenty plánování projekt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. Rozsah (sco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. Harmonogram (schedu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. Zdroje (resour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580000" y="3933720"/>
            <a:ext cx="2428920" cy="211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99CE-C962-4A69-A2FE-F851AA5545D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479B85-A98D-4C57-8ADC-800CF04D88C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8T11:41:49Z</dcterms:created>
  <dc:creator>hrstkova</dc:creator>
  <dc:description/>
  <dc:language>en-US</dc:language>
  <cp:lastModifiedBy>hrstkova</cp:lastModifiedBy>
  <dcterms:modified xsi:type="dcterms:W3CDTF">2004-12-03T09:07:40Z</dcterms:modified>
  <cp:revision>7</cp:revision>
  <dc:subject/>
  <dc:title>Řízení projektů</dc:title>
</cp:coreProperties>
</file>