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2FB5-3DE5-41FA-AC9D-2E54A3B80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96CE-0F04-4C01-86D5-05B9CCC6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1CEB-10F0-4CA4-8580-3C4F8778D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2A1F-42FB-4E63-B7B4-F46FB416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CF977-C800-491C-9DC7-548093A9E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9F514-9111-422E-A038-36C0A279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D54B2-6F7D-4E46-BD36-2E45795E2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8C17-968A-4813-B9CD-1B2B9EAC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5F4C-75A7-45A7-9E0C-3D530975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C2457-BEBE-420C-8DD0-DD116DAB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249FD-CFDA-42E7-AE4F-589C96085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BB3-08EE-42A3-B93E-8E357A2C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F198-E8C0-43B9-94F1-AAD91A2F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B11A1-D9FE-4D16-9E42-9CE86E89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A8B61-61A9-4A1C-845D-484C22F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0045D-B69D-4142-8F8F-8332CD55E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4035B-F396-40DD-8B65-6A8EFAB43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DB19-6D29-488B-A339-72211356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E829-FF23-40B2-91DD-8BFA3AEED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9095-A0B3-4294-8371-4E25568A3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88B-5175-4ECC-99A9-019956453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68F-A651-4975-85E6-91C0E53F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7927-A6CC-43DB-AAFA-36E4F9C0A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B8EBF-1F21-44ED-8DF4-93FFF91D1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03B6-39D3-4E29-9CFB-50915637711B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4F9-D882-4516-9D80-D1FD2FEBB7E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92C3-7243-4EED-81C9-3432A4260239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FF05-3FDD-4783-8665-826DBDC1CC3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ra Hrst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Rozsah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ope) je soubor úkolů, které jsou předmětem řeše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Harmonogram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schedule) určuje dobu trvání a sekvenci provádění úkolů jakož i celkovou dobu trvání projektu. 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Zdroje projektu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resources) tvoří lidé, vybavení a peníze nezbytné pro provedení projektu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Úspěšné řízení projektu je procesem kontinuálního plánování a revidování dosahovaných výsledků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69A9-674D-4455-B8EA-24B1EFA82A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540298-2611-46DE-A80E-3F35AA0F662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stup plánová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edmětem přípravy MP je vymezení a plánování postupu od hrubého plánu (draft outline) k detailnímu plánu (detailed pla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bsahu projektu,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identifikace problémů, definování cílů, výstupů a produktů, identifikace vhodných partnerů, určení ukazatelů a parametrů kvality a rizika, návrh strategie monitorování a hodnoc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Stanovení organizace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strukturování hlavních činností do etap a kroků, plánování milníků </a:t>
            </a:r>
            <a:r>
              <a:rPr b="0" lang="cs-CZ" sz="1800" spc="-1" strike="noStrike">
                <a:solidFill>
                  <a:srgbClr val="b2b2b2"/>
                </a:solidFill>
                <a:latin typeface="Arial"/>
              </a:rPr>
              <a:t>(milestones),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definování rolí, rozdělování a koordinace úkolů, plánování času (etapy, harmonogram), návrh interního komunikačního systém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uvnitř tj. výběr členů týmu, budování a vedení týmů, vytváření kultury projektu, sdílených hodnot, standardů a pravidel, řízení konfliktů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Plánování interakcí s okolím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j. analyzování prostředí projektu, návrh marketingových strategií a plánování informačních činností (dissemina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Návrh administrativy a financ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tj. finanční plánování (plánování nákladů), návrh uplatnění kontraktačních požadavků, návrh systému a procedur podávání zpráv (reporting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E8DE3-1BDB-4324-9940-08ED1788D6F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9AA779-3548-4276-AA47-13EF1389582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Rozdělení projektů do etap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 průběhu mezinárodních projektů lze rozdělit tak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problému (n. příležitosti) - Opportun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ormulování představy projektu - Feasibility stu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hodných partne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pracování plánu projektu a předložení přihlášky (proje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odnocení přihlášek a výbě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jednávání a uzavírání kontra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hody s partnery (a uživatel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háj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ealizace projektu (implementace kontrakt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pletování a hodnocení výsledků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zentace a šíření výsled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končen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7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43F2-2F4B-4A58-99DA-D8EF4A67652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937806-DDC4-47A7-8496-0095D6A8F8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říležitost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A. Jaký problém - Co? Bude projekt řeš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B. PROČ se to bude projekt řeši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C.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Koho se bude projekt dotýkat?(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potenciální uživatelé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target groups)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esp. zájmových skupin </a:t>
            </a:r>
            <a:r>
              <a:rPr b="0" lang="cs-CZ" sz="2400" spc="-1" strike="noStrike">
                <a:solidFill>
                  <a:srgbClr val="990033"/>
                </a:solidFill>
                <a:latin typeface="Arial"/>
              </a:rPr>
              <a:t>(stakeholders)</a:t>
            </a:r>
            <a:r>
              <a:rPr b="0" lang="cs-CZ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stupujících či jinak ovlivňujících realizaci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D. Jaké přínosy se od projektu oček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E. Jak se bude projekt financov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F. Jaké se mohou vyskytnout komplikace (rizika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9FAA8-9027-4517-8234-7400DBA50E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6C4870-11D1-4B57-92DD-C6021B33E0F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hodné metod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1.1 Metoda problémového stromu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TM (Problem Tree Method) předpokládá identifikaci problému a jeho rozpad ve smyslu souvislé analýzy příčin a následků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329480" y="3716280"/>
            <a:ext cx="6256080" cy="2298600"/>
            <a:chOff x="1329480" y="3716280"/>
            <a:chExt cx="6256080" cy="2298600"/>
          </a:xfrm>
        </p:grpSpPr>
        <p:sp>
          <p:nvSpPr>
            <p:cNvPr id="127" name=""/>
            <p:cNvSpPr/>
            <p:nvPr/>
          </p:nvSpPr>
          <p:spPr>
            <a:xfrm>
              <a:off x="3198600" y="3716280"/>
              <a:ext cx="14475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roblé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5400000">
              <a:off x="4176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cccc99"/>
                  </a:solidFill>
                  <a:latin typeface="Times New Roman"/>
                </a:rPr>
                <a:t>Příčin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170080" y="4338720"/>
              <a:ext cx="167580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36760" y="4960800"/>
              <a:ext cx="159984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74840" y="4338720"/>
              <a:ext cx="16761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180040" y="4960800"/>
              <a:ext cx="1713960" cy="313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Podproblém 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2931840" y="4033800"/>
              <a:ext cx="1981080" cy="304920"/>
              <a:chOff x="2931840" y="4033800"/>
              <a:chExt cx="1981080" cy="304920"/>
            </a:xfrm>
          </p:grpSpPr>
          <p:sp>
            <p:nvSpPr>
              <p:cNvPr id="134" name=""/>
              <p:cNvSpPr/>
              <p:nvPr/>
            </p:nvSpPr>
            <p:spPr>
              <a:xfrm>
                <a:off x="2931840" y="418608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93184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912920" y="418608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922200" y="403380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"/>
            <p:cNvGrpSpPr/>
            <p:nvPr/>
          </p:nvGrpSpPr>
          <p:grpSpPr>
            <a:xfrm>
              <a:off x="3935160" y="4668840"/>
              <a:ext cx="1981080" cy="304920"/>
              <a:chOff x="3935160" y="4668840"/>
              <a:chExt cx="1981080" cy="304920"/>
            </a:xfrm>
          </p:grpSpPr>
          <p:sp>
            <p:nvSpPr>
              <p:cNvPr id="139" name=""/>
              <p:cNvSpPr/>
              <p:nvPr/>
            </p:nvSpPr>
            <p:spPr>
              <a:xfrm>
                <a:off x="3935160" y="4821120"/>
                <a:ext cx="19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93516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16240" y="482112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925520" y="4668840"/>
                <a:ext cx="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3" name=""/>
            <p:cNvSpPr/>
            <p:nvPr/>
          </p:nvSpPr>
          <p:spPr>
            <a:xfrm>
              <a:off x="1712880" y="3881520"/>
              <a:ext cx="0" cy="182880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7122960" y="3881520"/>
              <a:ext cx="0" cy="1828800"/>
            </a:xfrm>
            <a:prstGeom prst="line">
              <a:avLst/>
            </a:prstGeom>
            <a:ln w="9360">
              <a:solidFill>
                <a:srgbClr val="00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6200000">
              <a:off x="6287400" y="4716720"/>
              <a:ext cx="2209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2400" spc="-1" strike="noStrike">
                  <a:solidFill>
                    <a:srgbClr val="00ccff"/>
                  </a:solidFill>
                  <a:latin typeface="Times New Roman"/>
                </a:rPr>
                <a:t>Důslede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1091-B7FE-47D4-87B0-7F96067CF3F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101B2B-91A4-4BA7-94DB-8141662616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2 Analýza prostředí</a:t>
            </a:r>
            <a:r>
              <a:rPr b="0" lang="en-US" sz="2800" spc="-1" strike="noStrike">
                <a:solidFill>
                  <a:srgbClr val="00ccff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Metoda PE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středí projektů je určeno objektivními i subjektivními, vnitřními i vnějšími faktory, které ovlivňují jeho realiza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116000" y="3500280"/>
            <a:ext cx="2808000" cy="2665080"/>
            <a:chOff x="1116000" y="3500280"/>
            <a:chExt cx="2808000" cy="2665080"/>
          </a:xfrm>
        </p:grpSpPr>
        <p:grpSp>
          <p:nvGrpSpPr>
            <p:cNvPr id="149" name=""/>
            <p:cNvGrpSpPr/>
            <p:nvPr/>
          </p:nvGrpSpPr>
          <p:grpSpPr>
            <a:xfrm>
              <a:off x="1255320" y="3500280"/>
              <a:ext cx="2584800" cy="2665080"/>
              <a:chOff x="1255320" y="3500280"/>
              <a:chExt cx="2584800" cy="2665080"/>
            </a:xfrm>
          </p:grpSpPr>
          <p:sp>
            <p:nvSpPr>
              <p:cNvPr id="150" name=""/>
              <p:cNvSpPr/>
              <p:nvPr/>
            </p:nvSpPr>
            <p:spPr>
              <a:xfrm>
                <a:off x="1255320" y="3508560"/>
                <a:ext cx="2569320" cy="2656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70800" y="4834800"/>
                <a:ext cx="2569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flipV="1">
                <a:off x="2516040" y="3500280"/>
                <a:ext cx="0" cy="265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3" name=""/>
            <p:cNvSpPr/>
            <p:nvPr/>
          </p:nvSpPr>
          <p:spPr>
            <a:xfrm>
              <a:off x="1116000" y="3715920"/>
              <a:ext cx="14882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olitické &amp; práv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36120" y="3715920"/>
              <a:ext cx="148788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konomické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85480" y="4939200"/>
              <a:ext cx="148644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ciální a kulturní prostředí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436120" y="4939200"/>
              <a:ext cx="1487880" cy="10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ff0000"/>
                  </a:solidFill>
                  <a:latin typeface="Times New Roman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Technologické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rost</a:t>
              </a:r>
              <a:r>
                <a:rPr b="0" lang="cs-CZ" sz="1800" spc="-1" strike="noStrike">
                  <a:solidFill>
                    <a:srgbClr val="000000"/>
                  </a:solidFill>
                  <a:latin typeface="Times New Roman"/>
                </a:rPr>
                <a:t>ředí &amp; ekolog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4284720" y="3914640"/>
            <a:ext cx="41148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kt si v průběhu své realizace vytváří vlastní prostředí resp. sociální systém se specifickými vzorci chování, hodnotami, prioritami a identi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1D07-E75B-448D-A023-02A4870EC1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D4277-08EA-4CB9-8C37-AC35ADB1E2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1.3. Metoda SWOT analýz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2362320"/>
            <a:ext cx="3381120" cy="3218400"/>
            <a:chOff x="4495680" y="2362320"/>
            <a:chExt cx="3381120" cy="3218400"/>
          </a:xfrm>
        </p:grpSpPr>
        <p:grpSp>
          <p:nvGrpSpPr>
            <p:cNvPr id="161" name=""/>
            <p:cNvGrpSpPr/>
            <p:nvPr/>
          </p:nvGrpSpPr>
          <p:grpSpPr>
            <a:xfrm>
              <a:off x="4952880" y="2362320"/>
              <a:ext cx="2831400" cy="2822400"/>
              <a:chOff x="4952880" y="2362320"/>
              <a:chExt cx="2831400" cy="2822400"/>
            </a:xfrm>
          </p:grpSpPr>
          <p:sp>
            <p:nvSpPr>
              <p:cNvPr id="162" name=""/>
              <p:cNvSpPr/>
              <p:nvPr/>
            </p:nvSpPr>
            <p:spPr>
              <a:xfrm>
                <a:off x="4952880" y="2370960"/>
                <a:ext cx="2814480" cy="28137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969800" y="3775680"/>
                <a:ext cx="281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6334200" y="2362320"/>
                <a:ext cx="0" cy="281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4724280" y="2590920"/>
              <a:ext cx="3152520" cy="2240640"/>
              <a:chOff x="4724280" y="2590920"/>
              <a:chExt cx="3152520" cy="2240640"/>
            </a:xfrm>
          </p:grpSpPr>
          <p:sp>
            <p:nvSpPr>
              <p:cNvPr id="166" name=""/>
              <p:cNvSpPr/>
              <p:nvPr/>
            </p:nvSpPr>
            <p:spPr>
              <a:xfrm>
                <a:off x="48765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ilné stránk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trength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248160" y="259092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Slabé stránky „Weakness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724280" y="4038840"/>
                <a:ext cx="175248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Příležitosti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pportunitie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248160" y="4038840"/>
                <a:ext cx="1628640" cy="792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ff0000"/>
                    </a:solidFill>
                    <a:latin typeface="Times New Roman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Ohrožení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„</a:t>
                </a:r>
                <a:r>
                  <a:rPr b="0" lang="cs-CZ" sz="1800" spc="-1" strike="noStrike">
                    <a:solidFill>
                      <a:srgbClr val="000000"/>
                    </a:solidFill>
                    <a:latin typeface="Times New Roman"/>
                  </a:rPr>
                  <a:t>Threats“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016240" y="518184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otenciá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386400" y="5180400"/>
              <a:ext cx="1295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mezen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800000">
              <a:off x="4495680" y="236232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Součas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800000">
              <a:off x="4495680" y="3810240"/>
              <a:ext cx="48528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udoucnos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51D2-60C2-4DFB-8B28-73FE07BBE91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095F6-AD24-4F03-8904-21615478A8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a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ávrh konceptu projektu souvisí s formulováním základního konceptuálního návrhu (charakteristiky) projektu, vymezením základního cíle (účelu) projektu a dílčích cílů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 vypracování charakteristiky projektu se používá metoda logického rámce LFM (Logical Framework Method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. Analýza cí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. Stanovení logiky intervenc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3. Definování indikátor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4. Definování předpokladů a riz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. Stanovení činností a jejich posloupnosti (harmonogra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6. Stanovení a popis metod realizace a organ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7. Stanovení vstupů a rozpoč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5A6B0-B354-46BD-B829-B6CC657567D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86EE2-00E1-4338-8248-07FCF39CE5A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atice logického rámc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6899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toda logického rámce používá pro charakteristiku projektu matici, která se nazývá </a:t>
            </a:r>
            <a:r>
              <a:rPr b="0" lang="cs-CZ" sz="1800" spc="-1" strike="noStrike">
                <a:solidFill>
                  <a:srgbClr val="330033"/>
                </a:solidFill>
                <a:latin typeface="Arial"/>
              </a:rPr>
              <a:t>matice logického rámc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LFM (Logical Framework Matrix) umožňuje vypracovat komplexní návrh projek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187280" y="2492280"/>
          <a:ext cx="7210440" cy="2224080"/>
        </p:xfrm>
        <a:graphic>
          <a:graphicData uri="http://schemas.openxmlformats.org/drawingml/2006/table">
            <a:tbl>
              <a:tblPr/>
              <a:tblGrid>
                <a:gridCol w="1442880"/>
                <a:gridCol w="1441800"/>
                <a:gridCol w="1441440"/>
                <a:gridCol w="1441440"/>
                <a:gridCol w="1442880"/>
              </a:tblGrid>
              <a:tr h="7516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4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8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042920" y="4797360"/>
            <a:ext cx="73454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Účel projektu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mysl realizace projektu. 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Účel n. hlavní cíl projektu je pouze jeden</a:t>
            </a:r>
            <a:r>
              <a:rPr b="0" lang="en-US" sz="1800" spc="-1" strike="noStrike">
                <a:solidFill>
                  <a:srgbClr val="b2b2b2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Cí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pecifické vymezení určitého cílového resp. žádoucího stavu (výstupů), kterých má být realizací projektu dosaženo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Výstup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konkrétní výsledky realizace projektu. </a:t>
            </a:r>
            <a:r>
              <a:rPr b="0" lang="en-US" sz="1800" spc="-1" strike="noStrike">
                <a:solidFill>
                  <a:srgbClr val="330033"/>
                </a:solidFill>
                <a:latin typeface="Arial"/>
              </a:rPr>
              <a:t>Činnost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ubor prováděcích operací vedoucích k dosažení výstupů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7FE0-B634-4B46-AC4A-98A77ED4F49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34AEED-F44B-426F-B5BC-B13BDF623A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ředstavuje: narativní popis projektu na 4 úrovních 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účel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cíle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výstupy</a:t>
            </a:r>
            <a:r>
              <a:rPr b="0" lang="en-US" sz="2400" spc="-1" strike="noStrike">
                <a:solidFill>
                  <a:srgbClr val="990033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990033"/>
                </a:solidFill>
                <a:latin typeface="Arial"/>
              </a:rPr>
              <a:t>činnosti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 matici logického rá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1042920" y="2565360"/>
          <a:ext cx="7499160" cy="2125800"/>
        </p:xfrm>
        <a:graphic>
          <a:graphicData uri="http://schemas.openxmlformats.org/drawingml/2006/table">
            <a:tbl>
              <a:tblPr/>
              <a:tblGrid>
                <a:gridCol w="1500120"/>
                <a:gridCol w="1500120"/>
                <a:gridCol w="1498680"/>
                <a:gridCol w="1500480"/>
                <a:gridCol w="1499760"/>
              </a:tblGrid>
              <a:tr h="7675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pis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jektivně-ověřitelné ukazate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působ &amp; prostředky ověř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ředpoklady&amp; rizik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20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Úč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í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05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ýstu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Čin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Vstup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ccff"/>
                          </a:solidFill>
                          <a:latin typeface="Times New Roman"/>
                        </a:rPr>
                        <a:t>Náklad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1042920" y="5056200"/>
            <a:ext cx="756144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Stanovení logiky intervenc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je obvykle dostačující informace pro formulování základní představy projektu, která je podkladem pro další vyjednávání s partne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286000" y="3006720"/>
            <a:ext cx="4800600" cy="1574640"/>
            <a:chOff x="2286000" y="3006720"/>
            <a:chExt cx="4800600" cy="1574640"/>
          </a:xfrm>
        </p:grpSpPr>
        <p:sp>
          <p:nvSpPr>
            <p:cNvPr id="185" name=""/>
            <p:cNvSpPr/>
            <p:nvPr/>
          </p:nvSpPr>
          <p:spPr>
            <a:xfrm flipV="1">
              <a:off x="22860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086600" y="3006720"/>
              <a:ext cx="0" cy="1574640"/>
            </a:xfrm>
            <a:prstGeom prst="line">
              <a:avLst/>
            </a:prstGeom>
            <a:ln w="9360">
              <a:solidFill>
                <a:srgbClr val="cccc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200400" y="414972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200400" y="338760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200400" y="3768480"/>
              <a:ext cx="2819520" cy="0"/>
            </a:xfrm>
            <a:prstGeom prst="line">
              <a:avLst/>
            </a:prstGeom>
            <a:ln w="9360">
              <a:solidFill>
                <a:srgbClr val="00cc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EE5C-BBC9-43EC-934F-B8C6EF474B9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367149-EC30-4D9D-8FC8-6806ACCF53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330033"/>
                </a:solidFill>
                <a:latin typeface="Arial"/>
              </a:rPr>
              <a:t>Projek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en-US" sz="2800" spc="-1" strike="noStrike">
                <a:solidFill>
                  <a:srgbClr val="990033"/>
                </a:solidFill>
                <a:latin typeface="Arial"/>
              </a:rPr>
              <a:t>do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časná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časově omezená)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složitějš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komplex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rutinní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800" spc="-1" strike="noStrike">
                <a:solidFill>
                  <a:srgbClr val="990033"/>
                </a:solidFill>
                <a:latin typeface="Arial"/>
              </a:rPr>
              <a:t>nelineární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zpravidla jednorázová neopakovatelná) operace resp. proces, jehož výstupem má být obvykle jedinečný produkt resp. služb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vykle vyžaduje multiprofesní realizační tým, na který se aplikují formalizované metody plánování a řízení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FF24-2291-4AE2-B77E-919EBB70AA5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E00978-9E40-4F3A-A23A-53BBD9DE777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3520" y="471240"/>
            <a:ext cx="8153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tudie proveditelnosti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844640"/>
            <a:ext cx="8381880" cy="38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ditelnost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echnick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ob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technické řeš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Opera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č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kapacity a zdroje (zejména lidské zdroj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Finanč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Rizi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pecifikace přínosů (finanční analýz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13F9-075D-4DC8-833D-1E07C5CB9713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49F2B4-064E-4D40-8047-FC8FBAF423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816120" y="534960"/>
            <a:ext cx="8076960" cy="73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Metody síťové analýz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41480" y="2300400"/>
            <a:ext cx="7826040" cy="21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zlově orientované grafy (hranově orientované graf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oda CPM - deterministická (metoda PERT - stochastická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času - kritická ces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nákladů - průběh náklad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ýza zdrojů - potřeba  a využití zdrojů v č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ýpočty se provádějí pomocí počítačů (MS Pro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15E2-6128-48A0-AF9F-F00F255A242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A23B0E-E025-4F4A-8307-7351DD9029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Řízení projektu se skládá z několika základních manažerských činností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ce projektových cílů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ánov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dení lidských zdrojů – cílem je zajistit včasné a efektivní provedení naplánovaných činnost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nitorování – sledování aktuálního stavu projektu a odhalení odchylek od aktuálního stavu (při odhalení odchylek je třeba aktualizovat plán, případně změnit styl vedení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končení projektu – ověření, že zadání projektu bylo splněno; předání výsledků projektu (například předání stavby a dokument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4868-76FA-452D-8CE4-0D7F6D02FC0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23F980-F3F9-43CB-A5CD-8F178DA003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kráceně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ý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té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iz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59FC-4E8F-423D-B008-20F9E57E35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EF341F-F1DD-4085-9E1C-2C0E5F5E713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ákladní poj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íťový graf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rientovaný, neorientovaně souvislý, hranově ohodnocený, acyklický graf, vyjadřující závislost dílčích činností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rchol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asovou událost – začátek nebo konec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Hrana SG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ředstavuje činnost (potřebuje čas, zdroje, má dynamický charak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je definována počátečním a koncovým uz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činnost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prodloužení doby trvání této činnosti, prodlouží dobu trvání celého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ritická ces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sled kritických činností mezi začátkem a koncem projektu. Kritická cesta je definována jako (časově) nejdelší možná cesta z počátečního bodu grafu do koncového bodu graf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1198-B5DD-4AD2-8BEB-6F3A2503115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2CB500-BD18-4A61-BBE1-0FC7F8CCC6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0033"/>
                </a:solidFill>
                <a:latin typeface="Times New Roman"/>
              </a:rPr>
              <a:t>Každý graf projektu je specifický tím, že: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zi libovolnou dvojicí kontrolních bodů vede maximálně jedna činnost. Pokud tomu tak v praxi není, lze pomocí tzv. fiktivních činností (činností s nulovou dobou trvání a s nulovými náklady) přejít na nový síťový graf projektu, pro který je již tento předpoklad spln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počáteční bod – kontrolní bod, ve kterém činnosti pouze začínají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á právě jeden koncový bod – kontrolní bod, ve kterém činnosti pouze konč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aždá hrana grafu je ohodnocena – ke každé hraně (činnosti) je přiřazena její časová a finanční náročnost (jedná o hranově ohodnocený síťový graf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AB61-F3C1-40F9-B06B-E7998FEC7C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38D2A7-59E6-45F3-B01E-2644980EDAE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Uzlově orientované graf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981080"/>
            <a:ext cx="77724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zly představují činnosti s udáním ča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rany představují označení posloupnosti činnost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073160" y="45784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5640" y="389268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825640" y="541656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273560" y="4654440"/>
            <a:ext cx="67320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178680" y="4654440"/>
            <a:ext cx="596880" cy="52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682640" y="4184280"/>
            <a:ext cx="1130400" cy="622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82640" y="4959360"/>
            <a:ext cx="1130400" cy="673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359160" y="4121280"/>
            <a:ext cx="901800" cy="825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349880" y="5416560"/>
            <a:ext cx="67284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35480" y="5715000"/>
            <a:ext cx="90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73560" y="3816360"/>
            <a:ext cx="59688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35480" y="411480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5035680" y="4946760"/>
            <a:ext cx="1130040" cy="77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59360" y="4952880"/>
            <a:ext cx="1054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59360" y="4121280"/>
            <a:ext cx="1130400" cy="749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702560" y="4578480"/>
            <a:ext cx="59688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788160" y="4876920"/>
            <a:ext cx="8254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061280" y="455760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805120" y="379584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96840" y="53197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253040" y="3719520"/>
            <a:ext cx="401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244400" y="4633920"/>
            <a:ext cx="384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21080" y="5319720"/>
            <a:ext cx="367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49160" y="4557600"/>
            <a:ext cx="4190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601400" y="4481640"/>
            <a:ext cx="486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34856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864520" y="41004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40480" y="554832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64720" y="562464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73000" y="478620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73000" y="394812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369480" y="4786200"/>
            <a:ext cx="519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902000" y="4710240"/>
            <a:ext cx="35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0BE9-7EFD-4557-8368-D99EEFD592F1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88AD1-D8FC-4A2A-B2DB-8535A7FCE7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Časová analýza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ritická cesta - nejdelší cesta graf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Časové rezer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začát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dříve mož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později nutné k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7931-0FB5-413F-AC9A-54ADAA65D0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3DC076-D4CD-479B-839D-90551D120D3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náklad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růběhu nákladů (křivky průběhu nákladů A,B,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dely průběhu náklad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ypy náklad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ashflow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Cost Benefit Analýzu (viz ekonomická analýza projekt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40B-5114-4F53-B5AD-B7BFD226B38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740960-B83A-4216-9FE9-67B5D36EB0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54432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Analýza zdro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istogram potřeby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ití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tížení zdroje s ohledem na limit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zor na multiprojekové sdílení zdrojů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A305-A866-4863-BB2C-BB8D422832C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FCD60-D3F1-4BBE-9A00-8D5FC3FA07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o je projekt?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476360" y="2060640"/>
            <a:ext cx="6321600" cy="368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BF7BD-7063-4790-B8A6-701BFE96BA0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42AD2-0F02-4DE4-8051-05EE42463C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762120" y="1523880"/>
            <a:ext cx="83818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anttův (úsečkový, čárový) diagram představuje vyjádření souslednosti činností v čase. Obvykle se vykresluje na základě provedené síťové analýzy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295280" y="2666520"/>
            <a:ext cx="6222960" cy="2916000"/>
            <a:chOff x="1295280" y="2666520"/>
            <a:chExt cx="6222960" cy="2916000"/>
          </a:xfrm>
        </p:grpSpPr>
        <p:sp>
          <p:nvSpPr>
            <p:cNvPr id="245" name=""/>
            <p:cNvSpPr/>
            <p:nvPr/>
          </p:nvSpPr>
          <p:spPr>
            <a:xfrm>
              <a:off x="6070320" y="5245200"/>
              <a:ext cx="1447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cs-CZ" sz="1600" spc="-1" strike="noStrike">
                  <a:solidFill>
                    <a:srgbClr val="000000"/>
                  </a:solidFill>
                  <a:latin typeface="Times New Roman"/>
                </a:rPr>
                <a:t>Č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1295280" y="2666520"/>
              <a:ext cx="6006600" cy="2603520"/>
              <a:chOff x="1295280" y="2666520"/>
              <a:chExt cx="6006600" cy="260352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2501640" y="2666520"/>
                <a:ext cx="4800240" cy="2603520"/>
                <a:chOff x="2501640" y="2666520"/>
                <a:chExt cx="4800240" cy="2603520"/>
              </a:xfrm>
            </p:grpSpPr>
            <p:grpSp>
              <p:nvGrpSpPr>
                <p:cNvPr id="248" name=""/>
                <p:cNvGrpSpPr/>
                <p:nvPr/>
              </p:nvGrpSpPr>
              <p:grpSpPr>
                <a:xfrm>
                  <a:off x="2501640" y="2666520"/>
                  <a:ext cx="4800240" cy="2603520"/>
                  <a:chOff x="2501640" y="2666520"/>
                  <a:chExt cx="4800240" cy="260352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 flipV="1">
                    <a:off x="2501640" y="2666520"/>
                    <a:ext cx="0" cy="2590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2501640" y="5257800"/>
                    <a:ext cx="480024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2501640" y="4952880"/>
                    <a:ext cx="472428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2514240" y="431784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514240" y="464832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2514240" y="36831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"/>
                  <p:cNvSpPr/>
                  <p:nvPr/>
                </p:nvSpPr>
                <p:spPr>
                  <a:xfrm>
                    <a:off x="2514240" y="4000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514240" y="335268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514240" y="3009960"/>
                    <a:ext cx="472392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"/>
                  <p:cNvSpPr/>
                  <p:nvPr/>
                </p:nvSpPr>
                <p:spPr>
                  <a:xfrm flipV="1">
                    <a:off x="281880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"/>
                  <p:cNvSpPr/>
                  <p:nvPr/>
                </p:nvSpPr>
                <p:spPr>
                  <a:xfrm flipV="1">
                    <a:off x="351756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 flipV="1">
                    <a:off x="31618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 flipV="1">
                    <a:off x="6946560" y="276840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 flipV="1">
                    <a:off x="384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 flipV="1">
                    <a:off x="417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 flipV="1">
                    <a:off x="449532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 flipV="1">
                    <a:off x="482544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 flipV="1">
                    <a:off x="519372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 flipV="1">
                    <a:off x="55620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 flipV="1">
                    <a:off x="5917680" y="27432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V="1">
                    <a:off x="6247800" y="2755800"/>
                    <a:ext cx="0" cy="250200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V="1">
                    <a:off x="6603480" y="2730240"/>
                    <a:ext cx="0" cy="250164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1" name=""/>
                <p:cNvGrpSpPr/>
                <p:nvPr/>
              </p:nvGrpSpPr>
              <p:grpSpPr>
                <a:xfrm>
                  <a:off x="2539440" y="3009960"/>
                  <a:ext cx="3999960" cy="1942920"/>
                  <a:chOff x="2539440" y="3009960"/>
                  <a:chExt cx="3999960" cy="1942920"/>
                </a:xfrm>
              </p:grpSpPr>
              <p:sp>
                <p:nvSpPr>
                  <p:cNvPr id="272" name=""/>
                  <p:cNvSpPr/>
                  <p:nvPr/>
                </p:nvSpPr>
                <p:spPr>
                  <a:xfrm>
                    <a:off x="2539440" y="3009960"/>
                    <a:ext cx="8251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3351960" y="303516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>
                    <a:off x="2971080" y="4000680"/>
                    <a:ext cx="105372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>
                    <a:off x="3364560" y="3352680"/>
                    <a:ext cx="444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3796560" y="3683160"/>
                    <a:ext cx="74880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3796560" y="336564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3987000" y="4317840"/>
                    <a:ext cx="57096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4025160" y="402588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4545720" y="3695760"/>
                    <a:ext cx="0" cy="952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494960" y="4343400"/>
                    <a:ext cx="0" cy="304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4545720" y="4648320"/>
                    <a:ext cx="11552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>
                    <a:off x="5701320" y="4952880"/>
                    <a:ext cx="83808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5701320" y="4648320"/>
                    <a:ext cx="0" cy="30456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5244120" y="3009960"/>
                    <a:ext cx="431640" cy="0"/>
                  </a:xfrm>
                  <a:prstGeom prst="line">
                    <a:avLst/>
                  </a:prstGeom>
                  <a:ln w="381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5676120" y="3009960"/>
                    <a:ext cx="0" cy="19429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7" name=""/>
              <p:cNvSpPr/>
              <p:nvPr/>
            </p:nvSpPr>
            <p:spPr>
              <a:xfrm>
                <a:off x="1295280" y="2857320"/>
                <a:ext cx="1447560" cy="2292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0000"/>
                  </a:lnSpc>
                  <a:spcBef>
                    <a:spcPts val="11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cs-CZ" sz="1600" spc="-1" strike="noStrike">
                    <a:solidFill>
                      <a:srgbClr val="000000"/>
                    </a:solidFill>
                    <a:latin typeface="Times New Roman"/>
                  </a:rPr>
                  <a:t>Činnost 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0769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330033"/>
                </a:solidFill>
                <a:latin typeface="Times New Roman"/>
              </a:rPr>
              <a:t>Ganttovy diagramy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D1BDD-BC3B-4A2E-8D33-0E6650418069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B0A65E-E347-4CE9-83D0-4CDFCD5FB0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ýpočet celkových nákladů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33520" y="2003400"/>
            <a:ext cx="8381880" cy="40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tanovení vstupů a rozpočt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ředpoklád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Stanovení prostředků potřebných pro realizaci každé čin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p. pro každý předpokládaný výst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a) lidské zdroje – mzdy, cestov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b) materiální zdroje a potřebné vybavení, spotřební materiá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) finanční 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Vyjádření prostředků v nákladových kategorií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Specifikování jednotek, množství a jednotkov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Určení zdroje financo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Stanovení harmonogramu čerpání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. Rozdělení nákladů do kategorií rozpočtu a pří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zpočtových tabulek </a:t>
            </a:r>
            <a:r>
              <a:rPr b="0" lang="en-US" sz="2400" spc="-1" strike="noStrike">
                <a:solidFill>
                  <a:srgbClr val="b2b2b2"/>
                </a:solidFill>
                <a:latin typeface="Times New Roman"/>
              </a:rPr>
              <a:t>– </a:t>
            </a: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rozpočtových vzorc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CD7-4766-429A-8A81-750C17CDD84F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FA7AEE-B3E4-46BF-A094-E815B7C5A7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611280" y="1700280"/>
            <a:ext cx="82296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4040" y="2133720"/>
            <a:ext cx="85899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ánování zdrojů představuje proces agregovaného a detailního rozvrhování potřebných a disponibilních zdrojů v čase, odhadování metrik na základě odhadů spotřeby a jejich následná optimaliz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1714680" y="3646080"/>
            <a:ext cx="5763960" cy="2017440"/>
            <a:chOff x="1714680" y="3646080"/>
            <a:chExt cx="5763960" cy="2017440"/>
          </a:xfrm>
        </p:grpSpPr>
        <p:grpSp>
          <p:nvGrpSpPr>
            <p:cNvPr id="294" name=""/>
            <p:cNvGrpSpPr/>
            <p:nvPr/>
          </p:nvGrpSpPr>
          <p:grpSpPr>
            <a:xfrm>
              <a:off x="1714680" y="3646080"/>
              <a:ext cx="3621960" cy="2017440"/>
              <a:chOff x="1714680" y="3646080"/>
              <a:chExt cx="3621960" cy="2017440"/>
            </a:xfrm>
          </p:grpSpPr>
          <p:grpSp>
            <p:nvGrpSpPr>
              <p:cNvPr id="295" name=""/>
              <p:cNvGrpSpPr/>
              <p:nvPr/>
            </p:nvGrpSpPr>
            <p:grpSpPr>
              <a:xfrm>
                <a:off x="2014200" y="3646080"/>
                <a:ext cx="3212640" cy="1734840"/>
                <a:chOff x="2014200" y="3646080"/>
                <a:chExt cx="3212640" cy="1734840"/>
              </a:xfrm>
            </p:grpSpPr>
            <p:sp>
              <p:nvSpPr>
                <p:cNvPr id="296" name=""/>
                <p:cNvSpPr/>
                <p:nvPr/>
              </p:nvSpPr>
              <p:spPr>
                <a:xfrm flipV="1">
                  <a:off x="2014200" y="3646080"/>
                  <a:ext cx="0" cy="1726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2014200" y="5373360"/>
                  <a:ext cx="32126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014200" y="5169960"/>
                  <a:ext cx="316188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2022840" y="4746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2022840" y="496692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2022840" y="432360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022840" y="4535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2022840" y="410328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2022840" y="3875040"/>
                  <a:ext cx="3161520" cy="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flipV="1">
                  <a:off x="22266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 flipV="1">
                  <a:off x="269424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 flipV="1">
                  <a:off x="245628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 flipV="1">
                  <a:off x="4988880" y="371376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 flipV="1">
                  <a:off x="291492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 flipV="1">
                  <a:off x="31359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334836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35694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381600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4062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 flipV="1">
                  <a:off x="4300560" y="369720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 flipV="1">
                  <a:off x="4521240" y="3705480"/>
                  <a:ext cx="0" cy="166752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4759560" y="3688200"/>
                  <a:ext cx="0" cy="1667160"/>
                </a:xfrm>
                <a:prstGeom prst="line">
                  <a:avLst/>
                </a:prstGeom>
                <a:ln w="9360">
                  <a:solidFill>
                    <a:srgbClr val="b2b2b2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2039760" y="4967280"/>
                <a:ext cx="4140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368600" y="5356440"/>
                <a:ext cx="968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6200000">
                <a:off x="1384560" y="4325400"/>
                <a:ext cx="9669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droj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2450880" y="4103640"/>
                <a:ext cx="0" cy="8575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464920" y="4103640"/>
                <a:ext cx="4568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V="1">
                <a:off x="2909520" y="4095360"/>
                <a:ext cx="0" cy="21132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916000" y="4314960"/>
                <a:ext cx="209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flipV="1">
                <a:off x="3122280" y="4314600"/>
                <a:ext cx="0" cy="4474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3144600" y="474660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flipV="1">
                <a:off x="3819240" y="4737240"/>
                <a:ext cx="0" cy="44928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841560" y="5170680"/>
                <a:ext cx="69480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022120" y="4332240"/>
                <a:ext cx="661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flipV="1">
                <a:off x="2690640" y="4314600"/>
                <a:ext cx="0" cy="24588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711160" y="4535640"/>
                <a:ext cx="6440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 flipV="1">
                <a:off x="3342960" y="4525920"/>
                <a:ext cx="0" cy="441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365280" y="4967280"/>
                <a:ext cx="71244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flipV="1">
                <a:off x="4057200" y="4949640"/>
                <a:ext cx="0" cy="24444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4087440" y="5203800"/>
                <a:ext cx="43956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598560" y="3929040"/>
                <a:ext cx="1402920" cy="276480"/>
              </a:xfrm>
              <a:prstGeom prst="rect">
                <a:avLst/>
              </a:prstGeom>
              <a:solidFill>
                <a:srgbClr val="0000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Potřebné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3595320" y="4256280"/>
                <a:ext cx="1415880" cy="276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e1"/>
                    </a:solidFill>
                    <a:latin typeface="Times New Roman"/>
                  </a:rPr>
                  <a:t>Disponibilní zdroj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5283360" y="3646080"/>
              <a:ext cx="2195280" cy="2017080"/>
              <a:chOff x="5283360" y="3646080"/>
              <a:chExt cx="2195280" cy="2017080"/>
            </a:xfrm>
          </p:grpSpPr>
          <p:sp>
            <p:nvSpPr>
              <p:cNvPr id="339" name=""/>
              <p:cNvSpPr/>
              <p:nvPr/>
            </p:nvSpPr>
            <p:spPr>
              <a:xfrm>
                <a:off x="6513480" y="5356080"/>
                <a:ext cx="965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Ča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6200000">
                <a:off x="4546440" y="4398840"/>
                <a:ext cx="1780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racnos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" name=""/>
              <p:cNvGrpSpPr/>
              <p:nvPr/>
            </p:nvGrpSpPr>
            <p:grpSpPr>
              <a:xfrm>
                <a:off x="5575320" y="3646080"/>
                <a:ext cx="1612800" cy="1725840"/>
                <a:chOff x="5575320" y="3646080"/>
                <a:chExt cx="1612800" cy="1725840"/>
              </a:xfrm>
            </p:grpSpPr>
            <p:grpSp>
              <p:nvGrpSpPr>
                <p:cNvPr id="342" name=""/>
                <p:cNvGrpSpPr/>
                <p:nvPr/>
              </p:nvGrpSpPr>
              <p:grpSpPr>
                <a:xfrm>
                  <a:off x="5575320" y="3646080"/>
                  <a:ext cx="1612800" cy="1725840"/>
                  <a:chOff x="5575320" y="3646080"/>
                  <a:chExt cx="1612800" cy="1725840"/>
                </a:xfrm>
              </p:grpSpPr>
              <p:sp>
                <p:nvSpPr>
                  <p:cNvPr id="343" name=""/>
                  <p:cNvSpPr/>
                  <p:nvPr/>
                </p:nvSpPr>
                <p:spPr>
                  <a:xfrm flipV="1">
                    <a:off x="5575320" y="3646080"/>
                    <a:ext cx="0" cy="172548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5575320" y="5371920"/>
                    <a:ext cx="1612800" cy="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5575320" y="5168880"/>
                    <a:ext cx="156204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>
                    <a:off x="5583600" y="4745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5583600" y="496584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5583600" y="43228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5583600" y="453420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"/>
                  <p:cNvSpPr/>
                  <p:nvPr/>
                </p:nvSpPr>
                <p:spPr>
                  <a:xfrm>
                    <a:off x="5583600" y="410292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"/>
                  <p:cNvSpPr/>
                  <p:nvPr/>
                </p:nvSpPr>
                <p:spPr>
                  <a:xfrm>
                    <a:off x="5583600" y="3874680"/>
                    <a:ext cx="1553400" cy="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"/>
                  <p:cNvSpPr/>
                  <p:nvPr/>
                </p:nvSpPr>
                <p:spPr>
                  <a:xfrm flipV="1">
                    <a:off x="578664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"/>
                  <p:cNvSpPr/>
                  <p:nvPr/>
                </p:nvSpPr>
                <p:spPr>
                  <a:xfrm flipV="1">
                    <a:off x="625140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4" name=""/>
                  <p:cNvSpPr/>
                  <p:nvPr/>
                </p:nvSpPr>
                <p:spPr>
                  <a:xfrm flipV="1">
                    <a:off x="6014880" y="368856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5" name=""/>
                  <p:cNvSpPr/>
                  <p:nvPr/>
                </p:nvSpPr>
                <p:spPr>
                  <a:xfrm flipV="1">
                    <a:off x="6471360" y="369720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 flipV="1">
                    <a:off x="669132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"/>
                  <p:cNvSpPr/>
                  <p:nvPr/>
                </p:nvSpPr>
                <p:spPr>
                  <a:xfrm flipV="1">
                    <a:off x="6902640" y="3705480"/>
                    <a:ext cx="0" cy="1666080"/>
                  </a:xfrm>
                  <a:prstGeom prst="line">
                    <a:avLst/>
                  </a:prstGeom>
                  <a:ln w="9360">
                    <a:solidFill>
                      <a:srgbClr val="b2b2b2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8" name=""/>
                <p:cNvSpPr/>
                <p:nvPr/>
              </p:nvSpPr>
              <p:spPr>
                <a:xfrm>
                  <a:off x="5642640" y="3874680"/>
                  <a:ext cx="1251360" cy="1074240"/>
                </a:xfrm>
                <a:custGeom>
                  <a:avLst/>
                  <a:gdLst/>
                  <a:ahLst/>
                  <a:rect l="l" t="t" r="r" b="b"/>
                  <a:pathLst>
                    <a:path w="1184" h="968">
                      <a:moveTo>
                        <a:pt x="0" y="968"/>
                      </a:moveTo>
                      <a:cubicBezTo>
                        <a:pt x="25" y="931"/>
                        <a:pt x="104" y="800"/>
                        <a:pt x="152" y="744"/>
                      </a:cubicBezTo>
                      <a:cubicBezTo>
                        <a:pt x="200" y="688"/>
                        <a:pt x="232" y="664"/>
                        <a:pt x="288" y="632"/>
                      </a:cubicBezTo>
                      <a:cubicBezTo>
                        <a:pt x="344" y="600"/>
                        <a:pt x="396" y="580"/>
                        <a:pt x="488" y="552"/>
                      </a:cubicBezTo>
                      <a:cubicBezTo>
                        <a:pt x="580" y="524"/>
                        <a:pt x="744" y="504"/>
                        <a:pt x="840" y="464"/>
                      </a:cubicBezTo>
                      <a:cubicBezTo>
                        <a:pt x="936" y="424"/>
                        <a:pt x="1012" y="364"/>
                        <a:pt x="1064" y="312"/>
                      </a:cubicBezTo>
                      <a:cubicBezTo>
                        <a:pt x="1116" y="260"/>
                        <a:pt x="1132" y="204"/>
                        <a:pt x="1152" y="152"/>
                      </a:cubicBezTo>
                      <a:cubicBezTo>
                        <a:pt x="1172" y="100"/>
                        <a:pt x="1177" y="32"/>
                        <a:pt x="1184" y="0"/>
                      </a:cubicBezTo>
                    </a:path>
                  </a:pathLst>
                </a:custGeom>
                <a:noFill/>
                <a:ln w="9360">
                  <a:solidFill>
                    <a:srgbClr val="cc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76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otřeba zdrojů pro realizaci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E949-7E11-487F-8706-1E720F3FB2E2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E94B00-E6A3-4599-B938-55F8E676A27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 CPM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61" name=""/>
          <p:cNvGraphicFramePr/>
          <p:nvPr/>
        </p:nvGraphicFramePr>
        <p:xfrm>
          <a:off x="826920" y="1628640"/>
          <a:ext cx="7772040" cy="4530600"/>
        </p:xfrm>
        <a:graphic>
          <a:graphicData uri="http://schemas.openxmlformats.org/drawingml/2006/table">
            <a:tbl>
              <a:tblPr/>
              <a:tblGrid>
                <a:gridCol w="1024560"/>
                <a:gridCol w="3947400"/>
                <a:gridCol w="1224360"/>
                <a:gridCol w="1575720"/>
              </a:tblGrid>
              <a:tr h="8287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Činno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opis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oba trvání (týdny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Předchozí činnost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a nákup vhodného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žádná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zpracování pro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obsazení pozice manažer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personálu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onstrukce a vybavení objekt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4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školení personálu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výběr sortimentu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B,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uzavření smluv s dodavatel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G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nákup zboží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E,F,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7008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J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reklam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 CE"/>
                        </a:rPr>
                        <a:t>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B6978-7EF7-4379-87BA-C1BB995413B9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AD37C3-A45E-4C09-A1E5-2D352A20E2A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317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994040" y="31622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179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89520" y="31622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3374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937640" y="31622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143000" y="3606840"/>
            <a:ext cx="8380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81952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343400" y="36068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715000" y="36068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7238880" y="36068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17920" y="1486080"/>
            <a:ext cx="812880" cy="812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88952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37440" y="5067360"/>
            <a:ext cx="888840" cy="888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2666880" y="2235240"/>
            <a:ext cx="990720" cy="9907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191120" y="3911760"/>
            <a:ext cx="91440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791320" y="55119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7086600" y="3911760"/>
            <a:ext cx="1066680" cy="1218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267080" y="2158920"/>
            <a:ext cx="2210040" cy="11430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886200" y="238752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781680" y="3987720"/>
            <a:ext cx="0" cy="1067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34960" y="32274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11480" y="33037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643200" y="155088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659040" y="32274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06960" y="32274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106960" y="520848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554880" y="520848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54880" y="32274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8231040" y="33037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20760" y="30751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144440" y="36846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287440" y="21607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973240" y="30751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972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183280" y="20844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87640" y="246528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4211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3448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792760" y="30751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716440" y="360828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392960" y="30751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240680" y="360828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802040" y="429408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792760" y="497988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716440" y="55134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173640" y="429408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697880" y="429408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FF53-3568-4F0E-8EED-660C42B7DF37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C707F-169F-4316-852D-70226825EF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17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994040" y="3376440"/>
            <a:ext cx="81252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179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889520" y="337644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3374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937640" y="3376440"/>
            <a:ext cx="88884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43000" y="3821040"/>
            <a:ext cx="83808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819520" y="3821040"/>
            <a:ext cx="68580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343400" y="3821040"/>
            <a:ext cx="53352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715000" y="3821040"/>
            <a:ext cx="60948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238880" y="3821040"/>
            <a:ext cx="685800" cy="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517920" y="1700280"/>
            <a:ext cx="812880" cy="8128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88952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37440" y="5281560"/>
            <a:ext cx="888840" cy="889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666880" y="2449440"/>
            <a:ext cx="990720" cy="99072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191120" y="4125960"/>
            <a:ext cx="91440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791320" y="5726160"/>
            <a:ext cx="533160" cy="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flipV="1">
            <a:off x="7086600" y="4125600"/>
            <a:ext cx="1066680" cy="12193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267080" y="2373480"/>
            <a:ext cx="2210040" cy="1143000"/>
          </a:xfrm>
          <a:prstGeom prst="line">
            <a:avLst/>
          </a:prstGeom>
          <a:ln w="507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886200" y="260208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6781680" y="4201920"/>
            <a:ext cx="0" cy="1066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34960" y="344160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2211480" y="351792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643200" y="1765440"/>
            <a:ext cx="6224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659040" y="3441600"/>
            <a:ext cx="45432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106960" y="344160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06960" y="5423040"/>
            <a:ext cx="53028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6554880" y="5423040"/>
            <a:ext cx="37764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554880" y="3441600"/>
            <a:ext cx="4539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231040" y="3517920"/>
            <a:ext cx="3780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1220760" y="3289320"/>
            <a:ext cx="453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1144440" y="3898800"/>
            <a:ext cx="6066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33"/>
                </a:solidFill>
                <a:latin typeface="Times New Roman"/>
              </a:rPr>
              <a:t>(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287440" y="2374920"/>
            <a:ext cx="1140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B(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973240" y="3289320"/>
            <a:ext cx="4543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897280" y="382284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183280" y="2298600"/>
            <a:ext cx="1596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E(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887640" y="2679840"/>
            <a:ext cx="1368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1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4211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3448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792760" y="328932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716440" y="3822840"/>
            <a:ext cx="682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392960" y="3289320"/>
            <a:ext cx="606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236000" y="3933720"/>
            <a:ext cx="9111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02040" y="4508640"/>
            <a:ext cx="1521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792760" y="5194440"/>
            <a:ext cx="5302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6440" y="5727600"/>
            <a:ext cx="7588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(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173640" y="4508640"/>
            <a:ext cx="14446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X2 (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697880" y="4508640"/>
            <a:ext cx="1063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Times New Roman"/>
              </a:rPr>
              <a:t>J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B9FC-07B8-493B-B10C-451F262C6FC6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8C4BE-D399-46CE-B9F8-ED53B6E443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Rozptyl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vyjadřuje míru rozptýlení hodnot náhodné proměnné okolo stře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– odmocnina rozptylu – měří variabilitu v původních jednotkách náhodné proměnn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Očekávaný čas trvání činnosti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(střední hodnota) – převádí tři časové odhady dob trvání činností v jediný odhad střední hodnoty doby trvání činn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</a:rPr>
              <a:t>e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=(a+4m+b)/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cs-CZ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j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b-a)</a:t>
            </a:r>
            <a:r>
              <a:rPr b="0" lang="cs-CZ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/3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225E-DC5D-4420-BCC2-A2AE6AAE8ED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B6FB30-D9C1-4157-B888-BDB9C22561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ou-li známy (či odhadnuty) parametry pro všechny činnosti projektu, lze zjistit pomocí algoritmu kritickou cestu projektu. Stačí místo hodnot očekávaných dob trvání (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ij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 dosadit střední hodnoty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400" spc="-1" strike="noStrike" baseline="-25000">
                <a:solidFill>
                  <a:srgbClr val="000000"/>
                </a:solidFill>
                <a:latin typeface="Arial"/>
              </a:rPr>
              <a:t>e ij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počítané z výše uvedených vztah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ední hodnota celého projektu je rovna součtu středních hodnot činností ležících na kritické cestě graf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o samé platí i pro rozptyl projekt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istuje-li více kritických cest, je třeba vybrat tu s největším rozptyl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5C-CE76-4FBF-8654-D92837BE633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60D64A-21E8-4E70-B53A-21CEBBDD76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lková doba projektu se dá vypočítat jako součet dob trvání činností ležících na kritické cestě. (T</a:t>
            </a:r>
            <a:r>
              <a:rPr b="0" lang="cs-CZ" sz="2400" spc="-1" strike="noStrike" baseline="-25000">
                <a:solidFill>
                  <a:srgbClr val="000000"/>
                </a:solidFill>
                <a:latin typeface="Arial"/>
              </a:rPr>
              <a:t>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y trvání jsou nezávislé náhodné veličiny s Beta rozdělením.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entrální limitní věta (Ljupunovova) říká, že normalizovaný součet nezávislých náhodných veličin lze pro dostatečně velký počet sčítanců aproximovat standardním normálním rozdělen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rmované proměnné jsou ve tva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u= (x-T</a:t>
            </a:r>
            <a:r>
              <a:rPr b="0" lang="cs-CZ" sz="21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1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4B48-EFAC-44F3-9EC9-D906BF45DA2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980F50-FEEF-44F8-BE3A-F242A47297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í pravděpodobnosti dodržení termí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ypočteme hodnoty normované proměnné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u = (x-T</a:t>
            </a:r>
            <a:r>
              <a:rPr b="0" lang="cs-CZ" sz="26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)/ </a:t>
            </a:r>
            <a:r>
              <a:rPr b="0" lang="el-GR" sz="2600" spc="-1" strike="noStrike">
                <a:solidFill>
                  <a:srgbClr val="000000"/>
                </a:solidFill>
                <a:latin typeface="Arial"/>
                <a:ea typeface="Arial"/>
              </a:rPr>
              <a:t>σ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, kde x je požadovaná doba trvání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  <a:ea typeface="Arial"/>
              </a:rPr>
              <a:t>V tabulkách normálního rozdělení najdeme odpovídající hodnotu distribuční funkc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  <a:ea typeface="Arial"/>
              </a:rPr>
              <a:t>Úlohu lze obrátit a hledat takový termín, který bude dodržen s požadovanou pravděpodob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40E6-2758-42B8-9306-2D2382FCE3C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16523F-B31C-47E2-87FF-FE5AE5C6D9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Vlastnosti projektu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dinečnost &amp; neopakovatelnost (acyklič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ovený termín zahájení &amp; ukončení +přidělený rozpočet a zdro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ltiprofesní projektový tým s dočasnou působ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soká neurčitost (riziko) spojené s definováním &amp; způsobem dosahování cíl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mplexnost a složitost předmětu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F889-E2D9-4BFB-B175-8855412442C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AEB69-52CE-4EB1-820B-56404B1E20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0033"/>
                </a:solidFill>
                <a:latin typeface="Times New Roman"/>
              </a:rPr>
              <a:t>Doporučené hodnoty pravděpodobností pro hodnocení stochastických sítí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468" name=""/>
          <p:cNvGraphicFramePr/>
          <p:nvPr/>
        </p:nvGraphicFramePr>
        <p:xfrm>
          <a:off x="914400" y="1600200"/>
          <a:ext cx="7772400" cy="4343400"/>
        </p:xfrm>
        <a:graphic>
          <a:graphicData uri="http://schemas.openxmlformats.org/drawingml/2006/table">
            <a:tbl>
              <a:tblPr/>
              <a:tblGrid>
                <a:gridCol w="3297240"/>
                <a:gridCol w="4475160"/>
              </a:tblGrid>
              <a:tr h="89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 pro hodnoty pravděpodobnost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cen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 0,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dostatečné zabezpečení, hledat cesty, jak dosáhnout vyšších hodno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25 – 0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áce jsou dobře zabezpeče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6 a ví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abezpečení projektu je nadbytečn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44F-D004-4448-9E22-9D6A3CB94FA9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3A0535-A2DB-4866-A3E4-F7B111C00C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eďte časovou analýzu síťového grafu (nejkratší dobu trvání, kritickou cestu), který reprezentuje model projektu zadaného v následující tabulce činnostmi, jejich návazností a dobou tr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F11E-9828-4B69-90D6-E9881A032A0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9C59AD-BF21-465A-B70F-9208E7B0DEB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2411280" y="1557360"/>
            <a:ext cx="4181760" cy="4886280"/>
          </a:xfrm>
          <a:prstGeom prst="rect">
            <a:avLst/>
          </a:prstGeom>
          <a:ln w="0">
            <a:noFill/>
          </a:ln>
        </p:spPr>
      </p:pic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Zadání údaj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9C34-1619-4DE8-997D-DB7171B6CC11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87BF7A-FFC8-45B6-8878-86F9E3BE017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eš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le návaznosti činností uvedených v tabulce sestrojíme hranový síťový graf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číslujeme uzly tak, aby každá hrana vždy vycházela z uzlu nižšího pořadového čísla do uzlu s vyšším číslem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íťový graf je na následujícím obrázku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6760-7E3B-4523-87B2-A552B0BBC93C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C832F3-FAB2-4A60-9EFA-1E8E37D5E54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1547640" y="2060640"/>
            <a:ext cx="6343920" cy="3276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813A-4033-45E2-9C48-BC1BAD5A3D7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CD3602-AC0F-4F64-89DF-FDF724839F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 – výpočet nejdříve možných začátků a konců činnost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635292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3F78-39B9-4025-AEFC-B7E8378EC8A0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12253-319C-4FFF-B01A-881FC3630A7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áze II – výpočet nejpozději přípustných konců a začátků činnos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6267240" cy="32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0DD2-285D-4C34-A004-5A02FEB3890B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815A5D-DFEE-476C-B4C2-41BFAD3410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 Příklad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9000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– opt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 – modální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 – pesimistický odhad doby trvání čin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Charakteristi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y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ěrodatnou odchylku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rozptyl σ</a:t>
            </a:r>
            <a:r>
              <a:rPr b="0" i="1" lang="cs-CZ" sz="2600" spc="-1" strike="noStrike">
                <a:solidFill>
                  <a:srgbClr val="000000"/>
                </a:solidFill>
                <a:latin typeface="Arial"/>
              </a:rPr>
              <a:t>ij</a:t>
            </a:r>
            <a:r>
              <a:rPr b="0" lang="cs-CZ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28CF-4BDB-46CB-987A-08F4E825019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34ECF9-A227-4145-9461-ED1B0037FA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řední hodnota trvání libovolné činnosti 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ěrodatná odchyl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zpty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3348000" y="2205000"/>
            <a:ext cx="1871640" cy="6699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2"/>
          <a:stretch/>
        </p:blipFill>
        <p:spPr>
          <a:xfrm>
            <a:off x="3419640" y="3789360"/>
            <a:ext cx="1368360" cy="64944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3419640" y="5300640"/>
            <a:ext cx="1728720" cy="755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9E9-748D-47AA-9507-B8EC0ADF27E0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959966-0840-444E-A1ED-3770E6C7D9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1" name=""/>
          <p:cNvSpPr txBox="1"/>
          <p:nvPr/>
        </p:nvSpPr>
        <p:spPr>
          <a:xfrm>
            <a:off x="914400" y="16002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 náhodnou veličinu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rmovanou ve tva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terá má normální rozdělení s nulovou střední hodnotou a s jednotkovým rozptylem, lze nalézt odpovídající pravděpodobnosti v tabulce hodnot distribuční funkce normovaného normálního rozděle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/>
          <a:stretch/>
        </p:blipFill>
        <p:spPr>
          <a:xfrm>
            <a:off x="3635280" y="2276640"/>
            <a:ext cx="1287720" cy="80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394-9FE4-4BDE-B254-79936C6C12C8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3DFE62-C202-406C-9F57-1C0B9BEA1A1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rojektové řízení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uží k rozplánování a realizaci složitých akcí, které je potřeba uskutečnit v požadovaném termínu s plánovanými náklady tak, aby se dostálo stanovených cíl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učně: účinné a efektivní dosahování změ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ředmětem projektového řízení je projek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užívané princi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týmové prá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ncip systematické práce – podložené exaktními metoda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émový přístup k řešení problém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E252-DF8B-4557-9356-EB0A6B1B5E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AE0F5E-F322-4BB8-9ABF-AFDB504CC0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ER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6913440" cy="4664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7B7E-9BD3-4C2F-A6BF-BCA749B3EAF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473572-490B-4620-821C-E17F7191DF8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Přepočtený síťový graf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"/>
          <a:stretch/>
        </p:blipFill>
        <p:spPr>
          <a:xfrm>
            <a:off x="2124000" y="2060640"/>
            <a:ext cx="4048200" cy="308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D83F-0C07-48C6-A7ED-764932A7EB4A}" type="slidenum">
              <a:t>5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6DF37-9276-4778-B204-A04513F906A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ní hodnota doby realizace projektu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směrodatná odchylka doby trvání projektu 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sou dány součtem odpovídajících hodnot kritických činností. Te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=168dní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σ</a:t>
            </a:r>
            <a:r>
              <a:rPr b="0" i="1" lang="cs-CZ" sz="28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=5,3 d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vděpodobnost, že projekt skončí o 10 dní dříve, než je spočtená střední hodnota </a:t>
            </a:r>
            <a:r>
              <a:rPr b="0" i="1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T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1"/>
          <a:stretch/>
        </p:blipFill>
        <p:spPr>
          <a:xfrm>
            <a:off x="1332000" y="5445000"/>
            <a:ext cx="4464000" cy="62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50A62-F8E3-46E8-9720-FFF9C634A27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DC51F6-EE4F-4747-A14D-FF5467DCB9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Řízení projektů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70640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Řízení projekt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e praxe stanovování dosažitelných cílů, řízení zdrojů a systematického vyhodnocování výkonů vzhledem ke stanoveným cílům a následné přijímání korektivních opatření k odstraňování odchyle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Projektové ří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organizační systém řízení projektů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ízení formou projektu je vhodné tam, kd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rozsah, neobvyklost, složitost, obtížnost a rizikovost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realizace činností přesahují určitou míru.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 Řízení podle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MBP (Management by Projects) způsob řízení, kdy organizační struktura a způsob práce v organizaci je přizpůsoben metodám projektového řízení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B6C7-CBD4-4399-9EA1-7F40D43F680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BD9C9-0CF0-4670-8881-8E1200D8C6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brý systém řízení projektů je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ecně-použitelný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rientovaný na výstupy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(product-oriented) a zahrnující procesy definování cílů, systém plánování činností, proces výběru metod, systém rozdělování práce &amp; zdrojů, systém sledování postupu &amp; měření výsledk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4D31-8D2B-4F37-AC46-8CA754E4BF1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83A626-B759-4F44-9F7E-FAC9A77B18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9147-A9CA-4B5A-A591-60988E2D0E5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C2DA1-3DAB-4064-9521-41E21D2BC02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0033"/>
                </a:solidFill>
                <a:latin typeface="Arial"/>
              </a:rPr>
              <a:t>Obsahem řízení projek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je aplikování specifických kompetencí, nástrojů a technik na řízení činností s cílem dosáhnout požadovaných cílů resp. naplnit očekávání zájmových skupin. Úspěšné řízení projektu předpokládá rovnováhu mezi 3 komponenty plánování projekt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1. Rozsah (scop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2. Harmonogram (schedu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3. Zdroje (re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580000" y="3933720"/>
            <a:ext cx="2428920" cy="2114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Metody operační analýz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932DD-45EF-4AD5-8193-906E127FD4A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ECA9DC-560E-4C79-8C5E-85067E196E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8T11:41:49Z</dcterms:created>
  <dc:creator>hrstkova</dc:creator>
  <dc:description/>
  <dc:language>en-US</dc:language>
  <cp:lastModifiedBy>hrstkova</cp:lastModifiedBy>
  <dcterms:modified xsi:type="dcterms:W3CDTF">2004-12-03T09:07:40Z</dcterms:modified>
  <cp:revision>7</cp:revision>
  <dc:subject/>
  <dc:title>Řízení projektů</dc:title>
</cp:coreProperties>
</file>