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95C-5D29-4A19-AF42-A8AD6BA3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18A-1233-493C-ABB2-C46FD938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885-3D78-480A-9465-EB5B9851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FAE-7AD0-4B77-88D0-A6039F6E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012A-57D9-405C-ABA8-2BE06219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EFEA-5228-4C91-8D6E-057E63EA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FB86-5846-4A9C-843D-88D172F7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EFC1-9C45-4C7B-9410-B3C94C88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7424-5F63-43AB-9D90-98E9EC9C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2C1C-4E09-48F8-AD8B-1C877578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2B78-DBA1-4C7E-87CE-4972D70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8DC-B9CD-435C-A8EB-E581D6E8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7895-50D6-4C83-964A-7978A14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9130-733F-41A4-8EB6-B865DD67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C2A3-4D0E-478E-8C70-C26807BB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A171-027E-4178-A94C-7D39B5D8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15AA-1960-4620-A938-AE32EE7A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88B-F2D5-4E09-92A2-40BD769E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D35-F8F0-4FFA-B119-C8D9D3FA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939-86AA-4101-8073-4B02A70F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057-E5AF-4C94-B5BE-687805D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0F8-61B1-4B88-9E1A-BD26BA01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510-0105-4F26-B969-C65E86A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000-9069-4961-9A93-1940896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F0A1-EE15-40E1-AB01-13DFAA7F83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3459-A0A6-42C2-9B2D-5FF79A2852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rc.cz/technologicke-burzy-site-irc/" TargetMode="External"/><Relationship Id="rId2" Type="http://schemas.openxmlformats.org/officeDocument/2006/relationships/hyperlink" Target="http://www.intas.be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irc.cz/" TargetMode="External"/><Relationship Id="rId2" Type="http://schemas.openxmlformats.org/officeDocument/2006/relationships/hyperlink" Target="http://www.circ.cz/" TargetMode="External"/><Relationship Id="rId3" Type="http://schemas.openxmlformats.org/officeDocument/2006/relationships/hyperlink" Target="http://www.circ.cz/" TargetMode="External"/><Relationship Id="rId4" Type="http://schemas.openxmlformats.org/officeDocument/2006/relationships/hyperlink" Target="http://www.circ.cz/" TargetMode="External"/><Relationship Id="rId5" Type="http://schemas.openxmlformats.org/officeDocument/2006/relationships/hyperlink" Target="http://www.circ.cz/" TargetMode="External"/><Relationship Id="rId6" Type="http://schemas.openxmlformats.org/officeDocument/2006/relationships/hyperlink" Target="http://www.circ.cz/" TargetMode="External"/><Relationship Id="rId7" Type="http://schemas.openxmlformats.org/officeDocument/2006/relationships/hyperlink" Target="http://irc.cordis.lu/" TargetMode="External"/><Relationship Id="rId8" Type="http://schemas.openxmlformats.org/officeDocument/2006/relationships/hyperlink" Target="http://www.casavo.cz/www" TargetMode="External"/><Relationship Id="rId9" Type="http://schemas.openxmlformats.org/officeDocument/2006/relationships/hyperlink" Target="http://www.casavo.cz/" TargetMode="Externa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ovační proces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ansfer technologií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5734080"/>
            <a:ext cx="359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573408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® 2005 – přednáš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kce transferu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á výzv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ispívá k realizaci změn ve výrobní sféře (řešit nezaměstnanost 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skytování servisu pro producenty nových techn. a potenciální klie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ncipování a rozvoj technologického trhu doma i mezinárodn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ytváření sítě transferů a jejich zahraniční propoj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ový projek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sahuje přesný popis předmětu transferu technologie, etapy, jeho realizace, povinnosti a práva zúčastněných stran, předpokládaný výsledek, přínos transferu a další údaje pro uzavření smlou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dpoklad pro transf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ovat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ipravenost a ochota před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nutí kompletní informace o ekonomické a společenské hodnotě dodávané technolog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nutí porovnání vlastní nové tech. S konkurenčními a stávající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evod KNOW HOW, ale i materiální stránky technolog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Vzdělanostní audit u příjem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ohoda o trvalejší spoluprá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ový projek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jem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hopnost pojmout nové řešení ( lidský potenciál, materiální…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chota se zapojit do transferové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ovační potenciál – zapojení do Va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hopný management – zavedení výrobků na tr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y transfer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decké výzkumné instituce nabízejí svá řeš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niky si objednají řeš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vod licencí, práv k využití paten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kládání nových firem výzkumnými institucemi (U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obr.2 Systém inovačního podnikání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děje na úspě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visí na několika faktore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tech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management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invest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mage fir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č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Pu = Qt x Qm x Qinv x 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technolo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dnocení vysoké – pokud má vysokou inovativní pozici, silnou patentovou a copyrightovou ochranu, zcela nový produkt či služba nebo podstatné zlepšení stávající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management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íčový fak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držuje vyrovnanou  bilanci podni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sná strategie zavedení na tr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hodlání a zkuše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investo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í 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iž úspěšné založené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ítě potenciálních odběrate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íra osobní angažova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kladní poj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ologie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deckotechnické poznatky o produktech, návody na konstrukci, technologické postupy výroby do oblastí praktického užití, případně jako další článek inovačního proce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kladní poj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ransfer vertikáln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převod technologií z fáze výzkumné do fáze ověření výroby a následná sériová výrob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ransfer horizontáln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kompletizace technologií z různých oborů ( např. v rámci vývoje se kompletuje mechanická část s elektronickou, kooperace mezi vývojovými institucemi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 technologi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ces, který zprostředkovává pohyb výsledků VaV ve hmotné a nehmotné podobě od jejich vzniku po jeho konečné využit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Širší pojetí – hmotný i nehmotný trasf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žší pojetí – nehmotný transf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konomické hledisk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 úplatu  x bez úpl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cenční smlouva, prodejní smlouva, kooperač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vod – patentových práv, známkových, vzorových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chanizmus transfer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informační – poskytnutí informací o nové technologi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personální – založen na výměně zkušeností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chnologicko-inovační tr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ouhrn nabídek a poptávek po inovačních technologi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é burz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ýstavy a  trhy nových technologí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pecializované konference</a:t>
            </a:r>
            <a:r>
              <a:rPr b="0" lang="cs-CZ" sz="1600" spc="-1" strike="noStrike">
                <a:solidFill>
                  <a:srgbClr val="003366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é soutěž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circ.cz/technologicke-burzy-site-irc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ntas.b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ěkteré příkla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Technologické centrum koordinuje projek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zech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Innovation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Relay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Centre (CIRC)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, který je zaměřen na mezinárodní transfer technologií a na zavádění nových technologií do malých a středních podniků. Projekt je začleněn do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evropské sítě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68 spolupracujících center (IRC), která zahrnují více než 250 organizací ve 30 zemích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Technologické centrum dále koordinuje projek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Cílený výzkum a vývoj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, jehož cílem je zpřístupňovat výsledky cíleného výzkumu a vývoje financovaného z veřejných prostředků širokému okruhu zájemců z komerční sféry a iniciova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společné výzkumné projekty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kademického a aplikovaného výzkumu. 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dpoklady pro využit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gující sítě poradenství MSP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znik databází pro evidenci a párování inovací a potenciálních výrobc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výhodnění pro inovační fi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stupný rizikový kapitál ( bussines ange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chrana životního prostřední ( trvale udržitelný rozvoj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7:18:49Z</dcterms:created>
  <dc:creator>doma</dc:creator>
  <dc:description/>
  <dc:language>en-US</dc:language>
  <cp:lastModifiedBy>ciboch</cp:lastModifiedBy>
  <dcterms:modified xsi:type="dcterms:W3CDTF">2005-11-15T10:08:50Z</dcterms:modified>
  <cp:revision>7</cp:revision>
  <dc:subject/>
  <dc:title>Inovační procesy</dc:title>
</cp:coreProperties>
</file>