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4908-26AE-4B60-AF04-C0A20C9AB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54B0-83AC-4730-AE77-4CB4AEA8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B64D-F787-4923-B2C9-C3485B5BA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4108-B4F6-4287-BB30-35221FB21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F117-2102-451B-95FB-8DE8F0C2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A89A-04EB-4F6D-8BAB-D5CD4435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72B1-4197-46B6-A259-ECBE9D74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CFD8-93DB-4DE0-9753-7CC249CA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FE93-DA99-434C-AB02-66A70BB9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C053-D57E-4FAC-9D1B-177A6F84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49AC-CEA4-49E5-804B-C455DC69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A7AB-F23A-4BF0-8361-B5072AF1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D2D4-E094-45F6-B4EE-94466B90D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lfaplastik.cz/" TargetMode="External"/><Relationship Id="rId3" Type="http://schemas.openxmlformats.org/officeDocument/2006/relationships/hyperlink" Target="http://www.arsystem/" TargetMode="External"/><Relationship Id="rId4" Type="http://schemas.openxmlformats.org/officeDocument/2006/relationships/hyperlink" Target="http://www.bestquality.cz/" TargetMode="External"/><Relationship Id="rId5" Type="http://schemas.openxmlformats.org/officeDocument/2006/relationships/hyperlink" Target="http://www.vagonka.cz/" TargetMode="External"/><Relationship Id="rId6" Type="http://schemas.openxmlformats.org/officeDocument/2006/relationships/hyperlink" Target="http://www.daas.cz/" TargetMode="External"/><Relationship Id="rId7" Type="http://schemas.openxmlformats.org/officeDocument/2006/relationships/hyperlink" Target="http://www.ecmg.cz/" TargetMode="External"/><Relationship Id="rId8" Type="http://schemas.openxmlformats.org/officeDocument/2006/relationships/hyperlink" Target="http://www.ecmg.cz/" TargetMode="External"/><Relationship Id="rId9" Type="http://schemas.openxmlformats.org/officeDocument/2006/relationships/hyperlink" Target="http://www.ecmg.cz/" TargetMode="External"/><Relationship Id="rId10" Type="http://schemas.openxmlformats.org/officeDocument/2006/relationships/hyperlink" Target="http://www.ecmg.cz/" TargetMode="External"/><Relationship Id="rId11" Type="http://schemas.openxmlformats.org/officeDocument/2006/relationships/hyperlink" Target="http://www.ferrcomp.cz/" TargetMode="External"/><Relationship Id="rId12" Type="http://schemas.openxmlformats.org/officeDocument/2006/relationships/hyperlink" Target="http://www.ftzu.cz/" TargetMode="External"/><Relationship Id="rId13" Type="http://schemas.openxmlformats.org/officeDocument/2006/relationships/hyperlink" Target="http://www.hmpartners.cz/" TargetMode="External"/><Relationship Id="rId14" Type="http://schemas.openxmlformats.org/officeDocument/2006/relationships/hyperlink" Target="http://www.hutniprojekt.cz/" TargetMode="External"/><Relationship Id="rId15" Type="http://schemas.openxmlformats.org/officeDocument/2006/relationships/hyperlink" Target="http://www.hydac.cz/" TargetMode="External"/><Relationship Id="rId16" Type="http://schemas.openxmlformats.org/officeDocument/2006/relationships/hyperlink" Target="http://www.hydac.cz/" TargetMode="External"/><Relationship Id="rId1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valcovna-nh.cz/" TargetMode="External"/><Relationship Id="rId3" Type="http://schemas.openxmlformats.org/officeDocument/2006/relationships/hyperlink" Target="http://www.hz.cz/" TargetMode="External"/><Relationship Id="rId4" Type="http://schemas.openxmlformats.org/officeDocument/2006/relationships/hyperlink" Target="http://www.nmunion.cz/" TargetMode="External"/><Relationship Id="rId5" Type="http://schemas.openxmlformats.org/officeDocument/2006/relationships/hyperlink" Target="http://www.smpas.cz/" TargetMode="External"/><Relationship Id="rId6" Type="http://schemas.openxmlformats.org/officeDocument/2006/relationships/hyperlink" Target="http://www.silvaart.cz/" TargetMode="External"/><Relationship Id="rId7" Type="http://schemas.openxmlformats.org/officeDocument/2006/relationships/hyperlink" Target="http://www.silvaart.cz/" TargetMode="External"/><Relationship Id="rId8" Type="http://schemas.openxmlformats.org/officeDocument/2006/relationships/hyperlink" Target="http://www.strojferr.cz/" TargetMode="External"/><Relationship Id="rId9" Type="http://schemas.openxmlformats.org/officeDocument/2006/relationships/hyperlink" Target="http://www.trz.cz/" TargetMode="External"/><Relationship Id="rId10" Type="http://schemas.openxmlformats.org/officeDocument/2006/relationships/hyperlink" Target="http://www.trz.cz/sv" TargetMode="External"/><Relationship Id="rId11" Type="http://schemas.openxmlformats.org/officeDocument/2006/relationships/hyperlink" Target="http://www.lahvarna.cz/" TargetMode="External"/><Relationship Id="rId12" Type="http://schemas.openxmlformats.org/officeDocument/2006/relationships/hyperlink" Target="http://www.vitkovice.cz/" TargetMode="External"/><Relationship Id="rId13" Type="http://schemas.openxmlformats.org/officeDocument/2006/relationships/hyperlink" Target="http://www.vitkovice.cz/" TargetMode="External"/><Relationship Id="rId14" Type="http://schemas.openxmlformats.org/officeDocument/2006/relationships/hyperlink" Target="http://www.vsb.cz/" TargetMode="External"/><Relationship Id="rId1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206064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ovační proces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5734080"/>
            <a:ext cx="532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® 2005 –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3645000"/>
            <a:ext cx="70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Klastr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č být v klast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mun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dělává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adenství a lobb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 a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duktiv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ov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ternacional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kurenceschop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ný klastr zahrnující všechny subjekty na daném teritoriu od chovu skotu, přes jatka, zpracující průmysl, stroje, obalové technologie včetně konzervárenství, výzkumu, hygieny, veterinářství až po obchod a třeba i krmivo pro domácí mazlíč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klastrnabytku.cz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klastr.lesnictvi.cz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působy identifik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kro – národní úroveň ( vazby skupi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větví jako celk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zzo – úroveň odvě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ikro – firemní úrove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eficient lokaliz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340000" y="1341360"/>
            <a:ext cx="3159000" cy="1805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5280" y="3357720"/>
            <a:ext cx="8137440" cy="29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Qi = koeficient lokalizace pro i-té odvě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= zaměstnanost v i-tém odvvětví regio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= zaměstnanost v itém odvětví ve st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  =  celková zaměstna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ie vytváření klastr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ké strategie klast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lantační strategie klast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bridní strate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e vlá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lepšuje kvalitu základních vstupů pro firmy ( lidské zdroje, fyzická a technická infrastruktura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tváří pravid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poruje začleňování lokálních, regionálních a národních klastrů do strategií a progra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poruje ustavení tzv. klastrovýách iniciativ a podílí se na poč. financ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yšuje povědomí místních firem a občanů regionu o problematice rozvoje region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216000"/>
            <a:ext cx="9144000" cy="66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406960" y="500760"/>
            <a:ext cx="38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 CE"/>
              </a:rPr>
              <a:t>Členská základ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1391760"/>
            <a:ext cx="86040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 CE"/>
              </a:rPr>
              <a:t>Členská základna </a:t>
            </a:r>
            <a:r>
              <a:rPr b="1" lang="en-US" sz="1600" spc="-1" strike="noStrike">
                <a:solidFill>
                  <a:srgbClr val="000000"/>
                </a:solidFill>
                <a:latin typeface="Verdana CE"/>
              </a:rPr>
              <a:t>MSSK</a:t>
            </a:r>
            <a:r>
              <a:rPr b="0" lang="en-US" sz="1600" spc="-1" strike="noStrike">
                <a:solidFill>
                  <a:srgbClr val="000000"/>
                </a:solidFill>
                <a:latin typeface="Verdana CE"/>
              </a:rPr>
              <a:t> je ke dni 20.1.2004 tvořena 34 subjekty. Členská základna v sobě zahrnuje velké, střední i malé podniky zabývající se materiální výrobou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 CE"/>
              </a:rPr>
              <a:t>organizacemi zabývajícími se poskytování služeb pro průmysl, fyzické osoby, sdružení a vysokou ško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0" y="2997360"/>
          <a:ext cx="8964360" cy="3522600"/>
        </p:xfrm>
        <a:graphic>
          <a:graphicData uri="http://schemas.openxmlformats.org/drawingml/2006/table">
            <a:tbl>
              <a:tblPr/>
              <a:tblGrid>
                <a:gridCol w="236520"/>
                <a:gridCol w="5502600"/>
                <a:gridCol w="32252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Název organ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Mě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2"/>
                        </a:rPr>
                        <a:t>Alfa Plastik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Bruntá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3"/>
                        </a:rPr>
                        <a:t>AŘ Systém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4"/>
                        </a:rPr>
                        <a:t>BEST QUALITY, s.r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 - Vítko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5"/>
                        </a:rPr>
                        <a:t>ČKD VAGONKA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 - Vítko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6"/>
                        </a:rPr>
                        <a:t>Dodávky automatizace, spol. s r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 - Vítko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7"/>
                        </a:rPr>
                        <a:t>ecmg</a:t>
                      </a:r>
                      <a:r>
                        <a:rPr b="0" lang="cs-CZ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8"/>
                        </a:rPr>
                        <a:t> </a:t>
                      </a:r>
                      <a:r>
                        <a:rPr b="0" lang="cs-CZ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9"/>
                        </a:rPr>
                        <a:t>consulting</a:t>
                      </a:r>
                      <a:r>
                        <a:rPr b="0" lang="cs-CZ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10"/>
                        </a:rPr>
                        <a:t>, s.r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Český Těší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11"/>
                        </a:rPr>
                        <a:t>FERRCOMP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Frýdlant n. Ost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12"/>
                        </a:rPr>
                        <a:t>FYZIKÁLNĚ TECHNICKÝ ZKUŠEBNÍ ÚSTAV, státní podn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 - Radvan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13"/>
                        </a:rPr>
                        <a:t>HM PARTNERS s.r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14"/>
                        </a:rPr>
                        <a:t>HUTNÍ PROJEKT OSTRAVA akciová společn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15"/>
                        </a:rPr>
                        <a:t>Hydac</a:t>
                      </a:r>
                      <a:r>
                        <a:rPr b="0" lang="cs-CZ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16"/>
                        </a:rPr>
                        <a:t> spol. s r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Planá n.Lu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250920" y="189000"/>
          <a:ext cx="8713440" cy="6335280"/>
        </p:xfrm>
        <a:graphic>
          <a:graphicData uri="http://schemas.openxmlformats.org/drawingml/2006/table">
            <a:tbl>
              <a:tblPr/>
              <a:tblGrid>
                <a:gridCol w="5492880"/>
                <a:gridCol w="3220560"/>
              </a:tblGrid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INGELECTRIC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 - Poru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Jan Počta - C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KOMAS spol. s r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pava - komár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Květoslav Baš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Krn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LICHNA TRADE CZ, s.r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Frýdek - Míste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Lichtgitter CZ spol. s r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Horní Such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MEDIUM SOFT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2"/>
                        </a:rPr>
                        <a:t>NOVÁ HUŤ - Válcovna za studena, spol. s r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 - Vítko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3"/>
                        </a:rPr>
                        <a:t>Odvětvový svaz hutnictví žele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Pra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4"/>
                        </a:rPr>
                        <a:t>Sdružení pro rozvoj Moravskoslezského kra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 - Mar. H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5"/>
                        </a:rPr>
                        <a:t>Severomoravská plynárenská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6"/>
                        </a:rPr>
                        <a:t>Silva</a:t>
                      </a:r>
                      <a:r>
                        <a:rPr b="0" lang="cs-CZ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7"/>
                        </a:rPr>
                        <a:t> ART, spol. s r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Český Těší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8"/>
                        </a:rPr>
                        <a:t>STROJFERR, s.r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Frýdlant n. Ost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9"/>
                        </a:rPr>
                        <a:t>TŘINECKÉ ŽELEZÁRNY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Třin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10"/>
                        </a:rPr>
                        <a:t>TŘINECKÉ ŽELEZÁRNY - strojírenská výroba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Třin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11"/>
                        </a:rPr>
                        <a:t>VÍTKOVICE Lahvárna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 - Vítko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12"/>
                        </a:rPr>
                        <a:t>VÍTKOVICE STROJÍRENSTVÍ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 - Vítko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13"/>
                        </a:rPr>
                        <a:t>VÍTKOVICE - Údržba, spol. s r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 - Vítko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14"/>
                        </a:rPr>
                        <a:t>Vysoká škola báňská - Technická univerzita Ostr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 - Poru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0" y="765000"/>
          <a:ext cx="8929800" cy="6177240"/>
        </p:xfrm>
        <a:graphic>
          <a:graphicData uri="http://schemas.openxmlformats.org/drawingml/2006/table">
            <a:tbl>
              <a:tblPr/>
              <a:tblGrid>
                <a:gridCol w="1616040"/>
                <a:gridCol w="7313760"/>
              </a:tblGrid>
              <a:tr h="30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72b51"/>
                          </a:solidFill>
                          <a:latin typeface="Arial CE"/>
                        </a:rPr>
                        <a:t>Forma podp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ce2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nevratná d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72b51"/>
                          </a:solidFill>
                          <a:latin typeface="Arial CE"/>
                        </a:rPr>
                        <a:t>Výše podp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ce2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rojekt vyhledávání vhodných firem pro klastry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maximálně 75 % uznatelných nákladů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0,2 mil Kč – 1 mil K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rojekt založení a rozvoje klastru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maximálně 75 % (1. rok), 50 % (2. rok), 25 % (3. rok) uznatelných nákladů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celkem maximálně 50 % uznatelných nákladů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 mil Kč – 45 mil K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72b51"/>
                          </a:solidFill>
                          <a:latin typeface="Arial CE"/>
                        </a:rPr>
                        <a:t>Příjemce podp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ce2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kraj nebo jím určená organizace, instituce terciárního vzdělávání, výzkumný ústav (vyhledávání vhodných firem pro klastry)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rávnická osoba podle § 18 zákona č. 40/1964 Sb., občanského zákoníku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zřízená za účelem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odpory inovací a zvýšení konkurenceschopnosti v oboru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 (zakládání a rozvoj klastrů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72b51"/>
                          </a:solidFill>
                          <a:latin typeface="Arial CE"/>
                        </a:rPr>
                        <a:t>Uznatelné nákla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ce2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yhledávání vhodných firem pro klastry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náklady na vyhledávání vhodných firem pro klas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zakládání a rozvoj klastrů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ronájem a vybavení kanceláří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ořízení hmotného a nehmotného majetku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oradenské služby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růzkum trhů a konkurence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ropagace klastru a jeho aktivit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mzdové a cestovní náklady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enchmar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72b51"/>
                          </a:solidFill>
                          <a:latin typeface="Arial CE"/>
                        </a:rPr>
                        <a:t>Specifika a omeze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ce2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yjádření zájmu o zpracování studie minimálně 10 firem, univerzity nebo krajského úřadu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(vyhledávání vhodných firem pro klastry)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klastr musí obsahovat minimálně 15 samostatných organizací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minimálně 60 % členů tvoří MSP a instituce terciárního vzdělávání nebo výzkumné organizace (zakládání a rozvoj klastrů)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ředpoklad udržitelnosti klast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72b51"/>
                          </a:solidFill>
                          <a:latin typeface="Arial CE"/>
                        </a:rPr>
                        <a:t>Podporované činn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ce2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růmyslová výroba a služby dle OKEČ vymezených v příloze programu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zaměření na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inova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 a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zvýšení expor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Klastry - do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t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„ 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 geograficky blízké seskupení vzájemně provázaných firem, specializovaných dodavatelů, poskytovatelů služeb a souvisejících institucí v konkrétním oboru i firem v příbuzných oborech, které spolu soutěží, ale také spolupracují, mají společné znaky a také se doplňují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o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ichael E. Porter v knize Konkurenční výhoda národů (199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m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ůmyslový klastr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anglicky cluster = seskupení, shlu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ho teorie dává klastrům prominentní roli v ekonomickém rozvoji spojeném s konkrétním geografickým mí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ou založeny  na systémových vztazí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ou geograficky vázá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í „životní cyklus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stry nejsou definovány členstv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stry produkují novou kolektivní infrastruktu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69228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ákladní charakteristiky klast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910584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ypy vazeb v klast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ikální vazba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běratelsko-dodavatelské vzta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izontální vaz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operace odvě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ologie klastr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ikální výrobní řetěz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kupení propojených odvě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ální klast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í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ovační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lší dělení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vozená z životního cyklu – embryonální-zralost (zaměřeno na dynamiku zaměstnano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větví – automobilový, strojírenský, textilní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tenciál klastrů – vertikální a horizontální dimenz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hloubka vztahů (hluboký, mělký) x šíř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Hustota firem – hustý  x  řid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ůvody vzniku klastr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vyšují produktivi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vyšují inovační kapaci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mulují rychlejší tvorbu nových fi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21:32:51Z</dcterms:created>
  <dc:creator>jiri</dc:creator>
  <dc:description/>
  <dc:language>en-US</dc:language>
  <cp:lastModifiedBy>snoopy</cp:lastModifiedBy>
  <dcterms:modified xsi:type="dcterms:W3CDTF">2005-11-22T11:23:43Z</dcterms:modified>
  <cp:revision>11</cp:revision>
  <dc:subject/>
  <dc:title>Klastr</dc:title>
</cp:coreProperties>
</file>