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EB61-54DC-486B-B2DA-D4100191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711A-E111-42F9-B40B-7FC8E841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2660-CF03-4B11-8F6A-0CDA7C32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C8D7-6E9B-4DA7-8C1A-7ACC4B9B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C9A8-3BA4-4119-9EFA-5A6DD160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2C6C-38F2-4407-A5BA-45A9B7E8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55B3-6804-4E4C-8B55-0E20345B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ED80-4D68-43A7-B085-4803D59F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B520-9E38-4221-B7E9-B7A4F79A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6FC4-F5CB-4F56-AE17-3645FAFA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DDA9-119B-4E91-B5FE-726865A0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14AF-4C2A-4183-B5C1-78C09C36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D796-5641-4D38-8446-20A24EDFE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vtp.cz/search.php3?search=1&amp;output=1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06064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ovační proce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57340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® 2005 – přednáška č.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364500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stitucionální regionální infrastruk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ifik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kubátory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oviště pomáhající při startu inovačních MS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kytují techniku, poradenské služby, marketing, záruky pro úvě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ifika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ědecké parky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sou orientovány na vývoj malých firem, ale provádí se komplexní výzkum – vývojové řešení – konstrukční zpracování -  ověření výroby – zavedení výroby ve fir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vtp.cz/search.php3?search=1&amp;output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680"/>
            <a:ext cx="6994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vační cen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ědecký park (centru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chnologický park (centr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nikatelské a inovační centrum (mezi nimi členové sítě European Business and Innovation Centre Network - BIC)</a:t>
            </a:r>
            <a:br>
              <a:rPr sz="2800"/>
            </a:br>
            <a:br>
              <a:rPr sz="500"/>
            </a:br>
            <a:r>
              <a:rPr b="0" lang="cs-CZ" sz="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157720"/>
            <a:ext cx="795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ladateli VTP jsou státní a regionální orgány, univerzity,výzkumné a vývojové organizace, průmyslové podniky, hospodářské komory, finanční instituce, soukromé firmy, sdružení a svazy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bjekty inovačního podnik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ány státní správy a samosprá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ní ko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azy, agentury, sdružení a nad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oviště V+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hraniční agentury a organ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nikatelské sub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kazníci, klienti, spotřebitelská veřej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352680" y="4495680"/>
            <a:ext cx="17528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1905120"/>
            <a:ext cx="25909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ěda a ekonomika ve společno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9810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ěda a výzk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46483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o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2895480"/>
            <a:ext cx="198108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í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2971800"/>
            <a:ext cx="19810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3276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zna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676520" y="2286000"/>
            <a:ext cx="25898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5520" y="2209680"/>
            <a:ext cx="289440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1651320" y="3196440"/>
            <a:ext cx="3400920" cy="168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0" y="1"/>
                </a:moveTo>
                <a:arcTo wR="10800" hR="10800" stAng="-5352105" swAng="4767144"/>
                <a:lnTo>
                  <a:pt x="10800" y="10800"/>
                </a:lnTo>
                <a:close/>
              </a:path>
              <a:path fill="none" w="21600" h="21600">
                <a:moveTo>
                  <a:pt x="10950" y="1"/>
                </a:moveTo>
                <a:arcTo wR="10800" hR="10800" stAng="-5352105" swAng="47671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200760" y="3499560"/>
            <a:ext cx="3809160" cy="137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32" y="25"/>
                </a:moveTo>
                <a:arcTo wR="10800" hR="10800" stAng="-5166968" swAng="5166968"/>
                <a:lnTo>
                  <a:pt x="10800" y="10800"/>
                </a:lnTo>
                <a:close/>
              </a:path>
              <a:path fill="none" w="21600" h="21600">
                <a:moveTo>
                  <a:pt x="11532" y="25"/>
                </a:moveTo>
                <a:arcTo wR="10800" hR="10800" stAng="-5166968" swAng="516696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22860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105160" y="4876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676520" y="39621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518148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ržitelnos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zavřením cyklu společnost bohatne a může více investovat do vě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2819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1211400"/>
            <a:ext cx="842472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23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obr.2 Systém inovačního podnikání"/>
          <p:cNvPicPr/>
          <p:nvPr/>
        </p:nvPicPr>
        <p:blipFill>
          <a:blip r:embed="rId1"/>
          <a:stretch/>
        </p:blipFill>
        <p:spPr>
          <a:xfrm>
            <a:off x="684360" y="620640"/>
            <a:ext cx="7416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dostatky inovačního systému ČR (1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tika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ávní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estandardní podnikatelské prostředí, nevynutitelnost práva, nedostatek politické vůle právo vůbec vynucov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ízká podnikatelská morá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ekompetence politiků při přípravě zákonů, pramenící  z nezájmu o problematiku přinášející výsledky až za horizontem volebního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řednost zájmům skupinovým před zájmy společenský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deologie převažuje nad věcnou analýzou zahraničních zkuše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5640" y="177336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cionální regionální infrastrukturu tvoří organizace (instituce), které v regionu prosazují cíle veřejného záj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371628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edpoklady úspěš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4292640"/>
            <a:ext cx="7848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stoupení privátního sektoru v říédících a rozhodovacích orgán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stitucionální uznání struktur v rámci regi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vození z podrobné soc.-ek. analýzy potřeb regi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chopnost prosadit se, zavést nové služ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333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titu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dostatky inovačního systému ČR (2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ční služ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Špatné zákony upravující specifické formy financování inovací (zejména směrem k fondům rizikového kapitál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ochota bank zabývat se záležitostmi, jimž nerozumějí – chybí jim odborná expertíza nezbytná pro rozhodnutí o financování technologických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Záměrně nerozvinutý kapitálový trh (v Praze nelze na burze kótovat malou technologickou firmu – 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anky dávají přednost operacím v zahraničí, kde je právní prostředí standardní, pak chybějí peníze pro domácí průmysl („krev“ ekonomiky, ta je spíše chudokrevn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vláštní nástroj podpory inovací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kubátory, technologické par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Nejúčinnější přenos výsledků výzkumu do praxe je osobou výzkumní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Nejvhodnější formou: založení firmy typu spin-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Typická situace: kvalifikovaný a zkušený technik bez podnikatelských dovedností a bez peně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Inkubátory: vytvořit chráněné prostředí (snížené nájemné, sdílené služby, mentoring, odborné poradenství, vzdělávání v podnikatelských dovednoste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Přístup k finančním nástrojům (mikropůjčky, seed kapitá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459640" cy="445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84360" y="33336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ktu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RA – Centrum pro regionální ro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kresní obchodní a hospodářské ko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gionální a poradenská informační centra R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gionální Euro Info Cen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620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prostředkovatelská infrastruk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různých státech jiná právní 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ČR tzv. německý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414972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lavní činnosti 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atelská infrastruk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ce, které vytvářejí podmínky pro podnikatelské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ůmyslová rozvojová úze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ální ekonomické zóny a exportní zó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atelské inkubač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ifik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vební objekty, ve kterých se zřizují inovační pracoviště, zpravidla  inkubá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ifik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y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čelově uspořádané architektonické komplexy budov – výzkumně vývojových a laboratorních objektů, projekčních a konstrukčních kanceláří, výrobních ha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9:25:16Z</dcterms:created>
  <dc:creator>jiri</dc:creator>
  <dc:description/>
  <dc:language>en-US</dc:language>
  <cp:lastModifiedBy>ciboch</cp:lastModifiedBy>
  <dcterms:modified xsi:type="dcterms:W3CDTF">2005-03-11T17:55:47Z</dcterms:modified>
  <cp:revision>6</cp:revision>
  <dc:subject/>
  <dc:title>Snímek 1</dc:title>
</cp:coreProperties>
</file>