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D4EC-5690-4970-AEEC-598266EC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DF90-CA55-486E-8C70-BEE13F80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7CF7-2293-4862-8BEF-7404C53D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4554-9110-40B6-8802-027F9E84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144F-2F09-4D4A-9FAC-0ECE9F60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C4EA-E948-4F3F-A670-9706D5B4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13D4-50B2-466A-8DA8-B8365A57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67B0-8C4A-4C0C-BEC1-79EB5DCB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1EC7-CA76-4B31-8C35-C9D71B18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DA2D-9804-49A5-ADF9-75A78D6A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5F34-C098-44C1-B60F-C7975776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CEB-10F7-486B-B7CC-CA8EFBF6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0133-8E88-472E-AC8D-E98E9FDC3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ciboch@econ.muni.cz" TargetMode="External"/><Relationship Id="rId3" Type="http://schemas.openxmlformats.org/officeDocument/2006/relationships/hyperlink" Target="mailto:ciboch@econ.muni.cz" TargetMode="External"/><Relationship Id="rId4" Type="http://schemas.openxmlformats.org/officeDocument/2006/relationships/hyperlink" Target="mailto:ciboch@econ.muni.cz" TargetMode="External"/><Relationship Id="rId5" Type="http://schemas.openxmlformats.org/officeDocument/2006/relationships/hyperlink" Target="mailto:ciboch@econ.muni.cz" TargetMode="External"/><Relationship Id="rId6" Type="http://schemas.openxmlformats.org/officeDocument/2006/relationships/hyperlink" Target="mailto:ciboch@econ.muni.cz" TargetMode="External"/><Relationship Id="rId7" Type="http://schemas.openxmlformats.org/officeDocument/2006/relationships/hyperlink" Target="mailto:ciboch@econ.muni.cz" TargetMode="External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06064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ovační proce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57340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® 2004 – přednáška č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3645000"/>
            <a:ext cx="53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Úvod do problematik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ÁKLADNÍ FAKTORY VŠESTRANNÉHO EKONOMICKÉHO ROZVOJ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Půda, přírodní bohatství (kvantitativní a kvalitativní pohl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Kapitál (množství financí, kvalita používání kapitál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Lidská práce (nejdůležitější faktor, překážkou je problém kvantity a kvality prá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Podnikavost (schopnost, znalost, pí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Tech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Pok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měna způsobu výroby a změna výrobního prostředku, změna společnosti - byla dána nějakým novým myšlenkovým pochodem, vynálezem, novou znalostí … zdokonalení nářadí pro polní práce, zapojení síly domácích zvířat do polních prací,  využívání síly vodního toku; vynález parního stroje, zapojení síly páry do průmyslové výroby, vynález elektrického stroje – generátoru a motoru – zapojení síly elektrického proudu do výroby; vynález pásové výrob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ůmyslová revolu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mesla se začala měnit v zárodky průmyslové výrob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hodujícím výrobním faktorem byla půda a rozhodující část vytvořeného přebytku si přivlastňovali vlastníci půdy (v Anglii landlordi). Ti ovšem nebyli schopni tento přebytek použít produktivně, sloužil jim k neproduktivní spotřebě, demonstrování výs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ůst produktivity práce v rodícím se průmyslovém sekt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lom nastal ve chvíli, kdy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výšení intenzity technologických a výrobkových inov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vace vedla k prudkému nárůstu produktivity prá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ktor průmyslu začal svými výstupy vstupovat do oblasti zemědělství a zvyšoval produktivitu práce v zemědělství i produktivitu využití pů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lší zdokonalování průmyslové vý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le se rozšiřující oblast potřeb obyvatelstva byla uspokojována průmyslovou produkc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907920"/>
            <a:ext cx="837432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Joseph  Alois  Schumpeter</a:t>
            </a:r>
            <a:br>
              <a:rPr sz="44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(1883-195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299736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kladatel teorie inovac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7240" y="5012640"/>
            <a:ext cx="61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osef Alois Schumpeter se narodil 8. února 1883 v Třeš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rodině německého podnikat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"Theorie der wirtschaftlichen Entwicklung"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191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"Business Cycles"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193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"History of Economic Analysis"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1952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09080" y="772560"/>
            <a:ext cx="26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ublikace 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kladní premisy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ický vývoj je založený na inovacích a vychází zevnitř systém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klický vývoj ekonomi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voufázový model 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mach x depr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činy cyklických kolís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terní (institucionáloní změny, revoluce, války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aktory ekonomického růstu (akumulace, demografické změn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ov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Arial"/>
              </a:rPr>
              <a:t>LISABONSKÝ  PROCES</a:t>
            </a:r>
            <a:br>
              <a:rPr sz="5300"/>
            </a:b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Summit Evropské rady -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2997000"/>
            <a:ext cx="8229600" cy="32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ty EU se stanou do roku 2010 nejkonkurenceschopnější a nejdynamičtější znalostní ekonomikou, schopnou udržitelného růstu s více a s lepšími pracovními místy a s více posílenou sociální soudržností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nistr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iří Cib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ncelář na katedře KRES – č.  5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zultační hodiny – Út 9:00 – 11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 -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iboch@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con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muni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eb, pošta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klady, přednášky…úk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pomínky, náměty, otáz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finice</a:t>
            </a:r>
            <a:br>
              <a:rPr sz="4800"/>
            </a:br>
            <a:r>
              <a:rPr b="0" i="1" lang="en-US" sz="3200" spc="-1" strike="noStrike">
                <a:solidFill>
                  <a:srgbClr val="66ff33"/>
                </a:solidFill>
                <a:latin typeface="Arial"/>
              </a:rPr>
              <a:t>Evropská k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0048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ovace je obnova a rozšíření škály výrobků a služeb a s nimi spojených trhů, vytvoření nových metod výroby, dodávek a distribuce zavedení změn řízení, organizace práce, pracovních podmínek a kvalifikace pracovní sí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32000" y="2492280"/>
            <a:ext cx="597672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ce inova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ké x Netechnick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4320" y="4507560"/>
            <a:ext cx="38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robkové a technologick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4320" y="4507920"/>
            <a:ext cx="30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ční a podnikatelsk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nažerské) inov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771640" y="3645000"/>
            <a:ext cx="4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80000" y="3645000"/>
            <a:ext cx="576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20" y="621612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slo manual - navrhované směrnice pro sběr a interpreta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dajů o technických inovacích OECD/Eurostat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zdělení inovac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84400" y="2498760"/>
            <a:ext cx="4911480" cy="2994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581280" y="17524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ýrob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37339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5715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binova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5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042920" y="1197000"/>
          <a:ext cx="7345440" cy="5222880"/>
        </p:xfrm>
        <a:graphic>
          <a:graphicData uri="http://schemas.openxmlformats.org/drawingml/2006/table">
            <a:tbl>
              <a:tblPr/>
              <a:tblGrid>
                <a:gridCol w="7345440"/>
              </a:tblGrid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   Počty evropských patentů registrovaných v Evropě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   Počty evropských patentů registrovaných v 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   Počty evropských patentů v oblasti high-tech registrovaných v Evrop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   Počty evropských patentů v oblasti high-tech registrovaných v 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   Veřejné výdaje na výzkum a vývoj (podíl na HD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   Podnikové výdaje na výzkum a vývoj (podíl na HD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   Počty vysokoškolských absolventů v přírodovědných a technických obor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   Počty obyvatel s dokončeným terciárním vzdělání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   Výdaje na informační a telekomunikační technologi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CT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podíl na H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Rizikový kapitál </a:t>
                      </a:r>
                      <a:r>
                        <a:rPr b="0" i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Early stage venture capital)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podíl na H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Přidaná hodnota v high-tech průmyslových odvětvíc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1835280" y="33336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azatele pokroku v inovací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vinná literatura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onkurenceschopnost, inovace a klastry (Doc.Ing. Karel Skokan, Ph.D.; Repronis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poručená lit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ovace a odnikavost, Petr F. Druck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nagement Press, Praha 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ovační centra, Konečný M.,Skokan K., Zamarský V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á univerzita Ostrava,  Ostrava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2637000"/>
            <a:ext cx="842472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ypnout mobilní příst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ní-li něco jasné nebojte se a ptejte 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e jinak prosím o zachování kli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1413000"/>
            <a:ext cx="60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a přednášká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kon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počet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nární práce – cca 10 s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ísemný test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ná znalost skript přednáše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anice 75 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poručuji učit se průběžně  8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ah předmě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íl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známit se základy vývoje, tvorby a  dopadů inovačních procesů na hospodář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y ve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vislosti – věda, výzk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iv inovací na regionální t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absolvování kurzu byste mě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ědět proč je inovační proces důležitý –     podpo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épe rozumět hospodářské strategii EU a ČR Lisabonský pro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nás čeká a nemine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 Inovační procesy a region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ategie inovačních procesů  a hospodářská politika (nástroje, projevy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ovační procesy v podnikání (Knowledge managemen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10880" y="1196280"/>
            <a:ext cx="350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ovační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fir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7280" y="1915200"/>
            <a:ext cx="42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ovační podniká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0560" y="3859920"/>
            <a:ext cx="44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ffsetové program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2720" y="3212280"/>
            <a:ext cx="158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las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51280" y="4580640"/>
            <a:ext cx="20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Spin-off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49840" y="5372640"/>
            <a:ext cx="44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ransfer technologi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79280" y="2564640"/>
            <a:ext cx="50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ědeckotechnický pa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63640" y="40464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oužívaná terminologie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63640" y="2924280"/>
            <a:ext cx="5554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lečnost a tvorba hod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360" y="184464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2T21:47:13Z</dcterms:created>
  <dc:creator>jiri</dc:creator>
  <dc:description/>
  <dc:language>en-US</dc:language>
  <cp:lastModifiedBy>ciboch</cp:lastModifiedBy>
  <dcterms:modified xsi:type="dcterms:W3CDTF">2005-02-26T11:46:00Z</dcterms:modified>
  <cp:revision>4</cp:revision>
  <dc:subject/>
  <dc:title>Snímek 1</dc:title>
</cp:coreProperties>
</file>