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7EC-C7C1-4160-BBC1-77241BBA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C04-196E-46E4-837A-553EE645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E7C-C828-4250-9DE0-4B73A3C8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C99-35E4-43CA-85A2-885EDFD0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555-1BB8-4B62-8DCC-2009968F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668-5837-4E46-AF3E-828BF9A9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D9D-F842-48BC-8753-5F5D3271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C6C-A922-4C9C-849B-A07BD550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64F-BD8B-4051-9A57-DC8F7C90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BD4-E480-4248-A2BB-856EAF9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338-1C4D-491B-92F4-817B53A5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6C7-20BB-4DB3-B8C2-6CCE0E6D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A2A1-8ADB-4D74-9EB5-27EB88884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yzkum.cz/RedirectorSekce.aspx?idsekce=954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5 – přednáška č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V  - politika, podpora,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052640"/>
          <a:ext cx="820728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052640"/>
                    <a:ext cx="820728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050920" y="404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obyvatelstva s VŠ vzděláním na celkovém počtu obyvatelst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8893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93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50920" y="119664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daje na VaV celkem (% HDP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-181080" y="0"/>
          <a:ext cx="9180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0"/>
                    <a:ext cx="9180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506920" y="263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íl veřejných zdrojů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kových výdajích na VaV (%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hlášky pat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ělené pat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ované výzkumné zámě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PV, EPO, US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355640" y="54864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dělené patenty EPO (počet/mil. obyv.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nancování Va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elové financován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ntové proj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gramové proj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é půj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přímé financ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: - daňové úlevy, pobídky, odpisy, snížení soc. a zdrav. za zaměstnance VaV apod.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S V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S VaV má tyto datové obla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Centrální evidence projektů výzkumu a vývoje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E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Centrální evidence výzkumných záměrů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Rejstřík informací o výsledcích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Evidence veřejných soutěží ve výzkumu a vývoji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58920" y="1484280"/>
            <a:ext cx="68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 tvořen 4 základními pilíři, které na sebe vzájemně působ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Řídící slož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zdělávací systé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ovační podnik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54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ční 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43000"/>
          <a:ext cx="885672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8567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619280" y="4046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ové členění projektů VaV v letech 2000–2002 podle jejich poč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žití rizikového kapitálu v oblasti VaV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9640" y="0"/>
          <a:ext cx="8137800" cy="6718320"/>
        </p:xfrm>
        <a:graphic>
          <a:graphicData uri="http://schemas.openxmlformats.org/drawingml/2006/table">
            <a:tbl>
              <a:tblPr/>
              <a:tblGrid>
                <a:gridCol w="2033640"/>
                <a:gridCol w="2036880"/>
                <a:gridCol w="2033640"/>
                <a:gridCol w="2033640"/>
              </a:tblGrid>
              <a:tr h="77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ě/ro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ice rizikového kapitálu do oblasti high-tech</a:t>
                      </a:r>
                      <a:br>
                        <a:rPr sz="1500"/>
                      </a:br>
                      <a:r>
                        <a:rPr b="1" i="1" lang="cs-C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 HDP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kové investice rizikového kapitálu</a:t>
                      </a:r>
                      <a:br>
                        <a:rPr sz="1500"/>
                      </a:b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 HDP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á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o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mec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zozem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kou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c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jené královstv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 - prů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ďar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i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íklady mimořádných výsledků VaV v AV ČR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ové metody neinvazivní diagnostiky nervových a kardiovaskulárních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v prosinci 2002 přihlášen v USA k patent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ék proti hepatitidě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teriálové modely betonu pro posuzování nadprojektových havárií jaderných elektrá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ová právně chráněná odrůda jabloně "Rubinstep" zaváděná do pěstování v EU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on č. 130/2002 Sb., o podpoře výzkumu a vývoje z veřejných prostředků a o změně některých souvisejících zákonů (zákon o podpoře výzkumu a vývoje) byl dne 12. dubna 2002 vyhlášen ve Sbírce zákonů s účinností ode dne 1. července 200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 pro výzkum a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řízena v roce 1992 – zákonem České národní rady č. 300/1992 Sb., o státní podpoře vědecké   činnosti a vývoje technologi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odborným a poradním orgánem vlády České republi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ází se jednou za tři týd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ukazatele výzkumu a vývo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ákladní ukazatele vyjadřující ekonomickou úroveň dané zem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resp. vliv VaV na tuto úroveň (HDP/obyv.; zahraniční obchod s vyspělými výrobky, technologiemi a službami; zaměstnanost v průmyslu a službách s vyspělými technologi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Lidské zdroje Va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ýdaje na VaV a jejich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ruktura užití prostředků na Va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e třech hlavních sektorech: podnikatelském, veřejném (vládním) a na vysokých škol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21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-171360"/>
          <a:ext cx="8534160" cy="72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-171360"/>
                    <a:ext cx="8534160" cy="72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l vývozu produktů z oborů high-tech na celkovém vývozu (%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476280"/>
          <a:ext cx="8785440" cy="69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6280"/>
                    <a:ext cx="8785440" cy="69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zaměstnanců VaV (FTE) (osob/1000 pracovních sil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89000"/>
          <a:ext cx="8388360" cy="69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8388360" cy="69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2:35Z</dcterms:created>
  <dc:creator>doma</dc:creator>
  <dc:description/>
  <dc:language>en-US</dc:language>
  <cp:lastModifiedBy>ciboch</cp:lastModifiedBy>
  <dcterms:modified xsi:type="dcterms:W3CDTF">2005-11-01T10:11:31Z</dcterms:modified>
  <cp:revision>14</cp:revision>
  <dc:subject/>
  <dc:title>Snímek 1</dc:title>
</cp:coreProperties>
</file>