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A371-4E6E-4782-BA29-5F5D7D8B5C0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6RP 2002-2006 ……………………….17,5 mld e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= 3,9 % rozpočtu EU (20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6% veřejných prostředků EU na výzk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295-526E-4622-9C8E-4A394EC5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681-5EE1-47FD-8BBB-2DDAEDE9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181-AB23-4E36-AA32-B03380AD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F11-608E-47C3-AE85-9345808F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5D41-C6DD-47DD-B9DA-119CB24E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3704-6CBB-48F9-8906-D840AEC2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0917-F932-40D5-92AB-F233A745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6AF5-1270-461C-9510-00D432CC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65C2-D5F8-4419-8D93-F16DD37F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1BD1-973C-4D31-9EA6-651E34DC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3940-0E54-413E-8714-0DD31617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AF9-2000-47A9-84D1-07C5588A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CBDF-8ABE-4504-8607-E605419D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DD53-4F90-4248-B40F-9D1FFDAE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F156-5CF7-41FA-9B36-E96DE6E7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CBB5-BC7B-447F-A8F6-EF47725F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FDB5-B242-42F1-95E5-E6C17067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84CB-C284-4C1A-9C95-BC823CA3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9A8-D179-40AB-95B4-270EE34B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28EC-C762-482E-A218-2C169F64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8C75-2C4A-4A61-A374-061F9C55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0A4C-2942-4682-8761-FB6CBED6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A10-14F7-49F8-8E54-06E6DF0B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8AA-19C3-4CFE-92AF-5DCDE4C4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528B-579B-4AD5-A8F6-BF94228B3D9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485C-08B6-4C95-9B42-74327A32344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fp6.cordis.lu/fp6/partners.cfm" TargetMode="External"/><Relationship Id="rId2" Type="http://schemas.openxmlformats.org/officeDocument/2006/relationships/hyperlink" Target="http://www.kowi.de/services/IPS/igloservice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921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ODPORA VĚDECKÉ PRÁ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00000" y="2852280"/>
            <a:ext cx="7632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4005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ovační proces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5373720"/>
            <a:ext cx="41054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droj 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ÁRODNÍ INFORMAČNÍ CENTRUM PRO EVROPSKÝ VÝZK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26920" y="1125360"/>
            <a:ext cx="374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tegrované projek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Cíl – vytvořit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novou znalost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v rámci tematických priorit 6.R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Dosáhnout </a:t>
            </a:r>
            <a:r>
              <a:rPr b="1" lang="cs-CZ" sz="1800" spc="-1" strike="noStrike">
                <a:solidFill>
                  <a:srgbClr val="003366"/>
                </a:solidFill>
                <a:latin typeface="Arial"/>
              </a:rPr>
              <a:t>ambiciózních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a jasně definovaných vědeckých a technologických cíl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Arial"/>
              </a:rPr>
              <a:t>Multidisciplinární 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projekty zahrnující výzkumné, vývojové, demonstrační, školicí  aktivity, adekvátní řídící struktura, využití znalost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Nástroj pro podporu cílově orientovaného výzkumu „evropské dimenze“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ozpočet projektu až desítky Meur, trvání 3-5 l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říspěvek EK – grant k rozpočt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(1. výzva TP1 –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ø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účastníků IP – 23, příspěvek 15 M€, TP5 – příspěv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3 M€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26920" y="1268280"/>
            <a:ext cx="33102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ítě excelence (No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Nástroj k překonání fragmentace evropského výzkumu – hlavním výstupem bude vytvoření trvalé struktury s vysokou mírou integrace výzkumných aktiv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Cílem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posílit „excelenci“ v evropském výzkumu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v prioritních oblaste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Arial"/>
              </a:rPr>
              <a:t>trvalá integrace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výzkumných kapac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Arial"/>
              </a:rPr>
              <a:t>společný program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aktiv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dlouhodobé cíle </a:t>
            </a:r>
            <a:r>
              <a:rPr b="1" lang="cs-CZ" sz="1800" spc="-1" strike="noStrike">
                <a:solidFill>
                  <a:srgbClr val="003366"/>
                </a:solidFill>
                <a:latin typeface="Arial"/>
              </a:rPr>
              <a:t>multidisciplinární 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povah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vysoká úroveň </a:t>
            </a:r>
            <a:r>
              <a:rPr b="1" lang="cs-CZ" sz="1800" spc="-1" strike="noStrike">
                <a:solidFill>
                  <a:srgbClr val="003366"/>
                </a:solidFill>
                <a:latin typeface="Arial"/>
              </a:rPr>
              <a:t>autonomie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řízení sít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postupná </a:t>
            </a:r>
            <a:r>
              <a:rPr b="1" lang="cs-CZ" sz="1800" spc="-1" strike="noStrike">
                <a:solidFill>
                  <a:srgbClr val="003366"/>
                </a:solidFill>
                <a:latin typeface="Arial"/>
              </a:rPr>
              <a:t>integrace 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pracovních program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ůležitým úkolem bude  „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šířit excelenci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“ vně sít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ozpočet až desítky M€, po dobu 5 i více (maximálně 7) l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říspěvek EK -  fixní grant pro integraci, v prvních výzvách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Ø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15 M€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920" y="126828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Článek 16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25653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možňuje ES účastnit se ve výzkumných programech uskutečňovaných několika členskými státy –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tegruje „národní programy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 určité oblasti výzkum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yžaduje společnou iniciativu národních programů a Komise – výsledkem návrh – předkládá Komi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louhodobý a komplexní rozhodovací proces, spolurozhoduje Parlament a Ra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26920" y="981000"/>
            <a:ext cx="73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ecificky zaměřené výzkumné projekty (STRE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2565360"/>
            <a:ext cx="777240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ýzku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s jasně stanovenými cíli, (vývoj nebo zlepšení produktů, procesů, služeb, demonstrace ověření životaschopnosti nových technologi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Účastníci: min. 3 ze 3 různých členských nebo asociovaných zemí (z toho 2 z MS nebo ACS), v prvních výzvách průměrně vyšší jednotky účastníků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vání: 2-3 rok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ozpočet: několik M€, v prvních výzvách průměrné příspěvky cca 3 M€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říspěvek EK má formu grantu k rozpočt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26920" y="126828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oordinační akce (CA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2276640"/>
            <a:ext cx="77724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íl: podpora vytváření sítí a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koordina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jejich výzkumných a inovačních aktivit (organizace a řízení společných aktivit, konference, meetingy, studie, školicí aktivity, expertní skupiny, atd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kračování tematických sítí z 5. R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nanční podpora – grant k rozpočtu (až do 100% nákladů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1197000"/>
            <a:ext cx="540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ecifické podpůrné akce (SSA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270828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odpor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mplementace cílů RP v tématických prioritá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říprava budoucích výzkumných politik a aktivit (konference, semináře, soutěže a ceny, pracovní skupiny, informační a komunikační aktivit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apojení MSP, spolupráce s CC, 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nancování: grant k rozpočtu (až 100% nákladů akce), první výzvy  průměrně 0,5 M€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4360" y="2421000"/>
            <a:ext cx="79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rojekty kooperativního výzkumu - CRAF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spolupráce mezi SME a výzkumnými organizacemi (vyvinout novou technologii nebo produkt, který není komerčně dostupný, vyřešit technický problém, dokončit vývoj prototypu, nového výrobku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- MSP formulují a zadávají výzkumný úkol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- výzkumné organizace provádí výzkum na základě zadání konsorcia MS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- do 2 mil. EUR, 2 roky, více než 50% příspěvek 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rojekty kolektivního výzkumu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Výzkum prováděný výzkumnými organizacemi na základě požadavků evropských průmyslových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asociací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nebo národních asociací v zájmu určitého společenství (řešení společných problémů, výzku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osílení technologické báze daného sektoru(ů),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chnolog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ický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ransfer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- 2-5 mil. EUR,2-3 rok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25840" y="105264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ecifické projekty pro MS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692360" y="1052640"/>
            <a:ext cx="65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kce Marie Curie – lidské zdroje a mobili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700280"/>
            <a:ext cx="7489800" cy="44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školící mís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výzkumné školící sít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školící místa pro začínající věd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školící místa pro výměnu znalost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konference a školen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individuální stáž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evropské stáže pro evropské věd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evropské stáže pro vědce ze třetích zem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stáže ve třetích zemích pro evropské věd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podpora a ocenění vynikající vědecké prá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granty pro vynikající vědecké tým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ceny pro vynikající věd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profesury Marie Curi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reintegrační (návratové) gran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evropské reintegrační gran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mezinárodní reintegrační gran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55960" y="1553760"/>
            <a:ext cx="51847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ŘÍPRAVA PROJEKTŮ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3429000"/>
            <a:ext cx="316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téma/nástroj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konzorci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vlastní návr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916360" y="404640"/>
            <a:ext cx="2808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Konzorciu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198900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í zajistit vzájemně se doplňující spektrum odborností,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disciplín, zemí a lidských zdroj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šichni se podílí na projekt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ředchozí zkušenost s projekty EU výhodo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čekává se dlouhodobá/trvalá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oluprá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126828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konzorcium:</a:t>
            </a: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min.3 právní subjekty ze 3 států – EU, ACC, AC (VÚ, univerzity, průmysl včetně MSP, asociace, apod.)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3645000"/>
            <a:ext cx="7632720" cy="33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koordinátor:</a:t>
            </a: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zkušenosti s evropskými projekty (u IP a NoE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partneři:</a:t>
            </a: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osobní kontakty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, konference, publikace, síť NCP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služby „partner search“: 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fp6.cordis.lu/fp6/partners.cf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databáze EoI: </a:t>
            </a:r>
            <a:r>
              <a:rPr b="0" lang="cs-CZ" sz="1800" spc="-1" strike="noStrike">
                <a:solidFill>
                  <a:srgbClr val="99cc99"/>
                </a:solidFill>
                <a:latin typeface="Arial"/>
              </a:rPr>
              <a:t>http://eoi.cordis.lu/search_form.cf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databáze projektů kontrahovaných v minulosti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cc99"/>
                </a:solidFill>
                <a:latin typeface="Arial"/>
              </a:rPr>
              <a:t>http://dbs.cordis.lu/search/en/simple/EN_PROJ_simple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databáze, např. IGLO Project Search:    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kowi.de/services/IPS/igloservice.ht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9cc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mezinárodní informační dn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UREKA – Evropská spolupráce v oblasti aplikovaného a průmyslového výzkumu a vývoj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gram EUREKA byl vyhlášen v roce 1985 s cílem podporovat nadnárodní spolupráci mezi průmyslovými podniky, výzkumnými ústavy a vysokými školami a vytvářet tak podmínky pro růst výkonnosti a konkurenceschopnosti evropského průmyslu a rozvoje jeho společné infrastruktury. Komerční využití výsledků řešení položilo zároveň důraz na aktivní zapojení výzkumu a vývoje do tržní ekonomiky.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jekty EUREKY mají výhradně civilní charakter a jsou zaměřeny na oblast soukromého i veřejného sektoru. Jejich výstupem musí být nové, inovované špičkové výrobky, technologie či progresivní služby, schopné prosadit se na světovém trhu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 současné době EUREKA sdružuje 33 států a řádným členem je rovněž Komise Evropské unie. Z bývalých socialistických zemí jsou členy Česká republika, Maďarsko, Polsko, Rusko, Slovinsko, Rumunsko a Litva, Bulharsko, Estonsko, Lotyšsko, Slovensko, Ukrajina, bývalá Federace Jugoslávie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44120" y="762120"/>
            <a:ext cx="49914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očet účastníků v projektech 6. RP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00000" y="2349360"/>
          <a:ext cx="7704360" cy="450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49360"/>
                    <a:ext cx="770436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Zaměření projektů programu EUREK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informační technologie 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ové materiály   životní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rostředí   biotechnologie a technologie ve zdravotnictví  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robotika a automatizace výroby   komunikační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echnologie   energetik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doprava  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laser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3366"/>
                </a:solidFill>
                <a:uFillTx/>
                <a:latin typeface="Trebuchet MS"/>
              </a:rPr>
              <a:t>Program EUREKA a Česká republi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Trebuchet MS"/>
              </a:rPr>
              <a:t>V období 1992-2004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366"/>
                </a:solidFill>
                <a:latin typeface="Trebuchet MS"/>
              </a:rPr>
              <a:t>účast v 164 projektech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366"/>
                </a:solidFill>
                <a:latin typeface="Trebuchet MS"/>
              </a:rPr>
              <a:t>řešiteli více než 300 organizací – převažují průmyslové podniky (MSP i VP) dále výzkumné organizace, univerzity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1" lang="cs-CZ" sz="1900" spc="-1" strike="noStrike">
                <a:solidFill>
                  <a:srgbClr val="003366"/>
                </a:solidFill>
                <a:latin typeface="Trebuchet MS"/>
              </a:rPr>
              <a:t>(spojení český podnik-univerzita-zahraniční partneři)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366"/>
                </a:solidFill>
                <a:latin typeface="Trebuchet MS"/>
              </a:rPr>
              <a:t>finanční náklady projektů představují cca 369,0 MEuro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rebuchet MS"/>
              </a:rPr>
              <a:t>z toho podíl českých organizací 66,0 MEur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1" lang="cs-CZ" sz="1800" spc="-1" strike="noStrike">
                <a:solidFill>
                  <a:srgbClr val="003366"/>
                </a:solidFill>
                <a:latin typeface="Trebuchet MS"/>
              </a:rPr>
              <a:t>(2 110 mil. Kč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rebuchet MS"/>
              </a:rPr>
              <a:t>vlastní finanční zdroje organizací 1 560 mil. K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rebuchet MS"/>
              </a:rPr>
              <a:t>spolufinancování z účelových prostředků na mezinárodní spolupráci ve VaV 550 mil. Kč (od roku 199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1125360"/>
            <a:ext cx="6121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6. RÁMCOVÝ PROGRAM E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2708280"/>
            <a:ext cx="7993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ytvořit nástroj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které povedou k silnějšímu propojení národních, regionálních a dalších evropských aktivi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just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zajistit vysokou efektivitu řešení výzkumných problémů a patřičnou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tonomii řešitelských týmů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just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možnit takové strukturování výzkumu, které zajistí Evropě významnou pozici v 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zvíjení lidských zdrojů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 v mezinárodní spolupráci ve vědě a výzkumu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just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rovat výzkum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ve vybraných tematických prioritách, ve kterých by Evropa měla dosáhnout vysoké přidané  hodno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3080" y="2349360"/>
            <a:ext cx="41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Základní principy 6. RP (2002 – 2006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920" y="112536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oubory aktivit 6. RP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Zaměření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a integrace výzkum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7 priorit a specifické aktivity zahrnující širší oblast výzkumu – MSP, INCO, NEST, podpora politik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3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285 mil. €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I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Strukturování Evropského výzkumného prostoru</a:t>
            </a:r>
            <a:r>
              <a:rPr b="0" lang="en-US" sz="2000" spc="-1" strike="noStrike">
                <a:solidFill>
                  <a:srgbClr val="cc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2 655 mil. 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mobility, výzkumné infrastruktury,výzkum a inovace, věda a společnos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II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osilování základů Evropského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výzkumného prostor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330 mil. 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koordinace politik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elkem 6. RP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6 270 mil. €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ozpočet programu EURATO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 230 mil. €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00000" y="5156280"/>
            <a:ext cx="7632720" cy="398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3300"/>
                </a:solidFill>
                <a:latin typeface="Arial"/>
              </a:rPr>
              <a:t>II.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tru</a:t>
            </a:r>
            <a:r>
              <a:rPr b="1" lang="cs-CZ" sz="2000" spc="-1" strike="noStrike">
                <a:solidFill>
                  <a:srgbClr val="cc3300"/>
                </a:solidFill>
                <a:latin typeface="Arial"/>
              </a:rPr>
              <a:t>kturování Evropského výzkumného prostoru (2605 M€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1413000"/>
            <a:ext cx="763272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Arial"/>
              </a:rPr>
              <a:t>I. Zaměření a integrace výzkumu EU (13 345 M€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-156960" y="3531960"/>
            <a:ext cx="248616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ifeSciHealth 225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485640" y="3528720"/>
            <a:ext cx="24796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36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3457080" y="3516120"/>
            <a:ext cx="247680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tizen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2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1121400" y="3523320"/>
            <a:ext cx="247824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no.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3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1684080" y="3524040"/>
            <a:ext cx="24796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ero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107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2326320" y="3523320"/>
            <a:ext cx="247824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d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68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2894040" y="3519360"/>
            <a:ext cx="247320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stainable dev.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12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979640"/>
            <a:ext cx="39610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cs-CZ" sz="18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matic</a:t>
            </a:r>
            <a:r>
              <a:rPr b="1" lang="cs-CZ" sz="1800" spc="-1" strike="noStrike">
                <a:solidFill>
                  <a:srgbClr val="ffff66"/>
                </a:solidFill>
                <a:latin typeface="Arial"/>
              </a:rPr>
              <a:t>ké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priorit</a:t>
            </a:r>
            <a:r>
              <a:rPr b="1" lang="cs-CZ" sz="1800" spc="-1" strike="noStrike">
                <a:solidFill>
                  <a:srgbClr val="ffff66"/>
                </a:solidFill>
                <a:latin typeface="Arial"/>
              </a:rPr>
              <a:t>y (11 285 M€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2492280"/>
            <a:ext cx="35290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licy support 22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03640" y="3571920"/>
            <a:ext cx="35290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E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43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4076640"/>
            <a:ext cx="35290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NCO 31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03640" y="4581360"/>
            <a:ext cx="35290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RC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760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2997360"/>
            <a:ext cx="3529080" cy="388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23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00000" y="5516640"/>
          <a:ext cx="7632360" cy="304560"/>
        </p:xfrm>
        <a:graphic>
          <a:graphicData uri="http://schemas.openxmlformats.org/drawingml/2006/table">
            <a:tbl>
              <a:tblPr/>
              <a:tblGrid>
                <a:gridCol w="2040120"/>
                <a:gridCol w="1776240"/>
                <a:gridCol w="2171160"/>
                <a:gridCol w="16448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. and Innov. 29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-mobility 158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rastructures 65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 and Soc. 8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900000" y="6021360"/>
          <a:ext cx="7632720" cy="428760"/>
        </p:xfrm>
        <a:graphic>
          <a:graphicData uri="http://schemas.openxmlformats.org/drawingml/2006/table">
            <a:tbl>
              <a:tblPr/>
              <a:tblGrid>
                <a:gridCol w="3527640"/>
                <a:gridCol w="1584360"/>
                <a:gridCol w="2520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II. Posilování ERA (320 M€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A – NET 27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h. dev. of  policies 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348000" y="765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truktura 6R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5440" y="1979640"/>
            <a:ext cx="35272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66"/>
                </a:solidFill>
                <a:latin typeface="Arial"/>
              </a:rPr>
              <a:t>Horizontální aktivity (2160M€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755640" y="692280"/>
          <a:ext cx="7924680" cy="52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924680" cy="52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76212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692280"/>
            <a:ext cx="525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istorie rámcových programů E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68360" y="1125360"/>
            <a:ext cx="8207280" cy="4339440"/>
            <a:chOff x="468360" y="1125360"/>
            <a:chExt cx="8207280" cy="4339440"/>
          </a:xfrm>
        </p:grpSpPr>
        <p:graphicFrame>
          <p:nvGraphicFramePr>
            <p:cNvPr id="140" name=""/>
            <p:cNvGraphicFramePr/>
            <p:nvPr/>
          </p:nvGraphicFramePr>
          <p:xfrm>
            <a:off x="468360" y="1125360"/>
            <a:ext cx="8207280" cy="4205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8360" y="1125360"/>
                      <a:ext cx="8207280" cy="42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6372000" y="515772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2002-06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80000" y="515772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2006-10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62920" y="515772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998-200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27280" y="515772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cc99"/>
                  </a:solidFill>
                  <a:latin typeface="Arial"/>
                </a:rPr>
                <a:t>1994-98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47640" y="515772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1990-9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10920" y="515772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1987-9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02920" y="515772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1984-87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547640" y="5672160"/>
            <a:ext cx="2835360" cy="291960"/>
          </a:xfrm>
          <a:prstGeom prst="rect">
            <a:avLst/>
          </a:prstGeom>
          <a:noFill/>
          <a:ln w="1260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Arial"/>
              </a:rPr>
              <a:t>ČR - program INCO (243 projekty)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66920" y="6083280"/>
            <a:ext cx="3628080" cy="291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Arial"/>
              </a:rPr>
              <a:t>ČR – „pod dohledem týmů EU“ (661 projekt)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57680" y="5661000"/>
            <a:ext cx="2073600" cy="291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ČR – rovnoprávná účast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580536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9" idx="3"/>
            <a:endCxn id="145" idx="2"/>
          </p:cNvCxnSpPr>
          <p:nvPr/>
        </p:nvCxnSpPr>
        <p:spPr>
          <a:xfrm flipV="1">
            <a:off x="4382640" y="5461920"/>
            <a:ext cx="462600" cy="362520"/>
          </a:xfrm>
          <a:prstGeom prst="bentConnector2">
            <a:avLst/>
          </a:prstGeom>
          <a:ln w="19080">
            <a:solidFill>
              <a:srgbClr val="99cc99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50" idx="0"/>
            <a:endCxn id="144" idx="2"/>
          </p:cNvCxnSpPr>
          <p:nvPr/>
        </p:nvCxnSpPr>
        <p:spPr>
          <a:xfrm flipV="1" rot="16200000">
            <a:off x="5570280" y="5771880"/>
            <a:ext cx="621000" cy="2160"/>
          </a:xfrm>
          <a:prstGeom prst="bentConnector3">
            <a:avLst>
              <a:gd name="adj1" fmla="val 49883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286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y nástrojů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Nové nástroje (80% rozpočtu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Integrované projekty (IP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Sítě excelence (No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Článek 169 (společná implementace národních programů Va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Tradiční nástr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Specifické projekty cílově orientovaného výzkumu (STREP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Koordinační akce (C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Specifické podpůrné akce (SS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Projekty pro MSP a asociace MS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CRAF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Kolektivní výzku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Akce Marie Cur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08:18:07Z</dcterms:created>
  <dc:creator>doma</dc:creator>
  <dc:description/>
  <dc:language>en-US</dc:language>
  <cp:lastModifiedBy>snoopy</cp:lastModifiedBy>
  <dcterms:modified xsi:type="dcterms:W3CDTF">2005-12-06T10:53:29Z</dcterms:modified>
  <cp:revision>5</cp:revision>
  <dc:subject/>
  <dc:title>6. RÁMCOVÝ PROGRAM EU  PODPORA VĚDECKÉ PRÁCE</dc:title>
</cp:coreProperties>
</file>