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014C-6FE5-470F-8DF1-557A90876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1A95-F7A8-46B7-BD50-74E0942C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FF39-4285-4AF0-ADCE-7DE3B3123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F7DA-18A0-499B-9AD6-B147C0236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E4FA-B927-4504-AB24-3C8D3E5D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C6AD-35A9-49BB-8477-410B461D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9D85-A92D-4ECE-BDCB-A67E230E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4CDD-4FE8-46C3-856D-5008951A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C44F-0FB8-4E52-90E8-56DB62CA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9640-98C3-4BE5-934D-91834D4A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DDD5-EC79-4D8B-B713-D48EEFD1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53B8-9CD2-43B7-A681-FC4DB80D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E9F4-5EF5-4C5E-B554-171B032DC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2060640"/>
            <a:ext cx="80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ovační proces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63640" y="573408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® 2004 – přednáška č.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3645000"/>
            <a:ext cx="53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orie ekonomického růst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ktory ekonomické úrovně region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okalizace fir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enzita vnitroregionálních vaz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ční forma fir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mografická situa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č 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42920" y="2781360"/>
            <a:ext cx="55544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konomick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nviromentál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76360" y="198900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ůvody jso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055960" y="689760"/>
            <a:ext cx="61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OGENNÍ REGIONÁLNÍ POLITIK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198160"/>
            <a:ext cx="8308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ropojenost s neoklasickou a keynesiánskou teor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redistribuční příst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olitika orientovaná na vnější rozvojové impulsy představované intervencemi stá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olitika založená na všeobecné koordinaci vztahů mezi odvětvími a regi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centrálně řízené přerozdělování zdrojů do zaostalých regio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orientace na ovlivnění mobility výrobních faktorů (kapitálu a práce) z vyspělých regionů do regionů zaostal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směřování kapitálu do oblasti s levnou pracovní sil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základním prvkem jsou státní zásahy, subv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snaha o snížení dlouhodobé nezaměstnanosti v problémových region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ři vytváření regionálních příjmů uplatňování procedury směrem shora do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výskyt v Evropě do poloviny 70. 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ientace a směry E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využívání nástrojů a prostředků státní regionální hospodářské polit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využívání možnosti programu rozvoje podnik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využívání nástrojů a prostředků státního programu aktivní politiky zaměstna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využívání možností zahraničních programů finanční pomo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057040" y="616680"/>
            <a:ext cx="64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OGENNÍ REGIONÁLNÍ POLITIK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1914120"/>
            <a:ext cx="8569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růstový příst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ložena na předpokladu ostrého kontrastu mezi zvyšující se mobilitou statků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abilitou regionálního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zaměřena na plném využití a produktivitě lokálních zdroj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efekt vytváření vhodné produkce lokálními firmami v individuálních oblast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měření na analýzu faktorů regionální lokalizace (práce, znalosti, sociální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sté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založena na uvolňování a mobilizaci vnitřních regionálních fakto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átní účast hlavně formou pomoci soukromému sektoru na vytvoření vhodného ek.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raz kladen na schopnosti managerů podniků, obcí a měst, na jejich spolupráci a společné formulaci vize regionu, obce a mě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určení a zapojení veřejných a privátních činitelů - projev politiky partnerství (P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ři vytváření regionálních příjmů procedura zdola nah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055960" y="1051560"/>
            <a:ext cx="50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ěry orientace endogenní politik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240" y="2275560"/>
            <a:ext cx="40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Orientace na lidský kapitá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8520" y="299628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Orientace na inov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1400" y="3788280"/>
            <a:ext cx="79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Orientace na organizační a institucionální zabezpeč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časný stav 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binace teor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naha ne o řešení následků, ale spíše o řešení příčin vzniku meziregionálních rozdílů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ástroj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. podpora SM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. podpora tvorby a šíření inovací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3. deregulační opatření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4. decentralizační opatření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5. celá řada lokálních či regionálních iniciati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egionalizace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nost sladit s 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ální politika zaměřená na vyrovnávání rozdí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věřené obce, kraje, NUTS, Euroregi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3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492360" y="1844640"/>
            <a:ext cx="194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-360" y="2924280"/>
            <a:ext cx="8893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učné shrnutí  regionálních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zvojových teori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a 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íl 1 - Podpora rozvoje a strukturálních změn zaostávajících regionů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íl 2 - Podpora hospodářské a sociální konverze regionů, které čelí strukturálním obtíží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íl 3 - Podpora přizpůsobování a modernizace politik a systémů vzdělávání, rekvalifikací a zaměstnanosti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izace 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ukturální fo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stroje podpory 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fektivní řízení veřejné s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PP ( privat public partnershi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ální rozvo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2204280"/>
            <a:ext cx="281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vergenčn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02160" y="2901960"/>
            <a:ext cx="229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ergenční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98120" y="2923560"/>
            <a:ext cx="535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orie regionální nerovnová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4320" y="2204280"/>
            <a:ext cx="49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orie regionální rovnová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5733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ogenní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orie rovnovážného rozvoje, teorie polar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00000" y="443700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ogenní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orie vnitřního potenciá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0"/>
          <a:ext cx="9144000" cy="6872400"/>
        </p:xfrm>
        <a:graphic>
          <a:graphicData uri="http://schemas.openxmlformats.org/drawingml/2006/table">
            <a:tbl>
              <a:tblPr/>
              <a:tblGrid>
                <a:gridCol w="2340000"/>
                <a:gridCol w="2808360"/>
                <a:gridCol w="399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ecný příst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važující teorie regionálního vývo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ální poli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klasick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920-194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orie reg. rovnováhy (zejm. tzv. neoklasické model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ákladní idea -“dělníci za prací”, hlavní nástroje - nástroje zvyšující mobilitu pracovních si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nesiánsk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950-197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orie reg. nerovnováhy (např. teorie kumulativních příčin, teorie pólů růst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áce za dělníky”, nástroje podporující příliv investic ze soukromého i veřejného sektoru do problémových regionů (investiční dotace, relokace institucí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marxistický (1970 - 198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orie reg. nerovnováhy (např. teorie prostorových děleb prá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ávrhy na opatření neomarxisté neformulovali (v soc. zemích byla reg. politika velmi účinná, ale za cenu ztráty vnější konkurenceschopnost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konzervativní (1975 -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orie reg. nerovnováhy (např. </a:t>
                      </a:r>
                      <a:r>
                        <a:rPr b="0" i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h dependence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ová teorie růst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pora lokální iniciativy”, podpora malých a stř. firem, decentralizace kompetencí, deregulační opatření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institucionální (1980 -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orie reg. nerovnováhy (např. teorie průmyslového okresu, teorie učících se regionů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olupráce a inovace”, podpora malých a stř. firem, šíření inovací, </a:t>
                      </a:r>
                      <a:r>
                        <a:rPr b="0" i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ing,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gradualistická proměna místních institucí, založená na učení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80" y="5949360"/>
            <a:ext cx="566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Tzv. Brandtova linie vymezující země jádra a perifer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79280" y="162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ŮST -  změna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kvantitativ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rakteristi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říjmová úroveň regionu, zaměstnanost, kapacity technické infrastruktur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VOJ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měna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kvalitativní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rakteristi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kvalifikační úroveň, zlepšení dopravní situace, zlepšení kvality životního prostřed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ální polit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49636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bor cílů a opatření, které mají za cíl snižování rozdílů v sociálně ekonomické úrovni region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79640" y="5589720"/>
            <a:ext cx="604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čátek regionální politiky v modern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etí lze datovat na přelom 20. a 30. 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bnárodní – část územ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dnárodní – seskupení stá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ransnárodní – euroregiony části stá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omogenní  x heterogen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čně vymezen na základě kritér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258920" y="3141000"/>
            <a:ext cx="40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xistence meziregionálních rozdíl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33080" y="393300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itické kli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60000" y="4723560"/>
            <a:ext cx="65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konomická síla státu vyrovnávat meziregionální dispari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8200" y="1411920"/>
            <a:ext cx="481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dmínky pro vznik R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2:44:42Z</dcterms:created>
  <dc:creator>jiri</dc:creator>
  <dc:description/>
  <dc:language>en-US</dc:language>
  <cp:lastModifiedBy>ciboch</cp:lastModifiedBy>
  <dcterms:modified xsi:type="dcterms:W3CDTF">2005-02-26T11:51:27Z</dcterms:modified>
  <cp:revision>11</cp:revision>
  <dc:subject/>
  <dc:title>Snímek 1</dc:title>
</cp:coreProperties>
</file>