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jpeg" ContentType="image/jpeg"/>
  <Override PartName="/ppt/media/image6.jpeg" ContentType="image/jpeg"/>
  <Override PartName="/ppt/media/image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985A4-2673-4E1B-9EBB-24227736E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8BEFE-CFC8-4FCC-9337-A660F960F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87FFF-191D-434B-8F49-B7CEEB046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4C2C4-78CA-4A58-8D17-9950795D1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3880A-6270-433B-9F7F-897EC6A77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CF46B-3361-4A9D-9D58-0C8444932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3101F-A022-464C-86DC-58845833D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AE950-018E-4C84-AABE-9A1C4178E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A7737-4B7B-486C-A84C-1F9A70230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44F8C-55A3-46EE-A152-B87792F67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213F0-5C9E-400D-B1DD-416A1FAF0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D081C-6805-44B2-B186-0A2BA3A3F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E49F4-52DB-434F-9D10-F4A9BB0087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55640" y="2060640"/>
            <a:ext cx="8064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Inovační proces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63640" y="5734080"/>
            <a:ext cx="532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® 2004 – přednáška č.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187280" y="3645000"/>
            <a:ext cx="705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Modely inovací – v R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2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1624680" y="1484280"/>
            <a:ext cx="43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1. Neočekávaná událos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08680" y="2833560"/>
            <a:ext cx="54057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Neočekávaný úspě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Neočekávaný neúspěch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Neočekávaná vnější udál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2771640" y="1557000"/>
            <a:ext cx="338472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3. Rozpo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90000" y="3245760"/>
            <a:ext cx="35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soulad s ekonomickou realito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343960" y="3788640"/>
            <a:ext cx="459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zpor mezi skutečností a předpoklady o ní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03200" y="4580640"/>
            <a:ext cx="848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zpor mezi předpokládaným a skutečným chováním zákazníka a jeho hodnotam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2195640" y="1699920"/>
            <a:ext cx="568944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3. Změna výrobního postup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042920" y="3067560"/>
            <a:ext cx="7272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měnou výrobního postupu rozumí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dokonalení existujícího postup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hrazení jeho slabého článku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907640" y="333360"/>
            <a:ext cx="5688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7 zdrojů podle Drukne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199240" y="1769400"/>
            <a:ext cx="5011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4. Struktura průmyslu a trhu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0" y="2595240"/>
            <a:ext cx="95630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dikátory změ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ychlý růst odvětví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lezení nových segmentů trh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onvergence technologií ( počítače v telekomunikacích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ychlá změna oboru a z ní vyplývající potřeba strukturální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změn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457200" y="2565360"/>
            <a:ext cx="8229600" cy="356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882880" y="1446120"/>
            <a:ext cx="243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5 Demograf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2397600"/>
            <a:ext cx="79930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dnikatelé, kteří včas dokáží reagovat na demografické změny jako jsou např. vlny zvýšené porodnosti nebo naopak posun věkové struktury směrem k vyšším věkovým skupinám, byli a budou úspěšní 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610560" y="3140640"/>
            <a:ext cx="399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"sklenice je poloprázdná"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147280" y="3140640"/>
            <a:ext cx="33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"sklenice je poloplná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340000" y="1267560"/>
            <a:ext cx="38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6 Změna postojů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43280" y="314172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7  Nové znal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260720" y="287856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člivá analýza všech faktor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258920" y="3499200"/>
            <a:ext cx="742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oncentrace na získání strategické pozice na trhu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kvělý náp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ovace založené na skvělých nápadech jsou asi početnější než všechny ostatní. Přitom jsou nejriskantnějším zdroj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NOVAČNÍ PRO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ýzkum a vývoj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(VaV), který vytváří 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nápady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: základní a aplikovaný výzkum a vývo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Produkce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, která 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produkuje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: transformace vstupů ve výstupy podle návodů vytvořených vývoj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Marketing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, který 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prodává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: uvedení produktu na tr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ovační pro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195280" y="2349360"/>
            <a:ext cx="532908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op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ů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EFINICE INOV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echnologickými inovacemi rozumíme nové produkty a procesy a významné technologické změny produktů a procesů. Inovaci pokládáme za uskutečněnou, pokud byla uvedena na trh (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novace produkt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) nebo použita v produkčním procesu (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novace proces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). Inovace tedy zahrnuje řadu vědeckých, technologických, organizačních, finančních a komerčních činností.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neární pro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179280" y="2637000"/>
            <a:ext cx="8640720" cy="16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ole výzkumu a vývo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„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Výzkum a vývoj (VaV) je pouze jednou z těchto činností a může probíhat v různých fázích inovačního procesu.  Vystupuje nejen  v roli originálního zdroje invenčních nápadů, ale i rámce řešení problémů, k němuž se lze obrátit v libovolné fázi implementace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.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ECD, Frascati Manual 1992” Proposed Standard Practice for Survey of Research and Experimental Development, September 1992, český překlad Ministerstvo školství, Praha, 1999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lineární pro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395280" y="1989000"/>
            <a:ext cx="842472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ely difůz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2296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pidemiologický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erarchický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ůmyslově specifick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emně-specifick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ovace a reg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valifikovaná prac. sí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lužby pro podniky (poradenství, průzkum trhu.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íť dodavatelů k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xistence vyvinutého trh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echnická infrastruktu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řístup ke kapitál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egislativa ( patenty, duševní vlastnictví.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ralost prostředí ( vytváření podmíne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34920" y="1673280"/>
            <a:ext cx="9074160" cy="51847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979640" y="549360"/>
            <a:ext cx="46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Inovační mode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ystém inovac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tátní inovační systém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Lokální inovační systém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Hierarchick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ůmyslové okresy s pružnou specializac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echnologické okres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echnopo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ostorové inovační systém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755640" y="1700280"/>
            <a:ext cx="7777080" cy="407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tupně inovac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řírůstkové (inkrementální) inova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méně významné nápady, které jsou důležité při zdokonalování produktů a procesů (nová typová řada počítačů, automobilů apod., nalezení nového trhu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adikální inova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významné nápady, které ovlivňují nebo způsobují významné změny v celém odvětví (zavedení tranzistoru, proudový letecký motor, přenos dat po optických kabelech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émové inova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nápady, k jejichž realizaci je zapotřebí různých zdrojů a značného úsilí (komunikační sítě, penzijní systém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0" y="3636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9640" y="1196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echnologické a sociální inova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2421000"/>
            <a:ext cx="8229600" cy="37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ické inovace – založené na konkrétní technologii, vynálezu, objevu,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ciální inovace – v kritických historických obdobích důležitější než technologické (pošta, vzdělávací systém, sociální systém, zdravotnictví, …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269080" y="1451520"/>
            <a:ext cx="169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Vnitřní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268360" y="476280"/>
            <a:ext cx="453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Zdroje inovac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971640" y="2852640"/>
            <a:ext cx="4572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11280" y="2349360"/>
            <a:ext cx="820872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očekávané událost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zp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ovace založená na změně pracovního postup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změna struktury odvětví nebo trh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763640" y="189000"/>
            <a:ext cx="5400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411280" y="260280"/>
            <a:ext cx="37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Zdroje inovac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195640" y="1484280"/>
            <a:ext cx="151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Vnějš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042920" y="2852640"/>
            <a:ext cx="653436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mografické změn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změny v pohledu na svě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vé znalosti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8T21:51:07Z</dcterms:created>
  <dc:creator>jiri</dc:creator>
  <dc:description/>
  <dc:language>en-US</dc:language>
  <cp:lastModifiedBy>ciboch</cp:lastModifiedBy>
  <dcterms:modified xsi:type="dcterms:W3CDTF">2004-10-19T08:25:45Z</dcterms:modified>
  <cp:revision>7</cp:revision>
  <dc:subject/>
  <dc:title>Snímek 1</dc:title>
</cp:coreProperties>
</file>