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1E2-BC0F-4634-9943-D261BFE3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D14-7B51-4488-AFE5-F716EE7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44F-95F4-43D5-9D8C-84190D65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A69-A32E-4828-8301-073A2E5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F37-DF0D-4FBE-8B65-50275F24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39F-DD20-4ED2-A6AA-14063A5C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3F0-588F-4652-A047-A41F6EB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331-FE49-461F-A5E4-2EBA6CB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3D6-2435-48B3-883F-BC7493B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DCD-4C76-4486-B2B3-27E215CF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9B1-E12C-410F-98F7-8923FD4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D00-9F7D-4680-BF02-5E2A8A1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9DB4-A7C3-4AE1-8A24-C1345DEC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žerská etik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ětlá a Temná strana 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302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ená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přír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2036880"/>
            <a:ext cx="4896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6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ka nechť Vás prováz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yšlení o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íly v etice dle 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Evr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387520"/>
            <a:ext cx="4462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ubší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ovy dimenze kul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ika vs. ment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979720" cy="41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68360" y="4365720"/>
            <a:ext cx="2016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še za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12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á 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é desatero (4. – 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ni, abys den sváteční svě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otce svého i matku svou, abys dlouho živ byl a dobře se ti vedlo na z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abij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esmilní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ad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omluvíš křivého svědec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manželky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statku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3249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cké kodexy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pující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o a pro ko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73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kace kodex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psi a Coca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ta Brno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10364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7432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 je evropská et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problém a etické di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je konat „dobře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klad: pra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ující et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stoty vs. prospe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tero vs.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2781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lost vs.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ka – zaměření na dlouhodob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5:24:46Z</dcterms:created>
  <dc:creator>Loser</dc:creator>
  <dc:description/>
  <dc:language>en-US</dc:language>
  <cp:lastModifiedBy>Loser</cp:lastModifiedBy>
  <dcterms:modified xsi:type="dcterms:W3CDTF">2006-12-04T21:03:22Z</dcterms:modified>
  <cp:revision>5</cp:revision>
  <dc:subject/>
  <dc:title>Manažerská etika</dc:title>
</cp:coreProperties>
</file>