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15B-7658-44AE-BC39-8F41CB00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1D9-4323-4D28-92B6-7EAC8E25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699-3556-472B-8FB1-7A20B335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9CC-DAED-4BBE-9B25-06E33C2B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4F81-9542-41B7-8515-6FA8540B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567A-7702-4888-B292-95657672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1887-C0F8-4923-87D2-17BE5BE6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2913-CBB0-4836-9000-ED532CA7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7792-E11A-4411-AB6D-FAE8A668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D0D4-7688-4F23-85FA-19C8F30C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2921-A748-4CCD-A52E-8222D930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37F-8D28-4E1E-B6EE-A91FC81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00A5-ED0F-473A-9225-DDCBEA8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222D-BDF1-428B-899B-1E11E478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B9B1-3E80-4267-9E5E-4542A6EA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FFC5-CA18-4798-85CB-5DEB9A7E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E641-5F21-4EE9-A28B-D5F160D3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92A-C6AB-4C03-81E1-9F7AD5C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C7C-EFF2-4DFB-A4E7-E29E8465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113-0DFA-4D60-AA2C-5B9282B7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C5A-86FE-4605-908E-51EF9139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34B-E08E-4210-B906-F2992FB3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028-DFD2-4F56-87D5-609D7BAA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4FD-C66D-4011-ACEF-861375D1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6D57-2EF8-455B-BB2A-F1E853D70D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9ADE-0798-4FFD-95AD-DBE2B1DB5C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etody a nástroje podnikatelské etik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63640" y="5157720"/>
            <a:ext cx="528804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audi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Sociální audit zahrnuje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Garamond"/>
              </a:rPr>
              <a:t>analýzu a kontrolu 4 základních podnikových dimenzí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Zaměstnanecká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konomický rozvoj společnost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nviromentální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Dobročinno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Cíle: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říze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Transparentnost pro všechny zainteresované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a sociálního klimatu 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Efekty plynoucí z auditu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y morálky a sociálního klimatu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lepšení motivac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Ozdravení mezilidských vztah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stresové zátěž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moci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výšení transparentnosti pro všechny skupiny participující na podniká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Hodnocení účinnosti etických hodno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rozsahu morálních konfliktů ve společnost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48320" y="1484280"/>
          <a:ext cx="4038480" cy="4745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Ne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etický a sociální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jí přesně definovaný právní řá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Řády jsou podnikové, srovnání s konkurenc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up je v každé organizaci shodný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e určen především pro vlastní podni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pakuje 1x ročn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bvykle opakuje za 18 až 24 měsíc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ýcvik zaměstnanců k etickému jednání zaměstnanců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Výzkum provedený britským Institue of business Ethics ukázal, že mezi zkoumanými podniky bylo v roce 20001 nejběžnější formou etického výcviku zaměstnanců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anuál pro zaměstnance ( 64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emináře v organizaci (6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tranet (5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é video, hraní rolí atd. (1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statní (2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aník P., Řezbová L., T. van Zavřel: Metody a nástroje podnikatelské etiky, Praha: Oeconomica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iala B.: Podnikatelská etika, Olomouc: UP v Olomouc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ytrt Z. a kol. : Etika v podnikatelském prostředí, Praha: Grada Publishing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metoda konsensu a dialog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 nutné zvážit, zda přiměřeným stylem rozhodování se stane přístup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utokratick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ýmová příprava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ém je řešen v rámci týmu, ale o konečném rozhodnutí rozhoduje jedin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kupinové rozhodování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členové týmu problém společně řeší i rozhoduj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Metoda konsensu a dialog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ezi přednosti </a:t>
            </a: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kupinového rozhodování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 patří např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íce informací a znal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Kombinace různých přístupů a dovedn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Širší spektrum přístupů k řeš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pší pochop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přijatelnost řeš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timulace myšl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výh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Dominance některých členů skupiny, podřízenost jiný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rosazování preferované varian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Zamlčování nesouhlasu, preference konsenzu za každou cen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kupinové myšlení ( nadměrná loajali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„nákazy“ chybami jiných členů tý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vyloučení inovativních řešení hlasování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časová nároč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takeholderská analýza a plán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gitimnější a efektivnější implementace etických principů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řináší větší účinnost, zabezpečuje hospodárnost, posiluje udržitelnost a udržitelný dopad, zajišťuje větší transparentnost a odpovědnost a v neposlední řadě také větší spravedlnost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Stakeholdrem ( podílník či zainteresovaný) je myšlen takový jedinec či skupina, která má určitý vztah k podnikatelskému subjektu a může ovlivňovat jeho podnikatelskou činnost. Technika analyzující klíčové zainteresované skupiny se označuje jako stakeholderská analýzy. Ta ukazuje jejich zájmy vzhledem k cílům projektu, jejich význam v sociální síti i jejich vliv na podnik a úspěšnost projektu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edle skupiny  vlastníků (akcionářů), mohou mezi další stakeholderské skupiny patřit zaměstnanci, zákazníci, dodavatelé, konkurence, vlády, stát a místní zastupitelství, veřejnost atd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aměstnanci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držení stabilní zaměstnanosti ve firm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ravedlivá odměna za prá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áce v bezpečném a příjemném prostřed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žnost kolektivně vyjednáv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áv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ublic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ákazníci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sažení „spravedlivého“ nákupu (nakupované zboží musí hodnotou odpovídat vynaloženým prostředků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ískání bezpečných a spolehlivých výrob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ákup zboží od konkurenčních fire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jkot firem, které uplatňují nepřijatelnou politiku či jejichž zboží je nekvalitn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ská analýz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Jednotlivé kroky stakeholderské anylýz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1. Identifikace podnikových stakehold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2. Seřazení stakeholdrů dle důležitosti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ůležitý je vliv a význ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3. Pochopení klíčových stakeholdrů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jištění relevantních údajů – jak smýšlí o našem podniku, jak s nimi co nejlépe komunikovat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22320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ástroje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kode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ganizační struktury na podporu etického progr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ý a sociální au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ýcvik zaměstnanců k etickému jedn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vz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é kodexy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odnikové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 konkrétních podniků či jejich část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ofesní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y různých asociací a sdruž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aramond"/>
              </a:rPr>
              <a:t>Řada předností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iminuje nežádoucí praktiky, které působí pokles přízně zákazníků, zaměstnanců, investorů, veřejnosti atd. a které mohou vést k dlouhodobým ekonomickým ztrátá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bjasňuje politiku firmy v morálně problematických otázkách, definuje akceptovatelné a neakceptovatelné jednání (korupce, úplatky, zneužívání pravomoci apod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jednodušuje zavádění inovac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zitivně motivuje zaměstnance posílením jejich vědomí, že pracují v etickém prostředí s jasnými pravidly, která platí pro všechny bez výjim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lepšuje reputaci firmy na veřejnosti i u zákazní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abraňuje nadřízeným zneužívat svého postavení vůči ostatním zaměstnanců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rganizační struktury na podporu etického programu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apř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úřad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je odpovědný za každodenní vedení a implementaci podnikového etického programu. Provádí dozor nad dodržováním etického kodexu a chodem podnikové politi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Pracovník odpovědný za etické postupy firmy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- provádí poradenství v záležitostech etické povahy, monitoruje rozvoj etického programu, jeho případné nedostatky, případy neetického jednání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á rada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poradce v záležitostech nastavení etické politiky organizace, monitoruje program implementace etických principů do každodenního chodu organiz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výbor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celkový dozor nad dodržováním etického programu, úzce spolupracuje se všemi, kteří jsou odpovědni za dohled a správu nad etickým program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Ombudsman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cela  nezávislý na podnikovém managementu. Místo, kde zaměstnanci či další zainteresované skupiny zcela bez obav a volně předkládají své podněty nebo kde žádají o rad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0:58:44Z</dcterms:created>
  <dc:creator>CIKT</dc:creator>
  <dc:description/>
  <dc:language>en-US</dc:language>
  <cp:lastModifiedBy>absolonm</cp:lastModifiedBy>
  <dcterms:modified xsi:type="dcterms:W3CDTF">2006-11-16T20:28:13Z</dcterms:modified>
  <cp:revision>20</cp:revision>
  <dc:subject/>
  <dc:title>Snímek 1</dc:title>
</cp:coreProperties>
</file>