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EAF-69C6-4375-9C69-A4D0D2FB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61A-3EF0-40C5-AC14-36954857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DA2-E4CB-4783-9DAE-0A98DD22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276-FFAA-4378-BFAE-5DBCE794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97BF-9391-4B60-B959-E4397E53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789-F603-41D7-A4D2-B72E265E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B720-7C26-4B83-B281-EC5A9D0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E8C8-6725-4DD2-8CCD-E8672B43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9CBF-4507-4D6C-B53C-BA34AF0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6767-EEF3-41AD-8413-E02241E4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4106-3CE8-483E-AE50-02AC18F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395-31FB-42F6-A036-0F9747A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53B8-3D68-435C-B302-FEA6E9E2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24A-C792-4C29-80A2-2C589EB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B50-6EED-4E89-A388-112B392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106-13F5-47AC-AAC3-17CAB411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CB1-6F58-403F-99A5-093EE6E0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138-E13C-47DA-B06E-0DC28941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D9A-ED86-4F14-B179-99734EA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375-FDC2-410E-B1D2-CE220E03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CF6-39A1-44C9-AB25-FB22E035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95E-0C3D-46F1-9EAC-98E043C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F26-9E70-453B-8049-8AE8457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8AB-BB87-4080-8296-A20139F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FE5-0068-4850-B02D-1B9B6F33183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BEE8-1270-4309-8B7A-A28ABF0B70C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polečenská zodpovědnost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943600" y="54864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ukáš Przybyl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dřej Chl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tr Procház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za životní prostřed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ových technologií vedoucích ke zlepšování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dlouhodobých možností čerpání zdroj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azení standardů na alespoň minimální ochranu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y vztahů mezi organizací a společnost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 mod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ohledy na stejnou vě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í z různých předpo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xistence nadřazeného systému (právní systé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stanovena zákon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stém je v rovnováze x regulace poruch novými zák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rhově smlu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ou zodpovědností organizace je produkov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ace prostřednictvím výměny na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a veřejnému bla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48690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ykořisťovatel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měně organizace dostane vždy víc než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echnicko-struktur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akce na trhově smluvní a vykořisťovatelský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sahují pravdy i neprav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ové třídy manažerů (ovládají všechny instituce ve společ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 vzájemně se prolínajících systém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 částečné platnosti předešlých modelů, ale odmítá jejich schopnost obsáhnout re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ůraznění interakce mezi aktéry ve spol. syst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y aktérů jsou zdrojem napětí, ale i tvůrcem rovnová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takeholder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oučasnosti popul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dpovědnost je souhrn sporných otázek, které vnášejí do organizace vnější složky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je stanovena diskusí a dialo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07664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ačlenění etiky do podnikové strategi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Nejúčinnější cestou určení pevných hodnot organizace je využití systému její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korporativní kultur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oupnost kroků změn podnikové kultu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znat nevyhnutelnos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ámit změny všem zaměstnancům organiz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at malými změna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odelova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evřít komunikační kaná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čit zaměstnance jak přistupovat k novému systém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ýt trpěliv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aralelní plán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Dominující postavení zisku a efektivnosti v systému podnikové kultury je nevyhnutelné vyvážit ostatními, hlavně etickými hodnota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Proces paralelního plánová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umožňuje včlenit hodnoty společenské zodpovědnosti a základní etické hodnoty do systému podnikové kultu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= plánování orientované na 2 výstu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stup cílů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viromentální výstup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můžeme shrnout do následujících tez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nticipace etických problémů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plikace nástrojů společenské zodpovědnosti a etické analýz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terminace hodnot korporace, které jsou pro ni nejdůležitější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tegrace těchto hodnot do kultury podni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orové typy společenské zodpovědnosti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sah zodpovědnosti organizace – modely řízení a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členění etiky do podnikové strate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loha podnikové kultu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Podniková kultura prostupuje celým plánovacím procesem, ovlivňuje jej a sama je jím ovlivňov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tevře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ůležitým prvkem podnikové kult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dské systémy mají tendenci k sebekorekci, pokud mají včasné a přesné informace o tom, co je třeba napravit.“ (filozof Karl Popp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podnikové kultuře existuje několik indikátorů nedostatečné otevřenos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řízení se snaží získat informace o stanovisku managementu k danému problému, teprve potom se sami vyjádří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zi manažery panuje dokonalá shoda v názorech na rozličné problém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istuje odpor k poskytnutí špatných zpráv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KNIČ, A.S. Štvrtý rozmer podnikania - etika. Bratislava : SAP, 1994. ISBN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0-85665-30-1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NKOVÁ, J. Společenská odpovědnost firem. Business Leaders Forum, 2004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ndřej Chlup (tým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orové typy společenské zodpovědnosti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normy a kritéria spol. zodp. lze rozdělit do několika skupin týkajících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třeb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asti zaměstnanců na rozho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cionář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ního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spotřebitel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avedlivá hodn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a srozumitel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ctivá a hodnověrná rek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ěření bezpečnosti výrobku a varování před neověřenými vlastnosti a riziky pou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zaměstnanc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pravedlivé a rovné zachá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užitelnosti výkonových n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prostředníkem zvyšování kvality a bezpečnosti života a zdraví zaměstnance (i mimo pracoviště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čast zaměstnanců na rozhod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ný model komunikace v podniku má pozitivní ekonomické dopady, ale i etickou dimen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akcionář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eřejnění seznamu akcionář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informování současných a budoucích akcionářů o vývoji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né osobní výhody manaže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tahy mezi konkuren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kurence by měla být či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najímání zaměstnanců konkurence s cílem získat určité důvěr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veřej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komunikace s okolní komuni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ordinace určitých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místního sociálního a kulturního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ukončení činnosti v dané lokali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50:59Z</dcterms:created>
  <dc:creator>Lukáš Przybylski</dc:creator>
  <dc:description/>
  <dc:language>en-US</dc:language>
  <cp:lastModifiedBy>Ondřej Částek</cp:lastModifiedBy>
  <dcterms:modified xsi:type="dcterms:W3CDTF">2006-12-11T11:52:34Z</dcterms:modified>
  <cp:revision>8</cp:revision>
  <dc:subject/>
  <dc:title>Společenská zodpovědnost podnikání</dc:title>
</cp:coreProperties>
</file>