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FB7F-3AD6-4649-A005-195B12DEF26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444D-21F4-4E43-BEC3-328D3DB8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EF2E-D80E-4575-8BAF-89289A30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CEC6-312D-4DF5-8D15-843E9DA7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140D-57E3-4782-9494-03D757AC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FC17-E366-4805-A29C-D129CCF5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AF60-2294-41A8-BF2F-648D06C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B631-5DFD-4375-A5EE-A4F461C9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1EB0-6D8E-44A5-8CF9-22F22C41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B4C2-5541-4BD7-90F4-6558A2F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CD34-D8F6-4648-A1BB-880FD332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7FE8-BC55-4E79-BF68-9835EE0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AF28-19A3-476F-8EDD-71CE7DAC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AA35-0197-4D56-9AFE-313BCBC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F28D-EE77-4C7D-8E88-5534D352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E10-2225-4B3C-823E-E7171F03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5E89-55D5-4367-AF92-CDD1DEF6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96D4-B6F3-49A3-9A7E-38C9250C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FBE1-6EE2-43E6-9299-AB5D3AB5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820E-5334-4AF5-88E2-98D392D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F601-289A-4645-911D-A200DF0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C92C-D66B-4E21-BA71-0DD6CEE5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ABFF-AB41-4675-B821-0BCD51F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A061-4E5F-4F7A-9215-0CA5DFE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E97E-F617-47B7-9156-DACEEF1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057-5C81-4C91-ACA9-008FB87658B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A867-54DC-4703-AA8A-847C9B0D490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	</a:t>
            </a: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Manažerská etika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boženská a laic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boženská - 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Boha, na dogmatech a zjeveních a na strachu z odplaty na onom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aická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vaz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lid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rodin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lasti, 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iná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ý základ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cit morálního dluhu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pocit absolutní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ov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e dominance lidských práv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Vytrácí se hodnota oběti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mítá se ideál od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íkán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sou vyt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vány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hnané p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davk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u povzbuzována okam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tá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ání, 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 blahobytu, št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í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ouběžně se však rozvíjí i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fundamentalistick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é prou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nik industriální éry byl anonymní a disciplinární, technokratický a mechanický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industriální podnik je pokládán za nositele smyslu a hodno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zmach kodex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chart podnikatelské etiky.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roli zde j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 osmdesátých letech minulého století sehrávaly americké firm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dex a etická prohlášení se nevylučují s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dnikatelský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záj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Morálka a podniká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stávají být od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enými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8f828"/>
                </a:solidFill>
                <a:latin typeface="Times New Roman"/>
              </a:rPr>
              <a:t>U</a:t>
            </a:r>
            <a:r>
              <a:rPr b="1" lang="cs-CZ" sz="4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tilitaristická</a:t>
            </a:r>
            <a:r>
              <a:rPr b="1" lang="cs-CZ" sz="4400" spc="-1" strike="noStrike">
                <a:solidFill>
                  <a:srgbClr val="f8f828"/>
                </a:solidFill>
                <a:latin typeface="Garamond"/>
              </a:rPr>
              <a:t> </a:t>
            </a:r>
            <a:r>
              <a:rPr b="1" lang="cs-CZ" sz="44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rumentalizace</a:t>
            </a:r>
            <a:r>
              <a:rPr b="1" i="1" lang="cs-CZ" sz="44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ické chování a spo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á odpo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 se stávají významnými faktory konkurenceschopnosti fir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idé c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í spolu s konzumací zb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„konzumovat“ i mravní hodno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itucionalizace společenské odpovědnosti podnik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70. let dvacátého století - Koncept společenské odpovědnosti podniků (Corporate Social Responsibility – CS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SR - dobrovolné integrování sociálních a ekologických hledisek do každodenních firemních operac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porován ze strany nadnárodních a mezinárodních organizací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Evropské organizace – CSR Europ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65 čle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losvětové organizace – Global Compact – cílem je prosazování společenské odpovědnosti podnikání v oblasti lidských práv, pracovních standardů a životního prostře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rganizovanosti podni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bjektivizace a srovnatelnosti při prezentaci výsled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vinná forma společenské odpovědnost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ec kreativ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možnost nalezení společných kritérií, která by bylo možno univerzálně aplikovat na všechny firm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zentace pozitiv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zamlčování negat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visející probl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57336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Budouc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jednocování kriterií pro posuzování společenské odpovědností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ozvoj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ému certifikace společenské odpovědnosti podniků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podobnost s oblastí kvality (systémy I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statná úloha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eské společnosti považují své angažování za důležité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ka českých podniků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tivita uvnitř podniku -péče o své zaměstnance a jejich vzdělá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kvalitních pracovníků – spolupráce se škol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Podniky nepociťují tlak ze strany spotřebitel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dostatečný rozvoj spotřebitelské kultury a společenské angažovanosti zákaz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ezentace dobrých firem v médiích není žádoucí – je považována za rekl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5264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naž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ec 20 stol. – etika proniká hlouběji do struktur podniků a začíná být její nedílnou součá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ři i vlastníci podniků si začínají uvědomovat, že bez etického chování vůči okolnímu světu se jen těžko prosadí na moderních a provázaných trz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édia prezentují pouze skandály – nemají přílišný vliv na veřej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last dárcovství – pouze vylepšení i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ůležitost manažerské etiky ve vyspělých zemích i nadále vzrůst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LÁHA, J., DYTRT, Z. 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nažerská etika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Management Press 2003. ISBN 80-7261-084-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RIEDMAN, M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Social Responsibility of Business Is to Increase Its Profit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Times Magazíne, Sept. 197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NK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Společenská odpovědnost fir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Business Leaders Forum, 200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ožnosti podniků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dnárodní podniky se stávají mocnějšími díky zlepšování logistiky, přesunů výrob do celého světa → eliminují státní předpisy a regulace →  ↓ státní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zvyšují svůj mezinárodní potenciál →  ↑ schopnosti diktovat státům podmínky výhodné pr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kles zájmů spotřebitelů o politiku – světový trend ve vyspělých zem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čané zvyšují svůj vliv pomocí nákup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strategie prezentace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řebitelé se stávají citlivějšími vůči původu zboží a podmínkách ve kterých vznikaj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kladou větší důraz na etické podmínky vzniku svých produkt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logické výroby a zlepšování pracovních podmínek ve všech částech svě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azníci upřednostňují firmy z větším etickým kredi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vynakládají velké sumy na obnovu životního prostředí a snaží se o co nejšetrnější využívají VF a pracovní sí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občanských hnutí a organizací zabývajících se ekologickou stránkou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Změny v etice ve 20. století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padní civilizace byla po jistou dobu nadšena myšlenkou osvobodit se od morálky jako nástroje útlaku cestou rozvíjení kultu individualismu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ro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ost je charakteristický návrat k etickým hodnotám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de 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eakci na individualistickou nezodp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, na dekadentní vývojové trend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s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ásilí, brutality, kriminality, korupce v politickém a hospodářském život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lariz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 jedné straně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oncentr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nesmírného bohatství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 na druhé straně roste chudoba spjatá s všeobecným úpadk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egativní důsledky individualism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Etika nového typ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G. Lipovetsky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de o návrat v pravém slova smyslu, o pouhou renesanci dřívější morálk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e snaze o 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jetí od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ých lidských hodnot se z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ná vytvá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t etika nového typu, odlišující se jak od trad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í náb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é etiky, tak od laické moderní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tik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Ondřej Částek</cp:lastModifiedBy>
  <dcterms:modified xsi:type="dcterms:W3CDTF">2006-11-23T08:57:22Z</dcterms:modified>
  <cp:revision>49</cp:revision>
  <dc:subject/>
  <dc:title>Druhá vlna  </dc:title>
</cp:coreProperties>
</file>