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42E-C2AA-4258-9858-2FD185A7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4C9-E82D-43E8-B1C3-2396B5D2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C91-9160-4041-9C65-134151ED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615-885C-4B84-802B-DBA849D9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FA8F-6764-414C-8982-BF0CE80B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094F-252A-40DE-B1B8-56F30EF3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871A-2E6C-4812-9ADD-05E70CE1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10A4-6F78-4D68-8D78-D3B8E076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9CBF-9220-4B8F-971A-37A72F2F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AF3D-A08A-4D06-9921-2F7E1D5E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64C3-4AA4-422E-AB68-DCF07BF9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BC2-2E1B-4631-A967-6058D281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6FA1-33BF-43F1-972D-33DF7295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69FF-625F-45A2-9F81-E8BEFAD0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B152-ECD2-4AEC-84A8-715DA17F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2B48-22D9-4A57-AB01-11791A40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3864-94EE-48DF-A4F8-B277479E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D26-2EFD-433F-8B97-C6390A51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5BC-7A30-4224-97D6-7CAC13EB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53B-82DA-4544-91A1-CE1BD813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299-6FA2-4301-9B9E-50A6869B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0D2-3BC7-4AC2-B40D-927BD422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E63-AE20-4FB6-A580-B906610D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099-BE8F-43D6-A0E1-E9A10592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318E-4AD7-4DCA-96CD-57E5B9860976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89C7-34DC-45F3-9073-1DF507164EE6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halek.info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rizový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eata Brosk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ana Matonoh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omáš Procház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Finanční rizika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likvidita - schopnost splácet své závaz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lventnost - dostatek finančních prostředk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tabilita - větší zisky než nákla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enová: - přitlačení k nízké ceně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Mezinárodní rizika</a:t>
            </a:r>
            <a:r>
              <a:rPr b="0" i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při realizaci vývozu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špatný průzkum odbytiště, nedostatek zákazníků, vytváření velkých zásob v zahranič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spojené s placením - nezaplacení zakázky, měnové rizik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olitická rizi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Stanovení krizové strateg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omezení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, celkové ohrožení organizace, zvláště příprava alternativ plánu pro zvládnutí kr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odstranění ohnisek potenciálních krizí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, které mohou ohrozit organizaci (existenci konkure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Realizace krizové strateg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Postup při vzniku krize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odstranění ohnisek krize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omezení celkového ohrožení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zvládnutí krizové situace</a:t>
            </a:r>
            <a:r>
              <a:rPr b="1" i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ředpokladem k úspěchu j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menování odpovědného vedoucího krizového tým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stavit krizový tým z takových pracovníků, kteří mohou učinit řeš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zajistit rychlý tok informací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droje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imes New Roman"/>
                <a:hlinkClick r:id="rId2"/>
              </a:rPr>
              <a:t>http://halek.inf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Smejkal, Vladimír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Řízení rizik ve firmách a jiných organizacích.</a:t>
            </a: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Dvořák, Jiří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Úvod do krizového managementu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Šenovský, Michail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Základy krizového managementu V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ěkujeme za pozornost 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Krize v 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e to situace, která představuje trvalé nebo po delší dobu negativní odchylku od normálního stavu, ohrožují cíl organizace nebo její samotnou existenc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Arial Unicode MS"/>
                <a:ea typeface="Arial Unicode MS"/>
              </a:rPr>
              <a:t>1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u klesají příjm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stou náklad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2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zvyšuje se objem úvěrů, rostou splátk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 a jeho produkce tzn. "vypadává z trhu"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3. Etap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banky přestávají poskytovat úvěry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u stávajících úvěrů se začnou zvedat úrokové sazby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chybí zisk pro financování rozvoje, či udržení subjektu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objevují se potíže s platební schopností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subjekt nuceně snižuje zásoby materiálu, a dlouhodobého hmotného majetku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omezují se nákup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4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 se dostává do ztráty, nejsou prostředky na pokrytí fixních nákladů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uvnitř společnosti se objevují spory, které se projevují i navenek, ve vztahu k obchodním partnerům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latební schopnost se sníží na minimu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vky krizového managementu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dhalení rizika - příčiny kr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tanovení krizové strategi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alizace krizové strategi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Odhalení rizika - příčiny kr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uvnitř podniku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- materiálová krize, výrobní krize, personál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mimo podnik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- dodavatel má krizi, konkurence, zákazníka, krize způsobená legislativními podmínkam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Odhalení rizika - příčiny kr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dělíme do následujících 3 skupin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růmyslové a obchodní rizik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nanční rizik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ezinárodní rizika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ůmyslové a obchodní rizik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ýrobní rizi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ciální problém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ákup surov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v oblasti informati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istribuční rizik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5:29:38Z</dcterms:created>
  <dc:creator>Start</dc:creator>
  <dc:description/>
  <dc:language>en-US</dc:language>
  <cp:lastModifiedBy>Alena Nováková</cp:lastModifiedBy>
  <dcterms:modified xsi:type="dcterms:W3CDTF">2006-12-03T12:40:28Z</dcterms:modified>
  <cp:revision>4</cp:revision>
  <dc:subject/>
  <dc:title>Krizový management</dc:title>
</cp:coreProperties>
</file>