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6E13-9A2F-4F25-813E-55F8288BD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3D00-5F11-4EC9-AC3D-D4A5AB45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7861-1ACB-442D-B8DF-9A8D0C474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E0A0-6E65-4269-96C4-B600BA26C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059B-9D26-495E-B3A9-3DBD759B1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DE19-1D20-478D-B60E-7AEC8440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74AE-B168-4D91-9B5A-DBAF37D2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85C9-ACD1-494B-98BD-4BFA5E8A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2A50-FA84-4ACE-8C8D-5C48906E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13AA-E62F-4D2C-93C6-3288A561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0B57-3E94-4F89-BA85-E7BDE45C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1BA6-BB20-42B3-9866-40EA8D7D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539F-923C-4F0B-B8DB-D7915051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12DD-C75C-47C0-8AF3-22D1FC83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01B9-822C-45E4-975A-EC15F008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4608-A4B0-4E7C-B41B-12A31D27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D6C9-CC4C-4EF5-B7A2-7B7D72CA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F607-4C45-4039-BAC5-942EF32A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A7F5-56D0-431A-A31A-B808CFE6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1C1C-C9D7-4447-88DB-1895E7FD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369D-D250-43B9-89F9-60910F99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9863-4A7C-4094-80DE-4D13D1D3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66E3-33D0-40E4-AD8C-5129D305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200F-51D1-4E01-B961-08C8E34C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C1E7-3761-40ED-B795-CEEC61609CBF}" type="slidenum"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983E-45D2-414D-8C8E-1CD49EF6B5B2}" type="slidenum"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tik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ezentace do předmětu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nagement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. Zbíral, J. Cahová, J. Fiš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ěkujeme za pozorno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Použitá literatura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A.Rich: </a:t>
            </a:r>
            <a:r>
              <a:rPr b="0" i="1" lang="cs-CZ" sz="3200" spc="-1" strike="noStrike">
                <a:solidFill>
                  <a:srgbClr val="eaeaea"/>
                </a:solidFill>
                <a:latin typeface="Times New Roman"/>
              </a:rPr>
              <a:t>Etika Hospodářství I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. Praha: Oikoymenh, 1994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585360"/>
            <a:ext cx="77724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jem etika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jem etika se odvozuje od řeckého slova ethos, které v původním významu znamená „obvyklé místo pobytu“. Ethos v abstraktním slova smyslu znamená zvyk, obyčej, později mravy. Poprvé u Sokrata nabyl jiný význam – místo navyklého konání význam co mám činit na základě rozumového vhledu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585360"/>
            <a:ext cx="77724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ředmět eti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ředmětem etiky je člověk, respektive odpovědnost člověka v jednání s lidmi i se vším, co k bytí člověka patří. Člověk ke svému bytí svět potřebuje. Odpovědnost nelze omezovat jen na lidstvo, odpovědnost přesahuje do odpovědnosti kosmologické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585360"/>
            <a:ext cx="77724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kologická etik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Člověk je odpovědný nejen za zacházení s ostatními lidmi, ale i s přirozeným životním prostředím, které je základním předpokladem pro existenci všech tvorů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Člověk ale má dánu snahu o urvání všeho pro sebe, popřípadě pro svůj rod, zajištění budoucnosti sebe a několika nejbližších generací (v čase posun vnímání – dle našeho názoru přechod k vnímání budoucnosti více dlouhodobě – od 1 generace po generace cca 4 – samozřejmě INDIVIDUÁLNÍ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585360"/>
            <a:ext cx="77724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kologická etik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anství nad nějakým člověkem narazí dříve či později na odpor a tím se vyjeví etická problematičnos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Zato s panstvím nad věcmi se spojuje i právo věc zničit, nejen právo užívat a požívat plodů věci. Věci neživé - jedině obavy o možný nedostatek věci v budoucnu některým velí omezit spotřebu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 této souvislosti je třeba si uvědomit hranici vlastnictví – vlastní třeba jedinec, ale svým konáním může negativně ovlivňovat ostatní jedinc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álka versus požit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acionalita ekonomického jednání hovoří o maximalizaci užitku. A ten je individuální. Toto je možná klíčem k otázce co vede jedince k etickému jednání. Je to zřejmě  užitek, který z tohoto jednání mají. Chtění se zalíbit je jedním z významných motivů pro lidské jednání toho kterého druhu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álka versus požit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Etika podnikání asijských podniků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Lze se chovat tak, že ničí podnikání životní prostředí a argumentovat slabší ekonomikou (Japonsko? vs. Indie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Vývoj Japonska po 2. Světové válce založen na zpětném engineeringu, stejně tak dnešní Čína. Dle našeho názoru v takové situaci není vhodné aplikovat myšlenky volného trhu, naopak přísná cl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álka versus požit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kud tedy jedinec či země jedná skutečně neeticky (co se podnikání týče), pak je nutné sledovat příčiny. Obvykle se jedná o snahu získat více pro sebe. Jediný způsob, jak tomuto zabránit je uvalení takových restriktivních opatření, které takové chování zbaví výhodnosti. Toto je možné zajistit legislativou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gislativa skutečně některému neetickému jednání brání – např. klamavá reklama, tresty za podvod a další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d podnikání k širší eti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Chování států jako sledování zájmu občanů nebo boj o moc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Je správné trestat slabé a silné nikoli (Husajn a Bush)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Jak může jedinec toto řešit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Proč „svět“ toto neřeší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Jde jen o bohatství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8:30:29Z</dcterms:created>
  <dc:creator>David</dc:creator>
  <dc:description/>
  <dc:language>en-US</dc:language>
  <cp:lastModifiedBy>Ondřej Částek</cp:lastModifiedBy>
  <dcterms:modified xsi:type="dcterms:W3CDTF">2006-11-23T08:58:23Z</dcterms:modified>
  <cp:revision>5</cp:revision>
  <dc:subject/>
  <dc:title>Etika podnikání</dc:title>
</cp:coreProperties>
</file>