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781-A631-40AA-B4BB-7D895861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6740-587C-44C3-AE19-32B7837A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C16A-F99D-45C3-95EE-93C572AF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B39B-5060-4754-B423-7DBFFFE2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5E70-C2FE-4227-A1DF-B7CBACA2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D0AC-B0F8-491C-8204-56723010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4CB3-E276-425E-95E2-D38F0EA1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EE41-7C55-43C0-9FD6-7A29C060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BD75-0515-44C1-97D7-4E0EC654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222A-62FD-447F-AFB3-331CB213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7836-3752-487C-9DAF-3DE59679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665-1AD4-42AC-97D5-8F37CDE0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41C4-5A31-4B9E-9FC4-22B3FBE0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A772-9814-41B1-B16D-2A05FB9D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0EAD-FCF4-4697-80E1-4A9A5933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374C-7FAB-4BA8-8E1C-53783CA5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B2F0-F2A2-4B81-A46B-37B895B3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8F4-B738-4ECC-95C7-923E49FD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8976-5237-4C97-AAAE-7E9594AC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299E-40CF-4F9F-80C1-F09EC737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2E9-F22F-4137-828D-95B68FBD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1007-F55B-41B2-80EA-97638D7D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D9C2-580D-412E-BFEB-1EB66B7F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E81-A151-48EF-AFC4-31608A46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685D-BC99-4F3F-8178-30AF25199AE1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9870-157C-4C50-9283-B649575CBC0E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ETICKÝ KODEX PODNIKÁ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335412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án Kuše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omáš Simbart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Štěpán Draž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acovní princip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nflikt záj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ary a záb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díraní a úplatkář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  <a:ea typeface="Times New Roman"/>
              </a:rPr>
              <a:t>Príprava a zavedenie etického kódexu podnikani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ľúčové pravidl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niciácia a inštitucionálna podpora etického kódexu mu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 prísť od vysokých predstaviteľov firmy </a:t>
            </a: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(predstavenstva)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a mala by s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stať súčasťou firemnej stratég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ntegrálnou požiadavkou firemnej stratégie je demonštrovať jasný a pevný záväzok vysokého a stredného manažmentu a ostatných úrovní manažmentu dodržiavať etický kódex firm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Keďže hodnoty firmy slúžia ako dôležitý zdroj pre etický kódex, musia byť spracované a zapracované do etického kódexu spolu s poslaním, víziou a stratégiou firmy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009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Akčný plán rozvoja a zavedenia etického kódexu</a:t>
            </a:r>
            <a:r>
              <a:rPr b="1" i="1" lang="sk-SK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podnikania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3718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1. Zostavenie rozvojového tí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2. Získavanie a analýza informáci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3. Interný seminár pre akcionárov </a:t>
            </a:r>
            <a:r>
              <a:rPr b="0" i="1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na určenie požiadaviek a očakávaní od etického kódexu fir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4. Externý seminár pre akcionárov </a:t>
            </a:r>
            <a:r>
              <a:rPr b="0" i="1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na určenie požiadaviek a očakávaní od etického kódexu fir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5. Analýza výsledkov seminár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72160" y="1828440"/>
            <a:ext cx="43718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6. Príprava návrhu etického kódex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7. Pripomienky a návr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8. Schválenie Kódexu orgánmi firmy (ako napríklad Výkonný výbor, Predstavenstvo, Dozorná rad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9. Grafický Design a Distribúcia dokumen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10. Realizá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11. Priesku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tický kódex skupiny Slovnaf</a:t>
            </a:r>
            <a:r>
              <a:rPr b="0" lang="sk-SK" sz="3600" spc="-1" strike="noStrike">
                <a:solidFill>
                  <a:srgbClr val="ccecff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ccecff"/>
                </a:solidFill>
                <a:latin typeface="Arial"/>
              </a:rPr>
              <a:t>- Obsah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7320" y="1294920"/>
            <a:ext cx="8591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Preamb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. Vzťahy so zákazník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I. Vzťahy s dodávateľmi a veriteľ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II. Vzťahy s konkurenci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V. Vzťahy so štátnymi a vládnymi orgánmi,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regiónom a spoločnosť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. Vzťahy s prostred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I. Vzťahy s medzinárodnými firma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II. Vzťahy s majiteľ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III. Vzťahy vo vnútri fir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Rešpektovanie ľudských bytostí – základ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nterpersonálnych vzťahov vo fir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Dôstojná prá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Etika komunikácie, jej šírenie a ochr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Ochrana majetku a dobrého mena fir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Konflikt záujm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Etika urovnávania spor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X. Etické zodpovednosti manaž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X. Záverečné opatreni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ntiqueOliveTCE-Light"/>
                <a:ea typeface="Times New Roman"/>
              </a:rPr>
              <a:t>Pochopenie a aplikovanie etického kódexu podnikani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2362320"/>
            <a:ext cx="8915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Prípadov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štúdi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lovens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telekomunikác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a. 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oneywell, I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ternet – iné zd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8076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usiness for Social Responsibility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sue Briefs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ttp://www.bsr.org/CSRResources/IssueBriefsList.cf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LÁHA, J., DYTRT, Z. 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nažerská etika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ha: Management Press 2003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ieskum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tisícročia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 spoločenskej zodpovednosti firiem </a:t>
            </a:r>
            <a:r>
              <a:rPr b="0" i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The Millenniu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l on Corporate Social Responsibility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ol zrealizovaný firm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vironics International, Ltd., v spolupráci so spoločnosťou the Pri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f Wales Business Leaders Forum a The Conference Board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globescan.com/news_archives/MPExecBrief.pdf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OLNÝ, I. 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tika v podnikové strategii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Boskovice: Albert, 199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KNIČKA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Úvod do hospodářské etiky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ha: ASPI,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arlo di Florio,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rporate Ethics and Sustainability: Building the Bot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ine Throug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rporate Citizenshi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referát pripravený firmou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icewaterhouseCoopers pre výročné stretnutie Svetovej banky/IMF, 2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ptember 200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Co je etický kodex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ystém pravidel a principů, které řídí chování jednotlivců a skupin, a které se zaobírají tím, co je dobré (morální) a co 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bsah kodexu vyplývá ze souboru hodnot, které podnik vyzná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říve – „jen“ dodržování zákonů, od 70. let 20. stol vývo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Co je etický kodex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vodce pro zaměstnance a manažery, ale i ostatní stakeholders – pochopení a dodržování zákonného a čestného jednání v rámci provádění práce + (vědět, kde žádat o pomoc, Ahol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eší především VZTAHY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obsahuje však odpověď a lék na „vš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Přínosy zavedení etického kodex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transparentnější a zdravější podnikatelské prostředí =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mj. růst zahraničních inve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ede k omezení korup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výšení loajality zaměstna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siluje jméno firmy (Sh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Výzkumy potvrzují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Lidé stále více upřednostňují etické principy před komerčními fak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nvironics International, Ltd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vlivňuje rozhodování obchodních partnerů </a:t>
            </a: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(Business for Social Responsibilit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tický kodex má vliv na hodnotu akcií </a:t>
            </a: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Business &amp; Societ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Základní směrnice etického kódex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Respektování lidských prá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incipi společenské zodpověd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chrana majetku a dobrého jména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Bezpečnost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chrana životního prostřed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Urovnávání sp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exuální obtěž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ika komun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k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odnikové vztahy I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akcionář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ůvě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munik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Řízení fi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04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e zaměstn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ulad se Zákoníkem prá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ersonální poli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odnikové vztahy II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dodavate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valita produktů a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spekt a důvě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chota ke kompromi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04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konkuren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držování zákon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estný přístup ke konkuren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kalá soutě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odnikové vztahy III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vlád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latit da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držovat vládní naříz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oj proti korup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04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zákazní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chrana informa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valita výrobku -mezinárodní no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lužby zákazníků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kl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9:26:10Z</dcterms:created>
  <dc:creator>76258</dc:creator>
  <dc:description/>
  <dc:language>en-US</dc:language>
  <cp:lastModifiedBy>Ondřej Částek</cp:lastModifiedBy>
  <dcterms:modified xsi:type="dcterms:W3CDTF">2006-11-23T08:59:01Z</dcterms:modified>
  <cp:revision>45</cp:revision>
  <dc:subject/>
  <dc:title>ETICKÝ KÓDEX PODNIKANIA</dc:title>
</cp:coreProperties>
</file>