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7EAC-7A2A-444D-92F2-2450226FA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EF41-2AE7-444B-B5F7-9EE7348CA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4A7F-5736-4E5E-92AC-C7912C709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FA07-1938-44A7-9881-E6F7E2968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C43AE-81FA-41DE-A631-AD5C275D8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1BBB1-7719-4135-BC2F-57087D0B0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AC636-2824-4B01-A8E3-C6FF41A10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76961-5081-4B0C-9F17-17D896FE4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BD09D-9AA4-47C5-A535-5BC851109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B36D7-8760-4314-9D2C-2D066A4A3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A7DDC-A4E5-469B-926C-5B92B5A8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DB82-FAB9-4E1B-AEE0-7CCFFBE19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35FB9-573E-482F-9D19-C5D8C4BA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72ABE-7CED-4D10-B084-8D5B15C5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09E6D-D287-47E8-B8B7-FD92F81AD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669D6-3546-4CFD-9236-B1F3D1AE1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E4AFE-4C63-478E-98B2-0F2085601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7A3D-84B4-43EE-866E-200DD7A80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449B-1A73-4C28-9B8F-E0BECAA55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3392-17FC-492B-B404-20BA8837E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17E6-1F5A-467F-B76C-F0CA83287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2601-21BB-4DCA-92BF-8D1EB1C0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7A82-ADCF-4B79-8471-C18D1B78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F38F-D081-4644-B35B-40236416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DCECC-28E5-4E25-90F5-2510CA3E02CA}" type="slidenum">
              <a:rPr b="0" lang="cs-CZ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5F44B-B44B-437E-8557-88C40F354EC8}" type="slidenum">
              <a:rPr b="0" lang="cs-CZ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Arial"/>
              </a:rPr>
              <a:t>Manažerská etika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lára Kozlová, Veronika Paďourová, Barbora Vincenecová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Zásady výstavby etického kodexu podniku: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ako vodítko pro rozhodování slouží vždy deklarované hodnoty podniku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tický kodex musí být vnitřně konzistentní a souviset s posláním, cíli, strategií a politikou podniku. Měl by obsahovat jasně formulované priority, závazky a požadavky a srozumitelné vymezení etických rolí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tický kodex musí být přiměřený. Nemůže být příliš detailní ani příliš obecný. Práva, povinnosti a požadavky na chování zaměstnanců musí být vyvážené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tický kodex musí obsahovat mechanismus řešení konfliktů, jeho jasnou interpretaci a aplikaci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Etický kodex v podniku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Při formulování obsahu etického kodexu by měla být respektována zásada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postupu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 od obecného ke konkrétnímu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Záleží na vedení podniku, jaký etický kodex si vytvoří. Často je velmi obtížné stanovit rozsah a celkovou proporci obsahu kodexu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Etický kodex by měl být vždy 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veřejně přístupný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Pro soustavu etických hodnot nelze najít univerzální schéma. Podstatné však je, aby si lidé v podniku díky kodexu lépe uvědomovali morální nároky a aby tyto nároky byly všeobecně přijatelné jako rozumné mantinely jejich práce, ne jako nástroj k omezování jejich svobody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Integrace etiky do strategického plánování podniku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Teze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„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rální kvalita jednání podniku netkví ve sledování kvantifikace zisku, ale ve volbě prostředků, jakými lze zisku dosáhnou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Podnikatelská etika a právo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ákonné právo si samo o sobě nemůže zjednat své plnění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egrace etiky do podnikové strategie vhodně doplňuje právo tam, kde je jeho aplikace obtížná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Tři úrovně integrace etiky do podnikové praxe (1)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Tři úrovně integrace etiky do podnikové praxe (2)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Tři úrovně integrace etiky do podnikové praxe (3)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Literatura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LNÝ, I.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Etika v podnikové strategii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Boskovice : Albert, 1998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atedra podnikového hospodářství (2006)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anagement II, průvodce studiem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[online]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Arial"/>
              </a:rPr>
              <a:t>Děkujeme za pozornost!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Arial"/>
              </a:rPr>
              <a:t>Stanovení klíčových etických hodnot podniku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dnik rozhoduje, které mravní hodnoty se stanou jejich hlavním identifikačním znak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líčové etické  hodnoty se stávají páteří podnikové kultu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ické hodnoty se též stávají součástí podnikové strateg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Arial"/>
              </a:rPr>
              <a:t>Tři základní funkce podnikových hodnot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efiniční funk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vymezují „kdo jsme a oč usilujeme“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trategická funk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ovlivňují společenské mínění o firmě a tím i do jisté míry preferenci zákazníků, investorů at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Kontrolní funk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umožňují veřejnosti hodnotit z mravního hlediska konkrétní aktivity a chování podniku na trh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Arial"/>
              </a:rPr>
              <a:t>Tři základní požadavky na charakter podnikových hodnot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adčasovo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obecný charakter, akceptovatelnost i v budoucn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řiměřeno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souvisí s kritickým pohledem na kapacitu podniku, co je pro něj reáln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Gara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souvisí s předchozím požadavkem, hlásání něčeho, co podnik není schopen zrealizovat, postrádá smys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Arial"/>
              </a:rPr>
              <a:t>Použití klíčových etických hodnot podniku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oučást firemního loga: „Tchibo – dát to nejlepší“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eklamní slogan: „Hypoteční banka – Zkraťte si cestu domů!“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Formulace: jasné, srozumitelné teze; pozor na vícevýznamovost slov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 hlediska Maslowovy teorie potřeb je neetické vydávat některé nižší potřeby za vyšší (auto, cigarety, čokoládové tyčinky atd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Etický kodex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Etický kodex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Klíčové etické hodnoty podniku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jsou základním morálním rámcem pro jeho činnost. Jsou však příliš obecné na to, aby mohly určovat řešení konkrétních etických problémů a dilemat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to se zavádí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tický kodex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který poskytuje detailnější rozpracování, konkretizaci morálních zásad a jejich použití v podnikové praxi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Zavádění etických kodexů se netýká pouze podnikové sféry. Kodexy již existují v bankovnictví, pojišťovnictví a státní správě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Z hlediska vedení podniku může dobře sestavený kodex pomoci: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liminovat nežádoucí chování, které způsobují pokles přízně zákazníků, zaměstnanců, investorů, veřejnosti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bjasnit politiku podniku v morálních otázkách, např. zacházení s důvěrnými informacemi, přijímání „pozorností“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osílit vnitropodnikovou disciplínu, snížit potřebu donucovacích opatření pro odhalení neetického chování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zamezit nadřízeným zneužívat svého postavení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ozitivně motivovat zaměstnance tím, že pracují v etickém prostředí s jasnými pravid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Z hlediska podnikového managementu kodex může pomoci: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řešit morální problémy a dilemata, které se vyskytují v práci podnikových manager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čelit neetickým požadavkům zákazníků, dodavatelů, ale i nadřízených a podřízenýc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bhajovat svá rozhodnutí jak uvnitř, tak vně podnik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zjednodušit vnitropodnikovou komunikac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zdůvodnit návrhy na disciplinární opatření při porušování etických zásad ze strany zaměstnanc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rychlit identifikaci problémových praktik a odhalení případných podvod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7T07:46:08Z</dcterms:created>
  <dc:creator>PC</dc:creator>
  <dc:description/>
  <dc:language>en-US</dc:language>
  <cp:lastModifiedBy>Ondřej Částek</cp:lastModifiedBy>
  <dcterms:modified xsi:type="dcterms:W3CDTF">2006-11-23T08:59:29Z</dcterms:modified>
  <cp:revision>8</cp:revision>
  <dc:subject/>
  <dc:title>Manažerská etika</dc:title>
</cp:coreProperties>
</file>