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E36-8BF6-4AF5-A844-15473969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090-67BB-4FC5-A997-43310671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F94-5479-4840-BBB2-48EF631F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146-03CB-41B5-B83F-3939EE92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989-CBCF-4724-962E-72C6605D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92B-B009-4359-9F3A-6E52AFE5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F76-A0E0-42A5-9406-561BCDD4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BCC-33E1-41FF-8E76-A9E40DB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4A0-92D7-4DF5-8BA4-10B44082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D72-A70A-4966-BDC4-CCA310A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16F-9F67-430B-9B08-FAEE3E91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FDB-8EEA-4698-9493-CC8CBA55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D566-9106-4733-96A7-3506989CBF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m Kotl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vla Liš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ek Výt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finice 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ční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spokojená potře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ově orientovan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okojení 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obs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slowova teorie hierarchie potř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erzbergova dvoufaktorová teor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ie spravedl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ční te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žerské strategie zvyšování motiva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měňování odrážející výk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poskytování zaměstnaneckých akc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užná pracovní d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ohacování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nnelly,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H.-Gibson, J.L.-Ivancevich, J.M.: Management, 1. vydání, Grada 1997, ISBN: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80-7169-422-3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24:08Z</dcterms:created>
  <dc:creator>Richard Savický</dc:creator>
  <dc:description/>
  <dc:language>en-US</dc:language>
  <cp:lastModifiedBy>Ondřej Částek</cp:lastModifiedBy>
  <dcterms:modified xsi:type="dcterms:W3CDTF">2006-12-05T08:54:21Z</dcterms:modified>
  <cp:revision>4</cp:revision>
  <dc:subject/>
  <dc:title>MOTIVACE</dc:title>
</cp:coreProperties>
</file>