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E153-6AB1-4D37-8F74-0AFEA481C57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hap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40E5-F4D9-4EFE-A3D5-0CEB9985DB9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em se promítá paralelně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e 3 rovinách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- ekonomické, environmentální (oblast životního prostředí) i sociální.</a:t>
            </a:r>
            <a:br>
              <a:rPr sz="1000"/>
            </a:b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Důležitým prvkem odpovědného podnikání je jeho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obrovol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Společensky odpovědná firma vyvíjí aktivity CSR nad rámec svých povinností vymezených zákonem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my je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louhodobou záležitostí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Budování odpovědné strategie a sledování přínosů je možné jen v delším časovém horizontu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ačlenění principů CSR do denního fungování firmy, nakloněný vlastník i management konceptu CSR, zaměstnanci se ztotožňují s hodnotami firmy, vhodná komunikace CSR ven – to vše vytváří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ůveryhod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CSR aktiv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hap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7730-C1F8-46B2-8D32-61E40E9620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em se promítá paralelně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e 3 rovinách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- ekonomické, environmentální (oblast životního prostředí) i sociální.</a:t>
            </a:r>
            <a:br>
              <a:rPr sz="1000"/>
            </a:b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Důležitým prvkem odpovědného podnikání je jeho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obrovol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Společensky odpovědná firma vyvíjí aktivity CSR nad rámec svých povinností vymezených zákonem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my je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louhodobou záležitostí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Budování odpovědné strategie a sledování přínosů je možné jen v delším časovém horizontu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ačlenění principů CSR do denního fungování firmy, nakloněný vlastník i management konceptu CSR, zaměstnanci se ztotožňují s hodnotami firmy, vhodná komunikace CSR ven – to vše vytváří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ůvěryhod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CSR aktiv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F94D-17B2-4C93-97B6-DAD837FBAF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CSR je zkratkou anglického výrazu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Corporate Social Responsibility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, který do češtiny překládáme jako společenská odpovědnost firem.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 rámci šíření povědomí o konceptu CSR se členové Business Leaders Fora shodli na jeho jednotné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efinici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hap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5AFA-F729-4411-AF25-523FD8DCBBA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em se promítá paralelně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e 3 rovinách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- ekonomické, environmentální (oblast životního prostředí) i sociální.</a:t>
            </a:r>
            <a:br>
              <a:rPr sz="1000"/>
            </a:b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Důležitým prvkem odpovědného podnikání je jeho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obrovol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Společensky odpovědná firma vyvíjí aktivity CSR nad rámec svých povinností vymezených zákonem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my je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louhodobou záležitostí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Budování odpovědné strategie a sledování přínosů je možné jen v delším časovém horizontu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ačlenění principů CSR do denního fungování firmy, nakloněný vlastník i management konceptu CSR, zaměstnanci se ztotožňují s hodnotami firmy, vhodná komunikace CSR ven – to vše vytváří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ůveryhod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CSR aktiv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BAAC-A781-462A-B96E-4B9F71B6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49B-AC08-482B-AC67-D1DF312A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6B32-148B-4E0A-B070-9DD1423F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B57-81F0-4DD7-9B1B-3D7EB1E1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7B33-41B1-46BF-810C-6C8FC149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4F70-01E4-45C4-83F5-D4C608DB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1F70-F3FA-4C40-9A6F-1FA167E2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5F4-7D6F-4C26-9D8B-752C86B6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60CE-BC19-4458-8A51-8621C52B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4982-7C65-4008-B974-7B7DF430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4F8D-0D10-4DFC-A29A-2D452085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12C-E7AC-4D84-804E-22C76865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Rectangle 1030" descr=""/>
          <p:cNvPicPr/>
          <p:nvPr/>
        </p:nvPicPr>
        <p:blipFill>
          <a:blip r:embed="rId2"/>
          <a:stretch/>
        </p:blipFill>
        <p:spPr>
          <a:xfrm>
            <a:off x="457200" y="5715000"/>
            <a:ext cx="2523960" cy="876240"/>
          </a:xfrm>
          <a:prstGeom prst="rect">
            <a:avLst/>
          </a:prstGeom>
          <a:ln w="0">
            <a:noFill/>
          </a:ln>
        </p:spPr>
      </p:pic>
      <p:sp>
        <p:nvSpPr>
          <p:cNvPr id="6" name="Straight Connector 1031"/>
          <p:cNvSpPr/>
          <p:nvPr/>
        </p:nvSpPr>
        <p:spPr>
          <a:xfrm flipV="1">
            <a:off x="468360" y="6597720"/>
            <a:ext cx="8351640" cy="39600"/>
          </a:xfrm>
          <a:prstGeom prst="line">
            <a:avLst/>
          </a:prstGeom>
          <a:ln w="38160">
            <a:solidFill>
              <a:srgbClr val="818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traight Connector 1032"/>
          <p:cNvSpPr/>
          <p:nvPr/>
        </p:nvSpPr>
        <p:spPr>
          <a:xfrm flipV="1">
            <a:off x="8820000" y="404640"/>
            <a:ext cx="0" cy="6120000"/>
          </a:xfrm>
          <a:prstGeom prst="line">
            <a:avLst/>
          </a:prstGeom>
          <a:ln w="31680">
            <a:solidFill>
              <a:srgbClr val="8189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Rectangle 1034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2881440" cy="75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2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3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4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5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6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7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8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9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0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1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2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3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4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5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6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7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8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9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20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2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18903"/>
                </a:solidFill>
                <a:latin typeface="Arial"/>
              </a:rPr>
              <a:t>Corporate Social Respon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5240" y="3428640"/>
            <a:ext cx="6472080" cy="23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Terezie Kouřilov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Martina Pospíšilov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7.12.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4000" y="1844280"/>
            <a:ext cx="81723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Charitativní a podpůrné a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Zaměstnanecká prá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Řešení problémů v región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Etika podniká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Spolupráce podniků s neziskovými organizac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18903"/>
                </a:solidFill>
                <a:latin typeface="Arial"/>
              </a:rPr>
              <a:t>http://www.abb.cz/cawp/czabb016/b65f058198643775c1256cd200387aaa.asp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18903"/>
                </a:solidFill>
                <a:latin typeface="Arial"/>
              </a:rPr>
              <a:t>http://www.kb.cz/cs/com/profile/index.s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hape 66561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Příklady CSR aktivi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000" y="2349000"/>
            <a:ext cx="8172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Projekty pro zvýšení povědomí o CS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Business Leaders Fo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Projekt Informativního Centra Neziskových Organiz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Projekt AIE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hape 66561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Příklady CSR aktivi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Zdroj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trategy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&amp; Society: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The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Link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Between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Competitive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Advantage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and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Corporate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Social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Responsibility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.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By: Porter, Michael E.; Kramer, Mark R.. Harvard Business Review, Dec2006, Vol. 84 Issue 12, p78-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CSR and philanthropy. Caribbean Business, 9/28/2006, Vol. 34 Issue 38, p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Anderson, Jerry W. - Corporate Social Responsibility: guidelines for top management. New York: Quorum Books,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http://www.marketingovenoviny.cz/index.php3?Action=View&amp;ARTICLE_ID=35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Společenská odpovědnost firem</a:t>
            </a:r>
            <a:br>
              <a:rPr sz="3200"/>
            </a:b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2000160"/>
            <a:ext cx="777240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Corporate Social Responsibility (CSR) neboli společenská odpovědnost firem představuje </a:t>
            </a:r>
            <a:r>
              <a:rPr b="1" lang="cs-CZ" sz="2400" spc="-1" strike="noStrike">
                <a:solidFill>
                  <a:srgbClr val="4d4d4d"/>
                </a:solidFill>
                <a:latin typeface="Arial"/>
              </a:rPr>
              <a:t>dobrovolný závazek firem chovat se v rámci svého fungování odpovědně k prostředí i společnosti, ve které podnikají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Rectangle 3075" descr=""/>
          <p:cNvPicPr/>
          <p:nvPr/>
        </p:nvPicPr>
        <p:blipFill>
          <a:blip r:embed="rId1"/>
          <a:stretch/>
        </p:blipFill>
        <p:spPr>
          <a:xfrm>
            <a:off x="2786040" y="4000680"/>
            <a:ext cx="38163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18903"/>
                </a:solidFill>
                <a:latin typeface="Arial"/>
              </a:rPr>
              <a:t>Trocha histor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první ucelený přístup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k CSR – H.R.Bowen 1953 – Social Responsibilities of the Businessm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1971 Committee for Economic Development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– vztah mezi podnikem a společností jako smlouva mezi dvěma stranami (obsah se mění v čas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posun od </a:t>
            </a: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dobrovolného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CSR, přes</a:t>
            </a: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 povinné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k formě investice do budoucnost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posun od </a:t>
            </a: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peněžní k nepeněžním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formá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2800" spc="-1" strike="noStrike">
                <a:solidFill>
                  <a:srgbClr val="81890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81890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81890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818903"/>
                </a:solidFill>
                <a:latin typeface="Arial"/>
              </a:rPr>
              <a:t> </a:t>
            </a: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Koho se CSR týká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38559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Akcion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Věřitel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ákazní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investo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aměstnan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Rectangle 63491" descr=""/>
          <p:cNvPicPr/>
          <p:nvPr/>
        </p:nvPicPr>
        <p:blipFill>
          <a:blip r:embed="rId1"/>
          <a:stretch/>
        </p:blipFill>
        <p:spPr>
          <a:xfrm>
            <a:off x="6858000" y="285840"/>
            <a:ext cx="1571760" cy="1658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64000" y="2421000"/>
            <a:ext cx="468000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Dodava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ástupci státní s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Mé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NNO a dal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18903"/>
                </a:solidFill>
                <a:latin typeface="Arial"/>
              </a:rPr>
              <a:t>4 nejčastější přístupy k CS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Moral obl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License to op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všechny čtyři jsou založeny na konfliktu mezi společností a podnikem nikoli na jejich vzájemné závisl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z ní vychází strategický přístup – integrace podniku a společ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818903"/>
                </a:solidFill>
                <a:latin typeface="Arial"/>
              </a:rPr>
              <a:t>Pro CS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je to v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dlouhodobém zájmu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podni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Prevence možných problémů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dobrá reputace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firmy, lepší firemní image a posílení věrnosti značce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atraktivita firmy pro kvalitní a talentované potenciální zaměstn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zvýšená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loajalita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a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produktivita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zaměstnanc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vyšší úroveň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spokojenosti 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a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věrnosti 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zákazníků a z ní plynoucí dlouhodobé vaz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odlišení se 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od konkurence v očích spotřebitelů, konkurenční výho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úspory 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nákladů např. na risk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cs-CZ" sz="4400" spc="-1" strike="noStrike">
                <a:solidFill>
                  <a:srgbClr val="818903"/>
                </a:solidFill>
                <a:latin typeface="Arial"/>
              </a:rPr>
              <a:t>Proti CS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–"/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Nemaximalizuje se zisk – trpí akcionář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–"/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Zvýší se cena pro koncového zákazník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–"/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Efekt je těžko měřiteln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–"/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Management nemá kompetence k řešení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818903"/>
                </a:solidFill>
                <a:latin typeface="Arial"/>
              </a:rPr>
              <a:t>Co přij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další vývoj záleží na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změnách hodnot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společnosti např. trvale udržitelný rozv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důležité je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integrovat CSR přímo do strategie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společnosti (spojení s core business interest, nalezení shared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měla by to být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promyšlená investice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do budoucího přežití podni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musí být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sdílená všemi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pracovníky od top managementu až po nejnižší úrove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400" spc="-1" strike="noStrike">
                <a:solidFill>
                  <a:srgbClr val="818903"/>
                </a:solidFill>
                <a:latin typeface="Arial"/>
              </a:rPr>
              <a:t>Pár čísel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86% velkých a mezinárodních společností zahrnuje CSR ve svém dlouhodobém plánu a komunikačních strategi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Oblast jejich zájmu: sociální, zdravotní sféra, vzdělávání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58% malých podniků podporuje volnočasové aktivity a 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Nezahrnuje CSR ve svých komunikačních aktivit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Krátkodob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Podle Institute of Business Ethics mají společnosti praktikující CSR o 18% vyšší z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8T20:42:25Z</dcterms:created>
  <dc:creator>Zuzana Kubíková</dc:creator>
  <dc:description/>
  <dc:language>en-US</dc:language>
  <cp:lastModifiedBy>1</cp:lastModifiedBy>
  <dcterms:modified xsi:type="dcterms:W3CDTF">2006-12-06T18:24:56Z</dcterms:modified>
  <cp:revision>132</cp:revision>
  <dc:subject/>
  <dc:title>Manager Shadowing Program</dc:title>
</cp:coreProperties>
</file>