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541E-C35A-4D9F-A0CB-7DA0C226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667C-D24C-4BFF-9015-44DBDC92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810-1155-421A-9B04-A05DB54C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4FF-EA01-4EB5-903B-48ACED3C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326F-8CC7-4F9C-A4D3-672DD223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9338-28D6-4BCE-8F39-472CC0A8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FF53-3C54-478D-82F0-0C430BE9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6826-24A8-416C-85C0-C99D9636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0843-9AE0-4471-B86C-9DC1E518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1E2A-56D1-456F-9C79-C120AF0B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E474-0328-41FE-8FC3-9A06F4C2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DBF3-36E4-4ACC-87D2-8500ED5B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EA01-C01A-4D7D-B2BC-3709BE6E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AEDE-AF6C-4E66-BA4C-49D1B7AB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04B3-D4D0-4EB5-B02B-F4FF5864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F74F-D9C1-4B0F-BD29-BA1F7A26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2978-236D-4AC0-B9AA-48613CC2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81A2-0355-4AE3-911A-ADE22A8B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A1C2-821B-44C2-ADDA-02677552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40D7-3B49-4E23-8BFB-F34D1C72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149D-B57C-4CDC-A8B9-32DBA0F4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D7D8-0D64-4502-81DF-A91EBA4B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7F4C-28DF-4A05-8137-7D136B31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77D-CF10-4F79-879B-EE891BF0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4C60-8319-4E2F-ADFE-528296B5FFA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3392-4F2B-42C3-9415-B3F7F181EE2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Vztah národní a organizační kultur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lan Sedláč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eněk Mandov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káš Schö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kupina č.3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tazník –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pecifikace české národní kultur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ons Trompenaars určil 7 aspektů, dle kterých se dají národní kultury systematizov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ní zde správná či špatná odpověď – záleží pouze na Vašem názo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sledky budou zveřejněny na konci prezent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Kolektivis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 vyznačující se velkou mírou koopera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Individualism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árodní kultura zdůrazňující schopnosti jedi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Národní kultura universál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icky a rozumově vedená společnost uznávající existenci universálně platných pravi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árodní kultura partikulár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, která je založena na lidských vztazích a pružných pravidle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3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Emoční národní kul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ysoká míra emociona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eutrální národní kul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ízká míra emocion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4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Národní kultura konkrét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iktně oddělen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ztahy civilní a pracov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árodní kultura s nejasnými vzta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ztahy civilní a pracovní jsou provázané a vzájemně se prolínaj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5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Dosahující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, která status přiděluje na základě předvedeného výkonu a úspěch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Přisuzovaný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, ve které se status přiděluje na základě stáří, pohlaví, at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6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8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Čas jako posloupnost děj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zumový, přímočarý přístup k otázkám - krok za krokem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Čas jako nástroj k synchroniza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Čas chápán jako kruhový s možností paralelních činnost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7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Národní kultura vnitřní orient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ázor, že jednotlivec by se měl snažit řídit lidské a přírodní prostřed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árodní kultura vnější orient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naha žít v souladu s přírodo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ztah národní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organizační kultu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konce 60. let panoval názor, že management je universálně funkční prvek bez ohledu na národní specif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ulturní konverg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ěhem 80. let se již plně rozšířilo přesvědčení o nutnosti rozdílného přístupu managemen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ulturní diverg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Systematizace Geerta Hofste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dl aspekty „úniku před nejistotou“ (UN) a „mocenský odstup“ (MO), jejichž vzájemnou kombinací vytvořil čtyři kategorie fungování podnik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mocí této metody lze dokladovat vliv národní kultury na kulturu podnikovo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ganizační kul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vní studie o „měkkých faktorech“ úspěchu firmy ve 30. letech minulého stole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ěhem 80. let velký nárůst zájmu o tuto problemati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působeno úspěchem japonských podniků a zvyšující se úrovní konku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3716280"/>
            <a:ext cx="360360" cy="649440"/>
          </a:xfrm>
          <a:prstGeom prst="downArrow">
            <a:avLst>
              <a:gd name="adj1" fmla="val 50000"/>
              <a:gd name="adj2" fmla="val 4505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Systematizace Geerta Hofste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63640" y="2637000"/>
          <a:ext cx="6491520" cy="2808000"/>
        </p:xfrm>
        <a:graphic>
          <a:graphicData uri="http://schemas.openxmlformats.org/drawingml/2006/table">
            <a:tbl>
              <a:tblPr/>
              <a:tblGrid>
                <a:gridCol w="3246480"/>
                <a:gridCol w="3245040"/>
              </a:tblGrid>
              <a:tr h="14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zký UN, níz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žní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VB, Skandináv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ý UN, níz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ovní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Izrael, Německ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zký UN, vyso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obní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Hongkong, Ind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ý UN, vyso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ná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Belgie, Fran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692360" y="1700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nik před nejisto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92360" y="220500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ízký                                                                                 Vyso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539640" y="2491920"/>
            <a:ext cx="606960" cy="29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censký od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-27720" y="384768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ízký                         Vyso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5805360"/>
            <a:ext cx="61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oj: Brooks (2003), podle Hofsteda (198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užitá litera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ADLER, N.: International Dimensions of Organizational Behavior. Boston : PWS-KENT Publishing Copany, 1991. ISBN 0-534-92274-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BROOKS, I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Firemní kultura – jedinci, skupiny, organizace a jejich chov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Brno : Computer press, 2003. ISBN 80-7226-763-9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BROWN, A. D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Organisational Culture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London : Pitman Publishing, 1995. ISBN 0-273-60454-6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HALL, W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Managing Cultures: Making Strategic Relationships Work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Chichester : John Wiley &amp; Sons, 1995. ISBN 0-471-95571-X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HOFSTEDE, G.,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Culture’s Consequences: International Differrences in Work-Related Values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Beverly Hilus : Sage Publications, 1984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KILLMANN, R., SAXTON, M.J., SERPA, R. a kol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Gaining Kontrol of the Corporate Culture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San Francisco, London : Jossey-Bass Publisher, 1985. ISBN 0-87589-666-9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LUKÁŠOVÁ, R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Brno : Vutium, 2002. ISBN 80-214-2141-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LUKÁŠOVÁ, R., NOVÝ, I. a kol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Praha : Grada, 2004. ISBN 80-247-0648-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NOVÝ, I., SCHROLL-MACHL, S. a kol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Interkulturni komunikace v řízení a podnik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Praha : Management Press, 1999. ISBN 80-7261-009-0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ganizační kultura - defin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gramovaný způsob vnímání, odvozený z názorů a hodnot“ (Hall, 1995, s.1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zorec názorů, hodnot a naučených způsobů zvládání situací, založený na zkušenostech, které vznikly během historie organizací a které jsou manifestovány v jejich materiálních aspektech a v chování členů“ (Brown, 1995, s.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dílené filozofie, ideologie, hodnoty, předpoklady, názory, očekávání, postoje a normy, které odhalují implicitní či explicitní skupinový souhlas s tím, jak rozhodovat a řešit problémy: jako způsob, jak se věci u nás dělají“ (Kilmann, Saxton a Serpa, 1985, s.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ganizační kultura - defin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ční kulturu lze chápat jako soubor základních předpokladů, hodnot, postojů a norem chování, které jsou sdíleny v rámci organizace a které se projevují v myšlení, cítění a chování členů organizace a v artefaktech (výtvorech) materiální a nemateriální povahy. (Lukášová, 2004, s.22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Základní předpoklad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nezpochybnitelné přesvědčení jednotlivce o realitě kolem ně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dnot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považována za měřítko toho, co je špatné a co je dobr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stoj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ázor na danou vě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rmy chován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symbolizují množinu nepsaných pravidel, kterými se zaměstnanec říd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rtefak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materiální povahy jsou budovy, výrobky, vybavení firmy, propagační materiály, at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emateriálními jsou potom podnikové historky, mýty, rituály či podnikový jazy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nímání organizační kultu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Interpretativní přístup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se na tento aspekt dívá jako na „něco, čím organizace je“. Odklání se tedy od myšlenky analogie podniku a stroje či podniku a organismu a nabízí teorii, že podnik je vlastně jedna velká sdílená kultur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63" name=""/>
          <p:cNvSpPr/>
          <p:nvPr/>
        </p:nvSpPr>
        <p:spPr>
          <a:xfrm>
            <a:off x="5508720" y="2276640"/>
            <a:ext cx="2158920" cy="21589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45813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Pod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Podniková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80000" y="2349360"/>
            <a:ext cx="2016360" cy="201636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nímání organizační kultu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00720" y="1719360"/>
            <a:ext cx="418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bjektivistický přístu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re kulturu pouze jako složku celého podniku, která se stejně jako ostatní části určitým způsobem vyvíjí a ovlivňuje tak fungování podniku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87280" y="2276640"/>
            <a:ext cx="2159280" cy="2158920"/>
            <a:chOff x="1187280" y="2276640"/>
            <a:chExt cx="2159280" cy="2158920"/>
          </a:xfrm>
        </p:grpSpPr>
        <p:sp>
          <p:nvSpPr>
            <p:cNvPr id="169" name=""/>
            <p:cNvSpPr/>
            <p:nvPr/>
          </p:nvSpPr>
          <p:spPr>
            <a:xfrm>
              <a:off x="1187280" y="2276640"/>
              <a:ext cx="2159280" cy="21589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32000" y="2779920"/>
              <a:ext cx="647640" cy="647640"/>
            </a:xfrm>
            <a:prstGeom prst="ellipse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6000" y="2853000"/>
              <a:ext cx="647640" cy="647640"/>
            </a:xfrm>
            <a:prstGeom prst="ellipse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79640" y="2421000"/>
              <a:ext cx="647640" cy="647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47640" y="3500640"/>
              <a:ext cx="648000" cy="64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68360" y="3500640"/>
              <a:ext cx="648000" cy="64764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95280" y="4581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Pod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⊆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Podniková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árodní kul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atika významu slova „národ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dé stejné národnosti kdekoli na svět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dé žijící v jedné zemi, podléhající její legislativ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árodní kul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blematika významu slova „kultura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působ života skupiny lidí, jako konfiguraci všech více či méně stereotypizovaných vzorců naučeného chování, které jsou přenášeny z generace na generaci prostřednictvím jazyka a napodobování“. (Barnouw, 1963 podle Adler, s.15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olektivní programování mysli, které odlišuje členy jedné lidské skupiny od druhé … kultura v tomto smyslu obsahuje systém hodnot“. (Hofstede, 1984, s.14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07:47:23Z</dcterms:created>
  <dc:creator>Milan</dc:creator>
  <dc:description/>
  <dc:language>en-US</dc:language>
  <cp:lastModifiedBy>Milan</cp:lastModifiedBy>
  <dcterms:modified xsi:type="dcterms:W3CDTF">2006-11-17T15:16:10Z</dcterms:modified>
  <cp:revision>23</cp:revision>
  <dc:subject/>
  <dc:title>Vztah národní a organizační kultury, česká specifika</dc:title>
</cp:coreProperties>
</file>