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937-3DE0-4313-BE44-2168403B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F8B-401B-4C33-9CE3-488E8123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3E3-7971-488E-8779-224A21D7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023-B168-419A-9023-096BB267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37C-ED82-449D-86B0-D4CD2260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FB0-F016-4AF9-A7D5-960F0D86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F7F-9E20-4CC4-AC99-1E1C46F2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0AD-4041-46BA-A31D-79215556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D46-1936-462C-87AE-76DFE113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3A2-372D-4980-8525-5D8D6FCD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BE7-EB7B-4551-9501-C76B8932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7E9-B4BE-45D3-8E80-DA211635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0914-7A2D-40CB-BF12-F867E0F17B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ální dimenze ekonom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. seminární práce týmu č.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ypracovali: Ivana Kleinov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eronika Křížov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Jan Čerbá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Metody dosahování cíl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klasické paradig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 hledají nejracionálnější způsoby dosahování svých cíl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 když se člověk rozhoduje ve značně ohraničené oblasti, v níž si přeje provádět pouze logicko-empirické úvahu, jsou jeho rozhodnutí stále ještě sub-racion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zpravidla nečiní racionální rozhodnu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Kdo jsou aktéř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závislí jedinci, provádějící svá vlstní rozhodnu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1640" y="19051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soba jsko člen sociální kolektivity, která ve značném rozsahu individuální rozhodnutí ohranič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dividualita existuje, avšak pouze v rámci sociálního kontex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ed námi je podstata člověk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kolik jsme moudří, jaká je úloha morálky, emocí a sociálních vazeb v našem individuálním a společenském životě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á literatur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mitai Etzioni, Morální dimenze ekonomiky ISBN 80-85865-19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Á a 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aradigma založené na moderované verzi deontologické eti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áchází smysl sociálního svě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užíváme ho při pokusech pochopit a zlepšit sami sebe, ty, kteří nám jsou drazí, a ty, kteří nám tak drazí nejs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j o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álně – konzervativní paradi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oklasické paradi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ontologické paradigma </a:t>
            </a:r>
            <a:r>
              <a:rPr b="0" lang="cs-CZ" sz="5000" spc="-1" strike="noStrike">
                <a:solidFill>
                  <a:srgbClr val="000000"/>
                </a:solidFill>
                <a:latin typeface="Times New Roman"/>
              </a:rPr>
              <a:t>JÁ a M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klasické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entované na užitek, racionalitu a jed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kováno nejen na ekonomiku, ale stále více na celé spektrum sociálních vztahů d zločinu až po rodi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álně-konzervativní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lavní soupeř neoklasického paradigma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jímá individua jako morálně nezpůsobilá, často iracionální, a tudíž vyžadující silnou autoritu pro kontrolu jejich impulsů, řízení jejich snah a udržování pořád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ontologické paradig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ápe individua jako schopná jednat racionálně a vě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chopná rozvíjet svoje JÁ (self), tato schopnost je však hluboce ovlivněna jejich zakotvením ve zdravém společenství, je podporována pevním, morálním, emotivním osobním spojení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polečenství chápou spíše jako MY, než jako omezující a vnucené O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ontolo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 deon – závaze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lavní škola etiky, spřízněná s utilitarism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statou je tvrzení, že činy jsou morálně správné, když odpovídají relevatnímu principu nebo povin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ůrazňuje, že morální status činu nemá být posuzován podle jeho důsledku, což činí utilitarismus, ale podle „záměru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př. člověk, který někoho pomlouvá, jedná nemorálně bez ohledu na to, zda se mu podařilo skutečně dotyčného poškodit, nebo nik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i zastřešující otáz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jsou zdroje lidských hodnot, nebo cílů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jsou metody dosahování námi zvolených cílů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do jsou klíčoví aktéř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Jaké jsou naše cí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klasické paradig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lověk se snaží „maximalizovat“ svou užitečnost (požit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us (hlavně cena), který by mohl uskutečnit co nejefektivnější alokaci zdrojů, takovou, která jevíce uspokojuje lidská př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434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ské bytosti provádějí se svými žádostmi morální soudy. Pak je morální souhlas příčinou, která chování částečně vysvětl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mají různá přání, včetně toho žít podle vlastních morálních n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2:12:37Z</dcterms:created>
  <dc:creator>King</dc:creator>
  <dc:description/>
  <dc:language>en-US</dc:language>
  <cp:lastModifiedBy>Gecon</cp:lastModifiedBy>
  <dcterms:modified xsi:type="dcterms:W3CDTF">2006-11-20T14:00:21Z</dcterms:modified>
  <cp:revision>3</cp:revision>
  <dc:subject/>
  <dc:title>Morální dimenze ekonomiky</dc:title>
</cp:coreProperties>
</file>