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E68-D9C6-48CA-88C0-D048E66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464-D872-4D38-83DA-A2D8D0EE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F4B-E71E-4A39-A0C2-B450ED3E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700-30BB-4A18-A918-A170FA82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0768-06E9-462B-BB57-0B49AD30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509D-C02C-43AC-B65C-EADC939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6D88-8ECF-4168-8510-ED6B065D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EEAE-7F7B-41E4-B029-55A0D659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3CAA-D28E-4B3C-B29D-0FF17A15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1DC6-505D-48DA-B7BD-356C551A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841B-1905-41FC-8D06-EB4417A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A2B-9E64-4232-977C-447B2A96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B9E1-AC6B-4A44-9D6B-F1EBEBF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5434-48F4-419D-93D5-39EC7CB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F731-B17A-48B4-81C4-C24A2C39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1980-69F0-46D4-864C-C3BCFB23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1EB2-4022-48F4-B2F7-FFEE631D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83A-1764-4326-B9FB-2CDFCBF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3E8-8C3E-4AAC-97B6-2F1DF15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053-DAA9-4655-9C9B-3EFCEA3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F46-12B8-4BB9-9C83-429CC774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0D9-F2A0-45E8-9094-10CF2EF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B6D-2DDA-4E53-9D65-CFF1ECF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015-EF8D-41AA-A244-C2B3553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B1A7-924D-4E49-AA4B-514C1FD48E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0E38-F0CF-4972-9A5F-0D046560D1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rtina Han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Bár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Obši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hodnoty, názory a předpoklady, které existují v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aný způsob vnímání, odvozený z názorů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u nás věci dělají…to, co je pro organizaci typické, její zvyky, převládající post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znik a vývoj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a hlavní princi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úzk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tivní posi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vky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y ch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ky a mý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ky, rituály a ceremon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din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í architektura a vybav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ktory ovlivňující kultur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a trž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adatel/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st a délka existence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íly kultury a výkon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ná kultura:charakteristická svojí vyhraněností, stabilitou a vysokou mírou sdílení a respektování předpokladů hodnot a n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ve vnímání a myšlení pracov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ěrňuje ch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ílení společných hodnot a c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výhod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uje organizaci na minulou 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braňuje myšlení v alternati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ůsobuje rezistenci vůči změn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užitá literatur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ová, R., Nový, I. : Organizační kultura. Praha: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, I., Schroll-Machl, S.: Interkulturní komunikace v řízení a podnikání. Praha: Management Press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žek, L. : Management II: Průvodce stud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15:06Z</dcterms:created>
  <dc:creator>Franta Konopásek</dc:creator>
  <dc:description/>
  <dc:language>en-US</dc:language>
  <cp:lastModifiedBy>Franta Konopásek</cp:lastModifiedBy>
  <dcterms:modified xsi:type="dcterms:W3CDTF">2006-11-13T10:40:34Z</dcterms:modified>
  <cp:revision>2</cp:revision>
  <dc:subject/>
  <dc:title>Organizační kultura</dc:title>
</cp:coreProperties>
</file>