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40AA-393A-4BFE-A8BB-064454E43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49F3-033E-4F78-A289-8AFED0CD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57D6-F44B-4293-8B4C-02663848D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88BA-EF15-48A4-AA92-876BE4B50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2ADC-84A7-4391-A27E-AA7F5974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4687-8D10-45AC-85F8-E373B701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8DF5-73A9-4156-8903-BD1923F8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E5D8-CEDF-442E-A712-69D32B97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EE4A-B8BB-40B4-851E-A5925545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19EB-A1B9-4E74-B72B-E4B42474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6A45-1916-4F10-8316-8063A67B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F437-15B2-43A2-BC78-6506F092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4CB9-B4DB-4658-8D2D-7E0768F07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Belbin_Team_Inventory" TargetMode="External"/><Relationship Id="rId3" Type="http://schemas.openxmlformats.org/officeDocument/2006/relationships/hyperlink" Target="http://en.wikipedia.org/wiki/Belbin_Team_Inventory" TargetMode="External"/><Relationship Id="rId4" Type="http://schemas.openxmlformats.org/officeDocument/2006/relationships/hyperlink" Target="http://en.wikipedia.org/wiki/Belbin_Team_Inventory" TargetMode="External"/><Relationship Id="rId5" Type="http://schemas.openxmlformats.org/officeDocument/2006/relationships/hyperlink" Target="http://en.wikipedia.org/wiki/Belbin_Team_Inventory" TargetMode="External"/><Relationship Id="rId6" Type="http://schemas.openxmlformats.org/officeDocument/2006/relationships/hyperlink" Target="http://en.wikipedia.org/wiki/Belbin_Team_Inventory" TargetMode="External"/><Relationship Id="rId7" Type="http://schemas.openxmlformats.org/officeDocument/2006/relationships/hyperlink" Target="http://en.wikipedia.org/wiki/Belbin_Team_Inventory" TargetMode="External"/><Relationship Id="rId8" Type="http://schemas.openxmlformats.org/officeDocument/2006/relationships/hyperlink" Target="http://en.wikipedia.org/wiki/Belbin_Team_Inventory" TargetMode="External"/><Relationship Id="rId9" Type="http://schemas.openxmlformats.org/officeDocument/2006/relationships/hyperlink" Target="http://en.wikipedia.org/wiki/Belbin_Team_Inventory" TargetMode="External"/><Relationship Id="rId10" Type="http://schemas.openxmlformats.org/officeDocument/2006/relationships/hyperlink" Target="http://en.wikipedia.org/wiki/Belbin_Team_Inventory" TargetMode="External"/><Relationship Id="rId11" Type="http://schemas.openxmlformats.org/officeDocument/2006/relationships/hyperlink" Target="http://en.wikipedia.org/wiki/Belbin_Team_Inventory" TargetMode="External"/><Relationship Id="rId12" Type="http://schemas.openxmlformats.org/officeDocument/2006/relationships/hyperlink" Target="http://en.wikipedia.org/wiki/Myers-Briggs_Type_Indicator" TargetMode="External"/><Relationship Id="rId13" Type="http://schemas.openxmlformats.org/officeDocument/2006/relationships/hyperlink" Target="http://en.wikipedia.org/wiki/Myers-Briggs_Type_Indicator" TargetMode="External"/><Relationship Id="rId14" Type="http://schemas.openxmlformats.org/officeDocument/2006/relationships/hyperlink" Target="http://en.wikipedia.org/wiki/Myers-Briggs_Type_Indicator" TargetMode="External"/><Relationship Id="rId15" Type="http://schemas.openxmlformats.org/officeDocument/2006/relationships/hyperlink" Target="http://en.wikipedia.org/wiki/Myers-Briggs_Type_Indicator" TargetMode="External"/><Relationship Id="rId16" Type="http://schemas.openxmlformats.org/officeDocument/2006/relationships/hyperlink" Target="http://en.wikipedia.org/wiki/Myers-Briggs_Type_Indicator" TargetMode="External"/><Relationship Id="rId17" Type="http://schemas.openxmlformats.org/officeDocument/2006/relationships/hyperlink" Target="http://en.wikipedia.org/wiki/Myers-Briggs_Type_Indicator" TargetMode="External"/><Relationship Id="rId18" Type="http://schemas.openxmlformats.org/officeDocument/2006/relationships/hyperlink" Target="http://en.wikipedia.org/wiki/Myers-Briggs_Type_Indicator" TargetMode="External"/><Relationship Id="rId19" Type="http://schemas.openxmlformats.org/officeDocument/2006/relationships/hyperlink" Target="http://en.wikipedia.org/wiki/Myers-Briggs_Type_Indicator" TargetMode="External"/><Relationship Id="rId20" Type="http://schemas.openxmlformats.org/officeDocument/2006/relationships/hyperlink" Target="http://en.wikipedia.org/wiki/Myers-Briggs_Type_Indicator" TargetMode="External"/><Relationship Id="rId21" Type="http://schemas.openxmlformats.org/officeDocument/2006/relationships/hyperlink" Target="http://en.wikipedia.org/wiki/Myers-Briggs_Type_Indicator" TargetMode="External"/><Relationship Id="rId22" Type="http://schemas.openxmlformats.org/officeDocument/2006/relationships/hyperlink" Target="http://en.wikipedia.org/wiki/Myers-Briggs_Type_Indicator" TargetMode="External"/><Relationship Id="rId23" Type="http://schemas.openxmlformats.org/officeDocument/2006/relationships/hyperlink" Target="http://en.wikipedia.org/wiki/Myers-Briggs_Type_Indicator" TargetMode="External"/><Relationship Id="rId24" Type="http://schemas.openxmlformats.org/officeDocument/2006/relationships/hyperlink" Target="http://en.wikipedia.org/wiki/Cog%27s_Ladder" TargetMode="External"/><Relationship Id="rId25" Type="http://schemas.openxmlformats.org/officeDocument/2006/relationships/hyperlink" Target="http://en.wikipedia.org/wiki/Cog%27s_Ladder" TargetMode="External"/><Relationship Id="rId26" Type="http://schemas.openxmlformats.org/officeDocument/2006/relationships/hyperlink" Target="http://en.wikipedia.org/wiki/Cog%27s_Ladder" TargetMode="External"/><Relationship Id="rId27" Type="http://schemas.openxmlformats.org/officeDocument/2006/relationships/hyperlink" Target="http://en.wikipedia.org/wiki/Cog%27s_Ladder" TargetMode="External"/><Relationship Id="rId28" Type="http://schemas.openxmlformats.org/officeDocument/2006/relationships/hyperlink" Target="http://en.wikipedia.org/wiki/Cog%27s_Ladder" TargetMode="External"/><Relationship Id="rId29" Type="http://schemas.openxmlformats.org/officeDocument/2006/relationships/hyperlink" Target="http://en.wikipedia.org/wiki/Cog%27s_Ladder" TargetMode="External"/><Relationship Id="rId30" Type="http://schemas.openxmlformats.org/officeDocument/2006/relationships/hyperlink" Target="http://en.wikipedia.org/wiki/Cog%27s_Ladder" TargetMode="External"/><Relationship Id="rId31" Type="http://schemas.openxmlformats.org/officeDocument/2006/relationships/hyperlink" Target="http://en.wikipedia.org/wiki/Cog%27s_Ladder" TargetMode="External"/><Relationship Id="rId32" Type="http://schemas.openxmlformats.org/officeDocument/2006/relationships/hyperlink" Target="http://en.wikipedia.org/wiki/Cog%27s_Ladder" TargetMode="External"/><Relationship Id="rId33" Type="http://schemas.openxmlformats.org/officeDocument/2006/relationships/hyperlink" Target="http://en.wikipedia.org/wiki/Cog%27s_Ladder" TargetMode="External"/><Relationship Id="rId34" Type="http://schemas.openxmlformats.org/officeDocument/2006/relationships/hyperlink" Target="http://www.belbin.com/" TargetMode="External"/><Relationship Id="rId35" Type="http://schemas.openxmlformats.org/officeDocument/2006/relationships/hyperlink" Target="http://www.belbin.com/" TargetMode="External"/><Relationship Id="rId36" Type="http://schemas.openxmlformats.org/officeDocument/2006/relationships/hyperlink" Target="http://www.belbin.com/" TargetMode="External"/><Relationship Id="rId37" Type="http://schemas.openxmlformats.org/officeDocument/2006/relationships/hyperlink" Target="http://www.belbin.com/" TargetMode="External"/><Relationship Id="rId38" Type="http://schemas.openxmlformats.org/officeDocument/2006/relationships/hyperlink" Target="http://www.belbin.com/" TargetMode="External"/><Relationship Id="rId39" Type="http://schemas.openxmlformats.org/officeDocument/2006/relationships/hyperlink" Target="http://www.personalitypathways.com/type_inventory.html" TargetMode="External"/><Relationship Id="rId40" Type="http://schemas.openxmlformats.org/officeDocument/2006/relationships/hyperlink" Target="http://www.personalitypathways.com/type_inventory.html" TargetMode="External"/><Relationship Id="rId41" Type="http://schemas.openxmlformats.org/officeDocument/2006/relationships/hyperlink" Target="http://www.personalitypathways.com/type_inventory.html" TargetMode="External"/><Relationship Id="rId42" Type="http://schemas.openxmlformats.org/officeDocument/2006/relationships/hyperlink" Target="http://www.personalitypathways.com/type_inventory.html" TargetMode="External"/><Relationship Id="rId43" Type="http://schemas.openxmlformats.org/officeDocument/2006/relationships/hyperlink" Target="http://www.personalitypathways.com/type_inventory.html" TargetMode="External"/><Relationship Id="rId44" Type="http://schemas.openxmlformats.org/officeDocument/2006/relationships/hyperlink" Target="http://www.personalitypathways.com/type_inventory.html" TargetMode="External"/><Relationship Id="rId45" Type="http://schemas.openxmlformats.org/officeDocument/2006/relationships/hyperlink" Target="http://www.personalitypathways.com/type_inventory.html" TargetMode="External"/><Relationship Id="rId46" Type="http://schemas.openxmlformats.org/officeDocument/2006/relationships/hyperlink" Target="http://www.personalitypathways.com/type_inventory.html" TargetMode="External"/><Relationship Id="rId47" Type="http://schemas.openxmlformats.org/officeDocument/2006/relationships/hyperlink" Target="http://www.myersbriggs.org/" TargetMode="External"/><Relationship Id="rId48" Type="http://schemas.openxmlformats.org/officeDocument/2006/relationships/hyperlink" Target="http://www.myersbriggs.org/" TargetMode="External"/><Relationship Id="rId49" Type="http://schemas.openxmlformats.org/officeDocument/2006/relationships/hyperlink" Target="http://www.myersbriggs.org/" TargetMode="External"/><Relationship Id="rId50" Type="http://schemas.openxmlformats.org/officeDocument/2006/relationships/hyperlink" Target="http://www.myersbriggs.org/" TargetMode="External"/><Relationship Id="rId51" Type="http://schemas.openxmlformats.org/officeDocument/2006/relationships/hyperlink" Target="http://www.myersbriggs.org/" TargetMode="External"/><Relationship Id="rId5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Iveta Pecharov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omáš Doná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ristián Sema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n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ikipedia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org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iki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Belbin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_Team_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Inventory</a:t>
            </a:r>
            <a:br>
              <a:rPr sz="3200"/>
            </a:b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en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ikipedia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org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/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iki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/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Myers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-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Briggs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_Type_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Indicator</a:t>
            </a:r>
            <a:br>
              <a:rPr sz="3200"/>
            </a:b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http://en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wikipedia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org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/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wiki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/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Cog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%27s_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Ladder</a:t>
            </a:r>
            <a:br>
              <a:rPr sz="3200"/>
            </a:b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http://www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belbin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com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/</a:t>
            </a:r>
            <a:br>
              <a:rPr sz="3200"/>
            </a:b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http://www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personalitypathways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com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/type_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inventory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6"/>
              </a:rPr>
              <a:t>html</a:t>
            </a:r>
            <a:br>
              <a:rPr sz="3200"/>
            </a:b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7"/>
              </a:rPr>
              <a:t>http://www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8"/>
              </a:rPr>
              <a:t>myersbriggs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9"/>
              </a:rPr>
              <a:t>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50"/>
              </a:rPr>
              <a:t>org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51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Teamové role v prax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24000" y="2997360"/>
            <a:ext cx="446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body is perfec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t a team can b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0" y="5892480"/>
            <a:ext cx="41004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r. Meredith Belb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Ako vybudovať perfektný team z nedokonalých ľudí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93880" y="2098800"/>
            <a:ext cx="584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Dokonalý jednotlivec môže byť popísaný ak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15120" y="304812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Spoločens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360" y="304812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Organizova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55640" y="306864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Motivujú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72000" y="386064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Tvoriv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89480" y="385128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Cieľavedom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56360" y="386064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Objektív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41840" y="4581360"/>
            <a:ext cx="18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Diplomat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66880" y="461340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Dôklad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57080" y="46134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Erudova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734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Je dosť nepravdepodobné nájsť všetky tieto vlastnosti v jednej osob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8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2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Teamové role a ich silné a slabé strán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256536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Riešite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osič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pad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oordiná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ormovate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ledovač, Kontroló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43280" y="256536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eamový hrá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Realizá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končovate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Špecial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Teória teamových rol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ilné strán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Uvedomiť si silná a slabé strá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k nejaká rola chýba dá sa nahradi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kupiny môžu byť vytvárané podľa teórie teamových r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labé strán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Jednotlivci nemusia vždy prejaviť svoje vlo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yndróm príliš silného šé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rganizačná poli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rganizačná a národná kultú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Ako vzniká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403848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áza „Zdvorilosti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áza „Prečo sme tu?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áza „Sil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áza „Kooperácie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áza „Dôvtipu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50920" y="5589360"/>
            <a:ext cx="8066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"Cog's Ladder: A Model of Group Growth", George O. Charrier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amestnane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rocter and Gamble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, 19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ff"/>
                </a:solidFill>
                <a:latin typeface="Arial"/>
              </a:rPr>
              <a:t>Iný pohľad na teamové role alebo MB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trovert /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xtrov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nsor / I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uitive (Tušiaci / Intuitívn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inker /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eler (Mysliteľ / Cítiac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dging /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rceiving (Hodnotiaci / Vnímav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4076280"/>
            <a:ext cx="8136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4 Kvadranty: SF, ST, NF, 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ttp://humanmetrics.com/cgi-win/jtypes2.as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68360" y="333360"/>
          <a:ext cx="8229600" cy="4657680"/>
        </p:xfrm>
        <a:graphic>
          <a:graphicData uri="http://schemas.openxmlformats.org/drawingml/2006/table">
            <a:tbl>
              <a:tblPr/>
              <a:tblGrid>
                <a:gridCol w="1776240"/>
                <a:gridCol w="1621080"/>
                <a:gridCol w="1662120"/>
                <a:gridCol w="1699920"/>
                <a:gridCol w="1470240"/>
              </a:tblGrid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xtrove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lko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trove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.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T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F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F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F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T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F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F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F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1403280" y="5300640"/>
          <a:ext cx="6550200" cy="1035000"/>
        </p:xfrm>
        <a:graphic>
          <a:graphicData uri="http://schemas.openxmlformats.org/drawingml/2006/table">
            <a:tbl>
              <a:tblPr/>
              <a:tblGrid>
                <a:gridCol w="2403720"/>
                <a:gridCol w="1103040"/>
                <a:gridCol w="1103400"/>
                <a:gridCol w="836640"/>
                <a:gridCol w="11034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ko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9 </a:t>
                      </a: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ažéro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6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Ďakujeme za pozornosť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20:01:25Z</dcterms:created>
  <dc:creator>something</dc:creator>
  <dc:description/>
  <dc:language>en-US</dc:language>
  <cp:lastModifiedBy>Ondřej Částek</cp:lastModifiedBy>
  <dcterms:modified xsi:type="dcterms:W3CDTF">2006-12-07T08:54:29Z</dcterms:modified>
  <cp:revision>4</cp:revision>
  <dc:subject/>
  <dc:title>TEAM</dc:title>
</cp:coreProperties>
</file>