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293-E1D4-45FC-B0C3-3E904020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F1C-B6B4-4CE8-8D9F-AF190E26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D4B-4BFA-4A52-8A26-86AF82B0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349-C3C4-448F-96D3-C89574A0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36B2-5B79-4883-9ED8-14F25B38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F277-B9B7-4CED-BE23-5565D6CC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C95E-7FDA-4A8B-A11E-81E8B41A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4D36-45B7-482D-B73C-B90EB4C9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76C2-6E1B-42DC-A3E8-E5BDBD3F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7B76-EE6B-41B5-9A2E-F4B98AEC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317D-EA3A-4F8D-8F2F-B566B566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8E9-A656-4073-A233-FD37EA6B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D48B-E6DF-4724-83B7-D95095A0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62FE-84A8-407B-BE7E-655CDA66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2236-A458-4957-A2EF-190B0926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26D4-2F30-4E20-A3D9-2751826E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FDD9-AEE9-4088-91E9-B4EAB32B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988-52C9-4A2D-A4AF-FDE07214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977-C547-4FFC-838F-3BDA64F8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8C0-F949-4DFE-844C-E5017CBC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397-CE81-449F-A04B-28EDE9A3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5A3-57F4-4AC0-BCB2-1453259B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748-EAEB-4153-9FAA-A90183EF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05B-CABD-4B21-B877-4B55C049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EAD2-8560-4F27-ACEE-B4256BA7786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F813-F491-4610-8B2B-CFCB0D08999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652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003366"/>
                </a:solidFill>
                <a:latin typeface="Times New Roman"/>
              </a:rPr>
              <a:t>Jak FORD k penězům přišel…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657600" y="4191120"/>
            <a:ext cx="4495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...aneb Ford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172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Ján Kušev, </a:t>
            </a: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Tomáš Simbartl, Štěpán Draž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ord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2667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droje: encyklopedie Wikipedia (www.wikipeida.org); skriptum prof. Blaž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0" sz="4400" spc="-1" strike="noStrike">
                <a:solidFill>
                  <a:srgbClr val="003366"/>
                </a:solidFill>
                <a:latin typeface="Times New Roman"/>
              </a:rPr>
              <a:t>ord, Henr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y Ford 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(1863-1947)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Z farmy ke stroj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en: sestrojení automobi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První pokus = kr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znik Ford Motor Company v Detroitu (19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086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3366"/>
                </a:solidFill>
                <a:latin typeface="Times New Roman"/>
              </a:rPr>
              <a:t>Ústup řemeslné výroby, přechod k hromadné produkci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4191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Řemesl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přelom 19. a 20. sto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Univerzální ná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alifikovaná práce řemesl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ízký objem výroby a nízká produktivita (max. 1000 aut/r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ečný stimul pro rozvoj 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1676520"/>
            <a:ext cx="3657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ásová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po 1. W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ontážní lin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nížení náklad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růst produk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ývoj technologií a           inovace výro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ordismus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(po 1. WW – 60. lét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rma prod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vedení montážních li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=&gt; masová produkce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(inspirace na jatká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019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449604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ordismus a Model 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oč to vše? Automobil pro každéh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tandardizovaná produkce 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..můžete ho mít v jakékoli barvě, pokud to bude černá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acovní podmí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soké platy...(dělník si musí vydělat na produkt, který vyráb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...ale monotónní, demotivující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oj proti odborů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ra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Fordismu, resp. Tayloris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line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620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1913lg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62863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st-Fordismu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ová éra průmy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ozvoj inform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onec homogenního trhu a prod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měna v organizaci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nížení státních interven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evýhody Post-Ford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ordismus vs. Post-Fordismu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Homogenní produkce a spotřeba X variabilita produktů pro různorodé zákazníky (Ford dnes vlastní Jaguar, Aston Martin, Volvo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epetitivní práce X inovativní činnost (job enlargement a enrich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ontrola trhu X přizpůsobivost podni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6:42:19Z</dcterms:created>
  <dc:creator>76275</dc:creator>
  <dc:description/>
  <dc:language>en-US</dc:language>
  <cp:lastModifiedBy>Simbartl</cp:lastModifiedBy>
  <dcterms:modified xsi:type="dcterms:W3CDTF">2006-10-25T15:44:49Z</dcterms:modified>
  <cp:revision>53</cp:revision>
  <dc:subject/>
  <dc:title>Ako Ford k peniazom prišiel…</dc:title>
</cp:coreProperties>
</file>