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A66-C0BB-4707-AA2E-B1F8BEDB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61F-1BE3-4698-A8C0-BB93B0C5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A50-405B-4C35-91E0-8544FA13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68F-C9A3-44E5-8D53-14ABAD3C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4089-EEF9-442B-B757-0C3884A2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0D68-6D89-487B-8462-442200AF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3D7E-D62B-4781-9FF9-1426CC4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8C43-4023-404B-9293-C8932C75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DF45-1B81-4F09-AE63-8127C01F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00AB-7F26-4E68-A229-BA92884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063D-5F4F-4AB6-AB6E-1487088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A1E-A99B-47B4-9C19-BCCA940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4235-6B02-4069-9D56-7D6739B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13FB-21B8-4087-87F0-FA1B021A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79C-8E1A-498B-92E2-5A2BA4DC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80DF-BC52-41FA-A6E8-97CFFC45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6AFB-71A8-40BB-AF82-8E845DC8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DC7-5418-4609-BAB7-FE78A72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8EF-71C0-4BBF-AD99-166BB61C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8FA-67C2-429A-A640-C39F50C4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232-A8CD-4860-B19D-376970A9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F14-0044-473B-A40C-04633D9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43E-6E12-44FF-A944-563262D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0E8-A485-4F56-94CF-EC5B556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496-93B5-4A17-AB41-F5FE9A45A5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DC24-193F-44BE-8901-CF5F7A8057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Han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Bár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Obši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hodnoty, názory a předpoklady, které existují v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aný způsob vnímání, odvozený z názorů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u nás věci dělají…to, co je pro organizaci typické, její zvyky, převládající post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znik a vývoj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a hlavní princi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úzk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tivní posi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vky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y 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ky a mý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ky, rituály a ceremon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d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í architektura a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ktory ovlivňující kultur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a trž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adatel/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st a délka existence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íly kultury a výkon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ná kultura:charakteristická svojí vyhraněností, stabilitou a vysokou mírou sdílení a respektování předpokladů hodnot a n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ve vnímání a myšlení prac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uje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ílení společných hodnot a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výhod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uje organizaci na minulou 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braňuje myšlení v alternati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ůsobuje rezistenci vůči změn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užitá literatur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ová, R., Nový, I. : Organizační kultura. Praha: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, I., Schroll-Machl, S.: Interkulturní komunikace v řízení a podnikání. Praha: Management Press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žek, L. : Management II: Průvodce stud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15:06Z</dcterms:created>
  <dc:creator>Franta Konopásek</dc:creator>
  <dc:description/>
  <dc:language>en-US</dc:language>
  <cp:lastModifiedBy>Franta Konopásek</cp:lastModifiedBy>
  <dcterms:modified xsi:type="dcterms:W3CDTF">2006-11-13T10:40:34Z</dcterms:modified>
  <cp:revision>2</cp:revision>
  <dc:subject/>
  <dc:title>Organizační kultura</dc:title>
</cp:coreProperties>
</file>