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A9D0-457B-4AD8-87A0-6D1082058504}"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jedným atribútom označujeme ako latentných a je možné, že týchto stakeholderov manažér ani neidentifikuje a aj keď identifikuje, nie je mu venovaná takmer žiadna pozornosť. Medzi stakeholderov latentných patria stakeholderi pokojný, ľubovoľný a požadujúc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kojný stakeholder má moc presadiť svoje požiadavky, tie ale nie sú urgentné a jeho vzťah k podniku nie je legitímny. Príkladom tých, čo majú moc je napríklad bývalý ozbrojený zamestnanec podniku- nátlaková moc, alebo potenciálny investor- utilitárska moc, alebo tí, ktorí vedia pritiahnuť pozornosť médií- symbolická mo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Ľubovoľný stakeholder má síce legitímny vzťah k podniku, ale jeho požiadavky nie sú dôležité a nemá ani potrebnú moc na ich presadenie. Príkladom sú napríklad neziskové organizácie ako školy, univerzity, nemocnice, ktoré buď dostávajú dotácie alebo im sú poskytnuté pomocné sily. Táto skupina stakeholderov nevyvoláva absolútne žiadny tlak na manažérov, aby im venovali pozornosť a vzťah medzi nimi bol istým spôsobom aktívn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žadujúci stakeholder má síce nejakú urgentnú požiadavku na podnik, ale chýba mu moc na presadenie a ani jeho vzťah k podniku nie je legitímny. Príkladom je napríklad človek, ktorý sa postaví do stredu námestia s nápisom „koniec sveta sa blíži. Na vine je Nestle“ Tento človek podnik doslova irituje, ale jeho požiadavka voči podniku zostáva absolútne bez povšimnut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dvoma atribútmi označujeme ako čakajúcich. Tým že vlastnia dva atribúty, si vyžadujú vyššiu dávku pozornosti a vzťah manažérov a stakeholderov sa zintenzívňuje a zo strany manažéra vyžaduje väčšiu zodpovednosť voči záujmom stakeholderov.</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ominantný stakeholder si zaisťuje pozornosť podniku na základe legitímnej požiadavky a moci ju aj presadiť. Dôležitosť tejto skupiny podtrhuje aj fakt, že v podniku samom existuje nejaká formálna štruktúra, ktorá túto skupinu zastupuje. Ide napríklad o predstavenstvo zastúpené investormi a veriteľmi; alebo o personálne oddelenie, ktoré potvrdzuje dôležitosť vzťahu podniku k zamestnancom. Na udržanie dobrých vzťahov vydáva podnik pre tieto skupiny aj nejaké správy- napríklad výročnú správu, s rastúcim významom správu týkajúcu sa ochrany životného prostredia at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Nebezpečný stakeholder je nebezpečným preto, lebo pre neho charakteristická moc a naliehavosť pri absencii legitimity často vyúsťuje do nátlaku a násilia. Ide napríklad o neoprávnený štrajk, sabotáže, terorizmu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ktorí nedisponujú mocou ale majú legitímnu a naliehavé požiadavku voči podniku, označujem ako závislých, pretože ich vplyv záleží od ostatných stakeholderov alebo benevolencie manažérov. Príkladom je postavenie miestnych obyvateľov, morských cicavcov a dokonca životného prostredia pri ropnej havárii a úniku ropy do mora, ktorých nároky môžu byť uspokojené len so spoluprácou s vládou.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efinitívny stakeholder vlastní všetky z troch spomínaných atribútov a a manažéri mu musia venovať okamžitú pozornosť. Najčastejšie sa týmto stakeholderom stáva stakeholder dominantný, a to ak jeho požiadavka sa stane urgentnou, ale aj ostatní čakajúci stakeholderi, teda stakeholderi s dvoma atribútmi, sa ním môžu stať. Príkladom je vlastník, ktorému sa zdá že jeho nároky nie sú uspokojované v dostatočnej mie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7FCDA-1091-41FD-8C37-B4874A28B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C83AD-E47E-4639-B441-26BF0B3C7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A42AD-8339-45A7-AC89-F0644372D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8B38A-CAF4-4C93-9FF7-651FD22D9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7A7EB-8E93-4B02-AE1D-E8DDFBB23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F053A-383F-4B48-8FBC-9FA5DD5A5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F1617-F2A1-43F8-8C37-8554483E5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09359-FCC0-416F-9C58-D339F9C5C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76F6D-0409-49A3-A998-DAD698966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8F4BB-5411-4ED8-869A-8950B6E94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73E1B-84C4-48CE-818F-36D652D9F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C293D-21B9-46AB-842F-743516C1B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D3EF1-AA06-44E1-8B6D-F73208D54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D0371-8A00-4AC7-8346-C97B8E1EE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2E192-3995-4E6A-88E4-220C2B4D2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68109-04A5-4FF2-9A6E-5B8598E0F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69F6C-849C-4EFB-83C1-B36C1B31A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06DA9-2435-414E-8188-867A96EAD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949D7-2EEC-4D66-B778-BFDC859B4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5FDFB-0D79-472E-B643-D3416F5C9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B82A9-2134-4144-B7F1-9D86AE0D7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4E097-A097-4EC8-AFDB-EB3F2288A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88E9-7E92-4365-8E21-98341C5B3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4CF7-5616-4D8D-AEFE-4EBF4B0BB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2C32-AA17-4A69-A2A6-CAA7E1F5F6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72AF-F150-464B-9C28-018F9C276B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000000"/>
                </a:solidFill>
                <a:latin typeface="Arial"/>
              </a:rPr>
              <a:t>Stakeholder a identifikácia stakeholderov</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2587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pracovali:  Marie Kutí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Lenka Kotou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Eleonóra Baculá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átum prezentácie: 7.11.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Čakajúci stakeholderi – </a:t>
            </a:r>
            <a:r>
              <a:rPr b="0" lang="sk-SK" sz="1900" spc="-1" strike="noStrike">
                <a:solidFill>
                  <a:srgbClr val="000000"/>
                </a:solidFill>
                <a:latin typeface="Arial"/>
              </a:rPr>
              <a:t>s dvoma atribútmi</a:t>
            </a:r>
            <a:endParaRPr b="0" lang="en-US" sz="1900" spc="-1" strike="noStrike">
              <a:solidFill>
                <a:srgbClr val="000000"/>
              </a:solidFill>
              <a:latin typeface="Arial"/>
            </a:endParaRPr>
          </a:p>
        </p:txBody>
      </p:sp>
      <p:grpSp>
        <p:nvGrpSpPr>
          <p:cNvPr id="148" name=""/>
          <p:cNvGrpSpPr/>
          <p:nvPr/>
        </p:nvGrpSpPr>
        <p:grpSpPr>
          <a:xfrm>
            <a:off x="2489040" y="2060640"/>
            <a:ext cx="6372000" cy="4322160"/>
            <a:chOff x="2489040" y="2060640"/>
            <a:chExt cx="6372000" cy="4322160"/>
          </a:xfrm>
        </p:grpSpPr>
        <p:sp>
          <p:nvSpPr>
            <p:cNvPr id="149"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53"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54"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55"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56"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57"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58"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59"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60"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61"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ominant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ímny nárok s mocou presadiť ho</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dôležitosť</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ávisl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legitímny nárok bez moci presadiť s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závislý od ostatných (dominantných) stakeholderov alebo priazni manažérov</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nebezpeč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nelegitímny nárok s možnosťou násilného presadeni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Definitívni stakeholderi – </a:t>
            </a:r>
            <a:r>
              <a:rPr b="0" lang="sk-SK" sz="1900" spc="-1" strike="noStrike">
                <a:solidFill>
                  <a:srgbClr val="000000"/>
                </a:solidFill>
                <a:latin typeface="Arial"/>
              </a:rPr>
              <a:t>so všetkými troma atribútmi</a:t>
            </a:r>
            <a:endParaRPr b="0" lang="en-US" sz="1900" spc="-1" strike="noStrike">
              <a:solidFill>
                <a:srgbClr val="000000"/>
              </a:solidFill>
              <a:latin typeface="Arial"/>
            </a:endParaRPr>
          </a:p>
        </p:txBody>
      </p:sp>
      <p:grpSp>
        <p:nvGrpSpPr>
          <p:cNvPr id="164" name=""/>
          <p:cNvGrpSpPr/>
          <p:nvPr/>
        </p:nvGrpSpPr>
        <p:grpSpPr>
          <a:xfrm>
            <a:off x="2489040" y="2060640"/>
            <a:ext cx="6372000" cy="4322160"/>
            <a:chOff x="2489040" y="2060640"/>
            <a:chExt cx="6372000" cy="4322160"/>
          </a:xfrm>
        </p:grpSpPr>
        <p:sp>
          <p:nvSpPr>
            <p:cNvPr id="165"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69"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70"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71"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72"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73"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74"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75"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76"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77"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legitímny nárok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možnosť presadeni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dôležitosť požiadavk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vyžaduje okamžitú reakciu manažmentu</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sp>
        <p:nvSpPr>
          <p:cNvPr id="180"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996720" y="14842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kojný</a:t>
            </a:r>
            <a:endParaRPr b="0" lang="en-US" sz="1800" spc="-1" strike="noStrike">
              <a:solidFill>
                <a:srgbClr val="000000"/>
              </a:solidFill>
              <a:latin typeface="Arial"/>
            </a:endParaRPr>
          </a:p>
        </p:txBody>
      </p:sp>
      <p:sp>
        <p:nvSpPr>
          <p:cNvPr id="184" name=""/>
          <p:cNvSpPr/>
          <p:nvPr/>
        </p:nvSpPr>
        <p:spPr>
          <a:xfrm>
            <a:off x="4932360" y="566100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ľubovoľný</a:t>
            </a:r>
            <a:endParaRPr b="0" lang="en-US" sz="1800" spc="-1" strike="noStrike">
              <a:solidFill>
                <a:srgbClr val="000000"/>
              </a:solidFill>
              <a:latin typeface="Arial"/>
            </a:endParaRPr>
          </a:p>
        </p:txBody>
      </p:sp>
      <p:sp>
        <p:nvSpPr>
          <p:cNvPr id="185" name=""/>
          <p:cNvSpPr/>
          <p:nvPr/>
        </p:nvSpPr>
        <p:spPr>
          <a:xfrm>
            <a:off x="2556360" y="5661000"/>
            <a:ext cx="137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žadujúci</a:t>
            </a:r>
            <a:endParaRPr b="0" lang="en-US" sz="1800" spc="-1" strike="noStrike">
              <a:solidFill>
                <a:srgbClr val="000000"/>
              </a:solidFill>
              <a:latin typeface="Arial"/>
            </a:endParaRPr>
          </a:p>
        </p:txBody>
      </p:sp>
      <p:sp>
        <p:nvSpPr>
          <p:cNvPr id="186" name=""/>
          <p:cNvSpPr/>
          <p:nvPr/>
        </p:nvSpPr>
        <p:spPr>
          <a:xfrm>
            <a:off x="2050920" y="328464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nebezpečný</a:t>
            </a:r>
            <a:endParaRPr b="0" lang="en-US" sz="1200" spc="-1" strike="noStrike">
              <a:solidFill>
                <a:srgbClr val="000000"/>
              </a:solidFill>
              <a:latin typeface="Arial"/>
            </a:endParaRPr>
          </a:p>
        </p:txBody>
      </p:sp>
      <p:sp>
        <p:nvSpPr>
          <p:cNvPr id="187" name=""/>
          <p:cNvSpPr/>
          <p:nvPr/>
        </p:nvSpPr>
        <p:spPr>
          <a:xfrm>
            <a:off x="5798160" y="328464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dominantný</a:t>
            </a:r>
            <a:endParaRPr b="0" lang="en-US" sz="1200" spc="-1" strike="noStrike">
              <a:solidFill>
                <a:srgbClr val="000000"/>
              </a:solidFill>
              <a:latin typeface="Arial"/>
            </a:endParaRPr>
          </a:p>
        </p:txBody>
      </p:sp>
      <p:sp>
        <p:nvSpPr>
          <p:cNvPr id="188" name=""/>
          <p:cNvSpPr/>
          <p:nvPr/>
        </p:nvSpPr>
        <p:spPr>
          <a:xfrm>
            <a:off x="4140000" y="551664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závislý</a:t>
            </a:r>
            <a:endParaRPr b="0" lang="en-US" sz="1200" spc="-1" strike="noStrike">
              <a:solidFill>
                <a:srgbClr val="000000"/>
              </a:solidFill>
              <a:latin typeface="Arial"/>
            </a:endParaRPr>
          </a:p>
        </p:txBody>
      </p:sp>
      <p:sp>
        <p:nvSpPr>
          <p:cNvPr id="189" name=""/>
          <p:cNvSpPr/>
          <p:nvPr/>
        </p:nvSpPr>
        <p:spPr>
          <a:xfrm>
            <a:off x="3922560" y="4292640"/>
            <a:ext cx="107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0000"/>
                </a:solidFill>
                <a:latin typeface="Arial"/>
              </a:rPr>
              <a:t>definitívny</a:t>
            </a:r>
            <a:endParaRPr b="0" lang="en-US" sz="1400" spc="-1" strike="noStrike">
              <a:solidFill>
                <a:srgbClr val="000000"/>
              </a:solidFill>
              <a:latin typeface="Arial"/>
            </a:endParaRPr>
          </a:p>
        </p:txBody>
      </p:sp>
      <p:sp>
        <p:nvSpPr>
          <p:cNvPr id="190"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91"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92"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sp>
        <p:nvSpPr>
          <p:cNvPr id="193" name=""/>
          <p:cNvSpPr/>
          <p:nvPr/>
        </p:nvSpPr>
        <p:spPr>
          <a:xfrm>
            <a:off x="2544120" y="2060640"/>
            <a:ext cx="3890520" cy="92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investori (prevzatie)</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asmédiá</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repustený zamestnanec (amok)</a:t>
            </a:r>
            <a:endParaRPr b="0" lang="en-US" sz="1600" spc="-1" strike="noStrike">
              <a:solidFill>
                <a:srgbClr val="000000"/>
              </a:solidFill>
              <a:latin typeface="Arial"/>
            </a:endParaRPr>
          </a:p>
        </p:txBody>
      </p:sp>
      <p:sp>
        <p:nvSpPr>
          <p:cNvPr id="194" name=""/>
          <p:cNvSpPr/>
          <p:nvPr/>
        </p:nvSpPr>
        <p:spPr>
          <a:xfrm>
            <a:off x="1603800" y="4437000"/>
            <a:ext cx="257220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jeden nespokojný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amestnanec</a:t>
            </a:r>
            <a:endParaRPr b="0" lang="en-US" sz="1600" spc="-1" strike="noStrike">
              <a:solidFill>
                <a:srgbClr val="000000"/>
              </a:solidFill>
              <a:latin typeface="Arial"/>
            </a:endParaRPr>
          </a:p>
        </p:txBody>
      </p:sp>
      <p:sp>
        <p:nvSpPr>
          <p:cNvPr id="195" name=""/>
          <p:cNvSpPr/>
          <p:nvPr/>
        </p:nvSpPr>
        <p:spPr>
          <a:xfrm>
            <a:off x="4810320" y="4292640"/>
            <a:ext cx="2477880" cy="12196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rg. pre ochranu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živ. prostredia</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univerzity</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byvatelia</a:t>
            </a:r>
            <a:endParaRPr b="0" lang="en-US" sz="1600" spc="-1" strike="noStrike">
              <a:solidFill>
                <a:srgbClr val="000000"/>
              </a:solidFill>
              <a:latin typeface="Arial"/>
            </a:endParaRPr>
          </a:p>
        </p:txBody>
      </p:sp>
      <p:sp>
        <p:nvSpPr>
          <p:cNvPr id="196" name=""/>
          <p:cNvSpPr/>
          <p:nvPr/>
        </p:nvSpPr>
        <p:spPr>
          <a:xfrm>
            <a:off x="2766240" y="3284640"/>
            <a:ext cx="167148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erorizmus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štrajky</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abotáže</a:t>
            </a:r>
            <a:endParaRPr b="0" lang="en-US" sz="1200" spc="-1" strike="noStrike">
              <a:solidFill>
                <a:srgbClr val="000000"/>
              </a:solidFill>
              <a:latin typeface="Arial"/>
            </a:endParaRPr>
          </a:p>
        </p:txBody>
      </p:sp>
      <p:sp>
        <p:nvSpPr>
          <p:cNvPr id="197" name=""/>
          <p:cNvSpPr/>
          <p:nvPr/>
        </p:nvSpPr>
        <p:spPr>
          <a:xfrm>
            <a:off x="4444200" y="3357720"/>
            <a:ext cx="177516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zamestnanci</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dodávatelia</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vlastníci</a:t>
            </a:r>
            <a:endParaRPr b="0" lang="en-US" sz="1200" spc="-1" strike="noStrike">
              <a:solidFill>
                <a:srgbClr val="000000"/>
              </a:solidFill>
              <a:latin typeface="Arial"/>
            </a:endParaRPr>
          </a:p>
        </p:txBody>
      </p:sp>
      <p:sp>
        <p:nvSpPr>
          <p:cNvPr id="198" name=""/>
          <p:cNvSpPr/>
          <p:nvPr/>
        </p:nvSpPr>
        <p:spPr>
          <a:xfrm>
            <a:off x="3722760" y="3573360"/>
            <a:ext cx="1474920" cy="821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ojný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lastník</a:t>
            </a:r>
            <a:endParaRPr b="0" lang="en-US" sz="1400" spc="-1" strike="noStrike">
              <a:solidFill>
                <a:srgbClr val="000000"/>
              </a:solidFill>
              <a:latin typeface="Arial"/>
            </a:endParaRPr>
          </a:p>
        </p:txBody>
      </p:sp>
      <p:sp>
        <p:nvSpPr>
          <p:cNvPr id="199" name=""/>
          <p:cNvSpPr/>
          <p:nvPr/>
        </p:nvSpPr>
        <p:spPr>
          <a:xfrm>
            <a:off x="3578760" y="4630680"/>
            <a:ext cx="1880280" cy="564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kojný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zákazní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Použitá literatúra</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uknič, A.: Štvrtý rozmer podnikania – etika, Bratislava: SAP, 1994</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nagement II (Průvodce studie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ESF MU 2006</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itchell, R.K., Agle, B.R., Wood, D.J.: Toward a theory of stakeholder identification and salience: Defining the principle of who and what really counts, Academy of Management Revie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Kto je stakeholder?</a:t>
            </a:r>
            <a:r>
              <a:rPr b="0" lang="sk-SK"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a:t>
            </a:r>
            <a:r>
              <a:rPr b="0" lang="sk-SK" sz="3200" spc="-1" strike="noStrike">
                <a:solidFill>
                  <a:srgbClr val="000000"/>
                </a:solidFill>
                <a:latin typeface="Arial"/>
              </a:rPr>
              <a:t>Stakeholderom je každá skupina alebo individum, ktoré môže ovplyvniť dosiahnutie podnikových cieľov alebo je ovplyvnený snahou podniku  o dosiahnutie týchto cieľov“. </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Freeman, Strategický management, 1984</a:t>
            </a:r>
            <a:endParaRPr b="0" lang="en-US" sz="20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dnotlivec alebo skupina s určitou „stávkou“ v podn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odnik je stretom záujmu rôznych subjektov, ktorých požiadavky a záujmy treba zohľadňovať</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achycuje podnik v celom jeho sociálno-ekonomickom kontex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Chápe podnik ako množinu vzťahov</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Stakeholderské pojatie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Identifikácia stakeholderov</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Tri základné atribú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ovplyvniť podnik</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vzťahu stakeholdera ku podniku</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osť</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požiadavky na podni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Moc</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chopnosť ovplyvniť podnik, a to nezávisle na vôli podnik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aložená  na troch zdrojoch</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átlaková</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utilitárska (prospechársk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ormatívn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Legitimit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redpoklad, že chovanie stakeholdera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je sociálne akceptovateľné</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sa zhoduje so sociálnymi hodnotami a normami</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 sociálne žiadanou vlastnosť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Dôležitosť</a:t>
            </a:r>
            <a:endParaRPr b="0" lang="en-US" sz="36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stupeň naliehavosti, s akou si požiadavky stakeholderov vyžadujú okamžitú pozornosť</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ávisí od</a:t>
            </a:r>
            <a:endParaRPr b="0" lang="en-US" sz="32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časovej citlivosti</a:t>
            </a:r>
            <a:endParaRPr b="0" lang="en-US" sz="27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kritickosti (teda aká je kritická)</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grpSp>
        <p:nvGrpSpPr>
          <p:cNvPr id="117" name=""/>
          <p:cNvGrpSpPr/>
          <p:nvPr/>
        </p:nvGrpSpPr>
        <p:grpSpPr>
          <a:xfrm>
            <a:off x="684360" y="1484280"/>
            <a:ext cx="7378200" cy="4681440"/>
            <a:chOff x="684360" y="1484280"/>
            <a:chExt cx="7378200" cy="4681440"/>
          </a:xfrm>
        </p:grpSpPr>
        <p:sp>
          <p:nvSpPr>
            <p:cNvPr id="118"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25800" y="234936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kojný</a:t>
              </a:r>
              <a:endParaRPr b="0" lang="en-US" sz="2400" spc="-1" strike="noStrike">
                <a:solidFill>
                  <a:srgbClr val="000000"/>
                </a:solidFill>
                <a:latin typeface="Arial"/>
              </a:endParaRPr>
            </a:p>
          </p:txBody>
        </p:sp>
        <p:sp>
          <p:nvSpPr>
            <p:cNvPr id="122" name=""/>
            <p:cNvSpPr/>
            <p:nvPr/>
          </p:nvSpPr>
          <p:spPr>
            <a:xfrm>
              <a:off x="5366160" y="4508640"/>
              <a:ext cx="16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ľubovoľný</a:t>
              </a:r>
              <a:endParaRPr b="0" lang="en-US" sz="2400" spc="-1" strike="noStrike">
                <a:solidFill>
                  <a:srgbClr val="000000"/>
                </a:solidFill>
                <a:latin typeface="Arial"/>
              </a:endParaRPr>
            </a:p>
          </p:txBody>
        </p:sp>
        <p:sp>
          <p:nvSpPr>
            <p:cNvPr id="123" name=""/>
            <p:cNvSpPr/>
            <p:nvPr/>
          </p:nvSpPr>
          <p:spPr>
            <a:xfrm>
              <a:off x="1980360" y="443700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žadujúci</a:t>
              </a:r>
              <a:endParaRPr b="0" lang="en-US" sz="2400" spc="-1" strike="noStrike">
                <a:solidFill>
                  <a:srgbClr val="000000"/>
                </a:solidFill>
                <a:latin typeface="Arial"/>
              </a:endParaRPr>
            </a:p>
          </p:txBody>
        </p:sp>
        <p:sp>
          <p:nvSpPr>
            <p:cNvPr id="124" name=""/>
            <p:cNvSpPr/>
            <p:nvPr/>
          </p:nvSpPr>
          <p:spPr>
            <a:xfrm>
              <a:off x="2918160" y="3357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nebezpečný</a:t>
              </a:r>
              <a:endParaRPr b="0" lang="en-US" sz="1800" spc="-1" strike="noStrike">
                <a:solidFill>
                  <a:srgbClr val="000000"/>
                </a:solidFill>
                <a:latin typeface="Arial"/>
              </a:endParaRPr>
            </a:p>
          </p:txBody>
        </p:sp>
        <p:sp>
          <p:nvSpPr>
            <p:cNvPr id="125" name=""/>
            <p:cNvSpPr/>
            <p:nvPr/>
          </p:nvSpPr>
          <p:spPr>
            <a:xfrm>
              <a:off x="4644000" y="335772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dominantný</a:t>
              </a:r>
              <a:endParaRPr b="0" lang="en-US" sz="1800" spc="-1" strike="noStrike">
                <a:solidFill>
                  <a:srgbClr val="000000"/>
                </a:solidFill>
                <a:latin typeface="Arial"/>
              </a:endParaRPr>
            </a:p>
          </p:txBody>
        </p:sp>
        <p:sp>
          <p:nvSpPr>
            <p:cNvPr id="126" name=""/>
            <p:cNvSpPr/>
            <p:nvPr/>
          </p:nvSpPr>
          <p:spPr>
            <a:xfrm>
              <a:off x="4069440" y="4724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závislý</a:t>
              </a:r>
              <a:endParaRPr b="0" lang="en-US" sz="1800" spc="-1" strike="noStrike">
                <a:solidFill>
                  <a:srgbClr val="000000"/>
                </a:solidFill>
                <a:latin typeface="Arial"/>
              </a:endParaRPr>
            </a:p>
          </p:txBody>
        </p:sp>
        <p:sp>
          <p:nvSpPr>
            <p:cNvPr id="127" name=""/>
            <p:cNvSpPr/>
            <p:nvPr/>
          </p:nvSpPr>
          <p:spPr>
            <a:xfrm>
              <a:off x="3780720" y="393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Arial"/>
                </a:rPr>
                <a:t>definitívny</a:t>
              </a:r>
              <a:endParaRPr b="0" lang="en-US" sz="1800" spc="-1" strike="noStrike">
                <a:solidFill>
                  <a:srgbClr val="000000"/>
                </a:solidFill>
                <a:latin typeface="Arial"/>
              </a:endParaRPr>
            </a:p>
          </p:txBody>
        </p:sp>
        <p:sp>
          <p:nvSpPr>
            <p:cNvPr id="128"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29"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30"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2489040" y="2060640"/>
            <a:ext cx="6372000" cy="4322160"/>
            <a:chOff x="2489040" y="2060640"/>
            <a:chExt cx="6372000" cy="4322160"/>
          </a:xfrm>
        </p:grpSpPr>
        <p:sp>
          <p:nvSpPr>
            <p:cNvPr id="132"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204160" y="2859120"/>
              <a:ext cx="13647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36"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37"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38"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39"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40"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41"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42"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43"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44"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45" name="PlaceHolder 1"/>
          <p:cNvSpPr>
            <a:spLocks noGrp="1"/>
          </p:cNvSpPr>
          <p:nvPr>
            <p:ph type="title"/>
          </p:nvPr>
        </p:nvSpPr>
        <p:spPr>
          <a:xfrm>
            <a:off x="618840" y="299520"/>
            <a:ext cx="795636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Latentní stakeholderi – </a:t>
            </a:r>
            <a:r>
              <a:rPr b="0" lang="sk-SK" sz="1900" spc="-1" strike="noStrike">
                <a:solidFill>
                  <a:srgbClr val="000000"/>
                </a:solidFill>
                <a:latin typeface="Arial"/>
              </a:rPr>
              <a:t>s jedným atribútom</a:t>
            </a:r>
            <a:endParaRPr b="0" lang="en-US" sz="19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koj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 schopnosť presadiť sa sú k dispozícii</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 a dôležitosť chýbajú</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ľubovoľ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ajú legitímny nárok</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chýba im moc a dôležitosť požiadaviek</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žadujúci</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á, ale nelegitímna požiadavka, vyžadujú pozornosť</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moc presadiť sa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4:15:00Z</dcterms:created>
  <dc:creator> Nonuly</dc:creator>
  <dc:description/>
  <dc:language>en-US</dc:language>
  <cp:lastModifiedBy> Nonuly</cp:lastModifiedBy>
  <dcterms:modified xsi:type="dcterms:W3CDTF">2006-11-06T11:28:56Z</dcterms:modified>
  <cp:revision>17</cp:revision>
  <dc:subject/>
  <dc:title>Snímek 1</dc:title>
</cp:coreProperties>
</file>