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1134-4807-4384-8F05-6CF66B1F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20A9-3250-4FB8-B4A5-1168988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7657-628F-4796-9FE2-93CBF70E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6B88-B62C-428A-9979-1E6092BC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E9C0-4ABE-44EE-A23B-0FC4809E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587D-5FE9-46E9-88D1-5EF5DB7E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FFB-616C-421D-845B-6282C5B8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1269-ECEF-465D-9DBE-8B5525D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7C54-160C-49D6-BD39-E67E2701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AC83-CD8A-473F-A7CC-7E38616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AB4D-CA04-418B-AD72-2805978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BF57-35C0-4C0D-A716-E931D235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F5E6-13B5-4282-B464-2502140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83EE-6240-47C9-8537-C5E6D323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9F38-6751-47AF-AA42-479FD446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2F85-6DE5-469F-95A3-EA3B9E2D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EF73-0C13-4466-B1F2-56338EC0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2EA6-19A9-4909-AFB3-047CEFCA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E0FE-B5F2-450B-B0CD-B3E00D6E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1D14-043F-4832-A25B-0299E173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C7EA-F53C-438C-B360-EB200F2D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2263-10DF-441E-BAA0-4E341D7B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94D3-EDE5-422A-A156-372C088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1745-308C-4D2E-93EE-D2A7706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A0DE-2CE4-49E6-B692-55B0A173B8C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7CC6-0FDB-4299-B477-46A6534F241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urier New"/>
              </a:rPr>
              <a:t>OUTSOURC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ýblo, J.: Outsourcing a outplacement: praxe a právní souvislosti, Praha: ASP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quensová, H.: Lidské zdroje?, Havířov: Question Marks, 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skočil, V.: Podpůrné procesy a snižování režijních nákladů (facility management), Praha: Professional Publishing,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ruckner, T.: outsourcing informačních systémů, Praha: Ekopress, 199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jem americké obchodní anglič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takový stav (nebo činnost k němu vedoucí), kdy vstup, který by firma získala z takového zdroje, koupí od jiného (podnikatelského) subjektu jako službu (nebo zbož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mluvní vztah s externí firmou za účelem přenesení odpovědnosti za určitou část funkční oblasti (účelové vymezen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nuje především oblasti, které bezprostředně nesouvisejí s hlavním předmětem činnosti podniku a dosud bylo obvyklé je provádět v podniku samé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problémy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vytěsnit a zda vůbec vytěs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efekty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výhoda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Historie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číná již dělbou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ematicky se jím podniky začínají zabývat v 60. letech 20. stole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 zlom v jeho rozšíření a začátek jeho masového využití (v USA) – outsourcing informačního systému firmou Kod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ojné využití vrcholí od počátku 90.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poskytovatel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cí poskytovatelé služeb v určité funkční oblasti jsou často podniky, jejichž původní zaměření je ji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kládání s rozvinutou funkční oblastí je vytěsnění vlastní organizační jednotky – ta se osamostatní a poskytuje služby svému mateřskému podniku i dalším zákazní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ůvody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obla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– důvody strategické, zaměření na získání konkurenční výhody, cíl dlouhodob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cné – zdokonalení v oblasti hl. činnosti, zajištění přístupu ke zdrojům nutným pro rozvoj hl. obla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– snížení nákladů a zvýšení výno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rganizační – zjednodušení manažerské práce a zploštění organizační struktury podniku – rostoucí specializace podniku, pracovníků i stř. management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Proces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ealizace prostřednictvím proje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áze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á analýza funkčních oblas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rčení funkčních oblastí, které budou vytěsn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efinice rozhraní „podnik – poskytovatel“ a definice požadavků na poskyto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běr poskytovatel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ízení vzta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ýhody outsourcingu pro podni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tup ke světové úrov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é technologie bez vedlejších náklad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ychlejší nástup nových technologi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padá odpovědnost za oblast a za její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ložení nákladů (plateb za služby) a redukce inve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un peně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žnost snadnější fúze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Nevýhody outsourcingu pro podni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á operabil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vratnost rozhodnutí (lack of flexi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klady případné změ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utnost řízení vzta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zika zadavatele (riziko nízké úrovně služby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kontrovatelné toky vnitřních informací mim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tížně kvalifikovatelné přínos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8:04:26Z</dcterms:created>
  <dc:creator>CIKT</dc:creator>
  <dc:description/>
  <dc:language>en-US</dc:language>
  <cp:lastModifiedBy>Ucitel</cp:lastModifiedBy>
  <dcterms:modified xsi:type="dcterms:W3CDTF">2006-10-22T08:41:56Z</dcterms:modified>
  <cp:revision>4</cp:revision>
  <dc:subject/>
  <dc:title>OUTSOURCING</dc:title>
</cp:coreProperties>
</file>