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ABA-82C7-4D2B-B64B-8EA5F49F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7C4-AE9D-4B9A-9840-6786FCBC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572-F94C-4AE6-8A47-C5DA28F5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679-7F45-46BC-9B3B-5FE43CD3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75A2-9E81-4104-9D5D-A7FBD70A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74D9-370F-4946-BFE6-4E9772A4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EE2D-4FCC-43EF-9BE6-A9D895A9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00EB-C2A6-46F7-B301-39242296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89AD-D8CE-45DD-9FC4-96310CD7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9754-B69E-456A-8B5C-49B48F62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729B-CE3A-4E87-BF51-804C2A81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CBC-AB2A-4CA3-949C-C8249EB4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9F8D-1A3C-4F1F-A346-E8B68EBE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370B-B216-4445-A0B2-3E74178B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6AC2-F404-44E8-92E0-FCA70BC6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D7D6-3603-45A2-9231-02D31282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FB5C-46E4-4D34-BDE5-182ABFD8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B5D-1BAD-417C-BEC0-27E4265E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F95-C0FF-4056-946B-A3A1A71D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5D9-A437-416C-B6A6-B5D3D676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DC9-A32B-4E97-ACA6-64614A81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EB5-09E7-44A8-B822-53642D9F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940-9B5A-4981-B463-759E6547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E20-D94C-44E4-B5B0-FC4811F9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ACD7-4DB9-46E4-AD7B-F26000818241}" type="slidenum">
              <a:rPr b="0" lang="cs-CZ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45CF-5D44-4ACE-A8E0-808E94EA36FD}" type="slidenum">
              <a:rPr b="0" lang="cs-CZ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Manažerská etika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ára Kozlová, Veronika Paďourová, Barbora Vinceneco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ásady výstavby etického kodexu podniku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ko vodítko pro rozhodování slouží vždy deklarované hodnoty podniku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být vnitřně konzistentní a souviset s posláním, cíli, strategií a politikou podniku. Měl by obsahovat jasně formulované priority, závazky a požadavky a srozumitelné vymezení etických rol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být přiměřený. Nemůže být příliš detailní ani příliš obecný. Práva, povinnosti a požadavky na chování zaměstnanců musí být vyvážené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obsahovat mechanismus řešení konfliktů, jeho jasnou interpretaci a aplikaci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kodex v podnik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ři formulování obsahu etického kodexu by měla být respektována zásad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stupu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od obecného ke konkrétnímu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Záleží na vedení podniku, jaký etický kodex si vytvoří. Často je velmi obtížné stanovit rozsah a celkovou proporci obsahu kodexu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tický kodex by měl být vždy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veřejně přístupný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ro soustavu etických hodnot nelze najít univerzální schéma. Podstatné však je, aby si lidé v podniku díky kodexu lépe uvědomovali morální nároky a aby tyto nároky byly všeobecně přijatelné jako rozumné mantinely jejich práce, ne jako nástroj k omezování jejich svobod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Integrace etiky do strategického plánování podniku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eze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ální kvalita jednání podniku netkví ve sledování kvantifikace zisku, ale ve volbě prostředků, jakými lze zisku dosáhn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odnikatelská etika a práv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ákonné právo si samo o sobě nemůže zjednat své plněn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ce etiky do podnikové strategie vhodně doplňuje právo tam, kde je jeho aplikace obtížn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1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2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3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teratura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NÝ, I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tika v podnikové strategi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oskovice : Albert, 1998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tedra podnikového hospodářství (2006)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anagement II, průvodce studie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[online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Děkujeme za pozornost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Stanovení klíčových etických hodnot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nik rozhoduje, které mravní hodnoty se stanou jejich hlavním identifikačním znak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íčové etické  hodnoty se stávají páteří podnikové kultu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cké hodnoty se též stávají součástí podnikové strate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Tři základní funkce podnikových hodno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finiční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vymezují „kdo jsme a oč usilujeme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ategická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vlivňují společenské mínění o firmě a tím i do jisté míry preferenci zákazníků, investorů at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Kontrolní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umožňují veřejnosti hodnotit z mravního hlediska konkrétní aktivity a chování podniku na tr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Tři základní požadavky na charakter podnikových hodno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adčasov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becný charakter, akceptovatelnost i v budoucn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řiměřen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ouvisí s kritickým pohledem na kapacitu podniku, co je pro něj reál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ar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ouvisí s předchozím požadavkem, hlásání něčeho, co podnik není schopen zrealizovat, postrádá smys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Použití klíčových etických hodnot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část firemního loga: „Tchibo – dát to nejlepší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klamní slogan: „Hypoteční banka – Zkraťte si cestu domů!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ormulace: jasné, srozumitelné teze; pozor na vícevýznamovost slov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 hlediska Maslowovy teorie potřeb je neetické vydávat některé nižší potřeby za vyšší (auto, cigarety, čokoládové tyčinky atd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Etický kodex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kodex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líčové etické hodnoty podnik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jsou základním morálním rámcem pro jeho činnost. Jsou však příliš obecné na to, aby mohly určovat řešení konkrétních etických problémů a dilema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o se zavádí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tický kode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který poskytuje detailnější rozpracování, konkretizaci morálních zásad a jejich použití v podnikové prax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vádění etických kodexů se netýká pouze podnikové sféry. Kodexy již existují v bankovnictví, pojišťovnictví a státní správě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 hlediska vedení podniku může dobře sestavený kodex pomoci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iminovat nežádoucí chování, které způsobují pokles přízně zákazníků, zaměstnanců, investorů, veřejnost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asnit politiku podniku v morálních otázkách, např. zacházení s důvěrnými informacemi, přijímání „pozorností“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ílit vnitropodnikovou disciplínu, snížit potřebu donucovacích opatření pro odhalení neetického chová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mezit nadřízeným zneužívat svého postave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zitivně motivovat zaměstnance tím, že pracují v etickém prostředí s jasnými pravid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 hlediska podnikového managementu kodex může pomoci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řešit morální problémy a dilemata, které se vyskytují v práci podnikových manager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čelit neetickým požadavkům zákazníků, dodavatelů, ale i nadřízených a podřízený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hajovat svá rozhodnutí jak uvnitř, tak vně podni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jednodušit vnitropodnikovou komunika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důvodnit návrhy na disciplinární opatření při porušování etických zásad ze strany zaměstnanc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rychlit identifikaci problémových praktik a odhalení případných podvod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7:46:08Z</dcterms:created>
  <dc:creator>PC</dc:creator>
  <dc:description/>
  <dc:language>en-US</dc:language>
  <cp:lastModifiedBy>Ondřej Částek</cp:lastModifiedBy>
  <dcterms:modified xsi:type="dcterms:W3CDTF">2006-11-23T08:59:29Z</dcterms:modified>
  <cp:revision>8</cp:revision>
  <dc:subject/>
  <dc:title>Manažerská etika</dc:title>
</cp:coreProperties>
</file>