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60C3-2395-4208-80D9-D3D38FB8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DE0E-CDDB-4FD3-864F-7D738CE3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41AA-D840-489C-9126-976280FE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EECC-BB43-448F-A23F-682CC0D1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C50E-6340-4066-8930-5577F4696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3591-425F-4EA2-A9C6-97492C09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ABD0-CFFF-4E5C-AC1A-8F1E50F6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583F-75D2-4A72-B304-43480556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0A91-264B-47F8-A172-0CCF688C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2F01-D4A8-41A8-9FA4-22141DD7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7FFE-15F2-4FE0-BA28-013156E1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B95B-68C8-4457-B820-D4D67746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97B4-B53F-45AD-A60A-C8BCA1D5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BAAE-2B2A-40F4-8F24-42418205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A897-41C1-4AEA-BB89-7C3A6514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07EF-29A2-4437-8AF3-5A2EFF470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B7A3-0B2F-4D63-9CA9-44EEA7C61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12E3-48A7-4D44-9DC6-E63B13C2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CAEF-1F70-46EE-AA6E-3140BF9D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87E3-20D9-4DC8-A029-DFCE7F5B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E789-23C8-40AD-9EF7-78B01C1D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746F-411E-48AE-ACD2-42F643F6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338E-F556-4171-8E33-78A1D06B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B594-E0CA-4D3F-8451-441C9C5F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6539-08A2-4213-9378-107860D8972F}" type="slidenum"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A38F-CC7B-4D93-B695-6188FB2566F0}" type="slidenum"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tik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ezentace do předmětu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nagement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. Zbíral, J. Cahová, J. Fiš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ěkujeme za pozorno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Použitá literatura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.Rich: </a:t>
            </a:r>
            <a:r>
              <a:rPr b="0" i="1" lang="cs-CZ" sz="3200" spc="-1" strike="noStrike">
                <a:solidFill>
                  <a:srgbClr val="eaeaea"/>
                </a:solidFill>
                <a:latin typeface="Times New Roman"/>
              </a:rPr>
              <a:t>Etika Hospodářství I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. Praha: Oikoymenh, 1994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585360"/>
            <a:ext cx="77724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jem etika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jem etika se odvozuje od řeckého slova ethos, které v původním významu znamená „obvyklé místo pobytu“. Ethos v abstraktním slova smyslu znamená zvyk, obyčej, později mravy. Poprvé u Sokrata nabyl jiný význam – místo navyklého konání význam co mám činit na základě rozumového vhledu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585360"/>
            <a:ext cx="77724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ředmět eti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ředmětem etiky je člověk, respektive odpovědnost člověka v jednání s lidmi i se vším, co k bytí člověka patří. Člověk ke svému bytí svět potřebuje. Odpovědnost nelze omezovat jen na lidstvo, odpovědnost přesahuje do odpovědnosti kosmologické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585360"/>
            <a:ext cx="77724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kologická etik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Člověk je odpovědný nejen za zacházení s ostatními lidmi, ale i s přirozeným životním prostředím, které je základním předpokladem pro existenci všech tvorů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Člověk ale má dánu snahu o urvání všeho pro sebe, popřípadě pro svůj rod, zajištění budoucnosti sebe a několika nejbližších generací (v čase posun vnímání – dle našeho názoru přechod k vnímání budoucnosti více dlouhodobě – od 1 generace po generace cca 4 – samozřejmě INDIVIDUÁLNÍ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585360"/>
            <a:ext cx="77724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kologická etik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anství nad nějakým člověkem narazí dříve či později na odpor a tím se vyjeví etická problematičnos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Zato s panstvím nad věcmi se spojuje i právo věc zničit, nejen právo užívat a požívat plodů věci. Věci neživé - jedině obavy o možný nedostatek věci v budoucnu některým velí omezit spotřebu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 této souvislosti je třeba si uvědomit hranici vlastnictví – vlastní třeba jedinec, ale svým konáním může negativně ovlivňovat ostatní jedinc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álka versus požit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acionalita ekonomického jednání hovoří o maximalizaci užitku. A ten je individuální. Toto je možná klíčem k otázce co vede jedince k etickému jednání. Je to zřejmě  užitek, který z tohoto jednání mají. Chtění se zalíbit je jedním z významných motivů pro lidské jednání toho kterého druhu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álka versus požit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Etika podnikání asijských podniků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Lze se chovat tak, že ničí podnikání životní prostředí a argumentovat slabší ekonomikou (Japonsko? vs. Indie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Vývoj Japonska po 2. Světové válce založen na zpětném engineeringu, stejně tak dnešní Čína. Dle našeho názoru v takové situaci není vhodné aplikovat myšlenky volného trhu, naopak přísná cl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álka versus požit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kud tedy jedinec či země jedná skutečně neeticky (co se podnikání týče), pak je nutné sledovat příčiny. Obvykle se jedná o snahu získat více pro sebe. Jediný způsob, jak tomuto zabránit je uvalení takových restriktivních opatření, které takové chování zbaví výhodnosti. Toto je možné zajistit legislativou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gislativa skutečně některému neetickému jednání brání – např. klamavá reklama, tresty za podvod a další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d podnikání k širší eti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Chování států jako sledování zájmu občanů nebo boj o moc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Je správné trestat slabé a silné nikoli (Husajn a Bush)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Jak může jedinec toto řešit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Proč „svět“ toto neřeší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Jde jen o bohatství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8:30:29Z</dcterms:created>
  <dc:creator>David</dc:creator>
  <dc:description/>
  <dc:language>en-US</dc:language>
  <cp:lastModifiedBy>Ondřej Částek</cp:lastModifiedBy>
  <dcterms:modified xsi:type="dcterms:W3CDTF">2006-11-23T08:58:23Z</dcterms:modified>
  <cp:revision>5</cp:revision>
  <dc:subject/>
  <dc:title>Etika podnikání</dc:title>
</cp:coreProperties>
</file>