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E912-FB03-4012-B47D-AE4ED91B1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D417-A29F-4D0B-810A-13DB63A4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5156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F0BD-ADF6-4040-AA9A-117420697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3556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69988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53556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69988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AD14-6B75-4693-96DF-5A0B0698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37C6-A3BB-4842-864C-FC22C28A0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A2C2-00F8-42DE-8D95-57A778CA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DC65-2E65-4B2C-B484-8E2940D2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5C98-1678-4870-97E4-598FDF3D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CB82-4921-4291-8E13-1F9DA4E3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828800" y="2133360"/>
            <a:ext cx="73152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094B-0C33-447E-BA40-E60782FE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4117-EBE0-4F8D-913B-8396D36F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20B7-18BF-46CD-9465-8D61E163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5156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D385-FFDD-46A4-B017-9E6A933A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0A7B-03A9-4A06-BB3E-F6FF3A2F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1220-C8AC-47FE-A464-BCC6DDD0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5156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8446-0BF3-4F0A-8D13-408393E1F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3556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69988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3556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69988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C646-D645-4637-A8F3-42090A826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E650-C152-4C31-A3C3-309970D7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A2F3-40EC-4F86-AB81-B5E9ED7C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BA01-897E-4C16-9BCF-29A1F30B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828800" y="2133360"/>
            <a:ext cx="73152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1EF1-6896-4821-8A4D-AF85B11E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F622-3A18-490F-84AF-F38369AE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5156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A76F-53AE-4307-95E6-F7BD5AAB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0929-1AA8-4B00-81A8-86E16F2E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A24F-669F-469B-ACA7-DBDA614D8F87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D66B-2692-4D40-8675-BD73D4B140CD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ástup znalostní společnosti a nová ekonomik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vana Kleinová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Veronika Křížová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Jan Čerbá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ová ekonomika – pro…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Existence termínu v ek. literatuře od 1999, řada empirických studií z US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Nově se prosazující systém organizace (finanční, průmyslové a obchodní aktivity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nové prostory pro růst + velké konkurenční výhody v globálním měřítk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↓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inflace + ↓ UNE + ↑produktivit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ová ekonomika – pro…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3 základní rysy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vyšší ekonomický růst (IT, efektivnější mechanismy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ovlivnění cyklických procesů (↓UNE, ↓ inflace pomocí IT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Výnosy ze síťových efektů a externali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+ systém tvorby bohatství založený na znalostech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Nová ekonomika a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prostor pro podnikání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eexistence univerzálního paradigmatu vs. široký výběr operativních přístupů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řechod od industriální společnosti k postindustriální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 = f(K,L,e) již neplatí absolutně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ouvislosti s rozvojem vysoce zhodnocujících podniků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Zásadní charakteristik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 nové ekonomiky pro podnikatele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Znalosti se stávají základem růstu bohatství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rvalý a důrazný růst konkurenc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osun od hierarchií k sítí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echnologický pokrok vytváří nové tržní podmínk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urbulentní prostředí prohlubuje sociální nerovnosti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Závěr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ástup znalostní společnosti úzce souvisí s rozvojem „vysoce zhodnocujících podniků“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Znalosti vystupují jako nejvýznamnější faktor růst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ová ekonomika: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osun paradigmatu, nebo jen výsledek přechodu k postindustriální společnosti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oužitá literatur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NEČEK J. Znalostní podnik ve znalostní společnosti. Praha : Kamil Minařík – PROFESSIONAL PUBLISHING, 2003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ŽEK L. Průvodce studiem. Brno : Masarykova univerzita – Katedra podnikového hospodářství, 2006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Děkujeme za pozornos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ástup znalostní společnosti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Historicky: po II. světové válce -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závažné komplexní jevy ve vyspělých tržních ekonomikách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Jeden z nejdůležitějších jevů v celospolečenské rovině: 1) společnost industriální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&gt;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2) znalostní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ástup znalostní společnosti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zásadní princip:1) dělba prác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2) řízení procesů, IT/I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práce v týmech,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    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podniková kultura,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reengineer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ástup znalostní společnosti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Podnikové okolí: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mění se od spojitého =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&gt;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k nespojitému-turbulentnímu ( globální, neustále se měnící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Podle knihy „Nový obraz budoucnosti“ R. Gibs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Žádná doposud osvědčená cesta vedoucí kupředu neexistuje…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Konec lineární cesty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konec socialism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konec industriálního paradigmat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konec poválečného kapitalism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udoucnost: chaos a nejistot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konomika založená na intelektuálním kapitál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otřeba nových organizací…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Inovace původních organizačních struktu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(bude obtížné je ovládat a řídit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 Narrow"/>
              </a:rPr>
              <a:t>   „</a:t>
            </a:r>
            <a:r>
              <a:rPr b="0" lang="cs-CZ" sz="3600" spc="-1" strike="noStrike">
                <a:solidFill>
                  <a:srgbClr val="000000"/>
                </a:solidFill>
                <a:latin typeface="Arial Narrow"/>
              </a:rPr>
              <a:t>Kdo se nechce změnit, je odsouzen k zániku…“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Podle J.Welche GE, o změně uvnitř a vně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ová ekonomik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Zatím poslední ve vývojové řadě změ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eoretický přístup opírající se o poslední ekonomické úspěchy USA ( vývojový trend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odnikové řízení směřující k managementu znalostí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ová ekonomik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2 krajní přístupy k pojmu „ Nová ekonomika“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aradox Nové ekonomik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) Václav Klaus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oti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I) Jiří Zlatuška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ová ekonomika – proti…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eexistence pojmu, neschopnost jinak pojmenovat nové jev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taré principy ekonomie stále platí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eprokázána přímá souvislost mezi IT a hospodářským růste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4T14:51:22Z</dcterms:created>
  <dc:creator>OEM</dc:creator>
  <dc:description/>
  <dc:language>en-US</dc:language>
  <cp:lastModifiedBy>Michal</cp:lastModifiedBy>
  <dcterms:modified xsi:type="dcterms:W3CDTF">2006-10-23T21:31:16Z</dcterms:modified>
  <cp:revision>58</cp:revision>
  <dc:subject/>
  <dc:title>Strategická analýza společnosti Metropolis</dc:title>
</cp:coreProperties>
</file>