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CF9C-996E-4F27-896F-0055A7D8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A777-1AE9-4DF8-ABB0-CB38E5A3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C264-CAFD-43DD-BBEA-7F253E4E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D5B0-7B4B-4C00-886D-F4AA58E5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1ADE-E844-4DAF-A255-8478E88F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6EB6-A39A-40D8-B033-D95D99B9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C74D-7F65-42B1-BC76-00803D13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F377-CBBA-4DF3-82E7-5C89D5B4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ED70-5928-449B-851B-6223D2DF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2404-4553-43BF-B798-3B7E6A6D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67F6-C419-4582-9CA8-35BCFB0C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EC79-F3A5-4B98-BA89-3EB35168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1FA7-E529-4C2B-8E6B-F4033E55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F376-F581-45D8-BEA4-504DD9BC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120A-DD23-4CE5-9B91-472935BE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DE5B-C8BB-47EE-8A7C-4EE674E1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88FB-62BC-4ED1-8B43-342C1B12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1006-45F5-4821-A643-B55D3042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9ADC-44B9-41D3-8E39-B61CE42E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1861-A42C-4A96-84E4-4067EEC9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3997-1F3D-4F72-9899-BCC69F2E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9296-0D46-4414-8F37-A9139139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8076-7FC7-485F-9AE8-A8E92024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F796-AFC0-4B7E-AC28-47647608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3E84-8E9A-479E-9DF2-12315D6B03AE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E3B1-6A3A-4E22-BD3E-E0D2179B5FF7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mir.cz/clanek.php3?CID=3878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Úvod do Obecné teorie systémů (OTS)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seková, Holek, Havrán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Úvo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fin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lyticko-mechanický x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lektický přístu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storie a vývoj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ěkolik systémových pojmů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sté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v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nsform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uktu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Říze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lavní principy 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. OTS jako logické vyústění historického vývoje filosofie a přírodních vě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. Sepjetí OTS s výzkumem a řízením sociálních systém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I. Orientace OTS na řešení globálních problém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lavní principy 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V. Sepjetí OTS s praktickým řešením systémových úlo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. Zdůrazňování principiálních odlišností fungování a vývoje různých druhů systém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. Paradoxnost systémového myšle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I. OTS je otevřený, dynamický, složitě organizovaný systé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ěkujeme za pozornost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lý, J.V., Vítek, M.:Teorie systémů II (Gaudeamus, 2003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iener, N.:Kybernetika  (SNTL, 1960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Fiala, L.:Hnulo se systémové hnutí? (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vesmir.cz/clanek.php3?CID=3878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ertalanffy, L. von:Člověk-robot a myšlení (Svoboda, 1972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18:13:23Z</dcterms:created>
  <dc:creator>AHa</dc:creator>
  <dc:description/>
  <dc:language>en-US</dc:language>
  <cp:lastModifiedBy>AHa</cp:lastModifiedBy>
  <dcterms:modified xsi:type="dcterms:W3CDTF">2006-10-02T20:45:24Z</dcterms:modified>
  <cp:revision>6</cp:revision>
  <dc:subject/>
  <dc:title>Snímek 1</dc:title>
</cp:coreProperties>
</file>