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265-EBD0-4403-B634-432D1721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EFC-3EF8-434E-A810-966AFB9B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414-0A65-47B1-84BE-2096FA63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E95-A77C-433A-A797-39114D94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D276-3F0A-4369-B7F5-6E6FD552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D33A-ADD8-4303-BD41-2A986996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37B0-937B-491B-A7D2-DF229F10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2E3E-84E4-4DE7-96AE-86A05363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E19-6C50-4CF3-A01B-A498A2A8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2A09-DA0F-4EF6-BEB4-34454434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53B-4885-4BE9-915A-337A81D9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EED-F2A5-45C0-A446-2BDF1FE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10F3-D7CA-44E2-B1C0-DB22DB04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21E-1F35-4A00-B454-87D8566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79BE-6658-4C23-9FDE-8F6A8E0D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9C3C-31EB-4A19-8318-F5A9419D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30B6-495F-4487-AB90-961097B9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E44-60B3-462A-AF99-B3FBC7C2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D18-91EB-46A5-8906-BEBFC396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BB7-169F-4219-9149-EF4CC09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8CB-2EB1-4F17-A608-2D9F8866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23F-DCAE-409C-81D4-270DEB7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CCE-CF11-468F-A593-0E42812E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415-AB43-46B0-93DA-92BA7E0A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22C5-9238-444E-B542-CC9A4945D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593-FE4F-46F0-AF9E-30C8430A9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8317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c6600"/>
                </a:solidFill>
                <a:latin typeface="Arial Black"/>
              </a:rPr>
              <a:t>Vývojové tendence na prahu postindustriální éry</a:t>
            </a:r>
            <a:endParaRPr b="1" lang="en-US" sz="4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157720"/>
            <a:ext cx="41054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Beata Bros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Tomáš Procház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Hana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Matonohov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Teorie modernizace – změna společnosti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rozvoj vědy, techniky, trhu, měst a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ociologové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: Spencer, Drukheim,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Modernizace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lang="sk-SK" sz="2000" spc="-1" strike="noStrike">
                <a:solidFill>
                  <a:srgbClr val="ffffff"/>
                </a:solidFill>
                <a:latin typeface="Bookman Old Style"/>
              </a:rPr>
              <a:t>proces transformace preindustriální společnosti na společnost charakterizovanou rozvinutou pr</a:t>
            </a: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ůmyslovou výrobou, racionálními a sekulárními postoji obyvatelstva a vysoce diferencovanou sociální struktur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Rozmach po 2. Světové vál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Nové teoretické koncepty - </a:t>
            </a:r>
            <a:r>
              <a:rPr b="0" lang="cs-CZ" sz="3200" spc="-1" strike="noStrike">
                <a:solidFill>
                  <a:srgbClr val="ffffff"/>
                </a:solidFill>
                <a:latin typeface="Bookman Old Style"/>
              </a:rPr>
              <a:t>Eisenstadt, Fasons, Rostow a Smel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Industriální společnost = „společnost hojnosti“ (Galb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Konec 60. let – náznak změny (Bell, Toffl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Bookman Old Style"/>
              </a:rPr>
              <a:t>Informační společnost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individualizace, universalismus, decentralizace, úzamní rozptý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Nová ekonomika = nová ekon.struktura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růst produktivity práce, růst konkurenceschopnosti, nízká inflace, sítě (ne hierarchie), ekon.úspěšnost=vědomosti a informace, 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Představitelé: Atkinson, Tapscott, Thurow, Reich, G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polečnost vědění“ 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i="1" lang="sk-SK" sz="2000" spc="-1" strike="noStrike">
                <a:solidFill>
                  <a:srgbClr val="ffffff"/>
                </a:solidFill>
                <a:latin typeface="Bookman Old Style"/>
              </a:rPr>
              <a:t>knowledge society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výrazná lidská dime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Základní rysy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know-how, vysoká složitost práce, všechny oblasti společnosti závislé na vědění, infrastruktury druhého řádu, sociální stránka, společnost abstrakt a symbolů, vysoká diverzifikace produkce i distribuce vědění, věda-dominantní postav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Kritika nové é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Konzum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Ve svém současném (...) stadiu nemá moderní společnost velkou potřebu masové pr</a:t>
            </a:r>
            <a:r>
              <a:rPr b="1" lang="cs-CZ" sz="2000" spc="-1" strike="noStrike">
                <a:solidFill>
                  <a:srgbClr val="ffffff"/>
                </a:solidFill>
                <a:latin typeface="Bookman Old Style"/>
              </a:rPr>
              <a:t>ů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myslové práce a všeobecné branné povinnosti; místo toho potřebuje angažovat své členy jako konzumenty.“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sk-SK" sz="1200" spc="-1" strike="noStrike">
                <a:solidFill>
                  <a:srgbClr val="ffffff"/>
                </a:solidFill>
                <a:latin typeface="Bookman Old Style"/>
              </a:rPr>
              <a:t>Zygmunt Bauman, str. 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měna hodnotového systé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aměření na humánní stránku (humanistická ekono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Ekologické asp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ER, W.M.  Tyranie blahobytu. Praha: Volvo Globator, 19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MAN, Z. Globalizace:důsledky pro člověka. Praha : Mladá fronta, 20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POTŮČEK a kol. Průvodce krajinou priorit pro Českou republiku. Praha: Gutenberg, 200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SEN, A. Etika a ekonomie. Praha: Vyšehrad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TOFFLER, A., TOFFLEROVA H. Nová civilizace. Praha: Dokořán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17:28Z</dcterms:created>
  <dc:creator>Beatka_U</dc:creator>
  <dc:description/>
  <dc:language>en-US</dc:language>
  <cp:lastModifiedBy>Beatka_U</cp:lastModifiedBy>
  <dcterms:modified xsi:type="dcterms:W3CDTF">2006-10-16T11:55:47Z</dcterms:modified>
  <cp:revision>3</cp:revision>
  <dc:subject/>
  <dc:title>Vývojové tendencie na prahu postindustriálnej éry</dc:title>
</cp:coreProperties>
</file>