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037-91D5-485F-B90E-86F7F170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F8B-3CFA-4BC2-B377-4BBB2920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ECF-1F3F-48E6-8BA7-2D7FF059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0CE-21AD-4936-A6F9-22B4928C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9017-A988-4F34-896D-72285C23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3CCE-9BB2-452B-A184-74E88818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D6BB-1F9C-4543-9DF1-31657C85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C0D-4F82-4661-AF7D-4E4D0E8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E525-C2BA-440E-BDF0-9DA1829C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BCDC-C5BE-492F-ADC2-0A9911F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1D7-AD18-4310-8C5A-C51CA74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F1E-8F64-4DEA-84C9-84E08FC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52F-2818-4004-8339-40239EA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DB1-98F5-401E-A46F-69113324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525E-CF7E-481D-8051-7C6616F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FFBA-2F9A-4C98-A976-65FD14CB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914-728F-40DF-897D-1942A41A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6AD-AAD0-46A6-80EC-73C3C32F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3B0-9CCA-449E-8A39-00243C81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553-F71B-478F-BAFF-C2830C3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F41-AAAF-496F-9E01-1ADB9DC9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344-BA7C-4916-9CFA-171D67B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F0D-93B6-4040-BA64-5B510B28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D23-BA3C-4E19-98A4-1B7157C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19E3C9-718E-418B-988D-36E541975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E4342-088D-418C-A9F9-02556BFBF2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UKÁŠOVÁ, R., NOVÝ, I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Organizační k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Grada, 2004. ISBN 80-247-0648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 a kol. 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ální management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: Grada, 1996. ISBN 80-7169-260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, SCHROLL-MACHL, S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ni komunikace v řízení a podnikán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Management Press, 1999. ISBN 80-7261-009-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ecifický způsob organizce, realizace a rozvoje činnosti, objektivizovaný ve výsledcích fyzické a duševní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še, co človek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tvořil a přetvoři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ěhem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ltura s přírodou koexistuje, ale neprolíná se s 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línání kult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340000"/>
            <a:ext cx="85406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ždá sociální skupina má svou vlastní kul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piny nejsou izolované =&gt; kultury nejsou izolova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rba a ovlivňování kultury i díky vzájemnému prolí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 okruhy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boženský okruh – širší než národní kul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rodní okruh – historický kulturní fenomén, především 19. st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ruh jednotlivých sociálních subjek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dina, organizace, profesní skupin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y interakce a komunikace mezi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ady, pravidla, sociál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základních předpokladů, hodnot, postojů a norem ch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sdíleny v rámci organizac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049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7680"/>
                <a:tab algn="l" pos="3265560"/>
                <a:tab algn="l" pos="3673440"/>
                <a:tab algn="l" pos="40813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ky organizační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kladní předpoklady - představy o fungování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noty - člověkem považováno za důlež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oje - pozitivní nebo negativní poc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my chování – nepsaná pravidla, zásady chov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česká podniková kultura pohledem německé kul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nedůvěra vůči pravidlů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va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elkorysost, schopnost být nad vě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Doporučení německým podnikatelů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edpokládat splněné požadav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dat jasné požadavky – ale nechat i částečnou vo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ek bude vždy trochu jiný než požadav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Americká versus česká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meričané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ientace na nejlepší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míra samosta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zmiňovat své úspě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1773360"/>
            <a:ext cx="4176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š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pokojení i v průbě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rektivní řízení, větší doh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skromn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ra</dc:creator>
  <dc:description/>
  <dc:language>en-US</dc:language>
  <cp:lastModifiedBy>ondra</cp:lastModifiedBy>
  <dcterms:modified xsi:type="dcterms:W3CDTF">2006-12-02T20:37:38Z</dcterms:modified>
  <cp:revision>1</cp:revision>
  <dc:subject/>
  <dc:title>SVĚT ZMĚN</dc:title>
</cp:coreProperties>
</file>