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127-6DEF-427F-9418-ECE121B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C7D-1D5C-4C0B-85E6-4510B0B2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08C-F282-4994-BEEF-FC7C200C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066-05AE-434D-AD38-C1CA8928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9BB4-29B4-4E31-BF09-6096B5DD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6B2-A9B2-449F-8480-D0623F4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4367-97DC-4DF5-ABFA-2E1BEAB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E4B6-166E-405E-8ECD-C9DF148D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34F-7C5D-4DF5-B7C9-887F7F6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AFB8-0B34-4C44-9F7D-19A89F8D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8F4-2874-44AC-B7B9-3A0C5028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7AF-7749-4B22-BE08-AA714ABC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E016-ECD7-4CF4-97A9-C94F970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78FA-0CB6-4BE9-97AE-92CE46E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3352-DDFB-458B-AE00-D853B637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58EE-6031-40C0-A380-CD1B15A2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31DC-C166-42FB-9DDC-A56D43DA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12E-CEA9-42C5-9DCA-71FAEE98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A84-5D69-41B8-A44C-6E900FDE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695-BA43-45B2-AFD3-93B40114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48D-70E8-45B9-9E2E-D153D13F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A7E-1389-40F9-989E-6A5226F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27F-512E-4C17-8873-937C2980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C86-6B6F-4BA4-9FEA-40A696C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909-CD22-453C-979D-027AEA33D5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C61-3EE9-4E3A-8C1E-F6ACE77A90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empus Sans ITC"/>
                <a:ea typeface="Times New Roman"/>
              </a:rPr>
              <a:t>PROJEKTOVÝ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Vymezení a defi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44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mezení výsledků projek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Nároky na projektové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de o příležit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platí se vynaložení peněz a ča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aká jsou riz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ÝSTU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konečn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omezení, předpokla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Určení vedoucí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Vymezení a definování projektů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lá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Výstupem procesu plánování je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plán projektu</a:t>
            </a:r>
            <a:r>
              <a:rPr b="0" i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určující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věcnou, časovou, rozpočtovou a organizační dimenzi projektu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 nejširším pojetí jsou plány závislé na znalosti tří faktor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3762360"/>
            <a:ext cx="460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de nyní j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m se chcete d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akým způsobem se dostaneme tam, kde chceme bý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notlivé dimenze plánu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ěcn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rganizační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počt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Real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ystémová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ohled nad realiz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od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 a vyhodnoce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52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T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Zkušební pro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Stand. po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ředávací protok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Rutinní pro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Garance projek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Managemen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odle ekonomick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Předání a vyhodnocení projektu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ěmec, V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ojektový management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senau, M.D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Řízení projektů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Computer Press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ozilová, 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rojektový management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Hynek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ber, J.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Management. Základy, prosperita, globaliza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Management Press,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o to je projektový manag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Uplatnění specifických nástrojů, technik, znalostí a dovedností v projektových činnostech s cílem splnit (popř. překročit) očekávání, jež jsou s projektem spojena“ (Veber, 2000).</a:t>
            </a: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řístup řízení při zavádění závažných změn v organiza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Každá změna je projekt – je jedinečná a má svůj cí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rojektový management obsahuj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empus Sans ITC"/>
              </a:rPr>
              <a:t>Aktivity související 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Řízením předmětu či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Ekonomickým aspektem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ou koordinac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Budováním mezilidských vztahů mezi účastníky projektu - team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harakteristické znaky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Cí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Jedineč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Zdr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Organiz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íl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Tzv. projektový trojimperati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Specifikace proveden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ý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naha o dosažení všech cílů najed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inečnost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empus Sans ITC"/>
              </a:rPr>
              <a:t>Jedineč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ina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acovní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Zdroj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Materiální i lid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Je velmi důležité organizovat lidské zdroje, aby byly schopny efektivně využívat zdroje mater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Organ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ládání mezilidský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jednotlivců růz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ofe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ájm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ovahových vlast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Struktura projektového řízení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Simerský</cp:lastModifiedBy>
  <dcterms:modified xsi:type="dcterms:W3CDTF">2006-12-03T22:35:28Z</dcterms:modified>
  <cp:revision>6</cp:revision>
  <dc:subject/>
  <dc:title>CHARAKTERISTICKÉ RYSY A ZÁKLADNÍ PRINCIPY INDUSTRIÁLNÍ SPOLEČNOSTI </dc:title>
</cp:coreProperties>
</file>