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B41-2783-4FD3-A3FE-54A596CD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C5D-0B0B-4CDC-A1B5-813C63A1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E68-5AFF-415D-8D6D-02F5486A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106-B3AB-49D9-B416-DC804540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B67A-B966-45A4-ABF0-45B9FA99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22CA-D4D0-4D90-A05D-4A0C1A8E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B03E-CB1F-42D8-949C-FE59DFDE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21CF-5479-4A6D-9D72-F43E2E8F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7317-F375-4CB2-8E3F-3985DF6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71B4-A988-471B-AC87-17C05EC1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D6CD-76D2-4AC2-97C7-2DE459F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3C7-81B0-4AAF-87EB-C25A41E2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B577-624E-4BE6-B86D-CFC4CB8F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1DD0-ADEC-4D18-B3E0-1B480B69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FAF-13CA-4C45-B24E-D5868454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3B5C-0948-4342-8478-E99A25B4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BC20-7DE3-4DD3-8C87-1183B6F6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BEC-A0EF-419F-8DE1-9284FBCB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297-7879-40FD-8142-13E455C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D44-D67A-460A-9E69-3A438F1C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9DC-C792-4AC0-9750-0BB77498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397-C3CB-4296-88B5-C28C8EE6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5C1-4DCC-49E0-860C-B9AC8BC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9CA-44BF-444C-8C35-E60337D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A949-942C-47F5-919C-2357DBC14D7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B1CD-D3C3-4387-A96B-E93CC3E36F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90180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cs-CZ" sz="7200" spc="-1" strike="noStrike">
                <a:solidFill>
                  <a:srgbClr val="003366"/>
                </a:solidFill>
                <a:latin typeface="Times New Roman"/>
              </a:rPr>
              <a:t>Proměny práce</a:t>
            </a:r>
            <a:br>
              <a:rPr sz="7200"/>
            </a:b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KO-ORGANIZAČNÍ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LEČENSKÁ A ETICKÁ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CHNICKO-ORGANIZAČNÍ STRÁNKA PRÁCE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emeslná výrob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využíval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řemeslník byl vlastníkem svý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ních prostř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ělba práce byla orient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výr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dustriální společn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ufaktu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ůmyslové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ůmyslové podn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znam faktoru práce při tvorbě hodnoty postupně kle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tnictví výrobního faktoru práce a kapitálu bylo oddě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kce podnikatele se osamostatnila od vlastní výrobní čin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ývoj uplatňování stroj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ylepšením nástroj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aměstnanec je zde stále nezastup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ěžící výrobní pá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ýrobní linky) - velko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měna v chování zákazní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ální požada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árůst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novení komplexnosti prác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la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ri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anizace prá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tváření týmů ( Švédsko, Němec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puteriz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slicově řízené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myslový rob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cs-CZ" sz="3200" spc="-1" strike="noStrike">
                <a:solidFill>
                  <a:srgbClr val="003366"/>
                </a:solidFill>
                <a:latin typeface="Arial"/>
                <a:ea typeface="Arial"/>
              </a:rPr>
              <a:t>SPOLEČENSKÁ A ETICKÁ STRÁNKA PRÁ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led na práci v době 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testantští purit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vinnost uložená člověku Bo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ublik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ýraz solidarity každého se vš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cialis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oslavování práce písně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ůst životní úrovn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st atraktivity volného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stindustriální období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výše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zevírání nůžek mezi chudými a bohat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8:47:10Z</dcterms:created>
  <dc:creator>Janicka</dc:creator>
  <dc:description/>
  <dc:language>en-US</dc:language>
  <cp:lastModifiedBy>Janicka</cp:lastModifiedBy>
  <dcterms:modified xsi:type="dcterms:W3CDTF">2006-10-27T18:59:04Z</dcterms:modified>
  <cp:revision>1</cp:revision>
  <dc:subject/>
  <dc:title> Proměny práce </dc:title>
</cp:coreProperties>
</file>