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SVIS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727-1ECE-43BD-8C3E-23B4CD04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91F-6FBE-4A56-B8D2-83143EA4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447-9FFB-4850-AB8C-B57BF3D2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64C-4A5B-4186-B79D-E048D64E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E9FB-30CA-4A9B-9950-C442ADCB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CB7B-3382-44EA-8E59-33E63135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084C-CE09-4036-BFD1-D1651B36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C615-4189-41F1-9524-CCC25310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26EB-895F-49C0-978F-79DF2CF4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566C-CA18-4FFB-B9C1-E21E76E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5C0F-6E16-4F9D-9524-9FE5DB57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06D-412E-4A16-B9BF-33AD8F8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67EE-9E7E-47A9-9290-D0566E8D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DC3A-112F-4F05-89D0-F926AF17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E094-9896-44EA-BD95-B8E1AE00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7A5B-ED85-45AE-BFF4-2E23D9F4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D46A-3F35-472F-B886-FC607D52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581-3713-492D-93E5-A81FDA35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DDF-16F9-4444-8742-A4A0895F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7C3-949C-4FB3-AD86-76EFCC20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1A6-2B3C-4BEF-BA0D-3DF004BA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B0D-AB6C-4983-B1F4-270FFE9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6A5-AB5B-4AA4-8F16-31E32E2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CC5-0A9A-4954-BD0A-A0CCCEBE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A81B-4274-405E-8C84-76147D0C146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B480-1E93-4F7C-9E8E-CBFB4F54A7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cca.com.au/" TargetMode="External"/><Relationship Id="rId2" Type="http://schemas.openxmlformats.org/officeDocument/2006/relationships/hyperlink" Target="http://www.tocca.com.au/" TargetMode="External"/><Relationship Id="rId3" Type="http://schemas.openxmlformats.org/officeDocument/2006/relationships/hyperlink" Target="http://www.tocca.com.au/" TargetMode="External"/><Relationship Id="rId4" Type="http://schemas.openxmlformats.org/officeDocument/2006/relationships/hyperlink" Target="http://www.tocca.com.au/" TargetMode="External"/><Relationship Id="rId5" Type="http://schemas.openxmlformats.org/officeDocument/2006/relationships/hyperlink" Target="http://www.tocca.com.au/" TargetMode="External"/><Relationship Id="rId6" Type="http://schemas.openxmlformats.org/officeDocument/2006/relationships/hyperlink" Target="http://www.toc-goldratt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SVIS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ové tendence managementu na prahu postindustriální é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pracoval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aniel Nov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ucie Absolon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arbora Říh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nih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ektivnost informačních systémů Molnár, Z. 2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Článek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erní management závisí na modernosti architektur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roslav Král, Michal Žemli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oubor přednášek z předmětu Podnikové informační systémy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g. Jaromír Skorkovský, CS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tocca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com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.au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www.toc-goldratt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Klíčová role informace v organiza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a informace v č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právná informace ve správný čas na správném míst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Snížení nebo odstranění skladových zás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Kontrola časových rezerv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předpokládaných odběrech (SC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stavu vlastních zásob poskytnutých dodavate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Elektronické komunik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yužití informac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řív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vlastním podni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evidenčního charakteru (účetnictví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í snížení nákladů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grace dat a technických prostředků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emáme dost údajů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1484280"/>
            <a:ext cx="402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yní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okol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rozhod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prodej zboží a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omunikace využívaná pro spolupráci obchodních partne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Máme příliš mnoho úda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1080" y="5715000"/>
            <a:ext cx="53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roblém : Rostoucí objemy d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Knowledge management (K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Cíl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vytvoření „ učících systémů“ integrovaných do informačních a logistických  systém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Základ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 data warehouse (datový skla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Predik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předpovědi, prognóz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hodování na základě strukturovaných i nestrukturovaných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orkflow Management (řízení toku úkolů v podniku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Verdana"/>
              </a:rPr>
              <a:t>Problémy s datovými odpady a bezpečností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Nástroj KM = ERP systé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ERP =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nterprise Resource Plan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operations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(operační využití znalostí – např. zpracování zákaz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intelligen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práce s datovými sklady na úrovni managementu podnik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managemen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oblast řízení podniku jako cel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Wor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ligentní směr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orkflow=„tok dokumentů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líčová aplikace budouc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spolupráce skupiny  na vytváření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měrování dokumentů na základě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onkrétní uživatel (konkrétní adres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unkce nebo doved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ředstavení 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chází se systémového přístup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dnik (organizaci) chápe jako řetěz závislých proces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481800" cy="936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4360" y="4508640"/>
            <a:ext cx="77864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xistuje jen několik málo a často jen jeden prvek, pomocí kterého můžeme řídit celý systé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ento prvek je v TOC nazýván omezením systém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V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č omezení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mezení zabraňuje (omezuje) systém v dosahování jeho cí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 podnikání dle TOC - „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ake money now and in the futur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ždý systém má alespoň jedno omezení, kdyby tomu tak nebylo, dosahoval by svého cíle v nekonečném objem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5 kroků teorie o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Děkujeme za pozornost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9:20:01Z</dcterms:created>
  <dc:creator>Danny</dc:creator>
  <dc:description/>
  <dc:language>en-US</dc:language>
  <cp:lastModifiedBy>Danny</cp:lastModifiedBy>
  <dcterms:modified xsi:type="dcterms:W3CDTF">2006-10-01T19:57:33Z</dcterms:modified>
  <cp:revision>5</cp:revision>
  <dc:subject/>
  <dc:title>Vývojové tendence managementu na prahu postindustriální éry</dc:title>
</cp:coreProperties>
</file>