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CF1C8-01CE-44C9-90DD-D030248B984B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32FCF9-1788-4985-9FEC-826103E21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FE4818-B8E5-473C-8F2F-5C9FA5BB1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37724-B9A2-4576-89D3-3540EFCF4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372953-6243-4E79-9E96-AAA2F1DD9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235DD-8FE1-4A31-9E4B-A13AF9485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E9137-41EB-45B8-9D33-9522B5509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E3C1A-0B13-4BFF-A352-BB0324302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7A9AF-B666-41C0-8EDB-992124D0A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CDC62-FB53-4D27-BA99-9649867A9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02978-D9F7-43D9-8DB6-987166BA5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C9CD1-1466-4655-A753-0CC3C1119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88B78-16B0-4249-9939-7140C2D07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EC80D-FD4E-4C3F-BB23-1C6CA6BD7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6EC0D-761D-41D1-91B9-BACA57117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65DCE-8D9B-4556-9A95-6E6BE3A88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F19E6-78BD-469F-81CE-E4E2466C0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12F5E-0707-4E8D-B858-6CCD112E1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C9C505-3856-4E3D-97D9-48E7AF026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895293-F13E-4F04-90FE-950672EAE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9324E6-0F55-4AC4-91DE-FF04EE412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22C5F0-0816-4547-AD07-577575098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566E8D-9D4E-4BB1-AF06-649773DDA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BD5507-4263-4DD5-9427-37143C8DF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33E1BA-3EE7-4629-B7A5-123422132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F3435-4B6C-4DE5-A515-1EAB3CBD2D6F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A3349-9BB5-47B5-97AD-80867CD41303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78920" y="1628640"/>
            <a:ext cx="828036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430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8f828"/>
                </a:solidFill>
                <a:latin typeface="Garamond"/>
              </a:rPr>
              <a:t>	</a:t>
            </a:r>
            <a:r>
              <a:rPr b="1" lang="en-US" sz="5000" spc="-1" strike="noStrike">
                <a:solidFill>
                  <a:srgbClr val="f8f828"/>
                </a:solidFill>
                <a:latin typeface="Garamond"/>
              </a:rPr>
              <a:t>Manažerská etika</a:t>
            </a:r>
            <a:endParaRPr b="1" lang="en-US" sz="5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539640" y="3885840"/>
            <a:ext cx="8136000" cy="25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3. Seminární skupina – 2. tý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František Karber</a:t>
            </a: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Petr Kebo</a:t>
            </a: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Jiří Malec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3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Ná</a:t>
            </a:r>
            <a:r>
              <a:rPr b="1" lang="cs-CZ" sz="4300" spc="-1" strike="noStrike">
                <a:solidFill>
                  <a:srgbClr val="f8f828"/>
                </a:solidFill>
                <a:latin typeface="Times New Roman"/>
              </a:rPr>
              <a:t>boženská a laická etika</a:t>
            </a: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2400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Náboženská - z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alo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ž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ena na autorit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ě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 Boha, na dogmatech a zjeveních a na strachu z odplaty na onom sv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ě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t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ě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Laická - 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závazk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y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 v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ůč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i lidem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,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 v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ůč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i rodin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ě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, vlasti, d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ě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jinám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Společný základ - 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pocit morálního dluhu 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č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lov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ě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ka v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ůči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 autorit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ě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 a pocit absolutní povinnosti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3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N</a:t>
            </a:r>
            <a:r>
              <a:rPr b="1" lang="cs-CZ" sz="4300" spc="-1" strike="noStrike">
                <a:solidFill>
                  <a:srgbClr val="f8f828"/>
                </a:solidFill>
                <a:latin typeface="Times New Roman"/>
              </a:rPr>
              <a:t>ová etika</a:t>
            </a: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9528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oste dominance lidských práv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Vytrácí se hodnota oběti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.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O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dmítá se ideál od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ř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íkání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Nejsou vyty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č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ovány p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ř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ehnané po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ž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adavky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J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sou povzbuzována okam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ž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itá p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ř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ání, r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ů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st blahobytu, št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ě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stí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Souběžně se však rozvíjí i 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fundamentalistick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é proudy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300" spc="-1" strike="noStrike">
                <a:solidFill>
                  <a:srgbClr val="f8f828"/>
                </a:solidFill>
                <a:latin typeface="Times New Roman"/>
              </a:rPr>
              <a:t>Nová managerská etika</a:t>
            </a: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odnik industriální éry byl anonymní a disciplinární, technokratický a mechanický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ostindustriální podnik je pokládán za nositele smyslu a hodnot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ozmach kodex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ů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 a chart podnikatelské etiky. V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ů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d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č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í roli zde ji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ž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 v osmdesátých letech minulého století sehrávaly americké firmy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300" spc="-1" strike="noStrike">
                <a:solidFill>
                  <a:srgbClr val="f8f828"/>
                </a:solidFill>
                <a:latin typeface="Times New Roman"/>
              </a:rPr>
              <a:t>Nová managerská etika</a:t>
            </a: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Kodex a etická prohlášení se nevylučují s 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podnikatelským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i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 zájm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Morálka a podnikání p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ř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estávají být odd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ě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lenými sv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ě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ty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11280" y="47628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4300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8f828"/>
                </a:solidFill>
                <a:latin typeface="Times New Roman"/>
              </a:rPr>
              <a:t>U</a:t>
            </a:r>
            <a:r>
              <a:rPr b="1" lang="cs-CZ" sz="40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tilitaristická</a:t>
            </a:r>
            <a:r>
              <a:rPr b="1" lang="cs-CZ" sz="4400" spc="-1" strike="noStrike">
                <a:solidFill>
                  <a:srgbClr val="f8f828"/>
                </a:solidFill>
                <a:latin typeface="Garamond"/>
              </a:rPr>
              <a:t> </a:t>
            </a:r>
            <a:r>
              <a:rPr b="1" lang="cs-CZ" sz="44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instrumentalizace</a:t>
            </a:r>
            <a:r>
              <a:rPr b="1" i="1" lang="cs-CZ" sz="4400" spc="-1" strike="noStrike">
                <a:solidFill>
                  <a:srgbClr val="e5e5ff"/>
                </a:solidFill>
                <a:latin typeface="Garamond"/>
                <a:ea typeface="Times New Roman"/>
              </a:rPr>
              <a:t> </a:t>
            </a:r>
            <a:br>
              <a:rPr sz="4400"/>
            </a:b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539280" y="1628640"/>
            <a:ext cx="799308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80880" indent="-380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tické chování a spol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č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enská odpov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ě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dnost se stávají významnými faktory konkurenceschopnosti firem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Lidé cht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ě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jí spolu s konzumací zbo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ž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í „konzumovat“ i mravní hodnoty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1128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3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Institucionalizace společenské odpovědnosti podniků</a:t>
            </a: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250560" y="1844280"/>
            <a:ext cx="8713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70. let dvacátého století - Koncept společenské odpovědnosti podniků (Corporate Social Responsibility – CSR)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CSR - dobrovolné integrování sociálních a ekologických hledisek do každodenních firemních operací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podporován ze strany nadnárodních a mezinárodních organizací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Evropské organizace – CSR Europe </a:t>
            </a:r>
            <a:r>
              <a:rPr b="0" lang="cs-CZ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 65 členů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Celosvětové organizace – Global Compact – cílem je prosazování společenské odpovědnosti podnikání v oblasti lidských práv, pracovních standardů a životního prostředí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68360" y="148428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problém organizovanosti podniků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problém objektivizace a srovnatelnosti při prezentaci výsledků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Povinná forma společenské odpovědnosti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Konec kreativity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Nemožnost nalezení společných kritérií, která by bylo možno univerzálně aplikovat na všechny firmy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prezentace pozitiv </a:t>
            </a:r>
            <a:r>
              <a:rPr b="0" lang="cs-CZ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 zamlčování negativ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3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Související problémy</a:t>
            </a: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9" name=""/>
          <p:cNvSpPr/>
          <p:nvPr/>
        </p:nvSpPr>
        <p:spPr>
          <a:xfrm>
            <a:off x="3995640" y="3573360"/>
            <a:ext cx="289080" cy="505080"/>
          </a:xfrm>
          <a:prstGeom prst="downArrow">
            <a:avLst>
              <a:gd name="adj1" fmla="val 50000"/>
              <a:gd name="adj2" fmla="val 43680"/>
            </a:avLst>
          </a:prstGeom>
          <a:solidFill>
            <a:srgbClr val="f8f82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3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Budoucí trendy</a:t>
            </a: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2400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Sjednocování kriterií pro posuzování společenské odpovědností podniků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Rozvoj 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systému certifikace společenské odpovědnosti podniků </a:t>
            </a:r>
            <a:r>
              <a:rPr b="0" lang="cs-CZ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 podobnost s oblastí kvality (systémy ISO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Podstatná úloha státu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3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Současná situace v ČR</a:t>
            </a: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528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České společnosti považují své angažování za důležité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fika českých podniků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ktivita uvnitř podniku -péče o své zaměstnance a jejich vzdělávání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naha o získání kvalitních pracovníků – spolupráce se školam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3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Současná situace v ČR</a:t>
            </a: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Garamond"/>
              </a:rPr>
              <a:t>Podniky nepociťují tlak ze strany spotřebitelů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nedostatečný rozvoj spotřebitelské kultury a společenské angažovanosti zákazníků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Prezentace dobrých firem v médiích není žádoucí – je považována za reklamu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0" y="2852640"/>
            <a:ext cx="289080" cy="505080"/>
          </a:xfrm>
          <a:prstGeom prst="downArrow">
            <a:avLst>
              <a:gd name="adj1" fmla="val 50000"/>
              <a:gd name="adj2" fmla="val 43680"/>
            </a:avLst>
          </a:prstGeom>
          <a:solidFill>
            <a:srgbClr val="f8f82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Manažerská etika</a:t>
            </a: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Konec 20 stol. – etika proniká hlouběji do struktur podniků a začíná být její nedílnou součásti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nažeři i vlastníci podniků si začínají uvědomovat, že bez etického chování vůči okolnímu světu se jen těžko prosadí na moderních a provázaných trzích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3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Současná situace v ČR</a:t>
            </a: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Média prezentují pouze skandály – nemají přílišný vliv na veřejno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Oblast dárcovství – pouze vylepšení imag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Důležitost manažerské etiky ve vyspělých zemích i nadále vzrůstá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4360" y="249228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Děkujeme za pozornost.</a:t>
            </a: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Použitá literatura</a:t>
            </a: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BLÁHA, J., DYTRT, Z.  </a:t>
            </a:r>
            <a:r>
              <a:rPr b="0" i="1" lang="cs-CZ" sz="3200" spc="-1" strike="noStrike">
                <a:solidFill>
                  <a:srgbClr val="ffffff"/>
                </a:solidFill>
                <a:latin typeface="Garamond"/>
              </a:rPr>
              <a:t>Manažerská etika. 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Praha : Management Press 2003. ISBN 80-7261-084-8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FRIEDMAN, M. </a:t>
            </a:r>
            <a:r>
              <a:rPr b="0" i="1" lang="cs-CZ" sz="3200" spc="-1" strike="noStrike">
                <a:solidFill>
                  <a:srgbClr val="ffffff"/>
                </a:solidFill>
                <a:latin typeface="Garamond"/>
              </a:rPr>
              <a:t>The Social Responsibility of Business Is to Increase Its Profits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. New York Times Magazíne, Sept. 1970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TRNKOVÁ, J. </a:t>
            </a:r>
            <a:r>
              <a:rPr b="0" i="1" lang="cs-CZ" sz="3200" spc="-1" strike="noStrike">
                <a:solidFill>
                  <a:srgbClr val="ffffff"/>
                </a:solidFill>
                <a:latin typeface="Garamond"/>
              </a:rPr>
              <a:t>Společenská odpovědnost firem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. Business Leaders Forum, 2004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Možnosti podniků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adnárodní podniky se stávají mocnějšími díky zlepšování logistiky, přesunů výrob do celého světa → eliminují státní předpisy a regulace →  ↓ státní moc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odniky zvyšují svůj mezinárodní potenciál →  ↑ schopnosti diktovat státům podmínky výhodné pro podni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Vliv spotřebitelů</a:t>
            </a: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okles zájmů spotřebitelů o politiku – světový trend ve vyspělých zemí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↓ ↓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bčané zvyšují svůj vliv pomocí nákupů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↓ ↓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Změna strategie prezentace podniků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Vliv spotřebitelů</a:t>
            </a: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otřebitelé se stávají citlivějšími vůči původu zboží a podmínkách ve kterých vznikají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↓ ↓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odniky kladou větší důraz na etické podmínky vzniku svých produktů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↑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kologické výroby a zlepšování pracovních podmínek ve všech částech svě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Vliv spotřebitelů</a:t>
            </a: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Zákazníci upřednostňují firmy z větším etickým kreditem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odniky vynakládají velké sumy na obnovu životního prostředí a snaží se o co nejšetrnější využívají VF a pracovní síly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árůst občanských hnutí a organizací zabývajících se ekologickou stránkou výroby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1128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300" spc="-1" strike="noStrike">
                <a:solidFill>
                  <a:srgbClr val="f8f828"/>
                </a:solidFill>
                <a:latin typeface="Times New Roman"/>
              </a:rPr>
              <a:t>Změny v etice ve 20. století</a:t>
            </a: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250560" y="1844280"/>
            <a:ext cx="8713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Západní civilizace byla po jistou dobu nadšena myšlenkou osvobodit se od morálky jako nástroje útlaku cestou rozvíjení kultu individualismu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Pro sou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č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asnost je charakteristický návrat k etickým hodnotám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Jde o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reakci na individualistickou nezodpov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ě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dnost, na dekadentní vývojové trendy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R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ů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st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násilí, brutality, kriminality, korupce v politickém a hospodářském životě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olarizac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e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 spole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č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nosti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 –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na jedné straně 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koncentrac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e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 nesmírného bohatství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a na druhé straně roste chudoba spjatá s všeobecným úpadkem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300" spc="-1" strike="noStrike">
                <a:solidFill>
                  <a:srgbClr val="f8f828"/>
                </a:solidFill>
                <a:latin typeface="Times New Roman"/>
              </a:rPr>
              <a:t>Negativní důsledky individualismu</a:t>
            </a: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300" spc="-1" strike="noStrike">
                <a:solidFill>
                  <a:srgbClr val="f8f828"/>
                </a:solidFill>
                <a:latin typeface="Times New Roman"/>
              </a:rPr>
              <a:t>Etika nového typu</a:t>
            </a: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206064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G. Lipovetsky: 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nejde o návrat v pravém slova smyslu, o pouhou renesanci dřívější morálky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Ve snaze o p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ř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ijetí odv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ě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kých lidských hodnot se za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č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íná vytvá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ř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et etika nového typu, odlišující se jak od tradi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č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ní nábo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ž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enské etiky, tak od laické moderní 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etik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4T08:12:51Z</dcterms:created>
  <dc:creator>99800</dc:creator>
  <dc:description/>
  <dc:language>en-US</dc:language>
  <cp:lastModifiedBy>Ondřej Částek</cp:lastModifiedBy>
  <dcterms:modified xsi:type="dcterms:W3CDTF">2006-11-23T08:57:22Z</dcterms:modified>
  <cp:revision>49</cp:revision>
  <dc:subject/>
  <dc:title>Druhá vlna  </dc:title>
</cp:coreProperties>
</file>