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7C4-0178-4184-A1AB-49D64D48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117-EDC9-4EF3-AC91-E53888D9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FE9-FE3B-41AD-AE40-146774CD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C05-D7DE-4FF3-9012-4547F101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1D8C-9182-479C-BAD0-FC16C4EE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B154-5D73-4480-9385-471C60B3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671A-13FB-4C13-BB5B-DCC67B13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8F63-CDB7-4E09-BD1D-4276FF9C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32DB-690C-4FF5-8B92-D557DB11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2C9E-A819-404F-97FF-A270552C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F8C9-7D0C-49D5-BF2B-44D749C0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AE6-DEAF-48B2-AC78-F8C90857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B011-16FB-40E1-866F-F6ECC7C6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D456-846C-4161-8B83-5F72B5A5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0BF6-3080-49F9-AD46-6B8D7F0A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C8FF-6637-423B-B8EC-AFBDC4D7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6408-F094-49E6-8855-680AE19D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D1E-4BD6-4275-A747-9A6B54FA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0E9-53C9-475D-9C5D-2AE85272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A9F-4A96-4B22-BA10-18328244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F45-BF9C-41DA-B3FB-85F1D457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E2F-6A37-491D-8ABF-F0DD2F17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85E-5E43-42AA-8B51-13CBD68A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8D2-77D7-42B6-A08B-B225FB75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69A6-AE41-4F37-B4A4-63AC3FA119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4459-F913-429F-8BEB-94099842490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SVĚT ZMĚ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AGEMENT 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a 3.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la druhé vlny není ještě vyčerpá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flikty mezi společnostmi druhé a třet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í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rychlující se svě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ská existence 50000 let – 800 gener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50 generací člověk strávil v jesky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ledních 70 generací komunikuje písm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generací zná tištěné slo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generace umí přesně měřit č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generace používají elektrický mo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0. g. vynalezla většinu věcí denní potře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potřeba energi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ovinu energie spotřebované za posledních 2000 let člověk spotřeboval za poslední stolet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třeba energie je 10x vyšší než před 20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FFLER, A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Šok z budoucnost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Praha : Práce, 1992. ISBN 80-208-0160-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FFLER, A., TOFFLEROVÁ, H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Nová civilizace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ha : Dokořán 2001. ISBN 80-86569-00-4.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ývoj lidské společnost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INDUSTRIÁLNÍ společn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PRVN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ÁL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DRUHÉ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INDUSTRIÁL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TŘET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OCIÁLNÍ VERZE VLNOVÉ ANALÝZ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jímá dějiny jako sled valících se vln    změ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řuje pozornost n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diskontinuitu děj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inov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zlomové body (prům. revolu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VNÍ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jena se zemědělskou revol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asi 800 let př. n. 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osvětově vyčerpána až na přelomu 17. a 18. století – trvala tisíc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první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da představuje základ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entralizované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mezená smě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dnoduchá dělba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avení člověka dáno jeho původ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itářská pravom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RUHÁ VLNA a její příči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před 35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volána zejména průmyslovou revol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v Nového svě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várny a parní str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počtu a migrace obyvat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krokové společenské a politické myšle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komunikace s vynálezem knihtis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druhé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trhu a smě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ásová výroba v továrná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lba práce a růst produk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centrace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užívání služeb specializovaných instit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železnice a automobilis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vilizační konflik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ŘETÍ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asi před 5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kracování vl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náší naprosto nový způsob živ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třetí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rojem ekonomiky je poznání– nevyčerpatelné zdro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sun od masových výrob ke specializ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zaměnitelnost profes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ost neustálých inov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integrace společnosti a stá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y v rodině, jiný typ nezaměstna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8:41:36Z</dcterms:created>
  <dc:creator>ondra</dc:creator>
  <dc:description/>
  <dc:language>en-US</dc:language>
  <cp:lastModifiedBy>Sylva Talpová</cp:lastModifiedBy>
  <dcterms:modified xsi:type="dcterms:W3CDTF">2006-10-18T19:32:55Z</dcterms:modified>
  <cp:revision>5</cp:revision>
  <dc:subject/>
  <dc:title>SVĚT ZMĚN</dc:title>
</cp:coreProperties>
</file>