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54E-0E76-4DFE-9B88-0196AA40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BAC-CC65-4C8F-AC5A-5B9308DD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E15-E259-47C7-89D6-F7BE85E7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069-9424-41EB-B957-01D88C74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540-AFAA-4E28-945E-329D3493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22A-EC19-49F9-8EDC-1D8345B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256-70BD-47B7-A5CC-37D4D4ED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36B-1FED-4B90-BBD4-B8A77B0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E22-AF88-47C4-A802-36AA861F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754-122E-4BEE-85E7-4DE6C800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1BB-AC5B-4D1D-A62C-B9D53A9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1E4-6AD6-4C62-8BAA-4311EAB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755F-42C7-41BA-8D92-8A746F9C94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m Kotl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vla Liš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ek Výt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finice 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ční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spokojená potře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ově orientovan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okojení 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obs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slowova teorie hierarchie potř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rzbergova dvoufaktorová teor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spraved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ční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žerské strategie zvyšování motiva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měňování odrážející vý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poskytování zaměstnaneckých akc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užná pracovní 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ohacování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nnelly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H.-Gibson, J.L.-Ivancevich, J.M.: Management, 1. vydání, Grada 1997, ISBN: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80-7169-422-3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4:08Z</dcterms:created>
  <dc:creator>Richard Savický</dc:creator>
  <dc:description/>
  <dc:language>en-US</dc:language>
  <cp:lastModifiedBy>Ondřej Částek</cp:lastModifiedBy>
  <dcterms:modified xsi:type="dcterms:W3CDTF">2006-12-05T08:54:21Z</dcterms:modified>
  <cp:revision>4</cp:revision>
  <dc:subject/>
  <dc:title>MOTIVACE</dc:title>
</cp:coreProperties>
</file>