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7E1-77BD-45A6-8052-1DFAC8A6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D63-2A1A-4465-9A6A-8BF63674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ABE-010C-4645-86EE-AA2F2F4C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04C-0FE8-4641-AA92-7D8872BB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7200-5CE4-4E53-903A-3617FEB4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6A64-E002-4410-B458-892EC1FE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0007-CD8E-4816-8AC4-5094D85E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D130-6BB9-4744-AF83-D933E4AF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2A0D-5F9D-4B97-83C3-3564C92F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16A2-5AF8-43B5-B6F4-3D111368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73CA-D905-4D72-B220-5FE65AF1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730-43A6-4B25-99AC-C16FE011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FAEC-3F4F-4113-8B24-A6407A76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981B-DE96-4B53-B8A3-515EE044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1BAC-6553-4692-B81B-917D68BD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6681-283A-46B4-BB3C-DEC4C82B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D530-F0A1-4226-9A35-8CC0EE37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891-AE05-4C77-875E-8CCF7BE5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97E-7172-4A40-B2CC-4E118B66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3C5-A1FD-42E6-BF5E-88C4BCF6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460-E049-44D6-89DE-D679FE10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1C4-5157-4C92-85EE-5CF0292C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B28-234A-4F7B-B0AE-A10D4807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0BF-3841-46D2-BE76-DA4443D5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5A62-73BF-4678-B671-EA0FEFDA88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599B-6DF7-40DF-AEF4-06DE961FAA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Metody a nástroje podnikatelské etik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563640" y="5157720"/>
            <a:ext cx="528804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ucie Absolono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niel Nov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bora Řího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audit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Sociální audit zahrnuje </a:t>
            </a:r>
            <a:r>
              <a:rPr b="1" lang="cs-CZ" sz="1600" spc="-1" strike="noStrike" u="sng">
                <a:solidFill>
                  <a:srgbClr val="ffffff"/>
                </a:solidFill>
                <a:uFillTx/>
                <a:latin typeface="Garamond"/>
              </a:rPr>
              <a:t>analýzu a kontrolu 4 základních podnikových dimenzí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Zaměstnanecká politi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Ekonomický rozvoj společnost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Enviromentální politi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Dobročinno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Garamond"/>
              </a:rPr>
              <a:t>Cíle:</a:t>
            </a: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Kontrola řízení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Transparentnost pro všechny zainteresované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Analýza sociálního klimatu 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Garamond"/>
              </a:rPr>
              <a:t>Efekty plynoucí z auditu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Analýzy morálky a sociálního klimatu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Zlepšení motivace zaměstnanc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Ozdravení mezilidských vztah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Snížení stresové zátěže zaměstnanc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Kontrola moci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Zvýšení transparentnosti pro všechny skupiny participující na podnikání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Hodnocení účinnosti etických hodno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Snížení rozsahu morálních konfliktů ve společnost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48320" y="1484280"/>
          <a:ext cx="4038480" cy="47451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Finanční audity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Nefinanční audity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etický a sociální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jí přesně definovaný právní řá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Řády jsou podnikové, srovnání s konkurenc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tup je v každé organizaci shodný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e určen především pro vlastní podni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dit se opakuje 1x ročn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dit se obvykle opakuje za 18 až 24 měsíc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Výcvik zaměstnanců k etickému jednání zaměstnanců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Výzkum provedený britským Institue of business Ethics ukázal, že mezi zkoumanými podniky bylo v roce 20001 nejběžnější formou etického výcviku zaměstnanců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anuál pro zaměstnance ( 64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emináře v organizaci (60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tranet (56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é video, hraní rolí atd. (16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Ostatní (20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aník P., Řezbová L., T. van Zavřel: Metody a nástroje podnikatelské etiky, Praha: Oeconomica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iala B.: Podnikatelská etika, Olomouc: UP v Olomouci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ytrt Z. a kol. : Etika v podnikatelském prostředí, Praha: Grada Publishing,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tody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metoda konsensu a dialog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 nutné zvážit, zda přiměřeným stylem rozhodování se stane přístup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utokratick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ýmová příprava –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ém je řešen v rámci týmu, ale o konečném rozhodnutí rozhoduje jedine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kupinové rozhodování –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členové týmu problém společně řeší i rozhoduj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Metoda konsensu a dialog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ezi přednosti </a:t>
            </a:r>
            <a:r>
              <a:rPr b="1" i="1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skupinového rozhodování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 patří např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íce informací a znalost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Kombinace různých přístupů a dovednost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Širší spektrum přístupů k řešení problé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Lepší pochopení problé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yšší přijatelnost řeš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Stimulace myšl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evýho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Dominance některých členů skupiny, podřízenost jiný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Prosazování preferované varian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Zamlčování nesouhlasu, preference konsenzu za každou cen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Skupinové myšlení ( nadměrná loajali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Možnost „nákazy“ chybami jiných členů tý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Možnost vyloučení inovativních řešení hlasování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yšší časová náročn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tody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takeholderská analýza a plánován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legitimnější a efektivnější implementace etických principů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přináší větší účinnost, zabezpečuje hospodárnost, posiluje udržitelnost a udržitelný dopad, zajišťuje větší transparentnost a odpovědnost a v neposlední řadě také větší spravedlnost.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Stakeholdrem ( podílník či zainteresovaný) je myšlen takový jedinec či skupina, která má určitý vztah k podnikatelskému subjektu a může ovlivňovat jeho podnikatelskou činnost. Technika analyzující klíčové zainteresované skupiny se označuje jako stakeholderská analýzy. Ta ukazuje jejich zájmy vzhledem k cílům projektu, jejich význam v sociální síti i jejich vliv na podnik a úspěšnost projektu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edle skupiny  vlastníků (akcionářů), mohou mezi další stakeholderské skupiny patřit zaměstnanci, zákazníci, dodavatelé, konkurence, vlády, stát a místní zastupitelství, veřejnost atd.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ř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Zaměstnanci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zájm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držení stabilní zaměstnanosti ve firm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pravedlivá odměna za prá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ráce v bezpečném a příjemném prostřed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mo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ožnost kolektivně vyjednáv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ávk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ublic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Zákazníci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zájm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osažení „spravedlivého“ nákupu (nakupované zboží musí hodnotou odpovídat vynaloženým prostředkům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ískání bezpečných a spolehlivých výrobk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mo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ákup zboží od konkurenčních fire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jkot firem, které uplatňují nepřijatelnou politiku či jejichž zboží je nekvalitn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rská analýz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Jednotlivé kroky stakeholderské anylýz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1. Identifikace podnikových stakeholdr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2. Seřazení stakeholdrů dle důležitosti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ůležitý je vliv a význ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3. Pochopení klíčových stakeholdrů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zjištění relevantních údajů – jak smýšlí o našem podniku, jak s nimi co nejlépe komunikovat at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22320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ástroje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é kode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rganizační struktury na podporu etického progra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ý a sociální aud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ýcvik zaměstnanců k etickému jedn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é vz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é kodexy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odnikové etické kodex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kodex konkrétních podniků či jejich část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rofesní etické kodex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kodexy různých asociací a sdruže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aramond"/>
              </a:rPr>
              <a:t>Řada předností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iminuje nežádoucí praktiky, které působí pokles přízně zákazníků, zaměstnanců, investorů, veřejnosti atd. a které mohou vést k dlouhodobým ekonomickým ztrátá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bjasňuje politiku firmy v morálně problematických otázkách, definuje akceptovatelné a neakceptovatelné jednání (korupce, úplatky, zneužívání pravomoci apod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jednodušuje zavádění inovac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zitivně motivuje zaměstnance posílením jejich vědomí, že pracují v etickém prostředí s jasnými pravidly, která platí pro všechny bez výjimk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lepšuje reputaci firmy na veřejnosti i u zákazník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abraňuje nadřízeným zneužívat svého postavení vůči ostatním zaměstnanců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rganizační struktury na podporu etického programu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apř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ý úřad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je odpovědný za každodenní vedení a implementaci podnikového etického programu. Provádí dozor nad dodržováním etického kodexu a chodem podnikové politi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Pracovník odpovědný za etické postupy firmy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- provádí poradenství v záležitostech etické povahy, monitoruje rozvoj etického programu, jeho případné nedostatky, případy neetického jednání at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á rada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poradce v záležitostech nastavení etické politiky organizace, monitoruje program implementace etických principů do každodenního chodu organiz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ý výbor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celkový dozor nad dodržováním etického programu, úzce spolupracuje se všemi, kteří jsou odpovědni za dohled a správu nad etickým program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Ombudsman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zcela  nezávislý na podnikovém managementu. Místo, kde zaměstnanci či další zainteresované skupiny zcela bez obav a volně předkládají své podněty nebo kde žádají o radu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0:58:44Z</dcterms:created>
  <dc:creator>CIKT</dc:creator>
  <dc:description/>
  <dc:language>en-US</dc:language>
  <cp:lastModifiedBy>absolonm</cp:lastModifiedBy>
  <dcterms:modified xsi:type="dcterms:W3CDTF">2006-11-16T20:28:13Z</dcterms:modified>
  <cp:revision>20</cp:revision>
  <dc:subject/>
  <dc:title>Snímek 1</dc:title>
</cp:coreProperties>
</file>