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E8E-23B7-4DC4-A52B-51D6730F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630-DE9E-4303-8199-ED61E135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9BA-C53F-4188-91B6-6ADBEA07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DCF-CF96-45CA-B102-F58EFBC8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630F-D9DD-4997-9795-7C010613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4FD7-9D1E-4A52-ABE1-52630AA8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D318-025B-4814-A1F1-212C90DC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8895-7CDE-4570-99F4-788A78CD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7801-D09C-4D1F-9441-87677063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8924-6EAA-4074-99B7-C5230508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AFA4-8401-4624-AF0F-76BC8EB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479-BE41-4254-8430-19963942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EB09-656B-4E82-86C9-96224BE9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5D8A-ADD0-487C-873A-6191AE8C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2AA2-8AC8-4A35-87B5-0B95AF4C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66E9-B4F8-4221-BDC6-1CE45B6D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F94E-A37D-4EA6-A73E-61578247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189-1FA5-4125-AB33-44FC8C93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35B-EBD7-4650-91BB-F5E759D8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FFB-E3DC-404A-B3B7-6D8BB05C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487-1454-45B1-AB9D-DFD227EF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A74-5755-4196-8911-9B21B883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520-09DD-4770-A731-5F49439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58C-82AA-4EF0-807E-7F08ECFC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3808-883C-46C7-9143-62DA5467AAE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B6B2-E0DF-41D0-9727-49AE4881D14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Vývoj systémů –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640" y="508428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artina Haná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Obš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Bárt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Vývoj jako proces postupného zdokonalování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Antientropický děj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Proces konstitutivní (podstatný, základní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Proces, který hledá, experimentuje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lastnost, která nepřísluší jen jedinci, ale celému systém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ivot je nerozlučně spojen s evoluc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Erwin Schrödinger: vlastností života je vytvářet stále větší řád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dánlivě nepravděpodobn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uspořádání věc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ivot je chemický systém schopný sebe sama udržovat, v němž probíhá darwinovská evolu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arles Darwin: Všechny současné druhy mají společné předky, kteří existovali před dávnými věky. Původ druhu spočívá v proměnách způsobených náhodnými mutacemi a ve výběru prostřednictvím boje o omezené zdro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ormace se podílí na evoluc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ekvátní informace vzniká až spolu se systémem a ten je určován nahodilými faktory uvnitř i vně tohoto systém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ložitější systém potřebuje více informací k dalšímu vývoj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)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řirozená (biotická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informa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genetická (dědičná) a epigenetická (získaná zkušeností a učením, je základem kulturní informac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)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kulturní informace (umělá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vzniká kontaktem s okol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ormace a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znikala rozpoznáváním a hodnocením podnětů důležitých pro přežití a spolupráci lid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tvořila se lidskými smysly a rozum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uchovní kultura, společenské vědom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tváří ji konkrétní jedinci a institu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19447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Nositelem je příroda sa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Započala prudkou expanzí hmoty – tzv. velký třes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ystémy jsou složitější a sebeorganizovanější (náš předek - sirná bakteri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Pokročilé organismy obsahují mnoho miliard buněk a jsou organizovány do velmi propracovaných struktu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227640" y="1108080"/>
            <a:ext cx="21607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sitelem je člově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vazuje na dosaženou úroveň přirozené evoluce, ale je mnohem rychlejší a stále akceleruj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ýsledkem je kultur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ývoj umožnilo a urychlilo využívání symbolů (jazyk, písmo)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80071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voluce je proces s otevřeným koncem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1134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Šmajs, J.  Drama evoluce. Praha: Hynek, 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Šmajs, J. Konflikt přirozené a kulturní evoluce. Brno: Masarykova univerzita, 199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Coveney, P., Highfiled, R. Mezi chaosem řádem. Praha: Mladá Fronta, 200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rigogine, I., Stengersová, I. Řád z chaosu. Praha: Mladá Fronta, 200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Kolektiv autorů, Akademický slovník cizích slov, Praha: Academia, 199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7:39:26Z</dcterms:created>
  <dc:creator>Franta Konopásek</dc:creator>
  <dc:description/>
  <dc:language>en-US</dc:language>
  <cp:lastModifiedBy>99782</cp:lastModifiedBy>
  <dcterms:modified xsi:type="dcterms:W3CDTF">2006-09-26T15:39:47Z</dcterms:modified>
  <cp:revision>5</cp:revision>
  <dc:subject/>
  <dc:title>Vývoj systémů-přirozená a kulturní evoluce</dc:title>
</cp:coreProperties>
</file>