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5FC-FAEA-4ECA-8B28-0595E4FE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51A3-2BFF-41BF-B207-888298A2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67C-6363-4580-9B48-43CA920B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2D3-22F0-41EF-8884-95436A50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7DCE-AB6D-4118-BABD-D834C4B1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6EB9-DD55-475D-9B86-FED2B054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F266-D5FC-4F22-9D14-397351AF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090F-5715-444F-8D4E-635C0C47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9FE6-DF38-4E03-AF24-27B2F57D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B510-0988-47DB-BB64-42C7EEA0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A700-B375-4B24-B914-8B397F10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9BA-6DC8-4A4D-89F9-D2B0DEC0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B331-8CDA-480C-8CE5-5A21F8D1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774C-5E20-4CE1-96DF-51DCB729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7AB7-0196-4AA1-B97B-A266E367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78CC-CDCE-4B4B-A50D-92DD1F6A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9927-F0B5-4616-A40A-CC0CD7FB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2568-8673-455D-A5FF-54DAFEF0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A758-5F44-4EF1-8CA6-2A6740B3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1F8-3BBF-4E99-8A3E-A9500098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5D3-6856-4898-9496-E324F15A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9A7-492F-4EEB-98FD-5DA3BA7B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EA09-D418-4A4C-BC3E-AD79D94D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06C-7C8A-4507-958B-07FFC0FE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CAC5-7E7C-4048-8E9A-FF1744A6F6B1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8B46-84FA-4B07-829E-20D30653A9E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Úloha vlády ve vývoji společenských systémů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71280" y="5950080"/>
            <a:ext cx="77230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eronika Křížov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Ivana Kleinov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Jan Čerbá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Friedrich August von Hayek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ystém tržní koordinace je jedinečný, v rozvinuté společnosti velmi křehký a složitý – tržní mechanismus (nemůže být nahrazen žádným plánování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dyž se stát rozhodne centrálně sledovat jakýkoli cíl, nutně omezuje svobodu jednotlivc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ečenské procesy jsou výsledkem zcela spontánního jednání jednotlivců, kteří sledují své vlastní záj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eorie spontánního ř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John Maynard Keynes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xistují oblasti ekonomické aktivity, v nichž hraje soukromý sektor hlavní roli a do nichž by stát neměl zasahovat, přičemž existují i oblasti, v nichž stát operuje lépe než soukromý sek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viditelná ruka trhu“ by měla být doplněna „viditelnou rukou státu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Úloha vlády v tržních ekonomikách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rh: Friedman vs. Key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loha „malé vlády“ (Friedm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naha o plnou zaměstnanost (Keyn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neužívání státních zásahů zájmovými skupinami (např. ČMK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hrozba pro demokracii podle Friedm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dporuje přirozenou soutěž názorových proudů (a rozvíjí tradic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Úloha vlády v CP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etailní centrální plán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mítá trad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připouští evoluční vývoj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de k extrémism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rh existuje jen v omezené míř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ostává se do rozporu s přirozeným řádem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vede k nerespektování řádu umělé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Použitá literatur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alé dějiny ekonomického myšle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D.Brožová, VŠE Praha, Praha 20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anagement II, Průvodce studiem, Brno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Svoboda volb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anželé Friedmanovi, LI Praha 199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Právo, zákonodárství a svobo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F.A.Hay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Osudná domýšlivost, omyly socialism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F.A. Hayek, SLON, Praha 199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J.M.Keynes a současná ekonom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ilan Sojka, Grada Publishing 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0560" y="2133360"/>
            <a:ext cx="70930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Veronika Křížová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Ivana Kleinová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Jan Čerbá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Evoluční teorie podle Hayek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voluce vedoucí k vytváření řádů ve společnosti, navazující na odkaz Adama Smit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ůvodní evoluční teori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irozené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síly přír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mělé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člověk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řád“ podle Haye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o vedlejší produk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Evoluční teorie podle Hayek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irozený x umělý řá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ověk podílející se na spontánním ř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2 pojetí ř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Evoluční teorie podle Hayek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láda jako specifická organ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Historický vývoj politického vlivu na společenský systém</a:t>
            </a:r>
            <a:br>
              <a:rPr sz="4000"/>
            </a:b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Platon  X  Aristoteles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773360"/>
            <a:ext cx="377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át je realizací ideje spravedlnosti, která se uplatňuje ve všem a u vše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ři tří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kromé vlastnictví jen pro 3. třídu – potřebovali ho k výrobě a směně zbož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6120" y="1773360"/>
            <a:ext cx="377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irozená spravedlnost – to co člověk potřebuje k přeži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át – garant této spravedlnosti a práva na 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emokracie s otroctví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kromé vlastnictví a větší svoboda při zacházení s ní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8edf2"/>
                </a:solidFill>
                <a:latin typeface="Tahoma"/>
              </a:rPr>
              <a:t>        </a:t>
            </a:r>
            <a:r>
              <a:rPr b="0" lang="cs-CZ" sz="2800" spc="-1" strike="noStrike">
                <a:solidFill>
                  <a:srgbClr val="e8edf2"/>
                </a:solidFill>
                <a:latin typeface="Tahoma"/>
              </a:rPr>
              <a:t>Merkantilisté   X   Filozofové přirozených</a:t>
            </a:r>
            <a:br>
              <a:rPr sz="2800"/>
            </a:br>
            <a:r>
              <a:rPr b="0" lang="cs-CZ" sz="2800" spc="-1" strike="noStrike">
                <a:solidFill>
                  <a:srgbClr val="e8edf2"/>
                </a:solidFill>
                <a:latin typeface="Tahoma"/>
              </a:rPr>
              <a:t>            zákonů</a:t>
            </a:r>
            <a:endParaRPr b="0" lang="en-US" sz="28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773360"/>
            <a:ext cx="377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elká koloniální expan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ilná instituce stá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droj růstu národního bohatství – zahraniční obchod (aktivní obchodní bil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statní národy považovány za soupeř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ichard II., Thomas M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120" y="1773360"/>
            <a:ext cx="377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ávo na život, právo na svobodu a právo na vlastnictv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mezení lidské svobody pouze z důvodu ochrany této svobody samot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vantitativní teorie peně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ohn Locke, David Hu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Adam Smith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árodní hospodářství má svůj přirozený řád a řídí se přirozenými záko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viditelná ruka trhu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ntánní soulad sobeckého individuálního zájmu se zájmem společenský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 procesu konkurence každý výrobce poznává, že nejvýhodnější je uspokojovat potřeby druhých a přes uspokojování potřeb druhých pak vede cesta k uspokojení potřeb vlastní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Karl Heinrich Marx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idská společnost se neustále mění a vyvíjí – proto nemohou existovat žádné přirozené zákony, které by byly platné jednou provždy ani žádný společenský řá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át má odpovědnost za uspořádání společnosti a musí hrát významnou roli v životě společnosti i v národním hospodář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12:43:52Z</dcterms:created>
  <dc:creator>CIKT</dc:creator>
  <dc:description/>
  <cp:keywords/>
  <dc:language>en-US</dc:language>
  <cp:lastModifiedBy>CIKT</cp:lastModifiedBy>
  <dcterms:modified xsi:type="dcterms:W3CDTF">2006-10-03T08:44:45Z</dcterms:modified>
  <cp:revision>10</cp:revision>
  <dc:subject/>
  <dc:title>Úloha vlády ve vývoji společenských systém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29</vt:lpwstr>
  </property>
</Properties>
</file>