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D2B-363D-4605-90E2-16541095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C1C-298B-4184-B23C-5F2D179E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0C0-2D98-4A87-B38F-5A626AB2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713-A364-4704-B221-003E1BA2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F727-87B8-464B-A323-9A96865A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8231-ADFD-42ED-89EC-BA243221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B251-2681-4003-9C30-B6C59C85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D1E3-DAD4-4C4F-9CA5-CE355843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ABA8-8E58-4E63-B0FD-A1D89ECA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130D-082E-48A1-8618-35F0A956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2C1-DA53-4E3F-8111-DCFFABE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2C9-661E-43AA-B35B-2DCAF792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700C-8DF5-4297-B14A-5CBF4DAD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8BF8-C54E-4AE3-9F7B-45E3C783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3EA4-4C9E-47DF-8587-622977A3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A6E0-A6AA-4089-9DE2-02E817D3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E58B-4719-47B1-BA75-30150D6E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BA3-9F87-4D78-A0AC-1E43260D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C6B-D6AA-4166-8C75-11C1768B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C26-C973-452D-B01B-6D2D1BD4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C52-64DE-4013-8B29-CFC92A14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6B8-30F5-45B5-BBE7-7A402F01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DF7-43CE-4441-83B8-E9E1307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42B-D7C6-4AB2-BBB6-7532DF2D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43A-D0FE-48FB-BFF4-62F1E048E8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79D6-281F-4037-937D-66B2C55A5B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Nová ekonomika a její důsledk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eminární skupina č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ina Ca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minik Zbí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ub Fiš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ar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íčové korporace plánovaly a realizovaly výrobu velkého množství zbož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kovýroba vedla ke značným úspor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ížení jednotkových nákladů na výr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chá dohoda mezi všemi zúčastněnými: manažery firem, investory, odbory a veřejnosti zastupované vládou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v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formy komunikace, nové způsoby prodeje, nová konkurence z jiných částí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ý růst produktivity způsoben rozvojem informačních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a poptávky nabývá v tržních vztazích dominantní postavení a významně ovlivňuje strukturu nabízených výrobků a služe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ýhody a nevýhody nové ekonomik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é podniky mohou pracovat mnohem efektivněji než dří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íky internetu přímý přístup na trh i pro podniky ze třetích zem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konomický růst v jiných částech světa má za následek zvýšenou konkurenci pro podniky d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dniky v nové ekonom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ční hierarchické struktury se začínají rozvolňovat a mění se na uspořádání pružnějšího typ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ce zhodnocující podniky se podobají pavoučí síti, kde v prostředku jsou strategičtí zprostředkovatelé a v každém místě sítě pracuje poměrně malý počet li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ektivnost vysoce zhodnocující podniku je založena na neustálém hledání a řešení nových příležitost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ůsledky nové ekonomik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evírání platových nůžek mezi vysoce a málo kvalifikovanými profesem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tráta zaměstnání a pokles reálných mezd u zaměstnanců s nedostatečnou kvalifik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e měnící se ekonomika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ky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podniky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nároky na zaměstnance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dloužení pracovní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á ekonomika nabízí nové příležitosti a neustále širší výběr úžasných obcho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produktivita, lepší, rychlejší, lacinější výrobky všeho druh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šak vyšší intenzita práce u vysoce kvalifikovaných pracov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ivoty lidí se stávají méně předvídatelné, méně zajištěné, ekonomicky divergentnější a sociálně stratifikova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ich, B.R. Slušná společnost. Praha: Moraviapress,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pping, R.CH. Průvodce globální ekonomikou. Praha: Portál, 20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 autorů. Management 2: Průvodce studi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7:49:02Z</dcterms:created>
  <dc:creator>KUBA</dc:creator>
  <dc:description/>
  <dc:language>en-US</dc:language>
  <cp:lastModifiedBy>KUBA</cp:lastModifiedBy>
  <dcterms:modified xsi:type="dcterms:W3CDTF">2006-10-24T21:37:42Z</dcterms:modified>
  <cp:revision>5</cp:revision>
  <dc:subject/>
  <dc:title>Nová ekonomika a její důsledky</dc:title>
</cp:coreProperties>
</file>