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62DC-73C7-4807-B53A-26AD0E6AE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2680-E4F2-4685-BC8B-6B2BF50C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A7B1-3245-4E72-9099-92800A762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AAB0-46F4-42E9-803C-9E4E377C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BBAF-B241-44C4-B481-0C0BA88B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8909-1B84-4F95-B701-FB8C97D1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0874-B988-47F1-9E04-7919F002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A7C5-D274-4A3E-A6CC-AE07F33A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957A-C413-43AA-B16B-5D30AFE8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12A3-F5A0-47A0-A3B4-C8DDB311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6A2C-3E12-4F27-B0DA-18650835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2168-9311-4997-87E2-00D08CE2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7570-4839-4839-982A-FAAF69B7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4B82-5164-4735-9BDC-B8470B13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9EB4-8056-4ADE-9F56-2D24812E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89F6-230E-406B-8793-CB5BD5516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5EDF-999E-40F6-8ACD-AD19FBDC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BF17-775C-47A4-8A88-2C204E7C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61FD-793D-414A-84AD-99D6B030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D28E-0315-4F47-8A1A-09978476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1552-FB0F-482E-BE7B-695F3B1B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A147-575B-4F67-AED9-18C5C5CC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6270-DFA2-4B13-8E9B-7C62A18A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6F05-3853-462A-9E84-C8D69D78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A103-9F61-485F-9677-6E364DF83C5C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34C2-8595-4D8D-B21A-1CBF6818ED22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ývoj českého managementu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Prezentující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Eva Paseková, Aleš Havránek, Radovan Holek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kupina č.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21.11.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Br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45676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66"/>
                </a:solidFill>
                <a:latin typeface="Arial"/>
              </a:rPr>
              <a:t>Historie českého managementu</a:t>
            </a:r>
            <a:endParaRPr b="0" lang="en-US" sz="3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28954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Inklinace k přejímání cizích koncepcí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Období masarykovské republiky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důraz na české národní hodno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aplikování rakouských a německých trad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orientace na U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Tomáš Baťa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největší osobnost českého management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Plánovité řízení ekonomiky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znárodnění průmyslu a zemědělstv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sovětský systém centrálního plánování a řízení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ekonomik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66"/>
                </a:solidFill>
                <a:latin typeface="Arial"/>
              </a:rPr>
              <a:t>Tomáš Baťa</a:t>
            </a:r>
            <a:br>
              <a:rPr sz="3500"/>
            </a:br>
            <a:r>
              <a:rPr b="0" lang="cs-CZ" sz="2000" spc="-1" strike="noStrike">
                <a:solidFill>
                  <a:srgbClr val="ffcc66"/>
                </a:solidFill>
                <a:latin typeface="Arial"/>
              </a:rPr>
              <a:t>( 3.4.1876 – 12.7.1932)</a:t>
            </a:r>
            <a:r>
              <a:rPr b="0" lang="cs-CZ" sz="2500" spc="-1" strike="noStrike">
                <a:solidFill>
                  <a:srgbClr val="ffcc66"/>
                </a:solidFill>
                <a:latin typeface="Arial"/>
              </a:rPr>
              <a:t>       </a:t>
            </a:r>
            <a:endParaRPr b="0" lang="en-US" sz="2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i="1" lang="cs-CZ" sz="1800" spc="-1" strike="noStrike">
                <a:solidFill>
                  <a:srgbClr val="ffffff"/>
                </a:solidFill>
                <a:latin typeface="Times New Roman"/>
              </a:rPr>
              <a:t>Než něco řeknu, musím přemýšlet, co mi ten druhý odpoví“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principy řízení podniku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samospráva jednotlivých úseků a dílen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účast zaměstnanců na zisku a na řízení obchodu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ffffff"/>
                </a:solidFill>
                <a:latin typeface="Times New Roman"/>
              </a:rPr>
              <a:t>systém</a:t>
            </a: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ffffff"/>
                </a:solidFill>
                <a:latin typeface="Times New Roman"/>
              </a:rPr>
              <a:t>personální</a:t>
            </a: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ffffff"/>
                </a:solidFill>
                <a:latin typeface="Times New Roman"/>
              </a:rPr>
              <a:t>sociální péče o pracovníky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ffffff"/>
                </a:solidFill>
                <a:latin typeface="Times New Roman"/>
              </a:rPr>
              <a:t>systematický výcvik a vzdělávání zaměstnanců a mládež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66"/>
                </a:solidFill>
                <a:latin typeface="Arial"/>
              </a:rPr>
              <a:t>Formování nového českého managementu</a:t>
            </a:r>
            <a:endParaRPr b="0" lang="en-US" sz="3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2 tendence uvažování 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návrat k tradičním českým hodnotá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kopírování úspěšných zahraničních koncepcí a přístup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výhody / nevýhody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překonání překážek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hierarchie řídících vztah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pracovníci chápáni jako „ vykonavatelé příkazů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tendence soustředit se „krátkozrace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66"/>
                </a:solidFill>
                <a:latin typeface="Arial"/>
              </a:rPr>
              <a:t>Dimenze národní kultury</a:t>
            </a:r>
            <a:br>
              <a:rPr sz="3500"/>
            </a:br>
            <a:endParaRPr b="0" lang="en-US" sz="3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Geert Hofsted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první zformuloval kulturní dimenz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Rozpětí moci v hierarchi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Individualismus / Kolektivismu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Vyhýbání se nejistotě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Maskulinita / Feminit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Dlouhodobá / Krátkodobá orientac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66"/>
                </a:solidFill>
                <a:latin typeface="Arial"/>
              </a:rPr>
              <a:t>Vztah českého managementu</a:t>
            </a:r>
            <a:br>
              <a:rPr sz="3500"/>
            </a:br>
            <a:r>
              <a:rPr b="0" lang="cs-CZ" sz="2000" spc="-1" strike="noStrike">
                <a:solidFill>
                  <a:srgbClr val="ffcc66"/>
                </a:solidFill>
                <a:latin typeface="Arial"/>
              </a:rPr>
              <a:t>k jednotlivým dimenzím národní kultury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Mocenský odstup a problém komunikac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Dilema českého individualismu / kolektivismu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Česká maskulinit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Obava z nejistoty a „švejkovská“ tradice v Čechách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Krátkodobá orientac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66"/>
                </a:solidFill>
                <a:latin typeface="Arial"/>
              </a:rPr>
              <a:t>Atypické podmínky českého managementu</a:t>
            </a:r>
            <a:endParaRPr b="0" lang="en-US" sz="3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Negativ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Přežitky minulé éry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Nedodržování závazků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Ztráta východních trhů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Pozitiv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Zásobování českého trhu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Zaměření na expor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Zlepšení sociálních podmínek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66"/>
                </a:solidFill>
                <a:latin typeface="Arial"/>
              </a:rPr>
              <a:t>Seznam literatury :</a:t>
            </a:r>
            <a:endParaRPr b="0" lang="en-US" sz="3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IVAN NOVÝ </a:t>
            </a: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a kolektiv, Interkulturální management, Praha : Grada publishing, 1996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IVAN NOVÝ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amp; 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SYLVIA SCHROLL - MACHL, </a:t>
            </a: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Spolupráce přes hranice kultur, Praha : Management Press, 2005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MIROSLAV IVANOV, </a:t>
            </a: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Sága o životě a smrti Jana Bati a jeho bratra Tomáše, Vizovice : nakladatelství „LÍPA“, 1998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Děkujeme za pozornost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3:37:37Z</dcterms:created>
  <dc:creator>Eva Pasekova</dc:creator>
  <dc:description/>
  <dc:language>en-US</dc:language>
  <cp:lastModifiedBy>Eva Pasekova</cp:lastModifiedBy>
  <dcterms:modified xsi:type="dcterms:W3CDTF">2006-11-19T15:56:49Z</dcterms:modified>
  <cp:revision>25</cp:revision>
  <dc:subject/>
  <dc:title>Vývoj českého managementu</dc:title>
</cp:coreProperties>
</file>