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362-09B8-4043-90DF-E9092C14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276-6204-4CC2-AE06-BBBC9502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88F-7727-4353-88EE-B7FBA43C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C78-0827-42B4-AD87-D8632B45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BFA1-68E2-4507-9E10-8B3339D0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7B79-1B5A-4929-9A0D-C1129301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5CF5-2776-4083-8938-6E32DEFF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AEB2-E237-4DAC-940C-0D491949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B6DA-505A-4CAC-8904-AB92121F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CE43-1457-4DE1-8258-1AE8A66F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D29C-BF98-4E6F-927B-59EB4514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178-0377-4AFF-9546-9E5618F4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3C36-B99D-4E33-AF32-A8A32E5B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2010-161C-4D47-84FB-7581B64A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3B41-A379-4450-BEC7-82766058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4C30-CD7F-4E88-888C-EB6C16B8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59C5-FD19-4988-8260-52029A2F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D297-06C9-482E-B389-E83D0836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BBD-E6A4-4A86-A0BA-84093641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06A-CAC5-4F37-856F-43FD4075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8FA-2AC1-4171-86A1-B00E1CF9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2553-DAD8-4244-9D10-1E8EB196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F91-BED0-48B6-9D58-A4E1AA65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478-71CD-4149-BB23-21369CEA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CA65-9B5C-4A15-AFC7-7567433596FA}" type="slidenum">
              <a:rPr b="0" lang="sk-SK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713B-2646-4647-A68D-F68FFA9AB6ED}" type="slidenum">
              <a:rPr b="0" lang="sk-SK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takeholdeři a jejich význ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ezie Kouři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tina Pospíši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14200"/>
            <a:ext cx="725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Využití analýzy- příkl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Trendy v současnosti např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Expanze fir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CSR ak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Eva Kislingerová, Ivan Nový a kol. – Chování podniku v globalizujícím se prostředí. Praha: C.H.Beck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romír Veber a kol. – Management – základy, prosperita, globalizace. Praha: Management Press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Refik Culpan a John Trussel – Applying the Agency and Stakeholder Theories to the Enron Debacle: An Ethical Prspective. Business and Society Review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pring2005, Vol. 110 Issue 1, p59-76</a:t>
            </a:r>
            <a:r>
              <a:rPr b="1" lang="cs-CZ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irk Matten a Andrew Crane – What is stakeholders democracy? Perspectives and issues. Business Ethics: A European Review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n2005, Vol. 14 Issue 1, p6-13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rosby, Benjamin L. March 1992. "Stakeholder Analysis: A Vital Tool for Strategic Managers."Technical Notes, no. 2. Washington, DC: Implementing Policy Change Project for the USAgency for International Development (USA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efinice stakeholder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1579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takeholders =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soby či skupiny osob, které ovlivňují danou firmu nebo jsou jednáním této firmy samy dotčeny, tj. jsou dobrovolně nebo nedobrovolně vystaveny riziku spojenému s aktivitami firmy. (Veber a kol.,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=&gt; stakeholder approach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nažeři berou při rozhodování v úvahu zvyšování míry uspokojování oprávněných zájmů všech zúčastněných skupin nejen vlastníků podni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znik ucelené teori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v 80. letech - Free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skupiny stakeholderů byly do té doby analyzovány oddělen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ůležitost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mplexního pojet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roste s rozvojem velkých mezinárodních korporací, kdy úspěšnost podniku záleží z velké míry na vztazích s okolí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oučasný trend –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keholder democ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jmy jednotlivých skupin jsou často protichůdné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jednávací síla a pozice se liší mezi jednotlivými  skupinami stakeholderů i mezi odvětvími a kultur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Skupiny stakeholderů a příklady jejich zájm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ASTNÍCI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hodnocení investovaného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tiž a společenské postavení, vliv na rozhodování, možnost sebe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MĚSTNANCI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zda, sociální jistoty, zařazení v kolektivu, možnost uplatně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ĚŘITELÉ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stota navrácení a zhodnocení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20464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DAVATELÉ – možnost odbytu, dodací a platební podmínky, obchodní vzta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KAZNÍCI – kvalitní zboží a služby, výhodné ceny a podmínky, důvě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ÁT – placení daní, dodržování právních předpisů, zajištění pracovních míst, rozvoj regio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TATNÍ – např. ekologická hnutí, oborové asociace, humanitární organizace, média a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kupiny stakeholderů a příklady jejich zájm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nalýza Stakeholder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ů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81374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de se využí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součástí konceptu „stakeholder management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klad k projek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 a plán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aké informace zjistí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do jsou nej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ležitější stakeholdeř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ý mají vliv na společ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ý mají zájmy ve vztahu k naší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nalýza Stakeholder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ů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-pos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efinovat všechny stakehold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ískávání dat- primární , sekundár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hodnocení charakteristik (znalost společnosti, zájem, vliv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tvoření „mapy stakeholder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ů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vození závěrů a plán komunik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0920" y="1143000"/>
            <a:ext cx="5040360" cy="459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197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60676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iv,sí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602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5734080"/>
            <a:ext cx="511344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1125360"/>
            <a:ext cx="0" cy="46087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580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1844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bát na spokoje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400536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držet inform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4221000"/>
            <a:ext cx="24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nitor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84464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južš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3933720"/>
            <a:ext cx="216000" cy="21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2852640"/>
            <a:ext cx="21600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1413000"/>
            <a:ext cx="215640" cy="215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393372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99308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Proč je dobré znát stakehold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klad k projek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trategické plán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ogramy, inovace, nové pravidla, zákony ap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ojekt/plán má větší šanci na úspě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ožnost předejít nedorozumění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omunikace se stakeholdry bude efektivnějsí a přínosnějš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8:59:06Z</dcterms:created>
  <dc:creator>Terka</dc:creator>
  <dc:description/>
  <dc:language>en-US</dc:language>
  <cp:lastModifiedBy>1</cp:lastModifiedBy>
  <dcterms:modified xsi:type="dcterms:W3CDTF">2006-11-08T15:50:47Z</dcterms:modified>
  <cp:revision>34</cp:revision>
  <dc:subject/>
  <dc:title>Stakeholdeři a jejich analýza</dc:title>
</cp:coreProperties>
</file>