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5D7E-7575-4BD7-8000-579CD14EE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D3CA-20B9-442D-894A-12A2B9529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6AE4-071E-40B6-B4A8-D3F4C88DC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F5DF-996D-498E-A113-31E9FAE0E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0D134-B669-4AA8-80D0-8319CB3FF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56EEB-983A-4E22-B101-B73F0AD8B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F4778-B2F6-4BFE-B5EB-C6405DC79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45541-8833-465F-BE1F-02F7BA939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51C75-4DB2-4168-8771-E747E1108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EB45E-8D63-4FD9-BEE5-B3E24CF24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80019-9782-4178-8BAD-55AA3681C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9026-3220-4A4D-8003-2A5374092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66E0D-8C32-4E63-BD95-0EB973891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BD12A-66B5-4DFA-9F58-605887661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0832C-B555-4B12-8908-F57DC025F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D2140-1B35-4D80-B1E2-466480FCF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61066-4877-48CF-9886-15056E2C0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44AA-049B-45E9-8608-9A3257CFC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C886-A803-4647-AF4B-A4A7C0923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23D9-6E7A-4EF8-85B5-E4F7D19C9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34E6-0893-480B-AB2B-F6BBBA184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90C1-D66E-4984-AC4C-313A4D816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AE29-970D-4402-B145-DB19609EE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25EC-245A-42E9-9046-A7859CB80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DBE56-B623-48E5-960D-810A2DB88067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1BF20-BF76-4338-9276-FD7361E0AAAA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Společenská zodpovědnost podnikání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5943600" y="5486400"/>
            <a:ext cx="3200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Lukáš Przybylsk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Ondřej Chl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etr Procházk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Zodpovědnost za životní prostředí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ýzkum nových technologií vedoucích ke zlepšování Ž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nalýza dlouhodobých možností čerpání zdroj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osazení standardů na alespoň minimální ochranu Ž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Modely vztahů mezi organizací a společností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6 model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ůzné pohledy na stejnou vě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ychází z různých předpoklad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Právní model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Existence nadřazeného systému (právní systé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dpovědnost stanovena zákon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ystém je v rovnováze x regulace poruch novými zákon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Trhově smluvní model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edinou zodpovědností organizace je produkov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rganizace a společnost jsou 2 paralelní systém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omunikace prostřednictvím výměny na trh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lužba veřejnému blah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780000" y="4869000"/>
            <a:ext cx="609480" cy="838080"/>
          </a:xfrm>
          <a:prstGeom prst="downArrow">
            <a:avLst>
              <a:gd name="adj1" fmla="val 50000"/>
              <a:gd name="adj2" fmla="val 34377"/>
            </a:avLst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Vykořisťovatelský model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ři výměně organizace dostane vždy víc než společn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rganizace a společnost jsou 2 paralelní systém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Technicko-strukturní model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eakce na trhově smluvní a vykořisťovatelský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bsahují pravdy i neprav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znik nové třídy manažerů (ovládají všechny instituce ve společnosti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51280" y="3213000"/>
            <a:ext cx="608040" cy="838440"/>
          </a:xfrm>
          <a:prstGeom prst="downArrow">
            <a:avLst>
              <a:gd name="adj1" fmla="val 50000"/>
              <a:gd name="adj2" fmla="val 34473"/>
            </a:avLst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Model vzájemně se prolínajících systémů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tvrzení částečné platnosti předešlých modelů, ale odmítá jejich schopnost obsáhnout realit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důraznění interakce mezi aktéry ve spol. systém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ztahy aktérů jsou zdrojem napětí, ale i tvůrcem rovnová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Stakeholderský model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 současnosti populární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odpovědnost je souhrn sporných otázek, které vnášejí do organizace vnější složky společn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dpovědnost je stanovena diskusí a dialog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924360" y="4076640"/>
            <a:ext cx="608040" cy="838440"/>
          </a:xfrm>
          <a:prstGeom prst="downArrow">
            <a:avLst>
              <a:gd name="adj1" fmla="val 50000"/>
              <a:gd name="adj2" fmla="val 34473"/>
            </a:avLst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ffff"/>
                </a:solidFill>
                <a:latin typeface="Times New Roman"/>
              </a:rPr>
              <a:t>Začlenění etiky do podnikové strategie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Times New Roman"/>
              </a:rPr>
              <a:t>Nejúčinnější cestou určení pevných hodnot organizace je využití systému její </a:t>
            </a:r>
            <a:r>
              <a:rPr b="1" i="1" lang="cs-CZ" sz="2400" spc="-1" strike="noStrike">
                <a:solidFill>
                  <a:srgbClr val="ffffff"/>
                </a:solidFill>
                <a:latin typeface="Times New Roman"/>
              </a:rPr>
              <a:t>korporativní kultury</a:t>
            </a:r>
            <a:r>
              <a:rPr b="0" i="1" lang="cs-CZ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727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727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osloupnost kroků změn podnikové kultury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727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72760" indent="-572760" algn="just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uznat nevyhnutelnost změny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72760" indent="-572760" algn="just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oznámit změny všem zaměstnancům organizac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72760" indent="-572760" algn="just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ačínat malými změnami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72760" indent="-572760" algn="just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odelovat změny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72760" indent="-572760" algn="just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otevřít komunikační kanály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72760" indent="-572760" algn="just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učit zaměstnance jak přistupovat k novému systému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72760" indent="-572760" algn="just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být trpělivý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727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Paralelní plánování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Times New Roman"/>
              </a:rPr>
              <a:t>Dominující postavení zisku a efektivnosti v systému podnikové kultury je nevyhnutelné vyvážit ostatními, hlavně etickými hodnotami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 algn="just"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Times New Roman"/>
              </a:rPr>
              <a:t>Proces paralelního plánování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 umožňuje včlenit hodnoty společenské zodpovědnosti a základní etické hodnoty do systému podnikové kultur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 algn="just"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Paralelní plánování = plánování orientované na 2 výstup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 algn="just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výstup cílů podnik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 algn="just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enviromentální výstup podnik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Paralelní plánování můžeme shrnout do následujících tezí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anticipace etických problémů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aplikace nástrojů společenské zodpovědnosti a etické analýzy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determinace hodnot korporace, které jsou pro ni nejdůležitější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integrace těchto hodnot do kultury podniku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Obsah prezenta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zorové typy společenské zodpovědnosti podniká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ozsah zodpovědnosti organizace – modely řízení a společn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ačlenění etiky do podnikové strateg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Úloha podnikové kultury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Times New Roman"/>
              </a:rPr>
              <a:t>Podniková kultura prostupuje celým plánovacím procesem, ovlivňuje jej a sama je jím ovlivňována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Otevřenost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je důležitým prvkem podnikové kultu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„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Lidské systémy mají tendenci k sebekorekci, pokud mají včasné a přesné informace o tom, co je třeba napravit.“ (filozof Karl Popper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V podnikové kultuře existuje několik indikátorů nedostatečné otevřenosti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odřízení se snaží získat informace o stanovisku managementu k danému problému, teprve potom se sami vyjádří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ezi manažery panuje dokonalá shoda v názorech na rozličné problémy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existuje odpor k poskytnutí špatných zpráv …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Literatur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LUKNIČ, A.S. Štvrtý rozmer podnikania - etika. Bratislava : SAP, 1994. ISBN</a:t>
            </a:r>
            <a:br>
              <a:rPr sz="3200"/>
            </a:b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80-85665-30-1.</a:t>
            </a:r>
            <a:br>
              <a:rPr sz="3200"/>
            </a:b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RNKOVÁ, J. Společenská odpovědnost firem. Business Leaders Forum, 2004</a:t>
            </a:r>
            <a:br>
              <a:rPr sz="3200"/>
            </a:b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ndřej Chlup (tým 9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Vzorové typy společenské zodpovědnosti podnikání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ákladní normy a kritéria spol. zodp. lze rozdělit do několika skupin týkajících s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potřebitel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aměstnanc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účasti zaměstnanců na rozhodová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kcionář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onku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eřejnos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životního prostřed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Zodpovědnost vůči spotřebitelům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pravedlivá hodno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avdivé a srozumitelné inform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ctivá a hodnověrná rekla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věření bezpečnosti výrobku a varování před neověřenými vlastnosti a riziky použit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Zodpovědnost vůči zaměstnancům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ávo na spravedlivé a rovné zacháze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mezení použitelnosti výkonových nor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polečnost prostředníkem zvyšování kvality a bezpečnosti života a zdraví zaměstnance (i mimo pracoviště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Účast zaměstnanců na rozhodování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učinný model komunikace v podniku má pozitivní ekonomické dopady, ale i etickou dimenz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Zodpovědnost vůči akcionářům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veřejnění seznamu akcionář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avdivé informování současných a budoucích akcionářů o vývoji podnik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žádné osobní výhody manažer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Vztahy mezi konkurenty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onkurence by měla být čist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ákaz najímání zaměstnanců konkurence s cílem získat určité důvěrné inform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Zodpovědnost vůči veřejnosti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dpora komunikace s okolní komunito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oordinace určitých rozhodnut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dpora místního sociálního a kulturního živo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dmínky ukončení činnosti v dané lokalit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1T19:50:59Z</dcterms:created>
  <dc:creator>Lukáš Przybylski</dc:creator>
  <dc:description/>
  <dc:language>en-US</dc:language>
  <cp:lastModifiedBy>Ondřej Částek</cp:lastModifiedBy>
  <dcterms:modified xsi:type="dcterms:W3CDTF">2006-12-11T11:52:34Z</dcterms:modified>
  <cp:revision>8</cp:revision>
  <dc:subject/>
  <dc:title>Společenská zodpovědnost podnikání</dc:title>
</cp:coreProperties>
</file>