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831-31F3-429E-9425-D17847EE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A81-393D-460D-B52B-F408EA40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517-3D9C-4AC3-A250-946429DE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1E9-CC50-4D43-AE83-A3A4B54C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65D0-0E72-4E06-B18C-74CF5127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2116-6A32-4CB9-91DA-DB4E3F46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1E56-098A-458C-861C-5306AEC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13A6-E159-4AFE-8B67-98E2B52A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0281-C862-47B2-80D6-78482E1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5510-877C-41B6-9CDB-AE14B7E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BBB6-69FC-4063-BEAE-8772BA9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C55-050B-4D2E-BBCA-4639445A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9F97-F744-482A-BCE1-8C63B18E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50EF-9B72-4E56-83F7-A632885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FCA7-E672-4F56-9F32-5BB983F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377B-9328-4F7D-AC4C-7585E644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B58D-7997-413D-A893-087F5822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0FD-CDBA-4B92-91D2-FA0EEAEF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CB7-D4F8-4184-AE77-E7ADC056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A4A-AF8B-464E-8009-604A7AB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208-14A1-4B2C-A747-461141EC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FF4-4A77-4B0C-8714-23184A7E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A50-8007-4723-A708-AD3CA2D8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0FC-975A-4BAA-9356-A073F8E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42BE-3D01-4361-BF0C-4E55C202123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0E7-10F2-4E0D-9864-2719095B63DF}" type="slidenum"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3860280"/>
            <a:ext cx="669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7c5b5"/>
                </a:solidFill>
                <a:latin typeface="Verdana"/>
              </a:rPr>
              <a:t>Proměny práce a jejich vliv na soudobou společnost</a:t>
            </a: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       </a:t>
            </a:r>
            <a:r>
              <a:rPr b="0" lang="cs-CZ" sz="1600" spc="-1" strike="noStrike">
                <a:solidFill>
                  <a:srgbClr val="d7c5b5"/>
                </a:solidFill>
                <a:latin typeface="Verdana"/>
              </a:rPr>
              <a:t>Mandovec Zdeněk, Sedláček Milan, Schön Lukáš</a:t>
            </a:r>
            <a:endParaRPr b="0" lang="en-US" sz="16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Proměny práce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5720" y="1916280"/>
            <a:ext cx="7236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Rukodělná výr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Human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omputer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Soudobá společnost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989000"/>
            <a:ext cx="72360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áce opět komplexní, poměr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náročnou na kreativ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příj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onkurence  -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ovace 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tenzivnější prá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R.B.Reich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588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vznést z chudob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dnik vs. Zaměstnane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acovní místa přívětivá vůči rodině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íspěvky - zdravotní péče, důcho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Investice do lidského kapitál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artnerství se svými zaměstnanc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15920"/>
            <a:ext cx="10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ť je nová ekonomika jakko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nosná, neztrácíme kvůli ní určité stránky svého života – rodinný život, přátelství, pocit společenství …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Za pozornost děkuj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23560"/>
            <a:ext cx="7236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dovec Zden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edláček Mi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chön Luká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400640"/>
            <a:ext cx="76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BLAŽEK, L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Management II - průvodce studiem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Masarykova univerzita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ICH, A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Etika hospodářství. 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Sv.II. Praha: OIKOYMENH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42:57Z</dcterms:created>
  <dc:creator>Lukáš Schön</dc:creator>
  <dc:description/>
  <cp:keywords/>
  <dc:language>en-US</dc:language>
  <cp:lastModifiedBy>Lukáš Schön</cp:lastModifiedBy>
  <dcterms:modified xsi:type="dcterms:W3CDTF">2006-10-23T18:16:43Z</dcterms:modified>
  <cp:revision>10</cp:revision>
  <dc:subject/>
  <dc:title>Proměny práce a jejich vliv na soudobou společnos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9</vt:lpwstr>
  </property>
</Properties>
</file>