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960F2-4816-4BAF-B930-FADC4822E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B41CA-D8C1-41AA-A24A-C05D8FC1C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A5D3E-D7CE-49E6-B0A5-69B897467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F466C-E4B5-43AB-9C58-01DAE8406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7637C-2B42-40D5-9FF0-201096648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7CC52-EC42-49A3-9757-FC3E3520D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0F163-0FB1-4AAC-BEF0-D8F9F9FAB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A8E1D-21D3-4905-B627-8529DDA17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5E711-6090-4481-B5CD-520C8FEB8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01811-6FB2-4E59-A7E6-F269AFA46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6C606-1E42-48E5-A43A-34B2E007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244D5-7088-4F6B-ABBB-AB580790B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CD493-B148-4575-9CE2-9D010F7F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EB0FC-978C-4DCF-94DD-0314DC0A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02A0E-8DCD-4154-9E87-F8BAE0117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945D8-A2A2-419D-8BF2-154B3AD79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B024D-DEE2-46F1-BEF9-23E59AD1A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C8849-93AE-46A5-866A-C730A63D6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C519B-2237-43AD-A4C5-A3323EF01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9C71F-4F73-48EB-B2A0-8AC92039F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3E738-CEBF-4AE1-B7F7-37B2F4D63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73C6B-572E-4930-83C5-812B9429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D166C-9AF7-49FC-9E31-0E17BB8A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81C01-D9BC-485C-8367-10A3E697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0E5AD-3CBB-4D9C-88F8-0E2654B6AA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A9962-DDAE-42F0-87EE-E62441A1627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Postindustriální společnos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aseková, Havránek, Holek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1. seminární skupina - 2. tý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Úvod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ývoj společenských struktur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znik postindustriální společnosti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naky přechodu od industriální k postindustriální společ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ývoj společenských struktur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ředindustriální „agrární“ společnost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Industriální společnost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stindustriální „informační“ společn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Vznik postindustriální společnosti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. léta – poprvé se objevuje pojem postindustriální společnos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56 – zlomový rok v USA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 rozvojem IT nahrazeno pojmem informační společn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Znaky přechodu od industriální k postindustriální společnosti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ůvodní znaky nástupu nové ér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vá Ekonomika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ormační společnost a společnost vědění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lobaliz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hrnutí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řínosy a nedostatky postindustriální společnost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964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ěkujeme za pozornos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07:22:57Z</dcterms:created>
  <dc:creator>Radek</dc:creator>
  <dc:description/>
  <dc:language>en-US</dc:language>
  <cp:lastModifiedBy>Radek</cp:lastModifiedBy>
  <dcterms:modified xsi:type="dcterms:W3CDTF">2006-10-23T21:34:44Z</dcterms:modified>
  <cp:revision>6</cp:revision>
  <dc:subject/>
  <dc:title> Postindustriální společnost</dc:title>
</cp:coreProperties>
</file>