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1757-038E-4A96-9A2B-540A60FB7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7102-0520-49A2-8888-92E60D5E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E17C-0EBF-4795-9644-A05A7F10B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B092-F196-4942-8A30-7546A0632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1BF0-60CD-4835-8B49-AC8234510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81A7-061E-4EA7-A608-A5B42C04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FAD3A-7894-40EB-B3C7-3AC2A714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B2D4-03EB-480D-BC29-15B0BD8E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E8F2-9F59-44F1-AC3C-DB0F0D56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4A26-E9A0-4896-9BA4-058A69F8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04DD-4B91-46B6-830A-DC7DE0EE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923B-B48C-4275-80B6-0DBCD4E9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5515-C53B-45A0-BA0E-7D5A7847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8B59-05A6-41CA-A2BF-784A551B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A1B7-1CAE-4E86-A94D-C4A7DFF6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CA71-6B33-4381-AADB-31B88E702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4F03-5C8C-4EC7-9899-6CB60B330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9AD9-DF1B-4CEB-A574-2D326DCB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4A37-A49A-4908-9B92-A70E9395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4602-2970-490E-9052-951FDC8C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0EE6-973A-4CF9-AEC9-D8A6DD15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A742-91BB-45AE-81E8-200CF08A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C9D2-FDF3-4D49-A68A-963AF355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E241-6A6F-4219-A7FC-A3AAE54F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00FB-0A69-4C65-AAD8-55690BE510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57CC-E58F-4C4F-884B-57697E30E7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endence současného managemen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ým č.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Zdroj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Trune</a:t>
            </a:r>
            <a:r>
              <a:rPr b="0" lang="cs-CZ" sz="3200" spc="-1" strike="noStrike">
                <a:solidFill>
                  <a:srgbClr val="333333"/>
                </a:solidFill>
                <a:latin typeface="Arial"/>
              </a:rPr>
              <a:t>č</a:t>
            </a:r>
            <a:r>
              <a:rPr b="0" lang="cs-CZ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ek, J. Hledání mana</a:t>
            </a:r>
            <a:r>
              <a:rPr b="0" lang="cs-CZ" sz="3200" spc="-1" strike="noStrike">
                <a:solidFill>
                  <a:srgbClr val="333333"/>
                </a:solidFill>
                <a:latin typeface="Arial"/>
              </a:rPr>
              <a:t>ž</a:t>
            </a:r>
            <a:r>
              <a:rPr b="0" lang="cs-CZ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erského kamene mudrc</a:t>
            </a:r>
            <a:r>
              <a:rPr b="0" lang="cs-CZ" sz="3200" spc="-1" strike="noStrike">
                <a:solidFill>
                  <a:srgbClr val="333333"/>
                </a:solidFill>
                <a:latin typeface="Arial"/>
              </a:rPr>
              <a:t>ů</a:t>
            </a:r>
            <a:r>
              <a:rPr b="0" lang="cs-CZ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 pro moderní podnik 21. stol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ůvodce studiem Management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chmetterer, Bob. Skok do budouc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243792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ěkujeme za pozorno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Úvod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voj manažerských metod, technik a nástrojů postupuje - zejména v posledních letech - neobyčejně rych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niky mají v běžném užívání téměř tři desítky hlavních manažerských met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stliže dovedeme k dokonalosti jednu, i když značně důležitou část systému podnikového řízení, ještě není zajištěno, aby celek dobře fungov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Úspěšné řešení musí být systémové a mělo by pokrýt komplexní systém říz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ba metody musí být výsledkem pečlivého zvažování. Je tedy spíše tvůrčím činem než reakcí na to, co se v managementu právě nos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nom zcela výjimečně je schopna jedna metoda řešit komplexní problematiku efektivního modelu řízení konkrétního podn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Management změn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členil se jako samostatný termín v průběhu sedmdesátých let 20. stolet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ěr managementu spočívající jednak v připravenosti reakcí na vnější či vnitřní podněty (pasivní aspekt) a jednak zaměřený na volbu předmětu změny, její pružnou přípravu, realizaci a využívání (aktivní aspek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Vybrané přístupy managementu změn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orie úzkých mí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stupy trvalého zlepš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mingův zlepšovací cyklus PD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engin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měry zvyšování produktivity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an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odnotová analý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ust i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i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09320" y="2282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Bob Schmetterer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rozen 19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USA, New Y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ývalý předseda Euro RS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lupráce s Intel, Opavia, KB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ílo: „Skok do budoucnosti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Schmetterer,%2520Bob" descr=""/>
          <p:cNvPicPr/>
          <p:nvPr/>
        </p:nvPicPr>
        <p:blipFill>
          <a:blip r:embed="rId1"/>
          <a:stretch/>
        </p:blipFill>
        <p:spPr>
          <a:xfrm>
            <a:off x="5753160" y="0"/>
            <a:ext cx="339084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Nelineární myšlení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klad pro všechny inov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kvivalent tvořiv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yšlení z bodu A (přes B) do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hdy vytlačeno lineár. myš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klad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st v Buenos Ai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ichard Branson – spol. Vir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alší znaky řízení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jímání neobvyklých li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yslexie jako zdroj nelineárního myšlení (tvořivos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vytváření genetických kop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mezení oblasti působ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ezentace (tvořivá a efektiv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lu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kok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xistuje žádný nezajímavý obor podnik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no zbavit se předsud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bát se risko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ýt připraven překročit hra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jovat proti průměr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jmocnějšími propagátory značky jsou zákazníci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čiňte z klientů nedílnou součást tý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8:49:05Z</dcterms:created>
  <dc:creator>Nikos</dc:creator>
  <dc:description/>
  <dc:language>en-US</dc:language>
  <cp:lastModifiedBy>pc</cp:lastModifiedBy>
  <dcterms:modified xsi:type="dcterms:W3CDTF">2006-12-05T07:20:35Z</dcterms:modified>
  <cp:revision>18</cp:revision>
  <dc:subject/>
  <dc:title>Snímek 1</dc:title>
</cp:coreProperties>
</file>