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92B8-5BCA-45C3-AFB9-093C4E8A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D2E9-C56D-4399-8136-410E20C6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5537-CD2D-429B-8618-C2E0EF56A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D203-B805-471D-9FED-40BF5BAC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23AA-B608-4E93-9721-3A620A8B1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8590-6B23-40B9-8893-C18FB079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5803-7E13-4F0A-A61A-54ABA005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6A98-25D8-464E-A311-6C44229D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A4B7-4E66-491D-BA24-CB2BB3D3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BBF8-CD7F-44AD-B40C-AFAF2466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06D6-155C-4EF8-B730-617BD930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D54C-DB07-4E8E-BA1F-F3AFF196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F873-6FA4-42DE-BB94-AE891429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22B0-E404-40C3-9758-4D1FA2A7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64DF-358D-4E7C-97D9-540322FC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7294-17A8-4BE5-B2A4-1FDA7AD82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4D8B-6A02-45C4-9099-3C56A7DB7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1DCD-384B-476B-8EAC-793995E9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1AC2-50F9-40CB-B07A-CD61A367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B813-E199-4E32-A61A-577C9186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5198-E223-498B-896B-88AF49FC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5331-AE7B-4ED6-889A-0B0E01DE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4DB5-8598-43DE-86C8-CCFE4BCE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1E68-2EAA-472F-9C89-8FA75015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3592-B72A-4689-9796-DFA5696060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8103-8D49-4F22-A8CA-8AE51BB3EF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ztah managementu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etologie a antropologie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3703320"/>
            <a:ext cx="3809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m Kotl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vla Lišk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ek Výt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7960" y="4858920"/>
            <a:ext cx="380988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10.200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SKUPINA 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1828800"/>
          <a:ext cx="777240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7724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SKUPINA 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1828800"/>
          <a:ext cx="800100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80010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rá skupina je sestavena ze šimpanzů a která je zapsána v obchodním rejstříku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užitá literatura: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aldikas, B.M.F., Teleki, G.: </a:t>
            </a:r>
            <a:r>
              <a:rPr b="0" i="1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ariations in Subsistence Activities of Female and Male Pongids: New Perspectives on the Origins of Hominid Labor Division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Current Anthropology, Vol. 22, No. 3 (June 1981), pp 241-256.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tani, J.: </a:t>
            </a:r>
            <a:r>
              <a:rPr b="0" i="1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Evolution of Primate Social Structures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Man, New Series, Vol. 20, No. 4 (December 1985), pp 593-611.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cGrew, W.C., Tutin, C.E.G.: </a:t>
            </a:r>
            <a:r>
              <a:rPr b="0" i="1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vidence for a Social Custom in Wild Chimpanzees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Man, New Series, Vol. 13, No. 2 (June 1978), pp 234-251.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anford, C.B.: </a:t>
            </a:r>
            <a:r>
              <a:rPr b="0" i="1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ocial Behavior of Chimpanzees and Bonobos: Empirical Evidence and Shifting Assumptions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Current Anthropology, Vol. 39, No. 4 (August-October 1998), pp 399-420.</a:t>
            </a:r>
            <a:br>
              <a:rPr sz="2000"/>
            </a:b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5:06:01Z</dcterms:created>
  <dc:creator>kluci</dc:creator>
  <dc:description/>
  <dc:language>en-US</dc:language>
  <cp:lastModifiedBy>kluci</cp:lastModifiedBy>
  <dcterms:modified xsi:type="dcterms:W3CDTF">2006-10-15T18:48:31Z</dcterms:modified>
  <cp:revision>4</cp:revision>
  <dc:subject/>
  <dc:title>Prezentace aplikace PowerPoint</dc:title>
</cp:coreProperties>
</file>