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EFFC-5E4A-4D97-8730-97EC5D22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4424-D587-48F2-B206-972687A5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2946-9C3F-4DE7-9CA4-54DEB6C5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8DE6-58F4-4ED3-B0A2-62D8A99F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BB9-9880-4943-8BC1-4F9882FF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06A-BAC8-408C-A560-F80923E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B43E-7EB8-4EB3-A27D-7A894687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8E8E-551C-405D-B9FD-523A90A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F1C-206A-4E48-9856-C93F8E9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F6A-86A4-490B-9F1A-D89BEA7C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622F-76DE-47ED-A2BE-50C15E8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0908-1CF2-4079-878F-4F85208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2E9-6553-48D3-BC1E-53217C8C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22CA-F3AA-42AB-82FD-F481D96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3EF-4C6F-4EE0-8373-E12F39FA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6F66-9B86-4E04-BF80-348E6F46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D49-2625-4401-81EF-A649BFEA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DB44-3594-4D4F-8711-0A86E86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B3FD-E44A-4C86-AD76-D23F9DB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E925-9A15-443F-B930-02BBC02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29CB-24A0-4DFE-AE4C-29CAC0C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7F89-6E4B-48C5-B71E-4A3800F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381A-6E3D-49A0-98EB-0965960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31A4-EE4A-444A-B052-7D9CB34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2111-036E-4971-B192-87CAD409BD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5A5B-3980-4450-A6B0-F8A57739C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i="1" lang="en-US" sz="5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OMĚNY PRÁCE A VÝVOJE PODNIKŮ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28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 návaznosti na obecně se zvyšující životní úroveň a s tím související  změny nároků člověka na práci, se tato práce stávala neatraktivní, stále méně lidí bylo ochotno takovou práci vykonávat, rostla fluktuace a absentérstv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tivita stagnovala, náklady rostly, efektivnost se snižoval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70. léta – v rámci humanizace přechod k tzv. „rozšiřování práce“ („job enlargement“) a „obohacování práce“ („job enrichment“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nik autonomních pracovních tým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mputerizace – nahrazení manuální práce počítač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NC - technika (computerized numerical control) – nástup výrobních robot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M – (computer aided manufacturing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dělníka se stává operátor a programá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požadavky na kvalifik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01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syst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NC (distributed numerical contro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D (computer aided desig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P (computer aided planning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snižování náklad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hrazování manuální práce technik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ouvání celé výroby do méně vyspělých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nezaměstnanosti málo kvalifikovaných pracovník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dobé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dklon od manuální práce k práci s moderními technologiemi a informacem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nimalizace mezilidského konta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cit izolovanosti a osam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áce se stává abstrakt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upný návrat k původní komplexnosti práce z preindustriální společno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OVETSKY, G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umrak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: Prostor, 1999. ISBN 80-7260-008-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CH, R.B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 : Vize 97, 2003. ISBN 80-86181-60-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, A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hospodářství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v.II. Praha: OIKOYMENH, 1994. ISBN 80-85241-62-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 nástupem industrilalizace dochází k rozvoji řeme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é nároky na kapitálovou vybavenost, hlavním faktorem je práce, zručnost řemeslní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meslník byl zároveň kapitalistou – vlastnil používaný kapitál, řídil výrobu, kterou také sám vykoná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byla orientována na výrobek, řemeslník vyrobil celý výrobek sám, vlastním tvůrčím způsob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mezi více osob podstatně zvyšuje produktivitu prá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chází ke zhromadňování výroby, specializaci a ko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 průmyslových podnicích je instrumentální technologie nahrazována technologií strojov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roky na kapitál, jež se stává hlavním výrobním faktorem – klesá počet podnikatelů, vzrůstá počet námezdně pracujíc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ictví faktorů kapitálu a práce bylo odděleno, což vede k třídnímu rozdělení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 řemeslníka, který tvořil celý výrobek sám, se stává námezdní dělník provádějící jen jednu výrobní 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ces zhotovování výrobku se dělil na stále více operací, současně se stále větším využíváním strojů – z dělníka se stává obsluhovatel st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užívání strojů nazýváme racionaliz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išujeme tyto stupně racionaliza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1. stupeň - Prvními stroji můžeme nazývat nástroje, typické pro řemeslnou činnost, časem přestává být jejich pohonnou silou síla člověka a je nahrazena pohonnou silou stroje. Nedochází však k nahrazení lidské zručnosti. Mluvíme tedy o „nesamostatných strojích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2. stupeň - Běžící výrobní pás přichází spolu s velkovýrobou. Produktivita práce je opět zvýšena. Dělník již neovládá stroj, spíše stroj ovládá dělníka, který se musí tempu stroje přizpůsobit a vykonává pouze tzv. zbytkové operace, v podstatě dohlíží na správné fungování str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44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ševní činnost spojená s plánováním, organizováním a přípravou výroby byla důsledně přenesena na specialisty - mistra, plánovače, technologa, seřizovač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itivní nezajímavá práce dělníků nebyla dostatečně motivují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louhodobě nepomáhaly ani finanční stimuly, zlepšováním vnějších pracovních podmínek a uplatňováním doktríny lidských vztahů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25T19:21:05Z</dcterms:modified>
  <cp:revision>39</cp:revision>
  <dc:subject/>
  <dc:title>Druhá vlna  </dc:title>
</cp:coreProperties>
</file>