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13C0-D984-4DB3-9FD4-2C3710EE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94D-7957-4B6B-94B9-255491BA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43E2-16A9-4C4F-8993-2A69283D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683-BFC8-4EEF-A236-C36ABF24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7A66-6C4A-4C46-8D96-CB112CCB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3095-E058-42E1-83EB-C6ACD918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F401-4DD0-4CA2-999A-60ADF7BE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50DA-C352-49B8-9073-C89BFA43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92C2-FE23-45D8-9CFC-D8843E63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7975-61B6-4BA7-9D20-F43BAC6A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5F4E-331C-4EA3-B1ED-61241FF8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1D9-8445-489E-8C97-6F4F5725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F767-9ED3-424A-9533-9059EF23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6D2A-194D-425B-896C-778D53A7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F2E9-9C50-49B3-9292-669C0246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1DA4-F2CA-4D3A-8D21-D5C52985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F700-AD9A-4CC7-A3FE-213FB245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70DF-25A8-4F91-9F24-3138175C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487-7F53-4B90-B22A-DF64583C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7849-EF17-42CF-9511-2EE73F00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75A-66D1-408F-B125-D2D99480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3A20-FFA8-4A11-AAB4-F1B333E1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53A2-621E-4645-82B3-599F02EC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42D1-FB60-4E5A-84C4-C424A0FE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4C1F-B2A8-4318-BD5A-F70D112EA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DF0F-590B-4EDB-A113-C291DD23486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0920" y="1295280"/>
            <a:ext cx="52578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86950"/>
                </a:solidFill>
                <a:latin typeface="Times New Roman"/>
              </a:rPr>
              <a:t>Strategické aliance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876920" y="297144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Vypracovali: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Ondřej Chlup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         </a:t>
            </a: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Petr Procházka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         </a:t>
            </a: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Lukáš Przybylski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trategické aliance zaměřené na 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redukci konkurenčních střetů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čátky od pol. 80.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víjení spolupráce dřívějších klasických konkurent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M –  Toyot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montáž automobilů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M –  Daewoo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ýrobní kooperace součástí a dílů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emens –  Philips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ývoj mikroelektronik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emens –  Fujitsu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nákup PC a částí PC technologi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ord –  Mazd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prodej náhr. dílů partnera na svém domácím tr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ěžko kontrolovatelné nadnárodní vztahy (strategické aliance uzavřené často neformálními dohodami) vedly k ohrožení volné soutěž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4876920"/>
            <a:ext cx="99072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DA0-AAE8-473F-B398-D73D153EFC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Teoretické východisko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 články uveřejněné v časopise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rvard Business Revie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54f41"/>
                </a:solidFill>
                <a:latin typeface="Times New Roman"/>
              </a:rPr>
              <a:t>Gary Hamel, Yves L. Doz a C.K. Prahala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cc0000"/>
                </a:solidFill>
                <a:latin typeface="Times New Roman"/>
              </a:rPr>
              <a:t>Collaborate with Your Competitors – and Wi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„Spolupracuj se svými konkurenty – a vyhraj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r.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54f41"/>
                </a:solidFill>
                <a:latin typeface="Times New Roman"/>
              </a:rPr>
              <a:t>Kenichi Ohma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cc0000"/>
                </a:solidFill>
                <a:latin typeface="Times New Roman"/>
              </a:rPr>
              <a:t>The Global Logic of Strategic Alliance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„Globální logika strategických aliancí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r.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54f41"/>
                </a:solidFill>
                <a:latin typeface="Times New Roman"/>
              </a:rPr>
              <a:t>Rosabeth Moss Kantero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cc0000"/>
                </a:solidFill>
                <a:latin typeface="Times New Roman"/>
              </a:rPr>
              <a:t>Collaborative Advantage: The Art of Alliance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„Výhoda spolupráce: Umění aliancí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r.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ztrácet síly vzájemným bojem. Obejít střety s konkurenty vytvářením společných strategických aliancí. Účelem nejen vyhnout se „krvácení v konkurenčním zápolení“, ale i posílit vlastní pozi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3886200"/>
            <a:ext cx="10666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249-9E8D-4006-8AE8-56326D8229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Základní obecná doporučení ke spolupráci s konkurenc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artneři se mohou snažit vás odzbroj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ěkteré konflikty a nebezpečí motivují manažery ke zlepšení jejich výkon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aždá kooperace má svá omezení a vyžaduje umění dělat kompromis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polupráce s konkurenty může být velmi hodnotným zdrojem učení 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trategická aliance umožňuje monitorovat konkurentovy schopnosti, silné a slabé stránk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ůže být dočasným partnerstvím v boji proti jinému silnějšímu konkurentov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AC19-E62A-48C1-8C28-600ED97B38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íťové aliance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jdříve dvojstranné aliance s konkur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es bilaterálnost nahrazována mnohostranností, vznikají různé typy síťových alian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úko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tvořit kritický potenciál pro prosazení určité podnikatelské strategické politiky sítě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jistit nebo zlepšit ochranu partnerů před ostatní konkuren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A6A-1355-4C52-8C14-864D2F3065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Uzlová pozice v síťové alianci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lná strategická pozice firmy na „uzlové pozici“ v síti („nodal position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možňuje firmě být lídrem rozvoje dané oblasti podnikání a získat hlavní podíl zis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ganizace v uzlové pozici si klade cíle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at existující, popř. vytvářet nové podnikatelské příležitos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ískat včas do své sítě potenciální i reálné konkuren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tabilizovat si rychle uzlovou pozici a stát se lídrem určité oblasti s ofenzivní strategií („first mover“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tom je nutné, aby pro partnery bylo výhodné být součástí sít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9D8-CD8F-49AF-BB33-93F5B6B204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trategické aliance zaměřené na 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vznik, přenos a využití znalost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ědeckotech. rozvoj v 2.pol. 90.let      inovační rozvoj podnikatelské činnosti v globální společnosti         tendence rozvoje strategických alian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slání aliancí se rozšiřuje o umění získávat, sdílet, osvojovat si a hlavně zhodnocovat data, informace a znalosti pro podnikatelskou čin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užití internetu k usnadnění a zrychlení propojení partnerů v alianci, systémy e–business, e–banking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irma, která si vytvoří přednostní přístup k potřebným informacím a disponuje relevantním znalostmi, má ve stále větší míře rozhodující konkurenční výho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213372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43828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876920"/>
            <a:ext cx="13716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BF11-118C-4A3A-A682-5BCEA7138A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Typické možnosti využit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rychlit inovační a další změny výrobního programu transferem technologií a dalších relevantních znalostí part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ychle a účinně zlepšit profesní a kvalifikační profil manageme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lepšit image organizace vůči zákazníků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užitím informací a informačních kanálů partnera snadněji získat potřebné informace a znal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ískat potřebné informace o samotném partnerovi pro případ budoucího rozchodu, meržingu a akviz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E1E6-C2B8-4A36-936B-CC73C03EC7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KONEC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BEA-120D-435C-9014-21F9F8AFEC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Použitá literatura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DÁČEK, L., VODÁČKOVÁ, O.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ké aliance se zahraničními partner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raha : Management Press, 2002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EBER, J. a kol.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ment. Základy, prosperita, globaliza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Praha: Management Press, 2000.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GNER, I.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z pohledu všeobecného a celostníh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rno : Masarykova univerzita, 200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N HRON, IVANA TICHÁ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trategické aliance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ha: Česká zemědělská univerzita, 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BD59-85D2-488C-A370-4A5E3A2A64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Definice pojmu „Strategické aliance“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uje větší počet defini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finice, kterou uvádějí Jassica Lipnacková a Jaffrey Stamps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„Podniky vytvářejí aliance, aby si zajistily specifické podnikatelské potřeby a mohly zareagovat na příležitosti, které nemohou zvládnout interními silami. Společně pracují na dosažení svých strategických cílů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527-50D7-4E81-BE0A-658D22ED3B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Problém s názvoslovím v literatuře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rategic all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operative Ven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operation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firm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al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rporate All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llaborative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rategic Partn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AAF-4C6B-45DE-A21C-743381D087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Základní formy strategických alianc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olné“ form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příležitostná spolupráce, „tiché“ neformální doh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rategické alian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v užším pojetí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Joint ven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ěsné form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fúze, splynutí, akviz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B29-9261-439B-AF30-7A9A8753B2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Rozdělení strategických aliancí podle různých kritéri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unkční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výrobní, marketingové, výzkumné a vývojové, prodejní, finanční, investiční…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eritoriální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tuzemské, zahraniční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Organizační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horizontální, vertikální, síťov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Vlastnické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soukromé, veřejno-právní alia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Hledisko cílové orientac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ziskové, neziskov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Hledisko trvání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příležitostné, krátkodobé, dlouhodob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1C42-764F-42EF-81F9-286B1E90B3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Strategické aliance v moderním podnikání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dnikání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realizací lidské vlastnosti podnikavosti, tj. schop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vit (identifikovat), a/ne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měrně vytvoři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k návazně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účeln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účinn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užít příležitosti, které podnikatelskému subjektu vznikají z aktivní spolupráce s okolí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 spolupráce (kooperace) s podnikatelským okolí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zitivní koope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ativní kooper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A50-D5A6-4187-BF68-57943C010A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xistenc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izi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neurčitost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pro podnikání typická. Přiměřená rizikovost je jedním z hlavních kritérií zda partnerství uzavřít či neuzavří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pomáhají úspěchu jak vnějšího („enterpreneurship“), tak vnitřního („intrapreneurship“) podnikání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Strategické aliance v moderním podnikání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0CD-58BB-417B-B434-83C5257690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Klasifikační uspořádání strategických aliancí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zaměřené 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dílení činností a zdrojů partnerů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(od poč. 80. let min. stolet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zaměřené 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dukci konkurenčních střetů (negativní kooperace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(přelom 80. a 90. let min. stolet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zaměřené 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znik, přenos a využití znalost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(od poč. 90.let min stolet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7A4D-7DB3-415C-95B9-F92D0238DF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trategické aliance zaměřené na 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sdílení činností a zdrojů partnerů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Teorie integrovaného řízení – systematické řízení procesu účelného a účinného přiřazování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třebných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činnost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třebných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zdroj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Uvažované procesy přiřazování činností a zdrojů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probíhají v prostoru a ča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Vhodná volba procesů =&gt;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pozitivní integrační, popř. synergické efekty spoluprá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E25F-2FC0-4D32-92D2-5A3CE3DF81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2:09:41Z</dcterms:created>
  <dc:creator>Nada Chlupova</dc:creator>
  <dc:description/>
  <dc:language>en-US</dc:language>
  <cp:lastModifiedBy>99900</cp:lastModifiedBy>
  <dcterms:modified xsi:type="dcterms:W3CDTF">2006-10-18T09:52:58Z</dcterms:modified>
  <cp:revision>12</cp:revision>
  <dc:subject/>
  <dc:title>Strategické aliance</dc:title>
</cp:coreProperties>
</file>