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62B2-D060-4DF6-B9CC-3DA9B731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BFEC-796E-4A88-91C5-66C9A348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2813-00DD-4B44-B82D-9254313C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7AF1-842B-4F00-819C-77153214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4333-E687-4CAB-B23F-437D45D9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EC7A-3E7B-4ADC-B1E6-C92CF830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4C8A-57BC-45BA-9CC1-A03FFFC1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F44D-052C-4676-9BA9-077F8AE0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7911-808C-49B2-AC8A-246D30BD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7DBE-3C80-44A8-BA75-E755EC11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22E6-562A-47AD-974F-FA43A547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CD9B-56E4-4922-9903-AF236B43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D5F3-95B1-49CE-9E8B-C47E1990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F006-692B-4D25-B478-F9049341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64E4-8DD1-4F0D-8801-9FA0F137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133F-35D0-4C0E-BF3E-028D955C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F10A-6480-4B12-BDA3-D53F162A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71C7-C2A6-4116-BA84-5D1521DB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71EE-2565-4126-8EBE-70F2407D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EA8D-7354-41F9-8A1B-9E8E8148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232A-A43B-4597-970A-429ED185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B571-72C3-4128-A449-5CD0ED01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7D3F-5EF4-47AF-8960-DFEB6FD3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B556-0056-4F8E-857D-8A3F427A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1012-8478-4943-AF39-9E23F05DCD18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9D29-EEC4-4F2A-B025-B5DA4FAE00DA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c66"/>
                </a:solidFill>
                <a:latin typeface="Arial"/>
              </a:rPr>
              <a:t>Současné a budoucí tendence společnosti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723888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pracoval: Jan Fronček, David Malík, Nikola Zacha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Gary Hamel – globální konkurence I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kurence není naším nepříte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tváření budoucnosti bez použití starých strategických nástroj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ecně špatné chápání globální konkurence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onkurenci nelze chápat jako souboj mezi stá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416560" y="1981080"/>
            <a:ext cx="22716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Gary Hamel – globální konkurence II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jem kontinentální krátkozrak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anagement a budoucnost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ávod může vyhrát jen ten, kdo chce dát dohromady účelnou strateg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tvořit v podniku hierarchii představivo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át větší slovo lidem, kteří byli doposud z procesu tvorby strategie vyloučeni </a:t>
            </a:r>
            <a:r>
              <a:rPr b="0" lang="cs-CZ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mladí lid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Michael Hammer – koncepce týmu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anagement utvořený podle předrevolučního obdob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říve pojem nemyslícího dělníka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nes není potře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třeba výkonných procesů, které vedou k výsledku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oncepce tý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29280" y="1981080"/>
            <a:ext cx="284796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Společná myšlenka autorů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Times New Roman"/>
              </a:rPr>
              <a:t>Orientace na asijský trh, dotváření fungujícího kapitalismu a spolupráce na všech podnikových úrovní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Zdroj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ibson, R.: Nový obraz budoucnosti. Management Press, Praha, 2002, 2. vyd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kripta Management II, Brno, 2006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ttp://en.wikipedia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DĚKUJEME ZA POZORN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Industriální společnost - histori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dobí druhé poloviny sedmnáctého a první poloviny osmnáctého století můžeme datovat jako nástup Druhé vlny - počátek industriální společnosti v nejvyspělejších zemích světa daného obdob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íčiny vzniku druhé vl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jev Nového světa, růst počtu obyvatelstva, který povzbuzoval přesuny do měs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čerpání lesů, vedoucí k využívání uhlí → parní stroj → nebývalé možnosti rozšíření výroby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ozšiřování vědeckých poznatků využitelných v technické praxi, rozvoj "industriálního" myšlení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nalezení knihtisku, růst gramotnost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Industriální společnost - charakteristik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incipy industriální společnosti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 dominantní princip industriální společnosti lze považovat princip oddělení výroby a spotřeby. Na tento princip pak navazují další principy, a to princip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ělby práce na základě specializ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ynchron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andardizac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oncentr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aximaliz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entraliz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Postindustriální společnost - histori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60. léta 20. stole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tagonista myšlenky postindustriální společnosti - Daniel Be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polečnost informační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polečnost věd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dividualizace, universalismus, decentralizace, územním rozptýlení a rozvolnění časových struktu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Postindustriální spol. - charakteristik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ustá komunikační sítˇ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vá ekonom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formační technologie (interne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lobaliz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form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olečnost konzumní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sychická stránka a prožíván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kolog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Industriální x Postindustriální společnos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voj  výroby x Rozvoj služeb a informační techni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ětšinoví reprezentanti: Dělníci x Bílé límeč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valita života: Hrubý domácí produkt x Míra kultivace a uplatnění jejího lidského potenciá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iority: materiální x postmateriál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konomie hlavního proudu x Nová ekonom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Obraz budoucnosti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ec postindustriální éry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dobí informační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árůst informací a informačních systém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hmotnění informací, ochota za ně zaplat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udoucí vývoj společnost z pohledu tří významných světových autorů, viz. dá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Charles Handy - budoucnos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267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udoucnost není pokračováním minu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nezbytné mít náskok před problémy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elze je pak vyřešit bez ztrá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třeba podílet se na utváření budouc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olečnost začíná být nezvladatelná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á již vlastní rozu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75280" y="1981080"/>
            <a:ext cx="295596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Charles Handy – hospodářský pokrok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spodářský pokrok = planý přísli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vyšující se sociální rozdí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nba za hospodářským růstem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še na úkor životního prostředí a pracujících lid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apitalismus jako systém závislý na lidech a jako mechanismus, který nemá cíle a představuje sociální b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06-10-16T19:31:09Z</dcterms:modified>
  <cp:revision>24</cp:revision>
  <dc:subject/>
  <dc:title>PowerPoint Presentation</dc:title>
</cp:coreProperties>
</file>