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4063B-E4BD-45E3-85A1-81124312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6A095-6FB5-4A0D-867B-5A51AE3E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D2CB5-6775-4943-9AB5-5E61747A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B4661-8981-433A-BA32-14F7FCC9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B056-BE87-4A10-815C-0D2B049C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7F1B-D00C-4E0D-9ECC-3ED44A4A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B55F-5461-4A06-A3CD-ABC0CA76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837E-6B4A-4E77-BD9D-03FD506A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8136-8619-4147-BCB6-46698E93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63CB-18EF-4AAE-9049-9B05E1B2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9681-0C0C-4FEF-945E-1C0AA832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08349-CF92-4555-9154-3E5D9169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B3DC-4667-42CF-A13D-F2797E6A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0A7D-4195-4602-A2DC-822EF321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911B-E7E4-4ADE-AB07-DB7032E7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DE92-8ED5-4F49-A212-B11993D7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C0F7-F707-401A-9C4B-A0BB553D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0B1E9-E479-4978-8744-171FB3E8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AEF87-8E96-45F0-BD9E-8A9F5468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90E4C-A3D7-4E7D-B4B9-5DDBCD73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791EE-9FB8-4FA0-A78B-AC781811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DFA27-5BE1-4346-9F64-798F243E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5AFEA-9059-49BA-A44F-15F8099F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D3901-3059-48C4-8DA8-6A886581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5F7A-F651-40A0-9575-47A5A37DD0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A691-6E2B-4081-9832-463912C144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e5ff"/>
                </a:solidFill>
                <a:latin typeface="Book Antiqua"/>
              </a:rPr>
              <a:t>Winfried M. BAUER</a:t>
            </a:r>
            <a:r>
              <a:rPr b="1" lang="cs-CZ" sz="4400" spc="-1" strike="noStrike">
                <a:solidFill>
                  <a:srgbClr val="e5e5ff"/>
                </a:solidFill>
                <a:latin typeface="Book Antiqua"/>
              </a:rPr>
              <a:t> </a:t>
            </a:r>
            <a:br>
              <a:rPr sz="4400"/>
            </a:br>
            <a:r>
              <a:rPr b="1" lang="cs-CZ" sz="4400" spc="-1" strike="noStrike" u="sng">
                <a:solidFill>
                  <a:srgbClr val="e5e5ff"/>
                </a:solidFill>
                <a:uFillTx/>
                <a:latin typeface="Book Antiqua"/>
              </a:rPr>
              <a:t> TYRANIE BLAHOBYTU</a:t>
            </a: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vybrané myšlenk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Vypracovali: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avla Slezák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etr Goliá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Georg Sieger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Book Antiqua"/>
              </a:rPr>
              <a:t>Použitá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auer W. M., </a:t>
            </a: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Tyranie blahobyt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Volvox Globator 199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Krize individu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218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ioritou dnešního člověka je naplňování pouze materiálních potřeb. Navíc se se svou prací jen málokdy identifikuje a tak se dostává do jakési  schizofrenie. Stává se dezorientovaným, ztrácí vůli k dosahování cílů a pak i cíle samotn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640" y="452088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to je potřeba člověku/zaměstnanci poskytnout více podnětů, aby se mohl s prací identifikovat. Člověk by neměl být hrdý pouze na to, že dokázal zvýšit prodejnost pracího prášku o 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Motivace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Úspěch firmy je záležitostí vedoucích pracovníků - postoje, charakterové vlastnosti a znalost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e potřeba, aby se i manažer identifikoval se svou prací, aby pouze nedemonstroval svoji neomylnost a autoritu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" y="4149720"/>
            <a:ext cx="821844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dniky by se měly více soustředit na své zaměstnance, aby se z nich nestali pouze „němí příjemci povelů“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Proměna pracovního světa používáním počítač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vztahu mezi prac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a praco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k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interakce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mezi lid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bsence lidsk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rozumu m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ůž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 k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nebezpečným chyb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 v sys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→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le : Ten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to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proces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elze zastavit a nedá se proti němu bránit.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A je nezvratný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Fascinace absurdito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Přestože lidé používají racionální způsob myšlen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trvaj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í absurdi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bvence zemědělstv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Znečišťování životního prostřed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Výuk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ško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a univerzi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neřeš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 současn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prob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hání exaktních vě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vojí odpovědnost manaže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1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stane-li se organizace do problémů, mění se odpovědnost manažera vůči podřízeným (společenskému blahu) v odpovědnost vůči vlastníkovi, potažmo sobě (blahu eg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9280" y="436536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 překotnými a obtížnými hospodářskými změnami v posledních desetiletích vzájemná lidská solidarita mizí, jako bychom pro ni v sobě nevybudovali dostatečně pevnou půd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323640" y="4941360"/>
            <a:ext cx="7753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4292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357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ůležitá role komunik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Vývoj světového dění je do té míry dynamický a schopný znatelné odezvy na jakékoliv další jednání člověka, že: BUDOUCNOST OVLIVŇUJEME VŠÍM, CO ČINÍME A JEŠTĚ VÍCE TÍM, CO NEČINÍ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Komunikujeme skrz činy, slova, práci, vztahy, chování či posto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KOMUNIKUJME UVĚDOMĚLE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Uvědomělý život a jeho úskal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9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Žít život uvědoměle znamená vzdát se do určité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míry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své stávající společenské ro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9280" y="3860280"/>
            <a:ext cx="814716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dložit svou roli znamená dostat se do konfliktu, který se často mění v pokus násilím dosáhnout toho, čeho je možné dosáhnout pouze „chůzí po špičkách“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5e5ff"/>
                </a:solidFill>
                <a:latin typeface="Book Antiqua"/>
              </a:rPr>
              <a:t>Muhammad Júnus, bangladéšský ekonom a jeho banka Gramín = nositel Nobelovy ceny míru za rok 2006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banka založena roku 197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poskytuje mikroúvěry milionům nejchudší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v rámci skupiny Gramín existuje na 2 tucty společností fungujících na neziskové bázi a jsou vzájemně propoje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funkčnost modelu potvrzuje jeho převzetí ve více než sto zemích svě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Muhammad Júnus se řídí úslovím: „Dáte-li člověku rybu, nasytíte ho na jeden den. Naučíte-li ho ryby chytat, nasytíte ho na celý život.“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3:41:39Z</dcterms:created>
  <dc:creator>počítač</dc:creator>
  <dc:description/>
  <dc:language>en-US</dc:language>
  <cp:lastModifiedBy>Pavla</cp:lastModifiedBy>
  <dcterms:modified xsi:type="dcterms:W3CDTF">2006-10-16T10:49:26Z</dcterms:modified>
  <cp:revision>11</cp:revision>
  <dc:subject/>
  <dc:title>Snímek 1</dc:title>
</cp:coreProperties>
</file>