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6FF-C159-4419-A1DE-BA1FAAD1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A9E-F19E-4593-B953-5694072D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6EF-F1F3-4BB2-9A04-D7470C8F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34A-D15B-4E0E-90FD-EBB620CF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8F6D-3100-48D0-9DBA-FCFA55FC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C947-5D6E-406B-BE7F-7817AD50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53C2-704D-4708-809D-94FCA2F5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1F97-AD90-4F34-9AF1-D49E4FA5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B80F-C159-4CF0-9821-7A6E7EAF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6CC0-268D-4B69-96D6-0EAC89D4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AFC6-E17C-4729-90B5-A948D5FF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E48-C7AB-496D-B4F0-F99F87B6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953C-FB37-4B4D-8C74-5283DC24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5B14-7D97-4BF2-B17B-0F51C043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75EF-8749-407B-83D8-D9B2EF82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0082-F085-4D5C-B8CD-182C76DC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6015-885F-4460-A421-BBF511C6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7F8-9646-4B26-9493-9F6DB51F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751-E266-476B-80B9-67A12869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90DD-844E-497F-A9EC-7B491EF7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00F-10EC-47BE-8D12-7C13BA5A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A64-8AC0-481D-9A2F-459ADA34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080-143F-4A83-850C-E324F9E2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CFA-F106-4AA3-8C46-C7763436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4520-9382-46E6-A3CE-B6286F6563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9DC5-5836-4FE6-90A3-68ED72A24F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CHARAKTERISTICKÉ RYSY A ZÁKLADNÍ PRINCIPY INDUSTRIÁLNÍ SPOL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</a:rPr>
              <a:t>EČ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NOSTI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ým č. 7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etr Suchá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Martin Simersk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máš Vobeck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494280"/>
            <a:ext cx="899172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 dělby práce na základě specializace</a:t>
            </a:r>
            <a:endParaRPr b="0" lang="en-US" sz="4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verzalita         specializace ve výrob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ůst produktivity prá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ůst kvality prá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Nutnost koordin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Mar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6668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ford" descr=""/>
          <p:cNvPicPr/>
          <p:nvPr/>
        </p:nvPicPr>
        <p:blipFill>
          <a:blip r:embed="rId6"/>
          <a:stretch/>
        </p:blipFill>
        <p:spPr>
          <a:xfrm>
            <a:off x="0" y="2590920"/>
            <a:ext cx="3505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synchron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Nutnost synchro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znik managemen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ozšíření do celé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Č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21337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ostatni001%20-%2012" descr=""/>
          <p:cNvPicPr/>
          <p:nvPr/>
        </p:nvPicPr>
        <p:blipFill>
          <a:blip r:embed="rId4"/>
          <a:stretch/>
        </p:blipFill>
        <p:spPr>
          <a:xfrm>
            <a:off x="0" y="2057400"/>
            <a:ext cx="309564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standard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98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kátní výrobky          standardní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fikace společnosti – masová k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Byrokracie (We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1337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byrokracie%20-%2013" descr=""/>
          <p:cNvPicPr/>
          <p:nvPr/>
        </p:nvPicPr>
        <p:blipFill>
          <a:blip r:embed="rId4"/>
          <a:stretch/>
        </p:blipFill>
        <p:spPr>
          <a:xfrm>
            <a:off x="0" y="2286000"/>
            <a:ext cx="365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koncentr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Důvod – rostoucí děl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práce a speci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Územní koncent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Rozvoj tová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Urban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Koncentrace kapitá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Oligopolizace tr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dez03_megapolis_tokyo%20-%2014" descr=""/>
          <p:cNvPicPr/>
          <p:nvPr/>
        </p:nvPicPr>
        <p:blipFill>
          <a:blip r:embed="rId4"/>
          <a:stretch/>
        </p:blipFill>
        <p:spPr>
          <a:xfrm>
            <a:off x="0" y="2438280"/>
            <a:ext cx="43052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maximal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ím více, tím lépe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Vznik gigantických podni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Zvyšování spotřeby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Bez%20názvu%20-%2014" descr=""/>
          <p:cNvPicPr/>
          <p:nvPr/>
        </p:nvPicPr>
        <p:blipFill>
          <a:blip r:embed="rId5"/>
          <a:stretch/>
        </p:blipFill>
        <p:spPr>
          <a:xfrm>
            <a:off x="0" y="1981080"/>
            <a:ext cx="28195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central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Centralizace moc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Proces centralizace moci v Evropě spojen s posilováním moci stá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Centralizace moci probíhá ve dvou rovinách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100000"/>
              </a:lnSpc>
              <a:spcBef>
                <a:spcPts val="45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Centralizace politické moci – vytváření nadstátních cel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100000"/>
              </a:lnSpc>
              <a:spcBef>
                <a:spcPts val="45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Centralizace podnikatelské moci – vytváření gigantických podni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108386-evropska-unie%20-%2013" descr=""/>
          <p:cNvPicPr/>
          <p:nvPr/>
        </p:nvPicPr>
        <p:blipFill>
          <a:blip r:embed="rId3"/>
          <a:stretch/>
        </p:blipFill>
        <p:spPr>
          <a:xfrm>
            <a:off x="5105520" y="1905120"/>
            <a:ext cx="1838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465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B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udoucí vývoj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 (kam směřujeme?)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Zrychlování výv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třety národů z různých v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víjení druhé a nástup třetí vl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Další vlny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Děkujeme za pozorno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Použitá literatur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Šok z budoucnosti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. Praha : Práce, 199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The Third Wawe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. New York 198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, TOFFLEROVÁ, H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 Nová civilizace. 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raha : Dokořán 200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Vývoj společnost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23920" y="18288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Neustále se zrychlu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robíhá ve vlná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lny se prolín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evoluce%202" descr=""/>
          <p:cNvPicPr/>
          <p:nvPr/>
        </p:nvPicPr>
        <p:blipFill>
          <a:blip r:embed="rId4"/>
          <a:stretch/>
        </p:blipFill>
        <p:spPr>
          <a:xfrm>
            <a:off x="0" y="2743200"/>
            <a:ext cx="4343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vní vln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8. tisíciletí př.n.l. – 17. Stole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Starověké i středověké civi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Národy primitivní (sběr) či civilizované (obdělávání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6404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Specifika preindustriální společnosti</a:t>
            </a:r>
            <a:r>
              <a:rPr b="0" lang="cs-CZ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Zemědělská společnost založená na vlastnictví pů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aždý produkt byl unik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Decentralizované hospodářs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Minimální dělba 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Univerzální výrob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Omezená smě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ův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Autoritářská pravom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vykopavky%20-%204" descr=""/>
          <p:cNvPicPr/>
          <p:nvPr/>
        </p:nvPicPr>
        <p:blipFill>
          <a:blip r:embed="rId9"/>
          <a:stretch/>
        </p:blipFill>
        <p:spPr>
          <a:xfrm>
            <a:off x="5715000" y="3352680"/>
            <a:ext cx="3429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Výjimky První vln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tarověké Řecko a Ř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Babylon a starověký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Asie a Jižní Amer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191120"/>
            <a:ext cx="7162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Zvolna se vyvíjející spole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=&gt;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Průmyslová revolu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yramidy%20-%205" descr=""/>
          <p:cNvPicPr/>
          <p:nvPr/>
        </p:nvPicPr>
        <p:blipFill>
          <a:blip r:embed="rId4"/>
          <a:stretch/>
        </p:blipFill>
        <p:spPr>
          <a:xfrm>
            <a:off x="6248520" y="2057400"/>
            <a:ext cx="28954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9144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Druhá vlna</a:t>
            </a:r>
            <a:br>
              <a:rPr sz="4400"/>
            </a:b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- nástup industriální společnost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743200"/>
            <a:ext cx="6400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2. pol. 17. – 1. pol. 18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říčiny vzniku Druhé vln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Objev Nového svě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ůst počtu obyvatel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yužití parního 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Industriální myšl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šiřování mezilidské komunik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vlak-cerny%20-%208" descr=""/>
          <p:cNvPicPr/>
          <p:nvPr/>
        </p:nvPicPr>
        <p:blipFill>
          <a:blip r:embed="rId6"/>
          <a:stretch/>
        </p:blipFill>
        <p:spPr>
          <a:xfrm>
            <a:off x="5410080" y="2514600"/>
            <a:ext cx="3733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y industriální společnosti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94920" y="2362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889280"/>
            <a:ext cx="8610480" cy="66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oddělení výroby od spotře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rincip dělby práce na základě speci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ynchron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tandard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oncen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maxim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centr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tovarna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9528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417960"/>
            <a:ext cx="899172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oddělení výroby od spotřeby</a:t>
            </a:r>
            <a:endParaRPr b="0" lang="en-US" sz="4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23920" y="205740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Dominantní princip industriální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Oddělení role výrobce a spotřebi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Smě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ozvoj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Bez%20názvu%20-%2010" descr=""/>
          <p:cNvPicPr/>
          <p:nvPr/>
        </p:nvPicPr>
        <p:blipFill>
          <a:blip r:embed="rId5"/>
          <a:stretch/>
        </p:blipFill>
        <p:spPr>
          <a:xfrm>
            <a:off x="0" y="2362320"/>
            <a:ext cx="44956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28:15Z</dcterms:created>
  <dc:creator>Petr Suchánek</dc:creator>
  <dc:description/>
  <dc:language>en-US</dc:language>
  <cp:lastModifiedBy>Petr Suchánek</cp:lastModifiedBy>
  <dcterms:modified xsi:type="dcterms:W3CDTF">2006-09-15T09:16:01Z</dcterms:modified>
  <cp:revision>5</cp:revision>
  <dc:subject/>
  <dc:title>CHARAKTERISTICKÉ RYSY A ZÁKLADNÍ PRINCIPY INDUSTRIÁLNÍ SPOLEČNOSTI </dc:title>
</cp:coreProperties>
</file>