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0E7-268A-42C9-BCCE-9A4436EC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BDC-BAF7-436D-8036-FD97ACE1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98E-3228-49C7-9CFB-C9067871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1DB-BE4E-40A1-AF6C-E8CB8AFC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5C4C-90FB-4C98-9F2C-FB4EBAB7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ADCB-CEF2-46B9-98E6-061E6320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DA58-3909-491E-B80E-6214706D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6D80-13D1-4FF8-835D-B00C3ED6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F275-ADF6-401A-B6DD-B37C1001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9169-6045-43EB-AB89-408E21A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1EDA-504C-4E2E-86F3-9E9A2B3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BA4-ADD4-438B-B8D9-BB48D73B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2BBE-7677-474A-A9FF-91711CD4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4D9E-FCD6-429A-AE54-F741DDE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9510-A652-4AA8-B151-22D3DAFE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EFD3-BC3C-4A38-89B5-946F59F5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DADE-236C-4C81-A54F-6FA25B6B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249-77FA-4DC3-B3FA-C127CA23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EF1-0B03-4692-B81A-C2A4AED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4B8-195B-4A60-877C-60FA4E7C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BA7-9E03-4831-A478-991F1D18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CB4-285A-460C-B300-BFC11534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BFB-B3DF-4C6E-96C9-4A426879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D88-7ACF-4300-B0DF-3F59D018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332B-5E8E-4549-BE45-01E0DD93635C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E4A9-CAC2-4A46-BD6D-76905C2595C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2994-AA27-47D9-9C2B-F7B2739D8808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2805-9E50-4E39-A445-67A782278FB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18284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Teorie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jako v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ě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da o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v technických, biologických a spole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ens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43400" y="4114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eněk Mandov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Sedláč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káš Schö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E773-AFF7-4517-A451-ED5476EACA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ování systémových věd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30. léta – biologie, L. von Bertalanffy – obecná teorie systé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. světová vá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50. léta – kyberne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60. léta - provoz automatizovaných informačních systémů v oblasti říze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A81-5C4C-4233-8D47-18D8765069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udvig von Bertalanff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lečnost pro pokroky v obecné teor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mětem teorie systémů je studium abstraktních systémů, které mají význam pro analýzu systémových vlastností libovolné konkrétní rea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60C-420F-4184-BF42-BC7CF86A0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ův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ložení nové vědy (Bertalanffy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becná tendence ke sjednocování různých přírodních 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společenských věd. Takové sjednocení může být předmětem zkoumání obecné teorie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ato teorie se může stát významným prostředkem formování exaktních teorií ve vědách o živé přírodě a společ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Rozvíjení sjednocujících principů, s nimiž se setkává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ch oblastech vědění, nás obecná teorie řízení přibližuje k dosažení cíle, a to vytvoření jednotné vě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 to může vést k jednotnosti vzděl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602-7501-432D-933C-D98CA94CF4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bec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obecné abstraktní modely systémových jev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ál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systémy definované na konkrétních reálných objekte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ké a dynamic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vrdé a měk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A77-DA74-4973-BDF4-B5694A4A21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rbert Wiene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Předmětem kybernetiky je zkoumání procesů řízení a zpracování informací v technických systémech i živých organismech a kolektivech skládajících se z živých organismů a technických systémů.“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658-37F2-4D74-8820-FB19E6C48F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ybernetický myšlenkový přístup se zaměřuje na zjišťování analogií mezi systémy z hlediska řídících procesů, které v nich probíhají.“ (Jančurová, 1998, s.52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kladními pojmy kybernetiky jsou řízení a inform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DAB-2DDF-47A5-AA68-8618B0751F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lení kybernetik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oretická kybernet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á kybernetika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bernetické aplik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7EF-79E0-4598-B240-77EF65A28A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42840" y="1371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kujeme za pozorno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D56-61F6-4F65-AAB5-82EB038851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UŽITÁ LITERATURA: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ASHBY, W.R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Kybernetika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Praha: Orbis, 196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BLAŽEK, L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nagement II - průvodce studiem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Masarykova univerzita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ABR, J. - VEPŘ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ová analýza a syntéz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. Praha: SNTL, 19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ÁLEK, I. A KOL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y řízení – sylabus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sarykova univerzita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JANČAROVÁ, V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Úvod do systémových věd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Praha: Vysoká škola ekonomická, 1998. ISBN 8O – 7079 – 933 –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Č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ody systémového inženýrství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ha: SNTL, 1984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013-9BEB-4983-A332-AD2A854581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 a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 výraz odvozený z řeckého slova "syn" , které v překladu znamená dohromady, a slova "histemi" – sestavov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. von Bertalanffyho: „ Systém je komplex prvků nacházejících se ve vzájemné interakci.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ní defin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systém považujeme složitý reálný nebo abstraktní objekt, v němž rozlišujeme části, vztahy mezi nimi, vlastnosti. Vůči okolí vystupuje systém jako celek. Části systému jsou ve vzájemné interakci a integrují se i se systémem jako celkem. Označujeme je jako prvky systému a vztahy mezi nimi nazýváme vazbami systému. “ (Habr, 198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B36-428C-48AD-8F4E-C561E86D2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Z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ákladní typy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ysté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vztah k okolí není definován, systém nemá hraniční prv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lativně 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přesně definovány jak vztahy, kterými je systém z okolí ovlivňován, tak vztahy, kterými systém okolí ovlivňu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e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uvažovány všechny možné účinky okolí na systém a naopa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386-29EB-4005-B0D0-774C51D73E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edstavuje vědomé působení na systém, které vymezuje cíle systému a s využitím zpětných vazeb působí na systém tak, aby těchto cílů bylo dosahováno.“ ( Jančarová, 1998, s. 136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EFE-B3F9-4A03-96B1-4F8AA8A357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Vývoj vědy o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 v technických systémech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asický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hrnoval pojem celku, který se úplně rovnal součtu svých částí, který mohl běžet pozpátku a který by se choval přesně tímtéž způsobem bez ohledu na to, jak často byly ony díly rozebírány a zase dávány dohromady, a bez ohledu na sled, v kterém by k tomuto rozebírání a novému skládání docházelo. “ ( Deutsch, 1971, s. 93 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850-B35C-49A7-82C9-FB31FCCD0D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 biologic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 je v devatenáctém nahrazen pojmem „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, který se stal novým východiskem nejen v biologii, ale i ve společenských vědách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anismus se nedá analyzovat, alespoň v některých svých podstatných částech. Nemůže být rozebrán a zase beze škody složen dohromady. Každá část klasického organismu, pokud vůbec může být identifikována, obsahuje ve své struktuře t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láštní funkci, která ji byla přidělena. Zpravidla nemohou být tyto části použity pro žádné jiné funkce, aniž by se organismus zničil.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CD9-BBFC-4642-BB74-6708240FBD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e 20. století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ětové vál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 v oblasti komunikační a výpočetní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vé 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y, které oz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jeme jako systémov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ystémov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dní disciplíny a 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8CA-336D-4F1C-B830-42F7AC6889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85800" y="457200"/>
            <a:ext cx="8076960" cy="6019920"/>
            <a:chOff x="685800" y="457200"/>
            <a:chExt cx="8076960" cy="6019920"/>
          </a:xfrm>
        </p:grpSpPr>
        <p:sp>
          <p:nvSpPr>
            <p:cNvPr id="100" name=""/>
            <p:cNvSpPr/>
            <p:nvPr/>
          </p:nvSpPr>
          <p:spPr>
            <a:xfrm>
              <a:off x="2919240" y="457200"/>
              <a:ext cx="20617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á vě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11764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teor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7920" y="1176480"/>
              <a:ext cx="154620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aplik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5760" y="2891880"/>
              <a:ext cx="17179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Kybernetik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7840" y="2036520"/>
              <a:ext cx="137412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Obecná  teorie systémů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6280" y="1749960"/>
              <a:ext cx="0" cy="1431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6280" y="2323080"/>
              <a:ext cx="514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6280" y="3182040"/>
              <a:ext cx="34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35960" y="1462680"/>
              <a:ext cx="326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4960" y="889920"/>
              <a:ext cx="0" cy="572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3120" y="189288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á analýz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3120" y="289584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inženýrst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3120" y="37558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Operační výzk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3120" y="590436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Jiné aplik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3120" y="4615200"/>
              <a:ext cx="18896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programován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89480" y="1749960"/>
              <a:ext cx="0" cy="444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9480" y="619056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9480" y="490140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9480" y="4042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9480" y="318204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89480" y="2179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A4A-6D07-473A-B711-6290EB6ED2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ový přístu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udeme považovat způsob myšlení, způsob řešení problému a či způsob jednání, při němž jsou jevy chápány komplexně ve svých vnitřních a vnějších souvislostec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edpokládá existenci speciálních metod, formálního aparátu a technických prostředků pro práci se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FC0-F5BE-4BB7-A234-3B9FC0C0A5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deněk Mandovec</cp:lastModifiedBy>
  <dcterms:modified xsi:type="dcterms:W3CDTF">2006-10-02T19:57:03Z</dcterms:modified>
  <cp:revision>2</cp:revision>
  <dc:subject/>
  <dc:title>Prezentace aplikace PowerPoint</dc:title>
</cp:coreProperties>
</file>