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EA53-4D62-4AB4-8704-8556F77A7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45E5-10D3-4C6E-99F4-9FED431B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2E25-6F7C-48F3-B352-4101042E4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FA3E-300C-49D7-91D4-621D3A07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528A-949A-440E-B3DC-F32CED74E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6FB2-0C14-4FFA-9845-4C2D4825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32E5-3884-4251-9146-7170AA01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61F0-9714-4D27-A4FA-3900A03F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6AB9-F6A6-48BF-859B-EFE62016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EEBF-D88A-4CD3-A531-7C4304DB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A9BA-F855-453C-83BB-F7518B81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9F95-279B-4703-92A2-D8E1A829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4153-FA47-44EF-8FC8-54E63566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7234-C42D-4BCD-B35B-9634B819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06A3-7EAF-4F94-87FE-0324A780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C2AB-4EAE-4F18-9F0E-140C03BE5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6D3C-4385-434A-B3B6-2DC247E8B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E3C2-9CE1-48DA-AB6F-96A435F2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1E42-3EC4-4B30-B6E0-F250A84E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389D-3B78-4695-9DA8-AB301AD8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03E6-19D2-4813-91A1-D94856F6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DF16-E498-4C8C-B1D2-2C48E590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D396-83B0-4F2E-AAAB-ECA72A70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DB9E-45C0-4D52-8344-CAA88D89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FAE9-95C7-4B34-9F0B-5E47CC5171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EE98-67B7-41A1-BA54-07CB379599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ahoma"/>
              </a:rPr>
              <a:t>Ako s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klada</a:t>
            </a: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ť účty spoločnosti?</a:t>
            </a:r>
            <a:r>
              <a:rPr b="0" lang="cs-CZ" sz="4000" spc="-1" strike="noStrike">
                <a:solidFill>
                  <a:srgbClr val="333399"/>
                </a:solidFill>
                <a:latin typeface="Tahoma"/>
              </a:rPr>
              <a:t>  </a:t>
            </a:r>
            <a:br>
              <a:rPr sz="4000"/>
            </a:br>
            <a:r>
              <a:rPr b="0" lang="cs-CZ" sz="2400" spc="-1" strike="noStrike">
                <a:solidFill>
                  <a:srgbClr val="333399"/>
                </a:solidFill>
                <a:latin typeface="Tahoma"/>
              </a:rPr>
              <a:t>Koncepty spoločenskej zodpovednosti firiem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63640" y="4581000"/>
            <a:ext cx="2808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Michal Koz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Petr Novotn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iliam Štefán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826920" y="55166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.12.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Tahoma"/>
              </a:rPr>
              <a:t>Ako matica funguje :Automobilový  priemysel na západoeur. trhu  a bezpečnosť- CSR Renault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1916280"/>
          <a:ext cx="8002440" cy="4343400"/>
        </p:xfrm>
        <a:graphic>
          <a:graphicData uri="http://schemas.openxmlformats.org/drawingml/2006/table">
            <a:tbl>
              <a:tblPr/>
              <a:tblGrid>
                <a:gridCol w="3898800"/>
                <a:gridCol w="4103640"/>
              </a:tblGrid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„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zpečnosť pre všetkých“- výuka detí v základoškolskom a stredoškolskom veku o dopravných rizikách v okolí školských zariad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ýzkum technológii pre zvýšnie mobility a bezpečného riadenia telesne postihnutý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bovanie za sprísnenie vynútenia porušení dopravných predpiso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olupráca pri vývoji inteligentných dopravných systémov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bovanie u štátnych autorít za bezpečnosť ci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irbagy  v základnej výbave, ABS,ESP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teriálové a konštrukčné no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zpečnostné pás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ovanie NCAP a pod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851280" y="2565360"/>
            <a:ext cx="817560" cy="781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108920" y="5057640"/>
            <a:ext cx="865080" cy="830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314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MCj02297130000%5b1%5d" descr=""/>
          <p:cNvPicPr/>
          <p:nvPr/>
        </p:nvPicPr>
        <p:blipFill>
          <a:blip r:embed="rId3"/>
          <a:stretch/>
        </p:blipFill>
        <p:spPr>
          <a:xfrm>
            <a:off x="3419640" y="4869000"/>
            <a:ext cx="780840" cy="922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314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14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14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Ďakujeme za pozornosť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084360" y="4581360"/>
            <a:ext cx="280836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ichal Koz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etr Novotn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iliam Štefáni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Použitá literatu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artin, J.(</a:t>
            </a: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2002)Virtue matrix:Calculating the return on corporate responsibility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, Harvard Business revie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Carrol, J. (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991)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The Pyramid of Corporate Social Responsibility: Toward the Mo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Management of Organizational Stakeholder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usiness Horiz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http://www.renault.com/renault_com/en/main/30_DEVELOPPEMENT_DURABLE/40_Performances/40_Societal/10_Objectifs/Actions/index.asp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avies, I.(2005)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The biggest contrac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  The Econom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Spoločenská zodpovednosť firiem(CS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Približne od 70.rokov trvalá agend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definícía(?) - aktivity nad rámec bežných zodpovedností firiem v záujme budovania vzťahov  so stakeholderm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Bežný rámec?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Väčšina firiem operuje v mnohých geopolitických systémo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I v rámci jedného subsystému neustále zmeny hodnô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Posun myslenia vo vzťahu k CS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Zvyšovanie nárokov na manažérsku etik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mena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centrálnej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ázky :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CSR án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ni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SR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ak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un k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chápaniu ako strategickej investíci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ytváranie teoretických rámc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692360" y="4076640"/>
            <a:ext cx="792000" cy="5763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ccff"/>
              </a:gs>
              <a:gs pos="100000">
                <a:srgbClr val="9494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56000" y="472428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cccff"/>
              </a:gs>
              <a:gs pos="100000">
                <a:srgbClr val="9494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arrolova pyram</a:t>
            </a: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í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619280" y="2060640"/>
            <a:ext cx="5892840" cy="3960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cccff"/>
              </a:gs>
              <a:gs pos="100000">
                <a:srgbClr val="9494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-2811600" y="189000"/>
            <a:ext cx="2811600" cy="1547280"/>
            <a:chOff x="-2811600" y="189000"/>
            <a:chExt cx="2811600" cy="1547280"/>
          </a:xfrm>
        </p:grpSpPr>
        <p:sp>
          <p:nvSpPr>
            <p:cNvPr id="111" name=""/>
            <p:cNvSpPr/>
            <p:nvPr/>
          </p:nvSpPr>
          <p:spPr>
            <a:xfrm>
              <a:off x="-2049840" y="482040"/>
              <a:ext cx="128844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-2401200" y="891720"/>
              <a:ext cx="19915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-2811600" y="1360800"/>
              <a:ext cx="28116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-1874160" y="189000"/>
              <a:ext cx="99540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-1639800" y="1048320"/>
              <a:ext cx="61488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-1668960" y="618480"/>
              <a:ext cx="67356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-1771560" y="1477800"/>
              <a:ext cx="87840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333399"/>
                  </a:solidFill>
                  <a:latin typeface="Times New Roman"/>
                  <a:ea typeface="SimSu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5508720" y="2637000"/>
            <a:ext cx="2448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560" rIns="7056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6666"/>
                </a:solidFill>
                <a:latin typeface="Times New Roman"/>
                <a:ea typeface="SimSun"/>
              </a:rPr>
              <a:t>vrátiť spoločnosti požičan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88000" y="4294080"/>
            <a:ext cx="1871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560" rIns="7056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8080"/>
                </a:solidFill>
                <a:latin typeface="Times New Roman"/>
                <a:ea typeface="SimSun"/>
              </a:rPr>
              <a:t>rešpektovať  zák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93080" y="5084640"/>
            <a:ext cx="205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560" rIns="7056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8080"/>
                </a:solidFill>
                <a:latin typeface="Times New Roman"/>
                <a:ea typeface="SimSun"/>
              </a:rPr>
              <a:t>byť profitabiln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      </a:t>
            </a:r>
            <a:r>
              <a:rPr b="1" lang="cs-CZ" sz="1800" spc="-1" strike="noStrike">
                <a:solidFill>
                  <a:srgbClr val="008080"/>
                </a:solidFill>
                <a:latin typeface="Times New Roman"/>
                <a:ea typeface="SimSun"/>
              </a:rPr>
              <a:t> </a:t>
            </a:r>
            <a:r>
              <a:rPr b="1" lang="cs-CZ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  </a:t>
            </a:r>
            <a:r>
              <a:rPr b="1" lang="cs-CZ" sz="1800" spc="-1" strike="noStrike">
                <a:solidFill>
                  <a:srgbClr val="008080"/>
                </a:solidFill>
                <a:latin typeface="Times New Roman"/>
                <a:ea typeface="SimSun"/>
              </a:rPr>
              <a:t>preži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ccccff"/>
                </a:solidFill>
                <a:latin typeface="Times New Roman"/>
                <a:ea typeface="SimSu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40360" y="3502080"/>
            <a:ext cx="2160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560" rIns="7056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80"/>
                </a:solidFill>
                <a:latin typeface="Times New Roman"/>
                <a:ea typeface="SimSun"/>
              </a:rPr>
              <a:t>Rešpektovať morálne normy</a:t>
            </a:r>
            <a:r>
              <a:rPr b="1" lang="en-GB" sz="1600" spc="-1" strike="noStrike">
                <a:solidFill>
                  <a:srgbClr val="008080"/>
                </a:solidFill>
                <a:latin typeface="Times New Roman"/>
                <a:ea typeface="SimSu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58920" y="2854440"/>
            <a:ext cx="233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     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r>
              <a:rPr b="1" lang="sk-SK" sz="2000" spc="-1" strike="noStrike">
                <a:solidFill>
                  <a:srgbClr val="333399"/>
                </a:solidFill>
                <a:latin typeface="Arial"/>
                <a:ea typeface="SimSun"/>
              </a:rPr>
              <a:t>Žiadúc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437000"/>
            <a:ext cx="174780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333399"/>
                </a:solidFill>
                <a:latin typeface="Arial"/>
                <a:ea typeface="SimSun"/>
              </a:rPr>
              <a:t>vyžadova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32000" y="3718080"/>
            <a:ext cx="17780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333399"/>
                </a:solidFill>
                <a:latin typeface="Arial"/>
                <a:ea typeface="SimSun"/>
              </a:rPr>
              <a:t>očakáva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51280" y="3141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lantrop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08360" y="3789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t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4581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áv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52293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konom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92360" y="3502080"/>
            <a:ext cx="2016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4294080"/>
            <a:ext cx="3240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40000" y="5086440"/>
            <a:ext cx="4176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64000" y="4221000"/>
            <a:ext cx="288720" cy="289080"/>
          </a:xfrm>
          <a:prstGeom prst="downArrow">
            <a:avLst>
              <a:gd name="adj1" fmla="val 50000"/>
              <a:gd name="adj2" fmla="val 25031"/>
            </a:avLst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4221000"/>
            <a:ext cx="287280" cy="289080"/>
          </a:xfrm>
          <a:prstGeom prst="downArrow">
            <a:avLst>
              <a:gd name="adj1" fmla="val 50000"/>
              <a:gd name="adj2" fmla="val 25157"/>
            </a:avLst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08720" y="4221000"/>
            <a:ext cx="287280" cy="289080"/>
          </a:xfrm>
          <a:prstGeom prst="downArrow">
            <a:avLst>
              <a:gd name="adj1" fmla="val 50000"/>
              <a:gd name="adj2" fmla="val 25157"/>
            </a:avLst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522936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vyžadova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Carrolova pyramí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Jednoduchosť, všeobecná aplikovateľnos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Logická následnosť zodpoved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oukazuje na nutnosť konzistencie spôsobu akým firma zvyšuje spoločenskú angažovanos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filantropia- podnikové dárcovstvo= špička ľadov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o príklady že toto nie vždy funguje netreba chodiť ďaleko.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ČEZ                             CSR, či len P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Toyo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Na druhej strane...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Nejednoznačnosť etickej zodpovednosti- čo je v danom momente a v danom systéme hodn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ôt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„očakávané“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MNC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’s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často  útek k „lacnej“ firemnej  filantropii - riešenie?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Spoločenský prínos nesporný,dlhodobý prínos pre firmu samotnú takmer neexistujúci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5640" y="69228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Čiastočná odpove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6374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Roger Martin(2002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hápe CSR ako produkt, aktív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Poukazuje na  nutnosť hľadať strategické oblasti CS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ytvára tzv. „Maticu ctností“(Virtue matrix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Nie priame riešenie, ale nástroj analýzy prostredia a síl ktoré utvárajú spoločenskú zodpovednosť  firi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SR aktivity categorizuje z dvoch hľadísk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I.Zdroj ich motiváci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II. Prínos pre akcionársku hodnotu(shareholders valu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333399"/>
                </a:solidFill>
                <a:latin typeface="Tahoma"/>
              </a:rPr>
              <a:t>„</a:t>
            </a:r>
            <a:r>
              <a:rPr b="1" lang="sk-SK" sz="4400" spc="-1" strike="noStrike">
                <a:solidFill>
                  <a:srgbClr val="333399"/>
                </a:solidFill>
                <a:latin typeface="Tahoma"/>
              </a:rPr>
              <a:t>Matica ctností“ </a:t>
            </a:r>
            <a:br>
              <a:rPr sz="28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722680" y="1646280"/>
            <a:ext cx="4728960" cy="4481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132000" y="2852640"/>
            <a:ext cx="1316160" cy="343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trateg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35640" y="2781360"/>
            <a:ext cx="1584360" cy="487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štrukturá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4797360"/>
            <a:ext cx="1143000" cy="45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Vôľ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32360" y="4797360"/>
            <a:ext cx="1944720" cy="503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Vyhove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1628280"/>
            <a:ext cx="41054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medzie (fronti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nútorne motivova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16360" y="5589720"/>
            <a:ext cx="4392360" cy="718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ivilná základňa (civil foundation)=  nápomocné,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externe motivova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40000" y="4365720"/>
            <a:ext cx="503280" cy="1150920"/>
          </a:xfrm>
          <a:prstGeom prst="upArrow">
            <a:avLst>
              <a:gd name="adj1" fmla="val 50000"/>
              <a:gd name="adj2" fmla="val 57171"/>
            </a:avLst>
          </a:prstGeom>
          <a:gradFill rotWithShape="0">
            <a:gsLst>
              <a:gs pos="0">
                <a:srgbClr val="ccccff"/>
              </a:gs>
              <a:gs pos="100000">
                <a:srgbClr val="9494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164360" y="4292640"/>
            <a:ext cx="503280" cy="1152360"/>
          </a:xfrm>
          <a:prstGeom prst="upArrow">
            <a:avLst>
              <a:gd name="adj1" fmla="val 50000"/>
              <a:gd name="adj2" fmla="val 57242"/>
            </a:avLst>
          </a:prstGeom>
          <a:gradFill rotWithShape="0">
            <a:gsLst>
              <a:gs pos="0">
                <a:srgbClr val="ccccff"/>
              </a:gs>
              <a:gs pos="100000">
                <a:srgbClr val="9494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00720" y="638172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evzaté z Martin, R.(200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3399"/>
                </a:solidFill>
                <a:latin typeface="Tahoma"/>
              </a:rPr>
              <a:t>Martin- Prečo sa inovatívnosť v CSR vypláca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I. púhe držanie sa  civilnej základne nestačí a podnik sa vystavuje riziku  bojkotu  zo strany stakeholderov (podobne ako Carro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II. podnecuje i konkurenciu k hľadaniu vlastných inovácii,  z čoho, ak sa tieto ukážu ako strategické,  ťaží celé odvetvie.(  je ľahšie dobré praktiky kopírovať, než nájsť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III.i inovácie, ktoré sa nepreukážu ako strategické  majú význam,  dávajú podnety legislatíve, môžu byť vynútené štátnym zásah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IV. s vývozom kapitálu môžu  dobré praktiky navýšiť civilnú základňu v rozvojových krajinách, kde štátna regulácia je nedostatočná- konvergencia globálneho sociálneho prostred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01:40:26Z</dcterms:created>
  <dc:creator>Liam</dc:creator>
  <dc:description/>
  <dc:language>en-US</dc:language>
  <cp:lastModifiedBy>Liam</cp:lastModifiedBy>
  <dcterms:modified xsi:type="dcterms:W3CDTF">2006-12-04T00:59:21Z</dcterms:modified>
  <cp:revision>33</cp:revision>
  <dc:subject/>
  <dc:title>Ako utvárať spoločenské dobro. koncepty spoločenskej zodpovednosti firiem</dc:title>
</cp:coreProperties>
</file>