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572-2A82-46DA-B127-82E189A5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5DA-5999-44D0-AB9B-AC1D058F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FE1-C069-40F2-832A-5C3D9F9D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B13-8D95-4ED4-9A38-27F2246E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6F38-4CC9-4170-A537-075FE0AA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2615-03F0-4CD9-9A18-40E996BB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0B15-79EE-4B8E-825F-CDD7602A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DB6F-4CDF-4546-B0E6-33976B5A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100C-32E5-4A09-AE3C-98425145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9619-541E-443D-8529-0412E81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3005-8DAD-4B76-A01E-B2316879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AAE-4E6C-4CF2-8577-D87837EF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209A-8F96-4AF9-A927-F6BAF33C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7526-E95E-4405-B1C2-EC4AAF86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2245-C3BD-428E-8DF1-114E49DC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B463-BDA6-4FE3-9F5E-DC56A81D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C2F0-A3AF-409C-8820-5A048556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0E2-4561-413F-80D6-23BAFE77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95E-79A3-4258-B9ED-0E41C733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F4D-C293-4608-BB31-8BF8C82D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EA0-4E16-4D96-8FE3-730169A4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4FC-6EE0-44F5-A50F-181D37B3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C19-D606-4F47-BD9D-F0CDAC4C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29D-3542-4129-B1F8-5D57B7DC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E038-2FFA-42B0-96DA-8E4E1E2DB98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17D4-F68D-4D86-B6BE-5025693B01D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4869000"/>
            <a:ext cx="77234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Znalostní podnik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95640" y="5373720"/>
            <a:ext cx="77230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upánková Barb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rnáková J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kop J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Od průmyslové společnosti ke společnosti znalostní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2876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růmyslov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lké množství produk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nik jako výrobní fun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bjem a rychl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unkční přístup managem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Kapitá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1812960"/>
            <a:ext cx="4500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Znalost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užnost výro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stup hromadné výro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zitivní vývojové tren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ní přístup managem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  <a:ea typeface="Arial"/>
              </a:rPr>
              <a:t>Znal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Přístup managementu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764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Funkční příst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ěření na výstu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nomická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patření adresována hierarchickým úrov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080" y="1773360"/>
            <a:ext cx="377676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rocesní příst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ěření na příč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ledování vnitropodnikových proces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hodnocení a přeprojektování procesů v podni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Organizace ve znalostní společnosti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4272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žadavky na organiz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ipravenost pracovníka na žádoucí výk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ganizace permanentního uč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žadavky na pracov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pově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špičkový výk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hopnost a ochota se trvale uč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Znalostní podnik - charakteristika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cesní přístup managemen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víjení lids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alost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vývojové tren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roba sebe s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Znalostní podnik – principy fungování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e a výkonnost podni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ický imperat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cesní orient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ýmová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platnění znalostí a inte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iremní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Děkujeme za pozornos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uneček, J.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Znalostní podnik ve znalostní společ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rofessional Publishing 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ber a kol.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anagement. Základy, prosperita, globaliza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Management Press 2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0:39:44Z</dcterms:created>
  <dc:creator>CIKT</dc:creator>
  <dc:description/>
  <cp:keywords/>
  <dc:language>en-US</dc:language>
  <cp:lastModifiedBy>CIKT</cp:lastModifiedBy>
  <dcterms:modified xsi:type="dcterms:W3CDTF">2006-11-08T10:55:12Z</dcterms:modified>
  <cp:revision>5</cp:revision>
  <dc:subject/>
  <dc:title>Znalostní pod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29</vt:lpwstr>
  </property>
</Properties>
</file>