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2BE-561A-4B1B-AC25-27FF696E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E5F-578D-40B0-8B7C-D063FDD9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8C1-D822-4381-AA07-1B26B89B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B5E-AB44-4487-AB0E-60E488D9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9BE1-C7EC-4A91-8F02-60141FC0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787F-B5AC-4910-BD70-5AF7F66B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EDA1-D04D-47C4-8C58-C4F9F492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765B-1400-4D7B-AB78-73FC1B36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DF1B-1F5B-43C4-96BD-59576F0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BF08-3A5D-48AA-9F50-AA0A404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AE3B-E871-470A-9F21-AD81597E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8D6-F6DE-4D85-813B-AC802E8B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C8DC-2D6F-4984-BFA9-B6A298BE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C430-276F-4F20-B54B-733CFA45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CE6A-0F35-4C7C-B143-3F377D52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3F5B-2AA8-4F35-8FAC-08AC82E4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E54A-BA81-4810-9C78-BAE2436A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129-C296-450F-BF98-9D14D865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BDB-5F70-48CB-BE57-E996893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6A4-DD22-4F56-9952-A1E866BA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1AC-C310-4E07-962B-D4A17C45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999-CCE5-4670-A5F7-84C74BEF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2F8-8E6D-46ED-8D1F-042E29CE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BDC-03C8-4327-B810-53509E7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3763-13BE-430E-88CF-3EAA9684CF0F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D5CE-2F1A-4E25-9013-AF53FCF765E3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p.zcu.cz/kursy/svt/svt_www/2_soubory/2_7.html" TargetMode="External"/><Relationship Id="rId2" Type="http://schemas.openxmlformats.org/officeDocument/2006/relationships/hyperlink" Target="http://www.kip.zcu.cz/kursy/svt/svt_www/2_soubory/2_7.html" TargetMode="External"/><Relationship Id="rId3" Type="http://schemas.openxmlformats.org/officeDocument/2006/relationships/hyperlink" Target="http://www.kip.zcu.cz/kursy/svt/svt_www/2_soubory/2_7.html" TargetMode="External"/><Relationship Id="rId4" Type="http://schemas.openxmlformats.org/officeDocument/2006/relationships/hyperlink" Target="http://www.kip.zcu.cz/kursy/svt/svt_www/2_soubory/2_7.html" TargetMode="External"/><Relationship Id="rId5" Type="http://schemas.openxmlformats.org/officeDocument/2006/relationships/hyperlink" Target="http://www.kip.zcu.cz/kursy/svt/svt_www/2_soubory/2_7.html" TargetMode="External"/><Relationship Id="rId6" Type="http://schemas.openxmlformats.org/officeDocument/2006/relationships/hyperlink" Target="http://www.kip.zcu.cz/kursy/svt/svt_www/2_soubory/2_7.html" TargetMode="External"/><Relationship Id="rId7" Type="http://schemas.openxmlformats.org/officeDocument/2006/relationships/hyperlink" Target="http://www.kip.zcu.cz/kursy/svt/svt_www/2_soubory/2_7.html" TargetMode="External"/><Relationship Id="rId8" Type="http://schemas.openxmlformats.org/officeDocument/2006/relationships/hyperlink" Target="http://www.kip.zcu.cz/kursy/svt/svt_www/2_soubory/2_7.html" TargetMode="External"/><Relationship Id="rId9" Type="http://schemas.openxmlformats.org/officeDocument/2006/relationships/hyperlink" Target="http://www.kip.zcu.cz/kursy/svt/svt_www/2_soubory/2_7.html" TargetMode="External"/><Relationship Id="rId10" Type="http://schemas.openxmlformats.org/officeDocument/2006/relationships/hyperlink" Target="http://www.kip.zcu.cz/kursy/svt/svt_www/2_soubory/2_7.html" TargetMode="External"/><Relationship Id="rId11" Type="http://schemas.openxmlformats.org/officeDocument/2006/relationships/hyperlink" Target="http://www.kip.zcu.cz/kursy/svt/svt_www/2_soubory/2_7.html" TargetMode="External"/><Relationship Id="rId12" Type="http://schemas.openxmlformats.org/officeDocument/2006/relationships/hyperlink" Target="http://www.kip.zcu.cz/kursy/svt/svt_www/2_soubory/2_7.html" TargetMode="External"/><Relationship Id="rId13" Type="http://schemas.openxmlformats.org/officeDocument/2006/relationships/hyperlink" Target="http://www.gis.zcu.cz/studium/dbg2/Materialy/html/ch09.html" TargetMode="External"/><Relationship Id="rId14" Type="http://schemas.openxmlformats.org/officeDocument/2006/relationships/hyperlink" Target="http://www.gis.zcu.cz/studium/dbg2/Materialy/html/ch09.html" TargetMode="External"/><Relationship Id="rId15" Type="http://schemas.openxmlformats.org/officeDocument/2006/relationships/hyperlink" Target="http://www.gis.zcu.cz/studium/dbg2/Materialy/html/ch09.html" TargetMode="External"/><Relationship Id="rId16" Type="http://schemas.openxmlformats.org/officeDocument/2006/relationships/hyperlink" Target="http://www.gis.zcu.cz/studium/dbg2/Materialy/html/ch09.html" TargetMode="External"/><Relationship Id="rId17" Type="http://schemas.openxmlformats.org/officeDocument/2006/relationships/hyperlink" Target="http://www.gis.zcu.cz/studium/dbg2/Materialy/html/ch09.html" TargetMode="External"/><Relationship Id="rId18" Type="http://schemas.openxmlformats.org/officeDocument/2006/relationships/hyperlink" Target="http://www.gis.zcu.cz/studium/dbg2/Materialy/html/ch09.html" TargetMode="External"/><Relationship Id="rId19" Type="http://schemas.openxmlformats.org/officeDocument/2006/relationships/hyperlink" Target="http://www.gis.zcu.cz/studium/dbg2/Materialy/html/ch09.html" TargetMode="External"/><Relationship Id="rId20" Type="http://schemas.openxmlformats.org/officeDocument/2006/relationships/hyperlink" Target="http://www.gis.zcu.cz/studium/dbg2/Materialy/html/ch09.html" TargetMode="External"/><Relationship Id="rId21" Type="http://schemas.openxmlformats.org/officeDocument/2006/relationships/hyperlink" Target="http://www.gis.zcu.cz/studium/dbg2/Materialy/html/ch09.html" TargetMode="External"/><Relationship Id="rId22" Type="http://schemas.openxmlformats.org/officeDocument/2006/relationships/hyperlink" Target="http://www.gis.zcu.cz/studium/dbg2/Materialy/html/ch09.html" TargetMode="External"/><Relationship Id="rId23" Type="http://schemas.openxmlformats.org/officeDocument/2006/relationships/hyperlink" Target="http://www.miras.cz/seminarky/word/mie01-trhy.doc" TargetMode="External"/><Relationship Id="rId24" Type="http://schemas.openxmlformats.org/officeDocument/2006/relationships/hyperlink" Target="http://www.miras.cz/seminarky/word/mie01-trhy.doc" TargetMode="External"/><Relationship Id="rId25" Type="http://schemas.openxmlformats.org/officeDocument/2006/relationships/hyperlink" Target="http://www.miras.cz/seminarky/word/mie01-trhy.doc" TargetMode="External"/><Relationship Id="rId26" Type="http://schemas.openxmlformats.org/officeDocument/2006/relationships/hyperlink" Target="http://www.miras.cz/seminarky/word/mie01-trhy.doc" TargetMode="External"/><Relationship Id="rId27" Type="http://schemas.openxmlformats.org/officeDocument/2006/relationships/hyperlink" Target="http://www.miras.cz/seminarky/word/mie01-trhy.doc" TargetMode="External"/><Relationship Id="rId28" Type="http://schemas.openxmlformats.org/officeDocument/2006/relationships/hyperlink" Target="http://www.miras.cz/seminarky/word/mie01-trhy.doc" TargetMode="External"/><Relationship Id="rId29" Type="http://schemas.openxmlformats.org/officeDocument/2006/relationships/hyperlink" Target="http://www.miras.cz/seminarky/word/mie01-trhy.doc" TargetMode="External"/><Relationship Id="rId30" Type="http://schemas.openxmlformats.org/officeDocument/2006/relationships/hyperlink" Target="http://www.miras.cz/seminarky/word/mie01-trhy.doc" TargetMode="External"/><Relationship Id="rId31" Type="http://schemas.openxmlformats.org/officeDocument/2006/relationships/hyperlink" Target="http://www.miras.cz/seminarky/word/mie01-trhy.doc" TargetMode="External"/><Relationship Id="rId32" Type="http://schemas.openxmlformats.org/officeDocument/2006/relationships/hyperlink" Target="http://www.miras.cz/seminarky/word/mie01-trhy.doc" TargetMode="External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ělba práce ve vývoji lidské společnost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Jana Eliáš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Martina Vaishar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urkheim, A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Společenská dělba práce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Brno: Centrum pro studium demokracie a kultury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KIP - Katedra managementu, inovací a projektů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, f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akulta ekonomická, Západočeská universita v Plzni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2001.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Dostupn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ý na</a:t>
            </a:r>
            <a:r>
              <a:rPr b="1" lang="cs-CZ" sz="2000" spc="-1" strike="noStrike">
                <a:solidFill>
                  <a:srgbClr val="eaeaea"/>
                </a:solidFill>
                <a:latin typeface="Arial CE"/>
              </a:rPr>
              <a:t>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2"/>
              </a:rPr>
              <a:t>kip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7"/>
              </a:rPr>
              <a:t>/kursy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8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0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1"/>
              </a:rPr>
              <a:t>_www/2_soubory/2_7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Čerb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O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Databázové systémy GIS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ze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ň 2004. 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3"/>
              </a:rPr>
              <a:t>http://www.gis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7"/>
              </a:rPr>
              <a:t>/studium/dbg2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8"/>
              </a:rPr>
              <a:t>Material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0"/>
              </a:rPr>
              <a:t>html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1"/>
              </a:rPr>
              <a:t>/ch09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Leblanc, M. Trh a základní elementy trhu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3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4"/>
              </a:rPr>
              <a:t>miras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7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8"/>
              </a:rPr>
              <a:t>seminark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0"/>
              </a:rPr>
              <a:t>word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1"/>
              </a:rPr>
              <a:t>/mie01-trhy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2"/>
              </a:rPr>
              <a:t>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Dělba práce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, ve kterém dochází 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stupnému osamostatň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dnotlivých druhů činností či operací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možňuje specializ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edpokládá kooper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DP – pravěk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 základě přirozených dispozic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muži X že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olečenská DP – specializace při výrobě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ů (zemědělci X pastevci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řemesla X obcho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pracovních operacích – technický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zvoj a specializace; výroba 1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u členěna na jednotlivé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covní činnosti (Baťa, For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 DP – územní specializace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ch principech;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ákladě absolutní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arativní výh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a společenská DP (1. vlna) –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latňován jen v armádě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írkv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operacích (2. vlna) – prohlub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, specializac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yramidální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stmoderní společnost (3. vlna) –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ategické informační systémy, nižší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třeba středního managementu;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reengineering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Věk intensifikace kreativity – síťové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uktury, učící se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DP předpokládá kooperaci     změna integrace společnosti (globalizace) zásadně ovlivňuje mezinárodní D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 2.sv.v. přesun řízení a organizace z národní na mezinárodní úroveň (Ford, GM 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905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62520" y="3124080"/>
            <a:ext cx="205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É JÁ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58128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SEMI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038480"/>
            <a:ext cx="3276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časná podoba 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86000"/>
            <a:ext cx="19047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USA, západní Evropa, Japonsk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505320"/>
            <a:ext cx="1752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řední Evrop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800600"/>
            <a:ext cx="2057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jižní a jihovýchodní Asie, Jižní Amer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18" idx="1"/>
          </p:cNvCxnSpPr>
          <p:nvPr/>
        </p:nvCxnSpPr>
        <p:spPr>
          <a:xfrm>
            <a:off x="3123720" y="2641320"/>
            <a:ext cx="839160" cy="686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19" idx="1"/>
          </p:cNvCxnSpPr>
          <p:nvPr/>
        </p:nvCxnSpPr>
        <p:spPr>
          <a:xfrm>
            <a:off x="2971440" y="3708360"/>
            <a:ext cx="61020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0"/>
            <a:endCxn id="120" idx="1"/>
          </p:cNvCxnSpPr>
          <p:nvPr/>
        </p:nvCxnSpPr>
        <p:spPr>
          <a:xfrm flipV="1">
            <a:off x="2247480" y="4241880"/>
            <a:ext cx="1105560" cy="559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858000" y="1981080"/>
            <a:ext cx="1676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ídlo a vedení společnost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124080"/>
            <a:ext cx="19051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ontážní a částečně výrobní provozy, vývojové a řídící kapac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952880"/>
            <a:ext cx="914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výrob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1"/>
            <a:endCxn id="118" idx="3"/>
          </p:cNvCxnSpPr>
          <p:nvPr/>
        </p:nvCxnSpPr>
        <p:spPr>
          <a:xfrm flipH="1">
            <a:off x="6019560" y="2336760"/>
            <a:ext cx="838800" cy="991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9" idx="3"/>
          </p:cNvCxnSpPr>
          <p:nvPr/>
        </p:nvCxnSpPr>
        <p:spPr>
          <a:xfrm flipH="1">
            <a:off x="6476760" y="3784320"/>
            <a:ext cx="38160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1"/>
            <a:endCxn id="120" idx="3"/>
          </p:cNvCxnSpPr>
          <p:nvPr/>
        </p:nvCxnSpPr>
        <p:spPr>
          <a:xfrm flipH="1" flipV="1">
            <a:off x="6628680" y="4241520"/>
            <a:ext cx="229320" cy="9151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Klady a zápory mezinárodní DP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plikace nových moderníc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ologií a výrobních postup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nárůst výrobních kapac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rozšíření počtu pracovních mí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lepšení obchodní bilance země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isky neinvestovány v místě vzniku x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řerozdělovány ze sídla spo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úniky na daní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1:05:31Z</dcterms:created>
  <dc:creator>lvaishar</dc:creator>
  <dc:description/>
  <dc:language>en-US</dc:language>
  <cp:lastModifiedBy>Hanka</cp:lastModifiedBy>
  <dcterms:modified xsi:type="dcterms:W3CDTF">2006-10-15T18:53:28Z</dcterms:modified>
  <cp:revision>22</cp:revision>
  <dc:subject/>
  <dc:title>Dělba práce a vývoj lidské společnosti</dc:title>
</cp:coreProperties>
</file>