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F94E-AC59-4FE3-B93C-5F63642A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EA44-F3A8-4BA1-86BF-EB3D6247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D98C-FBFC-4EDF-BAB4-05908924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F2D1-1874-484A-A0B9-C1B86955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84EC-384B-419F-810E-A28A97AA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7172-4D7C-4853-8A81-7ACF11EE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E4B8-5F09-4633-9901-7BCA6011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2DB3-7712-452E-B999-EF978E69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5EC5-2A92-49B7-B946-36FAB931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42C1-A159-42C9-8113-6E648E77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602B-F0E4-4E29-9CDD-206EA038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5B8A-6C32-4B9B-BA35-4FABF62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EC20-BAEE-4C2C-91FE-D292EC66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0A4-9988-44A3-8CD9-B47EA61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48DB-5CE2-48D9-8876-06CE5EC3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FA2F-9352-4CED-A70A-81BF2B19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A54C-E774-4554-A5D7-92384FC7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9C58-2566-4B1D-9E8E-61EC41C2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ED32-4F69-4C14-82E2-6F2EAAF6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9136-FE8B-4AF8-9BA7-B5826A6C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F23B-3DE0-4AD0-8281-6A4FB125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00EF-1F1B-48AA-B5AF-D00A60E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D654-8A40-4D52-95E2-19DBEE28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A455-6904-4512-BD4D-8DFA1FE9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B8E5-7270-478C-87C0-840404802A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2C9B-9D92-4627-964A-95F795A927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Tretia vlna</a:t>
            </a:r>
            <a:br>
              <a:rPr sz="6000"/>
            </a:b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(Post-industrialna spolocnost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mas Don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eta Pecharo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337824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..druhy pohlad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iesman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opulacny pokles v postindustiralnej spoloc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erciarna sfera v zamestnanos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Zkracovanie pracovnej doby -&gt; zvysovanie volneho c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onkajsie riadenie’ – jednotlivec ovplyvnovany viac vrstovnikmi, ludmi na spolocnej ‘vlne’ x rodinne tradi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Uloha med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sivny rozvoj -&gt;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kontakt so širším okruhom vrstovní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Anonymita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ritika vrstovnik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182556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24360" y="465300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31292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Stupne industrializacie spolocnost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dindustrialna (agrar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ustrialna – priemyslovny sek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tindustrialna – pohltenie sluzba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1673280" cy="1704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666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stindustrialna spoloc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0.ro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ve zave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ladnuca el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acovna sila do sektoru sluzie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yznam technolog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enie – teoretic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ra medzi ludmi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tenzivny rozvoj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ologi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lektual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ojo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la sektoru dopravy, sluzieb, trhu, financnej zmeny, vzdelanie vyskum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draz v kulture profesii -&gt;dominancia univerz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065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Klucove poj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mat teoretickeho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cka tri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lanovanie techn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loha ze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ciety of knowledge – spolocnost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nowledge class – trieda vladnuci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trukturalne zme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. Vznik globalnej ekonom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 Rozvoj komunika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. Techn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zdiely socialnych strukt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alna sfe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yp spolocn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dro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rastne surovin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er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ormac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zi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by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rob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raco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chnolo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pracovnej si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apital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now-h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prir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vytvorenej vyrob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medzi lud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yroba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varu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x sluz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echnicke, humanitne, odborne -&gt; zmena v profesnej strukture spolo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raz na vzdelanie – podmienka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čoho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Kvalifikac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istupu k mo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olocnost meritokraticka (zasluhova; cenenie zasluh) x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eptismus – preferovanie pribuznych, priatelov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tekcionizm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lezite kvoli DELBE PR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valifikovani x nekvalifikova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9:20:12Z</dcterms:created>
  <dc:creator>Tomas Donat</dc:creator>
  <dc:description/>
  <dc:language>en-US</dc:language>
  <cp:lastModifiedBy>Tomas Donat</cp:lastModifiedBy>
  <dcterms:modified xsi:type="dcterms:W3CDTF">2006-10-17T12:36:31Z</dcterms:modified>
  <cp:revision>2</cp:revision>
  <dc:subject/>
  <dc:title>Tretia vlna (Post-industrialna spolocnost)</dc:title>
</cp:coreProperties>
</file>