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F34-C631-494B-A9A0-DEA676B4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52E-81DD-4DA3-9A6A-C8B8169B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CC6-DDFE-4806-9A11-69503083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F12-F1CC-44C9-9B50-F6E2A644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ABF0-1EA8-4043-81F6-7A59FDD6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A2A9-2126-480F-8256-78DCADD9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D473-9E90-419B-86DC-39673418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28BD-F552-4E3F-B4AC-1D010523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475B-219C-482F-A002-7ED916A6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0F99-2543-4E9B-B9AD-88949C23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C91C-2704-4DF7-90E9-4E25114B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361-A6DE-4792-A9A5-C33A082E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9CA3-C90F-4224-B216-86F768B4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078D-F5ED-4FD4-9E3B-C213CE57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D877-93C6-4B43-BB6B-B22B5EE5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0D76-E932-4804-A446-7B12E806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C574-4516-4CB8-A69A-66ADD69C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4D7-6399-4756-B68C-C171B691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5FB-E1C1-4BD1-9D06-7A499FB9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8FC-A664-4E6B-A177-B1CB49BE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87A-EB39-4984-9344-C50AC0F2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C59-661A-4453-97B7-187E74E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570-262E-4789-A6CD-2D8490A4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09C-1F58-42BA-844E-F472EA90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DA25-A912-480E-A680-5D223004C603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2614-AC04-44D9-AE6A-AC69597D84A1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alek.info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rizový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eata Brosk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ana Matonoh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omáš Procház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Finanční rizik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likvidita - schopnost splácet své závaz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lventnost - dostatek finančních prostřed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tabilita - větší zisky než nákla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ová: - přitlačení k nízké ceně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Mezinárodní rizika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při realizaci vývozu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špatný průzkum odbytiště, nedostatek zákazníků, vytváření velkých zásob v zahranič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spojené s placením - nezaplacení zakázky, měnové rizik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olitická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tanovení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mezen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celkové ohrožení organizace, zvláště příprava alternativ plánu pro zvládnutí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dstranění ohnisek potenciálních kriz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které mohou ohrozit organizaci (existenci konkure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Realizace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Postup při vzniku kriz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dstranění ohnisek krize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mezení celkového ohrožen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zvládnutí krizové situace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ředpokladem k úspěchu j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menování odpovědného vedoucího krizového tý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stavit krizový tým z takových pracovníků, kteří mohou učinit řeš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ajistit rychlý tok informac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droje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imes New Roman"/>
                <a:hlinkClick r:id="rId2"/>
              </a:rPr>
              <a:t>http://halek.inf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Smejkal, Vladimír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Řízení rizik ve firmách a jiných organizacích.</a:t>
            </a: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Dvořák, Jiří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Úvod do krizového managementu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Šenovský, Michail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Základy krizového managementu V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ěkujeme za pozornost 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Krize v 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e to situace, která představuje trvalé nebo po delší dobu negativní odchylku od normálního stavu, ohrožují cíl organizace nebo její samotnou existenc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Arial Unicode MS"/>
                <a:ea typeface="Arial Unicode MS"/>
              </a:rPr>
              <a:t>1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u klesají příj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stou náklad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2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vyšuje se objem úvěrů, rostou splátk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a jeho produkce tzn. "vypadává z trhu"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3. Etap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banky přestávají poskytovat úvěr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u stávajících úvěrů se začnou zvedat úrokové sazb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chybí zisk pro financování rozvoje, či udržení subjekt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bjevují se potíže s platební schopností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subjekt nuceně snižuje zásoby materiálu, a dlouhodobého hmotného majetk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mezují se nákup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4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se dostává do ztráty, nejsou prostředky na pokrytí fixních nákladů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uvnitř společnosti se objevují spory, které se projevují i navenek, ve vztahu k obchodním partnerům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latební schopnost se sníží na minim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vky krizového managementu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dhalení rizika - příčiny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tanovení krizové strategi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alizace krizové strategi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uvnitř podniku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materiálová krize, výrobní krize, personál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mimo podnik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dodavatel má krizi, konkurence, zákazníka, krize způsobená legislativními podmínkam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dělíme do následujících 3 skupin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ůmyslové a obchodní rizik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nan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zinárodní rizika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ůmyslové a obchodní rizik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ýrobní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ciální problé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ákup surov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v oblasti infor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stribu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5:29:38Z</dcterms:created>
  <dc:creator>Start</dc:creator>
  <dc:description/>
  <dc:language>en-US</dc:language>
  <cp:lastModifiedBy>Alena Nováková</cp:lastModifiedBy>
  <dcterms:modified xsi:type="dcterms:W3CDTF">2006-12-03T12:40:28Z</dcterms:modified>
  <cp:revision>4</cp:revision>
  <dc:subject/>
  <dc:title>Krizový management</dc:title>
</cp:coreProperties>
</file>