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CC7-8546-48EA-96FE-D9FF5990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0A1-EC11-4728-98B9-615B427B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A96-10D1-4744-9831-B146090A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861-742E-4217-9597-58125BB3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80F8-59DA-41DC-9915-8C4A9C8E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5EC6-1769-47D2-BE48-6F7CB9B1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A926-57CF-4822-850E-45EC1FEF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4F3E-CD3D-450A-B32A-CED95D67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159A-3F95-4BAA-B2E4-C9AD9CE2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BA12-FF99-4769-A54A-F9646EF8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B788-4BFB-43F4-B995-5B440802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D2B-1462-4480-8231-12A22B2A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ABA2-F3F3-4BCF-AF4C-4A79B02F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6EFF-02F3-448A-BFC5-AB568F79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1F81-8D4F-4497-A959-FF2F509E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821A-C694-470E-ABF3-21433CA1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4C06-BC39-49FC-8F89-E46F32C9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119-7C01-40D2-AA44-6E7D4F45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932-43DD-4461-9B20-A3623558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001-FA7E-4502-8615-C2F8435C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DB8-3244-47A6-A397-924246E9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831-2BF4-4AD4-84C6-09CA07A8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BAA-BB74-4824-BB55-42BBCD88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324-170B-46FE-AC9D-7C1B44E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E81C-C662-41AE-BC7A-9B7C23BF2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AA72-C942-46BC-94E6-3FD723B03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Řízení změny ve firmě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EENGINEERING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11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 změnou:      Po změně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30 dnů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      88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 předání,                27 systé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dny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klesly na 6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ákazník si sám mohl svoje požadavky vyřídit skrz systé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loš Drdla, Karel 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Řízení změn ve firmě – re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chael Hammer, James Champy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dikální proměna firmy – manifest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voluce v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DĚKUJEM ZA POZORNOST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h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poklady, faktory a příčiny změn ve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běh procesu řízené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padová studie – Bell Atlantic Cor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ncepce „7S“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ktura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 říz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lupracovní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ílené hodnoty firmy=kul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p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vádění změn ve firmě závisí na určitých faktorech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lasifikace rozhodovacích problé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zif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užnost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ískávání dodateč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íčiny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lobalizace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měny pracovního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rální zastarávání výrob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voj nových technolog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rychlení socioekonomických proces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oucí síla zákazní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poklady zahájení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nalost dané problematiky a dané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lze změnit pouze jeden element a ostatní ponech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dé budou rezistentní vůči vliv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a chování lidí je dlouhodobý pro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y vyvolávají st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ce na změn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áze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cká analý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ýza silového p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tvoření mode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agenta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intervenčních oblas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ce vlastní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kace dosažených výsled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ípadová studie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ell Atlantic Corp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adelphie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álkový přenos dat                                 20% obratu, 50% zisk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polistické nekonkurenční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říliš velký důraz na kv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ýza pracovních proces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malý a drahý proces vyřízení žád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ýrazné možnosti zkrácení doby na vyřízení a snížení náklad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 prakticky obratem poskytnout zákazníkovi požadované služb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ušet nový proces a provádět libovolné změny v pracovních metodách a procedurá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Ilona Lišková</cp:lastModifiedBy>
  <dcterms:modified xsi:type="dcterms:W3CDTF">2006-11-05T20:40:46Z</dcterms:modified>
  <cp:revision>8</cp:revision>
  <dc:subject/>
  <dc:title>Prezentace aplikace PowerPoint</dc:title>
</cp:coreProperties>
</file>