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713-C690-44D2-9703-284B0D5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E47-DEC0-48B6-AF78-C4FB014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85C-DCA1-4B12-8FA4-1C6D19D7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BE8-1E53-4D2D-B98C-892E14E7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00A-F2E5-408F-988B-610F2A5E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D318-0CCF-4AFF-AE27-22151D34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05CD-A62E-42D3-89E8-FC2DE13D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AC2-EE74-4982-B40C-E4117E0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55C5-C67B-490E-80B3-8FDBB11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97D-B394-47FA-A59E-3578D49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41C4-D560-4C98-AFA3-1C6F667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494-CDFD-45D8-8C39-79E7DA1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D62F-D4AA-492F-9011-DA8E678C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6ADD-F376-4918-B758-FA329DE3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74A8-BE27-4921-B4AE-8AABE91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95A-C74D-4B46-A9D9-ED62C29A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FE4D-5178-4048-946D-47BA989D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4AE-A7A0-482B-8E09-F58EDD5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7E4-877B-450D-9DD2-0AD12B91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FA8-976E-4265-B910-8CC8641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021-A28D-45E4-B7DF-DBA1EC8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3FC-CC18-469E-96C6-BA8351C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40F-CB55-4810-8A04-C96E535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E3E-83CE-428E-9076-DDD8372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9AF-63B1-4D89-BFE0-2BB6385C58A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0E6-8594-43FB-91CA-F41200B4F99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redukci konkurenční střetů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japonská Toyota (montáž automobi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korejská Daewoo (výroba součástí a dí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á Siemens-nizozemská Philips (vývoj v obl.mikroelektroni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ponská Canon-americká Kodak (výroba kopírovacích zařízení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Motorola-japonská Toshiba (společné distribuční sítě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ouzská Thompson-japonská JVC (výroba videorekordér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Ford-japonská Mazda (prodej náhradních dílů partnera na svém domácím trh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ritská Rover-japonská Honda (vývoj technologie pro malé automobi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IBM-japonská Fujitsu (ověřování softwar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E8C-89E1-4D78-BE85-34B347F6E4F2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vznik, přenos a využití znalost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livněny vědeckotechnickým rozvojem v 2.pol. 90.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hodná cesta zapojení se do globální světové ekonom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129-F427-4E47-B72E-308D6B9C5DA1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nější než strategická a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časná síť samostatných podniků, propojených informacemi, aby sdílely dovednosti, náklady a přístup na vlastní tr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ychlé spojení za účelem využití specifické přílež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asová omez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zivní použití moderní počítačové a komunikační technolog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7D43-A523-4A91-B4B1-B0CEDB6B581C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je dosaženo pomocí více či méně autonomní organizace důležitých procesů a týmovou organiza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vedení virtuálního modelu znamená restrukturalizaci organizace i jejího management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ílem virtuální organizace je integrace moderního know-how spolupracujících firem k tvorbě přidané hodnoty pro zákazní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árním cílem je dosažení silného konkurenčního postavení (růst, zisk, podíl na světovém trhu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B57-DEB5-46C7-A8DA-57DC66E701D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ormace firmy probíhá v těchto vývojových stupních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hierarchické organizační struktury k ploché organizační struktuř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mobility pracov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žití moderní počítačové a komunikační technolo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centrace firmy na nejdůležitější podnikové proces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orba virtuálních sítí k dosažení mimořádné hodnoty pro zákazní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104-58EB-4A76-BD15-A9CDC67F2B6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kračování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 dalších letech bude docházet stále více k navazování různých forem spolupráce a zejména k vytváření virtuálních podniků omezených časem, složením a počtem partner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jdůležitější prvkem v globální konkurenci se stávají zna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ální model firmy je vhodný pro novou ekonomiku na prahu 21. století. Implementace tohoto modelu však není jednoduchá, vyžaduje zejména podstatnou změnu myšle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BC3-FBD0-471F-BBC9-0C9EF09E82F3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ček, Vodáčková (2002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,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ber, J. a kol. (2000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: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tedra podnikového hospodářství (2006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II, průvodce studi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[online] Dostupné na: https://is.muni.cz/auth/el/1456/podzim2006/PHMAII/um/PHMAII_Pruvodce_studiem.doc?fakulta=1456;obdobi=3364;studium=208265;kod=PHMAII [Nalezeno dne 23.10.20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443-1948-4601-8FE6-DB8DE78FA83B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ymezení pojmu strategická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odáčková, Vodáček (2000): „Je to organizační forma, která pomáhá zajišťovat kooperativní podnikatelskou činnost. Dvě či více vzájemně samostatných podnikatelských jednotek aktivují a zhodnocují možné aktivují a zhodnocují možné dodatečné efekty spoluprác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FAF-387B-44F4-8120-C1E6DEB5BA4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ákladní formy strategických partnerstv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ležitostná spoluprá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hé“ neformální domluv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ké aliance v užším pojetí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ventur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ěs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žingy (fúze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viz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E68-00AD-4BD7-B726-396F727BA0C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int ventures vs. 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s: pro spolupráci dvou či více partnerů se předpokládá vlastní organizační forma (samostatná podnikatelská jednotka, samostatný provoz, a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ké aliance v užším slova smyslu: volnější forma spolupráce, která vlastní organizační formu podnikatelské jednotky nepředpoklá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2B4-01AF-4642-A512-D3A424E59F4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l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vírány cestou tzv. tiché dohody, např. o cenách, postupech k omezení či vyloučení vzájemné konkurence, výměně informací a znalostí v určité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lo průhledné pro nezúčastněné strany, někdy dokonce v rozporu s etickými pravidly podnikatelského chování (dohody týkající se omezení konkure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dy i dohody o využívání 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0C1-AF6D-48B0-ABAD-87E98E925F25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ěs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pevné propojení původně samostatných partn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méně rigidní (nevýhoda v dnešních chaotickém podnikatelském prostřed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19B-2E61-40C3-9F1B-6927D5D3E2F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lasifikační hledis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nkční hlediska (výrobní aliance, marketingové aliance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ritoriální hlediska (tuzemské, zahranič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rganizační hlediska (horizontální, vertikální, síť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ická hlediska (soukromé, veřejno-práv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cílové orientace (ziskové, nezisk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trvání (příležitostné, krátkodobé, dlouhodob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CBD-7BB4-4A88-8329-F0BBAE3DD30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ítě strategických alianc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tězce nebo sítě firem, které jsou vzájemně snadno porovnatelné z hlediska svých základních podnikatelských činností (např. obchodní firmy s podobným sortimentem výrobků, konzultační firmy se stejným základním zaměřením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tivnější firmy v sítích se snaží v určité míře ujmout „kormidla“ koordinace činností partnerů v síti a celkového směřování jejího rozvoje, např. Kodak (pro části výrobního programu firem Motorola, Philips, 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, Apple, Silicon Graph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54F-6F77-4213-9A6A-8B7E5A71E599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v moderním podnik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spívají k zlepšení podnikatelské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vývojové ry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u účelného a účinného přiřazování potřebný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činn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potřeb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1E8-40FF-492A-940B-0A565B79A19D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58:07Z</dcterms:created>
  <dc:creator>PC</dc:creator>
  <dc:description/>
  <dc:language>en-US</dc:language>
  <cp:lastModifiedBy>Marie Kozlová</cp:lastModifiedBy>
  <dcterms:modified xsi:type="dcterms:W3CDTF">2006-10-25T08:10:24Z</dcterms:modified>
  <cp:revision>5</cp:revision>
  <dc:subject/>
  <dc:title>Strategické aliance</dc:title>
</cp:coreProperties>
</file>