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4E4D-916F-48F2-9C52-61B36774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4A97-68FE-4317-B421-26E818F9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D52-C242-48CE-9B63-2C1EE0FF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852-00E0-4740-A083-725863F4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36B0-9345-4DC3-B4E0-C7DEB954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0C89-02F6-41C5-91DC-FDBB582A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79D1-39C9-4826-83E6-A154B2CC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EF84-707B-486E-A3E2-75D0E3F1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7736-ABFE-4AA4-8826-26AD54A4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5B8E-99FF-4322-8B6F-C5928444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FED8-D218-41E6-A5AC-AA1DC708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1354-00CA-4FF1-BD30-FAE2F1EB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4998-7F2B-4786-AA43-90D9474C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6FE3-C711-43AB-B974-ECE4CE62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EB00-261C-4074-B5B5-1C40FDAA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010E-D112-466A-B411-07A37A7D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7793-D482-43B8-8040-50544462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E5D-1EBD-44D4-9C93-526D0BB7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51EE-0C7E-40AD-9704-BA6C2E8E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FBCB-7C32-485E-A18A-C1D2375C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0BC7-0BD1-4921-90BA-3C6052EB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FEC0-6C7A-4161-ACE4-FCA48F80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2376-0DB3-44DE-931A-920DC696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BAF3-7B33-49D8-850C-1447E0D8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FC99-4BDB-4427-A523-66A7A88354FC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E08B-9FAF-4EB5-AB2B-38351588EC4E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Garamond"/>
              </a:rPr>
              <a:t>Vývoj systémů - přirozená a kulturní evoluc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ára Kozlová, Veronika Paďourová, Barbora Vincenec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ým, prezentace čtvrtek 4.10.200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Vznik a podstata kulturní evoluce a její vztah k evoluci přirozené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Evoluce přirozená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zniká v rámci vývojového procesu vesmí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sitelem je příro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ývoj probíhal několik miliard 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ýsledkem jsou složité, vzájemně provázané ekosysté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voluce kultur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jím nositelem je člově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á svůj původ v přírod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 nesrovnatelně mladší než evoluce přirozen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ýsledkem je kult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bývá globálního rozsah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oužitá literatur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Erben-Eckstein, J. (1999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Časová nesymetrie ve fyzice a nevratnost dějů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Katedra podnikového hospodářství (2006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Management II, průvodce studiem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Thaxton, C. B., Bradley, W. L., Olsen, R. L. (1995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Tajemství vzniku života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igogine, I., Stengersová, I. (2001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Řád z chaosu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Šmajs, J. (2004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Víme, co je evoluce?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Šmajs, J. (2000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Drama evoluce.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Šmajs, J. (1997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Konflikt přirozené a kulturní evoluce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Systém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ubor prvků ve vzájemné interak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dina, studenti ve třídě, pod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émy řídící a řízen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volu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ěj, při kterém se ze systémů uspořádaných určitým způsobem stávají systémy uspořádané dokonaleji než tomu bylo u jejich předchůdců (Management II, Průvodce studiem, 2006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rozená vs. kultur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ruhá věta termodynami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k energie při ireverzibilních dějích směřuje vždy k rovnoměrnějšímu rozdělení energie ve vesmíru" (Thaxton, 199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Podstata</a:t>
            </a: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 přirozené evoluce jako spontánního antientropického děje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Pojem přirozená evolu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 pro většinu lidí spojen pouze se vznikem a vývojem lidského druh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kladním problémem je vnímání přirozené evoluce člověk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pro poznávání evoluce můžeme využívat jen dílčí poznatky vědy a svou představu světa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evoluce zasáhla přírodovědu, chemii, fyziku, sociologii i matematiku.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Na základě mnoha teorií a poznatků lze předpokládat, že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na počátku vesmíru byla jeho uspořádanost nejnižší a že teprve evolucí se postupně zvyšovala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přirozená evoluce pravděpodobně začala před deseti až patnácti miliardami let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ůvodem velkého třesku je narušení původní symetrie systému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Evolu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na rozdíl od entropie  je procesem konstitutivním, směřuje proti rozpad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buduje stále jemnější a diferencovanější struktury i pravidla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potřebuje přiměřenou energetickou podporu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právě díky omezenému energetickému příkonu je zřejmě schopna všemi možnými organizačními způsoby čelit entropii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Evoluční pro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průběh a výsledek je vždy víceméně neznámý, předem nezjistitelný a nepředpověditelný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je složitou dynamickou interakcí informace s prostředím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na všech organizačních úrovních je spoluurčován mnoha nahodilými faktor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4:13:15Z</dcterms:created>
  <dc:creator>Marie Kozlová</dc:creator>
  <dc:description/>
  <dc:language>en-US</dc:language>
  <cp:lastModifiedBy>Martin Krkavec</cp:lastModifiedBy>
  <dcterms:modified xsi:type="dcterms:W3CDTF">2006-10-04T19:43:24Z</dcterms:modified>
  <cp:revision>4</cp:revision>
  <dc:subject/>
  <dc:title>Podstata přirozené evoluce jako spontánního antientropického děje </dc:title>
</cp:coreProperties>
</file>