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5183-3BE7-4D37-88B8-C5EC661132E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utsorcing-Využívání služeb externích pracovníků, zpravidla specialistů nebo jiných podniků, namísto zaměstnávání lidí na plný úvaz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Insourcing-je činnosti opačná, při níž se externí dodávky nahrazují vlastní produkc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mporary help – najímání lidí pouze dočasn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Lidé mají tendenci nazývat outsoursing dvoumožnostním procesem - buď si to uděláte sami nebo si to necháte udělat někým jiný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oto vnímání nebo paradigma ohledně outsoursingu jej redukuje na status krajního rozhodnutí ano-ne mezi zabezpečením kontroly nebo postoupením této kontroly na někoho jiného. Je to právě toto myšlení, které zabraňuje obchodu odzkoušet outsoursing jako legitimní strategii k zajištění obchodních cílů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ísto tohoto pohledu dvou možností, outsoursing by měl být viděn jako dynamický krok s vícero úrovněmi a stup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Core business – možnost lepšího se soustředění na hlavní čin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Něco není ve schopnostech naší fi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áme nedostatek pracovníků nebo naopak trvale nevyužité zaměstnance v dané obla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Falešní outsourcing – např. ušetřím mzdové náklady, daleko více se zaplatí na subdodávká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izika, která s sebou vyčlenění přináší, mohou snadno převážit jeho přínosy. Zamezit nebo předejít rizikům zcela nelze, ale lze je minimalizovat důsledným přístupem a správným smluvním zajištění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zor na tyto aspek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vše definovat v základním kontrak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smlouva je nepojmenovaná, proto by měla být detail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mlouva musí řešit zamezení úniku informac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Informační nevyváženost outsourcingového vzta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B97-FE85-46EF-86FA-C8D31297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358-606A-4346-B91A-76D59600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C4F-4ABA-4FB5-A4E6-02BC0D4A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375-B46F-422D-938B-5E90D066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24BB-5393-4A73-988B-CDAFCD58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D203-9640-4FA8-A351-5D79CA54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6A0A-FE8A-4F11-9B02-00FC5C50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A36A-6895-4163-AFCB-A6BFE61A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B2E6-2640-4FCC-9D7A-1C12676A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B94C-B357-4EA8-8DD7-618C9C24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81F2-D6D6-4596-936E-85064F11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9E1-248B-41A8-8787-0F49DC85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1A74-6333-4CE4-AA58-8A752ED7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D9CF-FAD6-4B36-A3B6-CCDC5E63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C613-0B57-47D1-8E52-1261857A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4E05-4AC3-4B86-AE48-2CB72A1A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2D99-FD8B-4854-A32D-5CA8571A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088-B8A1-4AFD-A7C9-9F4207EF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882-5DD0-4B56-81CE-0CFA245F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5DC-B136-4A9B-A462-139F2B7B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277-C4A2-4B7B-9146-175A4F73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7D9-B196-4289-95EC-3E81E87D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8F2-3DED-47EA-B00A-6998859C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9EE-E3F5-476C-A9E7-A32558DD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BAA5-FD74-4CE2-8165-329F60C11EA5}" type="slidenum"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C75C-9021-44BC-8BED-A8F8203C3A48}" type="slidenum"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sys.com/bpo/services-solutions.asp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80808"/>
                </a:solidFill>
                <a:latin typeface="Tahoma"/>
              </a:rPr>
              <a:t>Outsourcing</a:t>
            </a:r>
            <a:r>
              <a:rPr b="1" lang="cs-CZ" sz="4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9280" y="4971600"/>
            <a:ext cx="89647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Beata Brosková, Tomáš Procházka, Hana Matonohová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odstata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Outsourcing = vyčleňování činností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sourcing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Temporary help = dočasná pomoc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Rozsah vyčlenění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jedna služba             full servic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3789360"/>
            <a:ext cx="936720" cy="360360"/>
          </a:xfrm>
          <a:prstGeom prst="leftRightArrow">
            <a:avLst>
              <a:gd name="adj1" fmla="val 50000"/>
              <a:gd name="adj2" fmla="val 51747"/>
            </a:avLst>
          </a:prstGeom>
          <a:solidFill>
            <a:srgbClr val="00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Vývoj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čátek v 90. lete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 USA mnohem častěji než v „konzervativní“ Evrop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T a komunikační technologi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yužití outsourcingu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10% podniků v Č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40% ve svět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vestování stále větších prostředků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roč OUTSOURCING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Redukce a kontrola nákladů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Core busines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nitřně nedostupné zdroj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Uvolnění zdrojů pro další účel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řístup k prvotřídním technologií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zor na „falešný outsourcing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Rizika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Selhán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Únik know-how, informac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arušení ostatních podnikových procesů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Bankrot dodavatel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epředpokládané náklad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Ztráta kontroly nad procese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erespektování smlouvy a závazků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Porušení obchodního tajemstv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ízká zkušenost se specifickým typem smluv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80808"/>
                </a:solidFill>
                <a:latin typeface="Tahoma"/>
              </a:rPr>
              <a:t>Možnosti outsourcingu v oblasti lidských zdrojů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radenské firm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ersonální (recruitment) agentur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Head hunter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Agentury zajišťující sezonní zaměstnance a pracovníky pro vykrytí špiček ve výrob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řípadové studi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Nik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ězení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fosys BPO </a:t>
            </a:r>
            <a:r>
              <a:rPr b="0" lang="en-US" sz="32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http://www.infosys.com/bpo/services-solutions.as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DOMBERGER, S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The contracting organization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. New York: Oxford, 1998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SEQUENSOVÁ, H. a kol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Lidské zdroje? 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Praha: Question marks, 2005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STÝBLO, J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Outsourcing a outplacement.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 Praha: ASPI, 2005. ISBN 80-7357-094-7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/online/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Proč outsourcing? 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Dostupné z:http://www.start.cz/index.php?pid=213&amp;lang=cz4.11.2006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1:05:15Z</dcterms:created>
  <dc:creator/>
  <dc:description/>
  <dc:language>en-US</dc:language>
  <cp:lastModifiedBy>Hana Hečková</cp:lastModifiedBy>
  <dcterms:modified xsi:type="dcterms:W3CDTF">2006-11-05T17:07:04Z</dcterms:modified>
  <cp:revision>53</cp:revision>
  <dc:subject/>
  <dc:title>Outsourc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29</vt:lpwstr>
  </property>
</Properties>
</file>