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D4914-8B9F-4FD6-A996-C3F50E5E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D477A-6420-48E5-AC13-B2E2F329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C290D-4DA1-47FB-844E-15DD6C20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26A13-0CB8-442C-A8B1-78C92AAF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1864-E49E-4DE8-B07A-473E6B85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5590-935A-4F09-B867-A971736D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930E-44C7-497A-BE94-53BE051A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31B8-DF0B-4D9E-8E04-C441B204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EE7E-7237-4C03-985E-849AAA40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E732-1AAD-486C-8AC4-D09E4E72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8538-B113-4C21-8B43-C5CE81DD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F5283-3B8E-4D56-B3ED-89BF9EE8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1F23-6C74-43A0-AD17-75FAA4C8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BF16-D891-4D79-B45D-5F388579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0653-182C-42FA-91CF-CD04FD62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7844-51C3-4A4D-9DA1-6A23333A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D026-B027-4E40-A614-189FBF29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DCA37-8086-4374-AB9D-686AE3F5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0888D-EAAD-42CB-A699-2DB04146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24A1C-FCB1-4E80-BC36-53903AB9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7A985-3C59-41E5-87DE-6C0627E7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16A5-665A-4F7F-9A07-8F468D2D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FCE51-01B9-4B5E-906B-DC45A462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B651A-9391-4EE1-B10C-FDD5A832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CB23-CEDD-4745-A209-0D5B01C8A0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1730-65B3-4ECC-84F2-89C43D1BD1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2400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000" spc="-1" strike="noStrike">
                <a:solidFill>
                  <a:srgbClr val="e5e5ff"/>
                </a:solidFill>
                <a:latin typeface="Garamond"/>
              </a:rPr>
              <a:t>Family busines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Tomáš Doná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Iveta Pecharov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Kristián Sem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Hrozby pre existenci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Nepotiz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yndróm zhýčkaného dieťať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duch otca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dojenie´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Kritický okami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92000" y="2421000"/>
            <a:ext cx="583236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ff"/>
                </a:solidFill>
                <a:latin typeface="Garamond"/>
              </a:rPr>
              <a:t>NÁSTUPNÍCTVO..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Príklady 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Ford Motor Comp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. C. Johnson &amp; S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Procter &amp; Gambl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al-Mart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udva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tella Artoi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Guinnes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Mart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Zildjia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Faber-Cast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hristie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h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l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eretta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iff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ivoli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iemen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Encyclopædia Britannic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Lloyd's of Lond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ank of New York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JPMorgan Chas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American Expres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HSBC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estern Unio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itibank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North West Comp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ilkinso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Goldsmith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DuPon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Pfizer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lgat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oper, Erving &amp; Savag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he Guardia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Inquirer &amp; Mirro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he Saturday Evening Post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New York Tim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Referenc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Kotey, B. (2005)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‘Are performance differences between family and non-family SMEs uniform across all firm sizes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International Journal of entrepreneurial behaviour and research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ol.11 (6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hrisman, J. J. (2005) ‘Trends and directions in the development of a strategic management theory of the family firm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Entrepreneurship: Theory and practice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lackwell Publishing Ltd., Sept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arney, M. (2005) ‘Corporate governance and competitive advantage in family-controlled firms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Entrepreneurship: Theory and practice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lackwell Publishing Ltd., M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Hanzelkova, A. (2004) ‘Re-establishing traditional czech family businesses’ Publishing Unit, University Library of Jyvaskyla, ISBN 951-39-1909-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Ďakujeme za pozornosť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Definíc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Rôzne kritá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ercentuálny podiel na fir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očet generácií spojených s podnik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Veľkosť podni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Budúce zámery (zapojenia firm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Kontrola nad strategickým rozhodovaní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očet rodinných príslušníkov vo fir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Charakteristika 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amily business je spoločnosť vlastnená, kontrolovaná a riadená členmi jednej alebo niekoľkých rodí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lastnost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kúposť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ersonalizmus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artikularismus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Rodinn</a:t>
            </a:r>
            <a:r>
              <a:rPr b="1" lang="sk-SK" sz="4000" spc="-1" strike="noStrike">
                <a:solidFill>
                  <a:srgbClr val="e5e5ff"/>
                </a:solidFill>
                <a:latin typeface="Garamond"/>
              </a:rPr>
              <a:t>é podniky v Českej Republik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1. tento druh podnikov – oficiálne ešte nerozpoznaný ako špecifická forma obchodnej jednotky (na úrovni akademickej i vládnej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2. unikátna história –&gt; niekoľko špecifických skupín podniko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3. dôsledok = väčšia výzva než v rozvinutejších ekonomiká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Kategór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62744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2592360"/>
                <a:gridCol w="2962440"/>
              </a:tblGrid>
              <a:tr h="5205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oba pôsoben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l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Krát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Veľkosť podnik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Veľk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obnovené tradičné rodinné 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vo založené rodinné 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Mal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obnovené tradičné živnosti a iné mikro-obch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vo založené živnosti a iné mikro-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Dôležitosť rodinných podnikov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otec a syn´ x nadnárodné korporácie, ale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Benetton, Ferrerro, Ford, Estee Lauder,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Ekonomická hodnota a význ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GDP, zamestanosť – 45 - 70% (sve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Zastúpenie medzi firmamy – 70 - 95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5e5ff"/>
                </a:solidFill>
                <a:latin typeface="Garamond"/>
              </a:rPr>
              <a:t>Percento rodinných firiem z registrovaných firi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Kraj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Percen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Portugal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pojené Kráľovst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paniel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vajčiar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véd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alian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tredný vých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U.S.A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8360" y="6308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6381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Garamond"/>
                <a:ea typeface="Arial"/>
              </a:rPr>
              <a:t>Zdroj: Neubauer a Lank, 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Family vs. Non-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Práca s vlastným / cudzím kapitál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lastník = /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≠ CE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Odpovednosť rodine / vlastník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Byrokracia / možnosť obísť 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naha o dlhodobé a priateľské vzťahy / neosobnosť, formálnosť a komplexnosť v partnerských vzťaho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Prítomnosť rodiny – plus/mín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úbežné ro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Zdieľaná ident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Citové zaujatie a ambival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ýznam rodinného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3:13:58Z</dcterms:created>
  <dc:creator>something</dc:creator>
  <dc:description/>
  <dc:language>en-US</dc:language>
  <cp:lastModifiedBy>Tomas Donat</cp:lastModifiedBy>
  <dcterms:modified xsi:type="dcterms:W3CDTF">2006-11-06T22:47:46Z</dcterms:modified>
  <cp:revision>3</cp:revision>
  <dc:subject/>
  <dc:title>Family business</dc:title>
</cp:coreProperties>
</file>