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9C6-226D-4BDE-9E12-E2F85864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C2D1-2516-443D-99A4-7A5A43DB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895-D228-4099-91D7-41C876A5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8F0-3803-43B9-9427-FB6C8DED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13B2-DE05-48D7-BAFE-BFFA45C8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0BEF-93D5-43D8-85CF-57F0DEB0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E0AF-9DBD-4F8D-8ED2-653FD1C3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38BB-014A-416C-9C74-6D45EA2E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3944-9895-4706-8DD2-D1E18E6B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5167-3365-47C7-BDF9-E502BEA1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A603-2B36-451E-BDA4-487870C0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D8A-35D9-45BE-9C2A-06B7D84E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91BC-5475-4A3C-9BE9-C9DF821C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9DE8-AEE0-43CD-8F24-0A0918FA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B072-C0B5-4FDE-97C3-1553DE50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8E88-7C3D-4407-93C6-84B9C254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1631-1E91-43DE-B012-A67A6CB8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0EF-4C59-43E1-9A2F-8C685206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C3E-36D7-4110-8A19-C61BB084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F63D-30B5-4D92-9DA6-797BE504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CB0D-7957-4AA6-B21B-DB3CBBA3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B20-7848-4F36-8F38-BBD0F2F5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1E4A-7470-4236-B285-5E4C425E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162-0671-43E7-BC11-C7D99AEE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6A28-0536-46F4-8A06-AD4984ED4720}" type="slidenum">
              <a:rPr b="0" lang="cs-CZ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CD9E-AF61-4091-8FA0-5D2C1406AF01}" type="slidenum">
              <a:rPr b="0" lang="cs-CZ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íťové organizační struktur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kteristiky podnikatelských sí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ítě malých a středních fir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ktické aplikace síťových strukt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ktory ovlivňující úspěch výrobních sí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kušenosti z prax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radiční problémy malých fir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abá pozice v soutěži o veřejné zakáz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soké administrativní zatíž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dosažení úspor z rozsa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abá vyjednávací pozice s velkými obchodními řetěz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ýhody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výšení trže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nížení nákladů – při uzavírání transakcí, výrobní 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nadnější řešení vzniklých problém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stup k informacím a znalo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flexibilita a adaptabilita – levnější a inovativnější řeš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ískání možnosti vstoupit na nové tr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ozdělování rizika mezi členy sít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říklady aplikací sítí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FRANCHIS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rganizačně-obchodní spojení poskytovatele franchizy (franchisor) a jejího příjemce (franchisanta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ztahy jsou upraveny smlouvou, která obsahuje licenční prvk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3739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ináší výhody oběma straná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příjemce franchiz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užívá řadu znalostí a zkušeností franchiso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etří náklady nakupováním ve velk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etří náklady na reklam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3739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poskytovatel franchiz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kamžité rozšíření obchodní sít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ožnost proniknout na vzdálené trh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entrum se může věnovat pouze strategickým úkolům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iziko je rozloženo na mnoho subjekt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říklady aplikací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NĚČNÁ ORGANIZAC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vořena malými podniky (buňky), z nichž každý usiluje o dosažení podnikatelských příležitostí, společně sdílí know-how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eliká flexibil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ustále se vytvářejí nová partnerstv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ňky samy vyhledávají nové podnikatelské příležitost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Faktory ovlivňující úspěch výrobních sítí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ůvě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gažova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ýběr partner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užití služeb zprostředkova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užití informační technolog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kolní prostřed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Empirický výzkum sítí v US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 základě studie Sherer z roku 200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sloveno 159 sítí, spolupracovalo 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naha seřadit faktory důležité pro úspěch sí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ětšina sítí vznikla na počátku 90. l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ítě hlavně ve výrobě kovů, elektronice a strojírenstv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ýsledky výzkum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jdůležitější faktory: charakter účastníků (důvěra), podpora ze strany vrcholového vedení (angažovanos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jméně důležité faktory: informační technolog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Testované hypotézy ve výzkumu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významná příčinná závislost mezi finančními a nefinančními výstupy sítě a důvěr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silná přímá závislost mezi dobou, po kterou jsou firmy členy sítě, a celkovou úrovní důvě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Úroveň důvěry je v sítích fungujících méně než dva roky výrazně nižší než v sítích starších dvou l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c4c3a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Charakteristiky podnikatelských sítí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matické změny trhů (80. léta) - rozvoj síťových struk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ítě = „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louhodobé dohody mezi vzájemně spjatými firmami, které jim umožní získat a udržovat si konkurenční výhody ve vztahu k firmám, které do této sítě nepatří.“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ganizačně řídící aspekt - řídící článek vzniká v procesu spolupráce všech strukturálních prvk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jování konkurence a koopera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lečné využívání informac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ýhody síťových dohod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úspora náklad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yšší konkurenceschopno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Testované hypotézy ve výzkumu (2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silná nepřímá závislost mezi počtem členů a celkovou úrovní důvě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významný rozdíl mezi úrovní důvěry v sítích řízených formální a neformálním způsob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ítě starší jednoho roku s formálními mechanismy řízení vykazují mnohem vyšší úroveň důvěry než ty, které jsou řízeny spíše neformáln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íťové struktury v E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ěmeck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xtilní výroba (malé a střední podniky spojeny s výzkumnými a technologickými ústavy, konzultačními firmami a marketingovými organizacem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ziodvětvové spojení (dodavatelé surovin, materiálů, barviv,…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Klasifikace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lavní důvody pro síťovou formu spolupráce firem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klasický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orientovaný na co největší rentabilitu zdrojů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inovační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využívá všech možností k rozvoji výroby když vlastní zdroje nestačí)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ákladní typy sítí (Snow, Miles, Coleman - 1992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vnitropodniková síť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statická síť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dynamická síť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nitropodniková síť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ředpoklady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ma vlastní všechny zdroje potřebné k podnikatelské činn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ngování vnitropodnikového trhu, na kterém se obchoduje za reálné tržní ce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&gt; Motivace interních jednotek k provádění zlepšení a inovac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tatická síť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užívá částečně outsourcing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ozložení vlastnictví aktiv a rizika mezi několik fir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ýhod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polehlivost v oblasti dodávky nebo distribuce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evýhoda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tráta flexibility firem,které se stanou závislé na ústřední firm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Dynamická síť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ůdčí firma využívá zdrojů, které jsou z velké části nebo zcela vlastněny jinými společnostm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ýhod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skytují jak flexibilitu tak specializac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zdílná kvalita v jednotlivých firmách, potřebná odborná znalost může být dočasně nepřístupná, riziko zneužití příslušných znalostí a technologi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ynamické sítě fungují nejlépe v konkurenční situaci, kdy je každý z hráčů nucen tržními tlaky být spolehlivý a využívat výhod své specializac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ypologie podnikatelských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herer (2003) rozlišuje 2 skupiny sítí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Měkké sít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ítě, do kterých se firmy sdružují s cílem učit se od sebe navzájem tak, aby mohly provést změny, které zlepší jejich konkurenceschopno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ítě firem, jež sdílejí společné zdroje, které mají k dispozi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Tvrdé sítě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arakteristická vyšší úroveň vzájemné závislost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 rámci tvrdé sítě jsou často sdíleny všechny vědomosti a odborné znalosti =&gt; větší příležitosti, ale vyšší rizik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ítě malých a středních fir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tvoření sítě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lavní strategií rozvo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dmínka: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vzájemná důvěra a vzájemná podpora o ochota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účastníků sítě vzdát se vlastní výhody, pokud to prospěje síti jako celk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tivací překonání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řady tradičních problém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lých firem a získání určitých výhod velkých fir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radiční problémy malých fir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lá ekonomická síla ve srovnání s velkými podni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rší přístup ke kapitálu (omezuje možnosti financování rozvojových aktivi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tížená možnost odborného vzdělávání zaměstnanců a manažer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kalá konkurence ze strany velkých podniků a dumpingové ceny dovážených produk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1:18:37Z</dcterms:created>
  <dc:creator>Brno</dc:creator>
  <dc:description/>
  <dc:language>en-US</dc:language>
  <cp:lastModifiedBy>Procházka Jan</cp:lastModifiedBy>
  <dcterms:modified xsi:type="dcterms:W3CDTF">2006-11-08T14:19:52Z</dcterms:modified>
  <cp:revision>6</cp:revision>
  <dc:subject/>
  <dc:title>Sítě malých a středních firem</dc:title>
</cp:coreProperties>
</file>