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75D-AFC5-4282-B3AA-2F0E67E6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9C2-40E1-4396-8F36-A8D1A19E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DEFE-F3AD-4C7C-A268-3D4A749F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6341-5017-40F1-9752-11DEC82B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1150-B784-4E4B-BA2F-9354A9A7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74BA-C6A1-48F0-8DAC-151F860D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D476-223A-45C7-BF88-1D7504EB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6146-7432-40EC-B08F-98F10AB2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9618-964E-4DEC-93D3-59FA06CF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5B41-CCA7-40B3-B913-3A244A01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3E76-C4AF-471B-AC6B-9A9BA576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285-80D6-41A5-BB65-48969DAB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50EE-083C-4681-9325-B7E90067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2AC3-88D3-4A9C-8681-D80D42F4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E9F1-D981-4A6C-AA53-1D8B64B4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6654-4BDD-4DE0-A8BF-D33C1D84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76EA-0BEE-4EE9-8B75-5C124676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719-8845-4FDC-A934-4F01B54D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561-DC0F-4784-B0C9-5FC29678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EAC-C8DC-4473-AF83-3EEE824A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1F5C-3788-4E0D-AF80-FF5BFB8B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C51-C66A-4AE4-849E-377B9E6F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19BD-7C20-4CC1-9521-E838F4D9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9E20-30E4-4BF8-A294-718191FD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3EB4-16B6-4336-B939-25591345ECE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E21A-D977-4D55-A9BB-AC9A8C05149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Vývoj podniků v industriální společnosti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čátky industrializa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čátek 18. stol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kce pro vlastní výrob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ovýroba -  produkce jen pro lokální tr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derní industrializa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padající úloha zemědělství (rostla produktivita moderního zemědělstv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ste podíl pracovních sil zaměstnaných v terciální sféř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užívání stroj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vé neživé zdroje ener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alší aspekty vývo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. století – průmyslová revolu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ste produktivita, zvyšuje efektivita fi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ývoj institucí (právo – Obchodní zákoní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yužívání vědy v průmysl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silování stabilit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ncentrace (růst objemu kapitál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ce práce kapitálem (růst kapitálového vybavení prá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ižování počtu firem (likvid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Vznik oligopol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vestiční nároky vedly ke vzniku větších fi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mogenní struktur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→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heterogenní (oligopo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anažerská revolu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znik velkých korporací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→ vznik akciových společností → potřeba oddělení vlastnictví od říz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Zisk už není hlavním cílem podnik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naha o zhodnocení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oldingové společnosti – řídí další korpor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užitá literatura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ameron, R. : Stručné ekonomické dějiny světa. Praha: Victoria publishing, 199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ich, R.B.: Dílo národů. Praha: Prostor, 199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lažek, L. : Management II, Průvodce studi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9:09:33Z</dcterms:created>
  <dc:creator>Franta Konopásek</dc:creator>
  <dc:description/>
  <dc:language>en-US</dc:language>
  <cp:lastModifiedBy>Franta Konopásek</cp:lastModifiedBy>
  <dcterms:modified xsi:type="dcterms:W3CDTF">2006-10-16T10:04:49Z</dcterms:modified>
  <cp:revision>3</cp:revision>
  <dc:subject/>
  <dc:title>Vývoj podniků v industriální společnosti</dc:title>
</cp:coreProperties>
</file>