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AE82-47C8-4297-A44F-AA573EA0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19BA-2731-4EAA-BA60-42397D0A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5420-2F8F-4C44-8A5F-6992B8DD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1EC8-E462-4577-8977-DAFCB7A6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002E-6800-47C3-9510-3C571C4B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4DEE-754E-4303-87E0-899051BA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EA27-9CC9-4205-B2C8-35E05086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5A5A-1FC2-4ADE-88F6-2055BA9E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BCAA-45C2-4CCD-AA38-8F063314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5565-FB78-4FF0-8B7C-1D294257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3E87-9580-4106-8DF7-11471042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CB29-D360-4D1F-9F56-45AC5CE7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6DC8-4FF4-4DC5-BAF9-ED118A17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FEA4-86B1-475E-8CEC-E6AC93FD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6AF4-4B9A-4A16-82CD-6EE6C641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F40D-5C4E-41C0-A7B6-B0E5C856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6A70-6E4A-4A99-9B95-F0B7EBCA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A4AC-9DA7-4BE5-9453-716578E7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EFE5-D531-43FA-9B61-1EE27C50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22E6-3BA1-4F22-8C25-5C654F08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D429-5CA5-4950-9061-8B854D14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FB08-EF7D-45B8-9DB7-ED7FB053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B8E2-E085-4056-A861-4AF6839C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9458-DB4F-45F5-B2FD-D23432FC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149A-7154-42B6-B61B-0ADF6D501BE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0D9A-CAA8-46B1-B17D-065A8C95D54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Informační společnos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leonóra Baculák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Lenka Kotoulk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rie Kutílk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30481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19320" y="30481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KONEC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RITZER, G. 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Mcdonaldizace společnosti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Bell, D.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Kulturní rozpory kapitalismu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 ce"/>
              </a:rPr>
              <a:t>Článek - Informačná spoločnosť – globálna výzva v novom miléniu, </a:t>
            </a:r>
            <a:r>
              <a:rPr b="0" i="1" lang="cs-CZ" sz="3200" spc="-1" strike="noStrike">
                <a:solidFill>
                  <a:srgbClr val="ffffff"/>
                </a:solidFill>
                <a:latin typeface="arial ce"/>
              </a:rPr>
              <a:t>Jana Stadtrucker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 ce"/>
              </a:rPr>
              <a:t>Článek Nová ekonomika a globální společnost, Radek Froulí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Vývoj</a:t>
            </a:r>
            <a:br>
              <a:rPr sz="5100"/>
            </a:b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eindustriální společnost ( začátek před 250 až 350 léty) se vyvinula do společnosti industriál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 60. létech 20. století se objevují názory, že i industriální společnost je překonaným pojmem a začíná se pracovat s fenoménem jménem informační společ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Hlavní rysy informační společnosti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vaha práce s informacem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nteraktivi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ntegrace a globalizační tend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Informační společnost znamená soustavné využívání prvků všech dostupných moderních informačních technologi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e zpracování informací se stává velmi důležitá ekonomická aktivita, vytvářející zcela nové příležitosti a činnosti, které ovlivňují charakter společ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4c3aa"/>
                </a:solidFill>
                <a:latin typeface="Arial"/>
              </a:rPr>
              <a:t>Reprezentanty informační společnosti se stávají administrativní pracovníci, kteří se:</a:t>
            </a:r>
            <a:endParaRPr b="0" lang="en-US" sz="2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cializují na produkci a zpracování inform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yto informace jsou digitálně zpracovány, uchovávány a přenášeny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možňují rychlou reakci na změny v pracovním prostředí, což je jednou z podmínek úspěšné adaptace na stále se měnící podmín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4c3aa"/>
                </a:solidFill>
                <a:latin typeface="Arial"/>
              </a:rPr>
              <a:t>Nejen jednotlivci a firmy, ale i národní ekonomiky jsou nuceny využívat informace ve stále větší míře, neboť investice a pracovní příležitosti se přesouvají do zemí, které vykazují nejvyšší míru adaptace s touto situací</a:t>
            </a:r>
            <a:br>
              <a:rPr sz="4300"/>
            </a:br>
            <a:endParaRPr b="0" lang="en-US" sz="43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Informační společnost a globalizace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nzivní využívání a možnost rychlé výměny všech druhů informací jsou jednou z podmínek, které daly vzniknout globalizac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lobalizace – všechny změny ve společnosti a ve světové ekonomice, které jsou důsledkem dramatického vzrůstu mezinárodního obchod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sbližování kult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Komunikace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s využitím všech nejnovějších prvků informační společnosti se komunikace stává stále obtížnějš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Žijeme v otevřených systémech, musíme zvažovat naše (i globální) okolí, vše s ohledem na budouc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toto je jedním z důvodů, proč se vyvinu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polečnost věděn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ává se logickým následníkem informační společ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ědění samo o sobě se stává klíčovým faktorem produk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zrychlily a zlevnily přístup k vědění a informací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5:55:54Z</dcterms:created>
  <dc:creator>Marie Kutílková</dc:creator>
  <dc:description/>
  <dc:language>en-US</dc:language>
  <cp:lastModifiedBy>CIKT</cp:lastModifiedBy>
  <dcterms:modified xsi:type="dcterms:W3CDTF">2006-10-16T09:09:08Z</dcterms:modified>
  <cp:revision>5</cp:revision>
  <dc:subject/>
  <dc:title>Informační společnost</dc:title>
</cp:coreProperties>
</file>