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BA0A7-980F-4E74-8F45-E5BFD06D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FF7CD-E3C4-4C3C-9ACF-6F7081CE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19DA3-7ECF-40A2-B3BD-84D16726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70779-DE43-4B78-B262-54779B18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0438-B167-468B-B9F9-A2A1D3C7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D1E5-B842-4092-880C-F8CAFA88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2967-1A22-4975-919C-FF9482E5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3E64-E1C9-482E-91EB-AC982DA8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8FAF-9F93-4AF4-9070-614FB463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86BF-4F54-4AEF-AEFC-8452C0CD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A6FD-16DC-4E02-9808-E251D04A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5BFC-2660-4A75-BD00-06854DA0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53C2-1B4B-458E-98BC-17A64089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3345-7644-4C4B-899A-C9D3C92B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EE81-AF67-4168-B75C-4439DE5B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9040-61A5-4836-BCCD-510A6B24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BD2E-22A4-48DC-8A18-265C3296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C7CD-86F6-4BA2-B902-3D645FDA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7DA3-221C-488A-87AB-BA4168DB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26973-97F2-4DAD-ADDC-138DE522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54C54-A44D-4915-ADDD-046B2CAA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EF534-1A37-40A3-B308-11D627C5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97592-A483-4DA2-828B-6E21FC66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BD750-9522-467B-BA39-C158A244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3F79-21BC-4F81-82BD-EF97CC5C22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E6B2-9462-435D-A045-903BF24CC5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1628640"/>
            <a:ext cx="82803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3500" spc="-1" strike="noStrike">
                <a:solidFill>
                  <a:srgbClr val="f8f828"/>
                </a:solidFill>
                <a:latin typeface="Garamond"/>
              </a:rPr>
              <a:t>CHARAKTERISTICKÉ RYSY</a:t>
            </a:r>
            <a:br>
              <a:rPr sz="3500"/>
            </a:br>
            <a:r>
              <a:rPr b="1" lang="en-US" sz="3500" spc="-1" strike="noStrike">
                <a:solidFill>
                  <a:srgbClr val="f8f828"/>
                </a:solidFill>
                <a:latin typeface="Garamond"/>
              </a:rPr>
              <a:t>A ZÁKLADNÍ PRINCIPY</a:t>
            </a:r>
            <a:br>
              <a:rPr sz="3500"/>
            </a:br>
            <a:r>
              <a:rPr b="1" lang="en-US" sz="3500" spc="-1" strike="noStrike">
                <a:solidFill>
                  <a:srgbClr val="f8f828"/>
                </a:solidFill>
                <a:latin typeface="Garamond"/>
              </a:rPr>
              <a:t>INDUSTRIÁLNÍ SPOLEČNOSTI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60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3. Seminární skupina – 2. tý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František Karber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Kebo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Jiří Male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Charakteristické rysy preindustriální společnosti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ůda představovala základ hospodářství, života, kultury, rodinné struktury a politiky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spodářství bylo decentralizované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ěna výrobků byla omezená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evládala jednoduchá dělba práce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ůvod determinoval postavení člověka v životě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istovala přísně autoritářská pravomo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říčiny vzniku druhé vln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v Nového světa, růst počtu obyvatelstva, který povzbuzoval přesuny do měst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yčerpání lesů, vedoucí k využívání uhlí → parní stroj → nebývalé možnosti rozšíření výroby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šiřování vědeckých poznatků využitelných v technické praxi, rozvoj "industriálního" myšlení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ynalezení knihtisku, růst gramotnost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rincipy industriální společnosti </a:t>
            </a:r>
            <a:br>
              <a:rPr sz="43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 dominantní princip industriální společnosti lze považovat princip oddělení výroby a spotřeby. Na tento princip pak navazují další principy, a to princip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ělby práce na základě specializ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nchroniz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izac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centr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aliz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ntraliz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Oddělení výroby od spotřeb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ÝROBA◄►SPOTŘE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se stal expanzivní a samostatná institu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árůst dělby práce, která směřovala k prudkému růstu její produktivit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ěna, do té doby jen okrajový jev, se přesunula do ohniska dění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lba práce na základě speci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ddělení výroby od spotřeby je první krok na cestě ke stále se prohlubující specializaci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lověk Spotřebitel   X   Člověk výrob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ynchron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ále hlubší dělba práce si vynutila též změnu způsobu, jakým lidé nakládali s čas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asová koordinace = Život většiny lidí běží podle jednotného rozvrhu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ZNIK MODERNÍHO MANAGMEN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tandard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lak na zefektivnění výrob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chází k sjednocení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robních postup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robních zaříze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školení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troly a hodnocení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Garamond"/>
              </a:rPr>
              <a:t>managementu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Koncentr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ůvo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ělba prá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iz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áslede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středění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izovaných pracovníků do c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voj mě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Maxim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ký příklad – automobilové závody v U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a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 je obrovské, je zároveň dynamické a dobře fungující.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edlost rozvoj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Centr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ntralizace mo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esun moci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zefektivňování činností jednotlivých c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del typický pro industriální společnos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ntralizace moci vytvářením nadstátních cel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ntralizace moci vytvářením gigantických podni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6000" spc="-1" strike="noStrike">
                <a:solidFill>
                  <a:srgbClr val="f8f828"/>
                </a:solidFill>
                <a:latin typeface="Garamond"/>
              </a:rPr>
              <a:t>PRVNÍ VLN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ffff"/>
                </a:solidFill>
                <a:latin typeface="Garamond"/>
              </a:rPr>
              <a:t>Preindustriální společnos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kujeme za pozornost.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oužitá literatu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Šok z budouc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Praha : Práce, 1992. ISBN 80-208-0160-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The Third Waw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New York 198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, TOFFLEROVÁ, H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Nová civilizace.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aha : Dokořán 2001. ISBN 80-86569-00-4.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Charakteristické rysy a základní principy industriální společnosti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d p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átku lidstvo prochází kulturní evolucí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d 350ti lety nástup idustriální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am vývoj lids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é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 s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uje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am a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ž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ést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de jsme prá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ď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Ubírá se naše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 správnou cestou?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Kam směřujeme?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va názo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Vývoj bude probíhat 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roz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n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, vylo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í 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dstavy zásadní odlišnosti budoucí civiliz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udoucí civilizace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bude zal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a na so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sných principech fungování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ptimismus, víra v lepší zítř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Kam směřujeme?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esimistické očekáv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olitické krize, terorismus, globální konflik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ramatický růst populace, narůstající chudoba, vyčerpání přírodních zdrojů, ekologická hrozb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zor A. Toffle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Americký sociolog a publicista a. Toffler přichází s představou vývoje lidské společnosti v určitých vlná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ásledující vlna se prodírá na místo vlny předchoz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ůsobení těchto vln je koexistenč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zor A. Toffle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ývoj lidské společnosti lze rozčlenit do třech vl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polečnost preidustriál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Idustriál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stindustriál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rvní vln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řináší preindustriální civilizaci -zemědělskou společ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ba trvání cca 10 000 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8f828"/>
                </a:solidFill>
                <a:latin typeface="Garamond"/>
              </a:rPr>
              <a:t>DRUHÁ VLNA</a:t>
            </a: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nástup industriální společnost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8:12:51Z</dcterms:created>
  <dc:creator>99800</dc:creator>
  <dc:description/>
  <dc:language>en-US</dc:language>
  <cp:lastModifiedBy>Jirik</cp:lastModifiedBy>
  <dcterms:modified xsi:type="dcterms:W3CDTF">2006-10-04T20:45:34Z</dcterms:modified>
  <cp:revision>14</cp:revision>
  <dc:subject/>
  <dc:title>Druhá vlna  </dc:title>
</cp:coreProperties>
</file>