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CB7-F4F4-45B1-9738-8984AEE7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721-A710-491A-BE92-DDA4ECFC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B29-1BCC-4B00-B31D-E94D68A7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794-CFD4-4AB2-A364-CDF2999D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35A0-3DAA-4762-AE51-1CBA8FAE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6764-DED2-4E77-8465-E676379F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BF97-47A5-493C-AE5C-E12A08AF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BFEE-4AB3-4EF3-B142-DEA18A42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81A2-3B16-4ED6-A4F4-1FE04AC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C1A0-2C85-4EB2-BC21-A2DA138F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3B86-5F21-4979-9CB3-AC87D72D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A11-B4C4-48A7-AACB-BD9E8AC8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F2CD-E2AB-4CF8-81BF-0B68299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AC32-7ED5-4FB1-99FF-58EE8E1A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FF1-462D-4202-ACB5-813CCE73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DA3A-E242-4284-A547-B16A37CF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3444-57A5-4008-B441-7A095A64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EDD-86D5-49B1-B2ED-17F912E4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E14-EDE3-4128-AA23-FA71288F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E3F-797F-4DC3-87D3-5A55687D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3F9-FFAA-4C5E-A2BF-6920D497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627-5130-47B9-9421-B107C000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9AE-989C-4ED0-81C0-586A979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B80-114F-4F71-B333-FFA18826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B780-D2CF-4BE6-932F-483878CD03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BD1B-7378-4F6C-8C76-DBF08C3231E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  <a:ea typeface="Times New Roman"/>
              </a:rPr>
              <a:t>Vysoce zhodnocující podniky</a:t>
            </a: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např.  McDonald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zi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egrace, 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é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, hodnot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ys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obsah kalor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sledování zpětných vazeb od zákazníků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př. Merce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atributů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echnicky vynikající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, robust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dra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ání osobnos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dního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ku, ser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metodic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autorit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í zv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t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uživate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š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ákazník, odbo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rofe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3885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ěkujeme za pozornost………otázky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Jan : Znalostní podnik ve znalostní spol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osti ISBN-80-86419-35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eber Jaromír a kol. : management – základy, prosperita, globalizace ISBN-80-7261-029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Bl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Ladislav : Vývojové tendence podniku ISBN-80-210-3213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oret Miroslav : Marketingová komunikace ISBN-80-7226-811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řechod mezi industriální a postindustriální společnost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 opouštění velkovýr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znalostí a možností 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ředky směřující k vysokému zhodnoc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HARAKTERISTIKY TRŽNÍHO PROSTŘED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stoucí konkurence mezi velkovýrobci -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nižování cen = i zis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chod na produkci speciálních výrob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nových technologií, know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daptace na potřeby konkrétních zákaz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 KLÍČOVÉ VLASTNOSTI PRACOVNÍK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identifikovat problémy potenciálních a stávajících zákazní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it tyto problémy jed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m z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ob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propojovat identifikaci problé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 jejic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ení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identifikovat problémy potenciálních a stávajících zákazník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ů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2438280"/>
            <a:ext cx="85406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ůvo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vorba podni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iz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vní řízen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ě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konn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it problémy jedine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č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ným zp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sobe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stálé hledání doprovázené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kombinace, postu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ziko spojené s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propojovat identifikaci problé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s jej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ení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4064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nalézt řešení k vzniklému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ní prostředků k vyřešení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stup nových a „jiných“ manag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myšle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istence vysoce zhodnocujících podniků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5406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ý předpoklad – propojení všech tří skupin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další předpoklady patř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chodní znač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age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bchodní znač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image, důvěryhod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to předmět prod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mani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zo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irnoff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dování znač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1-08T15:31:06Z</dcterms:modified>
  <cp:revision>15</cp:revision>
  <dc:subject/>
  <dc:title>SVĚT ZMĚ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432525</vt:r8>
  </property>
  <property fmtid="{D5CDD505-2E9C-101B-9397-08002B2CF9AE}" pid="3" name="_AuthorEmail">
    <vt:lpwstr>sylva.talpova@seznam.cz</vt:lpwstr>
  </property>
  <property fmtid="{D5CDD505-2E9C-101B-9397-08002B2CF9AE}" pid="4" name="_AuthorEmailDisplayName">
    <vt:lpwstr>Sylva Talpová</vt:lpwstr>
  </property>
  <property fmtid="{D5CDD505-2E9C-101B-9397-08002B2CF9AE}" pid="5" name="_EmailSubject">
    <vt:lpwstr/>
  </property>
</Properties>
</file>