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69DF-8860-4A51-9967-8BDA7FFE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5C3-520D-4970-848A-D93A8935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799-1BBC-4725-97B1-E75611D7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6B6-4A6C-4186-BC9B-7A3536B0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3202-07D6-4FDD-B24D-D2C6303B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8B42-17B2-4D3D-B8F2-D29632E0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3B8E-DF54-4351-B523-09607ADC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FA25-0F44-402C-B705-EC02084D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FD6A-4174-49A8-BEBB-BFA2CE53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584E-5D13-468E-AD1A-25CF72CE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9C71-C3B6-490D-9388-980B2DB2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BC8-F325-416F-855E-417F7110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9C58-A7B4-47D2-9BA6-3199E170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3D7E-8BD0-40A5-B770-CA72D327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52F5-18F3-4FCE-9C8D-EECB2FA8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A4CD-026D-4180-90CD-37921A4D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59FE-0BF9-4B4B-A6E7-C499C4F8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528-CC7C-41AF-A603-BCAF25B8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63E-5E51-4248-846C-A11904B8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5F3-56AF-41CA-9F27-90AEF95F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722-C210-4E91-A141-FB22D450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70E-A723-4E66-A15B-56036B18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FB3-A7BA-4BC1-BD2D-2A99F98E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210-4BE0-4D47-881D-ECA2A57D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1DB3-6860-42F3-AB90-53276B27DD23}" type="slidenum"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3243-8F39-4FB2-80EF-AB30AE07D590}" type="slidenum"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5400" spc="-1" strike="noStrike">
                <a:solidFill>
                  <a:srgbClr val="996633"/>
                </a:solidFill>
                <a:latin typeface="Times New Roman"/>
              </a:rPr>
              <a:t>Podstata práva jako určitého řádu společnosti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438280" y="4343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eminární skupina č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iřina Cah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ominik Zbí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c. Jakub Fiš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E790-9F0F-47C6-B624-1E5F1F4C7F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996633"/>
                </a:solidFill>
                <a:latin typeface="Times New Roman"/>
              </a:rPr>
              <a:t>Opakování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ayekova koncepce přirozeného a umělého řá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152280" y="4609800"/>
            <a:ext cx="3904560" cy="1080"/>
          </a:xfrm>
          <a:prstGeom prst="straightConnector1">
            <a:avLst/>
          </a:prstGeom>
          <a:ln w="507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384200" y="396864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ílo přír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4056120" y="4611240"/>
            <a:ext cx="1945440" cy="1080"/>
          </a:xfrm>
          <a:prstGeom prst="straightConnector1">
            <a:avLst/>
          </a:prstGeom>
          <a:ln w="5076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6000840" y="4610160"/>
            <a:ext cx="2745360" cy="21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4056120" y="3844800"/>
            <a:ext cx="22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lejší důsled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dských činnost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75520" y="384480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vědomé lidské čin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/>
          <p:nvPr/>
        </p:nvCxnSpPr>
        <p:spPr>
          <a:xfrm>
            <a:off x="152280" y="5297040"/>
            <a:ext cx="584928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/>
          <p:nvPr/>
        </p:nvCxnSpPr>
        <p:spPr>
          <a:xfrm>
            <a:off x="6000840" y="5297040"/>
            <a:ext cx="274536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2576520" y="4930920"/>
            <a:ext cx="17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řirozený řá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96000" y="4930920"/>
            <a:ext cx="18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mělý řá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/>
          <p:nvPr/>
        </p:nvCxnSpPr>
        <p:spPr>
          <a:xfrm>
            <a:off x="4092120" y="6299280"/>
            <a:ext cx="3187080" cy="2160"/>
          </a:xfrm>
          <a:prstGeom prst="straightConnector1">
            <a:avLst/>
          </a:prstGeom>
          <a:ln w="507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654440" y="590724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800000"/>
                </a:solidFill>
                <a:latin typeface="Arial"/>
              </a:rPr>
              <a:t>společenské systé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/>
          <p:nvPr/>
        </p:nvCxnSpPr>
        <p:spPr>
          <a:xfrm>
            <a:off x="7278840" y="6299280"/>
            <a:ext cx="1504080" cy="2160"/>
          </a:xfrm>
          <a:prstGeom prst="straightConnector1">
            <a:avLst/>
          </a:prstGeom>
          <a:ln w="50760">
            <a:solidFill>
              <a:srgbClr val="cccc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7419960" y="565956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ccccc"/>
                </a:solidFill>
                <a:latin typeface="Arial"/>
              </a:rPr>
              <a:t>technické systé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A4F-9C15-4A5B-8376-BF513CE8FB5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Právo x zákonodárství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ávo není pouze produkt zákonodárství, je staré jako společnost s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onodárství je umělá tvorba zákonů lid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zitivistická koncepce práva jako psaných zákonů x Hayekova koncepce práva jako evolucí vytvořených pravi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chrana státem je poskytována pouze psanému práv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E41-2BA5-4D99-888E-541D5AF3499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Vývoj práv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tlivci se naučili dodržovat pravidla chování dříve před formulací těchto pravidel lo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ato pravidla sloužila skupině jako celku ne jednotliv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lověk je veden nejen naučenými ale i vrozenými pravid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aleka ne všechna pravidla byla vyjádřena slovy, např. fair play, dobré mravy ap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898-D7DC-45B4-A35C-540542FDD4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Negativní důsledky spontánního řádu aneb význam zákonodárství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 spontánní řád může vést do slepé uličky popř. mít negativní důsledky pro lid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jistí-li se, že dosud užívaná pravidla jsou pro určitou skupinu nespravedlivá ať už v důsledku omylu či lobby urč. zájmové skup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022-C089-4201-A13E-788FA3ECA0D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Shrnutí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ávo je staré jako lidstvo s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edle práva existují i jiné normativní systémy např. morálka, která nemusí být vyjádřena slo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onodárství je nutné neboť spontánní řád může mít pro člověka i negativní důsled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E51-0AA0-4B44-97F4-5FF6E8771F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Literatur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24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ayek, F.A. Právo, zákonodárství a svoboda. Praha : Academia, 199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82D-00F9-428B-AF55-7BE2E4651420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hovi</cp:lastModifiedBy>
  <dcterms:modified xsi:type="dcterms:W3CDTF">2006-10-02T16:19:29Z</dcterms:modified>
  <cp:revision>11</cp:revision>
  <dc:subject/>
  <dc:title>Prezentace aplikace PowerPoint</dc:title>
</cp:coreProperties>
</file>