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93B-02A6-4DF6-847B-E4A4218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E43-3D68-4F63-B281-CEFBD71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206-3EF9-4DF0-9B27-CECC16D2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9E4-1480-45BE-829B-EEE216B1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12C-3AF0-437A-81AB-E9776F58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E2A2-382B-4A57-976E-F899B858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82F-6A11-4356-9078-C75C5D0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B99D-8C79-4D7E-A3B5-D851E424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E30-584C-4702-9269-9AACD62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E57-A98E-4354-9C58-32B1647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B65-FAED-4AD6-824D-6A8B43F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7C5-65E9-44B4-85A0-7C21F0A1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E681-9AF6-49AA-B769-88AFC084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F03-807E-4A08-B5DA-4AF93B5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CB1E-72DA-4423-9B57-5DAEC35F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6F2-7C63-4D50-B7F6-716D79FA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602-A54B-45B0-92C2-56952665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F24-ECB6-431D-8E1F-21639E6E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E35-676A-4B7E-8863-C0B696C4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2FE-7D37-4F07-850E-C09DDCE4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ECD-A646-46B5-8DA8-71AB8D7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192-131C-4285-82B5-DC951EC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1CC-CD2D-407D-A399-E8B5D72F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400-0FA7-4B38-9E5A-20844E3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98A-E104-48BC-83C0-6D6EE7555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8191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876920" y="59436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452F-C154-4DA1-BC72-D7737C3E4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cf7ff"/>
                </a:solidFill>
                <a:latin typeface="Arial Black"/>
              </a:rPr>
              <a:t>Superzápas zítřka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25909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vilizační vlny – charakteristika, vzájemné vztahy a stř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offler, A.; Tofflerová, H.: Nová civilizace – Třetí vlna a její důsled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ich, R.B.: Dílo náro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üller, Z.: Svaté války a civilizační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Děkujeme za pozornos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Vývoj a historie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zdělení (A.Toffl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vní vlna – pre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8000 př.n.l., trvání v řádech tisíciletí, hlavní podstata zemědě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Druhá vlna – industriální společnost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ec 17. století, trvání v řádech stovek let,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, mecha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řetí vlna – post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polovina 20. století, dekády?, informace, znalosti, high-tech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Proč vlna?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8000" y="1142640"/>
            <a:ext cx="403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de o skok, ale o plynulý přechod od jedné společnosti k dru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em se energie vlny vyčerpá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a třetí vlna se prolínají – střet vln =&gt; střet civiliz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První vlna (v kostc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zemědě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ty, decentralizované hospodářství založené na vlastnictví půdy, hierarchie v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ádná nebo jednoduchá dělb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ence trhu =&gt; výroba pro vlastní spotřebu =&gt; minimum s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iž zcela odezněla (výjimkou jsou kmeny v pralesech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cf7ff"/>
                </a:solidFill>
                <a:latin typeface="Arial Black"/>
              </a:rPr>
              <a:t>Druhá vlna – industriální společnost</a:t>
            </a:r>
            <a:endParaRPr b="0" lang="en-US" sz="30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várny, želez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chanizace a synchronizac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lba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utomob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sová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spotřební (konzumní)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 civilizační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aleka není ukonč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751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Střet první a druhé vlny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čanská válka v USA &lt;= boj mezi industriálním Severem a zemědělským Jihem a další vojenské konfli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ponsko - reformy Meid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tvy“ mezi průmyslníky a obchodníky proti vlastníkům půdy (círke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sledky pro jednotlivce - změna pojetí rodiny a nutnost dojíždění za p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lonie – industriální mocnosti dobývají nová ložiska surovin – kol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Informační společnost – třetí vlna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významu přírodních zdrojů a surovin vů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formace jako produ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minance sektoru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va skryté výrobn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Poznatky 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experti, týmy, know-h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dělání, rozvoj manage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Čas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bleskové komunikace, IT, správa firemních sítí a komunikačních kaná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ovský význam a vliv médi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638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Konflikt! 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. Huntington: „…střet Islámu a Západu, nebo Západu a zbytku světa?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ar on Terror, boj s extrémistickými skupinami a hnutí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t zájmů zemí 3. vlny se zeměmi 1. a 2. vl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trukturalizace – problém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un výroby na vý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zba ekologické b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 sociálních propastí – rozdíly mezi bohatými a chu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Budoucnost – co bude? (diskuz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Toffler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voluční premi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„Budoucnost plná otřesů, turbulencí, vln násilí -&gt; postupná transformace způsobu našich životů, práce i myšlení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migrace (přistěhoval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kotero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výpočetní tech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itické, kulturní a náboženské rozep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&gt; Čtvrtá vl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49:04Z</dcterms:created>
  <dc:creator>CIKT</dc:creator>
  <dc:description/>
  <cp:keywords/>
  <dc:language>en-US</dc:language>
  <cp:lastModifiedBy>Franta Konopásek</cp:lastModifiedBy>
  <dcterms:modified xsi:type="dcterms:W3CDTF">2006-10-04T15:17:32Z</dcterms:modified>
  <cp:revision>18</cp:revision>
  <dc:subject/>
  <dc:title>Civilizační vl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81033</vt:lpwstr>
  </property>
</Properties>
</file>