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29AB-303D-4055-BB7B-117CAF855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9B92-0E33-4E18-A5E4-929F84BBC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706D-D0E6-41A3-AE4D-FB53FE407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D99E-C267-4310-8EBC-0E9AB313C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9A65F-359B-4F99-B2F1-C781414A2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7852F-A269-47AC-82E7-A18DFFBC1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CEEF0-094A-4446-B461-AA42057CD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981DE-50C2-4A2A-9AE9-AE8F93A16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A349B-2E4C-4D66-BFBC-04F742BBB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B9029-E42F-4E86-A3FF-E59CC95B8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B2773-AD0C-4F0D-A4E7-48F2FFA9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9D9B-4129-4B75-A176-CED24002E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5602D-F793-4690-B697-1353F703C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C5FD8-D5AF-4096-A86E-D921442D5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85547-431B-4145-96C8-A8C8624ED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110CC-1563-4DF4-8F8F-1515EBB60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8540F-D894-4661-A43E-E033BA2A6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CE42-88B5-4DDF-8086-1EB3025F8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2A84-9AC9-4882-B696-F652D1AE6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F1FA-B170-4FD7-A741-8E10DEC41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EACF-811F-417A-A67A-BBC058158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6640-47FD-4908-B88F-A7C0D8587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A725-340C-44D9-AD93-B3D4CAB5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8C54-C108-4C79-B8BF-E23C38516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94C37-2E73-467D-BEBA-B26ED90C34E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4B7E2-C781-4346-9247-36AB32D71BA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PROMĚNY PRÁCE A VÝVOJE PODNIKŮ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52388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36c03"/>
                </a:solidFill>
                <a:latin typeface="Arial"/>
              </a:rPr>
              <a:t>Tým č.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Vývoj podniků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5640" y="1600200"/>
            <a:ext cx="6705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eindustriální = vlastní výro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stup industriální </a:t>
            </a:r>
            <a:r>
              <a:rPr b="0" lang="cs-C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typická malovýroba; bez vlivu na cenu </a:t>
            </a:r>
            <a:r>
              <a:rPr b="0" lang="cs-C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koncentrace kapitálu ve firmá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průběhu 19.století se začíná využívat parní stroje a el.energie </a:t>
            </a:r>
            <a:r>
              <a:rPr b="0" lang="cs-C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zvyšování efektivnosti práce </a:t>
            </a:r>
            <a:r>
              <a:rPr b="0" lang="cs-C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vysoké investiční nároky </a:t>
            </a:r>
            <a:r>
              <a:rPr b="0" lang="cs-C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vznik velkých podniků s kapitá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Vývoj podniků II - USA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6705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výraznější je vývoj v USA, kde vzniká cenová konkurence </a:t>
            </a:r>
            <a:r>
              <a:rPr b="0" lang="cs-C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zavádění přísných zákon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lna fúzí počátkem 20.století </a:t>
            </a:r>
            <a:r>
              <a:rPr b="0" lang="cs-C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korporace General Motors ap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-3 gigantické korporace v odvě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lé podniky zaplňovali meze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zniká organizovaný trh akci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c0039"/>
                </a:solidFill>
                <a:latin typeface="Arial"/>
              </a:rPr>
              <a:t>Vývoj podniků III – trh akciíí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6858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kcie = výnosná forma jmě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livňovala úspory obyva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ddělování vlastnictví od řízen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řídící činnost v rukou profesioná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žerská revol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isk již není chápán jako základní cí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zainteresovanost oproti akcionářů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Úkolem manažerů je soulad zájm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Vývoj podniků IV - Evropa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14240" y="1600200"/>
            <a:ext cx="6629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upně se význam řídících pracovníků přesouvá i do Evro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 50.letech 20.století vznik velkých podniků s profesioná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zvoj za jiných podmínek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lavní úlohu měl rodinný kapitá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víc často centrálně plánované ekonomik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átní podni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c0039"/>
                </a:solidFill>
                <a:latin typeface="Arial"/>
              </a:rPr>
              <a:t>Globalizac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zvoj obřích nadnárodních společností působících mi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to subjekty mají obrovský ekonomický potenciá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dnárodní společnosti využívají konkurenčních vý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áročné řízení pro manag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žnost úspěchu i neúspěch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c0039"/>
                </a:solidFill>
                <a:latin typeface="Times New Roman"/>
                <a:ea typeface="Times New Roman"/>
              </a:rPr>
              <a:t>Použitá</a:t>
            </a:r>
            <a:r>
              <a:rPr b="0" lang="en-US" sz="38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 </a:t>
            </a:r>
            <a:r>
              <a:rPr b="0" lang="en-US" sz="3800" spc="-1" strike="noStrike">
                <a:solidFill>
                  <a:srgbClr val="8c0039"/>
                </a:solidFill>
                <a:latin typeface="Times New Roman"/>
                <a:ea typeface="Times New Roman"/>
              </a:rPr>
              <a:t>literatura</a:t>
            </a:r>
            <a:endParaRPr b="0" lang="en-US" sz="3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POVETSKY, G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umrak povinnosti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aha: Prostor, 1999. ISBN 80-7260-008-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ICH, R.B.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lušná společnost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aha : Vize 97, 2003. ISBN 80-86181-60-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H, A.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tika hospodářství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v.II. Praha: OIKOYMENH, 1994. ISBN 80-85241-62-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84360" y="2707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ěkujeme za pozornost</a:t>
            </a:r>
            <a:endParaRPr b="0" lang="en-US" sz="72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Řemeslo vs. Manufaktura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c36c03"/>
                </a:solidFill>
                <a:latin typeface="Arial"/>
              </a:rPr>
              <a:t>Klíčové výrobní faktor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        práce </a:t>
            </a:r>
            <a:r>
              <a:rPr b="0" lang="en-US" sz="2800" spc="-1" strike="noStrike">
                <a:solidFill>
                  <a:srgbClr val="e4005c"/>
                </a:solidFill>
                <a:latin typeface="Arial"/>
                <a:ea typeface="Arial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kapitá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c36c03"/>
                </a:solidFill>
                <a:latin typeface="Arial"/>
                <a:ea typeface="Arial"/>
              </a:rPr>
              <a:t>Vlastnictví výrobního faktor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tegrovány v osobě jediného nositele </a:t>
            </a:r>
            <a:r>
              <a:rPr b="0" lang="cs-CZ" sz="2800" spc="-1" strike="noStrike">
                <a:solidFill>
                  <a:srgbClr val="e4005c"/>
                </a:solidFill>
                <a:latin typeface="Arial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Vlastnictví výrobního faktoru práce a kapitálu bylo odděl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c36c03"/>
                </a:solidFill>
                <a:latin typeface="Arial"/>
              </a:rPr>
              <a:t>Dělba prá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               orientovaná na výrobek </a:t>
            </a:r>
            <a:r>
              <a:rPr b="0" lang="cs-CZ" sz="2800" spc="-1" strike="noStrike">
                <a:solidFill>
                  <a:srgbClr val="e4005c"/>
                </a:solidFill>
                <a:latin typeface="Arial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orientovaná na proces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Rozvoj uplatnění strojů = RACIONALIZAC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cionalizaci lze rozdělit do několika etap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etapa - první stroje jen vylepšení nástrojů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síla potřebná pro pohon stroje byla nahrazena silou pohonného stroj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tzv. stroje nesamostatné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tupeň - typicky je běžící výrobní p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orientace na velkovýrob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výrobní proces rozdělen na velké množství dílčích operac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dělník vykonává pouze tzv. zbytkové oper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Negativní důsledky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ělníkovi zůstávala atomizovaná monotónní manuální prác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áce se stává nepřiměřenou a nedokáže motivova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ále méně lidí ochotno takovou práci vykonávat, roste fluktuace a absentérství, produktivita stagnuje, náklady rostou, efektivnost se snižuj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c0039"/>
                </a:solidFill>
                <a:latin typeface="Times New Roman"/>
                <a:ea typeface="Times New Roman"/>
              </a:rPr>
              <a:t>Přechod k flexibilní</a:t>
            </a:r>
            <a:r>
              <a:rPr b="0" lang="en-US" sz="38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 </a:t>
            </a:r>
            <a:r>
              <a:rPr b="0" lang="en-US" sz="3800" spc="-1" strike="noStrike">
                <a:solidFill>
                  <a:srgbClr val="8c0039"/>
                </a:solidFill>
                <a:latin typeface="Times New Roman"/>
                <a:ea typeface="Times New Roman"/>
              </a:rPr>
              <a:t>výrobě</a:t>
            </a:r>
            <a:endParaRPr b="0" lang="en-US" sz="3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novení komplexnosti prá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rámci humanizace přechod k tzv. „rozšiřování práce“ („job enlargement“) a „obohacování práce“ („job enrichment“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znik autonomních pracovních tým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Nástup 3.etapy - COMPUTERIZAC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hodující roli přístroje výpočetní a komunikační technik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chodiskem této nové vlny racionalizace se v oblasti výroby se stala CNC-technika (computerized numerical control) a počítačově řízená výroba (CAM - computer aided manufacturing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Trendy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yspělé země masivní nahrazování pracovní síly zmíněnou technikou, nebo výroba přesouvána do méně vyspělých zemích, kde je realizována spíše na tradičních strojích a zařízeních s vyšším podílem pracovní síly, ovšem mzdově méně nároč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hrazování lidské práce počítači a obdobnými zařízeními je patrný též v administrativě i jiných oblastech duševní prác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ýrazný růst produktivity práce vede v poslední době k podstatnému zkracování pracovní doby a růstu volného čas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ývojové trendy závěru dvacátého století avizující ve vyspělých zemích nástup postindustriální společnosti, představují, byť v kvalitativně zcela odlišných podmínkách, návrat k některým charakteristikám práce typickým pro společnost preindustriál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polečenská a etická stránka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553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říve naplnění něčích potřeb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ůst mezd z atraktivnil volný ča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nes mimopracovní ak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kracování pracovní doby v důsledku úpadku morálky, současné odstraňování monotón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vují se značné profesní rozdíl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ůst reálných příjmů u vysokoškolá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ad „bílých a modrých límečků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ástup „zlatých límečků“ – nositelé kvalifik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6T19:54:17Z</dcterms:created>
  <dc:creator>Nikos</dc:creator>
  <dc:description/>
  <dc:language>en-US</dc:language>
  <cp:lastModifiedBy>pc</cp:lastModifiedBy>
  <dcterms:modified xsi:type="dcterms:W3CDTF">2006-11-07T07:21:24Z</dcterms:modified>
  <cp:revision>7</cp:revision>
  <dc:subject/>
  <dc:title>PROMĚNY PRÁCE A VÝVOJE PODNIKŮ</dc:title>
</cp:coreProperties>
</file>