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0D3D-8925-43C5-BF6A-735BE9462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201D-950A-4718-A4A0-1FFC7EE10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D190-3B85-48AF-8840-5BAE5A414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63E7-BAA6-4CF8-849F-D6DF352BB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27839-117E-412A-A9D2-7C79C17FD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C554C-921C-456E-9631-8F73B1183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81A1E-9947-42C0-9A19-82D83377D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01CB4-6A2F-48F1-A196-FB26BCC9C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499DA-E218-4BA5-A7B7-F5ADCB4CB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2E30E-9F5E-451D-AC40-CBEAF7EFF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51F61-43A0-4887-B9BA-67D0EAE2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CBD5-136D-47C8-ABB2-0AE8E082C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8D261-5BE6-468B-84AD-58C14C8B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48124-7458-4132-9783-90C369FB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02929-073F-445B-A584-90AFC554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9A763-3CBE-48AC-85AB-1F537966E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1580B-E824-41DD-97A0-7DDB69018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566D-75F9-45AA-B37A-EC076FD16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CF46-6F7C-4829-B779-6FE569CE4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B757-90A3-4F89-A77E-90410C1AC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E694-F7BC-401C-8A97-C463EEA6F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733D-31BC-406E-BA21-59C41E4E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273B-A879-4FAC-BD60-23619500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0585-670A-4A8C-AD92-AA6BDBDC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286D7-9337-419D-9FA1-F17918A6AB5E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7751F-A6C0-46E7-917E-742B0B70F5F8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Vývoj podniků v industriální společnosti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Počátky industrializac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čátek 18. stole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dukce pro vlastní výrob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lovýroba -  produkce jen pro lokální tr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oderní industrializac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Upadající úloha zemědělství (rostla produktivita moderního zemědělství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ste podíl pracovních sil zaměstnaných v terciální sféř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yužívání strojů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ové neživé zdroje energ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Další aspekty vývoj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. století – průmyslová revolu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ste produktivita, zvyšuje efektivita fir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ývoj institucí (právo – Obchodní zákoní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yužívání vědy v průmyslu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Posilování stability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oncentrace (růst objemu kapitálu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stituce práce kapitálem (růst kapitálového vybavení prác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nižování počtu firem (likvidac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eec94"/>
                </a:solidFill>
                <a:latin typeface="Times New Roman"/>
              </a:rPr>
              <a:t>Vznik oligopolu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nvestiční nároky vedly ke vzniku větších fir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omogenní struktura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→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heterogenní (oligopo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anažerská revoluc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znik velkých korporací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→ vznik akciových společností → potřeba oddělení vlastnictví od říz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Zisk už není hlavním cílem podnik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Snaha o zhodnocení firm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oldingové společnosti – řídí další korpora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Použitá literatura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Cameron, R. : Stručné ekonomické dějiny světa. Praha: Victoria publishing, 199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eich, R.B.: Dílo národů. Praha: Prostor, 199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lažek, L. : Management II, Průvodce studi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09:09:33Z</dcterms:created>
  <dc:creator>Franta Konopásek</dc:creator>
  <dc:description/>
  <dc:language>en-US</dc:language>
  <cp:lastModifiedBy>Franta Konopásek</cp:lastModifiedBy>
  <dcterms:modified xsi:type="dcterms:W3CDTF">2006-10-16T10:04:49Z</dcterms:modified>
  <cp:revision>3</cp:revision>
  <dc:subject/>
  <dc:title>Vývoj podniků v industriální společnosti</dc:title>
</cp:coreProperties>
</file>