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823A-A383-47B9-BA00-7FE446EF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AB4B-1E50-461D-B25D-9F2E5AF8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A660-709C-4A1B-A65C-8944CBA3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F37E-AAE8-4B30-88F8-60491457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8C1-EB7B-44B0-B60B-2FF4A7F3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699-F911-4273-90C7-40D9ACDD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3C34-5E50-4101-892F-FE24867C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A150-5302-4718-9773-D98C55D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1DDC-E9E9-4049-977A-3CA02CB1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05DF-15A1-4DEE-85E7-AA6F489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5542-4EC8-4714-8AC7-0C0BA2C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DD04-67F9-41A0-8448-926BAD51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176D-12F3-4FC3-82B5-8BB4911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111F-95CD-494E-9967-7CE22B0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C1B8-95C2-4B56-BC53-2A75B1F4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54F3-CA39-4BF2-BF92-C2758BBC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1290-4397-4B9A-B6E8-1851D093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C8CB-CA92-485D-ACED-BEB3C8F9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E496-6082-46F4-B377-E85A50D8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A1A3-1021-48B3-8DCD-0994151B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EC0F-D504-4377-B820-6449334E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22EB-F507-4749-9EEC-3BB3DC1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E2DF-DF53-460F-9FFE-1B66A86A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DB62-18C4-4964-B178-37BD9C3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15E3-847B-442C-95CD-7466D3CBE5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8B1A-D5AE-4640-8CDA-EAEE2A2B90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ostindustriální společ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seková, Havránek, Hole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. seminární skupina - 2. tý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 společenských strukt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postindustriální společnost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aky přechodu od industriální k postindustriál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ývoj společenských strukt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industriální „agrární“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ustriální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industriální „informační“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zni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. léta – poprvé se objevuje pojem postindustriální společno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 – zlomový rok v US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ozvojem IT nahrazeno pojmem inform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Znaky přechodu od industriální 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vodní znaky nástupu nové é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ční společnost a společnost vědě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nosy a nedostatky postindustriální společ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7:22:57Z</dcterms:created>
  <dc:creator>Radek</dc:creator>
  <dc:description/>
  <dc:language>en-US</dc:language>
  <cp:lastModifiedBy>Radek</cp:lastModifiedBy>
  <dcterms:modified xsi:type="dcterms:W3CDTF">2006-10-23T21:34:44Z</dcterms:modified>
  <cp:revision>6</cp:revision>
  <dc:subject/>
  <dc:title> Postindustriální společnost</dc:title>
</cp:coreProperties>
</file>