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218B9-B940-4EEE-ABAF-5DF905258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9525D-302B-4E38-B056-AAABF7E1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273B2-C035-435B-9E22-B837D24B9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477A3-B65A-46D0-9A27-F6F4261DA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C21E-BE10-4F06-A0CD-DEC0E4DF3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217B-9408-4289-AF87-36E9C795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FEDF-D167-4C8E-B2EA-DB5F8442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BAD5-F1FA-45D6-8A7C-31F738F2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6F77-5CFF-42D4-87EE-CC54FEDB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E15C-0C51-43DD-B128-968E7379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7811-018A-463D-A8D9-AE5ACB3A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B2D96-9A15-439F-88DF-0981273F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FEA7-0BED-4E90-AAAD-24848778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72F5-C50C-4494-B444-0F876A0F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8EE8-CEE4-4B8D-9CDE-FF85D32B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4C3A-BC30-4F62-8EB5-6EE6E7DDC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9FDC-4E03-41C1-A8ED-EF46C959D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1D05B-D050-42C7-9ADC-153B2C83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2AC66-CF44-4C40-B817-2BF5D838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88ABA-29E2-450E-824B-5B3383B9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33173-96FF-455A-BA45-464F8FB9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D072F-1ACB-45D8-9E32-2CD939C7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29DEF-8912-42AE-9061-3A8FE4DA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C2571-45CC-4ACA-AF5A-28D99D3B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125E-BC55-448A-BD2D-33016FC8269F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DBBC-EECE-48BD-ACC5-02075E33B462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Courier New"/>
              </a:rPr>
              <a:t>OUTSOURCING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LUCIE ABSOLONOVÁ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ANIEL NOVÁ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ARBORA ŘÍHOVÁ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ĚKUJEME ZA POZORNOST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užitá literatu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týblo, J.: Outsourcing a outplacement: praxe a právní souvislosti, Praha: ASPI, 200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equensová, H.: Lidské zdroje?, Havířov: Question Marks, 2005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yskočil, V.: Podpůrné procesy a snižování režijních nákladů (facility management), Praha: Professional Publishing, 200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Bruckner, T.: outsourcing informačních systémů, Praha: Ekopress, 199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Co je to outsourcing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jem americké obchodní angličtin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 takový stav (nebo činnost k němu vedoucí), kdy vstup, který by firma získala z takového zdroje, koupí od jiného (podnikatelského) subjektu jako službu (nebo zboží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 smluvní vztah s externí firmou za účelem přenesení odpovědnosti za určitou část funkční oblasti (účelové vymezení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Co je to outsourcing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ahrnuje především oblasti, které bezprostředně nesouvisejí s hlavním předmětem činnosti podniku a dosud bylo obvyklé je provádět v podniku samé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hlavní problémy outsourcingu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co vytěsnit a zda vůbec vytěsn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finanční efekty vytěsně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konkurenční výhoda vytěsně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Historie outsourcing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očíná již dělbou prá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ystematicky se jím podniky začínají zabývat v 60. letech 20. stolet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a zlom v jeho rozšíření a začátek jeho masového využití (v USA) – outsourcing informačního systému firmou Koda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hojné využití vrcholí od počátku 90. l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znik poskytovatelů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lcí poskytovatelé služeb v určité funkční oblasti jsou často podniky, jejichž původní zaměření je jin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kládání s rozvinutou funkční oblastí je vytěsnění vlastní organizační jednotky – ta se osamostatní a poskytuje služby svému mateřskému podniku i dalším zákazníků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Důvody outsourcing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 oblasti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konkurenční – důvody strategické, zaměření na získání konkurenční výhody, cíl dlouhodob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věcné – zdokonalení v oblasti hl. činnosti, zajištění přístupu ke zdrojům nutným pro rozvoj hl. oblast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finanční – snížení nákladů a zvýšení výnos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organizační – zjednodušení manažerské práce a zploštění organizační struktury podniku – rostoucí specializace podniku, pracovníků i stř. managementu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Proces outsourcing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realizace prostřednictvím projekt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fáze outsourcingu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strategická analýza funkčních oblast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určení funkčních oblastí, které budou vytěsněn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definice rozhraní „podnik – poskytovatel“ a definice požadavků na poskytovate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výběr poskytovatel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transform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řízení vztah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Výhody outsourcingu pro podni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ístup ke světové úrovn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vé technologie bez vedlejších náklad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ychlejší nástup nových technologi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dpadá odpovědnost za oblast a za její říze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zložení nákladů (plateb za služby) a redukce inves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ísun peněz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žnost snadnější fúze podnik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Nevýhody outsourcingu pro podni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ízká operabili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evratnost rozhodnutí (lack of flexibility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yšší náklady případné změn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utnost řízení vztah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rizika zadavatele (riziko nízké úrovně služby…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ekontrovatelné toky vnitřních informací mimo podni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obtížně kvalifikovatelné přínos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08:04:26Z</dcterms:created>
  <dc:creator>CIKT</dc:creator>
  <dc:description/>
  <dc:language>en-US</dc:language>
  <cp:lastModifiedBy>Ucitel</cp:lastModifiedBy>
  <dcterms:modified xsi:type="dcterms:W3CDTF">2006-10-22T08:41:56Z</dcterms:modified>
  <cp:revision>4</cp:revision>
  <dc:subject/>
  <dc:title>OUTSOURCING</dc:title>
</cp:coreProperties>
</file>