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3CC-1746-49F9-92B5-90FDC793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E67-59DC-4432-B23E-0141413C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E84-3885-4BD2-9B93-503C72E6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CA6-449B-4C2F-8EB7-3833F96C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2E7E-215D-44E2-96C1-0076D349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C7FF-78AC-4503-8862-7A9BC45E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34B5-A3E9-4BEC-9B0B-96C7F104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C4F5-2A24-4B09-9B31-E846DAF6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B6B9-5CA3-4391-A10A-4DB0D55C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D87F-5135-467D-9D5E-F06ED515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E2F6-2DE2-4C61-BD65-A7257C12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AA1-EEBE-4957-AD02-7957FB01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9A57-60CB-418F-83F3-E5A2A66A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D217-5A12-4C22-B853-FB42CBC2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1AAA-F697-4DEB-AE98-D2E11B1B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D382-58AB-47FA-BAD6-1C9E316A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5C07-E19C-4A63-ACD1-4F5FC1AB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FE10-31E1-47B2-AAC1-A4EB4E44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BC6-A16F-4877-84CC-549802AA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002D-F2EE-4423-ACF2-556A7D96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09E-562F-4D6B-8F38-4F3C3239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731-D8D1-49F1-A456-5AED88B1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9F8-BD10-41E2-8B9B-67143185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671-0CD5-40DD-B6DF-615E363A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E9F6-E4B9-4C94-985F-5D9AA49EA50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5805-5106-4D04-8723-0B442BD4A56E}" type="slidenum"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6000" y="3860280"/>
            <a:ext cx="6697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7c5b5"/>
                </a:solidFill>
                <a:latin typeface="Verdana"/>
              </a:rPr>
              <a:t>Proměny práce a jejich vliv na soudobou společnost</a:t>
            </a:r>
            <a:r>
              <a:rPr b="0" lang="cs-CZ" sz="3600" spc="-1" strike="noStrike">
                <a:solidFill>
                  <a:srgbClr val="d7c5b5"/>
                </a:solidFill>
                <a:latin typeface="Verdana"/>
              </a:rPr>
              <a:t> 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d7c5b5"/>
                </a:solidFill>
                <a:latin typeface="Verdana"/>
              </a:rPr>
              <a:t>        </a:t>
            </a:r>
            <a:r>
              <a:rPr b="0" lang="cs-CZ" sz="1600" spc="-1" strike="noStrike">
                <a:solidFill>
                  <a:srgbClr val="d7c5b5"/>
                </a:solidFill>
                <a:latin typeface="Verdana"/>
              </a:rPr>
              <a:t>Mandovec Zdeněk, Sedláček Milan, Schön Lukáš</a:t>
            </a:r>
            <a:endParaRPr b="0" lang="en-US" sz="1600" spc="-1" strike="noStrike">
              <a:solidFill>
                <a:srgbClr val="d7c5b5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Proměny práce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5720" y="1916280"/>
            <a:ext cx="72360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Rukodělná výro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Industriální společ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Humanizace prá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Computerizace prá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Verdana"/>
              </a:rPr>
              <a:t>Soudobá společnost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5720" y="1989000"/>
            <a:ext cx="72360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Práce opět komplexní, poměrn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náročnou na kreativi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yšší příjm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Konkurence  -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inovace  -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intenzivnější prá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R.B.Reich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758844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ovznést z chudob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Vzděl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odnik vs. Zaměstnane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racovní místa přívětivá vůči rodině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říspěvky - zdravotní péče, důchod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Investice do lidského kapitálu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artnerství se svými zaměstnanci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3640" y="115920"/>
            <a:ext cx="10098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802008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ť je nová ekonomika jakkol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nosná, neztrácíme kvůli ní určité stránky svého života – rodinný život, přátelství, pocit společenství …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HANDY, CH. </a:t>
            </a:r>
            <a:r>
              <a:rPr b="0" i="1" lang="cs-CZ" sz="2000" spc="-1" strike="noStrike">
                <a:solidFill>
                  <a:srgbClr val="ffffff"/>
                </a:solidFill>
                <a:latin typeface="Verdana"/>
              </a:rPr>
              <a:t>Hlad ducha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. Praha: Management Press, 1999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ICH, R.B.  </a:t>
            </a:r>
            <a:r>
              <a:rPr b="0" i="1" lang="cs-CZ" sz="2000" spc="-1" strike="noStrike">
                <a:solidFill>
                  <a:srgbClr val="ffffff"/>
                </a:solidFill>
                <a:latin typeface="Verdana"/>
              </a:rPr>
              <a:t>Slušná společnost.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Praha: Vize 97, 20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Za pozornost děkují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023560"/>
            <a:ext cx="72360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ndovec Zdeně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edláček Mi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chön Luká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4400640"/>
            <a:ext cx="76341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užitá literatu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BLAŽEK, L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Management II - průvodce studiem.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 Masarykova univerzita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HANDY, CH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Hlad ducha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. Praha: Management Press,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REICH, R.B. 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Slušná společnost.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 Praha: Vize 97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RICH, A. 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Etika hospodářství. 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Sv.II. Praha: OIKOYMENH, 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4:42:57Z</dcterms:created>
  <dc:creator>Lukáš Schön</dc:creator>
  <dc:description/>
  <cp:keywords/>
  <dc:language>en-US</dc:language>
  <cp:lastModifiedBy>Lukáš Schön</cp:lastModifiedBy>
  <dcterms:modified xsi:type="dcterms:W3CDTF">2006-10-23T18:16:43Z</dcterms:modified>
  <cp:revision>10</cp:revision>
  <dc:subject/>
  <dc:title>Proměny práce a jejich vliv na soudobou společnos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21029</vt:lpwstr>
  </property>
</Properties>
</file>