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16A-9D51-40BE-B021-E4C33E91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E7A-5941-4BF3-B2D1-6B75AE6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8D7-A263-4C0D-9AE1-D6700CE7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881-45FA-4B57-BA17-7D7A5605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EB09-B818-46AA-8FC7-DC3FC970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B689-4C8D-4925-B510-6D49D89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884E-4CEF-4833-B319-D2E8AE1F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371-3BA3-4DCE-8BF0-D8F2728E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2AF2-446A-4567-8D1D-A3485C50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41C1-2F9B-4BF1-920B-E5BB8F1E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EBF9-C652-4435-BB6C-6F4A676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D96-7797-47BF-892B-657B38F4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8125-140B-4C59-9814-C37BC43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CA17-6DA6-4E3C-ABBD-5A21CF0B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AD1F-FE9C-4519-8EDA-22535178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43DB-8906-464F-A6ED-A596ED21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3D23-8CB8-4C72-A84C-3E016AFC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3DA-E64E-4291-9724-6D2D2AC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D5C-2C1F-4217-98BC-8CDFC28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D38-245D-44B5-B0E8-C134CC8F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07D-54EB-4B01-8EB6-69CE3C99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A7B-8127-472F-A16D-1F1542A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2B6-831F-41B5-BBB5-D28CDCB5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A35-2292-40A0-A64D-CF5978D8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8B08-B549-4A77-A212-F9402DAEF97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F9D5-BC24-429B-9B23-17D630A50E1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 a 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vana Klein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onika Kříž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 Čerbá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xistence termínu v ek. literatuře od 1999, řada empirických studií z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vě se prosazující systém organizace (finanční, průmyslové a obchodní aktivit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nové prostory pro růst + velké konkurenční výhody v globálním měřítk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↓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flace + ↓ UNE + ↑produktiv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 základní rys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yšší ekonomický růst (IT, efektivnější mechanism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vlivnění cyklických procesů (↓UNE, ↓ inflace pomocí 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ýnosy ze síťových efektů a external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+ systém tvorby bohatství založený na znaloste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ová ekonomika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stor pro podnikání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univerzálního paradigmatu vs. široký výběr operativních přístup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řechod od industriální společnosti k postindustriál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 = f(K,L,e) již neplatí absolut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vislosti s rozvojem vysoce zhodnocujících podnik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Zásadní charakteristik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nové ekonomiky pro podnikate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se stávají základem růstu bohatstv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valý a důrazný růst konku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od hierarchií k sítí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ický pokrok vytváří nové tržní podmín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rbulentní prostředí prohlubuje sociální nerov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ástup znalostní společnosti úzce souvisí s rozvojem „vysoce zhodnocujících podniků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vystupují jako nejvýznamnější faktor růs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á ekonomika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paradigmatu, nebo jen výsledek přechodu k postindustriální společnosti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EČEK J. Znalostní podnik ve znalostní společnosti. Praha : Kamil Minařík – PROFESSIONAL PUBLISHING,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ŽEK L. Průvodce studiem. Brno : Masarykova univerzita – Katedra podnikového hospodářství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istoricky: po II. světové válce -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važné komplexní jevy ve vyspělých tržních ekonomiká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Jeden z nejdůležitějších jevů v celospolečenské rovině: 1) společnost industriální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znalost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sadní princip:1) dělba prá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řízení procesů, IT/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ráce v týmech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á kultura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é okolí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ění se od spojitého 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k nespojitému-turbulentnímu ( globální, neustále se měnící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knihy „Nový obraz budoucnosti“ R. Gib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Žádná doposud osvědčená cesta vedoucí kupředu neexistuj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lineární cesty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soci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industriálního paradigma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poválečného kapit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doucnost: chaos a nejisto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konomika založená na intelektuálním kapitál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třeba nových organizací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ovace původních organizačních struktu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(bude obtížné je ovládat a říd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   „</a:t>
            </a: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Kdo se nechce změnit, je odsouzen k zániku…“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J.Welche GE, o změně uvnitř a v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atím poslední ve vývojové řadě změ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oretický přístup opírající se o poslední ekonomické úspěchy USA ( vývojový tren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dnikové řízení směřující k managementu znalos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 krajní přístupy k pojmu „ Nová ekonomika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dox Nové ekonomi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) Václav Klaus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I) Jiří Zlatuška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ti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pojmu, neschopnost jinak pojmenovat nové jev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ré principy ekonomie stále pla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prokázána přímá souvislost mezi IT a hospodářským rů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4:51:22Z</dcterms:created>
  <dc:creator>OEM</dc:creator>
  <dc:description/>
  <dc:language>en-US</dc:language>
  <cp:lastModifiedBy>Michal</cp:lastModifiedBy>
  <dcterms:modified xsi:type="dcterms:W3CDTF">2006-10-23T21:31:16Z</dcterms:modified>
  <cp:revision>58</cp:revision>
  <dc:subject/>
  <dc:title>Strategická analýza společnosti Metropolis</dc:title>
</cp:coreProperties>
</file>