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CD91-6005-4C47-A798-E1D433419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E86C-F715-4AF2-9EB1-CBA4CA24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BB42-2660-4040-B2D2-615E57046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DDF1-2863-40D1-8602-03BEC298E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95F2E-52E2-4691-9EE8-F10BF44B7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CD8B5-66C4-4753-8240-61F3DE0D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6AD6-2824-4E68-9F9A-5B8EAD28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2D77-ED8B-4661-89EA-57687B46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F2A6-F24E-44C6-86C5-05867EAA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336D-75F9-48A6-A098-3DAAE4F7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9BB79-15B9-4F81-96F0-903C648F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8006-638F-4703-B452-904241C6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E02F-4DBB-4EDE-A5D1-486DBB8F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E51F-BE1F-41CF-8121-35BEE627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74BBE-5F6B-42AE-BC7F-5A630D68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C15E-311F-441C-94A7-A75313228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0689-BBC5-4C89-B83C-F9ECECF9A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8260-D94F-4349-881A-42DA8CC9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ED72-8C57-4221-8D23-439432B8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6C65-D94C-4122-B05F-0E955786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A0AA-3D6F-4068-9C90-9FCC276D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9E8F-8DEE-4A85-ADD7-D939C67C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B0A9-8C50-45BC-831A-1366E716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EEED-367C-4D0C-BAD7-528BACB8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D00E-A0E0-4D6F-A8E2-C5341960F78A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40FF-15C2-4F03-8E65-A3D55B1505A4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Vývoj podniků v industriální společnosti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očátky industrializac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čátek 18. stole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kce pro vlastní výrob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lovýroba -  produkce jen pro lokální tr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oderní industrializac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Upadající úloha zemědělství (rostla produktivita moderního zemědělstv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ste podíl pracovních sil zaměstnaných v terciální sféř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užívání strojů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ové neživé zdroje energ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alší aspekty vývoj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. století – průmyslová revolu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ste produktivita, zvyšuje efektivita fir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ývoj institucí (právo – Obchodní zákoní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yužívání vědy v průmysl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osilování stabilit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ncentrace (růst objemu kapitálu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stituce práce kapitálem (růst kapitálového vybavení prá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nižování počtu firem (likvida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Times New Roman"/>
              </a:rPr>
              <a:t>Vznik oligopol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nvestiční nároky vedly ke vzniku větších fir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omogenní struktur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→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heterogenní (oligopo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anažerská revoluc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znik velkých korporací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→ vznik akciových společností → potřeba oddělení vlastnictví od říz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Zisk už není hlavním cílem podnik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Snaha o zhodnocení fir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oldingové společnosti – řídí další korpora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oužitá literatura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ameron, R. : Stručné ekonomické dějiny světa. Praha: Victoria publishing, 199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eich, R.B.: Dílo národů. Praha: Prostor, 199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lažek, L. : Management II, Průvodce studi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09:09:33Z</dcterms:created>
  <dc:creator>Franta Konopásek</dc:creator>
  <dc:description/>
  <dc:language>en-US</dc:language>
  <cp:lastModifiedBy>Franta Konopásek</cp:lastModifiedBy>
  <dcterms:modified xsi:type="dcterms:W3CDTF">2006-10-16T10:04:49Z</dcterms:modified>
  <cp:revision>3</cp:revision>
  <dc:subject/>
  <dc:title>Vývoj podniků v industriální společnosti</dc:title>
</cp:coreProperties>
</file>