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FA8-13B3-4623-BEB4-27844265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829-ED5F-4EF3-A813-D00117F3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489-1842-41C3-9180-7E8AC801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B09-57C4-429D-999A-0D684751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FC5C-0A9B-49AF-B19D-C0671DE4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AB7D-DCBF-4F02-A11A-F42F24BB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3F25-9350-4F45-B681-FEA51749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A07C-3121-40CD-A5E9-613A464E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B6D8-DC12-443A-90B6-EE4797AD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19D0-CD7F-431B-8252-F48B225A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72E3-FF93-4FBC-867D-FEDCBE3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FA6-5C71-4BD5-AE93-01B83803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338D-28B0-47B4-9A41-81121B7F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5ED8-5B35-4477-8B68-DB97385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EEC8-E93F-4642-85DA-79E8A678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4FDD-F472-4C8A-807C-666A4379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D295-D6D3-4761-AF87-9A768890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5F5-4F19-41FB-BE87-5570B44B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5B9-E162-408C-9C77-6021C09B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DF9-1CE6-4041-9686-610C31E5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F67-0FD1-4EE3-9406-7DA1A6FA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092-A850-4C1D-8715-F8230B1F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F12-DC50-45B9-8327-5804380C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7AF-5AB4-4514-AF2F-AF1E9CD1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F8D-BB9A-43B2-8CA1-EFCF600C1C5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7884-5053-43E2-A7A9-026FAD68A15C}" type="slidenum"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3860280"/>
            <a:ext cx="6697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7c5b5"/>
                </a:solidFill>
                <a:latin typeface="Verdana"/>
              </a:rPr>
              <a:t>Proměny práce a jejich vliv na soudobou společnost</a:t>
            </a: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       </a:t>
            </a:r>
            <a:r>
              <a:rPr b="0" lang="cs-CZ" sz="1600" spc="-1" strike="noStrike">
                <a:solidFill>
                  <a:srgbClr val="d7c5b5"/>
                </a:solidFill>
                <a:latin typeface="Verdana"/>
              </a:rPr>
              <a:t>Mandovec Zdeněk, Sedláček Milan, Schön Lukáš</a:t>
            </a:r>
            <a:endParaRPr b="0" lang="en-US" sz="16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Proměny práce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5720" y="1916280"/>
            <a:ext cx="7236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Rukodělná výr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Human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omputer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Soudobá společnost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989000"/>
            <a:ext cx="72360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áce opět komplexní, poměr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náročnou na kreativ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yšší příj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Konkurence  -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ovace  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tenzivnější prá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R.B.Reich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588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vznést z chudob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Vzděl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dnik vs. Zaměstnane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racovní místa přívětivá vůči rodině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říspěvky - zdravotní péče, důcho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Investice do lidského kapitál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artnerství se svými zaměstnanci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15920"/>
            <a:ext cx="1009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ť je nová ekonomika jakko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nosná, neztrácíme kvůli ní určité stránky svého života – rodinný život, přátelství, pocit společenství …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Za pozornost děkuj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23560"/>
            <a:ext cx="72360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dovec Zden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edláček Mi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chön Luká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4400640"/>
            <a:ext cx="7634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užitá literatu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BLAŽEK, L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Management II - průvodce studiem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Masarykova univerzita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ICH, A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Etika hospodářství. 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Sv.II. Praha: OIKOYMENH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4:42:57Z</dcterms:created>
  <dc:creator>Lukáš Schön</dc:creator>
  <dc:description/>
  <cp:keywords/>
  <dc:language>en-US</dc:language>
  <cp:lastModifiedBy>Lukáš Schön</cp:lastModifiedBy>
  <dcterms:modified xsi:type="dcterms:W3CDTF">2006-10-23T18:16:43Z</dcterms:modified>
  <cp:revision>10</cp:revision>
  <dc:subject/>
  <dc:title>Proměny práce a jejich vliv na soudobou společnos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29</vt:lpwstr>
  </property>
</Properties>
</file>