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5C214-2354-4026-B545-FBEC55FE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3B9D7-F6FB-41D8-8F44-5A4D40BB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626AE-8825-464D-BC92-4A4DAE73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4010C-23AC-4A2B-9268-F50121D0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5F34-EBFF-4D49-B8BF-C0649449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C614-3F1C-4F3F-924F-432AEE56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2A88-D759-49D5-86B4-F6BBEAE7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5260-8609-4BD5-BB74-9C2AB689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79C9-2271-433B-A391-59FD915F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F953-3A2F-40BC-BCC1-5B283188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C7A3-4EC8-4542-97F0-6F1620C6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3AF1-187B-4B97-A8D8-1A510D8F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E3ED-9661-4E5F-84CC-0CEE30B4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B742-C6AC-4A0F-99CB-4A063707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E9B5-8546-4848-B508-808D1ED3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DD39-FBFC-4A6A-A332-F561C53A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4CBB-1E5A-4930-82F7-00361BC2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06556-B3DD-4DC5-BC9B-1D140A74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E225B-88DF-472A-8893-3C4427F0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AC4DB-D74E-4CB9-A221-BE4259F8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754BA-47FA-4BB6-8AF7-1AB26E05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CE0E7-977F-44BC-BE5B-A6DB2B1C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94404-761D-45A4-8B44-9F2711C8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74BE4-6817-4288-967D-86FD2516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1984-CB43-400C-94F1-36680C1EE97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9EBA-DB4F-428B-B2B2-DBE7BFAF1A1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Courier New"/>
              </a:rPr>
              <a:t>OUTSOURCING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UCIE ABSOLON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ANIEL NOVÁ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RBORA ŘÍH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ĚKUJEME ZA POZORNOS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ýblo, J.: Outsourcing a outplacement: praxe a právní souvislosti, Praha: ASPI,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equensová, H.: Lidské zdroje?, Havířov: Question Marks, 200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skočil, V.: Podpůrné procesy a snižování režijních nákladů (facility management), Praha: Professional Publishing, 200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ruckner, T.: outsourcing informačních systémů, Praha: Ekopress, 199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Co je to outsourcing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jem americké obchodní angličti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takový stav (nebo činnost k němu vedoucí), kdy vstup, který by firma získala z takového zdroje, koupí od jiného (podnikatelského) subjektu jako službu (nebo zboží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smluvní vztah s externí firmou za účelem přenesení odpovědnosti za určitou část funkční oblasti (účelové vymezení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Co je to outsourcing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ahrnuje především oblasti, které bezprostředně nesouvisejí s hlavním předmětem činnosti podniku a dosud bylo obvyklé je provádět v podniku samé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hlavní problémy outsourcingu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o vytěsnit a zda vůbec vytěsn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finanční efekty vytěsně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nkurenční výhoda vytěsně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Historie outsourcing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číná již dělbou prá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ystematicky se jím podniky začínají zabývat v 60. letech 20. stolet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a zlom v jeho rozšíření a začátek jeho masového využití (v USA) – outsourcing informačního systému firmou Kod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hojné využití vrcholí od počátku 90. 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znik poskytovatel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lcí poskytovatelé služeb v určité funkční oblasti jsou často podniky, jejichž původní zaměření je jin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kládání s rozvinutou funkční oblastí je vytěsnění vlastní organizační jednotky – ta se osamostatní a poskytuje služby svému mateřskému podniku i dalším zákazníků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Důvody outsourcing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 oblast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nkurenční – důvody strategické, zaměření na získání konkurenční výhody, cíl dlouhodob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ěcné – zdokonalení v oblasti hl. činnosti, zajištění přístupu ke zdrojům nutným pro rozvoj hl. obla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finanční – snížení nákladů a zvýšení výnos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organizační – zjednodušení manažerské práce a zploštění organizační struktury podniku – rostoucí specializace podniku, pracovníků i stř. management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Proces outsourcing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ealizace prostřednictvím projek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áze outsourcingu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trategická analýza funkčních oblast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určení funkčních oblastí, které budou vytěsně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efinice rozhraní „podnik – poskytovatel“ a definice požadavků na poskytovate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ýběr poskytovatel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transform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ízení vztah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Výhody outsourcingu pro podni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tup ke světové úrov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vé technologie bez vedlejších náklad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ychlejší nástup nových technologi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dpadá odpovědnost za oblast a za její říze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ložení nákladů (plateb za služby) a redukce inves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un peně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žnost snadnější fúze podni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Nevýhody outsourcingu pro podni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ízká operabil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vratnost rozhodnutí (lack of flexibilit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šší náklady případné změ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utnost řízení vztah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izika zadavatele (riziko nízké úrovně služby…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kontrovatelné toky vnitřních informací mimo podn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btížně kvalifikovatelné přínos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8:04:26Z</dcterms:created>
  <dc:creator>CIKT</dc:creator>
  <dc:description/>
  <dc:language>en-US</dc:language>
  <cp:lastModifiedBy>Ucitel</cp:lastModifiedBy>
  <dcterms:modified xsi:type="dcterms:W3CDTF">2006-10-22T08:41:56Z</dcterms:modified>
  <cp:revision>4</cp:revision>
  <dc:subject/>
  <dc:title>OUTSOURCING</dc:title>
</cp:coreProperties>
</file>