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9E8B-E9C6-412E-9AC3-EC78F5452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CFCD-42DF-40EF-9F64-ED9015B3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421F-8844-44E2-99A2-7E0A1C504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EDD7-142D-4430-94A7-B472C831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108B-32F7-4CAD-9985-230B6E36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61CC-6D6A-45C4-9BE5-0C831F31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38B6-7611-4919-9297-1BA6C422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75E1-CE26-458E-A63F-B210FA26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0657-CA07-46E3-B8DD-AE6403D9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382B-E81A-4C4A-B78D-1A299369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75AE-E5DB-40E1-9286-C96D709F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D4F8-3ABB-4561-822D-3BD103AA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50F8-E12E-44AF-9EC8-FEE0ECD9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5505-7D03-4A9B-B903-720BFF28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8F38-0183-44A6-A1DC-9E228021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D835-01A9-446B-8345-D414B7C1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AEA8-E70A-4611-87FD-9C0161EC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19E8-64EC-4B31-B08A-4426CD5F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A49C-B092-48ED-8F12-62CEB9D0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812B-C130-444A-82D0-B3664318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1471-F8A0-4DC6-BABB-6204863F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76AD-26B7-4E23-BEDB-621E344D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E599-B7F1-4E51-A2CE-E5CCA801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1711-A370-474F-BB1D-5B72E37B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0E70-4331-43FC-9BA4-2FF50C3B46AA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376E-8AC8-40A6-B00E-83675F9F553E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3344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75248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Úloha vlády ve vývoji společenských systémů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71280" y="5950080"/>
            <a:ext cx="772308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eronika Křížová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Ivana Kleinová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Jan Čerbá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Friedrich August von Hayek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ystém tržní koordinace je jedinečný, v rozvinuté společnosti velmi křehký a složitý – tržní mechanismus (nemůže být nahrazen žádným plánování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dyž se stát rozhodne centrálně sledovat jakýkoli cíl, nutně omezuje svobodu jednotlivc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lečenské procesy jsou výsledkem zcela spontánního jednání jednotlivců, kteří sledují své vlastní zájm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eorie spontánního ř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John Maynard Keynes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xistují oblasti ekonomické aktivity, v nichž hraje soukromý sektor hlavní roli a do nichž by stát neměl zasahovat, přičemž existují i oblasti, v nichž stát operuje lépe než soukromý sek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viditelná ruka trhu“ by měla být doplněna „viditelnou rukou státu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Úloha vlády v tržních ekonomikách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ahoma"/>
              </a:rPr>
              <a:t>•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rh: Friedman vs. Key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loha „malé vlády“ (Friedma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naha o plnou zaměstnanost (Keyn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neužívání státních zásahů zájmovými skupinami (např. ČMKO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hrozba pro demokracii podle Friedm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dporuje přirozenou soutěž názorových proudů (a rozvíjí tradic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8edf2"/>
                </a:solidFill>
                <a:latin typeface="Tahoma"/>
              </a:rPr>
              <a:t>Úloha vlády v CP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etailní centrální pláno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dmítá trad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připouští evoluční vývoj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ede k extrémism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rh existuje jen v omezené míř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ostává se do rozporu s přirozeným řádem 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vede k nerespektování řádu umělé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8edf2"/>
                </a:solidFill>
                <a:latin typeface="Tahoma"/>
              </a:rPr>
              <a:t>Použitá literatura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Malé dějiny ekonomického myšlen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D.Brožová, VŠE Praha, Praha 20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Management II, Průvodce studiem, Brno 20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Svoboda volb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Manželé Friedmanovi, LI Praha 199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Právo, zákonodárství a svobo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F.A.Haye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Osudná domýšlivost, omyly socialism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F.A. Hayek, SLON, Praha 199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J.M.Keynes a současná ekonomi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Milan Sojka, Grada Publishing 199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50560" y="2133360"/>
            <a:ext cx="70930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ěkujeme za pozor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Veronika Křížová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Ivana Kleinová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Jan Čerbák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ahoma"/>
              </a:rPr>
              <a:t>Evoluční teorie podle Hayeka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voluce vedoucí k vytváření řádů ve společnosti, navazující na odkaz Adama Smit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ůvodní evoluční teori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irozené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 síly příro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mělé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 člověk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řád“ podle Haye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ako vedlejší produk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ahoma"/>
              </a:rPr>
              <a:t>Evoluční teorie podle Hayeka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irozený x umělý řá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člověk podílející se na spontánním ř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2 pojetí ř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ahoma"/>
              </a:rPr>
              <a:t>Evoluční teorie podle Hayeka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láda jako specifická organiz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Historický vývoj politického vlivu na společenský systém</a:t>
            </a:r>
            <a:br>
              <a:rPr sz="4000"/>
            </a:b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Platon  X  Aristoteles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773360"/>
            <a:ext cx="377172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át je realizací ideje spravedlnosti, která se uplatňuje ve všem a u vše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Tři tří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kromé vlastnictví jen pro 3. třídu – potřebovali ho k výrobě a směně zbož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6120" y="1773360"/>
            <a:ext cx="377172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řirozená spravedlnost – to co člověk potřebuje k přežit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át – garant této spravedlnosti a práva na 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emokracie s otroctví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kromé vlastnictví a větší svoboda při zacházení s ní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8edf2"/>
                </a:solidFill>
                <a:latin typeface="Tahoma"/>
              </a:rPr>
              <a:t>        </a:t>
            </a:r>
            <a:r>
              <a:rPr b="0" lang="cs-CZ" sz="2800" spc="-1" strike="noStrike">
                <a:solidFill>
                  <a:srgbClr val="e8edf2"/>
                </a:solidFill>
                <a:latin typeface="Tahoma"/>
              </a:rPr>
              <a:t>Merkantilisté   X   Filozofové přirozených</a:t>
            </a:r>
            <a:br>
              <a:rPr sz="2800"/>
            </a:br>
            <a:r>
              <a:rPr b="0" lang="cs-CZ" sz="2800" spc="-1" strike="noStrike">
                <a:solidFill>
                  <a:srgbClr val="e8edf2"/>
                </a:solidFill>
                <a:latin typeface="Tahoma"/>
              </a:rPr>
              <a:t>            zákonů</a:t>
            </a:r>
            <a:endParaRPr b="0" lang="en-US" sz="28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773360"/>
            <a:ext cx="377172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elká koloniální expan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ilná instituce stát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droj růstu národního bohatství – zahraniční obchod (aktivní obchodní bilan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statní národy považovány za soupeř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Richard II., Thomas Mu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6120" y="1773360"/>
            <a:ext cx="377172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ávo na život, právo na svobodu a právo na vlastnictv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mezení lidské svobody pouze z důvodu ochrany této svobody samotn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vantitativní teorie peně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ohn Locke, David Hu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Adam Smith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árodní hospodářství má svůj přirozený řád a řídí se přirozenými záko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viditelná ruka trhu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ntánní soulad sobeckého individuálního zájmu se zájmem společenský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 procesu konkurence každý výrobce poznává, že nejvýhodnější je uspokojovat potřeby druhých a přes uspokojování potřeb druhých pak vede cesta k uspokojení potřeb vlastní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Karl Heinrich Marx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idská společnost se neustále mění a vyvíjí – proto nemohou existovat žádné přirozené zákony, které by byly platné jednou provždy ani žádný společenský řá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át má odpovědnost za uspořádání společnosti a musí hrát významnou roli v životě společnosti i v národním hospodářstv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12:43:52Z</dcterms:created>
  <dc:creator>CIKT</dc:creator>
  <dc:description/>
  <cp:keywords/>
  <dc:language>en-US</dc:language>
  <cp:lastModifiedBy>CIKT</cp:lastModifiedBy>
  <dcterms:modified xsi:type="dcterms:W3CDTF">2006-10-03T08:44:45Z</dcterms:modified>
  <cp:revision>10</cp:revision>
  <dc:subject/>
  <dc:title>Úloha vlády ve vývoji společenských systém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7991029</vt:lpwstr>
  </property>
</Properties>
</file>