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9A1-31C7-4218-9068-8BB7DB8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BB0-33D7-4D08-A4CF-7A4479F0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44E-2402-4720-A6E0-A285C660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479-2F50-4D37-9BC4-7BEDECEE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DE56-C4CF-4BC5-A252-225770F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2AFB-B81E-4687-8F07-357B582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E05E-B02E-4922-A01B-835B3E37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013-331B-4EB3-8A48-FC29DA6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1601-51CE-4E8D-BD90-A2C40BBC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511-B15E-4F57-88B0-1AFC9E6D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27C7-9210-4729-AA77-290579D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55F-FB45-4205-8411-57E4BCA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D8E5-1374-4975-B292-59F11B01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F2B4-EB0E-459F-AFF9-D4A796A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258-5418-4F5D-9414-E2FB03BB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CA21-0A4A-4E59-A2F1-1178579F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C4C8-0AF1-4B6B-8507-228892DD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005-8C20-4A4D-8563-46CC92D1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1DA-239B-47F5-8309-E3B14E29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E4C-D3D7-4D1D-9898-B67129E4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1DD-6E22-4259-B113-6FE2A204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A21-FF86-4826-9F88-11AE5D2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346-BB56-4B9F-8BB9-602445B6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B6E-A831-4906-BFBC-44099D9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0E78-DFA7-43E2-B5F3-27A7400FB065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4D6C-94E4-4EBB-B701-87B9499368A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EEF-C911-4A8F-A5A4-B56E577B753C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3A2-6044-45F6-B9B2-3395168572A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8284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Teorie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jako v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ě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da o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v technických, biologických a spole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ens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eněk Mando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Sedlá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káš Schö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54A-0E45-445B-9D1A-F11F99A07B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ování systémových věd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0. léta – biologie, L. von Bertalanffy – obecná teorie systé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světová v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0. léta – kyberne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. léta - provoz automatizovaných informačních systémů v oblasti říz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F04-8E34-473C-8364-9B02B53E68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udvig von Bertalanff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lečnost pro pokroky v obecné teor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mětem teorie systémů je studium abstraktních systémů, které mají význam pro analýzu systémových vlastností libovolné konkrétní re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FFE-558E-4C4B-8146-4B8ACC5075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ův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ložení nové vědy (Bertalanff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á tendence ke sjednocování různých přírodních 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olečenských věd. Takové sjednocení může být předmětem zkoumání obecné teorie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to teorie se může stát významným prostředkem formování exaktních teorií ve vědách o živé přírodě a společ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Rozvíjení sjednocujících principů, s nimiž se setkává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ch oblastech vědění, nás obecná teorie řízení přibližuje k dosažení cíle, a to vytvoření jednotné vě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 to může vést k jednotnosti vzděl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578-C5C6-4303-955F-082BD1DDD5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ec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obecné abstraktní modely systémových je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ál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systémy definované na konkrétních reálných objekte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ké a dynamic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rdé a měk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A7F-2E10-407F-9A8E-A39E422C5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rbert Wie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Předmětem kybernetiky je zkoumání procesů řízení a zpracování informací v technických systémech i živých organismech a kolektivech skládajících se z živých organismů a technických systémů.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3B6-60A0-4236-90CC-B04E48AF64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bernetický myšlenkový přístup se zaměřuje na zjišťování analogií mezi systémy z hlediska řídících procesů, které v nich probíhají.“ (Jančurová, 1998, s.52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kladními pojmy kybernetiky jsou řízení a inform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D86-FE41-47D3-B12F-D92FC0CE0F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lení kybernetik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oretická kybernet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á kyberneti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bernetické aplik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346-F966-4B06-9E68-088FFF4E7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kujeme za pozor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E36-5D8B-4E21-8B6E-6F033F0EAA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ŽITÁ LITERATURA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SHBY, W.R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Kybernetika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aha: Orbis, 19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BLAŽEK, L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nagement II - průvodce studiem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Masarykova univerzita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BR, J. - VEPŘ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ová analýza a syntéz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Praha: SNTL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ÁLEK, I. A KOL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y řízení – sylabus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sarykova univerzita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JANČAROVÁ, V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Úvod do systémových věd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raha: Vysoká škola ekonomická, 1998. ISBN 8O – 7079 – 933 –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Č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y systémového inženýrství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ha: SNTL, 1984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F83-3D4A-4590-8986-5B8EC100BD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 a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výraz odvozený z řeckého slova "syn" , které v překladu znamená dohromady, a slova "histemi" – sestavov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. von Bertalanffyho: „ Systém je komplex prvků nacházejících se ve vzájemné interakci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ní defin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systém považujeme složitý reálný nebo abstraktní objekt, v němž rozlišujeme části, vztahy mezi nimi, vlastnosti. Vůči okolí vystupuje systém jako celek. Části systému jsou ve vzájemné interakci a integrují se i se systémem jako celkem. Označujeme je jako prvky systému a vztahy mezi nimi nazýváme vazbami systému. “ (Habr, 198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809-7A39-49B5-A4EC-5AB7CEA2D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ákladní typy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ysté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vztah k okolí není definován, systém nemá hraniční pr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lativně 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přesně definovány jak vztahy, kterými je systém z okolí ovlivňován, tak vztahy, kterými systém okolí ovlivňu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e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uvažovány všechny možné účinky okolí na systém a naopa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763-8B70-4189-9824-280361D65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edstavuje vědomé působení na systém, které vymezuje cíle systému a s využitím zpětných vazeb působí na systém tak, aby těchto cílů bylo dosahováno.“ ( Jančarová, 1998, s. 136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09F-DFCD-4092-9D75-907836FFF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Vývoj vědy o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 v technických systém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cký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hrnoval pojem celku, který se úplně rovnal součtu svých částí, který mohl běžet pozpátku a který by se choval přesně tímtéž způsobem bez ohledu na to, jak často byly ony díly rozebírány a zase dávány dohromady, a bez ohledu na sled, v kterém by k tomuto rozebírání a novému skládání docházelo. “ ( Deutsch, 1971, s. 93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D24-16F7-46DE-AB73-6C5980F70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 biologic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 je v devatenáctém nahrazen pojmem „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, který se stal novým východiskem nejen v biologii, ale i ve společenských vědách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anismus se nedá analyzovat, alespoň v některých svých podstatných částech. Nemůže být rozebrán a zase beze škody složen dohromady. Každá část klasického organismu, pokud vůbec může být identifikována, obsahuje ve své struktuře t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láštní funkci, která ji byla přidělena. Zpravidla nemohou být tyto části použity pro žádné jiné funkce, aniž by se organismus zničil.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E3-8F3F-4F34-8E04-29C303286F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e 20. století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ové vá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oblasti komunikační a výpočetní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vé 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y, které oz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jeme jako systémov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ystémov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ní disciplíny a 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440-BADD-43EE-94AB-114BBC8F96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57200"/>
            <a:ext cx="8076960" cy="6019920"/>
            <a:chOff x="685800" y="457200"/>
            <a:chExt cx="8076960" cy="6019920"/>
          </a:xfrm>
        </p:grpSpPr>
        <p:sp>
          <p:nvSpPr>
            <p:cNvPr id="100" name=""/>
            <p:cNvSpPr/>
            <p:nvPr/>
          </p:nvSpPr>
          <p:spPr>
            <a:xfrm>
              <a:off x="2919240" y="457200"/>
              <a:ext cx="20617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á vě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1764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teor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7920" y="1176480"/>
              <a:ext cx="154620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aplik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5760" y="2891880"/>
              <a:ext cx="17179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Kyberneti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840" y="2036520"/>
              <a:ext cx="137412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Obecná  teorie systémů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1749960"/>
              <a:ext cx="0" cy="1431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2323080"/>
              <a:ext cx="51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82040"/>
              <a:ext cx="34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5960" y="1462680"/>
              <a:ext cx="326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4960" y="889920"/>
              <a:ext cx="0" cy="57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3120" y="189288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á analý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120" y="289584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inženýrst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3120" y="37558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Operační výzk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3120" y="590436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Jiné aplik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3120" y="4615200"/>
              <a:ext cx="18896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programován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9480" y="1749960"/>
              <a:ext cx="0" cy="444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480" y="619056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9480" y="490140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9480" y="4042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9480" y="318204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9480" y="2179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2A4-C50D-427A-8DC5-CCE7C5D45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ový příst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deme považovat způsob myšlení, způsob řešení problému a či způsob jednání, při němž jsou jevy chápány komplexně ve svých vnitřních a vnějších souvisloste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edpokládá existenci speciálních metod, formálního aparátu a technických prostředků pro práci se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B66-0936-4170-8D2D-50D7DB755B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deněk Mandovec</cp:lastModifiedBy>
  <dcterms:modified xsi:type="dcterms:W3CDTF">2006-10-02T19:57:03Z</dcterms:modified>
  <cp:revision>2</cp:revision>
  <dc:subject/>
  <dc:title>Prezentace aplikace PowerPoint</dc:title>
</cp:coreProperties>
</file>