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15CA-5D9F-4302-BDEC-2D6C9377D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9A4F-2A70-4C72-8934-3665AE18C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7106-182C-4738-BF6C-379A3C5E6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24BD-1A25-44B2-A886-7F1DD93CB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878C6-A9A1-4695-942C-ED4805071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3D4A5-45A3-4DD4-87F6-233459DDA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6BF21-B7D0-4AF3-9F48-836C77AD8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3368A-A1B2-4CF5-98C6-F7786E1EC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116FA-4250-4D09-9F08-AB85AE86D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33C9D-7BAB-4AE5-B079-446ED102D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5D2B7-22FF-4413-826A-9922888F1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6CC5-2AB8-4B70-88BB-E187526E3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ACCD7-2611-44BC-ABA4-EA9C45428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279B2-0026-49A3-A4EB-7274491E8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FC6D2-C6E4-4643-8FF7-C2A735381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CC122-24C5-4FDA-93A3-303DCA445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99A5A-969F-48BE-8F28-7573881F2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2BCF-52D3-4040-B501-8AE4D8AC4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3D6A-AE2C-4097-85E8-B071BC80E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7EB0-9CCC-4CF5-AFFD-5242D584D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9CFA-EFA9-4FE6-AE02-D71C9656D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A917-C747-45C2-85B1-3F917536C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8E5B-DC12-4E26-87B1-1B5B7935C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3238-FC66-4591-962D-04F0BAC0B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4E4E6-9BF1-4B38-83B3-FC704BC8D554}" type="slidenum">
              <a:rPr b="0" lang="cs-CZ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A5FA6-B7DB-49BA-8D4A-C82409BE4C07}" type="slidenum">
              <a:rPr b="0" lang="cs-CZ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vesmir.cz/clanek.php3?CID=3878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Úvod do Obecné teorie systémů (OTS)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aseková, Holek, Havráne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Úvo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efinic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nalyticko-mechanický x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ialektický přístup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istorie a vývoj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Několik systémových pojmů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ysté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rvk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ransformac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truktur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tav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Řízen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lavní principy O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. OTS jako logické vyústění historického vývoje filosofie a přírodních vě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I. Sepjetí OTS s výzkumem a řízením sociálních systém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II. Orientace OTS na řešení globálních problém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lavní principy O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V. Sepjetí OTS s praktickým řešením systémových úloh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V. Zdůrazňování principiálních odlišností fungování a vývoje různých druhů systém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VI. Paradoxnost systémového myšlen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VII. OTS je otevřený, dynamický, složitě organizovaný systé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Děkujeme za pozornost.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iteratur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Malý, J.V., Vítek, M.:Teorie systémů II (Gaudeamus, 2003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Wiener, N.:Kybernetika  (SNTL, 1960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Fiala, L.:Hnulo se systémové hnutí? (</a:t>
            </a:r>
            <a:r>
              <a:rPr b="0" lang="cs-CZ" sz="32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http://www.vesmir.cz/clanek.php3?CID=3878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Bertalanffy, L. von:Člověk-robot a myšlení (Svoboda, 1972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1T18:13:23Z</dcterms:created>
  <dc:creator>AHa</dc:creator>
  <dc:description/>
  <dc:language>en-US</dc:language>
  <cp:lastModifiedBy>AHa</cp:lastModifiedBy>
  <dcterms:modified xsi:type="dcterms:W3CDTF">2006-10-02T20:45:24Z</dcterms:modified>
  <cp:revision>6</cp:revision>
  <dc:subject/>
  <dc:title>Snímek 1</dc:title>
</cp:coreProperties>
</file>