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SVIST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DF8-A0CC-4384-8ABB-B5055CDC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D84-B8D3-4DE2-82D0-BE2DF8D5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9EF-77A2-4059-81D2-056029E0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5FD-6F64-4CBA-9934-C6583659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46B0-7A40-4BE6-AFAA-4C1EB7D0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43B7-EC1C-4AA6-9AC2-D6156E7E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A8DC-3075-4F9B-96CF-48697B70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36F9-D5FB-4034-AED8-A81DD58B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AC85-C084-44F6-8DBA-685744E9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91F1-6E82-4467-83FA-C98090D6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284A-5792-4A1E-B522-C1E51612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A9C-069C-4BC2-8C68-B16BD161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43F7-4E1F-4A41-A34B-5B8D2F9D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4157-8D8E-4DAE-BA82-C108B87F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15F3-7F6F-47CB-A6C3-2D7765A6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E6A7-C1F6-470C-9421-052EF899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AAA4-D39F-4E6D-86B5-BC3319A9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6F64-76DE-48B9-A383-36A75EE3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006-624A-4413-9BFD-A8878B52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D2A-2E10-4C81-8151-4AB5FAB5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071-E678-4C28-A537-DBCBFC35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873-39AF-4815-A0ED-505225EE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E6A-E01D-45B6-998C-5CAC5121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7B9-6D6A-4DC0-BFE0-01A1BBCF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FAB7-FCA3-40D4-9A78-ED4A60BFF4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9B23-CE7E-4D01-9392-0F19AF344F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cca.com.au/" TargetMode="External"/><Relationship Id="rId2" Type="http://schemas.openxmlformats.org/officeDocument/2006/relationships/hyperlink" Target="http://www.tocca.com.au/" TargetMode="External"/><Relationship Id="rId3" Type="http://schemas.openxmlformats.org/officeDocument/2006/relationships/hyperlink" Target="http://www.tocca.com.au/" TargetMode="External"/><Relationship Id="rId4" Type="http://schemas.openxmlformats.org/officeDocument/2006/relationships/hyperlink" Target="http://www.tocca.com.au/" TargetMode="External"/><Relationship Id="rId5" Type="http://schemas.openxmlformats.org/officeDocument/2006/relationships/hyperlink" Target="http://www.tocca.com.au/" TargetMode="External"/><Relationship Id="rId6" Type="http://schemas.openxmlformats.org/officeDocument/2006/relationships/hyperlink" Target="http://www.toc-goldratt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SVIS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vojové tendence managementu na prahu postindustriální ér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pracoval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aniel Nová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Lucie Absolon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arbora Říh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Kniha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fektivnost informačních systémů Molnár, Z. 2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Článek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erní management závisí na modernosti architektur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roslav Král, Michal Žemlič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oubor přednášek z předmětu Podnikové informační systémy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g. Jaromír Skorkovský, CS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tocca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com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.au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www.toc-goldratt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Klíčová role informace v organiza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odnota informace v č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právná informace ve správný čas na správném míst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klady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Snížení nebo odstranění skladových záso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Kontrola časových rezerv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Informace o předpokládaných odběrech (SC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Informace o stavu vlastních zásob poskytnutých dodavate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Elektronické komunik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yužití informac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řív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o vlastním podnik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evidenčního charakteru (účetnictví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podporují snížení nákladů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tegrace dat a technických prostředků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emáme dost údajů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1484280"/>
            <a:ext cx="402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yní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o okol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podporuje rozhodová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podporuje prodej zboží a služ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Komunikace využívaná pro spolupráci obchodních partner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Máme příliš mnoho úda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1080" y="5715000"/>
            <a:ext cx="53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Problém : Rostoucí objemy d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Knowledge management (KM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Verdana"/>
              </a:rPr>
              <a:t>Cíl KM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:vytvoření „ učících systémů“ integrovaných do informačních a logistických  systému podni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Verdana"/>
              </a:rPr>
              <a:t>Základ KM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: data warehouse (datový sklad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Verdana"/>
              </a:rPr>
              <a:t>Predikce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předpovědi, prognózy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zhodování na základě strukturovaných i nestrukturovaných d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Workflow Management (řízení toku úkolů v podniku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Verdana"/>
              </a:rPr>
              <a:t>Problémy s datovými odpady a bezpečností d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Nástroj KM = ERP systé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ERP =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nterprise Resource Plan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business operations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(operační využití znalostí – např. zpracování zákaze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business intelligenc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(práce s datovými sklady na úrovni managementu podniku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business managemen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(oblast řízení podniku jako cel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Workfl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ligentní směrování inform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orkflow=„tok dokumentů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líčová aplikace budouc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žnost spolupráce skupiny  na vytváření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měrování dokumentů na základě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onkrétní uživatel (konkrétní adres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funkce nebo dovedno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ředstavení Teorie omez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chází se systémového přístup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dnik (organizaci) chápe jako řetěz závislých proces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6481800" cy="936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4360" y="4508640"/>
            <a:ext cx="778644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xistuje jen několik málo a často jen jeden prvek, pomocí kterého můžeme řídit celý systé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ento prvek je v TOC nazýván omezením systém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VI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Teorie omez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č omezení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mezení zabraňuje (omezuje) systém v dosahování jeho cí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íl  podnikání dle TOC - „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ake money now and in the futur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aždý systém má alespoň jedno omezení, kdyby tomu tak nebylo, dosahoval by svého cíle v nekonečném objem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5 kroků teorie omez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99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ccecff"/>
                </a:solidFill>
                <a:latin typeface="Arial"/>
              </a:rPr>
              <a:t>Děkujeme za pozornost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09:20:01Z</dcterms:created>
  <dc:creator>Danny</dc:creator>
  <dc:description/>
  <dc:language>en-US</dc:language>
  <cp:lastModifiedBy>Danny</cp:lastModifiedBy>
  <dcterms:modified xsi:type="dcterms:W3CDTF">2006-10-01T19:57:33Z</dcterms:modified>
  <cp:revision>5</cp:revision>
  <dc:subject/>
  <dc:title>Vývojové tendence managementu na prahu postindustriální éry</dc:title>
</cp:coreProperties>
</file>