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8B2-BDE0-48EC-AD8A-5E110C55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294-D489-42A6-A4E5-8F3CA90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383-A808-475F-B784-5D93E201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743-7B50-4442-98B4-AA4CF5D5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4831-5343-471A-875D-66DEC14A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F9AB-78B3-48C3-8E68-38B29161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9A02-7CBD-4154-ADF3-207D0339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2242-9581-4271-A0CB-4A2A442F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35AC-8573-4878-BD05-E2AA3749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D7A5-29C6-45CB-980D-61E10A4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7FA-D56B-481B-AB3C-FBEF228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649-FF56-42EA-95C0-D88BAEF5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998D-45A4-4012-B24F-EC3BAC6B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971E-DC11-4E67-A031-7011FC8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75A-0AE2-4570-9207-12C191B7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638-3E6C-40C6-9C2C-8588852C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E638-7229-44DD-AEBA-7E9E9C71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571-8FF9-45E4-802F-0FFAAA6B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048-8134-4626-B8B7-23BFB892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CFF-834E-4031-9D33-4E9DB29A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82B-C0CB-4306-951C-A90174EA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BB7-2D05-4187-9899-0807B3B7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8BD-62F6-4282-97AA-4389EF2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414-147C-4A1B-BB46-4C15843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D6B2-48F5-4E62-A3E6-3D8A7C190E6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E9A-5568-4600-9B2D-57158268915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ývoj systémů –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508428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tina Han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Obš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Bár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Vývoj jako proces postupného zdokonalování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Antientropický děj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 konstitutivní (podstatný, základní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, který hledá, experimentuj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ost, která nepřísluší jen jedinci, ale celému systém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nerozlučně spojen s evoluc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rwin Schrödinger: vlastností života je vytvářet stále větší řád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dánlivě nepravděpodobn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spořádání věc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chemický systém schopný sebe sama udržovat, v němž probíhá darwinovská evol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arles Darwin: Všechny současné druhy mají společné předky, kteří existovali před dávnými věky. Původ druhu spočívá v proměnách způsobených náhodnými mutacemi a ve výběru prostřednictvím boje o omezené zdro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e se podílí na evoluc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ekvátní informace vzniká až spolu se systémem a ten je určován nahodilými faktory uvnitř i vně tohoto systé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ožitější systém potřebuje více informací k dalšímu vývo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řirozená (biotick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genetická (dědičná) a epigenetická (získaná zkušeností a učením, je základem kulturní informa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kulturní informace (uměl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vzniká kontaktem s okol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ce 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znikala rozpoznáváním a hodnocením podnětů důležitých pro přežití a spolupráci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ořila se lidskými smysly a rozum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uchovní kultura, společenské vědom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áří ji konkrétní jedinci a institu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Nositelem je příroda sa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Započala prudkou expanzí hmoty – tzv. velký třes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ystémy jsou složitější a sebeorganizovanější (náš předek - sirná bakteri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kročilé organismy obsahují mnoho miliard buněk a jsou organizovány do velmi propracovaných struktu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27640" y="1108080"/>
            <a:ext cx="21607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sitelem je člově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vazuje na dosaženou úroveň přirozené evoluce, ale je mnohem rychlejší a stále akceleru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sledkem je kultur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voj umožnilo a urychlilo využívání symbolů (jazyk, písmo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007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oluce je proces s otevřeným konce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1134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 Drama evoluce. Praha: Hynek,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Konflikt přirozené a kulturní evoluce. Brno: Masarykova univerzita, 199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oveney, P., Highfiled, R. Mezi chaosem řádem. Praha: Mladá Fronta, 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rigogine, I., Stengersová, I. Řád z chaosu. Praha: Mladá Fronta, 200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Kolektiv autorů, Akademický slovník cizích slov, Praha: Academia, 19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39:26Z</dcterms:created>
  <dc:creator>Franta Konopásek</dc:creator>
  <dc:description/>
  <dc:language>en-US</dc:language>
  <cp:lastModifiedBy>99782</cp:lastModifiedBy>
  <dcterms:modified xsi:type="dcterms:W3CDTF">2006-09-26T15:39:47Z</dcterms:modified>
  <cp:revision>5</cp:revision>
  <dc:subject/>
  <dc:title>Vývoj systémů-přirozená a kulturní evoluce</dc:title>
</cp:coreProperties>
</file>