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B1B-3740-4DAA-A05F-3D52406C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70C-6101-431F-ADE2-8D203830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2FA-6617-48AC-919B-51FBBCA0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263-7A67-4E8D-8B0C-5A516FCB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2FA7-865B-4DC1-8B15-00718095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F156-ECF3-4812-B79E-1B917D10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6B512-4950-4EA1-AA84-A11BDE52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AF3F-134E-4B65-91D1-85E6F3A8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5A46-8A22-4E2C-AF24-034D4FA9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D1E16-80F5-468B-B994-28612257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700E9-14A5-4761-B845-52AB180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2A9-FF3B-4D8C-B4EC-5AD5F5E3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F878-A4DE-4AB7-9B19-BFF7E59D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4DD5-A60A-41CB-A2C1-DEBC5C67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FD2A-764F-4A69-A271-EEF390F3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B88E-B15B-41C1-B2E0-D392446D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9508-8130-4C34-8CFE-3DD922D1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B4C-6D92-46F4-9EDC-0C762A57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514-6952-46D4-9DF3-15C17D89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4567-4858-468E-82BF-7BAE79D7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5A5-F3EC-4422-9C9B-1DF0AFE9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31F-0B00-4A8A-93FD-0BD22E6E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D9F-5C05-4048-958A-94F222E1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5DC-88A6-4833-96F7-D8F6ACEE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ADEB-A394-48BF-8930-9E3EA99B7E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BF42-23BE-4050-923F-E004CE5A01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Stakeholder a identifikácia stakeholder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25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acovali:  Marie Kutí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ka Kotoul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onóra Bacul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átum prezentácie: 7.11.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Čakajúc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dv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42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inant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ímny nárok s mocou presadiť h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ávisl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legitímny nárok bez moci presadiť 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závislý od ostatných (dominantných) stakeholderov alebo priazni manažér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bezpeč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ý, nelegitímny nárok s možnosťou násilného presad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Definitívni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o všetkými troma atribút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58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03800" y="2859120"/>
              <a:ext cx="134820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legitímny nárok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možnosť presadeni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dôležitosť požiadavk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vyžaduje okamžitú reakciu manažment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148428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87480" y="3235320"/>
            <a:ext cx="3313080" cy="293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996360" y="14842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kľud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56610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ľubovoľn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56360" y="5661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cc66"/>
                </a:solidFill>
                <a:latin typeface="Arial"/>
              </a:rPr>
              <a:t>požadujú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328464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nebezpeč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8160" y="3284640"/>
            <a:ext cx="10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dominantn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40000" y="551664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ff9933"/>
                </a:solidFill>
                <a:latin typeface="Arial"/>
              </a:rPr>
              <a:t>závisl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42926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Arial"/>
              </a:rPr>
              <a:t>definití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12000" y="17733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4360" y="38606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8880" y="38606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44120" y="2060640"/>
            <a:ext cx="38905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investori (prevzat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masmédi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prepustený zamestnanec (amo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3800" y="4437000"/>
            <a:ext cx="2572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jeden nespokojn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mestnan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10320" y="4292640"/>
            <a:ext cx="2477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rg. pre ochran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v. prostr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univerz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obyvate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66240" y="3284640"/>
            <a:ext cx="167148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terorizm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štraj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sabotáž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44200" y="3357720"/>
            <a:ext cx="17751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zamestnan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dodávate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vlastní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22760" y="3573360"/>
            <a:ext cx="1474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vlast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78760" y="4630680"/>
            <a:ext cx="1880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-nespokojn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zákazní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Použitá literetú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uknič, A.: Štvrtý rozmer podnikania – etika, Bratislava: SAP,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nagement II (Průvodce studiem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SF M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itchell, R.K., Agle, B.R., Wood, D.J.: Toward a theory of stakeholder identification and salience: Defining the principle of who and what really counts, Academy of 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Kto je stakeholder?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akeholderom je každá skupina alebo individum, ktoré môže ovplyvniť dosiahnutie podnikových cieľov alebo je ovplyvnený snahou podniku  o dosiahnutie týchto cieľov“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reeman, Strategický management, 1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dnotlivec alebo skupina s určitou „stávkou“ v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odnik je stretom záujmu rôznych subjektov, ktorých požiadavky a záujmy treba zohľadňova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chycuje podnik v celom jeho sociálno-ekonomickom k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Chápe podnik ako množinu vzťah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Stakeholderské pojati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Identifikác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i základné atribú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ovplyvniť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zťahu stakeholdera ku podnik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ožiadavky na podni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M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chopnosť ovplyvniť podnik, a to nezávisle na vôli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ložená  na troch zdroj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átlaková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utilitárska (prospechárs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ormatív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Legitim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edpoklad, že chovanie stakehold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je sociálne akceptovateľné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sa zhoduje so sociálnymi hodnotami a norma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je sociálne žiadanou vlastnos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c0c0c0"/>
                </a:solidFill>
                <a:latin typeface="Arial"/>
              </a:rPr>
              <a:t>Tri základné atribú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Dôležitos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stupeň naliehavosti, s akou si požiadavky stakeholderov vyžadujú okamžitú pozornos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ávisí 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časovej citlivost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700" spc="-1" strike="noStrike">
                <a:solidFill>
                  <a:srgbClr val="000000"/>
                </a:solidFill>
                <a:latin typeface="Arial"/>
              </a:rPr>
              <a:t>kritickosti (teda aká je kritická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Typológia stakeholdero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4360" y="1484280"/>
            <a:ext cx="7378200" cy="4681440"/>
            <a:chOff x="684360" y="1484280"/>
            <a:chExt cx="7378200" cy="4681440"/>
          </a:xfrm>
        </p:grpSpPr>
        <p:sp>
          <p:nvSpPr>
            <p:cNvPr id="111" name=""/>
            <p:cNvSpPr/>
            <p:nvPr/>
          </p:nvSpPr>
          <p:spPr>
            <a:xfrm>
              <a:off x="2843280" y="148428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836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87480" y="3235320"/>
              <a:ext cx="3313080" cy="293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25800" y="234936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66160" y="450864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0360" y="4437000"/>
              <a:ext cx="17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ffcc66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18160" y="3357720"/>
              <a:ext cx="148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4000" y="3357720"/>
              <a:ext cx="147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69440" y="47242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9933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780720" y="3933720"/>
              <a:ext cx="132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ff0000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12000" y="1773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360" y="3860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78880" y="3860640"/>
              <a:ext cx="118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000000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489040" y="2060640"/>
            <a:ext cx="6372000" cy="4322160"/>
            <a:chOff x="2489040" y="2060640"/>
            <a:chExt cx="6372000" cy="4322160"/>
          </a:xfrm>
        </p:grpSpPr>
        <p:sp>
          <p:nvSpPr>
            <p:cNvPr id="125" name=""/>
            <p:cNvSpPr/>
            <p:nvPr/>
          </p:nvSpPr>
          <p:spPr>
            <a:xfrm>
              <a:off x="4292280" y="206064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1696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92000" y="3677400"/>
              <a:ext cx="2774880" cy="270540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04160" y="2859120"/>
              <a:ext cx="13647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koj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410160" y="4854240"/>
              <a:ext cx="168336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ľubovoľn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73360" y="4788360"/>
              <a:ext cx="1771920" cy="45972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2400" spc="-1" strike="noStrike">
                  <a:solidFill>
                    <a:srgbClr val="dddddd"/>
                  </a:solidFill>
                  <a:latin typeface="Arial"/>
                </a:rPr>
                <a:t>požadujú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61400" y="3790440"/>
              <a:ext cx="148824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nebezpeč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05360" y="3790440"/>
              <a:ext cx="147780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ominantn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24040" y="5052240"/>
              <a:ext cx="929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závisl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2480" y="4322160"/>
              <a:ext cx="1325160" cy="3682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800" spc="-1" strike="noStrike">
                  <a:solidFill>
                    <a:srgbClr val="dddddd"/>
                  </a:solidFill>
                  <a:latin typeface="Arial"/>
                </a:rPr>
                <a:t>definitív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7320" y="2327400"/>
              <a:ext cx="66240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mo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9040" y="4254480"/>
              <a:ext cx="1282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dôležitos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77360" y="4254480"/>
              <a:ext cx="1183680" cy="398880"/>
            </a:xfrm>
            <a:prstGeom prst="rect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2000" spc="-1" strike="noStrike">
                  <a:solidFill>
                    <a:srgbClr val="dddddd"/>
                  </a:solidFill>
                  <a:latin typeface="Arial"/>
                </a:rPr>
                <a:t>legitimi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8840" y="299520"/>
            <a:ext cx="79563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800" spc="-1" strike="noStrike">
                <a:solidFill>
                  <a:srgbClr val="000000"/>
                </a:solidFill>
                <a:latin typeface="Arial"/>
              </a:rPr>
              <a:t>Latentní stakeholderi – </a:t>
            </a: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 jedným atribút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koj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oc a schopnosť presadiť sa sú k dispozíc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legitimita a dôležitosť chýbaj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ľubovoľ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majú legitímny ná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chýba im moc a dôležitosť požiadavi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žadujú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dôležitá, ale nelegitímna požiadavka, vyžadujú pozornosť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žiadna moc presadiť s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2T14:15:00Z</dcterms:created>
  <dc:creator> Nonuly</dc:creator>
  <dc:description/>
  <dc:language>en-US</dc:language>
  <cp:lastModifiedBy> Nonuly</cp:lastModifiedBy>
  <dcterms:modified xsi:type="dcterms:W3CDTF">2006-11-06T07:58:10Z</dcterms:modified>
  <cp:revision>16</cp:revision>
  <dc:subject/>
  <dc:title>Snímek 1</dc:title>
</cp:coreProperties>
</file>