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831-E01C-4081-8384-C0AB5C7DB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2053-1262-41AD-84F8-74C99FC5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810-9CDD-4431-AA8D-FA6FAE69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914-8306-43B1-A8B5-94F38134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25E6-CF54-4E8E-9496-6C75A38B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6EA6-6686-48B3-B562-9B2B1411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4666-3387-4BFE-B64E-DCDBC46C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D1EA-9EC3-4B92-AED7-22758079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0125-BDEF-4061-B10B-0431288C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249B-7FC2-4FC0-9699-EEFD0BE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9181-074B-4B4F-A174-4AB42CA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C35-AFD2-49B8-817C-EFF027DF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60E5-2C35-477F-9D82-CB5147E8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03E99-73BC-42C4-91E1-17AE83F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76E7-453C-4B71-AF7D-5E58BFED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801C-BAC9-4BDE-BF5B-0555D2F5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C16B-4378-4238-ABC9-B036E1B7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70E-2CA5-4DFF-92D8-BFD3AC1D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0CFA-245A-43D8-B48F-44BFD54A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0C64-C306-4C65-AD82-20F4BB1A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CEF-8BD2-411F-A3D2-C38F463F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7A3-43AD-4544-B33D-3D5A3FD9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A3E-AA6A-44DF-90C8-19E6D978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1633-2B6B-4DC0-8055-F2CF7014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5394-6B5F-426A-917F-8E770BBCF1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CEAC-51BA-4930-BAEC-4A7C90555A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MĚNY PRÁCE A VÝVOJE PODNIK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2388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6c03"/>
                </a:solidFill>
                <a:latin typeface="Arial"/>
              </a:rPr>
              <a:t>Tým č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5640" y="1600200"/>
            <a:ext cx="6705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eindustriální = vlastní výro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stup industriáln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typická malovýroba; bez vlivu na cenu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ncentrace kapitálu ve firmá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19.století se začíná využívat parní stroje a el.energi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vyšování efektivnosti prá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ysoké investiční nároky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vznik velkých podniků s kapitá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I - US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ýraznější je vývoj v USA, kde vzniká cenová konkurence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avádění přísných zákon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na fúzí počátkem 20.století </a:t>
            </a: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korporace General Motors ap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3 gigantické korporace v odvě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é podniky zaplňovali mez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á organizovaný trh a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Vývoj podniků III – trh akciíí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cie = výnosná forma jm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livňovala úspory obyva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ování vlastnictví od říz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řídící činnost v rukou profesioná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žerská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sk již není chápán jako základní cí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zainteresovanost oproti akcio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kolem manažerů je soulad zájm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Vývoj podniků IV - Evrop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upně se význam řídících pracovníků přesouvá i do Evr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50.letech 20.století vznik velkých podniků s profesio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za jiných podmíne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lavní úlohu měl rodin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íc často centrálně plánované ekonomik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átní podn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c0039"/>
                </a:solidFill>
                <a:latin typeface="Arial"/>
              </a:rPr>
              <a:t>Glob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obřích nadnárodních společností působících 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to subjekty mají obrovský ekonomický potenci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národní společnosti využívají konkurenčních vý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očné řízení pro man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žnost úspěchu i neúspěch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oužitá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literatura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OVETSKY, 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umrak povinnost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: Prostor, 1999. ISBN 80-7260-008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CH, R.B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ušná společno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aha : Vize 97, 2003. ISBN 80-86181-60-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, A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tika hospodářství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.II. Praha: OIKOYMENH, 1994. ISBN 80-85241-62-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84360" y="2707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ěkujeme za pozornost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Řemeslo vs. Manufaktur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Klíčové výrobn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práce </a:t>
            </a:r>
            <a:r>
              <a:rPr b="0" lang="en-US" sz="2800" spc="-1" strike="noStrike">
                <a:solidFill>
                  <a:srgbClr val="e4005c"/>
                </a:solidFill>
                <a:latin typeface="Arial"/>
                <a:ea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apit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  <a:ea typeface="Arial"/>
              </a:rPr>
              <a:t>Vlastnictví výrobního faktor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grovány v osobě jediného nositele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lastnictví výrobního faktoru práce a kapitálu bylo odděl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c36c03"/>
                </a:solidFill>
                <a:latin typeface="Arial"/>
              </a:rPr>
              <a:t>Dělba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            orientovaná na výrobek </a:t>
            </a:r>
            <a:r>
              <a:rPr b="0" lang="cs-CZ" sz="2800" spc="-1" strike="noStrike">
                <a:solidFill>
                  <a:srgbClr val="e4005c"/>
                </a:solidFill>
                <a:latin typeface="Arial"/>
              </a:rPr>
              <a:t>x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rientovaná na proces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ozvoj uplatnění strojů = RACIONAL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ionalizaci lze rozdělit do několika et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tapa - první stroje jen vylepšení nástroj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síla potřebná pro pohon stroje byla nahrazena silou pohonného stroj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zv. stroje nesamostatné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tupeň - typicky je běžící výrobní p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orientace na velkovýro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ýrobní proces rozdělen na velké množství dílčích op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ělník vykonává pouze tzv. zbytkové ope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gativní důsledk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ělníkovi zůstávala atomizovaná monotónní manuální prá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áce se stává nepřiměřenou a nedokáže motivov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le méně lidí ochotno takovou práci vykonávat, roste fluktuace a absentérství, produktivita stagnuje, náklady rostou, efektivnost se snižuj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Přechod k flexibilní</a:t>
            </a:r>
            <a:r>
              <a:rPr b="0" lang="en-US" sz="3800" spc="-1" strike="noStrike">
                <a:solidFill>
                  <a:srgbClr val="f8f828"/>
                </a:solidFill>
                <a:latin typeface="Times New Roman"/>
                <a:ea typeface="Times New Roman"/>
              </a:rPr>
              <a:t> </a:t>
            </a:r>
            <a:r>
              <a:rPr b="0" lang="en-US" sz="3800" spc="-1" strike="noStrike">
                <a:solidFill>
                  <a:srgbClr val="8c0039"/>
                </a:solidFill>
                <a:latin typeface="Times New Roman"/>
                <a:ea typeface="Times New Roman"/>
              </a:rPr>
              <a:t>výrobě</a:t>
            </a:r>
            <a:endParaRPr b="0" lang="en-US" sz="3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novení komplexnosti prá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ámci humanizace přechod k tzv. „rozšiřování práce“ („job enlargement“) a „obohacování práce“ („job enrichment“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nik autonomních pracovních tý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ástup 3.etapy - COMPUTERIZAC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roli přístroje výpočetní a komunikační techni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em této nové vlny racionalizace se v oblasti výroby se stala CNC-technika (computerized numerical control) a počítačově řízená výroba (CAM - computer aided manufactu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rend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spělé země masivní nahrazování pracovní síly zmíněnou technikou, nebo výroba přesouvána do méně vyspělých zemích, kde je realizována spíše na tradičních strojích a zařízeních s vyšším podílem pracovní síly, ovšem mzdově mén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hrazování lidské práce počítači a obdobnými zařízeními je patrný též v administrativě i jiných oblastech duševní prá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razný růst produktivity práce vede v poslední době k podstatnému zkracování pracovní doby a růstu volného ča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ývojové trendy závěru dvacátého století avizující ve vyspělých zemích nástup postindustriální společnosti, představují, byť v kvalitativně zcela odlišných podmínkách, návrat k některým charakteristikám práce typickým pro společnost preindustriál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polečenská a etická stránk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říve naplnění něčích potřeb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ůst mezd z atraktivnil volný č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nes mimopracovní ak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kracování pracovní doby v důsledku úpadku morálky, současné odstraňování monotó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vují se značné profes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ůst reálných příjmů u vysokoškolá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d „bílých a modrých límečk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ástup „zlatých límečků“ – nositelé kval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4:17Z</dcterms:created>
  <dc:creator>Nikos</dc:creator>
  <dc:description/>
  <dc:language>en-US</dc:language>
  <cp:lastModifiedBy>pc</cp:lastModifiedBy>
  <dcterms:modified xsi:type="dcterms:W3CDTF">2006-11-07T07:21:24Z</dcterms:modified>
  <cp:revision>7</cp:revision>
  <dc:subject/>
  <dc:title>PROMĚNY PRÁCE A VÝVOJE PODNIKŮ</dc:title>
</cp:coreProperties>
</file>