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B1710-487F-4D62-AB4C-999DD664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C01B-A7E5-4092-A2F6-31AD7D93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F90E7-3DDD-4730-A45A-9860DE89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8613B-9148-4928-A366-C60B9ECF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2F7F-1002-42D0-9C39-A68CA591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19AD-AE6D-4D7F-A19F-C0444BFE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29D4-EF99-4CF0-8F2E-62524E30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847E-8EA0-4E6C-8F90-F22DF4DD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B7DF-97CE-4986-976B-393F0B27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3DA7-071B-4782-9AE6-400AAF21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8332-8968-4536-83C6-9384D694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18A6-3180-4788-8F8E-8BDDC029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6D58-E433-4AB3-99CB-16491ADD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48FF-5D4F-4903-A972-816754DF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F605-240B-407A-BBEB-9EA7D4CD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C85A-5B71-4176-A92A-5C4AEDA5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BF2C-AB23-4273-83E2-C163F019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63193-3103-4A39-A6FC-3F5E95FD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B3BF-0753-41D2-90E2-585FDF26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64F35-05CC-4F7A-B673-EEEA6EA5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7151-F5BD-421D-93A1-775722B3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7208D-0A4E-40DE-9322-00227063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7398-FE2D-47A7-A39F-EC1C8FCB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0DE6C-A1F6-46EC-A9BF-797072A2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8F25-671F-4B02-AA82-87D0D73DFF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7FFA-A26A-4158-B671-F4EDC644E7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2400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6000" spc="-1" strike="noStrike">
                <a:solidFill>
                  <a:srgbClr val="e5e5ff"/>
                </a:solidFill>
                <a:latin typeface="Garamond"/>
              </a:rPr>
              <a:t>Family busines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Tomáš Don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Iveta Pecharo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Kristián Sema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Hrozby pre existenciu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Nepotiz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yndróm zhýčkaného dieťať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duch otca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dojenie´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Kritický okami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92000" y="2421000"/>
            <a:ext cx="583236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800" spc="-1" strike="noStrike">
                <a:solidFill>
                  <a:srgbClr val="ffffff"/>
                </a:solidFill>
                <a:latin typeface="Garamond"/>
              </a:rPr>
              <a:t>NÁSTUPNÍCTVO..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Príklady 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Ford Motor Comp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. C. Johnson &amp; S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Procter &amp; Gambl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al-Mart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udva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tella Artoi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Guinnes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Mart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Zildjia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Faber-Cast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hristie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hell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l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eretta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iff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ivoli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Siemen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Encyclopædia Britannica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Lloyd's of London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Bank of New York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JPMorgan Chas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American Expres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HSBC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estern Uni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itibank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North West Company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Wilkinso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Goldsmiths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DuPont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Pfizer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lgate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Cooper, Erving &amp; Savage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he Guardian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Inquirer &amp; Mirror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The Saturday Evening Post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Garamond"/>
              </a:rPr>
              <a:t>New York Times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Referenc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Garamond"/>
              </a:rPr>
              <a:t>Kotey, B. (2005)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‘Are performance differences between family and non-family SMEs uniform across all firm sizes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International Journal of entrepreneurial behaviour and research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ol.11 (6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hrisman, J. J. (2005) ‘Trends and directions in the development of a strategic management theory of the family firm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Entrepreneurship: Theory and practice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lackwell Publishing Ltd., Sept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arney, M. (2005) ‘Corporate governance and competitive advantage in family-controlled firms’ </a:t>
            </a: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Entrepreneurship: Theory and practice,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lackwell Publishing Ltd., M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Hanzelkova, A. (2004) ‘Re-establishing traditional czech family businesses’ Publishing Unit, University Library of Jyvaskyla, ISBN 951-39-1909-9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Ďakujeme za pozornosť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Definíci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Rôzne kritár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ercentuálny podiel na fir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očet generácií spojených s podnik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Veľkosť podni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Budúce zámery (zapojenia firm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Kontrola nad strategickým rozhodovaní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Počet rodinných príslušníkov vo fir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Charakteristika 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Family business je spoločnosť vlastnená, kontrolovaná a riadená členmi jednej alebo niekoľkých rodí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lastnost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kúposť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ersonalizmus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artikularismus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e5ff"/>
                </a:solidFill>
                <a:latin typeface="Garamond"/>
              </a:rPr>
              <a:t>Rodinn</a:t>
            </a: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é podniky v Českej Republik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1. tento druh podnikov – oficiálne ešte nerozpoznaný ako špecifická forma obchodnej jednotky (na úrovni akademickej i vládnej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2. unikátna história –&gt; niekoľko špecifických skupín podniko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3. dôsledok = väčšia výzva než v rozvinutejších ekonomiká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Kategór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62744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2592360"/>
                <a:gridCol w="2962440"/>
              </a:tblGrid>
              <a:tr h="5205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oba pôsoben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Dl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rát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Veľkosť podnik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Veľk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obnovené tradičné rodinné 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vo založené rodinné 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Mal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obnovené tradičné živnosti a iné mikro-obchod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novo založené živnosti a iné mikro-podnik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Dôležitosť rodinných podnikov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´otec a syn´ x nadnárodné korporácie, ale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Benetton, Ferrerro, Ford, Estee Lauder,..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Ekonomická hodnota a význ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GDP, zamestanosť – 45 - 70% (sve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Garamond"/>
              </a:rPr>
              <a:t>Zastúpenie medzi firmamy – 70 - 95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e5e5ff"/>
                </a:solidFill>
                <a:latin typeface="Garamond"/>
              </a:rPr>
              <a:t>Percento rodinných firiem z registrovaných firi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600200"/>
          <a:ext cx="8229600" cy="4657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raj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Percen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Portugal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pojené Kráľovst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paniel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vajčiar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Švéd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aliansk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Stredný výcho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U.S.A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&gt;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8360" y="630864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638172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Garamond"/>
                <a:ea typeface="Arial"/>
              </a:rPr>
              <a:t>Zdroj: Neubauer a Lank,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Family vs. Non-family busin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Práca s vlastným / cudzím kapitál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lastník = /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≠ CE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Odpovednosť rodine / vlastník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Byrokracia / možnosť obísť j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naha o dlhodobé a priateľské vzťahy / neosobnosť, formálnosť a komplexnosť v partnerských vzťaho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5e5ff"/>
                </a:solidFill>
                <a:latin typeface="Garamond"/>
              </a:rPr>
              <a:t>Prítomnosť rodiny – plus/mín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Súbežné ro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Zdieľaná identi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Citové zaujatie a ambival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Význam rodinného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Garamond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13:58Z</dcterms:created>
  <dc:creator>something</dc:creator>
  <dc:description/>
  <dc:language>en-US</dc:language>
  <cp:lastModifiedBy>Tomas Donat</cp:lastModifiedBy>
  <dcterms:modified xsi:type="dcterms:W3CDTF">2006-11-06T22:47:46Z</dcterms:modified>
  <cp:revision>3</cp:revision>
  <dc:subject/>
  <dc:title>Family business</dc:title>
</cp:coreProperties>
</file>