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AA50-F919-42C9-AD51-25F3417C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E93-A6A0-4C32-BB08-0B7B3079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B6E-72C0-4F7D-98AA-F95A3060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A0B-897E-4A50-BA9A-CB1ABB6E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3195-A831-4D71-B749-058EC544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5A35-CAE4-44BB-B3E8-4AEEA572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2BF4-F817-4FB4-97ED-996418AA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B75A-5EFA-4413-9DEB-83824DEA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2085-3671-4AE6-970A-ADDA2EDA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9C3D-2754-44FF-8434-02ACEAD3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3C53-456D-449A-842B-4B699539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8EEE-3489-4118-A1FC-5DFF7913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3B53-3D88-4F01-A0CB-56924CC2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90A3-BC7D-4B24-A6DC-EAA09889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136C-5839-4F6D-B219-783F076B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7C91-09BB-4C28-993B-43F8F98F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ADF5-E710-4368-B3F5-514ACFAF4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077F5-4F74-41CD-99D2-3B626798F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DA75D-C156-457F-868F-5FA93034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497C2-B278-4737-9481-FE763610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FA716-BB5C-4D9D-8232-5DE6BD58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86D0C-CBEA-420F-9B8B-8FBBB9D9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FE5E-6863-4301-814C-C7C12960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B5735-6618-4F27-B196-160BF047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11178-D276-4698-BE94-5D8938CB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D0F44-3F7F-4598-AC55-ED8FAE75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710D2-D623-4DA6-ADAE-6855B91C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290C8-1C26-4540-B5AE-94E1FF8D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CC9CE-E84E-4F85-94D8-B707ED9E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FF127-C548-4350-9E93-DDBCFFD1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84AFF-C7CA-4157-B415-8895F322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ECBA8-4342-48EB-B451-66C2829E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5BF82-1EDB-4DC5-84AF-E6EA3733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5F4D-0540-4B19-9E3E-55969FF4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00655-227E-42E5-B055-30D49041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555D6-FF8F-436C-A478-186823D3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A93A4-AD05-415F-9982-20517E67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C48F4-DBF2-4433-A502-6D037670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9881F-0C5E-4C3C-8A17-376EE9CE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72123-C6CC-4FE8-9DE7-933E6E5E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34BEE-D9A0-488B-BEFA-65525475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707F7-0879-4253-B2FF-E64911455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0398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80040" y="26668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-36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0398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80040" y="4418280"/>
            <a:ext cx="28951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3C0B4-A25F-4DEE-9333-4232CA26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E73-6754-49EA-A6D4-18C8A55E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A481-7C78-4447-8A09-433B6D6B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79EF-10E5-47A3-A2BB-39A623F9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6920" y="44182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B03B-CD53-49AC-86B1-39CAB770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6920" y="2666880"/>
            <a:ext cx="4387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418280"/>
            <a:ext cx="899172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820-A898-41D2-ACBF-73E7110F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6933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4760" y="1447560"/>
            <a:ext cx="6933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ts val="2398"/>
              </a:lnSpc>
              <a:spcBef>
                <a:spcPts val="15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06B2-F63B-412C-A118-21454B1C35E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560" y="2135160"/>
            <a:ext cx="5181480" cy="18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ccff"/>
                </a:solidFill>
                <a:latin typeface="Tahoma"/>
              </a:rPr>
              <a:t>Click to edit the title text format</a:t>
            </a:r>
            <a:endParaRPr b="0" lang="en-US" sz="3800" spc="-1" strike="noStrike">
              <a:solidFill>
                <a:srgbClr val="99cc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19BF-DABB-43FF-BA81-5993C696EC44}" type="slidenum">
              <a:rPr b="0" lang="en-US" sz="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scifair_INSIDE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ctr">
              <a:spcBef>
                <a:spcPts val="45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ctr">
              <a:spcBef>
                <a:spcPts val="451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9DE8-8CD1-46C7-B1D7-3C1452C941E2}" type="slidenum">
              <a: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14560" y="1609560"/>
            <a:ext cx="6933960" cy="19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scifair_front" descr="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1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ED91-DB98-446D-A036-BF109D34290F}" type="slidenum">
              <a:rPr b="0" lang="en-US" sz="1400" spc="-1" strike="noStrike">
                <a:solidFill>
                  <a:srgbClr val="33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7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33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04760" y="6858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ítě podniků –Japonské řídící systém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248520" y="51051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Michal Kozub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Petr Novotný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liam Štefánik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11.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eijunk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Výroba je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v čase konstant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Nedochází k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řetěžování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výrobních faktorů, ale ani k jejich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zahál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Opak výroby „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lyn – brzda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Výroba je rozdělena jak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odle množství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, tak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odle druhů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vyráběné produ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růměruje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objednávky za určitou časovou periodu a rozdělí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Každý den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je vyráběno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stejné množství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a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stejný produktový 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ABD7F-6015-4523-AA4F-2B7F1487BE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rovnání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705520" cy="5548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572000" y="762120"/>
            <a:ext cx="0" cy="556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685800"/>
            <a:ext cx="0" cy="5791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E5C41-A7A9-4F19-8C9E-2C594E7483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radiční způsob výroby Obr.: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Nejvíce vyrábí ten druh výrobku, kterého potřebuje vyrobit nejví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K výrobě jiného druhu výrobku potřeba předělat lin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Tradiční způsob výroby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 s sebou nese následující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problémy</a:t>
            </a: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Zákazníci nekupují zboží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předvídatelně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, když bude chtít velké traktory počátkem týdne, musí si počkat do pátk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Riziko, že se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zboží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neprodá a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skončí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ve sklad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Nevyrovnané užití přístroj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50000"/>
              </a:lnSpc>
              <a:spcBef>
                <a:spcPts val="524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666699"/>
                </a:solidFill>
                <a:latin typeface="Times New Roman"/>
              </a:rPr>
              <a:t>Nárazové objednávky</a:t>
            </a:r>
            <a:r>
              <a:rPr b="0" lang="cs-CZ" sz="2100" spc="-1" strike="noStrike">
                <a:solidFill>
                  <a:srgbClr val="666699"/>
                </a:solidFill>
                <a:latin typeface="Times New Roman"/>
              </a:rPr>
              <a:t> u dodavatelů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4B93A-838A-4C84-B88F-781050EA65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eijunka Obr.: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Univerzální výrobní linka – odpadá potřeba přenastavov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666699"/>
                </a:solidFill>
                <a:latin typeface="Times New Roman"/>
              </a:rPr>
              <a:t>Linka je schopná produkovat různé typy traktorů v libovolném pořad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imes New Roman"/>
              </a:rPr>
              <a:t>Tento systém má následující výhody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Systém schopný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pružně reagovat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 na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přání zákazníků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Snižuje se riziko neprodaného zboží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Užití pracovní síly a strojů v čase je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konstantní 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– nedochází ani k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přetěžování 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ani k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nevyužití kapaci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Spotřeba materiálu je předvídatelná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, po dodavatelích je vyžadováno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rovnoměrné zásobování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76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Heijunka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omezuje plýtvání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 tím, že </a:t>
            </a:r>
            <a:r>
              <a:rPr b="1" lang="cs-CZ" sz="1900" spc="-1" strike="noStrike">
                <a:solidFill>
                  <a:srgbClr val="666699"/>
                </a:solidFill>
                <a:latin typeface="Times New Roman"/>
              </a:rPr>
              <a:t>rozkládá požadavky</a:t>
            </a:r>
            <a:r>
              <a:rPr b="0" lang="cs-CZ" sz="1900" spc="-1" strike="noStrike">
                <a:solidFill>
                  <a:srgbClr val="666699"/>
                </a:solidFill>
                <a:latin typeface="Times New Roman"/>
              </a:rPr>
              <a:t> na své pracovníky, strojní vybavení a dodavatel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E52BA-ADF3-45F2-9372-B7E95BEBAF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nb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4600" y="2666880"/>
            <a:ext cx="84567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Vznik v Toyot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Založen na tzv. signálních kartá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Základ tzv. pull systém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9C6F3-54FF-43D8-BA15-80F6E31EBE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Výhody Kanbanu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2680" y="2666880"/>
            <a:ext cx="86090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Jednoduché proc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oskytuje rychlou a přesnou inform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Nízké náklady spojené ze získáním informac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Minimalizuje odp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řenáší zodpovědnost na konkrétní zaměstnance ve výrob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643FC-11FA-4EFA-B384-F263541E03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nban v Japonsk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Modulární produk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Výrobní linky ve tvaru „U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reventivní údržba/maximální zabránění poruchám a vad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Hromadná výroba několika model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08398-F7BC-48D6-B295-23EF8FB8F0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kladový Kanban v TP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Každému materiálu je přiřazeno referenční čís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kombinace 10 písmen a čísli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registrované v Shizai systému (systému evidence zásob a jejich dodavatel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Při odběru ze skladu – automatická objednáv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Zamezení zbytečného objedná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71026-1673-44F8-B43D-18BD8BB963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kladový Kanban v TPC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Dodavatel povinen potvrdit objednávku do 2 ho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Zároveň tisk očekávané objednávky a příprava nové Kanban k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B3705-4391-4681-8DF3-9423691429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Kanban kar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8001000" cy="430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3DE54-1723-4861-B337-3FEBF48C79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ítě podniků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2680" y="2666880"/>
            <a:ext cx="86090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Změny organizačních strukt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Rozmach outsorcing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naha minimalizovat nákl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pojování do sít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4495680"/>
            <a:ext cx="8380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EBD39-21B5-4DD1-8D2C-EDD522DD11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užitá literatur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Just In Time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2003 [cit. 2006-11-02]. Dostupný z WWW: &lt;http://www.prd.usp.br/disciplinas/docs/pro5760/JIT_HOPP&amp;SPEARMAN.pdf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OLSSON, Johan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Kanban-an Integrated JIT System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1996 [cit. 2006-11-02]. Dostupný z WWW: &lt;http://www.geocities.com/timessquare/1848/japan21.html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FUKSA, Radim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Kanbanový systém ve společnosti TPCA Czech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2005 , 17.2.2005 [cit. 2006-11-04]. Dostupný z WWW: &lt;http://www.cvis.cz/index_cz.htm&gt;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JAKOUBKOVÁ, Iva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Just-in-time : přínosy, negativní stránky, uplatnění v praxi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. Brno, 2003. 37 s. Masarykova Univerzisa v Brně, Ekonomicko-správní fakulta. Vedoucí bakalářské práce Ing. Radoslav Škapa.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McBRIDE, David. </a:t>
            </a:r>
            <a:r>
              <a:rPr b="0" i="1" lang="cs-CZ" sz="1800" spc="-1" strike="noStrike">
                <a:solidFill>
                  <a:srgbClr val="666699"/>
                </a:solidFill>
                <a:latin typeface="Times New Roman"/>
              </a:rPr>
              <a:t>Heijunka : Leveling the Load</a:t>
            </a:r>
            <a:r>
              <a:rPr b="0" lang="cs-CZ" sz="1800" spc="-1" strike="noStrike">
                <a:solidFill>
                  <a:srgbClr val="666699"/>
                </a:solidFill>
                <a:latin typeface="Times New Roman"/>
              </a:rPr>
              <a:t> [online]. 2004 [cit. 2006-11-06]. Dostupný z WWW: &lt;http://www.emsstrategies.com/dm090804article.html&gt;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19B64-268B-437A-B5D1-E663B36EF4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-360" y="22096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99"/>
                </a:solidFill>
                <a:latin typeface="Times New Roman"/>
              </a:rPr>
              <a:t>Děkujeme za pozornos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E258E-6721-4B85-BABC-3874B3C036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Supply </a:t>
            </a: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hain </a:t>
            </a: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polupráce  podniků v určitých oblastech za ůčelem získání konkurenční výhod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 algn="ctr">
              <a:spcBef>
                <a:spcPts val="60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Základy v japonském stylu říz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SCM vs. kar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maximalizace zisku cestou znižování nákladů prostř. koordinace a komunikace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78c6f"/>
                </a:solidFill>
                <a:latin typeface="Times New Roman"/>
              </a:rPr>
              <a:t>vs</a:t>
            </a:r>
            <a:r>
              <a:rPr b="0" lang="cs-CZ" sz="3200" spc="-1" strike="noStrike">
                <a:solidFill>
                  <a:srgbClr val="7beb8e"/>
                </a:solidFill>
                <a:latin typeface="Times New Roman"/>
              </a:rPr>
              <a:t>.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666699"/>
                </a:solidFill>
                <a:latin typeface="Times New Roman"/>
              </a:rPr>
              <a:t>max. zisku omezením konku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B4125-5BC6-49AC-8C8B-60E4247A8F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SC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48006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Supply chain management – jen logistický ob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" y="1752480"/>
            <a:ext cx="745920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Základní kámen SCM = „win-win“ situ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=spolupráce v co největší míř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        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maximální důvě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396252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solidFill>
            <a:srgbClr val="7beb8e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4131B-DBC5-42FA-8EA1-1368F3456F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oučásti SC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trategie držení zás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řesun materiálů nebo výrobků (včetně fyzické manipulace, sběru, shromažďování a doprav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podpůrné procesy (marketing, výzkum a vývoj, zpracování objednávek, fakturace a přijímání plate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IT systémy  (e-busines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optimalizaci služeb zákazníků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Times New Roman"/>
              </a:rPr>
              <a:t>výrobu produkt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5203E-BAA8-4089-9617-15B8B458A9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Just in ti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2666880"/>
            <a:ext cx="8686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Cíl: minimalizace ztrát během celého procesu výro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Působí  na své okolí – stakehodle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Toyota Production System (T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Seven zer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4A867-E3B3-486C-9895-E2F60E743C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Seven zero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á zmetkovost (zero defect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časy seřizování (zero setup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zásoby(zero lot siz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žádná manipulace(zero handling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žádné přerušení (zero breakdown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časy dodávky(zero lead time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nulové kolísání (zero surfing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B8142-07E5-43C8-8345-6182D48650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vky JI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2666880"/>
            <a:ext cx="85345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6699"/>
                </a:solidFill>
                <a:latin typeface="Times New Roman"/>
              </a:rPr>
              <a:t>Heijunka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-  fixní množství vstupů a výstup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666699"/>
                </a:solidFill>
                <a:latin typeface="Times New Roman"/>
              </a:rPr>
              <a:t>Jidoka</a:t>
            </a:r>
            <a:r>
              <a:rPr b="0" lang="cs-CZ" sz="3200" spc="-1" strike="noStrike">
                <a:solidFill>
                  <a:srgbClr val="666699"/>
                </a:solidFill>
                <a:latin typeface="Times New Roman"/>
              </a:rPr>
              <a:t> - zaměstnancům zodpovědnost za produkc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       </a:t>
            </a:r>
            <a:r>
              <a:rPr b="0" lang="cs-CZ" sz="2800" spc="-1" strike="noStrike">
                <a:solidFill>
                  <a:srgbClr val="666699"/>
                </a:solidFill>
                <a:latin typeface="Times New Roman"/>
              </a:rPr>
              <a:t>- pravomoc zastavit výrobu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AB77F-E8F0-4432-BC8A-4D46278897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Verdana"/>
              </a:rPr>
              <a:t>Heijunk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8991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The slower but consistent tortoise causes less waste and is much more desirable than the speedy hare that races ahead and then stops occasionally to doze“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895480" y="3657600"/>
            <a:ext cx="3048120" cy="242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55591-F94B-491A-8A06-7B3AFC3E30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al Kozub</cp:lastModifiedBy>
  <dcterms:modified xsi:type="dcterms:W3CDTF">2006-11-06T22:58:2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