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D614-E03C-4438-876C-DF041BA16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DC94-A963-444D-BA66-C58CFF14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6FE8-4E77-4FAA-92AA-360F0D0E6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AB7A-C2D2-44DA-8287-641E2E7AB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7CE7F-467C-47A3-9A5A-94645E0FB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E8009-1D75-44AB-8B50-932C582D2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BB330-40D8-4A51-A20D-121615AD2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C3747-9247-426A-86B1-55EAD37AD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39A13-2016-4AC9-86C7-274166BBA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8EBEE-E613-4ACA-A149-37CF9F7BF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C6713-09A0-412B-BEE9-CE5F9D63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567E-9018-464F-AD9A-817C0CB32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0DD56-65CA-4281-A8BD-B3A09F0A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BF5EF-5BCE-4634-B95D-42C5F846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C1B44-EE48-4AE5-9B23-6CA275DC2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7D59E-45A7-4A43-A4F8-4E87CBA5E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E0330-F4B1-4AD4-B34A-AEC913D2B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151C-18DC-4329-BB7F-8DBEAED80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329A-DA3F-4F83-A703-D3D29D9BF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E6E6-2590-4E48-BC8D-AEE61C4E0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18A4-ECA3-4E56-83FD-A91ABE604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3AFB-EEBC-4756-A119-B04397E7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8F53-802C-43A5-9E25-547F1C1A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FC97-4131-4754-B4C6-89253235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A94E-ECB4-4816-90EF-15D6C6C3099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3B482-B868-41E2-B30A-AD22FF3F55B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outube.com/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anažerská kuchařk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072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cept na vysoce zhodnocující podni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29200" y="3429000"/>
            <a:ext cx="41148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pracova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iří Gaw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Lenka Říhov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ana Škvařilov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055520" y="3198960"/>
            <a:ext cx="3732480" cy="23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6039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k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 koh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ůležité, ale zaměřme se na „jak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708360" y="404640"/>
            <a:ext cx="4751280" cy="35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řísad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apitál, ale ne mno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dhadem 3 oso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iká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řešit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ategický zprostředkovat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284720" y="3232080"/>
            <a:ext cx="439092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Jak to namíchat? Aneb podniková kultur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837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přizpůsobovat lidi úkolům, ale úkoly lid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bré vztahy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díl na riziku i zisk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exibili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středí pro dozrání „nápadů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659640" y="3500280"/>
            <a:ext cx="1428840" cy="22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ečení aneb ekonomická stránka věci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6255000" cy="32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pecifické produkty spojené se službam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rodávat „řešení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ajít „nicku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še najímat =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nízká míra fixních náklad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932360" y="4487760"/>
            <a:ext cx="363852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ůžeme servírovat aneb jak by to mělo dopadnou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ětšinu zisku berou 3 klíčové pos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gující podni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ej podniku větší společnos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řechod na „tradiční“ podnik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162400" y="1905120"/>
            <a:ext cx="34369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říklad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263000" cy="21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fungující podnik – Y soft lt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šechno prodat – </a:t>
            </a:r>
            <a:r>
              <a:rPr b="0" lang="cs-CZ" sz="28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www.youtube.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echod – www.google.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692360" y="4508640"/>
            <a:ext cx="2376360" cy="882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859280" y="5373720"/>
            <a:ext cx="352908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59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ěkujeme za pozornost…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… a těšíme se na příště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užitá literatur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ICH, R. B.: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ílo národů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ha: Prostor, 1995. ISBN 80-85190-34-6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AŽEK, L.: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ANAGEMENT 2 – průvodce studiem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no: ESF, 2006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20:00:55Z</dcterms:created>
  <dc:creator>Loser</dc:creator>
  <dc:description/>
  <dc:language>en-US</dc:language>
  <cp:lastModifiedBy>Loser</cp:lastModifiedBy>
  <dcterms:modified xsi:type="dcterms:W3CDTF">2006-11-06T20:54:25Z</dcterms:modified>
  <cp:revision>2</cp:revision>
  <dc:subject/>
  <dc:title>Manažerská kuchařka</dc:title>
</cp:coreProperties>
</file>