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70F-A1A0-4C6D-9AC8-18F77DCB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3161-89C5-4F00-ABB8-F33ED4FB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0EA-2891-4EB0-8AA3-04F29DEF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C995-028F-43DE-B0B5-0D5AE221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1C84-F50B-4186-A8BB-28B2C1F5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ED7C-95B4-4375-9068-1F831707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6BE5-06C3-4BB2-B363-16396299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924B-726F-4D06-B87F-D228218A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6D28-A0E4-49EE-AC02-E1CEF3AC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145A-C06E-48BE-A868-80235CC3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BFCD-5FFE-48B0-8E0F-218DD8C4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F0D9-17C6-4F8D-AD8F-49638C8B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BF10-F92C-4CE8-B6B1-209C87ED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1B48-B39D-407B-ADEC-7A2FF630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0BA4-F6BA-41BF-8CF7-6210EE00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0A1A-3E63-4B69-9C9A-381A4773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7327-7F51-4481-81C0-1563D5B6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5D58-DFF2-4816-98E0-6B28F55A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333-5CCD-4C9B-977E-8E51F789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0B82-618D-487A-BC4A-168834C1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DBD9-3F9E-4E3B-A426-DCF93E47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16AC-BB27-45AE-B0FE-4B65273E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6CCA-4078-4CA6-B0F3-5501FF4F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DE3-A110-48B5-9FDE-A62348DF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76CC-BB03-438F-8635-59337F3975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1664-CCA0-475E-AAFC-D59CB0739E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ŘÍZENÍ PROJEKT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tr Smutn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dlišnosti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ím se PM liší od běžného operativního řízení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čnos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idělení zdrojů podle potřeb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hody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ůsledné přiřazení odpovědnosti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 jsou přiděleny podle potřeby a poté uvolněny =&gt; flexibilit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ytváří podmínky pro sledování skutečného průběhu oproti plánu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émový přístu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výhody / rizika P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pecifické požadavky zákazníků se často objevují až v průběhu realiza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častých org. změn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utnost plánovat a oceňovat v předstihu před realizací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proje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časné úsilí vynaložené na vytvoření unikátního výsledku (produktu / služb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časnost = je stanoven začátek a kone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kát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í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olo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d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nější vlivy a rizi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 jedinečnost = každý projekt se provádí pouz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dn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Základny PM - trojimperativ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je jedinečný sled aktivit a úkolů, který má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án specifický cíl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ována časová omezení působnost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 stanoven rámec pro čerpání zdrojů na realizac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672000" cy="2617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0" y="3573360"/>
            <a:ext cx="38876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blém vzájemné podmíněn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tlivé kategorie trojimperativu jsou vzájemně  propoje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pecifická povaha projekt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rčuje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relativ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důležitost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ždé podmín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rojimperativ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=&gt; je nutno hledat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Tahoma"/>
              </a:rPr>
              <a:t>vyvážené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řešení. Jde spíše o optimalizační problém (x maximalizace jednotlivých kategorií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64000" y="2565360"/>
            <a:ext cx="3527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1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provedením (kvalitou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špatná komunikace mezi zákazníkem a dodavatelem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ambiciózní předpokl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dodavatele při plánování či realizac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2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émy s čas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dostatek zdrojů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dměrný důraz na kvalit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92360" y="3213000"/>
            <a:ext cx="532764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Překážky splnění podmínek trojimperativu (3/3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émy s 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těž lhářů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sledek řešení časových skluzů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říliš optimistické počáteční odhad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yby při kalkulaci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ákladní procesní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777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Životní cyklus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6920" y="2063880"/>
            <a:ext cx="806616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růběh procesů v rámci životního cyklu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63272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ovení cílů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íl projektu = nová hodnota, která je výsledkem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.M.A.R.T. (Specicic, Measurable, Assignable, Realistic, Time-boun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 kritéria dosažení úspěch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kládací listina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ormalizuje existenci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děluje manažerovi projektu pravomoci pro použití zdroj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efinuje odpovědnost manažera za naplnění požadavků projekt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áklady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ředběžný rozpočet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stanovení ceny proje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dodavatele = náklady + zi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a z pohledu zákazníka = rozhodování o návrat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enové strateg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trategie nejnižší nabíd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odcenění prvního projektu (buy-in/bail-out s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. s. často leží mimo odpovědnost proj. manažer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=&gt;podklad pro uzavření kontrak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působ pořízen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ákup vs. vlastní realiz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ř. nákl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pacity pro realiza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rganizační náro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izika změ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et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ba návratn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iskont peněžních tok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ntabilita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kontra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hoda o provedení určitého pracovního výkonu nebo o dodávce produktu /služ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nákladových cená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kázané náklady + proměnná část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lačí dodavatele ke snižování náklad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ákazník musí mít silné kontrolní pravomo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trakty založené na pevné cen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a zahrnuje i přiměřenou rezerv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často bývá doplněna o cílovou odmě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 je třeba plán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ii a met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dro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ák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chéma plánová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842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Podrobný rozpis prací </a:t>
            </a:r>
            <a:r>
              <a:rPr b="0" lang="cs-CZ" sz="1200" spc="-1" strike="noStrike">
                <a:solidFill>
                  <a:srgbClr val="333399"/>
                </a:solidFill>
                <a:latin typeface="Tahoma"/>
              </a:rPr>
              <a:t>(Work Breakdown Structure)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chází z definice předmět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ozepisuje požadovaný produkt do logické hierarchie úloh (činností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důležitým východiskem pro řízení všech tří složek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rozpis úseků práce (kdo co dělá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časový rozvrh projektu (kdy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lán čerpání nákladů (rozpoč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ánování čas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efinuje v jakých termínech a časových sledech budou práce na projektu probíha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ástroj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úsečkové grafy (Ganntův diaga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jednoduchost konstruk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neukazují závislosti mezi úkoly (činnostmi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změna v délce jedné činnosti se (automaticky) nepromítne do zbývající části hramonogram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íťové graf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P.E.R.T. – dobu trvání stanovují na základě optimistických realistických a pesimistických variant odhadů trvání činností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G.E.R.T – zdokonalení metody PE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C.P.M. – založena na analýze tzv. kritické cesty = nejdelšího sledu úkolů, který neobsahuje žádné časové rezervy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souhrnně prezentují souvislost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umožňují hledat alternativ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+ mají definovanou kritickou cest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složit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- nepřehledn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zpočet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asově fázový plán reprezentovaný peněžními nebo pracovními jednotkam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án čerpání zdrojů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celkovém souhr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rozpisu do detailních polož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časovém fázování podle předpokladu postupu čerp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ody: viz specializované předmě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okace zdrojů – problém omezených zdrojů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ožňuje dlouhodobě efektivní využití zdrojů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mezí konfliktu při použití konkrétního zdro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mpromis mezi časem a nákl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hlazení použití zdrojů – vyhladí špičky využití pracovních sil v dílčích úsecích =&gt; ovlivňuje délku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oda umístění zdrojů – hledá nejkratší možnou kritickou cestu vzhledem k limitovaným zdrojů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EALIZAČNÍ FÁZE PROJEKT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alizační fá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jektu zpravidla vyžaduje největší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úsilí a největší náklady. Spočívá v řízení a k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aných prací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bíhá v reálném čase podle plá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ují se odchylky od plánu způsobené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předvídatelnými rušivými vlivy, ale také chybami v koncepční fázi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 základě odchylek v čase, nákladech či kvalitě se přijímají korekční opatření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émem řízení realizační fáze je skutečnost, že odchylky jsou na sobě vzájemně závislé a korekce času, nákladů a kvality představují optimalizační úloh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Zájmové subjekty v řízení podniků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109960"/>
            <a:ext cx="77724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inci nebo organizace, kteří jsou zapojeni do projektu anebo jejichž zájmy jsou ovlivněny realizací projekt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hou mít zcela rozdílné zájmy a proto jejich sladění bývá největším problémem projektového říz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 nejdůležitějším z nich patří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ákazník – objednavatel (uživatel) výstup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stor – poskytuje finanční zdroje na projek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ktový manažer – zodpovědný za realizaci projektu na operativní úrov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Členové projektového týmu – pracovníc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ládní instituce, místní sprá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notliví občan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ojektový tý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083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jektový tým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hraný tým pracovníků s minimálními konfliktními vztahy, zaměřený a motivovaný dosáhnout cíle projektu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ým musí být motivován na dosažení cí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 týmu musí být vytvořena atmosféra důvěry a odhodlání dosáhnout očekávaného výsled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členové týmu musí mít možnost projevit svůj názor - týmově analyzovat a řešit problé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ěnící se charakter prostředí a jeho vliv na řízení podnik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žadavky podniků na uchazeče o manažerské pozic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le manažera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ombinace řízení a vede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valifika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dbor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oft-skills – vedení lidí, motiv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munik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kontrolova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417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trola průběhu projekt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e součástí říz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obíhá ve všech třech dimenzích trojimperati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provedení (kv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asového postupu prac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ontrola čerpání náklad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zav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ceptace = schválení výstupů projek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ředání výsledk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dnocení průběhu projektu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plnění cíl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dnocení kvality výstupu i proces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vantifikace rizik, která nastala (odhad možného opakování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teratura ke studi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VOZILOVÁ, Alena. Projektový Management. Grada: Praha, 2006. (ŘÍZ 539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SENAU, Milton D. Řízení projektů. Computer Press. Praha, 2003. (ŘÍZ 4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IALA, Petr. Projektové řízení. Modely, metody, analýzy. Professional Publishing: Praha, 2004. (ORG 47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GROS, Ivan. Kvantitativní metody v manažerském rozhodování. Grada: Praha, 2003. (ORG 38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ěkuji za pozorno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d 1) měnící se charakter prostředí…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ý rychlý vývoj nových produkt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né časté a rychlé změny procesů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izace produkce podle požadavků zákazník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šechny tyto faktory vyžadují užití jednorázového řízeného sledu činností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d 2) požadavky podniků na manaže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9325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č přednáška o PM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stoucí důležitost znalosti PM pro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niky i absolven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ktura přednáš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č přednáška o řízení projektů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ový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kt – defin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ní pohled na projek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ciace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ánová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Říz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trola průběhu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teratura ke studi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iná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 je to projektový management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hrn aktivit spočívajících v plánování, organizování, řízení a kontrole zdrojů za účelem splnění (relativně) krátkodobého cíle, který byl stanoven pro realizaci specifických cílů a záměrů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5:53:31Z</dcterms:created>
  <dc:creator>Doc.Ing.Ivan Hálek, CSc.</dc:creator>
  <dc:description/>
  <dc:language>en-US</dc:language>
  <cp:lastModifiedBy>Petr Smutný</cp:lastModifiedBy>
  <dcterms:modified xsi:type="dcterms:W3CDTF">2006-10-12T08:56:53Z</dcterms:modified>
  <cp:revision>80</cp:revision>
  <dc:subject/>
  <dc:title>PROJEKTOVÉ ŘÍZENÍ</dc:title>
</cp:coreProperties>
</file>