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46BA-2A69-459E-A18A-957B56AB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95B6-DAEC-4760-8102-62256B54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B54B-3E92-48BB-981B-573B1E3D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68DB-24ED-42EA-9D64-FC85D01F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CD5A-EF86-465E-9158-F4BB015E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6D5C-9EDF-4DD8-8AE2-0D88161C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E643-C9DF-456E-9AF2-D0035A53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B72E-DAFF-4F9A-8181-ED451970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3B92-47C1-4592-873F-6ABB6B64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DC90-0B93-4584-A08C-78EC5A53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9632-91D4-4F1A-BAFB-F69023E3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86A5-8794-4CFD-BFC7-83DD6A38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39E0-4FBE-4545-943E-DD4E3882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5911-6D10-4457-B367-25FABB47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1183-04A2-4BD1-8B68-7C2DF49E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9C00-D504-434A-BA41-09B83510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9F8B-3DBD-4EDE-B5F3-62F419C1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C614-6B82-49D3-9186-88752A81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AFD8-301A-4226-85F1-CD2E3E78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45B6-F542-4541-9C8B-2C91CA19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A50A-F353-4224-9132-2A48358A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32A6-2733-4DF5-AF01-CDFAE7E4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7557-FEB5-412C-9623-B5964D75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7400-6035-49AF-B1FB-0C517688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4C0B-505E-4B09-A3D5-AC709CDF9C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EF95-80C9-4E3E-9AE1-95F8959863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ŘÍZENÍ PROJEKT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tr Smutn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dlišnosti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ím se PM liší od běžného operativního řízení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časno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čno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idělení zdrojů podle potřeb pro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hody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ůsledné přiřazení odpovědnosti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droje jsou přiděleny podle potřeby a poté uvolněny =&gt; flexibilit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ytváří podmínky pro sledování skutečného průběhu oproti plánu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émový přístu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výhody / rizika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pecifické požadavky zákazníků se často objevují až v průběhu realizac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utnost častých org. změn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utnost plánovat a oceňovat v předstihu před realizací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 je projek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časné úsilí vynaložené na vytvoření unikátního výsledku (produktu / služb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časnost = je stanoven začátek a kone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kát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í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olog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d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nější vlivy a rizi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&gt; jedinečnost = každý projekt se provádí pouz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dno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Základny PM - trojimperati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 je jedinečný sled aktivit a úkolů, který má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án specifický cí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ována časová omezení působnost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 stanoven rámec pro čerpání zdrojů na realizac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3672000" cy="2617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0" y="3573360"/>
            <a:ext cx="38876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blém vzájemné podmíněn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dnotlivé kategorie trojimperativu jsou vzájemně  propoje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pecifická povaha projekt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určuje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relativn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důležitost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ždé podmínk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rojimperativ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=&gt; je nutno hledat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vyvážené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řešení. Jde spíše o optimalizační problém (x maximalizace jednotlivých kategorií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64000" y="2565360"/>
            <a:ext cx="3527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1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émy s provedením (kvalitou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špatná komunikace mezi zákazníkem a dodavatele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iš ambiciózní předpoklad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y dodavatele při plánování či realizac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2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émy s čas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dostatek zdrojů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dměrný důraz na kvalitu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492360" y="3213000"/>
            <a:ext cx="532764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3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émy s nák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těž lhářů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ůsledek řešení časových skluzů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iš optimistické počáteční odhad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y při kalkulaci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ákladní procesní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777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Životní cyklus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26920" y="2063880"/>
            <a:ext cx="806616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ůběh procesů v rámci životního cyklu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63272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ovení cílů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íl projektu = nová hodnota, která je výsledkem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.M.A.R.T. (Specicic, Measurable, Assignable, Realistic, Time-boun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 kritéria dosažení úspěch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kládací listina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ormalizuje existenci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iděluje manažerovi projektu pravomoci pro použití zdroj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efinuje odpovědnost manažera za naplnění požadavků projekt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áklady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ředběžný rozpočet projekt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stanovení ceny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a z pohledu dodavatele = náklady + zi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a z pohledu zákazníka = rozhodování o návrat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ové strateg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strategie nejnižší nabíd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odcenění prvního projektu (buy-in/bail-out s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c. s. často leží mimo odpovědnost proj. manažer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podklad pro uzavření kontra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působ poříze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ákup vs. vlastní realiz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ř. nákl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pacity pro realiza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rganizační náro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izika změ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et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oba návrat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iskont peněžních tok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entabilita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zavření kontra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hoda o provedení určitého pracovního výkonu nebo o dodávce produktu /služ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trakty založené na nákladových cená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kázané náklady + proměnná část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lačí dodavatele ke snižování náklad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ákazník musí mít silné kontrolní pravomo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trakty založené na pevné cen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a zahrnuje i přiměřenou rezerv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často bývá doplněna o cílovou odmě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 je třeba plánov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ii a met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dro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ák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éma plánová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424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Podrobný rozpis prací </a:t>
            </a:r>
            <a:r>
              <a:rPr b="0" lang="cs-CZ" sz="1200" spc="-1" strike="noStrike">
                <a:solidFill>
                  <a:srgbClr val="333399"/>
                </a:solidFill>
                <a:latin typeface="Tahoma"/>
              </a:rPr>
              <a:t>(Work Breakdown Structure)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chází z definice předmětu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ozepisuje požadovaný produkt do logické hierarchie úloh (činností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e důležitým východiskem pro řízení všech tří složek trojimperati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rozpis úseků práce (kdo co dělá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časový rozvrh projektu (kdy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lán čerpání nákladů (rozpoč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ánování čas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definuje v jakých termínech a časových sledech budou práce na projektu probíha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nástroj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úsečkové grafy (Ganntův diaga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přehledn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jednoduchost konstruk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neukazují závislosti mezi úkoly (činnostmi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změna v délce jedné činnosti se (automaticky) nepromítne do zbývající části hramonogram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síťové graf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P.E.R.T. – dobu trvání stanovují na základě optimistických realistických a pesimistických variant odhadů trvání činností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G.E.R.T – zdokonalení metody PE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C.P.M. – založena na analýze tzv. kritické cesty = nejdelšího sledu úkolů, který neobsahuje žádné časové rezerv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souhrnně prezentují souvislost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umožňují hledat alternativ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mají definovanou kritickou cest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složit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nepřehledn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zpočet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asově fázový plán reprezentovaný peněžními nebo pracovními jednotkam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án čerpání zdrojů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celkovém souhr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rozpisu do detailních polož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časovém fázování podle předpokladu postupu čerpá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ody: viz specializované předmě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okace zdrojů – problém omezených zdrojů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ův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možňuje dlouhodobě efektivní využití zdrojů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mezí konfliktu při použití konkrétního zdro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mpromis mezi časem a nákl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a uhlazení použití zdrojů – vyhladí špičky využití pracovních sil v dílčích úsecích =&gt; ovlivňuje délku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a umístění zdrojů – hledá nejkratší možnou kritickou cestu vzhledem k limitovaným zdrojů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ALIZAČNÍ FÁZE PROJEKT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alizační fá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jektu zpravidla vyžaduje největší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úsilí a největší náklady. Spočívá v řízení a kontr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aných prací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bíhá v reálném čase podle plán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ují se odchylky od plánu způsobené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předvídatelnými rušivými vlivy, ale také chybami v koncepční fázi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 základě odchylek v čase, nákladech či kvalitě se přijímají korekční opatř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émem řízení realizační fáze je skutečnost, že odchylky jsou na sobě vzájemně závislé a korekce času, nákladů a kvality představují optimalizační úloh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Zájmové subjekty v řízení podniků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109960"/>
            <a:ext cx="77724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dinci nebo organizace, kteří jsou zapojeni do projektu anebo jejichž zájmy jsou ovlivněny realizací projektu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hou mít zcela rozdílné zájmy a proto jejich sladění bývá největším problémem projektového říz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 nejdůležitějším z nich patří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ákazník – objednavatel (uživatel) výstup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estor – poskytuje finanční zdroje na projek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ktový manažer – zodpovědný za realizaci projektu na operativní úrovn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Členové projektového týmu – pracovníc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ládní instituce, místní sprá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dnotliví občané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jektový tý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083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jektový tým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hraný tým pracovníků s minimálními konfliktními vztahy, zaměřený a motivovaný dosáhnout cíle pro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ým musí být motivován na dosažení cí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týmu musí být vytvořena atmosféra důvěry a odhodlání dosáhnout očekávaného výsled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členové týmu musí mít možnost projevit svůj názor - týmově analyzovat a řešit problé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přednáška o P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ěnící se charakter prostředí a jeho vliv na řízení podnik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žadavky podniků na uchazeče o manažerské pozic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le manažera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ombinace řízení a ved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valifika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odbor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oft-skills – vedení lidí, motiv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munik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kontrolov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417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trola průběhu projektu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e součástí říz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obíhá ve všech třech dimenzích trojimperati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provedení (kva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časového postupu prac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čerpání náklad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zavře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ceptace = schválení výstupů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ředání výsled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dnocení průběhu projektu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plnění cíl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dnocení kvality výstupu i proces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vantifikace rizik, která nastala (odhad možného opakování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teratura ke studi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VOZILOVÁ, Alena. Projektový Management. Grada: Praha, 2006. (ŘÍZ 539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ROSENAU, Milton D. Řízení projektů. Computer Press. Praha, 2003. (ŘÍZ 41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IALA, Petr. Projektové řízení. Modely, metody, analýzy. Professional Publishing: Praha, 2004. (ORG 47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GROS, Ivan. Kvantitativní metody v manažerském rozhodování. Grada: Praha, 2003. (ORG 38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ěkuji za pozor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d 1) měnící se charakter prostředí…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ný rychlý vývoj nových produkt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né časté a rychlé změny proces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alizace produkce podle požadavků zákazník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šechny tyto faktory vyžadují užití jednorázového řízeného sledu činností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d 2) požadavky podniků na manaže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93250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přednáška o P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&gt;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stoucí důležitost znalosti PM pr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dniky i absolven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 je to projektový management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hrn aktivit spočívajících v plánování, organizování, řízení a kontrole zdrojů za účelem splnění (relativně) krátkodobého cíle, který byl stanoven pro realizaci specifických cílů a záměrů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5:53:31Z</dcterms:created>
  <dc:creator>Doc.Ing.Ivan Hálek, CSc.</dc:creator>
  <dc:description/>
  <dc:language>en-US</dc:language>
  <cp:lastModifiedBy>Petr Smutný</cp:lastModifiedBy>
  <dcterms:modified xsi:type="dcterms:W3CDTF">2006-10-12T08:56:53Z</dcterms:modified>
  <cp:revision>80</cp:revision>
  <dc:subject/>
  <dc:title>PROJEKTOVÉ ŘÍZENÍ</dc:title>
</cp:coreProperties>
</file>