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4CD-A2F0-4FEA-8E1F-F2D146B6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D5E-26DC-4D60-879B-36A42CC1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B7D-B7E5-4570-AA25-E9EAD682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91F-1F3E-42B4-9EA6-F44DA87C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561F-F7A8-42B5-8681-D495FC93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1617-B62A-43CD-9329-11637C0C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E513-D8E7-428F-91A4-842A561E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996B-4D4D-4083-B36D-3141C67B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1249-C93F-478E-A42B-F78B0D2B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DA43-07AE-4E18-8535-93B9E852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B066-9EDA-498C-BA98-6484B404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F2C-2913-41A3-8926-CDB292A3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FBF2-3E0C-4D68-9CCE-40F74F5E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8D31-D052-4B88-ACC5-97776E82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CDE6-2685-4D63-844D-C1DEE1C2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DA9B-29E8-4897-A9B0-DE937045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EE72-E963-45E9-8945-4FA31BB7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D94-ADA9-42F2-B966-9D1881D8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B30-A297-41B5-A440-542C25D6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F26-BA77-47E6-B7E6-14B8FC8E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969-5261-4357-BCC3-C91FBB85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AE5-99B2-42FF-85EC-37D7F540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260-A0BD-48D5-9B79-2D3108A2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40F-8322-43F9-BACD-7803788E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420F-3133-4E6B-AEBC-1F1F6BB13CC6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9AB6-F9EB-4B68-A831-4CA4BEED5BFB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vcr.cz/sprava/index.html" TargetMode="External"/><Relationship Id="rId2" Type="http://schemas.openxmlformats.org/officeDocument/2006/relationships/hyperlink" Target="http://www.mvcr.cz/sprava/index.html" TargetMode="External"/><Relationship Id="rId3" Type="http://schemas.openxmlformats.org/officeDocument/2006/relationships/hyperlink" Target="http://www.mvcr.cz/sprava/index.html" TargetMode="External"/><Relationship Id="rId4" Type="http://schemas.openxmlformats.org/officeDocument/2006/relationships/hyperlink" Target="http://www.mvcr.cz/sprava/index.html" TargetMode="External"/><Relationship Id="rId5" Type="http://schemas.openxmlformats.org/officeDocument/2006/relationships/hyperlink" Target="http://www.mvcr.cz/sprava/index.html" TargetMode="External"/><Relationship Id="rId6" Type="http://schemas.openxmlformats.org/officeDocument/2006/relationships/hyperlink" Target="http://www.mvcr.cz/sprava/index.html" TargetMode="External"/><Relationship Id="rId7" Type="http://schemas.openxmlformats.org/officeDocument/2006/relationships/hyperlink" Target="http://www.mvcr.cz/sprava/index.html" TargetMode="External"/><Relationship Id="rId8" Type="http://schemas.openxmlformats.org/officeDocument/2006/relationships/hyperlink" Target="http://www.mvcr.cz/sprava/index.html" TargetMode="External"/><Relationship Id="rId9" Type="http://schemas.openxmlformats.org/officeDocument/2006/relationships/hyperlink" Target="http://www.vlada.cz/cs/urad/default.html" TargetMode="External"/><Relationship Id="rId10" Type="http://schemas.openxmlformats.org/officeDocument/2006/relationships/hyperlink" Target="http://www.vlada.cz/cs/urad/default.html" TargetMode="External"/><Relationship Id="rId11" Type="http://schemas.openxmlformats.org/officeDocument/2006/relationships/hyperlink" Target="http://www.vlada.cz/cs/urad/default.html" TargetMode="External"/><Relationship Id="rId12" Type="http://schemas.openxmlformats.org/officeDocument/2006/relationships/hyperlink" Target="http://www.vlada.cz/cs/urad/default.html" TargetMode="External"/><Relationship Id="rId13" Type="http://schemas.openxmlformats.org/officeDocument/2006/relationships/hyperlink" Target="http://www.vlada.cz/cs/urad/default.html" TargetMode="External"/><Relationship Id="rId14" Type="http://schemas.openxmlformats.org/officeDocument/2006/relationships/hyperlink" Target="http://www.vlada.cz/cs/urad/default.html" TargetMode="External"/><Relationship Id="rId15" Type="http://schemas.openxmlformats.org/officeDocument/2006/relationships/hyperlink" Target="http://www.vlada.cz/cs/urad/default.html" TargetMode="External"/><Relationship Id="rId16" Type="http://schemas.openxmlformats.org/officeDocument/2006/relationships/hyperlink" Target="http://www.vlada.cz/cs/urad/default.html" TargetMode="External"/><Relationship Id="rId17" Type="http://schemas.openxmlformats.org/officeDocument/2006/relationships/hyperlink" Target="http://www.vlada.cz/cs/urad/default.html" TargetMode="External"/><Relationship Id="rId18" Type="http://schemas.openxmlformats.org/officeDocument/2006/relationships/hyperlink" Target="http://www.vlada.cz/cs/urad/default.html" TargetMode="External"/><Relationship Id="rId19" Type="http://schemas.openxmlformats.org/officeDocument/2006/relationships/hyperlink" Target="http://www.psp.cz/sqw/hp.sqw?k=30" TargetMode="External"/><Relationship Id="rId20" Type="http://schemas.openxmlformats.org/officeDocument/2006/relationships/hyperlink" Target="http://www.psp.cz/sqw/hp.sqw?k=30" TargetMode="External"/><Relationship Id="rId21" Type="http://schemas.openxmlformats.org/officeDocument/2006/relationships/hyperlink" Target="http://www.psp.cz/sqw/hp.sqw?k=30" TargetMode="External"/><Relationship Id="rId22" Type="http://schemas.openxmlformats.org/officeDocument/2006/relationships/hyperlink" Target="http://www.psp.cz/sqw/hp.sqw?k=30" TargetMode="External"/><Relationship Id="rId23" Type="http://schemas.openxmlformats.org/officeDocument/2006/relationships/hyperlink" Target="http://www.psp.cz/sqw/hp.sqw?k=30" TargetMode="External"/><Relationship Id="rId24" Type="http://schemas.openxmlformats.org/officeDocument/2006/relationships/hyperlink" Target="http://www.psp.cz/sqw/hp.sqw?k=30" TargetMode="External"/><Relationship Id="rId25" Type="http://schemas.openxmlformats.org/officeDocument/2006/relationships/hyperlink" Target="http://www.psp.cz/sqw/hp.sqw?k=30" TargetMode="External"/><Relationship Id="rId26" Type="http://schemas.openxmlformats.org/officeDocument/2006/relationships/hyperlink" Target="http://www.psp.cz/sqw/hp.sqw?k=30" TargetMode="External"/><Relationship Id="rId27" Type="http://schemas.openxmlformats.org/officeDocument/2006/relationships/hyperlink" Target="http://www.psp.cz/sqw/hp.sqw?k=30" TargetMode="External"/><Relationship Id="rId28" Type="http://schemas.openxmlformats.org/officeDocument/2006/relationships/hyperlink" Target="http://www.psp.cz/sqw/hp.sqw?k=30" TargetMode="External"/><Relationship Id="rId29" Type="http://schemas.openxmlformats.org/officeDocument/2006/relationships/hyperlink" Target="http://www.psp.cz/sqw/hp.sqw?k=30" TargetMode="External"/><Relationship Id="rId30" Type="http://schemas.openxmlformats.org/officeDocument/2006/relationships/hyperlink" Target="http://www.micr.cz/" TargetMode="External"/><Relationship Id="rId31" Type="http://schemas.openxmlformats.org/officeDocument/2006/relationships/hyperlink" Target="http://www.micr.cz/" TargetMode="External"/><Relationship Id="rId32" Type="http://schemas.openxmlformats.org/officeDocument/2006/relationships/hyperlink" Target="http://www.micr.cz/" TargetMode="External"/><Relationship Id="rId33" Type="http://schemas.openxmlformats.org/officeDocument/2006/relationships/hyperlink" Target="http://www.micr.cz/" TargetMode="External"/><Relationship Id="rId34" Type="http://schemas.openxmlformats.org/officeDocument/2006/relationships/hyperlink" Target="http://www.micr.cz/" TargetMode="External"/><Relationship Id="rId3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oucasny.model.VS.CR.2006.doc/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hyperlink" Target="http://www.mvcr.cz/odbor/reforma/seznam.html" TargetMode="External"/><Relationship Id="rId3" Type="http://schemas.openxmlformats.org/officeDocument/2006/relationships/hyperlink" Target="http://www.mvcr.cz/odbor/reforma/seznam.html" TargetMode="External"/><Relationship Id="rId4" Type="http://schemas.openxmlformats.org/officeDocument/2006/relationships/hyperlink" Target="http://www.mvcr.cz/odbor/reforma/seznam.html" TargetMode="External"/><Relationship Id="rId5" Type="http://schemas.openxmlformats.org/officeDocument/2006/relationships/hyperlink" Target="http://www.mvcr.cz/odbor/reforma/seznam.html" TargetMode="External"/><Relationship Id="rId6" Type="http://schemas.openxmlformats.org/officeDocument/2006/relationships/hyperlink" Target="http://www.mvcr.cz/odbor/reforma/seznam.html" TargetMode="External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Podklady/Organizacni.struktura.OkU_Blansko.doc" TargetMode="Externa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Problemy.ustredni.SS.doc/" TargetMode="Externa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Ministerstva_1918.do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6808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Reforma veřejné správy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779640" y="3581280"/>
            <a:ext cx="414468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David Špaček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PVVSU - Přednáška č. 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8483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hejtmanstv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ejmenována n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SPRÁVY POLITICKÉ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čele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hejtman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ístodržitelstv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ejmenována n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EMSKÉ SPRÁVY POLITICKÉ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 čele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ezid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848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ŽUPNÍ ZÁKON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(zákon č. 126/1920 o zřízení župních a okresních úřadů)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ýsledkem snah po sjednocení veřejné správ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ěl odstranit provizorium po recepci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ěl platit pro celé území republiky s výjimkou Prah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ěl být aktivován do 3 let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"vnitřní správu" měly vykonávat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žup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v čele župan) a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jim podřízené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řady okres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okresní náčelník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odřízený županovi)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župní úřady měly být podřízen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V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o politické neshody vstoupil v omezené podobě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 platnost jen na Slovensku od ledna 1923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7848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34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0200" indent="-34020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ŽUPNÍ ZÁKON* 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ORGÁNY ŽUP: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olené župní zastupitelstv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ůsobnost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hospodářská a správn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§ 31 "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Zejména jest župní zastupitelstvo povoláno pečovati o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humanitní, zdravotní, sociální, hospodářské, dopravní a kulturní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zájmy župy a jejího obyvatelstva, pokud nejde o úkoly čistě místní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povahy, na něž stačí prostředek okresu nebo obcí. K tomu konci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může se župní zastupitelstvo usnášeti zejména na tom, aby byly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zřízeny nebo podporovány ústavy, podniky nebo zařízení..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normotvorná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na základě zmocnění vlády, zákonů a nařízení</a:t>
            </a:r>
            <a:br>
              <a:rPr sz="18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ve správním soudnictví - župní senát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) poradní 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"poradním sborem župana a ústředních úřadů o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ěcech veřejné župní správy se týkajících"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40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0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848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ŽUPNÍ ZÁKON* 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ORGÁNY ŽUP: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župní výbor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ředsedou župan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župní komis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OKRESNÍ VÝBORY"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imo vybraných skupin měst (§ 69) při každé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okresním úřadě a pro jeho obvod - působnos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hospodářská -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"všeliké záležitosti vnitřní, jež se dotýkají společného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rospěchu okresu a jeho obyvatelů, nebo jež přesahují zájem jednotlivých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obcí, nebo jejich silami nemohou býti obstarány", pokud nepojalo ŽZ</a:t>
            </a:r>
            <a:br>
              <a:rPr sz="18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pomocná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"při provádění usnesení" ŽZ</a:t>
            </a:r>
            <a:br>
              <a:rPr sz="18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ve správním soudnictv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(okresní sená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) poradn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- poradní sbor okresního náčelního, župana a ŽZ ve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ěcech veřejné okresní správ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alizací župního zřízení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a území ČSR tři různé systémy politick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 unifikaci nedošlo do r. 1927 - ZÁKON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 ORGANISACI POLITICKÉ SPRÁVY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„organizační zákon“)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. č. 125/1927 - v českých zemích vstupoval v platnost 1. 12. 1928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rušení žup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avedení druhé instance všeobecné politické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É ÚŘA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čele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ý prezident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Praze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ro zemi Českou, v Brně pro zemi Moravskoslezskou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 Bratislavě pro Slovenskou krajinu, v Užhorodě pr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emi Podkarpatorusko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ÁKON O ORGANISACI POLITICKÉ SPRÁV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vní instancí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át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v čele okresní hejtman (náčelník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zde i statutární měst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Liberec a Opava)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munál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jejich funkci obstarávala statutární měst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Praha, Brno a Olomouc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Čechách bylo 103 okresních úřadů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zemi Moravskoslezské 45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na Slovensku 79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na Podkarpatské Rusi 12.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viz územní samosprávy - "okresní úřady"</a:t>
            </a:r>
            <a:br>
              <a:rPr sz="2200"/>
            </a:b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 SAMO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ový volební řád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dpadl majetkový cenzus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ákon č. 75/1919 Sb. 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řiznával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šeobecné, rovné, tajné a přímé hlasovací právo všem mužům i ženám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teré měly v obci aspoň 3 měsíce trvalé bydliště, nebyly určitým způsobem diskvalifikovány a dosáhly 21 let věku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olební období 4 roky, v r. 1933 prodlouženo na 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ovela k obecním zřízením - z. č. 76/1919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řádné orgány obc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obecní zastupitelstvo, obecní rada, starosta, náměstci starosty, komis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becní rada i nyní fungovala jak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 trestní senát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ze starosty a dvou radní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ůstala zachována instituce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atutárních měs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1919 sloučení obcí v hlavní zemská města, 192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9320" y="1700280"/>
            <a:ext cx="794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SAMO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ýznamnější změnu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o organizaci politick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1927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292929"/>
                </a:solidFill>
                <a:latin typeface="Arial"/>
              </a:rPr>
              <a:t>zrušeny dosavadní prvky okresní samosprávy </a:t>
            </a:r>
            <a:br>
              <a:rPr sz="2200"/>
            </a:b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(zastupitelské okresy, silniční okresy na Moravě a ve Slezsku, i okresy na Slovensku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veden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orgány součástí OkÚ,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území se shodovalo s územními obvody OkÚ,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členěny do organizace státních politických úřad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úřední agendu okresů obstarávali státní úředníci při OkÚ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SAMOSPRÁVA* -orgány nových okresů: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zastupitelstv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dvě třetiny voleny přím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(aktivní volební právo 24 let), třetina jmenována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ministrem vnitra z řad odborníků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"přihlížeje k poměrům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hospodářským, kulturním, národnostním a sociálním"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ůsobnost: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hospodářská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"všeliké záležitosti vnitřní, jež se dotýkají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společného prospěchu okresu a jeho obyvatelů, nebo jež přesahují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zájem jednotlivých obcí, nebo jejich silami nemohou býti obstarány,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okud záležitostí těch nepojalo ZZ"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mocná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- účast "při provádění usnesení ZZ"</a:t>
            </a:r>
            <a:br>
              <a:rPr sz="1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e správním soudnictv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radní a iniciativní -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"ve věcech veřejné okresní správy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oradním sborem okresního hejtmana (náčelníka) i zemského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residenta a zemského zastupitelstva"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SAMO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nových okresů:*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výbor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olilo ze svých řad okr. zastupitelstvo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hejtman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(náčelník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ředsedou a) i b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odpovědný zemskému prezidentovi a ministrovi vnitra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kresnímu zastupitelstvu se zodpovídat nemus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Literatura a jiné zdro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8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CHELLE, K.</a:t>
            </a:r>
            <a:r>
              <a:rPr b="0" i="1" lang="fr-FR" sz="2000" spc="-1" strike="noStrike">
                <a:solidFill>
                  <a:srgbClr val="292929"/>
                </a:solidFill>
                <a:latin typeface="Arial"/>
              </a:rPr>
              <a:t>Vývoj veřejné správy v letech 1848 - 1948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. </a:t>
            </a:r>
            <a:br>
              <a:rPr sz="2000"/>
            </a:b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aha: EUROLEX BOHEMIA 2002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CHÁK, V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ývoj veřejné správy v Československu a České republice (1945 - 2004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 Praha: EUPRESS 200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www stránk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Ministerstva vnitra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sprav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/index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Úřadu vlády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vlad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s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urad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/default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Poslanecké sněmovn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ps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h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7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8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9"/>
              </a:rPr>
              <a:t>?k=30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Ministerstva informatik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0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1"/>
              </a:rPr>
              <a:t>mi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2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3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4"/>
              </a:rPr>
              <a:t>/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Á SAMO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jvyšším článkem územní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členěny do organizace státních politických úřad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Čechách do r. 1928 provizorium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o organizaci politick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zavedl 4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é celky (viz výše)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každé vytvořen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zemské samosprávy: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é zastupitelstvo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1/3 volena, 2/3 jmenovala vláda z řad odborníků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ý výbor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ý prezident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é komise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fakultativní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Á SAMO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ůsobnost zemského zastupitelstva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hospodářská a správní -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"pečovati o správní a hospodářské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záležitosti země a jejího obyvatelstva" "zejména ... pečovati o humanitní,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zdravotní, sociální, hospodářské, dopravní a kulturní zájmy země a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jejího obyvatelstva, pokud jde o úkoly, které svým významem přesahují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rozsah a potřeby jednotlivých obcí a okresů, dotýkají se zájmů větší části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země a nemají důležitosti celostátní"</a:t>
            </a:r>
            <a:br>
              <a:rPr sz="1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normotvorná</a:t>
            </a:r>
            <a:br>
              <a:rPr sz="1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ve správním soudnictví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(zemské senáty)</a:t>
            </a:r>
            <a:br>
              <a:rPr sz="1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) poradní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- "poradním sborem zemského presidenta a ústředních úřadů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o věcech veřejné zemské správy"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) Okupace a období Protektorátu Čechy a Mo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období tzv.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druhé republik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rezident zmocněn vydávat dekret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s moc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ústavního zákona s jednomyslným souhlasem vlády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(zákon č. 330/1938)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měna unitárního státu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řijetí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zákona č. 299/1938 Sb. z. a n. o autonomii Slovenské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země (i s možností přijetí vlastní ústavy), a úst. z. č.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328/1938 Sb. z. a n. o autonomii Podkarpatské Rus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znik Protektorátu Čechy a Mora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Ústava SR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č. 185/1939 z července 1939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) Okupace a období Protektorátu Čechy a Mo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74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ahraniční odboj a KONCEPCE PRÁVNÍ KONTINUITY předmnichovské republiky: ústavní dekret prezidenta republiky č. 2/1940 Úř. věst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15. října 1940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onodárná činnost bude po dobu platnosti prozatímníh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tátního zřízení vykonávána v nezbytných případe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prezidentem republiky na návrh vlády ve formě dekretu, které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olupodepíše předseda vlády, resp. členové vlády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pověření jejich výkone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) Okupace a období Protektorátu Čechy a Mo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iskuze ohledně kontinuity či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diskontinuit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myšlenka vytvoře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ÁRODNÍCH VÝBORŮ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kupina kolem Beneše „mají být dočasné“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období bezprostředně po ukončení okupač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moci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munisté  - aby trvalou součástí systém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řejné správy a v podstatě jedinými realizátory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územní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) Okupace a období Protektorátu Čechy a Mo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896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sledkem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avní dekret o národních výborech a prozatímním národním shromáždění  č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18/1944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e 4. 12. 1944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na osvobozeném území měly být ustaven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místní,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  okresní a zemské NV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jak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rozatímní orgány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  veřejné 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 obcích a okresech s převážnou většinou „státně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  nespolehlivého obyvatelstva“ místo NV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správní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  komisaři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neb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komis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tázka Zakarpatské Ukraji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smlouvy, v nichž se Československo zavázalo odstoupit ZU Sovětskému svazu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duben až červen 1945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) Veřejná správa v období  1945 - 19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75596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průběhu osvobozování vznikal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ÁRODNÍ VÝBOR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činnost upravena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později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vládním nařízení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č. 4/1945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třístupňová struktura národ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ístní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okresní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zemské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+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národní výbor hlavního města Prah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taly se jedinými místními orgány veřejné 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a mnoha místech ještě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, okres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v českých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ích zemské úřa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faktick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ýkonnými orgány příslušných národních výbor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 Únoru 1948 patrné „usměrňující“ aktivity Komunistické strany i v oblasti veřejné 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AKČNÍ NÁRODNÍ VÝBOR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ačaly vznikat (po 21. únoru) na nejrůznějších úrovní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 celé republice „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 okresech, městech, obcích, závodech, školách,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úřadech, ale také v politických stranách a společenských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organizacíc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oncipovány jako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rgány trvale působíc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ákladním úkole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„organizovat a představovat jednot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pracujícího lidu měst a venkova“ a „odstranit všechn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rozvratné živly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jich politickému vlivu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dřízeny národní výbor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dalš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ložky státního aparátu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počátku nebyla upravena pravidla jejich činnosti ani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jejich kompetence, řešily vyhlášky MV, až zákon č. 213/1948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z července 1948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AVA 9. KVĚTNA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vrchovaný lid vykonává státní moc zastupitelskými sbory, které jsou lidem voleny, lidem kontrolovány a lidu odpověd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apitola 6, §§ 123 - 133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árodní výbor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nositelé a vykonavatelé státní moci v obcích, okresech a krajích a strážci práv a svobod lidu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místní, okresní a </a:t>
            </a:r>
            <a:r>
              <a:rPr b="1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krajské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árodní výbory, </a:t>
            </a:r>
            <a:br>
              <a:rPr sz="2000"/>
            </a:b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§ 124: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„(I) Národní výbory  vykonávají na území, pro které jsou zvoleny, veřejnou správu ve všech jejích oborech, zejména obecnou správu vnitřní, správu kulturní a osvětovou, ochranu práce a správu zdravotní a sociální; správu finanční pak podle zvláštních ustanovení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“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AVA 9. KVĚTN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árodní výbor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*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§ 126: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(I) NV jsou při plnění svých úkolů povinny opírat se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o přímou účast a iniciativu lidu a podléhají jeho kontrole.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Jejich členové a členové jejich orgánů jsou lidu ze své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činnosti odpovědni. Způsob, jakým lid provádí kontrolu a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uplatňuje tuto odpovědnost, stanoví zákon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§ 125 - práva a povinnosti v oblasti bezpečnostní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hospodářské - NV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chrání a posilují lidově demokratické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zřízení... pečují o národní bezpečnost ... účastní se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vypracovávání a provádění jednotného hospodářského 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plánu..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PŘEVZALA INSTITUT ÚSTAVNÍHO SOUDU - „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tala se jen formálním textem bez skutečné ochra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forma a současný model veřejné správy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Současný model - </a:t>
            </a: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d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87480" y="2133720"/>
            <a:ext cx="696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9320" y="1628280"/>
            <a:ext cx="74390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červnu 1948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jezd národ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ROMĚŘÍŽSKÝ PROGRAM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vtělen do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a č. 289/1948 o krajském zříze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rajské zřízení zakotveno Ústavou 9. května, </a:t>
            </a:r>
            <a:r>
              <a:rPr b="1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AL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kraje a krajské NV zřízeny až tímto zákone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 21. 12.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území ČSR rozděleno na 19 krajů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v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českých zemích - 13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na Slovensku 6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území dosavadních okresů nebo obcí měla být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řizpůsobena krajským hranicí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 českých zemích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oupl počet okres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ze 154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na 180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odpovědnost KNV lidu, řízeny vládou a jí odpovědné, 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jejich referenti příslušným resortním ministrů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9320" y="1773000"/>
            <a:ext cx="74390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avní zákon č. 47/1950 Sb. o úpravách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organizaci veřejn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umožňoval vládě, aby svými nařízeními mohla upravovat, zřizovat a rušit působnost ministerstev, pověřenectev a jiných orgánů veřejn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Ministerstvo národní bezpečnost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ládním nařízením zdůrazněn požadavek, ab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aždý 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měl vypracovaný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lán své činnosti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který by byl kontrolovatelný volenými orgány i vyššími NV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lánovací komis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s. ODBORNOST ÚŘEDNÍK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ritika činnosti K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soustřeďují agendy, které na ně byly přesunuty s tím, aby byly delegovány dále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tzv.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kodex národ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tři ústavní zákony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12/1954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nově definoval postavení národních výborů v systému orgánů státní moc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„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NV jsou místními orgány státní moci pracujícího lidu Československa. Jako nejširší organizace pracujících opírají se ve své činnosti v krajích, okresech a obcích a svazek dělníků, rolníků a pracující inteligence. NV řídí ve svých obvodech hospodářskou a kulturní výstavbu socialismu podle směrnice vlády a zákonů republiky. Soustavně se starají, aby byly stále lépe a plněji uspokojovány rostoucí hmotné a kulturní potřeby pracujících. Veškerou svou činností pečují o člověka a jeho blaho a upevňují důvěru pracujících k orgánům lidově demokratického státu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“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9261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44520" indent="-344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tzv.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kodex národ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: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ákon č. 12/1954 Sb.*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„NV jsou 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krajské, okresní, </a:t>
            </a:r>
            <a:br>
              <a:rPr sz="2000"/>
            </a:br>
            <a:r>
              <a:rPr b="1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městské, obvodní a místní, Ústřední národní výbor </a:t>
            </a:r>
            <a:br>
              <a:rPr sz="2000"/>
            </a:br>
            <a:r>
              <a:rPr b="1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hlavního města Prahy a Ústřední národní výbor </a:t>
            </a:r>
            <a:br>
              <a:rPr sz="2000"/>
            </a:br>
            <a:r>
              <a:rPr b="1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hlavního města Bratislavy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.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4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NV podřízeny vládě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t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  <a:ea typeface="Arial"/>
              </a:rPr>
              <a:t>ato struktura NV zůstala v platnosti </a:t>
            </a:r>
            <a:r>
              <a:rPr b="1" lang="pl-PL" sz="2000" spc="-1" strike="noStrike">
                <a:solidFill>
                  <a:srgbClr val="292929"/>
                </a:solidFill>
                <a:latin typeface="Arial"/>
                <a:ea typeface="Arial"/>
              </a:rPr>
              <a:t>až do roku 1960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ákon č. 13/1954 Sb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- upravoval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organizaci, působnost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a formy činnosti národních výbor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všech stupňů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c)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třetí zákon upravil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olby do NV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odobný způsob jak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v př. voleb do NS v roce 1948 - pouze jedna jednotná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kandidátka NF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4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červenci 1960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avní zákon č. 100/1960 Sb., ústava Československé socialistické republiky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zorem sovětská ústava z r. 1936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základy socialismu byly v Československé republice již vybudovány... Vedoucí silou ve společnosti i ve státě je předvoj dělnické třídy, Komunistická strana Československa, dobrovolný bojový svazek nejaktivnějších a nejuvědomělějších občanů z řad dělníků, rolníků a inteligence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čl. 4. zakotvil vedoucí úlohu KSČ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V součástí „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astupitelských sborů pracujícího lid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ava Československé socialistické republiky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ostavení a úkoly 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charakterizují články 86 - 96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V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„nejširší organizace pracujících“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orgány státní moci a správy v krajích, okresech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 obcích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loženi z poslanců - lidem voleni, lidu odpovědni a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ohli být lidem odvoláni - funkční obdob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↑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4 rok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ÚNV změněn na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árodní výbor hlavního města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Prah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NVP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ústavě rovně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„rada, komise a dalš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orgány“ - část komise volena, část z občan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ed přijetím ústavy přijat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ákon č. 65/1960 Sb.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 národních výborech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přesněna charakteristika soustavy národních výborů: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krajsk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kres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v obcích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městské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místní NV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- městské NV působily ve městech, která byla sídle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krajů a okresů, a v ostatních velkých obcí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městského charakteru, které určil KNV.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- městské NV v Bratislavě, v Brně, v Ostravě a v Plzni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    postavení okresního NV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 obvodech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bvodní NV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árodní výbor hlavního města Prah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bvodní NV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ákon č. 65/1960 Sb. o národních výborech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§ 11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1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árodní výbory dbaj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by byly plněny zákony, chrání socialistické vymoženosti pracujícího lidu, socialistické vlastnictví, práva a oprávněné zájmy občanů a socialistických organizací, zabezpečují veřejný pořádek a dodržování pravidel socialistického soužití. K tomu vedou ve spolupráci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 dobrovolnými společenskými organizacemi všechny občan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2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árodní výbory podle ustanovení zvláštních zákon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olí a odvolávají soudce a soudce z lidu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Hodnot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ak soudy v jejich obvodu plní své úkoly, a pomáhají jim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ákon č.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 action="ppaction://hlinksldjump"/>
              </a:rPr>
              <a:t>36/1960 Sb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.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ové územní členění státu (!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nížen počet krajů i počet okr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kraj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tředočeský, Jihočeský, Západočeský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Severočeský, Východočeský, Jihomoravský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Severomoravský, Západoslovenský, Středoslovenský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Východoslovenský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p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očet okresů v českých zemích ze 180 na 76, </a:t>
            </a:r>
            <a:br>
              <a:rPr sz="2000"/>
            </a:b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   na Slovensku ze 111 na 32</a:t>
            </a:r>
            <a:br>
              <a:rPr sz="2000"/>
            </a:b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novém systému územního členění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292929"/>
                </a:solidFill>
                <a:latin typeface="Arial"/>
              </a:rPr>
              <a:t>se staly hlavními </a:t>
            </a:r>
            <a:r>
              <a:rPr b="1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292929"/>
                </a:solidFill>
                <a:latin typeface="Arial"/>
              </a:rPr>
              <a:t>    články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kres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ezoluce XIII. sjezdu KSČ o postavení národních výborů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 socialistické společnosti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odmíněna zejména špatným ekonomickým vývoje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 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ákon č. 69/1967 Sb. o národních výbore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ákon č. 69/1967 Sb. o národních výborech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zvýšena odpovědnost KNV za rozvoj kraje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+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zdůrazněna metodická a koordinační funkce k ONV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V „nejvyšším orgánem státním moci“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e svém územ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měly je pravidelně informovat soudy, prokuratura i SNB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řízení v kompetenci NS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rgány NV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plenární zasedání NV (základním a nejvyšším)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rada NV, předseda, tajemník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 komis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odbor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městské NV a obvodní NV, někdy i místní NV měl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zřizovat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bčanské výbor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Historické pozad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0) Vybrané prvky reforem 1848 - 191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1. Československá republika a VS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918 -193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2. ČSR, okupace a období protektorát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1945 - 194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1948 - 196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) 1960 - 1968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?SAMOSPRÁVA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) 1968 - 198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) Veřejná správa v období 1968 -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7835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počátku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demokratizační tenden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akční program KSČ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řijat ÚV KSČ 5. dubna 1968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= instituce, „kde je demokraticky vytvářena linie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  státní politiky v místech, zejména v okresech a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  krajích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- považovány za instituce, které „mus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  pokračovat v pokrokových tradicích míst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  samosprávy a lidové správy“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náznaku i obnovení „samosprávné funkce“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ožadavek zabránit tomu, „aby v celém státním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echanismu nedocházelo k přílišnému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oustřeďování moci v jednom článku, v jednom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aparátu nebo u jednotlivce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) Veřejná správa v období 1968 -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federace zřízena ústavním zákonem č. 143/1968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ze dne 27. října 1968 o československé federaci, který vstupoval v platnost od 1. 1. 1969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předpokládal vypracování Ústavy ČSSR, Ústavy ČSR 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a Ústavy SSR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nebyly za celou dobu existence  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federace rozpracován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navazoval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ústavní zákon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(č.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171/1968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)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o zřízení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federálních ministerstev a federál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ýraznější změny ve federální a republikové správě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ákonem č. 193/1988 Sb. a zákonem č. 194/1988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Sb.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„vytvářet podmínky pro rozvoj podnikatelské činnosti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hospodářské soutěže“, ale také zdůrazňuje nutnos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většího zhodnocení „vědeckých poznatků“ v činnosti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vlády i jednotlivých ministerstev     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) Veřejná správa v období 1968 -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8706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NÁRODNÍ VÝBOR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úst. zákonem o federaci byl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řízení národních výborů  svěřeno republikovým orgánům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v SSR došlo r. 1969 ke zrušení a r. 1970 k opětnému zavedení krajského zřízení,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 právní úpravě NV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tendence k posílení centralismu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a naplňování článku 4 ústavy z r. 1960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snahy vlád obu republik o jednotný výkon působnosti zejména K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těžištěm koncipování (ve spolupráci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s vládami republik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lány rozvoje krajů byly schvalovány vládou a po své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schválení se staly závaznými pro všechny orgány a instituc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ůsobící v rámci kraj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) Veřejná správa v období 1968 -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48960" y="1484280"/>
            <a:ext cx="78706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NÁRODNÍ VÝBORY A STŘEDISKA „PERSPEKTIVNÍCH OSÍDLENÍ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ládní nařízení ke sjednocení struktury národ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NV všech stupňů zřizují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odbor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, nejmenší městské NV a místní NV s větším počtem než 2500 ob. zřizovaly pouze jeden odbor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roblémy v obcích s méně než 2500 o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v ČR 75%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V r. 1972 V ČR 420 městských NV, 13 obvodních NV (10 v Praze a 3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v Brně), 6823 místních NV (z toho 1239 v obcích s méně než 300 ob., 3355 výborů v obcích do 600 obyvatel, 1 770 místních NV v obcích s ne více než 1500 ob., jen 413 místních NV v obcích do 3000 ob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vlády obou republik schválily na základě návrhů, které zpracovaly K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„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střediska perspektivního osídle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“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v ČR 17O obcí jako středisek obvodního významu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1029 středisek místního významu (v nich MNV s alespoň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1 odborem a tajemníkem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ECNÉ CHARAKTERISTI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oučást transformace společnos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otální strukturální přestavba dřívější centralizované státní správy v decentralizovanou veřejnou správu (princip subsidiarity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měna totalitního státu ve stát demokratický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renesance samo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lká rychlost změny a s tím způsobené problémy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 kvalitou přípravných fází reformy - následné legislativní smršt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of. Strecková - příčiny reformy v Č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aše VS je silně etatistická (silný vliv stát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správy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elmi centralistická (státní správa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resortismus, nízká koordin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labá veřejná kontrola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úroveň používání moderních metod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management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profesionální úroveň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úředníků 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zastupitel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/ ČSFR (1989 - 199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byla přijata ústava ve formě jednoho ústavního dokumentu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vše řešeno jednotlivými ústavními zákony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. z. č. 135/1989 Sb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zrušil čl. 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. z. č. 294/1990 Sb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ze dne 18. července, kterým se mění a doplňuje ústavní zákon č. 100/1960 Sb., Ústava ČSSR, a ústavní zákon č. 143/1968 Sb., o čs. federaci a kterým se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kracuje volební období národních výbor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zvolený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r. 1986, do dne voleb do zastupitelstev obcí - 23. - 24. 11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. z. č. 23/1991, Listina základních práv a svobo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. z. č. 91/1991, o Ústavním sou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. z. č. 327/1991, o referen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FEDERÁLNÍ A REPUBLIKOVÁ ÚROVEŇ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od počátku tendence zvyšovat úlohu republik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tomto trendu pokračoval i úst. z. č. 556/1990 Sb. z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rosince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ávo ČR a SR zřizovat vlastní ozbrojené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bezpečnostní sbor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rozlišuje výlučnou působnost federace a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ýlučnou působnost republik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5. - 6. června 1992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olb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do FS, ČNR a SNR - výsledky předznamenaly rozpad federace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1. září schválila SNR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avu SR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úst. z. 493/1992 (tzv.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druhý kompetenční zákon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 8. října - přesun kompetencí na republi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0708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ákladní územní správní jednotkou se stal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E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ČR postavení obcí upraveno zákonem ČNR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č. 367/1990 Sb. ze 4. září 1990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dlišil státní správu a samosprávu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hovořil 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cích, městech a statutárních městech, a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 Praze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vůči zák. o obcích speciálním zákonem č. 418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legislativou ustaven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JEDNOSTUPŇOVÝ SYSTÉM SAMO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obecní zastupitelstvo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míšený / spojený model veřejn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státní správa na prvním stupni vykonávána rovněž orgány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ob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 obecní zastupitelstvo, obecní rada, starost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primátor) a zástupce starosty, komise, odbory, obecní úřad, tajemník (podle počtu pracovníků OÚ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řízeny zákonem ČNR č. 425/1990 Sb. ze dne 9. říjn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1990 ve městech, ve kterých byly ONV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(územní členění zůstalo v podstatě nezměněné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od r.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 action="ppaction://hlinksldjump"/>
              </a:rPr>
              <a:t>196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„velké kraje“ a „velké okresy“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e dni zřízení OkÚ v ČR 76 okr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„decentralizovaný orgán SS se všeobecnou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ůsobností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OkÚ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řednosta, okresní shromáždění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referá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Plzni, Brně a Ostravě vykonávaly činnost OkÚ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agistráty, v Praze Magistrát města Prahy a úřad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ěstských část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řízení v kompetenci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lády republik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řídící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kontrolní činnost především MV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1. Historické pozadí reformy 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Vybrané prvky reforem 1848 - 1918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adionovo prozatímní obecní zříze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březen 1849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vní moderní zákonná úprava pro obce (v širším smyslu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„základem svobodného státu je svobodná obec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obce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míst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okres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krajské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latnosti nabyly jen předpisy o obcích místní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rozeznávalo dvojí působnost obc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tzv. přirozenou působnost ob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působnost přenesenou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ECEPČNÍ ZÁKON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 účinností od 31. 12. 1992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NR zákon č. 4/1993 Sb. o opatřeních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ouvisejících se zánikem ČSFR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raznou změnu pr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 ZŘÍZE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znamenal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reformy veřejné správy z roku 1999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na jejím základě přijat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28/200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Sb.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innosti jednotlivých druhů obcí zde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odbor/reforma/seznam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m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425/199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platil až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 12. 11. 2000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16. 5. 2000 byl schválen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47/200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 okresních úřadech - pozbyl účinnosti k 31.12. 2002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charakterizoval OkÚ jako „správní úřady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ykonávající státní správu ve správních obvodech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teré se nazývají okres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konávaly státní správu ve věcech, které stanovil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zvláštní zákony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řezkoumávaly rozhodnutí orgánů obcí a rozhodnu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pověřených obecních úřadů vydaná ve správním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dozor nad činností obcí + odborná pomoc obc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přezkoumával jejich hospodaře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úřady byly zrušeny na základě zákona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č. 320/2002 Sb. s účinností od 1. 1. 2003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Dnem nabytí účinnosti tohoto zákona se zrušují okresní úřady."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Čl. CXIX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1. Pokud zvláštní zákon stanoví působnost okresního úřadu nebo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okresního národního výboru a tato působnost nebyla tímto nebo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zvláštním zákonem převedena na územní samosprávné celky,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vykonává tuto působnost obecní úřad obce s rozšířenou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působností jako výkon přenesené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2. Pokud okresní úřad vykonával činnosti, které mu nebyly stanoveny  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obecně závazným právním předpisem, přechází tyto činnosti na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obecní úřad obce s rozšířenou působností jako výkon přenesené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320/2002 Sb.,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Čl.CXIX*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3. Pokud zvláštní zákon stanoví působnost orgánu, který zanikl, a nejedná se o případy uvedené v bodě 1, a tato působnost nebyla přenesena na jiný orgán, je věcně příslušný ústřední správní úřad, do jehož působnosti rozhodovaná věc náleží, popřípadě ústřední správní úřad, jehož obor působnosti je rozhodované věc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jbližší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říklad organizační str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D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ŠŠÍ ÚZEMNÍ SPRÁVNÍ CELKY - OBECNÉ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integr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zorová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rad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idělování finančních prostředků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právní pomoc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92929"/>
                </a:solidFill>
                <a:latin typeface="Arial"/>
              </a:rPr>
              <a:t>funkce regionálního plánování a územního plánová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prostředkujíc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krizového říz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ce ochrany a péče o životní prostředí v region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(Grospič, J. Úloha krajů v územní reformě veřejné správy. In Grospič, J., Vostrá, L.: Reforma veřejné správy v teorii a praxi (Sborník z mezinárodní konference). Aleš Čeněk, s. r. o., 2004, s. 29 - 30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ŠŠÍ ÚZEMNÍ SPRÁVNÍ CEL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době vzniku ČR ani na základě převzatého právního řádu fakticky neexistovaly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iž v období federace navržen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4 alternativy uspořádá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zemská, regionální, kombinovaná a federativní - nebyly zákonodárným sborem projednán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. zákon č. 1/1993, Ústava ČR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„kraje či země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r. 1994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měry vlády ČR v oblasti reformy veřejn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o soustavy VS měly přibýt VÚSC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počítaly se zachováním okresních úřad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láda uvedla, že se jí nepodařilo rozhodnou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o institucionálním uspořádání SS a S na úrovni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ŠŠÍ ÚZEMNÍ SPRÁVNÍ CELKY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měna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 až ústavní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347/1997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14 krajů - právní postavení upraveno ALE pozdější §§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z. č. 129/2000 s účinností ode dne voleb do ZK, ustanovení o státní správě od 1. 1. 2001,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činnosti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oblémy související s přípravou realizace krajského zřízen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po přijetí zákona č. 347/1997 Sb. existovalo dvoj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platné územní vymezení kraj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VÚSC menší než NUTSII -  „regionů soudržnosti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otázky stanovení hranic krajů z hlediska historickéh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vývoje, mínění občanů, infrastruktury ..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levantní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reformy veřejn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1999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láda „vzala na vědomí“ usnesením č. 258/1999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forma separována od územní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louhou dobu malá pozornos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uze strukturální změny - zrušení či nahrazení ministerstev a ústředních správních úřad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egativní charakteristiky ústřední státní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materiálech teze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entra pro sociální a ekonomické strategi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znamnou změnou až usnesení vlády č. 619 ze dne 20. června 2001 - projednala návrh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modernizace ústřední státní správy se zvláštním přihlédnutím k systemizaci a organizačnímu uspořádání správních úřad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(2001) - priori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rátkodobé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červen 2001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harmonizace vnitřní organizace ministerstev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řednědobé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červenec 2002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efektivnosti a zlepšení koordinace při výkonu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horizontálních funkcí a proc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nsolidace systému ústřední státní správ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sílení koncepční, koordinační a kontrolní úloh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inisterstev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úrovně řízení v ministerstvech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e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i projekt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har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261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Cíle nové vlády ustavené v roce 2002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dnou programovou prioritou „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zahájení modernizace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ústřední státní správy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, jejímž cílem je zefektivnit,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racionalizovat a zvýšit horizontální koordinaci činností veřejné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správy za širšího využití moderních technologií (elektronické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veřejné správy) a manažerských metod říze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formu a modernizaci ústřední státní správy zastřešuje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d 1. 4. 2004 na základě rozhodnutí vlády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řad vlá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usnesení vlády ze dne 17. března 2004 č. 237 „Postup a hlavní směry reformy a modernizace ústřední státní správy obsahující vyřešení gesce a organizačního zabezpečen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“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1. Historické pozadí reformy 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Vybrané prvky reforem 1848 - 1918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ámcový říšský obecní zákoník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březen 1862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bce: místní, okresní a župní (krajské), zemské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řízení vyšších obcí jen fakultativní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vojí působnost obcí - „samostatná“ a „přenesená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nstituce statutárních měst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ystém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litick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zákonem z 19. května 1868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. 44 ř. z., vybudován aparát politické správy první a druhé stol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„pod vedením zemských šéfů budou záležitosti politické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správy vyřizovány zemskými politickými úřady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zeměpanskými okresními politickými úřady (okres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hejtmanství) a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komunálními úřady obcí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ostup a hlavní směry reformy a modernizace ústřední státní správy obsahující vyřešení gesce a organizačního zabezpečení (2004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ncepce rozlišuje změny dvojího druhu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moderniza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zlepšování současného systému;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hlubší jednorázový proces měnící neb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zásadním způsobem upravující vlastní systém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 tomu pět hlavních směrů s celkem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atnácti konkrétními projekt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navázáno na cíle předchozích dokument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rcholným pracovním orgánem reformy je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Řídící tým reformy ústřední státní správy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ají mu být předkládány všechny výstupy schválené usnesením vlády k reformě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ojektového řízení využito pr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„“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meziresortní spolupráce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ajištění provázanosti jednotlivých projektů reformy a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yužití obecných principů projektového řízení, kterými jsou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flexibilita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uvědomění si nákladů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orientace na cíl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angažovanost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průhlednost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odpovědnost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ojektového řízení - nedostatky mechanismu pro koordinaci prac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z dokumentu Úřadu vlád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1) 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 některých úřadech stále dobře nefunguje horizontální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informovanost všech sekcí úřadu o připravovaných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projektech. Objevily se případy, že věcně příslušné odbory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se nedozvěděly o možnosti účastnit se na řešení dané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problematiky v rámci prací.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2)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ýběr členů projektových týmů, kteří mnohdy nesplňují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určené charakteristiky a jejichž očekávání se liší od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požadavků a zadání vedoucího příslušného projektu.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Konkrétním příkladem je Projekt C.3 E-government.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Projektový tým C.3 byl oficiálně sestaven, ale úkoly tohoto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týmu řeší existující pracovní skupina Ministerstva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informatiky.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: Racionalizace procesů v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.1 Identifikace poslání (cílů) ústředních správních úřad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.2 Popis a analýza procesů v ústředních správních úřad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.3 Vypracování pravidel pro fungování tzv. agentur pro ústřed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státní správ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.4 Reorganizace ústřední státní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: Zlepšení řízení v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.1 Efektivní horizontální komunikace a podpora tvorb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celostátních strategi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.2 Moderní manažerské techniky v ústředních správní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úřad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.3 Lepší koordinace ústřední státní správy směrem k územ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veřejné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.4 Řízení znal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C: Zvýšení kvality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1 Zavádění a rozvoj řízení kvality v ústřední státní správě</a:t>
            </a:r>
            <a:br>
              <a:rPr sz="2000"/>
            </a:b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.2 Reforma regulace v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3 E-governme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. Implementace a zlepšování státní služby v ústředních správních úřad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.1 Implementace služebního zákon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. Racionalizace financování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1 Rozvoj finančního a výkonového management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2 Využití soukromých zdrojů pro veřejné invest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3 Sjednocení a prohloubení kontroly v ústřední státní správě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!Současný stav projektů  - webové stránky Úřadu vlády!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FORMA VEŘEJNÉ SPRÁVY A ZVYŠOVÁNÍ KVALIFIKACE ÚŘEDNÍKŮ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louho dobu reformě VS vytýkána absence právn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pravy postavení zaměstnanců ve VS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existoval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systém řízení lidských zdroj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- usnesení vlády č. 601/1999 Sb. –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ncepce přípra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EK 2001: „politováníhodné“, že v ČR stále chyb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legislativa určující status úředníků veřejné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ředpokladem pro úspěšné převzetí požadavků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yplývajících z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acquis communautaire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áva a povinnosti zaměstnanců dány zejmén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ákoníkem práce + zákon o platu a odměně (143/1992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dex etiky zaměstnanců ve veřejné správě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vlád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chválila 2001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mplexní legislativ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r. 2002 - 312, </a:t>
            </a:r>
            <a:r>
              <a:rPr b="1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218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(2009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ÝZNAMNÉ SOUČÁSTI REFORMY KONTROLY VEŘEJNÉ SPRÁV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(SAMOSTUDIUM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jvyšší správní soud v Ústavě ČR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1993), jeh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postavení upravil až zákon č. 150/2002 Sb. s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účinností od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1. 1. 2003 - kompeten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eřejný ochránce prá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- zákon č. 349/1999 Sb.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vobodný přístup k informacím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- zákon č. 106/1999 Sb., zák. č. 123/1998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-411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ALŠÍ POSTUP ZLEPŠOVÁNÍ ÚSTŘEDNÍ STÁTNÍ SPRÁVY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Úřad vlády, 27. 7. 200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Obecným cílem je zajistit, aby ústřední správní úřady lépe prosazovaly realizaci zákonů a efektivněji poskytovaly své služby vládě a společnosti. Zlepšit se má realizace vládní politiky a kvalita materiálů pro rozhodování vlády. Reforma má podpořit širší využití moderních technologií a manažerských metod řízení a zvýšit horizontální koordinaci a komunikaci ústředních správních úřadů.“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rioritní oblasti dalšího postupu zlepšování ústřední státní správy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aplikace metod řízení a řízení kvality v ústřední státní správě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zlepšování horizontální a vertikální komunikace a koordinace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snižování dopadů regulace,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snižování administrativní zátěže podnikatelů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vzdělávání top managementu ústředních správních úřadů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další posilování využití ICT (informačních a komunikačních technologií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84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ALŠÍ POSTUP ZLEPŠOVÁNÍ ÚSTŘEDNÍ STÁTNÍ SPRÁVY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Úřad vlády, 27. 7. 200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oblémy související s realizací projektů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„Nejzávažnější komplikací se staly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časté změny vlády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v souvislosti s politickými změnam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šeobecně přetrvává velmi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ízké povědom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veřejnosti, al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i úředníků) o zahájení realizace reformy a jejích hlavní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cílech. („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K této situaci paradoxně přispěl i fakt, že materiál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k postupu a hlavním směrům reformy byl v březnu 2004 při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projednání vládou schválen bez širší politické debaty a publicity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chybné vnímání reformy jako jednorázového procesu, který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lze implementovat jednorázovým politickým rozhodnut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nebo legislativním opatřením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některých případech byly totiž materiály rozeslány d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připomínkového řízení bez předchozího projednání Řídíc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týmem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ALŠÍ POSTUP ZLEPŠOVÁNÍ ÚSTŘEDNÍ STÁTNÍ SPRÁVY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Úřad vlády, 27. 7. 200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Rizika dalšího postup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litická podpor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olební obdob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realizace výstupů reformy přesahuj současn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dpora státních úředník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„pasivní rezistence“ vůči reformním snahám v ústřední státní správě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pl-PL" sz="2000" spc="-1" strike="noStrike">
                <a:solidFill>
                  <a:srgbClr val="292929"/>
                </a:solidFill>
                <a:latin typeface="Arial"/>
              </a:rPr>
              <a:t>Zlepšování je zaměňováno za reorganizaci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- nedostatečná informovanost o aplikaci jiných nástrojů -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„například moderní metody řízení a změna přístupu k řešení problémů ve veřejné správě, a to jak v přípravě rozhodnutí, tak ve způsobech sledování dosahovaných výsledků”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ři vzniku ČSR pro systém VS určující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zv.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CEPČNÍ ZÁKON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(zákon č. 11/1918,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 zřízení samostatného státu československého)</a:t>
            </a:r>
            <a:br>
              <a:rPr sz="2400"/>
            </a:b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„veškeré dosavadní zemské a říšské zákony a nařízení zůstávají prozatím v platnosti“</a:t>
            </a:r>
            <a:br>
              <a:rPr sz="1800"/>
            </a:b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„všechny úřady samosprávné, státní a župní, ústavy státní, zemské, okresní, župní a obecní jsou podřízeny Národnímu výboru a prozatím úřadují a jednají podle dosud platných zákonů a nařízení“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mj.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o zabezpečení kontinuity v činnostech veřejné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převzat celý právní řád a správní systém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Rakouska pro české země,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Uher pro Slovensko a Podkarpatskou Ru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48960" y="1989000"/>
            <a:ext cx="76611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ávrh zákona o územně správním členění státu a návrh zákona, kterým se mění některé zákony v souvislosti s přijetím zákona o územně správním členění stát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materiál postoupený k projednání vládě 1. června 2005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rozpracována varianta s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„oblastí“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modifikovaná  podoba krajů stanovených zák. č. 36/1960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b. - navrženo 8, 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) Problematika malých obcí -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věten 2005 - Návrh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olečenství ob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na principu dobrovolného vstup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dohodnut rozsah nepřenositelných činn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c) Příspěvek na výkon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analýza MV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yplynulo, že u obcí s rozšířenou působností jsou výdaje na výkon státní správy kryty z 84 % a u obcí s pověřeným obecním úřadem z 51 %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/ CENTRÁLNÍ INSTANCE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ejvyšší správní úřad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zřízeny zákonem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č. 2/1918 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12 „úřadů pro správu“ (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d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- 1919 - </a:t>
            </a: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Ministerstvo pro sjednocení </a:t>
            </a:r>
            <a:br>
              <a:rPr sz="2400"/>
            </a:b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              zákonodárství a organizace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Nejvyšší správní soud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- upraven zákonem č. 3/191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841400"/>
            <a:ext cx="7870680" cy="42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převzata tak, jak existovala na konci vál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Čechách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íť místních, okresních a zemských NÁRODNÍCH VÝBORŮ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litickou organizací plnící od vzniku ČSR funkci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ocenského aparátu k řešení místních nejaktuálnějších 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roblém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činnost značně nejednotná, většinou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bezkoncepční - sjednotit se snažil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V v Praz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innost ukončena usnesením vlády v prosinci 1918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8:37:28Z</dcterms:created>
  <dc:creator>77120</dc:creator>
  <dc:description/>
  <dc:language>en-US</dc:language>
  <cp:lastModifiedBy>77120</cp:lastModifiedBy>
  <dcterms:modified xsi:type="dcterms:W3CDTF">2006-10-09T07:51:29Z</dcterms:modified>
  <cp:revision>501</cp:revision>
  <dc:subject/>
  <dc:title>VEŘEJNÁ SPRÁVA ČR</dc:title>
</cp:coreProperties>
</file>