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EB8-DBD0-4F32-B43C-21BB19D8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51B-6BB1-40C6-9A5D-A340B15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D3A-C3B0-4534-BD4F-FC4B770D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4B2-4228-4CDD-BE5E-C82D50C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D945-30EF-43A0-9495-3B4B822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7BD-4C6B-4D26-98CE-B3CBD961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F769-B4DF-4773-9464-279AEFC4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8DCC-E127-4B31-8CB6-580DC50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F956-3F34-4AEF-8774-5B4C98F4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4B1A-6FEF-4807-9ECB-D9F4C00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456-98A0-457C-A4F1-F8B9038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E25-A6C7-4E11-AA59-B976B10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5011-F8FE-4349-B93C-A1F2EC3B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9160-3774-4BB7-BFC9-AD84295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D3D-5213-4650-8E41-894B792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D72B-69D8-4EE1-A7E0-5C9CEE2B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F942-DE1F-4FD2-A797-4BECAB63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EAB-3AF0-41DB-91F2-8F462C17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15F-7ECA-48DE-B1D3-F85ED5F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A33-ADD1-4FC1-87DC-89D1251D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67A-08D9-457F-8797-C8D796B2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DF3-8922-4809-B60C-6542910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B61-2D12-49BC-87C9-791473B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D53-5E3C-4480-96CF-9F4E3112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415-C05B-4BC2-85AD-17A6572E7BC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06D-81BF-400D-ADC9-CD6D7BF287C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abulka.doc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blasti.rizeni.pdf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FQM_schema.doc" TargetMode="External"/><Relationship Id="rId2" Type="http://schemas.openxmlformats.org/officeDocument/2006/relationships/hyperlink" Target="file:///CAF_struktura_2006_2002.pdf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SWOT/BSC_Vsetin.doc" TargetMode="External"/><Relationship Id="rId2" Type="http://schemas.openxmlformats.org/officeDocument/2006/relationships/hyperlink" Target="file:///SWOT/SWOT_CR.pdf" TargetMode="External"/><Relationship Id="rId3" Type="http://schemas.openxmlformats.org/officeDocument/2006/relationships/hyperlink" Target="file:///SWOT/swot_problemova_analyza_JMK.pdf" TargetMode="External"/><Relationship Id="rId4" Type="http://schemas.openxmlformats.org/officeDocument/2006/relationships/hyperlink" Target="file:///SWOT/swot_Olomouc.doc" TargetMode="External"/><Relationship Id="rId5" Type="http://schemas.openxmlformats.org/officeDocument/2006/relationships/hyperlink" Target="file:///SWOT/krajskavize.doc" TargetMode="External"/><Relationship Id="rId6" Type="http://schemas.openxmlformats.org/officeDocument/2006/relationships/hyperlink" Target="file:///SWOT/strategicka_vize_globalni_cile.doc" TargetMode="External"/><Relationship Id="rId7" Type="http://schemas.openxmlformats.org/officeDocument/2006/relationships/hyperlink" Target="file:///SWOT/strednedoby_vyhled_Jihocesky_kraj.pdf" TargetMode="External"/><Relationship Id="rId8" Type="http://schemas.openxmlformats.org/officeDocument/2006/relationships/hyperlink" Target="http://www.mepco.cz/index.php?pg=sluzby4.htm" TargetMode="External"/><Relationship Id="rId9" Type="http://schemas.openxmlformats.org/officeDocument/2006/relationships/hyperlink" Target="http://www.mepco.cz/index.php?pg=sluzby4.htm" TargetMode="External"/><Relationship Id="rId10" Type="http://schemas.openxmlformats.org/officeDocument/2006/relationships/hyperlink" Target="http://www.mepco.cz/index.php?pg=sluzby4.htm" TargetMode="External"/><Relationship Id="rId11" Type="http://schemas.openxmlformats.org/officeDocument/2006/relationships/hyperlink" Target="http://www.mepco.cz/index.php?pg=sluzby4.htm" TargetMode="External"/><Relationship Id="rId12" Type="http://schemas.openxmlformats.org/officeDocument/2006/relationships/hyperlink" Target="http://www.mepco.cz/index.php?pg=sluzby4.htm" TargetMode="External"/><Relationship Id="rId13" Type="http://schemas.openxmlformats.org/officeDocument/2006/relationships/hyperlink" Target="http://www.mepco.cz/index.php?pg=sluzby4.htm" TargetMode="External"/><Relationship Id="rId14" Type="http://schemas.openxmlformats.org/officeDocument/2006/relationships/hyperlink" Target="http://www.mepco.cz/index.php?pg=sluzby4.htm" TargetMode="External"/><Relationship Id="rId15" Type="http://schemas.openxmlformats.org/officeDocument/2006/relationships/hyperlink" Target="http://www.mepco.cz/index.php?pg=sluzby4.htm" TargetMode="External"/><Relationship Id="rId16" Type="http://schemas.openxmlformats.org/officeDocument/2006/relationships/hyperlink" Target="http://www.mepco.cz/index.php?pg=sluzby4.htm" TargetMode="External"/><Relationship Id="rId17" Type="http://schemas.openxmlformats.org/officeDocument/2006/relationships/hyperlink" Target="http://www.mepco.cz/index.php?pg=sluzby4.htm" TargetMode="External"/><Relationship Id="rId1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ersonalni.cinnosti.doc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eyers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lin.estranky.cz/clanky/batismus_-batovy-zavody/batovske-formy-organisace-prace-a-odmenovani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ízení ve veřejné správ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35686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vid Špaček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VVSU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říjen 2006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Elton Mayo a kol. - Human Relation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měny osvětlení, změny doby odpočinku, zkracování pracovní doby a různé stimulační mzdové systémy nejsou vysvětlením změn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produktivi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ůsobí morálka, uspokojující vzájemný vztah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 členy skupiny (pocit sounáležitosti)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efektivní managemen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žeři operují v sociálním systém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působ řízení, který by měl chápat lidsk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hování, zejména pak skupinové, a podporova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lidské vztahy pomocí motivování, udělová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ad a vede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Luther Gulick - manažerské funkce POSDCORB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lann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rganiz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ff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rec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oordina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udgeting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odáčka a Vodáčkové: an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oncept "manažerských funkcí" se nevyhnul diskusi o své oprávně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interpersoná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interní i externí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edstavitel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ůdce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spojovací člán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informač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role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nitorujícího příjemc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šiřitel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luvčí organiz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*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) rozhodov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projevem jeho cílevědomé čin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 dosažení cílů organizace - rol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nikatel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řešitele problém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alokace zdroj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yjednavač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Umění vedoucího pracovník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= sladěná integrace rolí podle potřeb organizac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onst a Weihrich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gement = proces tvorby a udržování prostředí, ve kterém jednotlivci pracují společně ve skupinách a účinně dosahují vybraných cílů + znalosti 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1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manažeři uskutečňují funkce řízení a to plánová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ování, personalistiku, vedení a kontrolová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2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v různých druz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3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manažery na různ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řídících úrovních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4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cíl všech manažerů je stejný: vytvářet přebytek (zisk)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5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řízení je spojeno s produktivitou. To zahrnuje též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fektivnost a účinnost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Drucke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lavní činnosti manažera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tanovení cílů a způsob jejich dosažení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3) motivace a komunik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4) měření (vyhodnocení dosažených výsledků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5) profesní a kvalifikační rozvoj kolektivu i seb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odáčková, Vodáč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manažerské funk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ekvenč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plán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organiz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výběr a rozmístění spolupracov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d) kontrol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průběžné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analyzování řešených problém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rozhod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realizace / implement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ystém řízení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úkolem je výběr mezi varianta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onný systém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  <a:ea typeface="Arial"/>
              </a:rPr>
              <a:t>přejímá úkoly a provádí j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srozumitel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shodnost základních zájm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ntrolní systém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ískání informací o stavu výkonného systému + náprav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odchyl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nezávislost kontrolního systému na systém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výkonné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znalost vlastního výkonného systém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minimální zpoždění při získávání informac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Systém řízení a objekt řídících procesů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(Wright a Noe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makro-aspekt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l-PL" sz="2200" spc="-1" strike="noStrike">
                <a:solidFill>
                  <a:srgbClr val="292929"/>
                </a:solidFill>
                <a:latin typeface="Arial"/>
                <a:ea typeface="Arial"/>
              </a:rPr>
              <a:t>strategie, struktura, kultura či změ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b) mikro-aspekt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aspekty jednotlivc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ostoje, vnímání, dovednosti či motiv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c) interactin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expertiza komunikace, skupinových procesů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konfliktů či stres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) pracovní procesy orga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racovní místa, operace a technolo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anagemen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= „direktování“zdrojů organizace takovým způsobem, který efektivně (efficiently) vede k dosažení cílů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Bedrnová, Nový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Psychologie a sociologie říz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ednání pracovníka je vždy vázáno na sociální strukturu organizace, v níž působ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ociální struktura organizace a její dynamika je nemyslitelná bez aktivní účasti konkrétních jednajících oso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nkrétní koncepce řídicí prá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de o otázky integrace individuálních a podnikový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třeb a cílů, volby a uplatňování určitého modelu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mocenských vztahů a kontroly v organizaci, o problé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ordinace činnosti jednotlivých oddělení a skupin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 neposlední řadě o zajišťování a zvyšování adaptability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šech pracovníků na potenciální, vývojem trhu podmíněn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eorie řízení - definice a výběr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z konceptů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Řízení a veřejná správa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ystém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pecifika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prvky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nástroje / metody 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(výsledky empirického šetření)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TYLY MANAGEMENTU - Liker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(použitelné uvnitř organizace i uvnitř systému V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xploatačně autoritativ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c i řízení působí jednosměrně odshora dol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užívání trest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chudá komunik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neexistence týmové prá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tyl benevolentně autoritati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íležitostné konzultace problémů podřízený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omě pokut i od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zultativ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iskuze s podřízenými = oboustranná komunik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articipativ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Vymezení správní vě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pro účely tohoto předmětu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 u="sng">
                <a:solidFill>
                  <a:srgbClr val="292929"/>
                </a:solidFill>
                <a:uFillTx/>
                <a:latin typeface="Arial"/>
              </a:rPr>
              <a:t>účelově</a:t>
            </a:r>
            <a:r>
              <a:rPr b="1" lang="fr-FR" sz="2100" spc="-1" strike="noStrike">
                <a:solidFill>
                  <a:srgbClr val="292929"/>
                </a:solidFill>
                <a:latin typeface="Arial"/>
              </a:rPr>
              <a:t> zaměřen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á společenská věda, která je základem pro neprávní studium svého předmětu: veřejné správy</a:t>
            </a:r>
            <a:br>
              <a:rPr sz="2100"/>
            </a:b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studium správy se odděluje od správního práva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nutný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interdisciplinární přístup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k předmětu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zaměření na nevrchnostenské aspekty veřejnosprávních činností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(souvisí předevší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s tzv. alokační a technickou efektivnost veřejné správy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 u="sng">
                <a:solidFill>
                  <a:srgbClr val="292929"/>
                </a:solidFill>
                <a:uFillTx/>
                <a:latin typeface="Arial"/>
              </a:rPr>
              <a:t>cíle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a) integrovat materii především pro neprávní studiu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   veřejné správy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b) zvýšit </a:t>
            </a:r>
            <a:r>
              <a:rPr b="1" i="1" lang="cs-CZ" sz="2100" spc="-1" strike="noStrike">
                <a:solidFill>
                  <a:srgbClr val="292929"/>
                </a:solidFill>
                <a:latin typeface="Arial"/>
              </a:rPr>
              <a:t>kvalitu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veřejnosprávních činnost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e vědo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deskriptivní,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zahrnuje v sobě i složk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normativn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0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Interdisciplinár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ý však musí podléhat určitým řídicím procesům ("vnitřní"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ízení řídícího subjektu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axi řízení VŽDY ovlivňuj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kde se řídí - </a:t>
            </a: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9 úro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řejné správy ČR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jakým způsobem (jaká volnost říze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odpovědnost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legitim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lánování a kontrol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= vyhodnocování účinno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racional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důraz na využití existujících znal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ytváření nových poznatků (učení se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Řízení 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nutné rozlišovat řízení na 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makroúrovni (především SS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mikroúrov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 současně řízení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) interních procesů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zi subjekty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uvnitř subjektů veřejné 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řízení vztahů politických a správních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b) externích procesů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ů subjekt VS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↔ adresát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vrchnostens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nevrchnostenské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Oblasti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schéma systemizace pro současnou praxi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 (????)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Systém mikrořízení ve veřejné správě a model C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šeobecný nástroj sebehodnocení který odráží specifika institucí veřejného sektoru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slední novelizace ze září 2006 – specifika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mokratická citlivost na potřeby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ungování v rámci právního rám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s politickou úrov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pojení tzv. stakeholders 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alancování potřeb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kcelenci při poskytování služeb vč. tzv. valu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or money a řízení inov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grafické znázorně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odobné jako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FQM_x000b_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ystém managementu a CAF 2002/2006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formační proces stanovení cílů a postupů jejich dosažení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co, kdo, jak, kdy a s jakými ná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vk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vídání očekávané budoucnosti na základě znal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akt o stavu řízené jednotky, vnějšího prostřed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tendenci vývoj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anovení cílů a prostředků, které předurčují činnost vš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čních jednot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konkrétně specifikovaných postupů činnost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zajišťují plnění stanovených cílů na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covních úse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časového postupu pro provedení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třebných dílčích pra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gram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časového horizont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louhodobé - více ne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řednědobé - 1 a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átkodobé - zhruba 1 rok, i kratší obdob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rateg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komplexní plánování prováděné na úrovn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celé organizace či strategických jednot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akt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a konkretizace cílů strategického rozhodnutí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včetně prostředků k jejich dosaže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lány na úrovni jednotlivých funkčních oblastí 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organizačních člán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*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perativ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vychází z taktického rozhodování z konkrétních,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známých podmínek a zdrojů, krátkodobý charakter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hlavním významem je dotváření rozhodnutí pro procesy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provozní a procesy s nimi bezprostředně souvisejíc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hierarchická struktura podle hierarchie plánů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á formulac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ě vymezená oblas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určený časový horizon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vazeb na návazné 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ěřitelnost / vyjádřiteln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t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ětšina literatury se vztahuje k deskripci mechanismů, nástrojů atd., které mohou být uplatněny v soukromém sektoru. S ohledem na moderní přístupy k řízení ve veřejné správě musejí být dány do souvislostí se specifickými charakteristikami tohoto sociálního fenoménu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 A TRADIČNÍ MODEL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gativní prv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rátkodobý pohle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ichotomie politiky a správ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měření na externí prostřed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ystematič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trategičnost vs. resortism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vky dlouhodobějšího plánování v současnosti - příklad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etoda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BSC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analýza SWOT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)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strategie regionálního rozvoje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třednědobé finanční výhled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§ 3 Zákona č. 250/2000 Sb., o rozpočtových pravidl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zemních rozpočtů)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např. zde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mepco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p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?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pg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=sluzby4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ht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2) ORGANI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ílem uspořádat prvky v systému, jejich aktivity, koordinaci, kontrolu tak, aby přispěly maximální měrou k dosažení stanovených cílů systém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ces přiřazení činností a zdrojů v prostoru a čase se záměrem zajistit plánované úko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sahy do nového celku / vytvoření nového cel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de věnována samostatná přednášk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2840" y="1696680"/>
            <a:ext cx="76615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ORIE ŘÍZENÍ ORGANIZACÍ SOUKROMÉHO SEKTORU: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lidské zdroje a jejich úspěšné řízení v podstatné míře rozhodují o tom, jak podnik v boji s konkurencí uspěje nebo naopak neuspěje. Řízení lidských zdrojů je rozhodujícím nástrojem zvyšování výkonnosti, konkurenceschopnosti a tedy ekonomické úspěšnosti podniku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ískávání, udržování, propouštění, rozvoj a optimální využívání pracovníků podnik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TÁZKOU CO JE KRITÉRIEM ÚSPĚŠ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TÁZKOU PRVKY FUNKCE MOTIVACE ZAMĚSTNANC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ákladní personální čin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časnosti diskuze na téma výkonem determinované platů (PRP) zaměstnanc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 2005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P vycházejí z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ce je schopna přesně měřit výsledky činn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livce / týmu / pracovní jednotky /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činnosti jednotlivce nebo týmu / praco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ky přispívají k výkonnosti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 může být upravován způsobem, který kapitalizu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čekávané vnímání hodnoty jeho potenciálního recipien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ECD 2005: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 většině zemí se plat úředníků skládá v současné době ze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řech základních komponen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 základní pla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dměna spojená s charakterem či povinnostm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astávaného míst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ýkonová složka platu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vě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pad PRP na výkon je omezený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většina zaměstnanců nepovažuje PRP za motivujíc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náplň práce a potencionální rozvoj kariéry jsou pokládány  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úředníky za motivy silnějš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manažerský nástroj sekundární význam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4)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laďování jednotlivých činností a odstraňování různosti postupu jednotlivých pracovníků a útvarů = napříč systém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de věnována samostatná přednáš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5) KONTROL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jišťování určitého stavu a jeho hodnocení, tj. srovnávání se stavem, který měl být dosaže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MOSTATNÝ PŘEDMĚT - PVKV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itickým článkem řídících proces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ces volby mezi dvěma nebo více alternativami v konkrétní situaci, přičemž zvažované alternativy nemusí být současně proveditel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áze rozhodovacího procesu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Ochran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Identifikace možností - příležit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cílů - očekávaných stav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ymezení podmín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kritérií a hodnoc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Třídě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ýběr alternati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ealizace vybrané alternati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současnosti důraz na zpětnou vazb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racionalita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ommo economicus vs. administrative behaviour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. A. Simon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v sociálním rozhodování nejde - a ani nemůže jíž -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o úplnou racionalitu, ale pouze o racionalitu omezenou...</a:t>
            </a:r>
            <a:br>
              <a:rPr sz="2000"/>
            </a:b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lidé v praktickém životě nehledají optimální řešení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roblémů, s nimiž jsou konfrontování, nýbrž  spokojují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cela běžně s prvním řešením, které se jim jeví jako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uspokojivé, přičemž kritéria uspokojivosti závisí na jeji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momentální percepci skutečnosti 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racionální vs. uspokojivé řeš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arbage can model (viz studijní materiá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 Vybrané další nástroje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49200" indent="-349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yers, F. et al. Performance of public sector organizations: do management instruments matter? (june 2006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vybrané závěry: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t much is known about the influence of specific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anagement instruments on performance of public sector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tion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udies focus on governments as a whole, rather than 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dividual public sector organization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ůvod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bulous management terminolog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bsence of knowledge about relevant covariat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elusive concept of performan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ack of theoretical underpinnings</a:t>
            </a:r>
            <a:br>
              <a:rPr sz="2000"/>
            </a:b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ředmě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manus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ruka)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, managgi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ovládání, správa, vede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Drucker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lad pojmu ´management´ je zvláště nesnadný. Především jde o pojem specificky americký a je obtížné ho výstižně přeložit do ostatních jazyků, dokonce i do britské angličtiny. Označuje nejen funkci, ale také lidi, kteří ji vykonávají. Označuje nejen sociální postavení a jeho stupeň, ale také odbornou disciplínu a obor studia.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 - 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cílově orientované zvládnutí celku (systému)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i jednotlivých funkcionálních činností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Vodáček, Vodáčková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účelná lidská činnost, která směřuj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 ovlivňování činnosti řízeného systém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 souladu s vytyčeným cílem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ložitost řízení roste přímo úměrně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pecializaci práce a počtu řízených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Máš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řízení vs. vedení (leadership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ědecký management a Frederick Taylo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díle Principles of Scientific Management (191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technický směr sociologie organiza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člověk mechanickým nástroj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užitím vědeckých metod řízení, místo používání tradičních metod nebo řízení od oka, lze dosáhnout zvýšení produktivity, aniž by bylo nutné zvýšit pracovní úsil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vědeckého managementu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. Nahradit empirii vědou (organizovanými znalostmi)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2. Místo nesouladu dosáhnout harmonie ve skupinové činnost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3. Místo chaotického individualismu dosáhnout spolupráce lidí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4. Místo omezování výstupů pracovat pro jejich maximalizac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5. Zabezpečit rozvoj všech pracujících pro dosažení plného využití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jejich schopností a pro dosažení maximální prosperity společ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ělba prá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avomoc a odpovědnost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íra odpovědnosti závisí na pravomo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sciplín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přika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řízení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dřízenost individuálních zájmů zájmům společný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dměňování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poctivé, uspokojování zaměstnanc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i zaměstnava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entral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centrace musí odpovídat daným podmínkám tak, ab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přinášela co největší užit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řetěz nadřízenosti od nejvyšší k nejnižší úrovni říz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řádek (organizování)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Každé místo je určeno pro něc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pro někoho) a každá věc (každá osoba) má své místo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pravedlnost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U zaměstnanců by měla být pěst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ěrnost a úcta, která by v kombinaci s laskav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pravedlností ze strany manažerů měla zakládat vztah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adřízenosti a podřízenosti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bilita majet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iniciativa - vypracování a realizace plá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ný duch - týmová práce a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+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ět prvků správ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1)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) přika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4) koordin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5) kontrolová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o zajimavost srovnejte s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atism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31T06:20:34Z</dcterms:modified>
  <cp:revision>161</cp:revision>
  <dc:subject/>
  <dc:title>Vymezení správní vědy a veřejné správy</dc:title>
</cp:coreProperties>
</file>