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51E-5DDB-4CED-B246-1AC1298C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45B-9743-43A2-B1DD-56F7D1F3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E06-6BB4-457E-B495-2A3B42AD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D8F-C1D6-4016-8C03-06C5D5A1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3E37-F5AA-4655-9449-ECF13F2E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B403-835F-4D1D-B4C1-19EADCB9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D5A9-925A-4D32-8ACF-7FD0BBCD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E501-A94B-4461-9A88-22494B9A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2D62-3134-43AD-BC6E-EA5C4BFD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13FE-CE97-4904-AAE8-FA39D39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57E0-A027-41EE-BE66-0669263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BA0-0CF7-45F8-A462-89CA1356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2DD9-F4B3-4EC0-88FA-F510FA6E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2606-A1A2-49DC-8838-985C8820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E96A-F12C-46A1-8E18-E77BCF77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E085-6526-4EED-9B63-0C7153F7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E7C5-D1EE-41E9-B9B3-232A2759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F44-0BE2-43E6-AFB6-3EA102A2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5D7-040F-426B-9A53-BB1B5BE5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006-9729-4BB5-B778-0ED80B31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4B6-EA9A-467D-B2A8-D41D30A2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A1A-F3BD-4CD6-86ED-1137195B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0BA-B2C4-446F-9F4E-C5A7BBA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2EF-86BC-4821-B70B-9D4CF7E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D52D-74BE-4296-BFE4-31875AA99BA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FE15-51B2-4721-A75E-C0383F9A42F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abulka.doc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blasti.rizeni.pdf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EFQM_schema.doc" TargetMode="External"/><Relationship Id="rId2" Type="http://schemas.openxmlformats.org/officeDocument/2006/relationships/hyperlink" Target="file:///CAF_struktura_2006_2002.pdf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SWOT/BSC_Vsetin.doc" TargetMode="External"/><Relationship Id="rId2" Type="http://schemas.openxmlformats.org/officeDocument/2006/relationships/hyperlink" Target="file:///SWOT/SWOT_CR.pdf" TargetMode="External"/><Relationship Id="rId3" Type="http://schemas.openxmlformats.org/officeDocument/2006/relationships/hyperlink" Target="file:///SWOT/swot_problemova_analyza_JMK.pdf" TargetMode="External"/><Relationship Id="rId4" Type="http://schemas.openxmlformats.org/officeDocument/2006/relationships/hyperlink" Target="file:///SWOT/swot_Olomouc.doc" TargetMode="External"/><Relationship Id="rId5" Type="http://schemas.openxmlformats.org/officeDocument/2006/relationships/hyperlink" Target="file:///SWOT/krajskavize.doc" TargetMode="External"/><Relationship Id="rId6" Type="http://schemas.openxmlformats.org/officeDocument/2006/relationships/hyperlink" Target="file:///SWOT/strategicka_vize_globalni_cile.doc" TargetMode="External"/><Relationship Id="rId7" Type="http://schemas.openxmlformats.org/officeDocument/2006/relationships/hyperlink" Target="file:///SWOT/strednedoby_vyhled_Jihocesky_kraj.pdf" TargetMode="External"/><Relationship Id="rId8" Type="http://schemas.openxmlformats.org/officeDocument/2006/relationships/hyperlink" Target="http://www.mepco.cz/index.php?pg=sluzby4.htm" TargetMode="External"/><Relationship Id="rId9" Type="http://schemas.openxmlformats.org/officeDocument/2006/relationships/hyperlink" Target="http://www.mepco.cz/index.php?pg=sluzby4.htm" TargetMode="External"/><Relationship Id="rId10" Type="http://schemas.openxmlformats.org/officeDocument/2006/relationships/hyperlink" Target="http://www.mepco.cz/index.php?pg=sluzby4.htm" TargetMode="External"/><Relationship Id="rId11" Type="http://schemas.openxmlformats.org/officeDocument/2006/relationships/hyperlink" Target="http://www.mepco.cz/index.php?pg=sluzby4.htm" TargetMode="External"/><Relationship Id="rId12" Type="http://schemas.openxmlformats.org/officeDocument/2006/relationships/hyperlink" Target="http://www.mepco.cz/index.php?pg=sluzby4.htm" TargetMode="External"/><Relationship Id="rId13" Type="http://schemas.openxmlformats.org/officeDocument/2006/relationships/hyperlink" Target="http://www.mepco.cz/index.php?pg=sluzby4.htm" TargetMode="External"/><Relationship Id="rId14" Type="http://schemas.openxmlformats.org/officeDocument/2006/relationships/hyperlink" Target="http://www.mepco.cz/index.php?pg=sluzby4.htm" TargetMode="External"/><Relationship Id="rId15" Type="http://schemas.openxmlformats.org/officeDocument/2006/relationships/hyperlink" Target="http://www.mepco.cz/index.php?pg=sluzby4.htm" TargetMode="External"/><Relationship Id="rId16" Type="http://schemas.openxmlformats.org/officeDocument/2006/relationships/hyperlink" Target="http://www.mepco.cz/index.php?pg=sluzby4.htm" TargetMode="External"/><Relationship Id="rId17" Type="http://schemas.openxmlformats.org/officeDocument/2006/relationships/hyperlink" Target="http://www.mepco.cz/index.php?pg=sluzby4.htm" TargetMode="External"/><Relationship Id="rId1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Personalni.cinnosti.doc/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Meyers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zlin.estranky.cz/clanky/batismus_-batovy-zavody/batovske-formy-organisace-prace-a-odmenovani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Řízení ve veřejné správ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55640" y="4508640"/>
            <a:ext cx="356868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vid Špaček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VVSU - přednáška č. 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říjen 2006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Elton Mayo a kol. - Human Relations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změny osvětlení, změny doby odpočinku, zkracování pracovní doby a různé stimulační mzdové systémy nejsou vysvětlením změn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v produktivi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ůsobí morálka, uspokojující vzájemný vztah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ezi členy skupiny (pocit sounáležitosti)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efektivní managemen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anažeři operují v sociálním systém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způsob řízení, který by měl chápat lidsk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chování, zejména pak skupinové, a podporova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ezilidské vztahy pomocí motivování, udělová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ad a veden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Luther Gulick - manažerské funkce POSDCORB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lann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organiz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taff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direct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coordinatin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eport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budgeting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odáčka a Vodáčkové: ani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oncept "manažerských funkcí" se nevyhnul diskusi o své oprávně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i Mintzberg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ealita činnosti vedoucích pracovníků se dá shrnout do deseti "rolí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3 skupiny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1) interpersonál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- interní i externí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ředstavitel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vůdce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spojovací člán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2) informačn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role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onitorujícího příjemce informa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šiřitele informa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luvčí organiz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i Mintzberg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realita činnosti vedoucích pracovníků se dá shrnout do deseti "rolí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3 skupiny:*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3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) rozhodova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- projevem jeho cílevědomé činnost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 dosažení cílů organizace - rol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dnikatelská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řešitele problém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alokace zdroj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vyjednavač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Umění vedoucího pracovníka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= sladěná integrace rolí podle potřeb organizace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Koonst a Weihrich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management = proces tvorby a udržování prostředí, ve kterém jednotlivci pracují společně ve skupinách a účinně dosahují vybraných cílů + znalosti 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1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ak manažeři uskutečňují funkce řízení a to plánová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organizování, personalistiku, vedení a kontrolován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2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ak je management aplikován v různých druz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organizac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3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ak je management aplikován manažery na různ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řídících úrovních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4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Že cíl všech manažerů je stejný: vytvářet přebytek (zisk)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5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Že řízení je spojeno s produktivitou. To zahrnuje též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efektivnost a účinnost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Drucke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lavní činnosti manažera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1) stanovení cílů a způsob jejich dosažení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2) organiz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3) motivace a komunik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4) měření (vyhodnocení dosažených výsledků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5) profesní a kvalifikační rozvoj kolektivu i sebe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odáčková, Vodáček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manažerské funk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1) sekvenč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plán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organiz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c) výběr a rozmístění spolupracovní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d) kontrola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2) průběžné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analyzování řešených problém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rozhod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c) realizace / implement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ystém řízení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úkolem je výběr mezi variantam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ýkonný systém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  <a:ea typeface="Arial"/>
              </a:rPr>
              <a:t>přejímá úkoly a provádí j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žadavek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srozumitel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shodnost základních zájm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kontrolní systém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získání informací o stavu výkonného systému + náprav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odchyle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žadavek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a) nezávislost kontrolního systému na systém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výkonné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znalost vlastního výkonného systém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c) minimální zpoždění při získávání informac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Systém řízení a objekt řídících procesů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(Wright a Noe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a) makro-aspekty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pl-PL" sz="2200" spc="-1" strike="noStrike">
                <a:solidFill>
                  <a:srgbClr val="292929"/>
                </a:solidFill>
                <a:latin typeface="Arial"/>
                <a:ea typeface="Arial"/>
              </a:rPr>
              <a:t>strategie, struktura, kultura či změn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b) mikro-aspekt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aspekty jednotlivc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postoje, vnímání, dovednosti či motiv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c) interacting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expertiza komunikace, skupinových procesů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konfliktů či stres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d) pracovní procesy organiz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pracovní místa, operace a technolo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managemen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= „direktování“zdrojů organizace takovým způsobem, který efektivně (efficiently) vede k dosažení cílů orga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Bedrnová, Nový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Psychologie a sociologie říze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jednání pracovníka je vždy vázáno na sociální strukturu organizace, v níž působ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ociální struktura organizace a její dynamika je nemyslitelná bez aktivní účasti konkrétních jednajících oso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nkrétní koncepce řídicí prá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jde o otázky integrace individuálních a podnikových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otřeb a cílů, volby a uplatňování určitého modelu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mocenských vztahů a kontroly v organizaci, o problé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oordinace činnosti jednotlivých oddělení a skupin a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 neposlední řadě o zajišťování a zvyšování adaptability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šech pracovníků na potenciální, vývojem trhu podmíněn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změ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Teorie řízení - definice a výběr </a:t>
            </a:r>
            <a:br>
              <a:rPr sz="2800"/>
            </a:b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  z konceptů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Řízení a veřejná správa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systém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specifika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prvky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 nástroje / metody </a:t>
            </a:r>
            <a:br>
              <a:rPr sz="2400"/>
            </a:b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(výsledky empirického šetření)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TYLY MANAGEMENTU - Liker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(použitelné uvnitř organizace i uvnitř systému V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exploatačně autoritativní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oc i řízení působí jednosměrně odshora dol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užívání trest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chudá komunik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neexistence týmové prá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styl benevolentně autoritativ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říležitostné konzultace problémů podřízený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omě pokut i odmě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onzultativn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iskuze s podřízenými = oboustranná komunik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articipativ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0) Vymezení správní vě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pro účely tohoto předmětu 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 u="sng">
                <a:solidFill>
                  <a:srgbClr val="292929"/>
                </a:solidFill>
                <a:uFillTx/>
                <a:latin typeface="Arial"/>
              </a:rPr>
              <a:t>účelově</a:t>
            </a:r>
            <a:r>
              <a:rPr b="1" lang="fr-FR" sz="2100" spc="-1" strike="noStrike">
                <a:solidFill>
                  <a:srgbClr val="292929"/>
                </a:solidFill>
                <a:latin typeface="Arial"/>
              </a:rPr>
              <a:t> zaměřen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á společenská věda, která je základem pro neprávní studium svého předmětu: veřejné správy</a:t>
            </a:r>
            <a:br>
              <a:rPr sz="2100"/>
            </a:b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studium správy se odděluje od správního práva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nutný 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interdisciplinární přístup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 k předmětu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zaměření na nevrchnostenské aspekty veřejnosprávních činností 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(souvisí především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s tzv. alokační a technickou efektivnost veřejné správy)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 u="sng">
                <a:solidFill>
                  <a:srgbClr val="292929"/>
                </a:solidFill>
                <a:uFillTx/>
                <a:latin typeface="Arial"/>
              </a:rPr>
              <a:t>cíle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a) integrovat materii především pro neprávní studium </a:t>
            </a:r>
            <a:br>
              <a:rPr sz="2100"/>
            </a:b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    veřejné správy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b) zvýšit </a:t>
            </a:r>
            <a:r>
              <a:rPr b="1" i="1" lang="cs-CZ" sz="2100" spc="-1" strike="noStrike">
                <a:solidFill>
                  <a:srgbClr val="292929"/>
                </a:solidFill>
                <a:latin typeface="Arial"/>
              </a:rPr>
              <a:t>kvalitu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veřejnosprávních činností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5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je vědou 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deskriptivní, </a:t>
            </a:r>
            <a:r>
              <a:rPr b="0" lang="cs-CZ" sz="2100" spc="-1" strike="noStrike">
                <a:solidFill>
                  <a:srgbClr val="292929"/>
                </a:solidFill>
                <a:latin typeface="Arial"/>
              </a:rPr>
              <a:t>zahrnuje v sobě i složku </a:t>
            </a:r>
            <a:r>
              <a:rPr b="1" lang="cs-CZ" sz="2100" spc="-1" strike="noStrike">
                <a:solidFill>
                  <a:srgbClr val="292929"/>
                </a:solidFill>
                <a:latin typeface="Arial"/>
              </a:rPr>
              <a:t>normativní</a:t>
            </a:r>
            <a:endParaRPr b="0" lang="en-US" sz="21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0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0) Interdisciplinár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ý však musí podléhat určitým řídicím procesům ("vnitřní"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řízení řídícího subjektu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axi řízení VŽDY ovlivňuje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kde se řídí - </a:t>
            </a: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9 úrov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eřejné správy ČR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jakým způsobem (jaká volnost říze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odpovědnost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↑ legitimit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lánování a kontrola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= vyhodnocování účinnosti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↑ racionalit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důraz na využití existujících znalost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vytváření nových poznatků (učení se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) Řízení 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nutné rozlišovat řízení na </a:t>
            </a:r>
            <a:br>
              <a:rPr sz="2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makroúrovni (především SS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mikroúrovn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a současně řízení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a) interních procesů</a:t>
            </a:r>
            <a:br>
              <a:rPr sz="2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mezi subjekty VS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uvnitř subjektů veřejné správy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řízení vztahů politických a správních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b) externích procesů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ztahů subjekt VS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↔ adresát VS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● vrchnostensk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● nevrchnostenské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) Oblasti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"/>
              </a:rPr>
              <a:t>schéma systemizace pro současnou praxi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 (????)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) Systém mikrořízení ve veřejné správě a model C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šeobecný nástroj sebehodnocení který odráží specifika institucí veřejného sektoru"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oslední novelizace ze září 2006 – specifika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mokratická citlivost na potřeby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dpovědnost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ungování v rámci právního rám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kace s politickou úrov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apojení tzv. stakeholders 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alancování potřeb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kcelenci při poskytování služeb vč. tzv. valu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or money a řízení inovac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grafické znázorně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odobné jako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EFQM_x000b_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systém managementu a CAF 2002/2006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1) PLÁN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formační proces stanovení cílů a postupů jejich dosažení - </a:t>
            </a: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co, kdo, jak, kdy a s jakými nákl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vky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ředvídání očekávané budoucnosti na základě znalost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akt o stavu řízené jednotky, vnějšího prostřed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tendenci vývoj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anovení cílů a prostředků, které předurčují činnost vš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rganizačních jednote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racování konkrétně specifikovaných postupů činnost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teré zajišťují plnění stanovených cílů na jednotliv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covních úsec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racování časového postupu pro provedení jednotlivý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třebných dílčích prac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ogram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”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1) PLÁN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dle časového horizontu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louhodobé - více než 5 let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řednědobé - 1 až 5 let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rátkodobé - zhruba 1 rok, i kratší obdob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dle úrovně rozhodovacího procesu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rategické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komplexní plánování prováděné na úrovn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celé organizace či strategických jednotek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aktické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pecifikace a konkretizace cílů strategického rozhodnutí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včetně prostředků k jejich dosažení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lány na úrovni jednotlivých funkčních oblastí 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organizačních člán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1) PLÁN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odle úrovně rozhodovacího procesu:*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perativní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 vychází z taktického rozhodování z konkrétních,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známých podmínek a zdrojů, krátkodobý charakter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 hlavním významem je dotváření rozhodnutí pro procesy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provozní a procesy s nimi bezprostředně související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íl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hierarchická struktura podle hierarchie plánů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ožadavky: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jednoznačná formulac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jednoznačně vymezená oblas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určený časový horizont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pecifikace vazeb na návazné cíl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ěřitelnost / vyjádřitelnos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t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ětšina literatury se vztahuje k deskripci mechanismů, nástrojů atd., které mohou být uplatněny v soukromém sektoru. S ohledem na moderní přístupy k řízení ve veřejné správě musejí být dány do souvislostí se specifickými charakteristikami tohoto sociálního fenoménu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1) PLÁNOVÁNÍ A TRADIČNÍ MODEL V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egativní prv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rátkodobý pohled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dichotomie politiky a správ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aměření na externí prostřed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systematič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strategičnost vs. resortismu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vky dlouhodobějšího plánování v současnosti - příklady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etoda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BSC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analýza SWOT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)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strategie regionálního rozvoje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střednědobé finanční výhled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§ 3 Zákona č. 250/2000 Sb., o rozpočtových pravidl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zemních rozpočtů)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a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např. zde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mepco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p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?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pg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=sluzby4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ht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2) ORGANIZ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ílem uspořádat prvky v systému, jejich aktivity, koordinaci, kontrolu tak, aby přispěly maximální měrou k dosažení stanovených cílů systém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ces přiřazení činností a zdrojů v prostoru a čase se záměrem zajistit plánované úkol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sahy do nového celku / vytvoření nového celk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ude věnována samostatná přednáška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2840" y="1696680"/>
            <a:ext cx="76615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3) PŘIKAZOVÁNÍ A MOTIVOVÁNÍ / STIMUL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EORIE ŘÍZENÍ ORGANIZACÍ SOUKROMÉHO SEKTORU: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lidské zdroje a jejich úspěšné řízení v podstatné míře rozhodují o tom, jak podnik v boji s konkurencí uspěje nebo naopak neuspěje. Řízení lidských zdrojů je rozhodujícím nástrojem zvyšování výkonnosti, konkurenceschopnosti a tedy ekonomické úspěšnosti podniku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získávání, udržování, propouštění, rozvoj a optimální využívání pracovníků podnik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TÁZKOU CO JE KRITÉRIEM ÚSPĚŠNOSTI VEŘEJN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3) PŘIKAZOVÁNÍ A MOTIVOVÁNÍ / STIMUL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TÁZKOU PRVKY FUNKCE MOTIVACE ZAMĚSTNANC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ákladní personální čin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časnosti diskuze na téma výkonem determinované platů (PRP) zaměstnanců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ECD 2005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Performance-related Pay Policies for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Government Employee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P vycházejí z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rganizace je schopna přesně měřit výsledky činnost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dnotlivce / týmu / pracovní jednotky /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sledky činnosti jednotlivce nebo týmu / praco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dnotky přispívají k výkonnosti organiz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lat může být upravován způsobem, který kapitalizuj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čekávané vnímání hodnoty jeho potenciálního recipien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3) PŘIKAZOVÁNÍ A MOTIVOVÁNÍ / STIMUL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ECD 2005: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Performance-related Pay Policies for Government Employee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e většině zemí se plat úředníků skládá v současné době ze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třech základních komponent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 základní pla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odměna spojená s charakterem či povinnostm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zastávaného míst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výkonová složka platu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věr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dopad PRP na výkon je omezený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- většina zaměstnanců nepovažuje PRP za motivující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- náplň práce a potencionální rozvoj kariéry jsou pokládány   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úředníky za motivy silnější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manažerský nástroj sekundární význam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4) KOORDIN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laďování jednotlivých činností a odstraňování různosti postupu jednotlivých pracovníků a útvarů = napříč systém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ude věnována samostatná přednášk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5) KONTROL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zjišťování určitého stavu a jeho hodnocení, tj. srovnávání se stavem, který měl být dosažen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AMOSTATNÝ PŘEDMĚT - PVKVS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6) ROZHOD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ritickým článkem řídících proces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ces volby mezi dvěma nebo více alternativami v konkrétní situaci, přičemž zvažované alternativy nemusí být současně provediteln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áze rozhodovacího procesu (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Ochran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Identifikace možností - příležit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tanovení cílů - očekávaných stav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Vymezení podmínek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tanovení alternati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Stanovení kritérií a hodnocení alternati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Třídění alternativ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Výběr alternati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ealizace vybrané alternati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současnosti důraz na zpětnou vazb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Prvky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6) ROZHOD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racionalita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hommo economicus vs. administrative behaviour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H. A. Simon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v sociálním rozhodování nejde - a ani nemůže jíž -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o úplnou racionalitu, ale pouze o racionalitu omezenou...</a:t>
            </a:r>
            <a:br>
              <a:rPr sz="2000"/>
            </a:b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lidé v praktickém životě nehledají optimální řešení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problémů, s nimiž jsou konfrontování, nýbrž  spokojují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cela běžně s prvním řešením, které se jim jeví jako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uspokojivé, přičemž kritéria uspokojivosti závisí na jejich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momentální percepci skutečnosti “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 racionální vs. uspokojivé řeše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garbage can model (viz studijní materiá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) Vybrané další nástroje řízení ve veřejné sprá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661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49200" indent="-349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eyers, F. et al. Performance of public sector organizations: do management instruments matter? (june 2006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vybrané závěry: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ot much is known about the influence of specific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anagement instruments on performance of public sector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rganization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udies focus on governments as a whole, rather than 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dividual public sector organizations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ůvody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bulous management terminolog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bsence of knowledge about relevant covariate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elusive concept of performan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lack of theoretical underpinnings</a:t>
            </a:r>
            <a:br>
              <a:rPr sz="2000"/>
            </a:b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ředmět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)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manus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ruka)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, managgi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ovládání, správa, veden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Drucker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ýklad pojmu ´management´ je zvláště nesnadný. Především jde o pojem specificky americký a je obtížné ho výstižně přeložit do ostatních jazyků, dokonce i do britské angličtiny. Označuje nejen funkci, ale také lidi, kteří ji vykonávají. Označuje nejen sociální postavení a jeho stupeň, ale také odbornou disciplínu a obor studia.“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) Řízení - defi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84104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cílově orientované zvládnutí celku (systému)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i jednotlivých funkcionálních činností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Vodáček, Vodáčková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účelná lidská činnost, která směřuj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k ovlivňování činnosti řízeného systém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 souladu s vytyčeným cílem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600"/>
            </a:b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ložitost řízení roste přímo úměrně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specializaci práce a počtu řízených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Máš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řízení vs. vedení (leadership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Vědecký management a Frederick Taylor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v díle Principles of Scientific Management (191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technický směr sociologie organizac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člověk mechanickým nástroj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oužitím vědeckých metod řízení, místo používání tradičních metod nebo řízení od oka, lze dosáhnout zvýšení produktivity, aniž by bylo nutné zvýšit pracovní úsilí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vědeckého managementu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1. Nahradit empirii vědou (organizovanými znalostmi)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2. Místo nesouladu dosáhnout harmonie ve skupinové činnosti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3. Místo chaotického individualismu dosáhnout spolupráce lidí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4. Místo omezování výstupů pracovat pro jejich maximalizaci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5. Zabezpečit rozvoj všech pracujících pro dosažení plného využití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   jejich schopností a pro dosažení maximální prosperity společ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y Fayol -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Administration Industrielle et Générale (1916)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možnosti)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dělba prá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avomoc a odpovědnost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míra odpovědnosti závisí na pravomoc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disciplín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jednota přikaz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jednota řízení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odřízenost individuálních zájmů zájmům společný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odměňování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poctivé, uspokojování zaměstnanců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        i zaměstnava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y Fayol -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Administration Industrielle et Générale (1916)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možnosti):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centralizace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oncentrace musí odpovídat daným podmínkám tak, ab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přinášela co největší užite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řetěz nadřízenosti od nejvyšší k nejnižší úrovni říze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ořádek (organizování):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Každé místo je určeno pro něc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(pro někoho) a každá věc (každá osoba) má své místo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pravedlnost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U zaměstnanců by měla být pěst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ěrnost a úcta, která by v kombinaci s laskavost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spravedlností ze strany manažerů měla zakládat vztah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nadřízenosti a podřízenosti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Řízení - výběr z koncep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Henry Fayol -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Administration Industrielle et Générale (1916)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incipy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(možnosti):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stabilita majetk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iniciativa - vypracování a realizace plán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jednotný duch - týmová práce a komunik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+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ět prvků správy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1)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2) organizová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3) přikazová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4) koordinování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5) kontrolován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pro zajimavost srovnejte s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Batisme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"/>
              </a:rPr>
              <a:t>zd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31T06:20:34Z</dcterms:modified>
  <cp:revision>161</cp:revision>
  <dc:subject/>
  <dc:title>Vymezení správní vědy a veřejné správy</dc:title>
</cp:coreProperties>
</file>