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5F6-AEE9-49DD-B5AF-79E89523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65A-B38D-455F-AB1B-837CE66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EFD-E9C2-41ED-979E-CB1B17C2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E3C-9263-4EC7-8AB9-F9A6C7A1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83B-DCBB-45AF-9330-15AFA853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939-B04D-43BA-BD5E-7795D4C6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396-11B5-4A9F-8C02-544E39D8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AE5-F514-4662-94C6-8E89E189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651-4AB0-444A-BE4B-157B2BC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122-935D-434F-A79D-AEFA2F5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332-3AD6-40BA-8019-5ECE006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20E-E60D-41C6-94E4-408785C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2B22-CD32-4016-9764-776BAC5D6C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c08d"/>
                </a:solidFill>
                <a:latin typeface="Arial"/>
              </a:rPr>
              <a:t>Evoluce systémů pohledem kybernetiky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5300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istová 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lakovičová Lu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Žítková Barb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Druhý zákon termodynamik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igoginova vědecká práce se snaží o vysvětlení mikroskopických a makroskopických aspektů tohoto zák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tropie stále ro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tropie – míra neuspořádanosti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bývá se uplatněním tohoto zákona v izolovaných a otevřených systém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odel stroj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minulosti základní paradigma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jetí Prigogina je pro společenské vědy stále základním mod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bilita, řád, rovnová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odel organism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hodující prostředky – informace a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atek, nestálost, různorodost, nerovnováha, nelineární vzt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eorie změn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lečenské systémy jsou systémy otevřený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třeba je začít chápat jinak než na základě mecha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těchto systémech existující struktury vystavené náhodným fluktuacím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erovnováha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ři působení pozitivních zpětných vazeb jsou odchylky zvětšovány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ůže vzniknout nová uspořádanost a nov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ifurkační bo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d zvratu na vývojové li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ůsledku nerovnováhy negativních a pozitivních zpětných vazeb dojde k rozdělení trajektorie vývoje původní kvality v několik nových struktur, které se kvalitativně m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ní možné předvídat, jak se bude systém mě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ůže se dostat do vyšší úrovně uspořád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le Prigogina může řád vzniknout z chaosu samouspořádá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Ča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a v chápání času po formulaci druhé věty termodyna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 je nevratn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ratné děje jsou zdrojem řá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c08d"/>
                </a:solidFill>
                <a:latin typeface="Arial"/>
              </a:rPr>
              <a:t>Přínos Prigoginova díla pro manage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nímání managementu v širších souvislos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zby podniku na lidský kapitál, ostatní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iv techniky na rozvoj řízení – internet, mobilní telef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voluce v management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řídají se období stabilního vývoje se zrychlenou evolu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dalování systému od rovnováhy vede k růstu fluktuací a k entrop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chod do nové vývojové fáze má charakter skok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fázového 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cho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k němuž dochází bifurkací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Využití těchto poznatků v prax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 podniku se nachází jak otevřené, tak i uzavřené systémy        je důležité umět řídit 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a živé systémy se nedají aplikovat principy jako na neživé syst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421000"/>
            <a:ext cx="647640" cy="0"/>
          </a:xfrm>
          <a:prstGeom prst="line">
            <a:avLst/>
          </a:prstGeom>
          <a:ln w="9360">
            <a:solidFill>
              <a:srgbClr val="523e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227664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Uzavřený systém: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Uzavřený systém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(zákony termodynamik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ergi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nitřního prostředí je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konstant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tropi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nitřního prostředí pouze ro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čí dosáhnutím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 entropické 1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= zá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Kybernetik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sadní objev 20. stolet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kladatel Norbert Wiene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vě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řízený systém, cí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 neřízeném systému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roste informační entrop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Otevřený systé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Otevřený systém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(poznatky I. Prigog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usí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ískávat energii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z vnějšího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usí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ypuzovat entropii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vnějšího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ize všeho živého je dosáhnout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tropickou 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= stav dokonal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4720" y="4724280"/>
            <a:ext cx="1727280" cy="158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34800"/>
            <a:ext cx="2743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494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fc08d"/>
                </a:solidFill>
                <a:latin typeface="Arial"/>
              </a:rPr>
              <a:t>KMT – KOPČAJOV  MANAŽÉRSKY  TROJUHELNÍK</a:t>
            </a: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1341360"/>
            <a:ext cx="2362320" cy="365760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00" y="4221000"/>
            <a:ext cx="1374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E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konomick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Zákazní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9240" y="4221000"/>
            <a:ext cx="12718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otenciá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trop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Já,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7800" y="765000"/>
            <a:ext cx="12153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Č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Časov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Č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Konku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1970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79736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7973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5084640"/>
            <a:ext cx="2089080" cy="1079640"/>
          </a:xfrm>
          <a:prstGeom prst="leftArrow">
            <a:avLst>
              <a:gd name="adj1" fmla="val 50000"/>
              <a:gd name="adj2" fmla="val 48374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4375200">
            <a:off x="3485880" y="3002040"/>
            <a:ext cx="1720800" cy="1133280"/>
          </a:xfrm>
          <a:prstGeom prst="leftArrow">
            <a:avLst>
              <a:gd name="adj1" fmla="val 50000"/>
              <a:gd name="adj2" fmla="val 3796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4373400">
            <a:off x="3619080" y="344304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Zm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776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Chci - 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5680" y="602136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Musím - tl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9880" y="2781360"/>
            <a:ext cx="17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Regulace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harmo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Ing. Andrej Kopčaj CSc.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řte a využívejte vizi entropické nuly jako jádra podnikové ideolog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Vize podnik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aximalizace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inimalizace entr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louhodobá prosperita podniku - č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Spirálový manage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šichni toužíme být úspěšnými. Je to báječný  stav, v němž by všechny tři cíle naší touhy, tj. jištění, kvalita i délka naší existence rostly v harmonicky se rozvíjející spirále života            využití přírodních zákonitostí, abychom dosáhli to co potřebujeme (chceme) s co nejmenší vynaloženou energ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37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Kybernetik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ké vě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iologické vě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Společenské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l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3280" y="3665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Modelu stroje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ch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ek je sumou část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guje i pozpát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xistu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 ča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yvíjí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Model organism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živý, nemůžeme ho plně analyzov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může být rozebrán a zase slož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ždá čá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zaměnitelnou funk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 čase se vyví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ogie se stroj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ogie s živým organism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Manažer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- pohled na svět v širších souvislostech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konom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ém otevřen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j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ém izolova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c08d"/>
                </a:solidFill>
                <a:latin typeface="Arial"/>
              </a:rPr>
              <a:t>Ilya Prigogin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k a fy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vé práce v oblasti termodynamiky nerovnovážných systémů dostal Nobelovu c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býval se i statistickou fyzikou a teorií disipativních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908" descr=""/>
          <p:cNvPicPr/>
          <p:nvPr/>
        </p:nvPicPr>
        <p:blipFill>
          <a:blip r:embed="rId1"/>
          <a:stretch/>
        </p:blipFill>
        <p:spPr>
          <a:xfrm>
            <a:off x="876240" y="1600200"/>
            <a:ext cx="319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Řád z chaos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upracoval s Isabelle Stengersov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nos – začal pracovat s otevřenými systémy (klasická termodynamika procovala pouze s izolovaným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přístup k vědě – pohled na vědu v širších souvislos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2:32:31Z</dcterms:created>
  <dc:creator>.</dc:creator>
  <dc:description/>
  <dc:language>en-US</dc:language>
  <cp:lastModifiedBy>Krist</cp:lastModifiedBy>
  <dcterms:modified xsi:type="dcterms:W3CDTF">2007-09-30T13:46:48Z</dcterms:modified>
  <cp:revision>19</cp:revision>
  <dc:subject/>
  <dc:title>Evoluce systémů pohledem kybernetiky</dc:title>
</cp:coreProperties>
</file>