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50B77-C9D2-43D7-8AA2-065325A17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0E266-42CE-4A29-8F3B-5D459B21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F964B-4184-42E2-92CD-D7D853C4D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DBAC1-5E36-4F1A-8428-EFCEF7C6E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86B6-62CA-4A4E-A0AA-45C94B48A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8246-ABD5-4178-A4A0-CA6E9F68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89D1-9149-4479-ADEB-E7A13ECC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C0B6-91D7-4F53-BB12-F0514D08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BAC9-C050-4622-B7F4-54F702D5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CF16-2031-46F0-AF02-651DA911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C866-C76F-4733-ABDC-9C5655B8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E0070-88B8-45B0-B01D-FA9D89D5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10A6-80A4-45B1-ABAA-A5CDD399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1C76-0C75-4E1A-B50D-4ECDAC9E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FE0F4-1651-444F-9CF3-489421A5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686A-5CB8-4B3D-B7A2-22E92B284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BBD9-9EF6-4E9B-A68F-456F65362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1F9C5-41E2-436C-8889-C9858A1A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2D626-8706-48AA-8E9D-4B2215C7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42192-9B36-4114-BBE0-177E6DCE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EE466-7BDD-42F7-84A8-44E84FF7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2228B-19E1-4D69-8791-15DC06CF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77CD8-275B-4AAE-8549-D81860A6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3829C-D3DF-41E5-9325-4A795F7F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74AF-EC16-4D00-8D93-3D58961346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2A52-D828-4369-B36B-0CC8A07D5E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Zrod a vývoj kapitalismu jako fenoménu industriální společnosti</a:t>
            </a:r>
            <a:br>
              <a:rPr sz="3600"/>
            </a:b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Iva Bernkopfová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Michal Macu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Petr Dolež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Katolická církev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34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atolík neměl svůj osud v rukou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sud byl v rukou kněz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atolictví neodblokovalo tu nejdůležitější morální a etickou brzdu pro  vývoj kapitalismu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Vliv protestantismu na ekonomii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vě proměnné: etika a ekonomické chování subjektů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ybný moment produktivity – práce jako posvátný závaze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klon k úsporám – novými ctnostmi jsou střídmost, spořivost a odříkání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ximalizace výroby a minimalizace spotřeby jsou zároveň v jedné etické matici!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7000"/>
              </a:lnSpc>
              <a:spcBef>
                <a:spcPts val="1624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ěcná i morální potřeba investi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77000"/>
              </a:lnSpc>
              <a:spcBef>
                <a:spcPts val="1624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nanční riziko se stává imperativ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77000"/>
              </a:lnSpc>
              <a:spcBef>
                <a:spcPts val="1624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rientace na kalkul – kalvínská etika podněcuje racionální uvažování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77000"/>
              </a:lnSpc>
              <a:spcBef>
                <a:spcPts val="1624"/>
              </a:spcBef>
              <a:buSzPct val="1266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vantifikace průmyslu, uplatňování matematických systémů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77000"/>
              </a:lnSpc>
              <a:spcBef>
                <a:spcPts val="1624"/>
              </a:spcBef>
              <a:buSzPct val="1266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lastnictví a zisk je ospravedlněno – člověk jako hospodář na majetku Boží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77000"/>
              </a:lnSpc>
              <a:spcBef>
                <a:spcPts val="1624"/>
              </a:spcBef>
              <a:buSzPct val="12665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ximalizace zisku je výrazem efektivního (=dobrého) hospodaření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7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7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7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50920" y="1197000"/>
            <a:ext cx="8229600" cy="1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Pozice obchodníků</a:t>
            </a:r>
            <a:br>
              <a:rPr sz="3200"/>
            </a:b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76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ění se společenská pozice obchodníků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76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vě se definuje pojem vlastnictví – i obchodník má morální právo na vlastnictví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76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platňuje se maximalizace zisku, ale je zde také podmínka vcítění se do spotřebite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Celospolečenské hledisko</a:t>
            </a:r>
            <a:br>
              <a:rPr sz="3600"/>
            </a:b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aždý člověk má právo na vzest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yramidová třídní struktura – třídy jsou otevřené, možný je pohyb jak nahoru, tak i dolů. Pohyb směrem dolů je ovšem nežádou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znik střední třídy (např. Amerik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Aristokracie jsou nahrazeny tvz. </a:t>
            </a:r>
            <a:r>
              <a:rPr b="0" lang="cs-CZ" sz="2400" spc="-1" strike="noStrike">
                <a:solidFill>
                  <a:srgbClr val="ff9933"/>
                </a:solidFill>
                <a:latin typeface="Arial"/>
              </a:rPr>
              <a:t>meritokraciemi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vláda těch, kteří si to zaslouž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eníze se stávají hlavním prostředkem společenské odmě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oderní tržní hospodářství má protiválečné a proti-revoluční ten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znik a rozkvět povolání jakými jsou podnikatelé, manažeři, obchodníci, burzovní makléři, bankéř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8229600" cy="3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Kalvinismus versus marxismus</a:t>
            </a:r>
            <a:br>
              <a:rPr sz="3600"/>
            </a:b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dle Marxe je neodstranitelnou vadou kapitalismu jeho neschopnost uspokojit potřeby m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vorba kapitálu vyžaduje podle něho vykořisťování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→ zaškrcování kupní síly m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Tato námitka o nevyhnutelné polarizaci životní úrovně byla vyvrácena (vznik střední třídy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Manipulace spotřebitelem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793116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počátku byl prodej pouhým prodloužením výro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 rostoucí hojností spotřebních statků bylo důležité, aby se z nekupujících staly kupují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odej byl rozšířen o novou manipulativní dimenz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ejdříve jen průzkum trhu, poté se prosazuje další manipulace v rámci koncepce podpory prode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ájmy kupujících a prodávajících jsou v protiklad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arxisté a merkantilisté považují kapitalismus za nemravný a dlouhodobě neefektiv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06436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Trh a americká kultura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jvětší rozmach  trhu nastal po druhé světové vál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ovace trhu spíše než inovace výrobní technik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ultura materialistická a ideová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ytrácí se etika kalvinismu – výroba se má orientovat na zisk. USA jsou nejrychleji se nerozvíjející zemí na světě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ízká produktivita je zapříčiněna i koncentrací a monopolizací výrob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309240"/>
            <a:ext cx="823104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Kalvínská etika v dnešním kapitalismu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310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Ústup od spoření, od asketismu k hedonismu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Spotřeba současných i budoucích statků – život na dlu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Všeobecná neochota podstupovat riziko a investov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Stírá se rozdíl mezi investicemi, spořením a spotřebou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slabení raciona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ytrácení posvátnosti vlastnictví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átní zásahy znemožňují vytváření bohatství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h straní nadprůměrným, stát podprůměrný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átní zásahy narušují suverenitu spotřebite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alvínské rovnostářství spojené s elitářstvím stvořilo efektivní systé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učasný příklon k rovnostářství efektivitu snižuj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Obsah prezentace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2276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yšlenky, které stály u zrodu kapitalismu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2276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liv protestantismu na ekonomi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2276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Změny ve společnost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2276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alvínská etika v dnešním kapitalismu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Použitá literatura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BER, M.: Protestantská etika a duch kapitalismu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TZ, W. G.: Protestantská etika a tržní hospodářství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ěkujeme za pozor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Vztah mezi protestantismem a kapitalismem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50920" y="242064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 Weber(1864-192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 konci 19. století byla empiricky zjištěna vyšší ekonomická úroveň protestantských zem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Protestantismus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Světový křesťanský útv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Vznikl  z reformace Luthera, Kalvína v 16.století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9933"/>
                </a:solidFill>
                <a:latin typeface="Arial"/>
              </a:rPr>
              <a:t>Reformace</a:t>
            </a: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 (lat. </a:t>
            </a:r>
            <a:r>
              <a:rPr b="0" i="1" lang="cs-CZ" sz="2600" spc="-1" strike="noStrike">
                <a:solidFill>
                  <a:srgbClr val="ffffff"/>
                </a:solidFill>
                <a:latin typeface="Arial"/>
              </a:rPr>
              <a:t>znovuobnovení</a:t>
            </a: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) byl proces v křesťanské církvi s těžištěm v 16.století s cílem nápravy poměrů a návratu ke křesťanství, nezatíženému tradicí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66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Církve: kalvinisté, luteráni, reformovaní, methodisté atd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Anglosaské státy, Švýcarsko, Německo a Skandinávi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Myšlenky protestantismu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dpora ekonomického racionalismu ve větší míře než katolíc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ětší pud po zisku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Úspěšnost zemí díky dědictví po předcích(peníze,výchova a vzdělání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3 základní pilíře zrodu kapitalismu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Povolání podle Luther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Učení o predestinaci podle Kalvín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Vnitrosvětská askeze podle Kalvín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Povolání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9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lnění této povinnosti = nejvyšší obsah, který může mravní sebekontrola vůbec přijmou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9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áce dostala silný náboženský význ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Predestinace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dstvo je od začátku rozděleno na ty, kteří budou spaseni a na ty, kteří budou zatracen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Člověk toto nemůže sám ovlivni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áznak = úspěch v prác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volnění věcí pozemských a nebeských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znik podnikání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dfdef6"/>
                </a:solidFill>
                <a:latin typeface="Arial"/>
              </a:rPr>
              <a:t>Vnitrosvětská askeze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Člověk = služebník božích statků na zem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Úspěch = mravní měřítko úspěšnosti ve využívání statků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Požehnaný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=</a:t>
            </a:r>
            <a:r>
              <a:rPr b="0" lang="cs-CZ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být úspěšný </a:t>
            </a:r>
            <a:r>
              <a:rPr b="0" lang="cs-CZ" sz="26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růst luxusního konzumu a růst výdělečné činnost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4T08:51:50Z</dcterms:created>
  <dc:creator>Miroslav Bernkopf</dc:creator>
  <dc:description/>
  <dc:language>en-US</dc:language>
  <cp:lastModifiedBy>Miroslav Bernkopf</cp:lastModifiedBy>
  <dcterms:modified xsi:type="dcterms:W3CDTF">2007-10-17T20:27:27Z</dcterms:modified>
  <cp:revision>14</cp:revision>
  <dc:subject/>
  <dc:title>Zrod a vývoj kapitalismu jako fenoménu industriální společnosti </dc:title>
</cp:coreProperties>
</file>