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C5F-7EDE-4CD5-A102-9D600BD7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927-EBAC-459C-AFD5-104C5F1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442-3920-4F9B-B463-E4D13AA1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909-3707-4559-86D1-7067E93B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C29-5E99-406E-9E8F-CF67468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B239-5398-4E3C-B853-523AE3BD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88D-CAEE-4C21-A076-FA087DC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7FD-08EC-47BF-BE76-5A18FD6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6213-85DD-4110-BE95-733FAC5A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F2B1-120B-42E4-B9F5-66E0DBB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C58-238A-4167-8797-791C7F5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47A-3730-4F97-9F9A-5CE8D9F4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549-D7D2-4800-943C-75E8299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56CE-2FC3-457A-89B7-D6A2383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D99C-87CA-41A6-BAC8-AA0C2402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CDB-0FFA-4616-BB29-0C6F7AC1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A14A-61E7-4EEC-A2F9-9CF695C6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05D-ADA9-4941-A256-A0C56CB2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58A-D94E-45C3-807B-BF69975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A4E-98DC-420C-A8CB-36EF7D3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FD7-0198-4E98-AF78-E22E5FF9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C36-E35E-48FE-A79E-139102B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30B-8446-445B-A472-AED4917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2D8-5897-4122-A2FC-F8AB4D94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A19-1BA7-4B8A-ADA1-88A3BC6747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A0A-C3F5-4081-B74C-6F00DDE028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Verdana"/>
              </a:rPr>
              <a:t>Vývoj společnosti podle Alvina Toffl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19640" y="4581000"/>
            <a:ext cx="3167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nka Nová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iří Rou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ichard Savick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řízení e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klad v integraci ostatních jednotek v sourod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Řídící pracovní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lit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pere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VÁR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č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toj k příro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obnovitelné zdro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etická a surovinová kr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ize os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ver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rsatil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lexitime at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štíhl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írání univerzálního měřít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ncip deleg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vícerozměrné ří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ze korporací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tika stávajících struktur řízení a c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popředí zájem společnosti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ciální dovednosti řídícího pracovní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offler opti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ichel Houellebecq a extremní liberal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chard Sennet a fragmentace spole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ffler a technologický determin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ěkujeme za pozornos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Vývoj společnosti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voj společnosti obec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bliograf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Third Wave.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w York: Bentam Books, 19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Šok z budoucnosti. Praha: Práce, 199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v. of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Information Society: Sceptical 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by Christopher May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Sociological Re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200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Gardels, 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he Third W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’s Third Way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w Perspectives Quarterl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ummer 200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*3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říjen 19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Šok z budoucnost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tí vlna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sun moci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vá civilizace. Třetí vln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álka a antivál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ákladní body Tofflerovy tez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tafora vlny (Elias, Turn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i vlny – motyka, výrobní pás,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ěk – sběračství, lov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. vlna – zem. revolu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e, sídla vesnice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. vlna – 17.stol, prům. revolu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. vlna – 1955, „informační revoluce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xistuje jednoznačná kauza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ýrobce vs. Spotřebitel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brácený poměr trhu A a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ěžní systém, smluvní etika, materialismus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obky, míry, cen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hování, rodina, media, sexualit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iverz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oba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životní sty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várenská výroba, kapitál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řítko úspěc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ktivita rozhodovacích proces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1:46:06Z</dcterms:created>
  <dc:creator>Richard Savicky</dc:creator>
  <dc:description/>
  <dc:language>en-US</dc:language>
  <cp:lastModifiedBy>Richard Savicky</cp:lastModifiedBy>
  <dcterms:modified xsi:type="dcterms:W3CDTF">2007-10-12T15:42:10Z</dcterms:modified>
  <cp:revision>4</cp:revision>
  <dc:subject/>
  <dc:title>Vývoj společnosti podle Alvina Tofflera</dc:title>
</cp:coreProperties>
</file>