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DA5E-A724-438D-BDAB-104FB992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F1B7-19C5-47B1-A819-9C5F4F98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24A-2412-4033-827C-30E7B49C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3E42-B94F-4C58-B958-D9B61E8B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0E7F-1314-4269-ACA9-0456B6E7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57F8-FF14-4A67-A4C3-79FF4B04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BFE8-58C4-4602-9561-0A0B1416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AC4D-E6E2-4F12-A336-70DBB002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E38E-588A-4B38-8487-1AEDA7BD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30F0-9682-421A-8212-EEA45355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666B-9DA6-474D-82AD-6B8C488C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0AE-F810-44D2-A766-0ECBB1DE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A270-D304-447E-8926-6BBEFCCD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3D91-6CCE-4520-A201-89E82C7A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7E00-A5F8-42D0-91A4-EA7515AD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87C8-4210-40D2-801B-8AFA9DF7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604F-0256-49F5-820E-59DB4A95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956-5A70-48F6-A464-E494659E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6E0-6D3B-4AA0-8706-67BDEFC3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FB8-AF94-4D6E-98B9-F9B287EF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5922-C141-4907-828D-830BC092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CD6-2AEE-4A5D-BD79-93D3841C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0BE-2E73-4324-A80D-B3A350B9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703-FB28-460B-AA84-9C5C1D6A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1910-C2D0-48A4-B542-F067A314EC09}" type="slidenum">
              <a:rPr b="1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488E-7A25-419F-AA6A-487B8D883F21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ark.cz/alvin_toffler_necekaji_nas_krvave_revoluce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cs.wikipedia.org/wiki/Soubor:Potato_plant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hyperlink" Target="http://www.simpsonovi.net/obrazky/sekce/tapety/tapeta1.gif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Vývoj společnosti v pojetí </a:t>
            </a:r>
            <a:br>
              <a:rPr sz="4000"/>
            </a:b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Alvina Tofflera</a:t>
            </a:r>
            <a:br>
              <a:rPr sz="4000"/>
            </a:br>
            <a:br>
              <a:rPr sz="4000"/>
            </a:br>
            <a:r>
              <a:rPr b="0" lang="cs-CZ" sz="2400" spc="-1" strike="noStrike">
                <a:solidFill>
                  <a:srgbClr val="284c6a"/>
                </a:solidFill>
                <a:latin typeface="Trebuchet MS"/>
              </a:rPr>
              <a:t>Prezentace do předmětu Managment II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Autoři: Lucie Hubaczová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          </a:t>
            </a: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Richard Malovič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Lukáš Merta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84c6a"/>
                </a:solidFill>
                <a:latin typeface="Trebuchet MS"/>
              </a:rPr>
              <a:t>Použitá literatura 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TOFFLER, A. </a:t>
            </a:r>
            <a:r>
              <a:rPr b="0" i="1" lang="cs-CZ" sz="2800" spc="-1" strike="noStrike">
                <a:solidFill>
                  <a:srgbClr val="284c6a"/>
                </a:solidFill>
                <a:latin typeface="Trebuchet MS"/>
              </a:rPr>
              <a:t>The Third Wave</a:t>
            </a: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. New York: Bantam Books, 1990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TOFFLER, A. </a:t>
            </a:r>
            <a:r>
              <a:rPr b="0" i="1" lang="cs-CZ" sz="2800" spc="-1" strike="noStrike">
                <a:solidFill>
                  <a:srgbClr val="284c6a"/>
                </a:solidFill>
                <a:latin typeface="Trebuchet MS"/>
              </a:rPr>
              <a:t>Šok z budoucnosti</a:t>
            </a: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. Praha: Práce, 1992.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BLAŽEK, L. Sylaby zveřejněné na www stránkách ESF MU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www.park.cz/alvin_toffler_necekaji_nas_krvave_revolu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Děkujeme za pozornos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84c6a"/>
                </a:solidFill>
                <a:latin typeface="Trebuchet MS"/>
              </a:rPr>
              <a:t>Obsah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Vývoj společnosti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- první vln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- druhá vln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- vývojové tendence na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          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prahu postindustriální ér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Šok z budoucnosti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732720" y="3357720"/>
            <a:ext cx="1118880" cy="1520640"/>
            <a:chOff x="6732720" y="3357720"/>
            <a:chExt cx="1118880" cy="1520640"/>
          </a:xfrm>
        </p:grpSpPr>
        <p:sp>
          <p:nvSpPr>
            <p:cNvPr id="87" name="Puzzle3"/>
            <p:cNvSpPr/>
            <p:nvPr/>
          </p:nvSpPr>
          <p:spPr>
            <a:xfrm>
              <a:off x="6732720" y="3357720"/>
              <a:ext cx="1118880" cy="1520640"/>
            </a:xfrm>
            <a:prstGeom prst="pie">
              <a:avLst/>
            </a:prstGeom>
            <a:solidFill>
              <a:srgbClr val="a6d1d0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39000" y="3855960"/>
              <a:ext cx="837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443640" y="4508640"/>
            <a:ext cx="1787400" cy="1384200"/>
            <a:chOff x="6443640" y="4508640"/>
            <a:chExt cx="1787400" cy="1384200"/>
          </a:xfrm>
        </p:grpSpPr>
        <p:sp>
          <p:nvSpPr>
            <p:cNvPr id="90" name="Puzzle2"/>
            <p:cNvSpPr/>
            <p:nvPr/>
          </p:nvSpPr>
          <p:spPr>
            <a:xfrm>
              <a:off x="6443640" y="4508640"/>
              <a:ext cx="1787400" cy="1384200"/>
            </a:xfrm>
            <a:prstGeom prst="pie">
              <a:avLst/>
            </a:prstGeom>
            <a:solidFill>
              <a:srgbClr val="ffcc99">
                <a:alpha val="75000"/>
              </a:srgbClr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77160" y="4934160"/>
              <a:ext cx="838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84c6a"/>
                </a:solidFill>
                <a:latin typeface="Trebuchet MS"/>
              </a:rPr>
              <a:t>Vývoj společnosti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Tři vln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       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- koexistenční působen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- srážení vln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- preindustriální, industriální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          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a postindustriální společnos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94" name="" descr="toffler.gif"/>
          <p:cNvPicPr/>
          <p:nvPr/>
        </p:nvPicPr>
        <p:blipFill>
          <a:blip r:embed="rId2"/>
          <a:stretch/>
        </p:blipFill>
        <p:spPr>
          <a:xfrm>
            <a:off x="6372360" y="620640"/>
            <a:ext cx="194472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84c6a"/>
                </a:solidFill>
                <a:latin typeface="Trebuchet MS"/>
              </a:rPr>
              <a:t>První vlna 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Sběr surovin, chov dobytk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Jednoduchá dělba prác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Výjimkou Řím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Zemědělská revoluc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372360" y="620640"/>
            <a:ext cx="2057400" cy="244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Sazenice bramboru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3284640"/>
            <a:ext cx="201600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84c6a"/>
                </a:solidFill>
                <a:latin typeface="Trebuchet MS"/>
              </a:rPr>
              <a:t>Druhá vlna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Nástup industriální společnosti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Oddělení výroby a spotřeby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Dělba práce na základě specializ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Synchroniz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Standardiz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Koncentr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Maximaliz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centraliz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84720" y="404640"/>
            <a:ext cx="2303640" cy="151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Starý pohled"/>
          <p:cNvPicPr/>
          <p:nvPr/>
        </p:nvPicPr>
        <p:blipFill>
          <a:blip r:embed="rId3"/>
          <a:stretch/>
        </p:blipFill>
        <p:spPr>
          <a:xfrm>
            <a:off x="4932360" y="4076640"/>
            <a:ext cx="3200400" cy="21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Vývojové tendence na prahu postindustriální éry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„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To, co se nyní vynořuje, je nesporně zásadnější, závažnější a hlubší, než byla průmyslová revoluce. Současnost nepředstavuje nic menšího než druhý velký předěl v lidské historii.“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356600" y="5229360"/>
            <a:ext cx="1787400" cy="1384200"/>
            <a:chOff x="7356600" y="5229360"/>
            <a:chExt cx="1787400" cy="1384200"/>
          </a:xfrm>
        </p:grpSpPr>
        <p:sp>
          <p:nvSpPr>
            <p:cNvPr id="106" name="Puzzle2"/>
            <p:cNvSpPr/>
            <p:nvPr/>
          </p:nvSpPr>
          <p:spPr>
            <a:xfrm>
              <a:off x="7356600" y="5229360"/>
              <a:ext cx="1787400" cy="1384200"/>
            </a:xfrm>
            <a:prstGeom prst="pie">
              <a:avLst/>
            </a:prstGeom>
            <a:solidFill>
              <a:srgbClr val="ffcc99">
                <a:alpha val="75000"/>
              </a:srgbClr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90120" y="5654880"/>
              <a:ext cx="838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Teorie modernizac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Informační společnos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Společnost věděn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Nová ekonomik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Koncept třetí vlny (revoluční premisa)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10" name="" descr="MANHATTAN NIGHT – b&amp;w obrázek | plakát | fotky | poster"/>
          <p:cNvPicPr/>
          <p:nvPr/>
        </p:nvPicPr>
        <p:blipFill>
          <a:blip r:embed="rId2"/>
          <a:stretch/>
        </p:blipFill>
        <p:spPr>
          <a:xfrm>
            <a:off x="5148360" y="1844640"/>
            <a:ext cx="37116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84c6a"/>
                </a:solidFill>
                <a:latin typeface="Trebuchet MS"/>
              </a:rPr>
              <a:t>Šok z budoucnosti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Přizpůsobení či nepřizpůsobení se změně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Nemoc ze změn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Kulturní mezer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Míra srovnáván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556240" y="4402080"/>
            <a:ext cx="1077840" cy="1769760"/>
            <a:chOff x="5556240" y="4402080"/>
            <a:chExt cx="1077840" cy="1769760"/>
          </a:xfrm>
        </p:grpSpPr>
        <p:sp>
          <p:nvSpPr>
            <p:cNvPr id="114" name="Puzzle4"/>
            <p:cNvSpPr/>
            <p:nvPr/>
          </p:nvSpPr>
          <p:spPr>
            <a:xfrm>
              <a:off x="5556240" y="4402080"/>
              <a:ext cx="1077840" cy="1769760"/>
            </a:xfrm>
            <a:prstGeom prst="pie">
              <a:avLst/>
            </a:prstGeom>
            <a:solidFill>
              <a:srgbClr val="7fa9c3">
                <a:alpha val="57000"/>
              </a:srgbClr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65760" y="4844880"/>
              <a:ext cx="838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568920" y="3311640"/>
            <a:ext cx="1119240" cy="1520640"/>
            <a:chOff x="6568920" y="3311640"/>
            <a:chExt cx="1119240" cy="1520640"/>
          </a:xfrm>
        </p:grpSpPr>
        <p:sp>
          <p:nvSpPr>
            <p:cNvPr id="117" name="Puzzle3"/>
            <p:cNvSpPr/>
            <p:nvPr/>
          </p:nvSpPr>
          <p:spPr>
            <a:xfrm>
              <a:off x="6568920" y="3311640"/>
              <a:ext cx="1119240" cy="1520640"/>
            </a:xfrm>
            <a:prstGeom prst="pie">
              <a:avLst/>
            </a:prstGeom>
            <a:solidFill>
              <a:srgbClr val="a6d1d0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75560" y="380988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242040" y="4419720"/>
            <a:ext cx="1787400" cy="1384200"/>
            <a:chOff x="6242040" y="4419720"/>
            <a:chExt cx="1787400" cy="1384200"/>
          </a:xfrm>
        </p:grpSpPr>
        <p:sp>
          <p:nvSpPr>
            <p:cNvPr id="120" name="Puzzle2"/>
            <p:cNvSpPr/>
            <p:nvPr/>
          </p:nvSpPr>
          <p:spPr>
            <a:xfrm>
              <a:off x="6242040" y="4419720"/>
              <a:ext cx="1787400" cy="1384200"/>
            </a:xfrm>
            <a:prstGeom prst="pie">
              <a:avLst/>
            </a:prstGeom>
            <a:solidFill>
              <a:srgbClr val="ffcc99">
                <a:alpha val="75000"/>
              </a:srgbClr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75560" y="4845240"/>
              <a:ext cx="838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Šok z budoucnosti- příklady změn 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Urbaniz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Člověk budoucnosti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Inform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Lidské vztahy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Adhokraci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Technologi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Kiborgové mezi námi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24" name="" descr="Pavel Houser - karikatura"/>
          <p:cNvPicPr/>
          <p:nvPr/>
        </p:nvPicPr>
        <p:blipFill>
          <a:blip r:embed="rId2"/>
          <a:stretch/>
        </p:blipFill>
        <p:spPr>
          <a:xfrm>
            <a:off x="6877080" y="1700280"/>
            <a:ext cx="1600200" cy="2239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932360" y="4149720"/>
            <a:ext cx="1866960" cy="2376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dgh"/>
          <p:cNvPicPr/>
          <p:nvPr/>
        </p:nvPicPr>
        <p:blipFill>
          <a:blip r:embed="rId4"/>
          <a:stretch/>
        </p:blipFill>
        <p:spPr>
          <a:xfrm>
            <a:off x="4859280" y="1773360"/>
            <a:ext cx="1703520" cy="2206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48360" y="4437000"/>
            <a:ext cx="2016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09:44:28Z</dcterms:created>
  <dc:creator>PC</dc:creator>
  <dc:description/>
  <cp:keywords/>
  <dc:language>en-US</dc:language>
  <cp:lastModifiedBy>PC</cp:lastModifiedBy>
  <dcterms:modified xsi:type="dcterms:W3CDTF">2007-10-14T22:02:42Z</dcterms:modified>
  <cp:revision>17</cp:revision>
  <dc:subject/>
  <dc:title>Školicí prezenta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29</vt:lpwstr>
  </property>
</Properties>
</file>