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ABF-9B74-400B-ABF0-4A729056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71A-32CE-4900-9CD1-FFE7948D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3C1-E136-4929-AC47-E2407CE4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C37-0776-4821-9848-FCE6D191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0F8-9830-4491-96DA-9903BB3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2A6-3A82-48F2-BA8C-7D56990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DC3-2EB8-4B39-ABF1-F01F2D0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C6A-0BDA-477E-8101-9783478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F4C-B966-4964-BA9D-8BDF89B4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552-ABFF-4725-ADEA-63A3809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903-CC88-4168-B086-525E784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527-9D8E-41AB-98DB-811A084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F2E-2475-4570-83A3-57A3D498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0" t="24383" r="0" b="24383"/>
          <a:stretch/>
        </p:blipFill>
        <p:spPr>
          <a:xfrm>
            <a:off x="0" y="1557360"/>
            <a:ext cx="9144000" cy="3792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78454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zentace do předmětu Management II</a:t>
            </a:r>
            <a:br>
              <a:rPr sz="1800"/>
            </a:br>
            <a:br>
              <a:rPr sz="18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stinkty, rozum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a rozšířený řád</a:t>
            </a:r>
            <a:br>
              <a:rPr sz="3600"/>
            </a:br>
            <a:br>
              <a:rPr sz="36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Soňa Herman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Lenka Procházk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Petra Semon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šířený řád a populační rů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idská plodnost představuje, pokud jde o nynější i budoucí blaho lidstva, hrozbu číslo jedna.“ (J. Huxley)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„Hrozbou stávajícímu i budoucímu blahu lidstva je socialismus, a to proto, že ani socialismus, ani žádná jiná náhrada tržního řádu nemůže nynější světovou populaci uživit.“ (F. A. Hay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stava, že populační růst hrozí celosvětovou chudobou, je nesprávná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ílišné zjednodušení Malthusovy teorie populačního růs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výšení produktivity není způsobeno pouze větším počtem lidí, ale větším množstvím různých lidí. Lidé získali svou moc díky své odlišn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ové možnosti specializace skýtají předpoklad pro úspěšnější využití bohatství zem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Regionální povaha problé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populační problém je třeba nahlížet z regionálního hledis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rální konflikt může nastat, nepřestanou-li materiálně vyspělé země podporovat a subvencovat růst počtu obyvatel v takových oblastech jako je např. Sahel ve střední Af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udeme-li se vměšovat, porostou dále jen populace schopné uživit se sam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ověk není všemohoucí. Více se přiblíží uskutečnění svých přání, uzná-li meze svých schopností, nikoli tím, že se bude řídit přirozenými pohnutkami odstranit vzdálené utrpení, s nímž toho bohužel mnoho nenadě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íra populačního růstu se dnes blíží nebo se již dostala do svého maxima, více již neporoste a bude naopak kles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větší populační růst se nikdy neodehrával v rozvinutých tržních ekonomikách, ale vždy jen na jejich periferi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to periferie však už pomalu mizí a navíc nezbývá moc zemí, které by do periferní oblasti mohly vstou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Život nemá jiný účel než sebe s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ivot existuje pouze potud, pokud si zajišťuje vlastní tr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ětšina lidí v dnešní době žije jedině díky tržnímu řád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ůžeme být početně slabí a primitivní, nebo velmi početní a civilizova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YEK, F.A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aha : Sociologické nakladatelství, 1995. ISBN 80-85850-05-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šířený ř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íše znám pod pojmem kapitali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tánní řád – není výsledkem lidského plánu či zá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nejrůznějším cílům neomezeného počtu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ložen na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ravidl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mohou být v rozporu s vrozenými instink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Řád nepoměrně star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Řád malých skupin a prehistorických lidí, kteří se vzájemně z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konkrétním, společně sdíleným cílů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ho vztahy a soudržnost založeny na lidských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olidarita a altruism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ymizel – typický pro rodinu, či jiné mal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157720"/>
            <a:ext cx="83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aha aplikovat principy jednoho řádu do řádu druhého může působit destruktiv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esto je možné a užitečné podpůrné využití principů jednoho řádu v druh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734080"/>
            <a:ext cx="80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část genetické informace, vrozené, dědič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způsobeny životu v malých tlupách, k nimž vývoj lidského druhu dospěl za několik miliónů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máhaly utvářet spolupráci členů tlupy – lidí, kteří se mezi sebou znali a vzájemně na sebe spoléh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ní lidé se řídili konkrétními, společně sdílenými cíly, podobným vnímáním nebezpečí a příležit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působy koordinace závisely na instinktech solidarity a altru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och není osamělý, jeho instinkty se týkají přežití kolektivu.“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ále důležitým instinktem je schopnost učit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Pravidla lidského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íky nim vznikl náš neobyčejný řád a existence lidstva v nynějších dimenzích a struktuře (zejména díky pravidlům vztahujícím se k oddělenému vlastnic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ávají se tradicí, učením, nápodob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sahem ve značné míře zá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íření nových pravidel díky tomu, že umožňovala skupinám, které se jimi řídily, dosahovat většího úspěchu 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ýsledkem tohoto selektivního evolučního procesu je morá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učená pravidla nahrazují instinktivní jednání (v rozšířeném řádu zejména uplatňování pravidel odděleného vlastnictví a smlouvy namísto solidarity a altruism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je mezi instinktem a rozum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uce rozšířeného řádu (kulturní a morální evoluce) probíhá vně instinktů a nemůže být tvořena ani navrže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pnost učit se nápodobou – dána geneticky, získaná dlouhým vývojem instinkt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sudná domýšlivost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mylná myšlenka, že schopnost nabývat dovedností je dá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: Učení se tomu, jak se chovat, j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u (není rozumem vytvořeno, člověk se nerodí moudrý, rozumný a dobrý, musí se učit, aby se takovým stal).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 je ale výsledkem evolučního selektivního procesu, stejně jako morál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ši morálku nevytváří intelekt – spíše lidské interakce ovládané morálními zásadami umožňují rozvoj rozu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24280"/>
            <a:ext cx="8207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zi instinktem a rozumem j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di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erou se člověk mohl uč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661000"/>
            <a:ext cx="8209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nkt je starší než zvyk a tradice a zvyk a tradice jsou starší než rozum. Zvyk a tradice stojí mezi instinktem a rozumem – logicky, psychologicky i časov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ický poh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hlížení významu obchodu – Aristoteles, Tomáš Akvinsk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šíření racionalism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7. století – René Descartes – důraz na čistý roz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Locke – jiný pohled, morálka je součástí rozu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. století – Jean-Jacques Rousseau – typ tz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ivoch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osvobozeného od „umělých“ záb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. a 20. století – inteligentní lidé mají sklon tíhnout k social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Maynard Keynes –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Z dlouhodobého hlediska jsme všichni mrtv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bert Einstein – výroba pro užitek, ne pro z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cques Monod – nová, na poznání založená et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 tradicionalistů a racionalistů – tradiční morálka nesplňuje racionál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565360"/>
            <a:ext cx="39592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cionalistické předpoklady jsou, že není rozumné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žet se toho, co nelze vědecky zdůvodnit či dokázat pozorová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držovat to, co člověk nechá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dovat nějaký konkrétní směr, pokud se předem plně nespecifikuje jeho cí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koli dělat, nejsou-li předem zcela poznány účinky, které jsou ověřitelné a prospěš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565360"/>
            <a:ext cx="38894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ionalisté tvrd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e nelze konstruovat, ospravedlňovat ani demonstrov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dinec není schopen přirozené, spontánní a sebeuspořádávající procesy ani vnímat, natož pojmově ucho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é vlastnictví je obecně prospěšné, umožňuje maximálně využít potenci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ch z obcho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tí obch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lišný od materiální výroby, chaotický, postradatelný, jde o zavrženíhodnou čin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ž od starověku považován spíše za kouzla a čáry, než činnost zvyšující hodno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obku, byl mimo vnímání běžných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áce je jediným zdrojem bohatství, protože je při ní vynakládána fyzická síla, obchodní aktivity se za skutečnou práci nepovažuj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žitečnost není objektivní vlastnost věcí, jen jedinec sám (a mnohdy ani on) ví, co je pro něj dobré a co 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ayek vznáší požadavek na ekonomické vzdělání člově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komolený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šichni lidé třídí své vjemy částečně prostřednictvím atributů, které je jazyk naučil spojovat se skupinami smyslových charakterist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užití jazyka je zatíženo teoriemi o našem prostředí či jeho interpretace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luvíme-li jazykem založeným na mylné teorii, vytváříme a udržujeme tím omy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munikační obtíže při studiu lidského jednání začínají s definicí a pojmenováním samotných objektů, které chceme analyz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Hlavní terminologické překá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polečnost“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álepka, kterou lze označit téměř každou skupinu lidí, skupinu, o jejíž struktuře a příčině soudržnosti nemusíme nic zná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de o provizorní frázi, ke které se lidé uchylují, když zcela přesně nevědí, o čem mlu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ociální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“lasiččí slovo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- toto slovo připravuje o obsah jakýkoliv výraz, k němuž se připojí, přičemž se ho zdánlivě ani nedotk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užívání slova “sociální“ nabylo na velké rozmanitosti (160 slovních spojení) a slovo “sociální“ získalo již mnoho různých význam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7:40:28Z</dcterms:created>
  <dc:creator>Go this way</dc:creator>
  <dc:description/>
  <dc:language>en-US</dc:language>
  <cp:lastModifiedBy>Sonia</cp:lastModifiedBy>
  <dcterms:modified xsi:type="dcterms:W3CDTF">2007-10-10T04:44:20Z</dcterms:modified>
  <cp:revision>24</cp:revision>
  <dc:subject/>
  <dc:title>Snímek 1</dc:title>
</cp:coreProperties>
</file>