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969-61E2-4696-988F-F9167D22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2916-DA62-40E7-8251-3AD77A5E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0BA-22F8-432E-AE6E-B5405DE2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E52-8D2F-46A7-83E2-539C6E80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016A-EED5-485C-BA11-1B263145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A6C1-3B24-458D-99E3-8B384375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CE13-3E1B-45FA-BCB6-0033C769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B0EE-9BDB-442F-B536-5B49606A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BFB8-1434-412D-BDC5-494C490B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FAC2-DAE2-489B-9BB5-A3E4BE7D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1F09-1127-411D-B1C4-A224C235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5E5-3CEA-430A-9761-A0C50793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3F05-307F-4172-A866-C58170AE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DB6F-E158-421A-A178-6F2C5268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421C-B84F-4118-ABE3-6DC1EC95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9F58-9653-44CF-851C-344CA878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0B29-CEB4-40C8-8483-6786FE2E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6D0-9A56-4AAA-AB3D-916753DC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B52-34BE-4E75-80B3-8C329535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DC2-99C3-4306-A56E-0137D344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2FD-2FC4-43C4-9C21-B5D9ED1C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C25-7EFE-4F28-A6CA-B4C39654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BEE-8313-4F36-9576-D6D00541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0C3-8B82-462C-AA43-33602638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8B54-0ACA-428F-8005-85799B3C4D6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C5C1-E1D6-4AFF-A842-F664FB7924E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rod a vývoj kapitalismu jako fenoménu industriální spole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Kapitalistický du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základní pojem Weberových úva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= étos práce jako sebeúčelu- specifický pro protestantské smě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ovinností člověka je zvyšovat svůj kapitá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cílem zvětšování kapitálu je iracionální pocit „naplněné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volání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vydělané peníze nemá člověk vynaložit na uspokojení svý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na jeho formování se výrazně podílela reform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lvinistické dogma o predestinac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Bůh určil kdo je vyvolený ke spáse a kdo není, nik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ví jestli je vyvolen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člověk nemůže boží volbu nijak ovlivnit ani změnit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ři snaze věřícího o spasení mu nikdo nepomůže- žádn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zatel, svátost nebo círk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tolické dogma o predestinac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církev člověku může pomoci s jeho snahou o spasen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ogma o predestinaci bylo věřícími těžko přijímá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sám Kalvín se považoval za vyvoleného- cítil se být „boží zbrojí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kusy o zmírnění dogmatu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uložení povinnosti považovat se za vyvolené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oporučení neúnavné práce v povolání- nejlepší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prostředek, jak se ujistit o své spá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tolictví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ahodilé konání dobrých skutků, nemusí spolu souv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obrými skutky může věřící odčinit svoje hří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hodnota skutků závisí na jejich účel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jednotlivé hodnoty se sčítají, celková hodnota určí věčný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osud člově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kud věřící udělal něco, čím se zpronevěřil církevnímu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učení, mohl využít svátost pokání a zbavit se tíže svědom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lvinismu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echce jednotlivé skutky, ale „trvale vysluhovano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vatost“=&gt; plně racionalizovaný systé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eexistuje celková suma skutk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eexistuje svátost pokání- věřící se s tím musel vyrovn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á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askeze má v západní Evropě dlouhou tradici sahající až do d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tik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stupně se vyvíjela: od poustevnictví k mnišské askez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ropracovaná metoda, jak vést život racionálně, učila trval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bekontrole a uvědomování si důsledků svých činů- společné pr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tolickou i kalvinistickou askez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askeze byla v katolictví pěstována především v klášterech, pokus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prosazení askeze do světského života skončily neúspěc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lvinisté měli povinnost žít asketicky ve svém všedním život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Koncepce povolání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souvisí s řádem a systematičností v každodenním život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volání- oddanost každému úkolu pro úkol sám, je to moráln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závaz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odmítá nestálé povolání- ten, kdo je nemá, tráví více čas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zahálkou než prací a vězí ve věcném zmat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íky pevnému povolání má člověk v životě systematičn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člověk může vykonávat více povolání zároveň nebo práci změ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Koncepce povolání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ři změně povolání je důležitá užitečn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 zjištění užitečnosti se používají 3 měřítk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mravní měřít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ůležitost produkovaných statků pro společn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výnosnost- v běžném životě nejdůležitějš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kud Bůh ukázal kalvinistovi možnost jak zbohatnou, měl určit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ějaký úmysl- věřící se má jeho pokyny řídit a možnosti využí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kud věřící odmítne zbohatnout, zdráhá se být božím správce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Koncepce povolání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člověk má k nabytému majetku závazek- byl mu svěřen bož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los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s růstem majetku roste zodpovědnost při jeho spravován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abyté bohatství se nemá použít k rozmařilému životu, ale má bý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užito pro Boha, až o to požád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Dopad kalvinismu na hospodářské uspořádání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ůsledkem kalvinistické askeze a snahy po zisku byla ohromn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kumulace kapitál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pitálu se až do konce 18. století nedostáva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lvinisté se nesnažili dostat mezi šlechtu a neinvestovali peníz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půdy, ale do průmyslu a podíleli se na rozvoji finanční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luž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racionalizace a kvantifikace podnikání- změna zaměře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tematiky- nástroj kvantifik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ovlivnil podobu nově vznikajících demokratických států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ředevším USA- oddělení výkonné a zákonodárné mo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sah prezent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form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ztah kapitalismu a protestantství v díle Maxe Web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apitalistický d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ozdíly mezi kalvinismem a protestantství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oncepce povol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opad kalvinismu na hospodářské uspořád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lternativní pohled na vztah kapitalismu a nábožens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82400"/>
                </a:solidFill>
                <a:latin typeface="Times New Roman"/>
              </a:rPr>
              <a:t>Alternativní pohled na vztah kapitalismu a náboženství</a:t>
            </a:r>
            <a:endParaRPr b="0" lang="en-US" sz="2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ředstavuje ho Werner Somb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součastník Maxe Web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apitalistického ducha neformoval protestantismus, ale židovstv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ozmístění Židů po celé Evropě a zároveň jejich spojení vírou ji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umožnilo vytvořit síť obchodních spojen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ozvoj obchodu jim umožnil nové obchodní a finanční nástro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=&gt;ty zpětně ovlivňovali jejich úspěšnost=&gt; ze Židů se stali úspěš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finančníci a podnikatel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židovské náboženství u věřících vyvolává smysl pro dodržová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smluv- Židé ho chápou jako smlouvu s Hospodin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formace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významné hnutí evropských ději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14.- 16. stole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cíl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návrat církve k jejímu původnímu poslá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zbavení církve politického a ekonomického vliv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říčiny vzniku reformace: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sociální problémy=&gt; důsledek odklonění církve od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votního křesťanství=&gt; lidstvo směřu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k Poslednímu sou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úpadek církevních mravů+ neúspěšná snaha církve o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lastní náprav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naha církve o vlastní nápravu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řadoví kněží se snažili dodržovat Boží přikázá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hodnostáři se snažili o reformu= koncilní hnutí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čátek 15. stole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roblémy měly odstranit závěry přijaté na koncile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oncily tvořeny biskupy, hodnostáři, učen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roblém: je koncil nadřazený papeži nebo není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vní reform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eformátoři se snažili jen o nápravu církve, ne o vyčlenění a vzn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nové círk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John Wycliff- stát má zbavit církev politického a ekonomickéh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liv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Jan Hus, Jeroným Pražský- oslovily široké vrstvy obyvatelst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=&gt; vojenské prosazení =&gt; basilejské kompaktáty- 143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v Čechách a na Moravě mohly existovat dvě víry: katolictv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kališnictv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ěmecká reform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očátek- 15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duchovní otec: Martin Lu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řesťané mají žít v chudobě a odříkání a mají se řídit písm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svatý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stát má převzít majetek círk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řívrženci byli šlechtici i prostý lid=&gt; rozdělení na umírněné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radiká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adikálové vyvolali lidová povstání= německá selská vál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i přes jejich porážku další šíření reform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ěmecká reform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onec 20. let 16. století- říšský sněm ve Špýru- katolíci chtě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lačit reformaci hlasováním o správnosti myšlenek reformac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zastánci reformace byly proti- o teologických myšlenkách se ned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hlasovat=&gt; protestan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onec reformace: augsburkský náboženský mír- 1555=&gt; uznání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otestantského náboženstv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formace ve Švýcarsku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eformace se z Německa šířila do ostatních zemí, nejví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řívrženců našla ve Švýcars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Huldrich Zwingli- větší důraz na etickou stránku křesťana než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Luth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Jan Kalví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nejradikálnější reformační proud- kalvinism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důsledně etická náboženská soust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šíření po Evropě: Francie (hugenoti), Anglie (puritá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největší vliv- Severní Ameri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Vztah kapitalismu a protestantství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Max We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rotestanti mají větší podíl na vlastnictví kapitálu a na vyšší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upních řízení než jaký je jejich podíl na počtu obyvat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je potřeba kapitál, nákladné vzdělání nebo oboj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obdobná situace v 16. století- většina bohatých měst se přikloni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 protestantstv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&gt; proč jsou bohatí lidé potažmo města protestanti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odpověď- vnitřní povaha protestantství- sklon k ekonomické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cionalismu, který chybí u katolicis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4:38:48Z</dcterms:created>
  <dc:creator>I</dc:creator>
  <dc:description/>
  <dc:language>en-US</dc:language>
  <cp:lastModifiedBy>I</cp:lastModifiedBy>
  <dcterms:modified xsi:type="dcterms:W3CDTF">2007-07-04T16:40:30Z</dcterms:modified>
  <cp:revision>19</cp:revision>
  <dc:subject/>
  <dc:title>   </dc:title>
</cp:coreProperties>
</file>