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887-EE8A-4725-A722-44CA43D9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87C-D516-49F6-8A00-3A7EED78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281-E4FA-48D1-BC98-E400E678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DEC-81C6-4DF3-87E5-19275EEA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C9EF-7E82-452E-8BD7-BFF4D7B7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8367-1DED-45DF-ACC2-4ED8A37C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C7E2-D724-46B3-A8E3-B1629B69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0204-E75D-4F10-AD45-498DDA7A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4395-24DB-4B26-BBBC-333B2C9C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4903-FFED-4108-B910-7467F1A1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62F5-8642-4365-A43B-A44FEEBD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A72-E79D-41AB-917C-BEAE0B9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1104-0C85-4421-8D2C-F82FF2FF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F524-7A44-4FA5-8031-42E130F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8A47-D7EB-4E12-B813-E91FF9E2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EF41-7FAF-418A-8601-72C54487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CAD7-FAEE-4C0C-BF34-0BD3C9C8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C14-5B3E-409A-84B9-522E3141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218-000F-4722-9E09-EEB19BED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F0B-F4B9-43DC-B9E7-F75E3EB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451-DE60-4D84-95F2-B47792E1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ADE-451B-4EB7-B602-DE61C319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2AE-F586-4336-9C19-71E9949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29E-B5DF-4A72-9A71-15974088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80E3-1EE0-4DD4-89F6-A3F50BC4C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9B87-1367-4660-B150-925238F30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ecff"/>
                </a:solidFill>
                <a:latin typeface="Arial"/>
              </a:rPr>
              <a:t>Zrod a vývoj kapitalismu jako fenoménu industriální společnosti</a:t>
            </a: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eza Dostá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a Dvoř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áš Ur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50920" y="244440"/>
          <a:ext cx="8642160" cy="6191280"/>
        </p:xfrm>
        <a:graphic>
          <a:graphicData uri="http://schemas.openxmlformats.org/drawingml/2006/table">
            <a:tbl>
              <a:tblPr/>
              <a:tblGrid>
                <a:gridCol w="4332240"/>
                <a:gridCol w="43099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ictv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antism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dé rozdělení na kas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kturovaný život až po smr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ůležité, ve které třídě se člověk narod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ní struktura otevřená a pomíjivá, pohyb dolů i nahor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átosti jsou prostředky k získání milosti bož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ulování spasitelského působení círk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ík koná dobré skutky příležitostně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odčinění hříc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 jednotlivé dobré skutky, ale „trvale vysluhovaná svatost“ vystupňovaná v systé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mniš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svět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větská askeze → systematičnost, metodičnost → povol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žitečnost povolání se měří měřítkem mravním a měřítkem důležitosti produkovaných statků pro celek + měřítk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kromohospodářské výnosn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hatství je nepravost svádí-li k hříšným požitkům  x  je-li z povinnosti k povolání je mravně přípustné, ba přikázané →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kulace obchodníka na z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á účelnost, proti záměrům estetický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e k uniformitě životního stylu              →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izace výr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lon k buržoaznímu, hospodářsky racionálnímu pojetí živo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orie o „produktivitě“ nízkých mez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kud je lid v chudobě, zůstane poslušný Bo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rácení → spoření → invest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tředění n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izaci ve výrobě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růst produk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alizace výroby a minimalizace spotře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robě a spotřebě odebrán znak etické nadřazenosti, obchod získává důležité posta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definice vlastnictví (podpora obchod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vinismus byl významnou příčinou moderního tržního hospodářstv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sahování bohatstv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opravdovější přívrženci puritánského ducha: drobné měšťanstvo a farmáři  x   blažení majetníci ochotni zradit staré ideá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božnost plodí pracovitost i spořivost → růst bohatství → růst pýchy, vášně, světá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náboženství zůstává forma, ale obsah se vytrá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racení počáteční ducho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ůst konzu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é pracovní nasazení a sklon k úsporám zůst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íření vlivu „kalvinismu“ do zbytku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EBER, M. Protestantská etika a duch kapitalis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ITZ, W. G. Protestantská etika a tržní hospodářstv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studentf.jazzport.eu/Filosofie/anglikanska-cirkev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blisty.cz/art/20560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referaty-seminarky.cz/protest-a-protestantske-cirkve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ěkujeme za pozornost a přejeme krásný zbytek dne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n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a vývoj protestant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ol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t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mus v ekonom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tika dosahování bohat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znik a vývoj protestantism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dělil se od katolicismu v průběhu reformace v 16.století - Hus,Luther, Ca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družuje velké množství samostatných církví, sekt a denominací (luteránství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lvinismu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nglikánská církev, metodisté, baptisté, adventist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ídlování Ameri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ritáni v Nové Ang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čištění anglikánské církve od katoli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ugen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cházejí z kalvinismu, 200 tisíc uprchlíků z Francie za Ludvíka IV., část odešla do Amer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9246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dé rozdělení na kasty Bohem určené, až v nebi rovnocen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dnotlivé dobré skutky konané příležitostně a úmyslně → původci se připočítávali k věčnému os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kramentální milosti církve (kněz, pokání, rozhřeš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mnišs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um moci: církev a vlada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ezená vlastnická 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ákladní dogma: učení o predestin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zhodující pro věřícího je být v mi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ulace spasitelského působení církve a svát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 jednotlivé dobré skutky, ale „trvale vysluhovaná svatost“ vystupňovaná v syst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světská (ve světských povolání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viduální svobo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astnická práva možno smě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7:38:57Z</dcterms:created>
  <dc:creator>-</dc:creator>
  <dc:description/>
  <dc:language>en-US</dc:language>
  <cp:lastModifiedBy>-</cp:lastModifiedBy>
  <dcterms:modified xsi:type="dcterms:W3CDTF">2007-10-15T19:51:12Z</dcterms:modified>
  <cp:revision>20</cp:revision>
  <dc:subject/>
  <dc:title>Zrod a vývoj kapitalismu jako fenoménu industriální společnosti</dc:title>
</cp:coreProperties>
</file>