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B30F-8443-4682-85ED-06C61714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B47E-834B-4B90-904F-933609A2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DE78-BB6D-4BC6-9B6A-C57DBB40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C9ED-1103-4BAF-BE69-C7DA318FB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863A-AC1E-44B6-9A5A-D14F9A78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A9AF-F00B-45D1-9088-7C1DB1F8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96A5-6DD5-4997-BC30-55DA6AE0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BBDD-6298-4A08-A5A4-341BAF46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4C4E-81EA-4216-8FCC-47468827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AA7D-9AAB-45B2-A346-9C32C3FB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91F6-945C-4D06-B944-BFE0944E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1B9F-7FC9-43D0-902E-FCD7084D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7813-3FDD-4A7F-81CA-C461C70E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1541-76C8-4498-AB51-8DE1EC4C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6C7A-0EF1-4046-818D-32B0E9D4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5EE5-EEFF-412A-A220-4C769D0D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F257-DCB5-4112-ADAC-6021605E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E92A-A184-4AF0-B677-4F3CDA04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5CD5-025F-43C7-8D75-8EDC8A89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46A6-0FE4-48B8-8595-ADFAD9E9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BB74-35FE-4639-8817-4E0883E1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B7E2-6CAE-46A4-A6EA-5AB4AE08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3F0A-BC3C-4B54-BF19-8E63D74F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DAF9-071A-4985-BA18-6E225FEF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3BF5-5BB7-49D2-A76E-E3468A2344C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28F9-18EE-4E3A-87F5-9BD07E335DC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Instinkty, rozum a rozšířený řád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32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aniela Kroup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Zuzana Opěl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Zuzana Zavadilová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říklady z histor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Řeck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orální tradice, soukromé vlastnictví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Wingdings 2"/>
                <a:ea typeface="Wingdings 2"/>
              </a:rPr>
              <a:t>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parťané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Ří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oukromé práv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Čín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okrok během oslabení vládní kontrol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gypt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álie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ěmecko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zozemí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glie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 další…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55640" y="1413000"/>
            <a:ext cx="2519280" cy="12952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ritik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lných vlá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Vyvozené závě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328464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hrana odděleného vlastnictví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ozvoj směny služeb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utváření rozšířeného řá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de není vlastnictví, není spravedlnost.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3348000" y="1773000"/>
            <a:ext cx="1295280" cy="431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6360" y="1268280"/>
            <a:ext cx="4176720" cy="16560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Zneužívání moc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 omezování svobod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zšířený řá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á spontánní povahu =&gt; ne racionalita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měrné organizace v rámci makrořádu jsou také důležité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lodí i vyžaduje oddělené vlastnictví, svobodu a spravedl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bcho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moc při osídlování nových obla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klon od solidarity a kolektivismu malých skup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lečné praktiky, ale vědomosti i cíle různé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kážka: vláda a vysoce organizovaný stá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Útok na rozšířený řá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17. - 18. stol. – rozvoj konstruktivis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znání rozumu, neuznání trad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ean-Jacques Roussea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volal po osvobození se od pravide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vlastnictví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stalo podezřelý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ousseauovo myšlení – vliv na civilizaci až do 20. sto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orálk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le Hayeka zahrnuj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 zvláště instituce vlastnictví, svobody a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ravedl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ní výtvorem rozumu, ale výsledkem kulturní evolu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 intelektuálů 20. stol. však převládal opačný náz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20. století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30412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vládá vliv racionalismu, konstruktivis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ázor - morálka výtvorem lidského rozu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schopnost akceptovat trad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zdělaní začínají tíhnout k socialism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acques Mon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ohn Maynard Key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lbert Einste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ffff"/>
                </a:solidFill>
                <a:latin typeface="Tahoma"/>
              </a:rPr>
              <a:t>Základní pojmy myslitelů vzdělaných v duchu konstruktivismu</a:t>
            </a:r>
            <a:endParaRPr b="0" lang="en-US" sz="3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28440"/>
            <a:ext cx="777384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Racionalism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řijatelné pouze víry založené na zkušenosti, deduktivním či induktivním rozumovém zdůvodňov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Empirism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ůležitá je ověřitelná zkušen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Pozitivism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en vědecké poznání je pravdiv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Utilitarism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ritérium správnosti jednání je v potěšení a bolesti, jež působí člověku, který je jím ovlivně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4960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dchozí definice spojuje víra ve vědu a vyhlášení války morálním tradicí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ajdeme tam i tyto předpoklady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7160" indent="-40896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ržet se toho, co lze vědecky zdůvodnit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7160" indent="-40896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ní rozumné dodržovat to, co nechápem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7160" indent="-40896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ní rozumné sledovat urč. směr, pokud předem plně nespecifikujeme jeho cíl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7160" indent="-40896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dělat nic, pokud předem neznáme účinky a neověříme, že jsou prospěšn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zšířený řád a populační růs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ěkteří myslitelé 20. stol. tvrdí, že hrozbou pro rozšířený řád je populační rů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Wingdings 2"/>
                <a:ea typeface="Wingdings 2"/>
              </a:rPr>
              <a:t>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ayek naopak tvrdí, že je to socialismus. Tato náhrada tržního řádu nemůže lidstvo uživi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Instinkty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eneticky děděn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lé skupiny a tlup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olidarita a altruism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polečné cí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Co chtěl Hayek knihou říci…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kázat, že původ naší civilizace i její chování závisí na rozšířeném řádu lidské spolupráce (RŘ), tedy kapitalis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Ř není výsledkem lidského plánu, ale vznikl spontánně, díky nezamýšlenému přijetí mravních prakti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isté se mýlili, když tvrdili, že centrálně řízená společnost přinese větší bohatstv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ismus ohrožuje životní úroveň i sám život naší popu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Zdroj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Friedrich A. Hayek: Osudná domýšliv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Friedrich A. Hayek: Právo, zákonodárství a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     svoboda (Pravidla a řá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ttp://www.phil.muni.cz/fil/etika/texty/studenti/pacner5.ht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Děkujeme za pozornost!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Rozšířený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(spontánní) řá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získané návyky (učení se tradici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velké množství neznámých lid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becná pravidla chování (morálka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dividuální cí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zpor </a:t>
            </a: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instinktů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a morálk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341000"/>
            <a:ext cx="40384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TINK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roze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řád malých skupin (rodin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třeba konat dob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širší řád ohrožuj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219280" y="1341000"/>
            <a:ext cx="36003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RÁL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učen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omezené skupiny (rozšířený řá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utnost dodržovat pravid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 intimní skupiny nevhodn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522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dinec nerozumí fungování omezení, kterým se podřizuje a která mu zakazují jednat podle instinktů a zpravidla tato omezení nenávi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780000" y="1773360"/>
            <a:ext cx="1008000" cy="20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80000" y="1773360"/>
            <a:ext cx="1152360" cy="20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Rozum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získaný stejně jako morál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e výsledkem učení se tradic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estojí nad morálkou a tradicí, naopak morálka a tradice stojí mezi instinktem a rozumem jak logicky, psychologicky tak i časov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iologická a kulturní evoluc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4248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iologická evolu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ekce jednotlivc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ědič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mal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59280" y="2060280"/>
            <a:ext cx="40384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kulturní evolu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upinová selek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lastnosti získané uče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srovnatelně rychlejš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řirozené x umělé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ayek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irozené = vzniklé nezávisle na lidské vů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mělé = vzniklé cílevědomou činno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ulturní evoluce je tedy přirozená (produkuje řád jako vedlejší produkt lidského koná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3960000" y="2169000"/>
            <a:ext cx="1008000" cy="3527280"/>
          </a:xfrm>
          <a:custGeom>
            <a:avLst/>
            <a:gdLst>
              <a:gd name="textAreaLeft" fmla="*/ 157320 w 1008000"/>
              <a:gd name="textAreaRight" fmla="*/ 736920 w 1008000"/>
              <a:gd name="textAreaTop" fmla="*/ 947520 h 3527280"/>
              <a:gd name="textAreaBottom" fmla="*/ 2579760 h 3527280"/>
            </a:gdLst>
            <a:ahLst/>
            <a:rect l="textAreaLeft" t="textAreaTop" r="textAreaRight" b="textAreaBottom"/>
            <a:pathLst>
              <a:path w="21600" h="21600">
                <a:moveTo>
                  <a:pt x="3375" y="5803"/>
                </a:moveTo>
                <a:lnTo>
                  <a:pt x="9039" y="5803"/>
                </a:lnTo>
                <a:lnTo>
                  <a:pt x="9039" y="0"/>
                </a:lnTo>
                <a:lnTo>
                  <a:pt x="21600" y="10800"/>
                </a:lnTo>
                <a:lnTo>
                  <a:pt x="9039" y="21600"/>
                </a:lnTo>
                <a:lnTo>
                  <a:pt x="9039" y="15797"/>
                </a:lnTo>
                <a:lnTo>
                  <a:pt x="3375" y="15797"/>
                </a:lnTo>
                <a:close/>
              </a:path>
              <a:path w="21600" h="21600">
                <a:moveTo>
                  <a:pt x="0" y="5803"/>
                </a:moveTo>
                <a:lnTo>
                  <a:pt x="675" y="5803"/>
                </a:lnTo>
                <a:lnTo>
                  <a:pt x="675" y="15797"/>
                </a:lnTo>
                <a:lnTo>
                  <a:pt x="0" y="15797"/>
                </a:lnTo>
                <a:close/>
              </a:path>
              <a:path w="21600" h="21600">
                <a:moveTo>
                  <a:pt x="1350" y="5803"/>
                </a:moveTo>
                <a:lnTo>
                  <a:pt x="2700" y="5803"/>
                </a:lnTo>
                <a:lnTo>
                  <a:pt x="2700" y="15797"/>
                </a:lnTo>
                <a:lnTo>
                  <a:pt x="1350" y="15797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Svoboda, vlastnictví, spravedlnost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álka a tradice                 hlavní rozvoj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koliv inteligence a kalkulující rozum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řád               soukromé záměr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dělené vlastnictví                 svobo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á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356000" y="1773360"/>
            <a:ext cx="1008000" cy="215640"/>
          </a:xfrm>
          <a:prstGeom prst="rightArrow">
            <a:avLst>
              <a:gd name="adj1" fmla="val 50000"/>
              <a:gd name="adj2" fmla="val 116861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3284640"/>
            <a:ext cx="1297080" cy="28728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88000" y="3357720"/>
            <a:ext cx="1297080" cy="28728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16360" y="3860640"/>
            <a:ext cx="1297080" cy="28764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4104360" y="4543560"/>
            <a:ext cx="934920" cy="1873440"/>
          </a:xfrm>
          <a:custGeom>
            <a:avLst/>
            <a:gdLst>
              <a:gd name="textAreaLeft" fmla="*/ 92520 w 934920"/>
              <a:gd name="textAreaRight" fmla="*/ 842400 w 934920"/>
              <a:gd name="textAreaTop" fmla="*/ 609480 h 1873440"/>
              <a:gd name="textAreaBottom" fmla="*/ 1263960 h 1873440"/>
            </a:gdLst>
            <a:ahLst/>
            <a:rect l="textAreaLeft" t="textAreaTop" r="textAreaRight" b="textAreaBottom"/>
            <a:pathLst>
              <a:path w="21600" h="21600">
                <a:moveTo>
                  <a:pt x="0" y="7028"/>
                </a:moveTo>
                <a:lnTo>
                  <a:pt x="15475" y="7028"/>
                </a:lnTo>
                <a:lnTo>
                  <a:pt x="15475" y="0"/>
                </a:lnTo>
                <a:lnTo>
                  <a:pt x="21600" y="10800"/>
                </a:lnTo>
                <a:lnTo>
                  <a:pt x="15475" y="21600"/>
                </a:lnTo>
                <a:lnTo>
                  <a:pt x="15475" y="14572"/>
                </a:lnTo>
                <a:lnTo>
                  <a:pt x="0" y="14572"/>
                </a:lnTo>
                <a:lnTo>
                  <a:pt x="2139" y="10800"/>
                </a:lnTo>
                <a:lnTo>
                  <a:pt x="0" y="7028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4319640" y="297000"/>
            <a:ext cx="503280" cy="8640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225000 h 8640720"/>
              <a:gd name="textAreaBottom" fmla="*/ 8415720 h 864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ccffff"/>
                </a:solidFill>
                <a:latin typeface="Tahoma"/>
              </a:rPr>
              <a:t>Friedrich A. Hayek: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 přece se jaksi, byť pomalu a s řadou nezdarů, rozšiřovala uspořádaná kooperace větších společenství a společné konkrétní cíle byly nahrazovány obecnými, na cíli nezávislými abstraktními pravidly jednání.“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5:03:48Z</dcterms:created>
  <dc:creator>Danka</dc:creator>
  <dc:description/>
  <dc:language>en-US</dc:language>
  <cp:lastModifiedBy>Zuzka</cp:lastModifiedBy>
  <dcterms:modified xsi:type="dcterms:W3CDTF">2007-10-08T20:36:50Z</dcterms:modified>
  <cp:revision>13</cp:revision>
  <dc:subject/>
  <dc:title>Instinkty, rozum a rozšířený řád</dc:title>
</cp:coreProperties>
</file>