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BF34-F08F-48A5-BABF-A71F7C78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B4B7-4F97-4E7E-A37A-ECBE1702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1007-B60D-4658-B827-3CDF8C28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F95A-E650-42BB-A9F2-B5DC0542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3398-C1D7-4729-810B-B651D980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E33B-2F67-4A16-81A2-EBF0F0E6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AEBC-C40F-47BB-9743-33538CBC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AD4E-1EF0-42B2-96BE-92D95B70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C409-B01D-4E88-9EA3-FEAC5BBC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6805-4D5C-44BC-891D-C48F3C1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9B4F-3D78-4738-8A44-79AA69FD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CE76-7D65-4BD4-8F63-54BF74AB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798B-675C-47F7-A7A4-9F3960FC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01A8-6E58-4A19-B5D7-2754030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6D27-5500-4A28-8382-B1B682B2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F41E-1B43-4BB8-B8AE-2C718793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0B7A-625B-4CCC-9827-27746F76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BD3C-D6B6-4920-AC34-F56C107E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38ED-E8AA-4868-9A6E-14AA8210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EEAA-8511-426B-8CED-9FAC85B8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DA63-635B-4E81-929D-9DAF6285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13B7-47EC-4ABC-93DB-979B05CE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C700-BDD2-49CB-9FB4-082381B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C676-7F98-41E3-81EE-80A2831E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1985-EC36-45CC-A3A6-23EB4165CD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2043-FC8D-4DA7-8CD1-6594A660DC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řetí vlna a její důsled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rel Pospíši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adislav Šim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Stret socializmu s budúcnosťo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nalógia nástupu kníhtlače a nových komunikačných médií – vplyv na spoločnos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čítače a komunikácia – dôležitý faktor pádu socializ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etia vlna a jej vplyv na 3 základné piliere socializmu – kolektívne vlastníctvo, centrálne plánovanie a dôraz na materiálnu výrob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Tretia vlna a socializm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ozdiel v toku informácií – kapitalizmus vs. socializ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stoj socializmu k duševnej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313440" cy="29178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940360" y="3357720"/>
            <a:ext cx="1973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Stret voličstie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Chaos západnej civilizác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ozdelenie voličov na dva táb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oj o minulosť - rigidita a lobby druhej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2195640" y="3357720"/>
            <a:ext cx="4744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Voličstvo zajtrajšk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stup druhej vl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masifikácia spoločnosti tretej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aňový a účtový systém – jednotiace t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5715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Dolarový kapitál byl nahrazen lidský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kapitálem. Michael Mil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eníze se pohybují rychlostí světl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informace se musí pohybovat rychlej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errill Ly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ummary první a druhé vln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Motyka srdcová bez násady&#10;Kliknutím zobrazíte detail obrázku."/>
          <p:cNvPicPr/>
          <p:nvPr/>
        </p:nvPicPr>
        <p:blipFill>
          <a:blip r:embed="rId1"/>
          <a:stretch/>
        </p:blipFill>
        <p:spPr>
          <a:xfrm>
            <a:off x="971640" y="2133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Linka pro testování a laserový potisk"/>
          <p:cNvPicPr/>
          <p:nvPr/>
        </p:nvPicPr>
        <p:blipFill>
          <a:blip r:embed="rId2"/>
          <a:stretch/>
        </p:blipFill>
        <p:spPr>
          <a:xfrm>
            <a:off x="4643280" y="2205000"/>
            <a:ext cx="3048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řetí vl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elné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techn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instit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ěny v podnicí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še jako kvantový skok vyvoláva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 "/>
          <p:cNvPicPr/>
          <p:nvPr/>
        </p:nvPicPr>
        <p:blipFill>
          <a:blip r:embed="rId5"/>
          <a:stretch/>
        </p:blipFill>
        <p:spPr>
          <a:xfrm>
            <a:off x="5292720" y="1557360"/>
            <a:ext cx="2857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, informace a poznán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n shromažďování, ale také dávání do souvislostí a kontex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, data mining, O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technologie, substituce materiálů, nový logistický přístup, staronové pojetí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nání nahrazuje kapitá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ho se třetí vlna týká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ní faktory – pozn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motné hodnoty – získávání a aplikace poznatků (management znalost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masifikace – customizace, digitalizace médií, direct maily,C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– potřeba kvalifikovaných lidí, rekvalifikace, soukromé VŠ, personální agent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ce – nové koncepty, TQM, KAI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řítko – autonomní pracovní týmy, spin-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ganizace – nové struktury, nové typy podniků (joint-venture, holdingy), orientace na proce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stémová integrace a infrastruktura prostřednictvím elektronické komunik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rychlení – ne úspory z rozsahu, ale úspory z rychlosti, assesm. cent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Boli sme hádam poslední, ktorí pochopili, že vo veku informatiky je tým najnákladnejším aktívom poznanie.“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Gorbač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Tretia vlna a nezamestnanosť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ová podoba nezamestnanosti – koniec zameniteľnosti pracovní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možnosť stimulovať zamestnanosť keynesiánskymi a monetaristickými prostriedk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esun od kvantitatívnej ku kvalitatívnej zamestnanosti – stimulácia cez alokáciu pozna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Spektrum duševnej prá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staralosť tradičného delenia na sektory a nové prístupy zoskupovania zamestna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ánik čisto manuálnej práce – vznik „kognitariátu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soko intelektuálne vs. neintelektuálne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esun skutočnej hodnoty výrob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3:47:08Z</dcterms:created>
  <dc:creator>Vrbkovi</dc:creator>
  <dc:description/>
  <dc:language>en-US</dc:language>
  <cp:lastModifiedBy>Vena</cp:lastModifiedBy>
  <dcterms:modified xsi:type="dcterms:W3CDTF">2007-10-13T13:24:19Z</dcterms:modified>
  <cp:revision>5</cp:revision>
  <dc:subject/>
  <dc:title>Třetí vlna a její důsledky</dc:title>
</cp:coreProperties>
</file>