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2578-DFBD-4D83-8561-9588DAFCA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2895120"/>
            <a:ext cx="883944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4191120"/>
            <a:ext cx="883944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280" y="4668840"/>
            <a:ext cx="883944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6B42-59D9-4499-8840-45C53929B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2895120"/>
            <a:ext cx="883944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280" y="4191120"/>
            <a:ext cx="43135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800" y="4191120"/>
            <a:ext cx="43135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280" y="4668840"/>
            <a:ext cx="43135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800" y="4668840"/>
            <a:ext cx="43135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D74A-25A2-4B16-BFEC-71B348A6D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2895120"/>
            <a:ext cx="883944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280" y="4191120"/>
            <a:ext cx="284616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1000" y="4191120"/>
            <a:ext cx="284616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30080" y="4191120"/>
            <a:ext cx="284616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280" y="4668840"/>
            <a:ext cx="284616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1000" y="4668840"/>
            <a:ext cx="284616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30080" y="4668840"/>
            <a:ext cx="284616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68CF-A711-4C5D-A376-6FCE17E60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470E0-D14A-40C7-A601-BE647F1EB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2895120"/>
            <a:ext cx="883944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280" y="419112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B3B19-5959-4E62-B131-2277CE0BC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2895120"/>
            <a:ext cx="883944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280" y="419112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54A44-BF17-4005-93AD-C407C1A2E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2895120"/>
            <a:ext cx="883944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280" y="4191120"/>
            <a:ext cx="43135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800" y="4191120"/>
            <a:ext cx="43135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5284F-8CF8-4F16-ABB5-C3AB47D2A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2895120"/>
            <a:ext cx="883944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C44E9-2A53-4ED1-81BB-40961D5D3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280" y="2895120"/>
            <a:ext cx="8839440" cy="60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0B938-FA84-4DA6-8720-54727BF91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2895120"/>
            <a:ext cx="883944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280" y="4191120"/>
            <a:ext cx="43135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800" y="4191120"/>
            <a:ext cx="43135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280" y="4668840"/>
            <a:ext cx="43135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2D4B0-9F0E-42D1-8878-145FB88D8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280" y="2895120"/>
            <a:ext cx="883944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280" y="419112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032B-7CC7-452F-938E-3A3943F8C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2895120"/>
            <a:ext cx="883944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280" y="4191120"/>
            <a:ext cx="43135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800" y="4191120"/>
            <a:ext cx="43135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800" y="4668840"/>
            <a:ext cx="43135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F7835-6CE1-4CFF-ADCA-3F7D3B7EF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2895120"/>
            <a:ext cx="883944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280" y="4191120"/>
            <a:ext cx="43135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800" y="4191120"/>
            <a:ext cx="43135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280" y="4668840"/>
            <a:ext cx="883944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4FE8B-569D-4B5E-9DCA-62076D54A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2895120"/>
            <a:ext cx="883944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280" y="4191120"/>
            <a:ext cx="883944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280" y="4668840"/>
            <a:ext cx="883944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2EE78-F6D7-409D-A496-2A722E19C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2895120"/>
            <a:ext cx="883944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280" y="4191120"/>
            <a:ext cx="43135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800" y="4191120"/>
            <a:ext cx="43135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280" y="4668840"/>
            <a:ext cx="43135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800" y="4668840"/>
            <a:ext cx="43135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5DE79-7526-401A-9BF3-1233567D1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2895120"/>
            <a:ext cx="883944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280" y="4191120"/>
            <a:ext cx="284616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41000" y="4191120"/>
            <a:ext cx="284616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30080" y="4191120"/>
            <a:ext cx="284616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280" y="4668840"/>
            <a:ext cx="284616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41000" y="4668840"/>
            <a:ext cx="284616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30080" y="4668840"/>
            <a:ext cx="284616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D94A7-C533-4B03-8A99-EE8894C5E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280" y="2895120"/>
            <a:ext cx="883944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280" y="419112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392A-D061-406E-AAEA-C0A015291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2895120"/>
            <a:ext cx="883944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4191120"/>
            <a:ext cx="43135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800" y="4191120"/>
            <a:ext cx="43135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88F2-C8BA-4086-A80B-8F656AA5C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2895120"/>
            <a:ext cx="883944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193C-B30F-40FD-A17A-6C20B8E6D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280" y="2895120"/>
            <a:ext cx="8839440" cy="60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DE3C-C1A3-41F3-B896-0CB80D82D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2895120"/>
            <a:ext cx="883944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280" y="4191120"/>
            <a:ext cx="43135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800" y="4191120"/>
            <a:ext cx="43135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280" y="4668840"/>
            <a:ext cx="43135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7007-403B-42CE-B06A-C009C7D5F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2895120"/>
            <a:ext cx="883944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4191120"/>
            <a:ext cx="43135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4191120"/>
            <a:ext cx="43135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800" y="4668840"/>
            <a:ext cx="43135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7CBA-1D44-497B-8C24-46CB59ED8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2895120"/>
            <a:ext cx="883944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4191120"/>
            <a:ext cx="43135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4191120"/>
            <a:ext cx="43135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280" y="4668840"/>
            <a:ext cx="883944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2588-4F8D-4AA0-A299-D82F4AD78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176FD-BF99-4E61-8680-B98CBE55AB6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2895120"/>
            <a:ext cx="883944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13678-69C1-4FD4-BC40-73E51165AF6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3068640"/>
            <a:ext cx="91440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cs-CZ" sz="5000" spc="-1" strike="noStrike">
                <a:solidFill>
                  <a:srgbClr val="000000"/>
                </a:solidFill>
                <a:latin typeface="Arial"/>
              </a:rPr>
              <a:t>Přirozený a umělý řád</a:t>
            </a:r>
            <a:r>
              <a:rPr b="1" lang="en-GB" sz="5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364000" y="5373720"/>
            <a:ext cx="320544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ereza Nečasová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áclav Řezníče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artin Prokeš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484280"/>
            <a:ext cx="91440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Times New Roman"/>
              </a:rPr>
              <a:t>Management I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re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zentace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Hra katallaxe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možňuje každému hráči uspokojovat potřeby, které nez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římé informace získávány pomocí c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isk vede v tržním řádu k uspokojování potřeb, které sami nevidí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500"/>
                            </p:stCondLst>
                            <p:childTnLst>
                              <p:par>
                                <p:cTn id="34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000"/>
                            </p:stCondLst>
                            <p:childTnLst>
                              <p:par>
                                <p:cTn id="34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200" spc="-1" strike="noStrike">
                <a:solidFill>
                  <a:srgbClr val="000000"/>
                </a:solidFill>
                <a:latin typeface="Arial"/>
              </a:rPr>
              <a:t>Návaznost na ekonomické teori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orizont katallaktických možností = Hranice výrobních možn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ndiferenční křivka (komplementy a substitu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ovnováha trh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500"/>
                            </p:stCondLst>
                            <p:childTnLst>
                              <p:par>
                                <p:cTn id="36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000"/>
                            </p:stCondLst>
                            <p:childTnLst>
                              <p:par>
                                <p:cTn id="37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Organizace moderních civilizací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lasický příklad umělého řád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LE … zavedením umělého řádu za účelem řízení určité organizace není možné potlačit řád přirozen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jakékoli větší skupině lidí bude spolupráce vždycky spočívat jak na spontánním řádu, tak na uvědomělé organiza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utná koexistence řád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třeba rovnováhy mezi řá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000"/>
                            </p:stCondLst>
                            <p:childTnLst>
                              <p:par>
                                <p:cTn id="38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500"/>
                            </p:stCondLst>
                            <p:childTnLst>
                              <p:par>
                                <p:cTn id="39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000"/>
                            </p:stCondLst>
                            <p:childTnLst>
                              <p:par>
                                <p:cTn id="40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2500"/>
                            </p:stCondLst>
                            <p:childTnLst>
                              <p:par>
                                <p:cTn id="40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3000"/>
                            </p:stCondLst>
                            <p:childTnLst>
                              <p:par>
                                <p:cTn id="41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Organizace – pravidla a příkazy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rganizace je tvořen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ecifickými příkazy - udávají účel, funkci, smě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avidl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řád) - plní účel, „jak co provést“, tvořen znalostmi lid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avidla mohou být chápána v podřízeném postavení k příkazům … ALE …  platí, že čím složitější organizace je, tím důležitější roli hrají pravidla nad specifickými příkaz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500"/>
                            </p:stCondLst>
                            <p:childTnLst>
                              <p:par>
                                <p:cTn id="44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Organizace – zajištění řádu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utnost přihlédnutí k lidskému faktor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dé se řídí spíše pravidly než specifickými příkazy, je proto lepší doplňovat pravidla, než vysílat více specifických příkaz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rganizátor si musí přát, aby jednotlivci, kteří mají spolupracovat, využívali znalostí, jež on sám nem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Členové musejí sledovat stanovená pravidla v určitém rámci (není třeba, aby všichni reagovali na dané situace stejně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000"/>
                            </p:stCondLst>
                            <p:childTnLst>
                              <p:par>
                                <p:cTn id="45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500"/>
                            </p:stCondLst>
                            <p:childTnLst>
                              <p:par>
                                <p:cTn id="46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2000"/>
                            </p:stCondLst>
                            <p:childTnLst>
                              <p:par>
                                <p:cTn id="47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2500"/>
                            </p:stCondLst>
                            <p:childTnLst>
                              <p:par>
                                <p:cTn id="47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avidla k zajištění „celkového řádu“ organiza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57780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ávní pravidla, forma vymezení bariér, donucení (pracovní smlouv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57780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pel na podnikovou kultu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Organizace – zajištění řádu II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000"/>
                            </p:stCondLst>
                            <p:childTnLst>
                              <p:par>
                                <p:cTn id="49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1500"/>
                            </p:stCondLst>
                            <p:childTnLst>
                              <p:par>
                                <p:cTn id="49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2000"/>
                            </p:stCondLst>
                            <p:childTnLst>
                              <p:par>
                                <p:cTn id="50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035000" indent="-5778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át (vláda) jako organizace se specifickým postavením má dvě funk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84520" indent="-41292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sazení pravidel a udržení řádu společnosti ve funkční struktuře (donucovací pravomoci, udává mantine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84520" indent="-41292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ráva zdroj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9280" y="189000"/>
            <a:ext cx="86868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Organizace - stá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0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000"/>
                            </p:stCondLst>
                            <p:childTnLst>
                              <p:par>
                                <p:cTn id="51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1500"/>
                            </p:stCondLst>
                            <p:childTnLst>
                              <p:par>
                                <p:cTn id="52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2000"/>
                            </p:stCondLst>
                            <p:childTnLst>
                              <p:par>
                                <p:cTn id="53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. A. Hayek (1991): „Právo, zákonodárství a svoboda“, Academia Pra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ějiny ekonomických teorií“, Ústav ekonomie Provozně ekonomické fakulty MZLU v Brn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Šťastný, M. (1999): „Obhajoba svobody, demokracie, spravedlnosti a spontánního řádu v díle F.A. Hayeka“, Electronic Journal for Phylosoph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0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1000"/>
                            </p:stCondLst>
                            <p:childTnLst>
                              <p:par>
                                <p:cTn id="54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1500"/>
                            </p:stCondLst>
                            <p:childTnLst>
                              <p:par>
                                <p:cTn id="55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5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280" y="3428640"/>
            <a:ext cx="837072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Děkujeme za pozornost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Definice řádu I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Struktura, systém, vzorec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hybně interpretováno jako „uvědomělé uspořádání někým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av věcí, ve kterém se velký počet prvků různých druhů má k sobě navzájem tak, že znalost určité časové či prostorové části celku nám umožňuje vytvářet správná očekávání týkající se zbyt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Definice řádu II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tvořen procesem evol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vořen pravidly (nemusí být znám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bsah pravidel může být v jednotlivých řádech odlišný, ale druhy pravidel se neměn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lastnosti řád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spořáda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avidel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ávisl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oper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třeba řádu v lidské společ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500"/>
                            </p:stCondLst>
                            <p:childTnLst>
                              <p:par>
                                <p:cTn id="7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500"/>
                            </p:stCondLst>
                            <p:childTnLst>
                              <p:par>
                                <p:cTn id="10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8680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Přirozený vs. umělý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irozený objekt vznikl a existuje nezávisle na lidském jednání (tradiční pojetí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plnění Haykem - … nezávisle na lidském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 vědomém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jedn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mělý objekt vznikl a existuje díky vědomému lidskému jedn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mělé“ vychází z “přirozeného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500"/>
                            </p:stCondLst>
                            <p:childTnLst>
                              <p:par>
                                <p:cTn id="14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Přirozený řád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Vyrostlý, spontánní, endogenní, sebeorganizující, sebeutvářející, kos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avidla přirozeného řádu jsou na účelu nezávislá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šší stupeň uspořádanos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ayek: kromě „čistě přírodních řádů“ také jazyk, morálka, náboženství, zvyky, obyčeje,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trh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, peníze, demokrac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hé oblasti přirozených řádů není možné řídit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omezení sil tvořících přirozený řád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835280" y="6165720"/>
            <a:ext cx="504720" cy="287640"/>
          </a:xfrm>
          <a:prstGeom prst="rightArrow">
            <a:avLst>
              <a:gd name="adj1" fmla="val 50000"/>
              <a:gd name="adj2" fmla="val 43867"/>
            </a:avLst>
          </a:prstGeom>
          <a:solidFill>
            <a:srgbClr val="93d59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500"/>
                            </p:stCondLst>
                            <p:childTnLst>
                              <p:par>
                                <p:cTn id="17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86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Umělý řád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50920" y="18288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Vytvořený, exogenní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last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ednoduchost (ve smyslu nižší složitost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nkrétno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elnost  (uspokojování lidských potře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hraničeno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Organizac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moderních civilizací, právo (normativní zákony), hospodářství řízené státem, autoritativní systém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9647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r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žní řád – KATALLAX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920" y="18288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ce katallaxe a její odlišení od ekonomi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ržní řád jako spontánní řá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írový řád přinášející soulad mezi očekáváními různých lid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ináší změn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500"/>
                            </p:stCondLst>
                            <p:childTnLst>
                              <p:par>
                                <p:cTn id="25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Tržní řád ve velké společnosti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91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ináší poznatek, že lidé mohou žít pohromadě a přinášet si užitek, aniž se dohodnou na konkrétních záměr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ůzné prostředky mohou být použity k různým účelů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Čím více se potřeby lidí ve společnosti liší, tím je větší pravděpodobnost, že změna přinese užit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500"/>
                            </p:stCondLst>
                            <p:childTnLst>
                              <p:par>
                                <p:cTn id="28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200" spc="-1" strike="noStrike">
                <a:solidFill>
                  <a:srgbClr val="000000"/>
                </a:solidFill>
                <a:latin typeface="Arial"/>
              </a:rPr>
              <a:t>Ekonomické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cs-CZ" sz="4200" spc="-1" strike="noStrike">
                <a:solidFill>
                  <a:srgbClr val="000000"/>
                </a:solidFill>
                <a:latin typeface="Arial"/>
              </a:rPr>
              <a:t>Katallaktické vztah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ho lidí si je přes jejich význam nepřipouš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ěžko se dá popřít, že to, co drží velkou společnost pohromadě, jsou „pouta peněz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atallaktické vztahy fungují na principu rozdíl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500"/>
                            </p:stCondLst>
                            <p:childTnLst>
                              <p:par>
                                <p:cTn id="31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2000"/>
                            </p:stCondLst>
                            <p:childTnLst>
                              <p:par>
                                <p:cTn id="32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8T13:31:14Z</dcterms:created>
  <dc:creator>Terka</dc:creator>
  <dc:description/>
  <cp:keywords/>
  <dc:language>en-US</dc:language>
  <cp:lastModifiedBy>99515</cp:lastModifiedBy>
  <dcterms:modified xsi:type="dcterms:W3CDTF">2007-10-06T09:18:59Z</dcterms:modified>
  <cp:revision>52</cp:revision>
  <dc:subject/>
  <dc:title>“Identify some of the general issues that managers need to consider in developing the appropriate organisational structure”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001029</vt:lpwstr>
  </property>
</Properties>
</file>