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93A-9106-4C40-926E-2A7891CC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416736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328-7B29-49D6-ADD0-7FEE694A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9452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A70-B2ED-4829-8C97-05A904FA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8592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8592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CD02-A84F-47BA-AC2E-173916E0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D9EC-613C-415D-81BB-E39B86A2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3F29-9CC5-4326-84D6-4BA6B769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F0FF-04B5-41BA-A7E7-A2784F46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76BB-372B-4405-824F-C95B9480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B01B-2ECD-4F44-919E-DD53BDDC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47920" y="617040"/>
            <a:ext cx="749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259E-3CE7-4C60-89A4-7AE5B1C3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6867-F92F-4344-99BB-8A272E79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95A-FD99-485F-B2A9-6AAF72FD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9452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BC28-8C46-46A9-ABE0-2C669493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7934-7E34-498B-8EF2-B21B0921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47560" y="416736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2E26-80D5-4B00-B7B5-1CD88B6C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9452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DCB9-28CF-492F-A2A5-5ED15A01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8592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44756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98592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87F7-13CB-412E-8E46-07E4B9A4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1F7-56CB-439D-97A3-0DD202CA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924-F8FA-4B6D-A2A5-2C3C6416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DA5-A4EA-4FDD-938E-F3E2FA36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47920" y="617040"/>
            <a:ext cx="749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C41-DBAF-4C22-8BC0-7736A5BD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32F4-B5DA-404F-B6F9-CDCC5692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9452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A6A-F110-4B42-A3DB-197E82AC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F68-C2CE-4CE1-B731-CF045B5B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57F5-CCDC-49DB-840B-7034E03959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9DCF-EAAE-4475-B72B-93D4882D2E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98360"/>
            <a:ext cx="7772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oluce jako hra s nenulovým souč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76723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ristína Izrae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arie Vachk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lena Drášilová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manažéri =&gt; riadia a vnášajú do podniku „harmóniu“ (leadership) =&gt; lepšia interakcia (organizácia) =&gt; prosperita („nenulovosť“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oluce organism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ako výsledek tisíce milionů let evoluce si začíná vesmír uvědomovat sám sebe.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ulian Huxl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my a kul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evoluce organismů – uplatňuje se stejná souhra sil s nulovým a nenulovým součtem jako při kulturní evoluci, dochází k narůstání nenulovosti – tím pádem narůstá hloubka a rozsah složit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le Wrighta bylo velice pravděpodobné, že vývoj dovede organismy až k takové složitosti a inteligenci, že nakonec umožní vývoj kultury, který bude přirozeným pokračováním směřování evoluce k větší složit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trop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věta termodynamiky: entropie roste, uspořádání se rozpad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smy – udržují a zvyšují svou složitost, entropie v nich neros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 uchování/rozvoj složitosti je potřeba informa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iditelná ruka trhu – závislá na neviditelném mozku, jedním z hlavních trendů kulturní evoluce je postupný nárůst schopnosti zpracovávat, ukládat a hodnotit úd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lturní informace – vytvořeny k tomu aby chránily genetické inform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zestup biologické nenulov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 hlediska darwinismu jsou živé organismy navrženy tak, aby předaly své geny následujícím pokolením – v jejich zájmu je rozšiřovat svoje ge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va živé organismy, které mohou vzájemně  posílit své vyhlídky na přežití se nacházejí v situaci s nenulovým součtem, když jsou jejich zájmy protichůdné,v situaci s nulovým souč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logická evoluce – trvalé zdokonalování nenulových vztah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nohobuněčné organis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zájmu jedné buňky je šíření její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kud má jiná buňka identickou DNA, jejich zájmy jsou shodné. Této buňce potom nevadí spáchat sebevraždu, pokud je to v zájmu první buňky – mají mezi sebou nenulový vzt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ruismus mezi sourozenci – mají podobnou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nulové vztahy vychází z nulových vztah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íř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átelství mezi lidmi – nenulové vzta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ývoj složit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uk prskavec a sku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yž se změní prostředí, musí se přizpůsobit i organismy, jinak zahy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kud myslíme prostředím krajinu, počasí, nestává se složitějš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tředím organismů jsou ale i jiné organis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yž se tyto organismy stanou složitějšími, musí na to reagovat i jiné organismy, také se stanou složitějšími, na což reagují první organismy atd.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zitivní zpětná vazba – vývoj složitosti posiluje důvody ke vzniku složitosti, která posiluj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voj inteligentních bytost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ávody ve zbroj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izpůsobivé chování je výhod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ůst inteligence = růst přizpůsobiv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ývoj inteligentních bytostí byl pravděpodobn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skalá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ys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evoluce vytrvale sleduje cíl při různých podmínkách za pomoci zpracování informac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tváření složitějšího života, mj. růst intelig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hospodářství – růst nenulov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trácí se prostorově dané vztahy s nulovým souč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ste celková velikost společnosti – počet lidí, se kterými je jedinec propoj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 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elý svět se může stát jakoby jediným městem a může se těšit tomu nejlepšímu zřízení, totiž demokracii.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ilón Alexandrijský (20 př.n.l.-50 n.l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Teória hi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úma výber optimálnej stratégie, ak náklady a výnosy jednotlivých stratégií závisia na jednaní iných hráčov (interakc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on Neuman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Morgenstern v 194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entrum vývoja teórie – RAND Corporation (nukleárne stratégi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H dnes aplikovaná v mnohých oblastiach (vrátane ekonómi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ztah mezi člověkem a přírodo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 jakém principu v současné době fungují vztahy mezi člověkem a přírodou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hou spolu existovat člověk a příroda na principu nenulového součtu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okud ano, existují pro to ekonomická pravidl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řírodní kapitalism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aul Haw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mory Lov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L Hunter Lovinsov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„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řírodní kapitalismus v podstatě neoddiskutovatelným způsobem prokazuje, že jsou dnes k dispozici nebo na blízkém obzoru technologie, které nám umožní zbohatnout ne tím, že budeme životní prostředí znečišťovat, ale že ho budeme očišťovat.“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Bill Clin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líčové problé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ňový systé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ušální daně x procesní daně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tační systém – „perverzní dotace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tace „špinavých“ odvětv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ěmecko – Porúř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lharsko –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b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pravní výstav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říklady možných řešení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arovnání“ trhů pokřivených špatně zaměřenými daněm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kazování skutečné ceny výrobních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faktorů včetně přírodního kapit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anění procesů místo pauš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rušení perverzních dotací do neproduktivních a nerentabilních odvětv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esun kapitálu k čistším zdrojů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un k logickému využívání pů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Zavedení nového regulačního systému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ň z odpa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pora recyklace odpadů, použitých výrobk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urov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užití nových úspornějších výrobních postup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šetření materiá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sní poukáz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esná kontrola vyprodukovaných emis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žnost obcho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ychlejší zavádění vyspělejších technologi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dpora vědy a výzkumu v oblasti hledání nových alternativních zdroj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do vyhraj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životní prostředí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éně odp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éně emis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acházení se zdroji podle jejich skutečné vzác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flexibilní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ové technolo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spory materiá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lidé na čistší planetě jako zaměstnanci úspěšných společn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do si naopak pohorší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epřizpůsobivé společ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soké náklady materi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soké da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špatná i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lobbis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sled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pokládáme-li, že se polovina společností přizpůsobí (ve skutečnosti jich však bude mnohem více) a polovina lidí jsou lobbisté (kterých je ve skutečnosti mnohem méně), vychází jako neoddiskutovatelný přínos zlepšení životního prostředí za jinak zachovaných součtů – jde tedy o pozitivní výsledek hry se životním prostředím o co možná nejlepší výsled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ntinely a ome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lmi zkostnatělý celosvětový systé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tická domluva mezi velmocemi (Čína, Rusko, US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ce a „ověřené“ postupy zdanění a dotac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ecná lidská neochota k radikálním změná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95280" y="1828800"/>
            <a:ext cx="754380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viacero vymedzení typu hier (Wright pracuje len s rozlíšením na hry s nulovým a hry s nenulovým súčt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hry s nulovým súčtom =&gt; jeden hráč získa, kým druhý stratí (pretože zdroje, ktoré sa „hraním“ hry rozdelia, sú konštantn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Hry s nenulovým súčtom =&gt; zisk jedného hráča nemusí nutne znamenať stratu druhého (súčet ich „výplat“ nie je nutne nulov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Väzňova dilema ako typický príklad hry s nenulovým súč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38280" y="35812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ěkujeme za pozorno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Robert Wrig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účasný americký novinár a akademik (University of Pennsylvania, New America Found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utor kníh o (okrem iného) vede, evolučnej psychológii, histórii, náboženstve a teórii h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loggingheads.tv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ahoma"/>
              </a:rPr>
              <a:t>Non-zero: The Logic of Human Desti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Víc než n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2 časti – kultúrna a biologická evolúc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oba druhy evolúcie možno najlepšie popísať pomocou teórie hier s nenulovým súčtom, konkrétne konceptom „non-zero sumness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Kultúrna evolú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Lovci a zberači =&gt; industriálna spoločnosť =&gt; postindustriálna (informačná) spoločn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ozličné pomenovania vývojových štádií spoločnosti, ale spoločný kon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sk-SK" sz="2800" spc="-1" strike="noStrike">
                <a:solidFill>
                  <a:srgbClr val="000000"/>
                </a:solidFill>
                <a:latin typeface="Tahoma"/>
              </a:rPr>
              <a:t>spoločnosť sa vyvíja od menej komplexných ku komplexnejším štruktúram a v rámci toho existujú vedľa seba kultúry na rôznych stupňoch vývo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Ako to funguj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íkla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hosoni v Severnej Amerike – lovci a zberač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ákladná spoločenská jednotka - rod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le - pri love na zajace sa spojilo niekoľko rodín, pretože bolo potrebné pracovať s pascou na zajace (sieť dlhá niekedy až 3km) a spontánne sa ustanovil „vodca“ akc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každá rodina získala viac zajacov, než by ulovila keby lovila sama =&gt; hra s nenulovým súč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echnológia (pasca) umožnila interakciu medzi rodinami, ktorá iniciovala nenulový súčet a takisto komplexnejšiu sociálnu štruktúru než rod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Kórejské au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úpa kórejského auta v Česk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kazník (CZ) profituje =&gt; má kvalitné au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órejská automobilka profituje =&gt; realizovala preda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ransakcia možná vďaka komunikácii a informáciá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be strany získali a z vytvorenej „nenulovosti“ sa môže tvoriť ďalšia „nenulovosť“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Súčasnos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informačná spoločnosť, rýchly vývoj nových technológií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soká interak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koro neobmedzená komuniká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ôv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=&gt; skvelé predpoklady pre ďalší rozvoj „nenulovosti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7:46:48Z</dcterms:created>
  <dc:creator>Alenka Drášilová</dc:creator>
  <dc:description/>
  <dc:language>en-US</dc:language>
  <cp:lastModifiedBy>Vachek</cp:lastModifiedBy>
  <dcterms:modified xsi:type="dcterms:W3CDTF">2007-10-05T21:26:32Z</dcterms:modified>
  <cp:revision>2</cp:revision>
  <dc:subject/>
  <dc:title>Evoluce jako hra s nenulovým součtem</dc:title>
</cp:coreProperties>
</file>