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DD0-1ADF-4BDF-835B-FD067D27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5F4B-ECAA-48CA-888A-EB8CC5F3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9F5-765C-4077-862D-1BA97D9F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3D2-2CA9-4458-AE81-397C16A0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8298-F1E7-436A-AF56-E491E757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7806-DDC8-47C9-B85A-EB35AA97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3862-259C-4D39-871E-66EB2282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4CCF-9FBE-4660-95A0-00ED6076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8939-B065-45C6-AEBD-67976ECB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5D56-4EB6-4C44-89AB-EEE65C10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B980-E242-466A-9331-203C9307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42A-D9E6-4F57-81F9-ECC0D16E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C1F5-3B25-443A-B13F-AE2FC65E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B185-60A3-407C-9231-47A0A59C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44F3-8843-474F-BEF5-F4FB938A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EAD3-207D-43A6-8A97-570741E0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FFD3-78BE-467F-950C-91A78D8B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E35B-4250-4BB2-9860-4738CCE9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C7F-6483-466E-B6C3-83580E86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5F7-2EF5-4326-BDFC-2C804E5F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FC5-FEDF-49D7-BDBA-EBCEF9CB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8382-D83E-4398-8147-324D26A9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0796-5355-4799-B074-726D956A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DA9-7060-4996-B01C-C9C2B27D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3240" cy="5027760"/>
            <a:chOff x="318960" y="1828800"/>
            <a:chExt cx="8823240" cy="5027760"/>
          </a:xfrm>
        </p:grpSpPr>
        <p:sp>
          <p:nvSpPr>
            <p:cNvPr id="1" name=""/>
            <p:cNvSpPr/>
            <p:nvPr/>
          </p:nvSpPr>
          <p:spPr>
            <a:xfrm>
              <a:off x="837720" y="4617000"/>
              <a:ext cx="8304480" cy="223920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000" y="1828800"/>
              <a:ext cx="8809200" cy="50277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7720" y="4653360"/>
              <a:ext cx="8304480" cy="220284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7720" y="1828800"/>
              <a:ext cx="731232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7720" y="1828800"/>
              <a:ext cx="45720" cy="283248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280" y="4609080"/>
              <a:ext cx="45720" cy="224712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09080"/>
              <a:ext cx="456948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09080"/>
              <a:ext cx="47520" cy="224712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743EF7-B6B6-40EA-B032-DBC30D80E0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3240" cy="5127480"/>
            <a:chOff x="318960" y="1752480"/>
            <a:chExt cx="8823240" cy="5127480"/>
          </a:xfrm>
        </p:grpSpPr>
        <p:sp>
          <p:nvSpPr>
            <p:cNvPr id="51" name=""/>
            <p:cNvSpPr/>
            <p:nvPr/>
          </p:nvSpPr>
          <p:spPr>
            <a:xfrm>
              <a:off x="333000" y="1752480"/>
              <a:ext cx="8809200" cy="510408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7720" y="3809160"/>
              <a:ext cx="8304480" cy="304704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2800"/>
              <a:ext cx="548388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7720" y="1752480"/>
              <a:ext cx="776808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2800"/>
              <a:ext cx="47520" cy="310716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7720" y="1752480"/>
              <a:ext cx="45720" cy="511848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E2285AD-3938-43AF-BB20-5D49E1C6D76D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933720"/>
            <a:ext cx="7632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dřej Sadíl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deněk Str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10.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213000"/>
            <a:ext cx="36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ypracoval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192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ystém kultu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26560" y="2924280"/>
            <a:ext cx="79203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79720" indent="-27972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ytváří své struktu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97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římo – technickou konstrukcí(spotřební předměty, nástroje,dopravní sítě,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97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přímo – informačně nepředepsané, spontánní(jazyk, trh,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Postavení člově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xistují 2 systémy – přírodní ekosystém a kulturní systé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lověk je součástí obou systémů, ale podřazené postavení má pouze vůči přírodní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 Black"/>
              </a:rPr>
              <a:t>Konflikt přírody a kultu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xpanze kultury jen na úkor již existující přír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nos informace je kvalitativně odlišn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DNA x jazyk,písm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4797360"/>
            <a:ext cx="81010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Pokud kultura překročí určitou mez, pak příroda změní svou strategii: Nebude se bránit silou, ale svou slabostí, zranitelností a nerovnováh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teratu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2060640"/>
            <a:ext cx="830592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MAJS, J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rama evolu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Praha: Hynek, 2000. ISBN: 80-86202-77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MAJS,J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ilosofie psaná kurzívou:rozhlasové ekologické esej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rno: Doplněk, 2003. ISBN 80-7239-152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ozrazil On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vetrnemlyny.cz/rozrazil/online/clanek.php?clanek_id=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 Black"/>
              </a:rPr>
              <a:t>Děkujeme za pozor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stor pro vaše dotaz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bsah prezent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řirozená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ulturní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avení člověka vůči systému přírody a kul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flikt kultury a přír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80074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éměř nikdo dnes neví, že vedle evoluce biotické existuje také starší evoluce abiotická a že také člověk zažehl evoluci, zvláštní protipřírodní evoluci kulturní.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48164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. Josef Šma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 směřující proti přirozené entrop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tváří struktury, systémy a uspořáda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 nahodilý a konstitutiv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oluce přirozená – biotická X abiotick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oluce kulturní - lid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sitelem je přír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niká se vznikem vesmí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ce a její změny probíhají v dlouhých časových periodá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řídání pomalých fází a evolučních sko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od velkého třesku k biologickému třesk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likož evoluce vystupuje proti entropii, vyžaduje nutně určitou energetickou podpor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oluce se jakoby „naslepo“ snaží o maximální využití prostředk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tšina energetické „výživy“ je spotřebována na udržení fungování a reprodukci biotického systé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3851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800748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srovnatelně mladší a v podřazeném postavení vůči přírod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sitele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j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člověk, resp. společenství li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es namířený proti entropii, ale také proti evolučně starší přírod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ýsledkem cílevědomé i spontánní aktivity člověka je kul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192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ult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00000" y="2662200"/>
            <a:ext cx="7920000" cy="38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ložitý a rozsáhlý umělý systém, který se v rovnovážné biosféře vyznačuje svou vlastní nebiologickou integritou a sebestrukturac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ystém přírody,který je vůči přírodě v opozici a je na ní závisl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192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ult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00000" y="2662200"/>
            <a:ext cx="792000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ka - předměty z abiotických a biotických systé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ltivované organismy – rostliny, zvířata, člově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ltivované přirozené systémy – krajina, resp. její čá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ševní a duchovní kul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ndřej Sadílek</dc:creator>
  <dc:description/>
  <dc:language>en-US</dc:language>
  <cp:lastModifiedBy>Ondřej Částek</cp:lastModifiedBy>
  <dcterms:modified xsi:type="dcterms:W3CDTF">2007-10-02T11:40:20Z</dcterms:modified>
  <cp:revision>9</cp:revision>
  <dc:subject/>
  <dc:title>Přirozená a kulturní evoluce</dc:title>
</cp:coreProperties>
</file>