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1948-C2A4-4C33-9C73-DD3D6432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59DB-8238-4798-9C99-68883F98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C847-56F2-49A8-8871-E86CE6EC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FF23-4581-4F13-AFE5-7F58F7A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008F-9CA3-4EF9-A0AE-30AB4F42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E9A3-056A-4E4B-BF9D-9B2F1BF0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B2F-910A-4180-8C17-473BEF97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5FD-3C27-430B-B6F3-6A1FC1D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C6B5-D209-4DE2-BE12-6C6CFC6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6576-F77D-425A-A288-43362D88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884D-9804-4AF0-9955-D4509CC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DF11-EF15-4FD0-91BE-552595B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7110-DE5B-4312-9EC1-EF200EB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5211-96A5-4CC1-ABCA-59AED85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2F00-E777-4CB5-918A-A98A6F1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4D08-7B76-4E08-9E11-9E5D995F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D06-AC4B-4E55-9BFE-50A877E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71EB-01BE-46DC-85E4-E13C4884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89D1-B326-47A0-BFED-4937C170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325C-DFEC-49D9-B6CA-5433356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FB8-D3D7-48E6-9360-59A8D1B8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00BB-18DC-44CB-B92A-99E2E34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5E17-0957-40BB-B218-2DD7682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E382-4ACF-4148-96A9-12D18C9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C09F-A615-4EA9-B077-410CC99001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ABE-9011-4281-8208-6BA641C67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Vývoj společnosti        v pojetí A. Tofflera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203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f Jalův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. Petr Houš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ona Vitéz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zmanit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ý soubor možností v život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měrný výběr x standard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míra subkultur – rychlé střídání, vznik a zá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ost životních sty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ranice adapt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mezené hranice adaptibil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má omezenou kapacitu pro změn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d je kapacita překročena, nastává šok z 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znaky přetížení (bušení srdce, třes, nespavost, podrážděnost, atd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Čelní obr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bránění šoku z 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omezit přísun inform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regulace množství rozhod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otřeba vytvořit si zóny st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ční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hlcovače šoku z budoucnosti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é se zde scházejí, vyměňují myšlenky a postře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zabývá se minulost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oradenská služba pro krizové situa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 psychologii je „krizí“ každý významný zl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„velká životní změna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adens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zoví poradci – pověření lidé z řad studentů, obchodníků, učitelů, dělníků,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y na půl ces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á se ve věznicích pro tre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zv. přechodná instit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 aplikace i na všední živ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minu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ovaná středi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unity, kde se zastaví č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hou sloužit jako učební pomůc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budouc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onauti absolvují výcvik v uměle vytvořeném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isté mají předběžné zprávy a popis pacha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kce na změ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Škola v industriální společ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nového přístupu k 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ové vzdě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ní systém = okno do budoucn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rdá disciplína, nedostatek individuálního přístup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í ve školách zaměřeno na minulost a končí u přítomnosti.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udoucnosti škola mlč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ní musí přejít do budoucího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rategie zaměření na budoucnos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získané předem umožňují výraznou změnu ve výk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vyk předvídání“ = schopnost dívat se dopř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jší tempo změ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ál se dívat do budouc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a dívat se na „správnou vzdálenost“ do budouc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chnolog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dnou z účinných strategií v boji proti masovému šoku z budoucnosti je vědomá regulace technologického vý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ká odezva v mnoha zem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pětný dopad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ohledné pokusy zastavit technologii přinesou stejně ničivé důsledky jako bezohledné pokusy technologii zrychlov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do, ani ten nejlepší vědec, doopravdy neví, kam nás věda v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é institu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vytvořit nové politické institu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odpora či zamítnutí nové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a technologie neznamená omezení svobody výzku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á společnost technické inovace předem vybírá a potom schvaluje použi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pad – základním kritériem ekonomický zis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unismus = zda přispěje k všeobecnému hospodářskému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FFLER, A. Šok z budoucnosti. Praha : Práce, 1992. ISBN 80-208-0160-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evolutionarywealth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ritskelisty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obnost Alvina Tofflera (jeho dílo, názory a poznatk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ózy budoucího vývoj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7640" y="2349360"/>
            <a:ext cx="43876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27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vin Toffler (*3.10.1929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sovatel a futuro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Žena Heidi – také futurolo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á se především problémy spojenými s tzv. „třetí vlnou“ hospodářského vývoje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3695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ěžejní díl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ok z budoucnosti (Future Shock, 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ýza vznikajících problémů americk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řetí vlna (The Third Wave,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stup technologické r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7164360" y="1484280"/>
            <a:ext cx="1701720" cy="2376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1701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last zájm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spojené s technologickou revolucí (třetí vl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ady těchto změn na člověka a společnost jako c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859280" y="3433680"/>
            <a:ext cx="3925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ěkteré prognóz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technologie a informační systémy umožní, aby mnoho lidí pracovalo z domova, prostřednictvím počítačů, propojených do centrálních sítí po telefonních linkách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ironické, že lidé budoucnosti nebudou trpět nedostatkem výběru výrobků, ale naopak příliš velkým výběrem, který je bude mást a dezorientovat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onec st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. generace – naprostá většina věcí, které používáme, přišly v poslední gener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se kdysi přihodilo jen někomu, dnes zasahuje všechn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 živí technolog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míji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zrychlování staršími lid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lka trvání vztah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orba skupin pro jednotlivé ú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ika Evropské U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á společnost, ne změna sta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ce v cel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ast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robci zážit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tříštěná rodina – „pohlcovač šok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56:52Z</dcterms:created>
  <dc:creator>Simavita</dc:creator>
  <dc:description/>
  <dc:language>en-US</dc:language>
  <cp:lastModifiedBy>Simulka</cp:lastModifiedBy>
  <dcterms:modified xsi:type="dcterms:W3CDTF">2007-10-17T13:20:41Z</dcterms:modified>
  <cp:revision>13</cp:revision>
  <dc:subject/>
  <dc:title>Snímek 1</dc:title>
</cp:coreProperties>
</file>