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F93-D8E5-4116-A64F-172CBC30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3EB-720E-4899-AB0A-B769FDB5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067-5639-409E-99C5-3697E603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84E-C3B2-4683-BEEE-9E459552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92E2-D2CF-478A-AD80-6101006A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38F0-CD2D-4E79-9FF9-0CD29215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D8F4-1A8F-4433-8B06-2123E260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311F-0C23-47F3-94BF-55A4EDEE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63D8-AE16-4C91-A4E5-C7BEA5A9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B510-CB37-4DBA-97B2-6518A526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EB51-6E29-469D-B389-FB3764A2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694-D325-4F1D-9DDB-D45DFCBA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0006-06B6-45B4-A40C-3E0E6390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2103-A08D-4C87-BD5F-08F520D1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9722-3F58-474D-82A3-C62C6CDD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0062-0F11-49CD-817A-AAC9CA78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8B64-3C1B-4A96-B0F1-CD87456C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2A55-B823-4B59-BBA5-6E7E093C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7FE-C91C-43E4-BB35-C781419D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217-052E-4AEB-8101-A825D330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054-CC8C-40A7-AD19-4123EA7C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432-FAA3-4701-BA0D-BC091F7E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0FA-D2B1-4942-A8FF-616C0562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82A-FA05-47BA-87B7-4F2E2A17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9BD2-758E-45BB-B80D-DB7322CD070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1D35-53A1-498E-8994-CAB067C6DBB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řirozený a umělý řá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Julie Hrazdir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Jitka Kubíčk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va Pospěch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9.10.200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F.A.Hayek, Právo, zákonodárství a svoboda, I.díl (Pravidla a řá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ylaby-management I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Děkujeme za pozornos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jem „řád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ázory na vývoj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ontánní řád (endogenní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tvořený řád (exogenní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ganizace a vlá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vidla řádu a organiz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vorba přirozeného řád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ojem „řád“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tav věcí, v němž se velký počet prvků různých druhů má k sobě navzájem tak, že znalost nějaké prostorové nebo časové části celku nám umožňuje vytvářet správná očekávání, která mají dobrou pravděpodobnost, že se ukáží jako správná.“   F.A.Hayek, Právo, zákonodárství a svoboda (I.dí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ázory na vývoj společnost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1.- instituce musí být tvořeny za jistým účele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jednání vedeno těmito účely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přirozený řád- (ne)závislost na lidském jednání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příroda jako omezení přirozeného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2.- nejen účelové vytvoření, ale rovněž evoluc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postupy nejprve jiný účel, nebo náhoda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přirozený řád- (ne)závislost na lidském vytváření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rozšíření jako důsledek neuvědomělé lidské činnosti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Člověk jako tvůrce přirozeného řádu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ontánní řá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z vědomého vytvoř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dogenní= síly uvnitř systém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yberneti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kýkoli možný stupeň složit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měna jednotlivých prvků nebo jejich počtu, ale zachování struktu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ytvořený řá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vědoměle vznikl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ogenní= síly vně systém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vidla daná x pravidla vytvořená (právní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rganizace a vlá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a koordin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láda- zvláštní for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ucovací funk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skytování služ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avidla řádu a organiz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žná koexistence, ale ne různé kombin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nalosti jednotlivců x organiz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vidla x příkaz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ontánní řád – pravidla abstrakt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tvořený řád – příkazy konkrét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ůžeme doplnit příkazy, ale nikdy ne pravid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vorba přirozeného řád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dé vykazují jisté chování k dosažení cíl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akce s druhý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dnání v souladu s pravidly= úspě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ásledný rozvoj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prve zvyky, obyčeje, obřady, rituály, až posléze písemná for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08:40:44Z</dcterms:created>
  <dc:creator>CIKT</dc:creator>
  <dc:description/>
  <dc:language>en-US</dc:language>
  <cp:lastModifiedBy>CIKT</cp:lastModifiedBy>
  <dcterms:modified xsi:type="dcterms:W3CDTF">2007-10-08T10:28:12Z</dcterms:modified>
  <cp:revision>4</cp:revision>
  <dc:subject/>
  <dc:title>Přirozený a umělý řád</dc:title>
</cp:coreProperties>
</file>