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687-14C2-43C0-B791-53C05DC3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FF7-DCB0-4EEE-A986-4FA04119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0F4-96CE-49C8-9198-26CCDBEF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EF8-D247-4576-9D96-1BB844D0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F5DB-5A8C-4C66-A913-0DD6ED88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B0AC-635E-481A-A683-290E6178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0A6C-5839-4C58-95DD-55E14824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B5BA-4478-4955-8B28-60321BB5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01D4-B5EF-462F-8FBA-F9F1C985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1A95-0F8A-4C8D-A213-1C00C90D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3DD2-4F7B-4ABE-9239-4ACE27C5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B94-DA10-4464-89B7-0C7B1879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3AE7-416C-4985-B2C6-8DCB03C8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149F-30B2-47DC-BDC4-5894E977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FEEE-9F50-448B-916B-0FEEF0D3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F027-3305-473B-9698-81BF4061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7271-3782-4A0E-9E94-38D1E1ED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3F7-C072-4B93-9AA3-C9C2DF33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A5D-A367-4AFF-A560-068C5885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E39-C10D-4DF8-AECE-81948D3B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C33-6D60-4A94-AAFF-75C37AC6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EBA-F384-4A41-9F0A-21E7747E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C7C-BE5C-42DE-AAFB-AA92EF5B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01B-F34E-4110-AFCA-FC7BCCC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7392-8257-409F-9897-EC0628A815D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EEC4-6E64-4EA7-BD1F-A9C57D4564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66"/>
                </a:solidFill>
                <a:latin typeface="Comic Sans MS"/>
              </a:rPr>
              <a:t>Přirozená a kulturní evoluce</a:t>
            </a:r>
            <a:endParaRPr b="0" lang="en-US" sz="6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                        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                          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Monika Pokorná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                          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Petra Chrást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                          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Petra Zajíc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A dn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oškozená a znečištěná planeta, destabilizovaná biosfé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naha o vytváření k přírodě šetrnějších technologií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ničím neohraničená spotřeba, honba za zis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imárně nezajišťujeme lidské přežití, přednost dostává úspěch, růst politické moci a bohatstv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míra paměti, produkt evolu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ntegruje otevřené nelineární systémy (přirozené i umělé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rozlišuje skutečn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v našem pojetí je tento pojem blízký pojmům paměť, struktura (paměť v užším smyslu), uspořádanost (paměť v širším smysl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omic Sans MS"/>
              </a:rPr>
              <a:t>Ontická role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Druhy informac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řirozená informace živých i neživých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ystém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Kulturní inform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řirozená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Z hlediska původu,funkce a lokalizace uvnitř systému je informace dvojího druh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Genetická (strukturní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Vznikla ve fylogenezi (=evoluce druh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Uložena převážně v jádrech buně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pigenetická (sémantická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Vytváří se v ontogenezi (=průběhu individuálního života jedinc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a další jedince se přenáší nepřím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Vázán v různých molekulárních komplexech buněk (mimo jiné v strukturách vazeb nervových buně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osteriorní sémantická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Získáme zkušenostmi, učen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Tzv. behaviorál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Ukládá se v centrální nervové soustavě (například v paměti člověk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Dvojí původ</a:t>
            </a: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99"/>
                </a:solidFill>
                <a:latin typeface="Comic Sans MS"/>
              </a:rPr>
              <a:t> rozdílná míra adekvátnosti vnějšímu světu,rozdílná funkce,způsob replikace i různé ukládání (genom X CN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A) přirozená genetická in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Apriorní strukturní inform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Míra objektivity vysok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Existuje jen jako bioticky vestavěn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Comic Sans MS"/>
              </a:rPr>
              <a:t>Jako DNA – struktura genotypová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Comic Sans MS"/>
              </a:rPr>
              <a:t>Mnohovrstevná struktura organismu – somatická, fenotypová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) Přirozená epigenetická in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Fixuje se v centrální nervové soustavě a zaniká s příslušným jedinc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osteriorní epigenetická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Doplněk k apriorní genetické informa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Stává se biologickým základem sémantické i strukturní i souciokultur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Kulturní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Sémantická X struktur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o vzniku kultury je mozek schopen ukládat 3 druhy informací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Původní přirozenou informaci sémantick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Sémantickou informaci sociokultur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Parciální i obecnou strukturní informaci sociokultur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pojem – poprvé u M. Kusánského v dí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Comic Sans MS"/>
              </a:rPr>
              <a:t>                </a:t>
            </a:r>
            <a:r>
              <a:rPr b="0" i="1" lang="cs-CZ" sz="2600" spc="-1" strike="noStrike">
                <a:solidFill>
                  <a:srgbClr val="ffffcc"/>
                </a:solidFill>
                <a:latin typeface="Comic Sans MS"/>
              </a:rPr>
              <a:t>De docta ignorantia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(15.stol.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význam - pozvolný, průběžný vývoj (z lat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  </a:t>
            </a:r>
            <a:r>
              <a:rPr b="0" i="1" lang="cs-CZ" sz="2600" spc="-1" strike="noStrike">
                <a:solidFill>
                  <a:srgbClr val="ffffcc"/>
                </a:solidFill>
                <a:latin typeface="Comic Sans MS"/>
              </a:rPr>
              <a:t>evolvere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= vyvíjet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- proces, který z méně dokonale uspořá-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 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daných systémů vytvaří systémy uspořá-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 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dané dokonalej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- nepřetržitý rozvoj od nižšího k vyšším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typy evoluce (z hlediska nositele evoluční aktivity):</a:t>
            </a:r>
            <a:r>
              <a:rPr b="0" lang="cs-CZ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cs-CZ" sz="3600" spc="-1" strike="noStrike">
                <a:solidFill>
                  <a:srgbClr val="ffff66"/>
                </a:solidFill>
                <a:latin typeface="Comic Sans MS"/>
              </a:rPr>
              <a:t>PŘIROZENÁ</a:t>
            </a:r>
            <a:r>
              <a:rPr b="0" lang="cs-CZ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cs-CZ" sz="4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cs-CZ" sz="3600" spc="-1" strike="noStrike">
                <a:solidFill>
                  <a:srgbClr val="ffff66"/>
                </a:solidFill>
                <a:latin typeface="Comic Sans MS"/>
              </a:rPr>
              <a:t>KULTURN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ůvody nepostradatelnosti kulturní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Obdobu v přirozených ekosystémech nenacházíme, odlišnost umělých prvků kulturního ekosystému od spontánních výtvorů živé přírod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Všechny kulturní instituce jsou závislé na soudržnosti spolupracujících jedinc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omic Sans MS"/>
              </a:rPr>
              <a:t>Ontická role kulturní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Obsah sociokulturní in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Vyděluje se z přirozené informace epigenetické a strukturuje se na sémantickou a struktur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Nebiotická sociokulturní informace – vznikaly selektivním způsobem (smysly,rozume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řirozená genetická pamě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Druhová, vysoce stabilní, schopná replikace a seberepar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Aby mohla být programem ontogeneze, musí mít informace o organizační struktuře a kompatibilitě jeho těla s prostřed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Obsahuje strukturní konstitutivní informace – do níž se historická zkušenost druhu zapisuje pomocí nukleových kyselin </a:t>
            </a:r>
            <a:r>
              <a:rPr b="0" lang="en-US" sz="32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 nelze do ní vstupov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Uvnitř živých systémů není propojení mezi pamětí uvnitř buňky a v mozkových buňk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řirozená epigenetická pamě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Šedá kůra moz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Podpůrná, krátkodobá, nespojit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Vzniká i zaniká s jedinc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omic Sans MS"/>
              </a:rPr>
              <a:t>Sociokulturní pamě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- vzniká z přirozené epigenetické pamě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- na rozdíl od onticky spolehlivé genetické paměti  není dostatečně objektiv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106668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U většiny živočichů převažuje fylogeneticky starší chemické kódování jako ukládání informa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U člověka epigenetickou informaci přijímá a kóduje pomocí zraku a sluch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ymbolismus – jazykové zápisy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Závě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Duchovní kul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ropřírodní a protipřírodní kul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ŠMAJS, J. Drama evoluce. Praha : Hynek, 2000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ŠMAJS, J. Konflikt přirozené a kulturní evoluce. Brno, 199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cs.wikipedia.org/wiki/</a:t>
            </a:r>
            <a:r>
              <a:rPr b="1" lang="cs-CZ" sz="3200" spc="-1" strike="noStrike">
                <a:solidFill>
                  <a:srgbClr val="ffffcc"/>
                </a:solidFill>
                <a:latin typeface="Comic Sans MS"/>
              </a:rPr>
              <a:t>Evolu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Děkujeme za pozornos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41007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Přirozená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spontánní konstitutivní pro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zvyšování přirozené uspořádanosti všech struktur svě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očátek před 10 až 15 miliardami let (tzv. velký třes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a) abiotick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b) biotick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Comic Sans MS"/>
              </a:rPr>
              <a:t>Abiotická přirozená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formování vesmíru (atomy, molekuly, hvězdy, galaxi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vesmír tvořen z ¼ z helia a ze ¾ z vodíku (dnes již nevzniká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abiotická evoluce Země (nerosty, hor-niny, reliéf krajiny…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Biotická přirozená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ormování života na Zemi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člově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hlavním znakem je nerovnoměrnost (pomalé a rychlé evoluční fáz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voluce určována mnoha nahodilými faktory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výsledek neznámý, těžko předpověditeln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Kulturní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ladší než přírodní evoluce, navazuje na ni, ale není jejím přímým pokračování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říroda = „hardware“, kultura = „software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ositelem je člově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e třeba respektovat přirozenou evoluci Země (hostitelský systém), ovšem na druhé straně také uznat evoluční tvořivost systému kultury, který je na přírodě závisl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Kul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vše, co bylo vytvořeno, nebo přeměněno člově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e výsledkem kulturní evolu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vzniká z přírody, má charakter „umělého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základem je vědomá i spontánní aktivita lid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echnika, kultivované organismy, kultivované systémy, duševní a duchovní kultu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Comic Sans MS"/>
              </a:rPr>
              <a:t>Kultura jako samoorganizující se systé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člověk vytváří kulturu i nevědo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spontánní pův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výsledek činnosti lidí, kdy se realizuje i to, co lidé nezamýšlejí, ale vyplývá to z logiky fungování systému jako celku (jazyk, trh, peníz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vznikají jak jednodušší věci (nástroje), tak složité společenské subsystémy (výrobní, dopravní), které jsou závislé na člověku, ale jsou relativně samostatn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Rozmach kulturní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řelom 18. a 19. století - vznik průmyslové revolu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řechod od instrumentalizace k mechaniza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využití energie fosilních paliv, hromadné čerpání neobnovitelných přírodních zdrojů </a:t>
            </a:r>
            <a:r>
              <a:rPr b="0" lang="cs-CZ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 počátek útoku na biologickou rozmanitost živo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9:08:23Z</dcterms:created>
  <dc:creator>Petra Chrástková</dc:creator>
  <dc:description/>
  <dc:language>en-US</dc:language>
  <cp:lastModifiedBy>Petra Chrástková</cp:lastModifiedBy>
  <dcterms:modified xsi:type="dcterms:W3CDTF">2007-09-30T09:15:25Z</dcterms:modified>
  <cp:revision>15</cp:revision>
  <dc:subject/>
  <dc:title>Přirozená a kulturní evoluce</dc:title>
</cp:coreProperties>
</file>