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A3F-90A1-42C3-B048-758C6071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E79-9073-43A6-B043-8D4EC17B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21E-E0AD-487D-BDBE-09065D8A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B2B-F0D6-4703-8675-68467ABF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B754-6B53-42EF-B1DD-8D6A8EDD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E5A1-8BE9-4EEB-9962-157F432A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CEAC-B64B-45CB-A0EA-0EEF95AD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F171-DB2E-479B-ACE1-618099B4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8F29-0256-4569-9210-890CF129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0B12-EE21-4591-8D8B-54FE4235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AA10-DAC9-4AE1-BB9A-E42A578C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61E-56F4-4E23-8A54-A0929000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4C44-5FDF-42FD-BB8C-DDA1E06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4943-E58F-4E80-B129-62409455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319-8C50-4556-B0B3-E69B3988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1DA9-6DA9-4497-8DAE-34055A97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24D3-F8B3-4429-88A0-43DF6A16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285-FCEA-412B-A5F4-12D0FB39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0B4-E0D6-48B2-953E-A4BAFB12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E40-E4CB-41E5-AAD2-D4DA9316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398-53C8-43E1-B111-69F70C69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102-0DF9-47C7-AF7A-54ECBF82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11E-785E-44C6-A0EC-FB99963C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F4F-8C38-4D79-AFD3-75E59B33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49FC-1E23-4FB6-9229-C8FE35B467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b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b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79E9-151D-463F-BA9E-2681EE3F90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Přirozená a kulturní evoluce</a:t>
            </a:r>
            <a:br>
              <a:rPr sz="5800"/>
            </a:b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7772400" cy="268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2421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lena Kupčíková, Hana Divišová, Jakub Card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Vztah přirozené a kulturní evoluce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íklad podle Šmajse: Dva pekař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atímco první pekař, přirozená evoluce, peče z mouky, z které je vytvořena naše planeta a která vznikala ve hvězdách první generace, tj.peče z chemických prvků periodické soustavy, které jsou obsaženy v půdě,vodě a atmosféře, druhý pekař, kulturní evoluce, přišel do práce pozdě.Bylo už napečeno, a má-li něco vlastního vytvořit, musí mouku pro své těsto získávat lámáním a drcením pečiva prvního pekař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Literatura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ŠMAJS, J. 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Drama evoluc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 Praha: Hynek, 2000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ttp://www.vetrnemlyny.cz/rozrazil/online/clanek.php?clanek_id=8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Děkujeme za pozornost</a:t>
            </a: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Evoluce- defini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ývoj. Neustálá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adaptac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organismů na podmínky životního prostředí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voluce většinou vede od jednoduché k výše organizované úrovn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voluce je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antientropická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 směřuje proti rozpa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Hlediska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Časové hledisko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voluční změny lze zachytit až s vytyčením dostatečně velkého časového rozpě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ledisko nositele evoluční aktivity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řirozená a kulturní evolu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Přirozená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511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Přirozená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avděpodobný počátek- prudká expanze zárodečné kosmické hmoty ( velký třesk ) před deseti až patnácti miliardami le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šechny prvky chemické periodické soustavy,které jsou dnes na zemi, vznikly - s výjimkou vodíku a helia - jako důsledek jaderných reakcí v nitru prvních hvězd, nebo při jejich zánik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Přirozená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malé fáze a rychlé evoluční skoky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. J. Gould: "Po tři miliardy let byl nejvyšší formou života povlak prokaryont...pak, zhruba před 600 miliony let, se ve fosilních dokladech náhle objevují prakticky všechny stěžejní formy živočišného života, a to v průběhu několika málo milionů let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Kulturní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Kulturní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, který stále více závisí na lidech a předcházejícím kulturním vývoji a stále méně na přírod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člověk získal předpoklady pro záměrné a rychlé přizpůsobování svého okolí potřebám společenstv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l přirozenou evolucí vybaven tak, že dokázal zažehnout kulturní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olu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Kulturní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Člověk může produkovat své struktur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přímo- vznikají pomalou postupným začleňováním a změnou stavebních dílů přirozené evolu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římo- vznikají technickou konstrukcí, umělým spojením relativně jednodušších stavebních dílů evolu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8:30:40Z</dcterms:created>
  <dc:creator>SKupcik</dc:creator>
  <dc:description/>
  <dc:language>en-US</dc:language>
  <cp:lastModifiedBy>CIKT</cp:lastModifiedBy>
  <dcterms:modified xsi:type="dcterms:W3CDTF">2007-10-02T10:15:26Z</dcterms:modified>
  <cp:revision>4</cp:revision>
  <dc:subject/>
  <dc:title>Přirozená a kulturní evoluce </dc:title>
</cp:coreProperties>
</file>