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3DA-E646-4E93-8627-310F1DDC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45B-0279-4490-8CF7-EEF83250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53C-430C-4E3A-8B4A-EBA17F72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02F-6F9F-4893-9428-E2084524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1CE-B076-417E-B587-9CD50DD9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E09-23FE-4EFC-89AD-E0EEC775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7E3-B2F5-41A2-B25A-20C3662E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2B7-4531-4E30-A764-0E59EFAE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696-AA5A-4B68-9C72-A7795E2E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50C-A85F-4F89-A23D-6B5CE35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FE2-4C25-4B4A-B317-134909F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D5A-3D6D-4862-BFA0-C09DA6C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928-01E3-4E3F-A05A-E7B50BD5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989000"/>
            <a:ext cx="669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247968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gmar Švec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chal La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n Kau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49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10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1A0-A302-4611-85D9-6416AF87FF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 A., Tofflerová H. – Nová civilizace - Třetí vlna a její důsledky, Nakl. Dokořán Praha, 2001, 130 s., ISBN 80-86569-00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886-3C22-436C-AE02-1CEF9F16EB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8AB-625A-4215-BA66-C05AB4017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vin Toffl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badatel, profesor, korespondent Bílého domu, nositel čestných doktor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eidi Toffle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profesorka, četná vyzname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tnými spolupředsedy komise UNIF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BAC-B597-41E8-90A6-BB7098B20F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vlna - zhruba před 10 000 l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zemědělská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vlna - od 18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průmyslová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vlna - v USA od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informační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ém střetu vl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87B-45D2-4D7A-96A6-22F098037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robní fa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půda, práce, kapitál, sur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postupné nahrazování poznáním, informac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hmotn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hmotná ak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schopnost získávat, generovat, distribuovat a aplikova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m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masová výroba, masová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emasifikace, diverzita produktů, rozpad masového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yzická/nízké požadavky na schopnosti/zaměnitel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ůst požadavků na schopnosti/stále těžší a nákladnější nají správného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85C-51BC-434A-864D-72D7D5C32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vlna = soutěž vyžaduje neustálé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ěřít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brovské množství dělníků vykonávajících stejnou manuál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spory z velkovýroby často klesají pod tíhou složit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niky druhé vlny ztrácejí konkurenční výh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byrokratick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nové formy organizace/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yzická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stále míň důležitá, než flexibilita a jednoduché manév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47F-8547-4DD4-97F4-5EF2C667A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růst systémové složitosti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ové formy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větší množství informací obíhajících v organ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ba informační infrastruktury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 sítě, sate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elektronická komunikace představuje základní infra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rych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o předcházející stále zvyšuje rychlost operací a trans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úspory z velko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úspory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chlost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J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D92-164F-413D-B186-7B611B7DF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řet socialismu s budouc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ní – důležitý prvek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í pilíře socialistické ví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raz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Hardware”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Softw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AE0-90F3-49C0-94E7-243AE221F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itéria třetí vl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vár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x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Posílení významu r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7BF-527E-4C1B-B15D-1575616C34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kracie pro 21.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ičstvo zítř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přímá demok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lb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c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37F-5B46-4F67-9B74-07282C841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3:23Z</dcterms:created>
  <dc:creator>CIKT</dc:creator>
  <dc:description/>
  <dc:language>en-US</dc:language>
  <cp:lastModifiedBy>CIKT</cp:lastModifiedBy>
  <dcterms:modified xsi:type="dcterms:W3CDTF">2007-10-17T13:50:55Z</dcterms:modified>
  <cp:revision>4</cp:revision>
  <dc:subject/>
  <dc:title>Vývoj společnosti v pojetí A. Tofflera  </dc:title>
</cp:coreProperties>
</file>