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BD3-CDF5-43E5-B391-5D889A8D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7FE-0C3F-4040-8620-20BD9B95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C27-1165-44CB-B8A7-9CA9ED70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881-6368-48DB-B306-8244448B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6841-3C4F-4B7D-9382-67D47EA9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B40C-A9B3-45A9-821A-3D350A98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BB74-2809-49D4-A0B9-E477147F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E34F-08CA-40D9-9231-8D2DDF10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FC25-C3DA-44B8-9978-B307D8CF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7933-C5C5-4D96-ABB5-0A5120C6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8317-77A3-4D9B-87B9-0FBF814A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F715-2E43-453D-B5BA-F95343F7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5C77-7CC3-499D-890B-60F48850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B9F9-0224-4506-A90E-7F0C708C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B65D-E9D4-408E-A62A-CCCB66A2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C05C-9099-4EE9-B38E-36BA5221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FB54-EECC-437F-9FB8-732C144A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1AA8-38D4-4B11-BE7E-C42E6F6D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BE4-7166-4FA8-8A13-D5EC7F25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907-8375-4782-B1AD-86A0E4E3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658F-5C2A-4A7C-9D5C-3204C9D8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5D6-80E5-43FB-9F9C-B02D7925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320-F87A-479E-AC63-787EF50F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034-E4ED-41F4-B5ED-7877024B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AB94-9741-4866-8009-6E11887CEA20}" type="slidenum"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římá spojovací čára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4D63-0C45-40BD-8798-A64C8E382FE0}" type="slidenum"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8800" y="3928680"/>
            <a:ext cx="7286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Bookman Old Style"/>
              </a:rPr>
              <a:t>Přirozená a kulturní evoluce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4653"/>
                </a:solidFill>
                <a:latin typeface="Bookman Old Style"/>
              </a:rPr>
              <a:t>Marek Beleš, Martin Beleš, Pavel Kinc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Nejdříve domněnka, 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že kultura pozemskou přírodu zlepšuje ( dotváří její síly, je koevolucí, přímým pokračováním života na Zemi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ozději: kultura navazuje na evoluční proces,  al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má schopnost je zneužívat pro růst moci kulturního spo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Příčinou je konstitutivní činitel kultur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Je jím, dle Šmajse: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Konstitutivním činitelem kultury je sílící proces cílevědomé i spontánní informační aktivity lidí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.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onstitutivní informací kulturních struktur nemůže být informace přirozená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Duchovní kultura - vlastní vnitřní informa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dokáže obrátit dílčí přírodní síly včetně přirozených potencí člověka proti ostatní přírodě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Člověk – nový biologický druh, byl přirozenou evolucí vybaven tak, že dokázal zažehnout kulturní evoluc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ro kulturu platí 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Co připomíná F.  A. Hayek: že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spontánní řád se formuje sám ze sebe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 a také ve smyslu Caprova výroku, že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stroje se stavějí,  ale organismy rostou.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ní společenství, produkované 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Nepřím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Přím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 vs.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965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konflikt – přirozená poprvé v historii ohrožuje</a:t>
            </a:r>
            <a:br>
              <a:rPr sz="2400"/>
            </a:b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  evoluci kulturní</a:t>
            </a:r>
            <a:br>
              <a:rPr sz="2400"/>
            </a:br>
            <a:br>
              <a:rPr sz="2400"/>
            </a:b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poškození živého i neživého prostředí planety, tedy systému,</a:t>
            </a:r>
            <a:br>
              <a:rPr sz="2000"/>
            </a:b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který kdysi vznik přirozené evoluce umožnil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Zdro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965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Drama evoluc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Ohrožená kultur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Základy filosofie (přednášky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Highfield, R. : Šíp času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http://cs.wikipedia.org/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720" y="4267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Děkujeme za pozornos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Přirozená a kulturní evoluce - Úvo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ill Sans MT"/>
              </a:rPr>
              <a:t>Evoluce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– Obecný pojem používaný pro časový vývoj chování systému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V biologii se tento pojem používá pro Darwinovu vývojovou teorii,  podle které vyšší formy života povstaly postupným vývojem z forem nižších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ill Sans MT"/>
              </a:rPr>
              <a:t>Evoluce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je antientropický děj =&gt; směřuje proti narůstání entropie, tedy proti degeneraci a rozpad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eznáváme ji na základě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Hlediska výběru přiměřené časové šká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Určení nositele evolučních změ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Times New Roman"/>
              </a:rPr>
              <a:t>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25760" y="1339920"/>
            <a:ext cx="750168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ozvolný, průběžný vývoj  X  Revolu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rocesualita, aktivita, nevrat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Lamarck, Darwin + Wallace – evoluční biolog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6b5680"/>
                </a:solidFill>
                <a:latin typeface="Gill Sans MT"/>
              </a:rPr>
              <a:t>evoluční teor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vznik a vývoj života probíhal postupně hromadě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nahodilých změn a jejich sele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- kontroverzní téma – spory napříč společ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roblém evoluce – časové period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ředpokládáme, že evoluce přirozená vzniká se vznikem vesmír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Zářivé období vesmír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Hvězdné (látkové) období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vesmíru vedla ke vzniku biosféry včetně biologického předka dnešního člověk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postupuje „proti proudu“, proti rozpadu =&gt; potřebuje „výživu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Jak uvádí J. Šmajs: „</a:t>
            </a:r>
            <a:r>
              <a:rPr b="0" i="1" lang="cs-CZ" sz="2600" spc="-1" strike="noStrike">
                <a:solidFill>
                  <a:srgbClr val="000000"/>
                </a:solidFill>
                <a:latin typeface="Gill Sans MT"/>
              </a:rPr>
              <a:t>Evoluce tedy generuje, ruší a modifikuje prvky, komplexy, subsystémy a systémy tak, že diverzifikovaný celek svou narůstající uspořádaností stále úsporněji využívá svého omezeného evolučního zdroje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Např.: biosféra energii slunečního záření, kultura energii vynakládanou a uvolňovanou člověk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Celkový průběh evoluce biosféry neznáme =&gt; planeta Země tvoří jeden velký organism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Ve vývoji života zjišťujeme dva důležité filosofické momenty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Nerovnoměrnost v biotickém evolučním proces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1006560" indent="-4572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S. J. Gould: "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Po tři miliardy let byl nejvyšší formou života povlak prokaryont...pak, zhruba před 600 miliony let, se ve fosilních dokladech náhle objevují prakticky všechny stěžejní formy živočišného života, a to v průběhu několika málo milionů let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„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díl mezi uspořádaností informačně předepsanou  a nepředepsano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ill Sans MT"/>
              </a:rPr>
              <a:t>Uspořádanost jednotlivého organism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ill Sans MT"/>
              </a:rPr>
              <a:t>Uspořádanost ekosystémová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Šmajs: „</a:t>
            </a:r>
            <a:r>
              <a:rPr b="0" i="1" lang="cs-CZ" sz="2300" spc="-1" strike="noStrike">
                <a:solidFill>
                  <a:srgbClr val="464653"/>
                </a:solidFill>
                <a:latin typeface="Gill Sans MT"/>
              </a:rPr>
              <a:t>I mnohobuněčný systém totiž nutně vyrůstá z jediné buňky (zygoty) a jeho víceúrovňová organizace včetně procesu ontogeneze musí být proto zapsána ve struktuře jeho dědičné paměti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dílné uspořádání = rozdílné implikátní a explikátní paměti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nám pomáhá porozumě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„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řírodní konstruologii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„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ní konstuologii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cxnSp>
        <p:nvCxnSpPr>
          <p:cNvPr id="105" name="Přímá spojovací šipka 4"/>
          <p:cNvCxnSpPr/>
          <p:nvPr/>
        </p:nvCxnSpPr>
        <p:spPr>
          <a:xfrm flipH="1">
            <a:off x="2571480" y="3214440"/>
            <a:ext cx="2160" cy="5007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Kultura x příro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Gill Sans MT"/>
              </a:rPr>
              <a:t>Kultura 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– její uspořádanost organizačně jednodušší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Výhodou vnitřní informace, uložená mimo geny – duchovní kultura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a, jako nebiotický systém, je možný díky vlastní vnitřní informaci – duchovní kultuře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09:20:08Z</dcterms:created>
  <dc:creator>Martin Beleš</dc:creator>
  <dc:description/>
  <dc:language>en-US</dc:language>
  <cp:lastModifiedBy>Marek</cp:lastModifiedBy>
  <dcterms:modified xsi:type="dcterms:W3CDTF">2008-10-01T18:03:44Z</dcterms:modified>
  <cp:revision>72</cp:revision>
  <dc:subject/>
  <dc:title>Přirozená a kulturní evoluce</dc:title>
</cp:coreProperties>
</file>