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724-4CB2-4B14-9217-28B4BE64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24B-0B62-4D01-9454-64A27C3F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4BF-F7AF-4AB6-A2D4-88B0B822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B3B-3502-464D-85B6-2B1EAF18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B7D9-DC2E-4919-9BAB-B1D970F9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3101-F569-4BD0-81A0-9A6B819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AB88-5AEE-4FFD-B442-7A633C3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71D9-D7CF-4DF5-BCB0-C636F5C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552D-3D8D-4E8E-B2E4-D431E946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1246-14D9-4DA8-93D6-66286172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D1B8-BDE6-45B5-8D96-C72F46D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AA1-9648-4B49-A2D5-4EE447F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89D0-D6E7-480F-8BDF-5AB1A7A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CB55-DBD1-42B2-B405-2A780773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14F-EF47-42DC-B6E8-D571236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C633-9E90-495E-B540-9345DF52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7952-445E-4C6F-B63D-037DCC2B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268-F781-40B7-89CE-C1DA1451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CAA-2FC6-4730-8556-8A95D926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BD5-D61E-4E78-8255-8BA5DF6B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8F3-2850-468F-9190-0E7EA57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05B-B5FF-40E2-8E4D-DB2F90D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6D1-AE2E-4882-8E0A-5520B3B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4D5-5B79-4E8F-84EE-2FA5264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2C0B-73A7-46B3-80E9-A8A1B5CB7E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8923-CD38-48B9-BF13-810B977028E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řetí vlna a její důsledk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84240" y="4578480"/>
            <a:ext cx="59817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Linda Khal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Zuzana Soóki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 a poli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ruhá vlna: centralizovaná byrokracia, nukleárna rodina, masový vzdelávací systém, veľké korpor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Tretia vlna: pozeranie sa do budúcnosti, väčší podiel duševnej práce, heterogenita, malé a mladé podniky, 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  <a:ea typeface="Arial"/>
              </a:rPr>
              <a:t>↑investícií, podpora sektoru služi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Stavebné princípy vlád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234900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Moc menší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lopriama demokra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ľba dec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Použitá literatú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TOFFLER, A. – TOFFLEROVÁ, H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Nová civilizace - Třetí vlna a její důsledky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Praha: Nakladatelství Dokorán, 2001. 125 s. ISBN 80-86569-00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POE, R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Třetí vlna – Nová epocha network marketingu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Brno: Nakladatelství Jiří Alman, 1998. 255 s. ISBN 80-86135-03-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BLAŽEK, L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Sylaby k jednotlivým tématům zveřejněné na www stránkách Ekonomicko-správní fakulty 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www stránky: http://www.park.cz/ke_treti_vlne_alvina_tofflera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366"/>
                </a:solidFill>
                <a:latin typeface="Arial"/>
              </a:rPr>
              <a:t>Ďakujeme za pozornos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77000" y="20934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ývoj spoločnost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á vlna – vznik pred cca 10 000 rokmi, zemědelská revolú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á vlna – vzn. pred 300 rokmi, priemyslová revolúcia 18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tia vlna – vznik v USA v 60. rokoch 20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ívlastky: informačná, znalostná, digitá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ciálne, kultúrne, politické a morálne zme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Havný konflikt súčas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Stret civilizáci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álka medzi záujmami 1. a 2. vl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 súčasnosti 3 súperiace civiliz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Demasifikácia spoloč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Upustenie od masovosti 2. vln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ýroba, marketing, médi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Heterogenita spoločnosti 3. vl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Informatizá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ormačná spoločnosť, komputeriz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droj bohatstva: 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Arial"/>
              </a:rPr>
              <a:t>Hlavné princípy ekonomiky 3. vl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arastajúca nezameniteľnosť profesií, požiadavky na špecializované doved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ovácie, reeinge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raštruktúra: elektronické komunik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280" y="2276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ezamestnanosť sa presunula od kvantitatívnej ku kvalitatívne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araďovanie pracovníkov do kategórií podľa miery spracovania symbolov a duševnej prá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telektuálne“ versus „neintelektuálne“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Kritériá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2565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ripomína to továreň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uje to spoločnosť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Koľko vajec je v košík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Je to vertikálne, alebo horizontál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racia to domovu sil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29:21Z</dcterms:created>
  <dc:creator>snoopy</dc:creator>
  <dc:description/>
  <dc:language>en-US</dc:language>
  <cp:lastModifiedBy>snoopy</cp:lastModifiedBy>
  <dcterms:modified xsi:type="dcterms:W3CDTF">2008-10-13T11:25:02Z</dcterms:modified>
  <cp:revision>45</cp:revision>
  <dc:subject/>
  <dc:title>Třetí vlna a její důsledky</dc:title>
</cp:coreProperties>
</file>