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681-3D94-489F-8C65-A9BA2E10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E9B-13B3-4D72-BE05-B07DD9F9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A43-C342-4E52-92BB-1ACC3743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73B-11DA-4551-966C-BB4C59AC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9C3F-B1B2-45BB-B3F3-477BE6FE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E310-06AE-44C3-A624-AB628491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E3E0-281C-4339-AF91-4A79BBCC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8D1D-EFD5-423F-9DDD-952D2C7F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7A10-CCCD-4691-8234-00352173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1839-8B14-4C8E-8C00-837B2B49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5591-99E4-43D2-A168-9B585179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06A-BB36-449A-B693-19B29802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2684-3830-4166-AE9D-6C099BA5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89D2-15D3-4477-BF1C-D923B07A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EA79-0F99-4195-9C8B-447B1076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9464-F927-42C8-BD2F-407E9E23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3A26-4161-494C-85BE-4A195A05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6D2C0-5A37-4D32-AF77-5378F623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526E-5C39-429B-8F8A-01B558D1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8F043-28F0-4B87-98EC-05F62CF0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76B5E-47E7-4D6F-AC74-85DDA219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5148E-CDA7-44E6-85C1-92FAB72B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493-851D-41E6-A8A7-55C486CD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A652C-9B4C-4C43-B420-B1DC3EF9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5020D-8DBC-4F9D-855A-BFA71B97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3A5D-D428-4D7D-8966-2CC749B8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7FD14-122E-4BAF-894D-3CDDC03E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FF674-76BE-4216-9817-F8CA7859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8C930-AE91-4AEB-9BB4-796764C2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9A68-3357-4929-80C2-B0366ADE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77C02-DCA2-46D2-989C-9A508868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1FDB0-458F-4BE6-89F6-0EC2A322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D41CF-04E8-4E24-BECB-D0A1BAA5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35D-F644-4C4D-9E44-174EC1F2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D79FB-A75C-4C86-815C-567D7F46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EE42D-9FF1-4800-BA7E-4A3B99FF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8834F-7B21-42A3-9E79-B8BBCF25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218F8-0F49-4135-B049-2AA00D56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617EC-DCAF-4EFC-BAC1-785C087C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FBBE8-3F6D-43E7-9CA9-0B08E5BB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CA2CF-EC0B-4029-A581-8BA8EAF4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F4A28-7674-405A-8FE5-6F6206DD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302B9-B73A-4509-B952-9527FC30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EC0-5149-47BA-9ACC-1AB8A86B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9EC-B27E-4D68-AFF1-22BEF3C0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7A2-77FB-42EA-90A6-F3689A27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14D-C1B8-4AAB-A5F4-0C3F3F7E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158-706C-4602-BB3C-56B46DBB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9118-2D9F-4BB6-9244-4D378245EE63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923A-B275-4921-AD4B-056845F4D7D2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004A-35A4-4BF6-A81F-BB0E45631FF7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CF6A-5124-4134-809F-BC993E5F87F3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5000760"/>
            <a:ext cx="7854840" cy="909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áclav Klein, Vít Zouhar, Robert Kund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Děkujeme za pozornos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0040" y="4571640"/>
            <a:ext cx="822960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CO JE TO NENULOVÝ SOUČET?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AM je unášeno lidstvo ve svých dějinách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á nějaký VYŠŠÍ SMYSL?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WRIGHT: Vývoj, evoluce má svůj směr a cí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BERGSON- ELÁN VITAL- pohání živé hmo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TEILHARD de CHARDIN-dějiny lidstva směřují k bodu omega, ten je umístěn mimo prostor a č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íliš nadpozemské??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ALE…Správná základní myšlenka 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Evoluce organismů má sklon vytvářet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složitější formy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a stejně i lidské dějiny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íhnou k vývoj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stále větších a složitějších uskupení-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noosféra, globalizační vesnice.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ZE SMĚŘOVÁNÍ NA KTERÉ BERGSON A DE CHARDIN UPOZORNILI VYSVĚTLIT VĚDECKÝM ZPŮSOBEM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podle Wright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AN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POVĚĎ BY PODLE WRIGHTA MOHLA BÝT V TEORII HER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Teorie her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or, který se snaží té které hře přiřadit právě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volučně stabilní strateg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le  úspěšnosti v aktuálním kole je získána jakási poukázka na množství potomků v kole následují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trate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 x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lze nalézt i v rámci jednoho druhu – vlivy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arwinovský boj o život – spíše v rámci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ednoho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ruhu, než mezi dru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řizpůsoben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se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Žádní vítězové – pouze poraže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y protihráčů jsou nepřímo úměrné (fotbal, tenis, bo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e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 jednoho nemusí být na úkor druhého. Obvykle se zájmy překrývaj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ehled vývoje života lze uvádět stručn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řehled lidských dějin je spletit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: u obou lze zachytit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zorec vysvětlující směr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ějin práv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mocí teorie her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Vznikají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nové technolgie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odněcují nové bohatší podoby vzájemneho působeni s nenulovým součtem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té se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yvyjeji společenská uspořádán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která tohoto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tenciálu využij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promění situace s nenulovým součtem v 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zitivní zisky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V souladu s paretovým optimem-nikomu se nemůže ve společnosti dařit lepe na ukor jinéh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například Technologické revoluce tak vytvářejí stále nové hry umožnujiící oboum stranám výhru(např. Hospodářský růst i pomocí technlogií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znamená to, ale že hry s nenulovým součtem musí být ziskové na obou stranách, nebo že by bylo vyloučené podvádění, nebo parazitismus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esto, se ale po čase ukáže, že vzniká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více součtů kladných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ž záporných a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častější je oboustraný zis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směřuje tak spíše k výhrám.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Uspořádání společnosti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 tak stál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složitějš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o šířky i do hloub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ějiny života i lidstva sestávají se stále častějších, rozsáhlejších a složitějších her s nenulovým součte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Hromadění nenulových her je podstatou narůstání biologické i společenské složitosti-hromadění nenulovos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Nenulovost dodáva hybnost základnímu směřování života na planetě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Výskyt strategií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Člověk se obvykle vyskytuje v prostředí, které mu je "přirozené", tedy mezi obdobnými strategiem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rozba infiltr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 zdánlivě slepý přírodní výběr přitom "odměňuje" entity, které jsou oproti svému okolí schopné lepšího zpracování informací. Čím lepší zpracování informací, tím blíže ke K strategii a tím větší je opět prostor pro altruism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ZMATEK DNEŠNÍ DOB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ahová období-vývoj skočí z rovnovážného stavu na  vyšší úroveň rovnováh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 tomu dochází i dn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 uznává že rostouci zmatek je znamenim rozhodného kroku v postupu toho, co můžeme nazvat osudem svě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Osudem našeho druhu je VYBRAT SI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Použitá literatura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avel Houser / Vzpoura genů : od velkého třesku k umělé inteligenci . -- 1. vyd.. -- Praha : IDG Czech, 2003. -- 127 s., [16] s. barev. obr. příl. :. ISBN: 80-86304-99-X (brož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bert Wright / Logika lidského osudu -- 1. vyd.. -- Praha : Lidové noviny, 2000. –356 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ttp://www.scienceworld.cz , nahlédnuto 4.10.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0:57:50Z</dcterms:created>
  <dc:creator>Zou</dc:creator>
  <dc:description/>
  <dc:language>en-US</dc:language>
  <cp:lastModifiedBy>Zou</cp:lastModifiedBy>
  <dcterms:modified xsi:type="dcterms:W3CDTF">2008-10-06T12:43:12Z</dcterms:modified>
  <cp:revision>2</cp:revision>
  <dc:subject/>
  <dc:title>Evoluce jako hra s nenulovým součtem</dc:title>
</cp:coreProperties>
</file>