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B65C-20D1-454E-B61C-74A4D639C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7BCA-D800-4ED1-A816-E86D4104E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5931-614E-4EB7-8496-997766720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C0A2-DB86-485A-8B38-9EC30CFE6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C029E-25F9-47DC-B022-C5962E8CD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0038D-2AED-4445-974D-B68513031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E84CE-F8BF-48E3-865F-D2AEAD1A2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9776E-C86D-4324-8141-73A7FC3DB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F89B0-DE9F-4368-8CB2-FE76C6048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49B90-C590-4C55-9669-382DCF107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BEC0E-E8BD-485A-97BC-282C11B6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2795-ABEC-4291-BEF9-4EE3F8C8D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9F85F-FC9B-4377-BCB9-B17413D80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22C8A-1FF6-49C0-ADBE-4DCB81A61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BABCF-013E-4D57-BC0B-263511D38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04F38-6250-4F3B-83AA-D96A5B086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EF5F9-72F7-4C8A-B023-C500A4557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3A35-56C5-42B8-8E84-C62D87B58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F491-9BCA-4074-A597-7CCFEEC2E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80FA-4923-47ED-BCFB-D0D87F5F4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51AA-7EC7-4DBE-A1E2-517FA1699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7063-8783-4D3C-9AEB-EDDCBB93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8E9F-25F5-4440-8833-0526E021C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B869-13DF-4F58-879F-56BD3E97A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E61C2-5B0D-4ABB-9295-E54449DFF2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122EC-5D17-4CF4-83DF-2AD3EFFB2E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11280" y="1125000"/>
            <a:ext cx="7772400" cy="18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b7"/>
                </a:solidFill>
                <a:latin typeface="Arial Black"/>
              </a:rPr>
              <a:t>Přirozená a kulturní evoluce</a:t>
            </a:r>
            <a:br>
              <a:rPr sz="2800"/>
            </a:br>
            <a:br>
              <a:rPr sz="2800"/>
            </a:br>
            <a:r>
              <a:rPr b="1" lang="cs-CZ" sz="3200" spc="-1" strike="noStrike">
                <a:solidFill>
                  <a:srgbClr val="ffffb7"/>
                </a:solidFill>
                <a:latin typeface="Arial Black"/>
              </a:rPr>
              <a:t>(Josef Šmajs: Drama evoluce)</a:t>
            </a:r>
            <a:br>
              <a:rPr sz="4800"/>
            </a:b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71280" y="4365360"/>
            <a:ext cx="680076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pracovali: Blaha Mich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rál Tomáš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aulíčková Marce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řirozená a kulturní evolu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oluce = proces, který směřuje proti rozpadu systému,zvyšování uspořádanos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dle nositele evoluční aktivit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oluce přirozená - příro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oluce kulturní – člověk (člověk prvkem přirozené evoluce a aktérem kulturní evoluc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ledisko evoluce klíčem pro pochopení a řešení ekologické kriz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zdělání lidí v oblasti závažnosti ekologického konfliktu, přijmutí nových hodnot (pochopení evoluce..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řirozená evolu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Nositelem přírod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Mnohem delší časové hledisko než evoluce kulturní, už od dob velkého třesku vznikaly prvky,struktury světa…(vznik abiotických a biotických systémů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ytváření, přetváření, modifikace určitých prvků a struktur, výsledek evolučního procesu předem neznám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Uspořádanost jednotlivých organismů i uspořádanost celého ekosystém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Kulturní evolu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Člověkem generovaný proces, cílevědomá i spontánní aktivi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měle vytvářená kultura vzniká z přírody, je závislá na přirozených evolučně starších systéme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ákladem kulturních struktur: informace kulturní=duchovní kultu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ika, kultivované organismy, přirozené systém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ěřuje proti evolučně vytvořeným strukturám příro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ůsledek rozmachu kultur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ůst a rozmach kultury- destrukce a snižování biologické rozmanitosti živo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ůmyslová revoluce- rostoucí nároky na suroviny, energie, hromadné čerpání zdrojů, znečiště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ritika koncepce  společenského vývoje bez ohledu na vývoj přírodní, nutnost považovat kulturu za podřízený subsystém biosfé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ritika povědomí, že člověk díky rozumu o přírodu přesahuje a je jí nadřaz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 je to informace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jem dosud uspokojivě nevysvětl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jako obsah a smysl zpráv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jako obsah pamě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jako uspořádanost byt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tížně se rozlišují a v důsledku toho i zaměňuj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 je to informace? II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„…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ázev pro obsah toho, co se vymění s vnějším světem, když se mu přizpůsobujeme a působíme na něj svým přizpůsobováním.“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va typ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ypy informa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ace přirozená, biotick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ace kulturní, uměl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řirozená informa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zdělila struktury na živé a neživ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Kulturní informa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zniká modifikací starší informace přirozen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Je produktem kulturní informace, ale zároveň i její podmínk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Teorie vzniku „spontánního společenského řádu“ (Hayek, F. A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b7"/>
                </a:solidFill>
                <a:latin typeface="Arial Black"/>
              </a:rPr>
              <a:t>Ontická role kulturní informa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mořádnou roli zastává lidský moz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„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še, čeho jsme dosáhli, je výsledkem kulturního vývoje, jenž se opírá o mozek stále stejné kapacity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zek se rodí s hotovou strukturou, bude pracovat moderním způsobem, avšak tento mozek má svou historii. Byl budován během miliónů let, reprezentuje historii, které je výsledkem.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Vývoj filozofi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ž donedávna filozofie bádala spíše v minulosti a snažila se vyložit podstatu nezpochybnitelného bytí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jí vztah k ostatním vědám byl opomíj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nes moderní filozofie hledí na realitu a vyvozuje z ní budoucnost, podstupujíce svoje teorie testu dalšími vědam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b7"/>
                </a:solidFill>
                <a:latin typeface="Arial Black"/>
              </a:rPr>
              <a:t>Ontická role kulturní informace II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ůsobí protipřírodně, je v opozici k přírodní evolu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ulturní informace se stává informací přirozen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užitá literatur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Šmajs, J.: Drama evolu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Šmajs, J.: Konflikt přirozené a kulturní evolu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Šmajs, J.: Základy systematické filosof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Wiener, N.: Kybernetika a společn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Gould, S. J.: Pandin pale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Jung, C. G.: Analytická psycholog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tudijní materiály předmětu Management I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Skutečnost – co o ní vlastně víme?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řišel „zázrak“ zrození, Slunce nám dodává energii nutnou ke všem procesům na Zemi (na planetu Zemi přitom dopadají pouhé 2 miliardtiny sluneční energi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Biotické x abiotické struktu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am směřuje skutečnost? Vesmír se rozpíná a chladne, zvyšuje se jeho entropie, naproti tomu na mnoha jeho místech vznikají stále složitější, organizovanější, struktu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Je směřování vesmíru náhodné či se jedná také o evoluční proc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ystém přírod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Globální biosféra – vytvořil ji život, nedevastuje Zemi, vychází totiž z jejích nejstarších struktu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tevřené živé systémy – mají epigenetickou paměť (CNS) a genetickou paměť. To vede k evoluc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rodukty evoluce jsou onticky předepsané struktury samovolně se strukturující biosfé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ozemský život se tak stává organizačně nejsložitější, fenotypově nejaktivnější a proto i nejhodnotnější ontickou vrstvou vesmírné skutečnost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Člověk jako součást systému přírody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ultura – druhý, mladší systém, součást přírody, nemůže bez ní existova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Antropocentrická iluze – nadřazenost člověka přírodě, kultura se musí biofilně přestavě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yšší systém neznamená silnější, naopak, slabší, křehčí organizační úroveň skutečnost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ozpor přírody a kultur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ultura je součást přírody, kde vzniknul rozpor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ultura je druhým ontickým systémem se sociokulturní informací, antropocentrická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emůže dosáhnout klimaxu s přírodou neboť roste mnohem rychleji, hnána příkonem se spalování fosilních paliv. Není tak prostor pro negativní zpětnou vazbu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rama evolu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icolai Hartmann – odlišuje vrstevnatost bytí a stejně tak jako první i přírodní a kulturní evoluc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Expanze planetární kultury zbytečně brzo ohrožuje člověka jako druh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Morálka není vždy závislá na faktu přežití, člověk může být fylogeneticky sobecký. Je však pouze nepatrnou větvičkou na stromu života, bez kterého nemůže existova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utné odstranit konspiraci lhostejnost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Uspořádanost struktur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pořádanost poukazuje na vnitřní zjevnou i skrytou rozmanitost skutečnos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pořádanost přirozená a kultur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nitřní architektura konkrétních struktur(biotických, kulturních…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y udržující identitu těchto strukt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řirozená uspořádanos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Cílem evoluční ontologie- přirozená uspořádanost jako vysoká kulturní hodno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ulturní X přirozená uspořádanost: Nešetrné zásahy kultury do přírody ničí tuto biotickou uspořádan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Šmajs: S ohledem na zachování přirozené uspořádanosti a na udržení biologické rozmanitosti života bude třeba rostoucí prostorové expanzi kultury zabráni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16:26:56Z</dcterms:created>
  <dc:creator>marcela</dc:creator>
  <dc:description/>
  <dc:language>en-US</dc:language>
  <cp:lastModifiedBy>snoopy</cp:lastModifiedBy>
  <dcterms:modified xsi:type="dcterms:W3CDTF">2008-09-30T13:02:12Z</dcterms:modified>
  <cp:revision>12</cp:revision>
  <dc:subject/>
  <dc:title>Přirozená a kulturní evoluce</dc:title>
</cp:coreProperties>
</file>