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6935F-51DE-41D5-8E0A-383576B1B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7CF78-DFB0-4C1A-ABB6-3001364BF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97BBF-AC11-4D0A-A5E8-473F303CD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7C742-3F1B-4B5D-9BB8-7E21DD0AE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2DEB5-8D6D-4170-BA4C-E911D9476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43650-6DFD-4571-9DB5-3C7C3A303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AFB53-D828-48BE-827B-B489E0998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76AD8-AE83-4344-8F2B-C72DB8453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A7779-DD8F-4252-990F-5E1403953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57483-544F-46FB-A46E-15BD32B0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00E1F-0C98-44FD-A378-8F63A9D0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691DA-0229-4F16-976C-5A3BB1CCE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63D78-D611-40E4-9FE9-C732C676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1E2E5-ACB4-4B66-8F17-43F170A7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1FFD6-6DB9-47B7-9675-6012ED857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C7E0B-82FF-40D8-B443-B008CAE44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8F72E-D460-4E8A-9529-3A0CFD664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2D2E9-C745-40ED-B373-24D005C5C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75459-2672-4218-8E5F-BD2115423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69B37-900C-4652-80F0-91F4376CA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1F7EF-8282-4C7A-81B5-4C987E82A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6A430-D9BC-4113-A366-8F2CADB6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51DAB-6DE3-4609-A53E-4072492C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40CBF-69B3-4F66-9998-F578F8C6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979F7-CE07-4B27-857A-7C85422420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04D27-A590-485D-8521-386CC2DE1E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lean.org/" TargetMode="External"/><Relationship Id="rId2" Type="http://schemas.openxmlformats.org/officeDocument/2006/relationships/hyperlink" Target="http://www.lean.org/" TargetMode="External"/><Relationship Id="rId3" Type="http://schemas.openxmlformats.org/officeDocument/2006/relationships/hyperlink" Target="http://www.lean.org/" TargetMode="External"/><Relationship Id="rId4" Type="http://schemas.openxmlformats.org/officeDocument/2006/relationships/hyperlink" Target="http://www.lean.org/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Kapitalismus nové civilizac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ichaela Kaprál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nika Kovář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omáš Sedláč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Mud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&amp;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Lean Think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hno: </a:t>
            </a:r>
            <a:r>
              <a:rPr b="1" lang="cs-CZ" sz="3200" spc="-1" strike="noStrike">
                <a:solidFill>
                  <a:srgbClr val="00007d"/>
                </a:solidFill>
                <a:latin typeface="Arial"/>
              </a:rPr>
              <a:t>mud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= plýtvání, mar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hlcuje zdroje, nevytváří hodno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ones, Womack: </a:t>
            </a:r>
            <a:r>
              <a:rPr b="1" lang="cs-CZ" sz="3200" spc="-1" strike="noStrike">
                <a:solidFill>
                  <a:srgbClr val="00007d"/>
                </a:solidFill>
                <a:latin typeface="Arial"/>
              </a:rPr>
              <a:t>lean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eštíhlující myšl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ék na hýřivé prakti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ntinuální tok hod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cipy zeštíhlujícího myšl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ecify value from the standpoint of the cust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dentify all the steps in the value stream – eliminate everything that does not create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grate the sequence so the product will flow smoothly toward the cust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et customers pull value from the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ursue perfection through continuous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užby a to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nik nenabízí produkt, ale přímo službu, kterou daný produkt poskytu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lumí nestabilitu - vyrovnává výkyvy, protože produkty jsou dodávány plynu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ynulý tok služeb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ální podnik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hy a jejich fung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Trh-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„Je oblast ekonomiky v níž se střetává nabídka s poptávkou a výsledkem tohoto střetu je nákup resp. prodej určitého množství zboží za určitou cenu.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Kapitalismus- „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Kapitalismus je ekonomický systém, v němž jsou výrobní prostředky v soukromém vlastnictví a provozovány za účelem dosažení zisku. Ekonomické parametry (např. ceny) jsou určovány prostřednictvím volného trhu (nabídkou a poptávkou), a to i ceny práce, nikoli řízeny pouze zásahy stát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Dokonalá konkurence-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„Teoretický model trhu, v němž platí: existuje velký počet kupujících a prodávajících, žádný z nich nemůže ovlivnit cenu, produkceje homoggenní, neexistují překážky vstupu do odvětví, všichni mají dokonalé informace o cenách a množství zboží na trhu.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íčiny nefunkčnosti trh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Špatná alokace kapitá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ční selh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ční selh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ční selh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zika hodnotových řetěz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pravdivé a chybějící cenové signá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úplné trhy a vlastnická prá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45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kčnosti trhu napomáhají spravedlivá pravidla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Čína: Země, kde se kapitalismus s komunismem snoub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oční růst HDP okolo 9% (již od 70.l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$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,53 bilionů zahraničních měnových rezer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větší producent textilu, oceli, zlata a c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roce 2006 dokončilo VŠ 2,4 mil. Studen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 2011 – největší spotřebitel ener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zitivní kro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tevřenější a svobodnější zem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voboda cest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rušení registračního systé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86% číňanů je spokojeno s ekonomikou a jejím směřování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voboda podnik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tevřenost zahraničním investorů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ohatství a velký rozvoj mě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n malý posun v poli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pírání svobody sl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iskriminace menšin (tibeťané, Sin-ťia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ěznění aktivistů v pracovních táborech, muč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oni zablokováno přes 2500 www strán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kračující monopol komunistické str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kaz nezávislých odborů a některých círk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Špatné pracovní podmínky (postavení zaměstnanců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pitalističtější než US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ém hrazení zdravotnictví a sociálních služ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átní zásahy do ekonomiky v období nynější kr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de kapitalismus nevyhnutelně k demokraci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a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írodní kapitalis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alizace a zeštíhlující myšl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hy a jejich fung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5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awken, P., Lovins, A., Lovins, L.H. </a:t>
            </a:r>
            <a:r>
              <a:rPr b="0" i="1" lang="cs-CZ" sz="2400" spc="-1" strike="noStrike">
                <a:solidFill>
                  <a:srgbClr val="666699"/>
                </a:solidFill>
                <a:latin typeface="Arial"/>
              </a:rPr>
              <a:t>Přírodní kapitalismus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raha: Mladá fronta, 200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5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666699"/>
                </a:solidFill>
                <a:latin typeface="Arial"/>
              </a:rPr>
              <a:t>„</a:t>
            </a:r>
            <a:r>
              <a:rPr b="0" i="1" lang="cs-CZ" sz="2400" spc="-1" strike="noStrike">
                <a:solidFill>
                  <a:srgbClr val="666699"/>
                </a:solidFill>
                <a:latin typeface="Arial"/>
              </a:rPr>
              <a:t>Principles of Lean Thinking“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Womack, J. and Jones, D., 1996. Lean Enterprise Institute. </a:t>
            </a:r>
            <a:r>
              <a:rPr b="0" lang="cs-CZ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www.</a:t>
            </a:r>
            <a:r>
              <a:rPr b="0" lang="cs-CZ" sz="2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lean</a:t>
            </a:r>
            <a:r>
              <a:rPr b="0" lang="cs-CZ" sz="24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.</a:t>
            </a:r>
            <a:r>
              <a:rPr b="0" lang="cs-CZ" sz="24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ttp://cs.wikipedia.org/wiki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ttps://ekonom.feld.cvut.cz/materialy/ekocz/EK02.pd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Časopis Euro, č.38/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 je dnes vzácn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čátek průmyslové revol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éně obyva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ální zásoby bezmezné a nevyčerpa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omezeným zdrojem jsou lid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íroda se stává vzácněj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Čtyři typy kapitá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nční kapitá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yrobený kapitá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írodní kapitá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dský kapitá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nvenční kapitalis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nčně zisková avšak neudržitelná forma lidského výv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írodní a lidský kapitál má malou hodno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lý zájem o odpad při produkci i staré výrob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írodní kapitalis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tředí není jen okrajovým faktorem výro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oucí rozvoj je limitován dostupností a funkčností přírodního kapitá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řeba radikálního zvýšení produktivity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ální strate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kální produktivita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logické mimik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konomika služeb a to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ování do přírodního kapitá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írodní kapitá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vědomovaný, ovšem nezastupiteln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bytek a snížení kv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nahraditelné a nezastupitelné přírodní služ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stice do přírodního kapitá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řeba revidovat systém daní a dot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verzní do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danění plynu, užívání všech vozidel a letadel,odpadů, umělých hnoj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maliz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k se provrtat nákladovou bariér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spora energi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ostní systémové inženýr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ek jako systém, ne jen suma čá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ání mu tradiční sché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šlení opačným směr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ndřej Částek</cp:lastModifiedBy>
  <dcterms:modified xsi:type="dcterms:W3CDTF">2008-11-03T13:26:29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