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8A8-9B6A-4607-9D35-605D665C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161-2057-4DF6-A37B-36B6928C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350-4E09-4ABD-9029-E0FC87CA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033-EA50-4D51-A28E-85EFADB4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FFB7-94C6-4C62-BD30-DABE80FC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956F-7E3B-46FA-BA52-501A8A58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54B5-8A53-466B-B404-CA79327B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31D9-C5F1-43C3-B9A4-0CB0DF84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4927-F1DE-44EA-A993-CFE2E20F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3D1C-9AB2-4873-8412-1FBCD31E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F69E-BDB9-4D87-B8D7-39B4F21D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A8F-89E8-4971-AFD6-9C7DAA80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CD5C-D14E-4604-A168-F2C1A286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6376-6D00-4BB0-8755-5DF3A590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A6C2-D24B-431F-8BCD-BAAFEB28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D1D3-EB16-4092-B2DA-60F00634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4C55-2C9E-48F3-AD0C-AEA63332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D5405-E1E4-4D42-9FB8-4F774AEC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10E81-EA22-4A83-9384-F5E860A4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F9481-D045-4BCB-9D51-5530405E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2B315-79A3-4F5A-B747-B77956BA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0CB1B-0C6D-49F0-9321-5FE3CDC6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6DA-7D62-4BCA-8906-04AD87F8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B93B2-8670-421E-A7AE-884A05C3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0B7F4-BD30-4E44-B632-479D621B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451E3-4142-4204-8E43-E6512DD9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F4FB7-3BEE-4439-AA8E-1F53DC92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3E464-E895-422D-92B9-37AB8F07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99E8F-FD52-4631-93B1-FDF7FB8F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1CAB9-7FE2-42B1-B401-1730EC16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C484A-D5CE-4328-8287-885BE4CB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9EF9C-7F55-4DDD-932C-CCCD5FCE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FDCA-7EB2-4218-B082-7808E3AA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82A-D766-413D-B15C-2C8A7753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27283-7631-4ABA-9FF4-C18F9194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5EC55-779E-4CA1-BAF4-2243277D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9CB6B-B681-4734-83A6-8198523A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12A41-D25E-49FF-BEEA-4FA0D2C2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38185-614E-4FF4-A21F-E3F861D1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335AF-DCB9-4403-AA0C-50D91DF4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FCED2-6F48-41AD-806F-E1AC2EC4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E0CAC-9819-40B5-826A-8C76EFDB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762A-C50E-4B51-9F80-2830CEC2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1A939-1D5B-47A7-BE0A-4A5CA039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DDB-1223-4490-889B-5EB7B032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6CD00-2A2A-4372-BC96-1FFB143C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E311E-C09E-4B43-A83D-E7723B8A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BC7F2-A85D-4452-BBCB-054514D6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0C688-E23F-4B1C-9DF0-6FBF257A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F7755-3C26-4C53-8C89-F9A0B512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9ACDE5-CDBE-44B7-8B17-57D5986D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4FC0D-8375-4AF2-9FE5-9041AD4D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03F43-5DDA-4E49-A72D-7CBFB8EF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F3B1A2-3B56-4BC9-9CF3-00E6BCBB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E57E7-260E-4498-95D0-3C42ACD0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6A6-097E-4A7F-AFFC-A4EF0F6C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887B8-5C0C-451F-91B6-37C08B08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7A44E-6C67-4B44-83A6-6770CD38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45C29E-97B5-40E1-B241-C4F4E991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95C9D-B8CE-4935-9495-D3F30E0B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AF01C-CA96-47D5-9E0A-3D0B0934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C4CB53-B5FC-46DE-8980-A2ACBA6F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035CD-2091-4E19-B863-AAB6A10E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22D25-27DB-4874-A1D3-BEA05F54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EC783-910A-4AFA-9534-E14AC7B1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E6B7D0-CDDD-49D3-9E50-473D254F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529-88A6-413B-A62A-3F20F6D5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1BBCC0-8B26-47DD-8FBF-D07C5A1C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3006EF-5A04-45F1-B0FD-0F0A1B5F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618950-ABFF-46C1-9502-D9763257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02183-FF98-4264-BE8F-DBA1618E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3BB87C-797B-4460-A980-1A9E49E2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0161B-8B4B-4698-AD64-D87A82B1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49D8A-5EE9-4DB6-A537-6289CD35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56F85F-3660-4745-9103-DF50B0D3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38DAA6-FC2C-4FCA-B076-BA0F4C2A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82F0B-6468-428F-BD36-8BEEB2D2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FB9-E56B-4840-967F-0A66DC65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2A38B9-21F5-490B-8EAD-451D1736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E5BCF3-5012-4ACF-83A6-BD9E8DDB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1354A3-6016-41BD-BA09-DDD95716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ACAF0-00D3-493B-B6E5-E7D421FB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9E7BED-F1E7-4311-8887-E570A544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550-706E-411D-A8E3-36716D30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AE5D-BC7A-4408-8BF9-56053FC5E7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EB3B-A199-4215-BB40-D43F8B40F2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46CA-1CE7-42BE-AECB-44A716BEFF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01CC-2E20-4933-A589-9D2928A0A9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5667-E53E-4C68-B199-72396014E8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5BA2-EE3C-4225-902E-FCF3A8A74C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6FD0-0E69-419B-89BD-084CD5918B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nnis_Meadows_Moscow_febr2007-1-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s.wikipedia.org/wiki/1972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A A JEJÍ DŮSLED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f271c"/>
                </a:solidFill>
                <a:latin typeface="Calibri"/>
              </a:rPr>
              <a:t>Simona Jakubcov</a:t>
            </a: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Lucie Bielik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Martin Liz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Intelektuální versus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intelektuální podni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zita práce s poznání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ustředění duševní práce ve vede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hatství se měří podle materiálních statk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mbolické činnosti jsou považovány za neproduktiv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legace práce na jednotlivé zaměstnance, podporování inovací a nápad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dnota většiny výrobků spočívá v poznatcích, které jsou do nich vlože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Moscow, 16 Febr.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6680" y="3068640"/>
            <a:ext cx="2857320" cy="3789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Arial"/>
              </a:rPr>
              <a:t>Donella a Denis Meadows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nella 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 13.3.1941 – 20.2.200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růkopnicí v systémové dynamice vědách o životním prostředí, učitelka a spisovatel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4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197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e dostala do týmu vědců,vyvinuli počítačový model systémové dynamiky demograficko-ekonomických ukazatelů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World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financováno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ímským klub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enis L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7.6.194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americký vědec, profesor systémového managemen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entury Schoolbook"/>
              </a:rPr>
              <a:t>Meadows – 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72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- Meze růstu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en" sz="2400" spc="-1" strike="noStrike">
                <a:solidFill>
                  <a:srgbClr val="000000"/>
                </a:solidFill>
                <a:latin typeface="Century Schoolbook"/>
              </a:rPr>
              <a:t>Limits to Grow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1992 – </a:t>
            </a:r>
            <a:r>
              <a:rPr b="1" i="1" lang="cs-CZ" sz="3200" spc="-1" strike="noStrike">
                <a:solidFill>
                  <a:srgbClr val="000000"/>
                </a:solidFill>
                <a:latin typeface="Century Schoolbook"/>
              </a:rPr>
              <a:t>Překročení mezí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2004 – třetí pokračování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Mezí růstu ( 30letý upda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Tendence k překmitu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udržitelný způsob existence ( exponenciální růs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ychlé tempo používání hnojiv, růst měst, spotřeby energie a materiálů lid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užování  materiální základny lidst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ůst světové popul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nečišť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udoba a nezaměstnanost ( sociální rozdíl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olečnost na jedno použití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litické odmítání tématu mez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entury Schoolbook"/>
              </a:rPr>
              <a:t>Trvale udržitelná společnost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 simulovaných světů ( rovnováh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ředvídavá, pružná, moudr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valitativní rozvoj X fyzická expan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pokojování potřeby přítomnosti bez ohrožení budouc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teriální zabezpečení pro všechny(NE chudob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utnost pravidel,norem,sociálních doh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enění darů zemské kůry (neobnovitelné zdroj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exibil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entury Schoolbook"/>
              </a:rPr>
              <a:t>Rysy restrukturalizace světového systému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dokonalení signá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rychlení odeze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nimalizace používání ne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ředcházení erozi 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yužívání všech zdrojů s max. účinnos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zastavení exponenciálního růstu populace a fyzického kapitálu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3. Vlna: Trvalá udržitelnost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nformace ( větší databáze, lepší statistiky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ástroje k trvalé udržitelnost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vytváření vizí (cíl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co doopravdy chceme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vzájemné propojování (sítě, organizace, povzbuze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mluvení pravdy (lež naruší info tok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uč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milování (X individualism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Literatur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ennis L. Meadows, Donella H. Meadows a Jorgen Randers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Překročení mezí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,nakladatelství Argo, 1995, 320 str., ISBN 80-85794-83-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Nová civilizace,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95, 125 str., ISBN 80-86569-00-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Šok z budoucnosti,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70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SBN 0-553-27737-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f271c"/>
                </a:solidFill>
                <a:latin typeface="Arial"/>
              </a:rPr>
              <a:t>Děkujeme za pozornost </a:t>
            </a:r>
            <a:r>
              <a:rPr b="0" lang="cs-CZ" sz="3000" spc="-1" strike="noStrike">
                <a:solidFill>
                  <a:srgbClr val="4f271c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Obsah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lvin Toffl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nová teori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řetí vln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ritéria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polečnosti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zaměstnanos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intelektuální vs.intelektuální podniky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157140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arozen 3.10.1928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merický spisovatel a futurolo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daktor časopisu Fortu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stující profesor na Cornellově univerzitě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ositel čestných doktorátů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atý s H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 Toff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vou –spisovatelka a futuroložka, mimořádná profesorka na Univerzitě národní obrany ve Washingtonu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ijí v Los Ange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164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:\4.jpg"/>
          <p:cNvPicPr/>
          <p:nvPr/>
        </p:nvPicPr>
        <p:blipFill>
          <a:blip r:embed="rId1"/>
          <a:stretch/>
        </p:blipFill>
        <p:spPr>
          <a:xfrm>
            <a:off x="5072040" y="1928880"/>
            <a:ext cx="3406680" cy="239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 –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uture shoc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Šok z budouc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8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he third wav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Třetí vl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995 – </a:t>
            </a:r>
            <a:r>
              <a:rPr b="1" i="1" lang="cs-CZ" sz="3600" spc="-1" strike="noStrike">
                <a:solidFill>
                  <a:srgbClr val="000000"/>
                </a:solidFill>
                <a:latin typeface="Calibri"/>
              </a:rPr>
              <a:t>Creating a New Civilization 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(Nová civilizace)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yntéza předchozích dě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lnová teorie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ivilizační vl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1. vlna – 8000 př.n.l. – 1750 – zemědělsk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2. vlna – 1750 – 1955 – průmyslov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3. vlna – 1955 - ? – informační revolu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55 – v USA poprvé počet „bílých límečků“ větší než „modrých límečků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á civilizace přichází se třetí vlnou a jediná možnost přežití je přizpůsobení 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Kritéria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Připomíná to továrn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Demasifikuje to společnost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Kolik vajec je v košík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Je to vertikální nebo virtuální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Vrací to domovu síl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Principy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2.vlny (půda, práce, kapitál) – vyčerpateln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3.vlny - nevyčerpatelné zdroje (data, informace,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rastruktura – elektronická komunik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nání jako tvůrce technologického pokro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investicích - pokles významu kapitál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e skladování (just in tim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dopravě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materiálních nákladech (nové suroviny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Charakteristická společnost třetí vlny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ladá (doba trvání, pracovníc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(outsourcing, flexibili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kurence (inovac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vestice do výzkumu a vývo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zce specializovaní zaměstnan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ká míra využití informačních technologi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zaměstnanost z pohledu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60.let přesun od manuální práce ke službám (3/4 pracovníků v US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covní příležitosti jsou méně zaměnitelné (důraz na vzdělání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esun od kvantitativní ke kvalitativní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ve službá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, rekvalifikac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é pracovní pozi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finančnictví, poradenské služby, vzdělávání, pečovatelství, turismu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doma, flexibilní pracovní doba, půlené zaměstn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funkčnost tradičních monetaristických a keynesiánských nápravných prostředků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22:10Z</dcterms:created>
  <dc:creator>Lucie Bieliková</dc:creator>
  <dc:description/>
  <dc:language>en-US</dc:language>
  <cp:lastModifiedBy>admin</cp:lastModifiedBy>
  <dcterms:modified xsi:type="dcterms:W3CDTF">2008-10-13T21:20:58Z</dcterms:modified>
  <cp:revision>20</cp:revision>
  <dc:subject/>
  <dc:title>Třetí vlna a její důsledky</dc:title>
</cp:coreProperties>
</file>