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E96-3383-41F3-BF5A-75676066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B7E-F916-4C22-9F6F-05CC7DE5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ADD0-CD2F-4D56-9FA3-B59A4701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DB9-81EF-400B-B3CB-1107471B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9ADD-9FBE-462E-BB78-75821881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64C9-051B-4B36-8BD7-EAD3F485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41DD-59A4-4868-B432-28D33820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31AE-8080-4ACF-8D86-D2574486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3F43-8341-4CB1-9973-EC5CCA75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0BE2-4D80-4878-96DC-D6C241B8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CC35-070F-42F0-B173-280C8EDF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5B4-A74B-418A-9B4F-ED282D7A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53EA-2511-472F-987A-71E4179E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48C0-7DF0-4D62-9EF4-BB438A33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521A-52F1-4093-B8FA-5FDC2365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81C4-E895-49C9-BAE8-3765E699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3B71-140D-4222-8EB7-05F8E3A5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B22-BFCA-461A-B130-D4E6AE08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FFD-F600-4568-9AB0-BD4F3865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DED-B16D-4182-A23D-ADD5AA35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40A-4B78-481E-9704-9F53A24E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2A3-2382-4411-813F-1D416963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72D-72AD-4B62-9775-C77D0326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9E4-DB44-4E20-848E-6350D196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8EAC-4BEA-46D7-8296-A64EE78D3C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5090-89E5-4701-B2DA-60C6DE95051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stinkt, rozum a rozšířený řá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Michal Plače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Ondřej Roudnick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Juraj Podhradsk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ijaté způsoby jednání po nás často vyžadují zanechat toho co po nás vyžadují naše instink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de 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éně střet citu a rozum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íce spor vrozených instinktů a naučených pravi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znám se, že se musím usmívat vždy, když knihy o evoluci, dokonce i knihy napsané vědci, v nichž se uznává, že se vše až dosud vyvíjelo procesem spontánního řádu, končí apelem na lidský rozum, aby se teď, když věci začaly být tak složitými, chopil otěží a řídil budoucí vývoj.“ F.A.Hay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inkt starší než zvyk a trad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vyk a tradice jsou starší než rozu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síme se mít na pozoru před domněnkou, že zvládnutí vědecké metody rozšiřuje způsobilost myšlení obecně. Zkušenosti ničemu tak jasně neodporuje jako přesvědčení, že člověk, který vyniká v jednom nebo více oborech, je v otázkách každodenních záležitostí moudřejší než kdokoli jiný.“ W. Tro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zum podle Lock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ENÍ schopnost pochop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LE principy činnosti, ze kterých vznikají ctnosti a vše nezbytné pro vznik morálních zás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álka není výtvorem lidského rozumu, ale produktem kulturní evolu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ecně platí, že čím inteligentnější a vzdělanější člověk je, s tím větší pravděpodobností bude nejen racionalistou, ale také zastáncem socialis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cionalisté mají sklon být inteligentní a intelektuálští a inteligentní intelektuálové tíhnou k socialism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ligentní lidé ale budou mít tendenci nadhodnocovat význam inteligence a předpokládat, že současné výhody a příležitosti jsou spíše produktem promyšleného plánu než dodržování tradičních pravide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n to co je racionálně zdůvodnitelné a lze to dokázat experimentem si zaslouží důvěr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n podle toho co působí potěšení, bychom měli jednat a ostatní odmíta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&gt; hlavní morální tradice si nezasluhují naši oddanost a naším úkolem je konstrukce nové morálky podmíněné vědeckým poznáním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dpoklad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ržet se toho co nelze vědecky zdůvodnit nebo dokázat pozorování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održovat to, co člověk necháp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ělat cokoli nejsou-li předem známy účinky a nejsou-li tyto ověřitelné a prospěšn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ysluplné a rozumné jen ty procesy, které jsou vědecky prokazatelné, pochopitelné a nepostrádají cí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ětšina principů, institucí a způsobů tradiční morálky nevyhovuje uvedeným požadavkům =&gt; jsou tedy nerozumnými a nevědecký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sa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Úvod do problematiky konfliktu instinktu a řá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um a morál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zyk, růst populace a náboženstv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tratí-li slovo svůj význam, ztratí lidé svou svobodu“ Konfuci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zyk nám umožňuje nejen označovat objekty dané našim smyslům jako jednotlivé entity, ale také klasifikovat nekonečnou rozmanitost kombinací charakteristických znak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imizmus x artificialism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VHODNÉ výraz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apitalismu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žní ekonom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HODNÉ výraz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atalaxe = předmět ekonom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siččí slovo „sociální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 popisného významu se přechází k předpis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Účinky slova „sociální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vrácená představa, že to co vzniklo spontánně, je vlastně výsledkem cílevědomé lidské tvorb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eluje na lidi, aby znovu rozvrhli to co sami nemohli navrhno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bavuje významu substantiva za ním =&gt; lasičč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žívání termínu „sociální“ je totéž jako volání po distributivní spravedlnosti. Ta je neslučitelná s tržním řádem založeným na konkurenci =&gt; sociální = protispolečensk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lthusiánské teorie nemají v dnešní době opodstatnění, protože vycházejí z dvoufaktorové ekonomiky a homogenního faktoru prác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dská populace je sebestimulující a není sebelimitující jako u zvíř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populace neskončí dokud nebudou jednotlivé úrodné části země přibližně stejně hustě osídlené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populace je esenciální pro růst blahobyt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Život nemá jiný účel než sebe sama (atomová katastrof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áboženství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cip tvorby a zachování morálních zásad, protože tyto nemohou být zachyceny během jednoho živo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achovala se jen náboženství podporující oddělené vlastnictví a rodin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ákony svědomí, o kterých říkáme, že se rodí z přírody, se rodí ze zvyku“ M.E. de Montaig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ayek, F.A., Osudná domýšlivost: omyly socialismu. 1. vyd. Praha : Sociologické nakladatelství, 1995. 200 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ayek, F.A., Kontrarevoluce vědy : studie o zneužívání rozumu. 1. vyd. Praha, Liberální institut. 1995. 212 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Šmajs, J., Filosofie psaná kurzívou. 1. vyd. Brno : Doplněk, 2003.113 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istoteles věřil, že počet lidí žijících v řádu nemůže o mnoho překročit množství, ke kterému by dolehla slova hlasatele, a proto je stát čítající 100 000 lidí neuskutečniteln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hodoval se na základě instinkt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lo by nám zatěžko uvěřit, že něco takového, jako je náš nynější řád, je vůbec možné, a vyprávění o něm bychom považovali, kdybychom v něm reálně nežili, za bájnou a zázračnou pověst o něčem, co nikdy nemůže nast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ynější dimenze existence lidstva a její struktura vznikla zejména díky pravidlům lidského chován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ířený řád se neobjevil najedno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žní řád je teprve nedávn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ktury a tradice tohoto řádu vznikali dlouh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 obratu od zvířete k člověku došlo díky kulturně determinovaným omezením vrozených reakc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učená pravidla, kterými se jedinec začal nevědomky řídit, nahrazovala instinktivní jednání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Genetický a kulturní vývoj se dostává do konfliktu (analogicky prof. Šmaj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ezi nejdůležitější z vrozených instinktů, které pomáhaly odstranit instinkty jiné, je schopnost učit s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esto zásadní konflikt mezi tím co mají lidé instinktivně rádi a naučenými pravidly chování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ířený řá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přirozený (nepřizpůsobuje se biologickému vybavení člověk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 přirozený – vzniknu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0:51:28Z</dcterms:created>
  <dc:creator>Ondra</dc:creator>
  <dc:description/>
  <dc:language>en-US</dc:language>
  <cp:lastModifiedBy>Ondřej Částek</cp:lastModifiedBy>
  <dcterms:modified xsi:type="dcterms:W3CDTF">2008-10-07T14:03:40Z</dcterms:modified>
  <cp:revision>8</cp:revision>
  <dc:subject/>
  <dc:title>Instinkt, rozum a rozšířený řád</dc:title>
</cp:coreProperties>
</file>