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8B56-367F-450F-B0EC-DF32FEF34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2796-B179-4730-849C-190B644A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0695-DD9D-43A8-9623-5FA757ADA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E0A6-D026-4ED9-9168-206A6AA16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964E-2DF4-4CD3-872E-F7F6CD953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A41F-F5EE-4857-BF1F-E504CDA7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F8E5-F91D-4F3F-83BD-3D3597FC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7FF3-8D1D-4143-AE3F-F1963A10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2E97-E4B7-4C31-9EC8-81C65548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BD95-F4AA-410C-A20D-8094326E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74D0-A0D0-490C-A9E0-A763F599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13F4-37FD-4059-AFF6-DC04EF72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4BD9-D212-4FDF-9D6E-B01AADA6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DDA4-883E-45E5-AAC7-90208E1C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8395-D827-4E83-957E-E19F90ED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B78F-4A82-4650-B5C7-96C16764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2BEE-5FF4-4DC1-90DF-11557A60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82A568-D22A-4508-9B4D-8291E20C2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B3F770-F4C7-4133-8CAB-2C277015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B929CD-0760-40BB-968B-B41E2680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B67AE4-05A4-44E7-8430-97030A7F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7BFE3F-5A64-4C7F-9532-1A120FE4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33EA-3F1C-46CD-B4C1-A1EC4C63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509FA0-4830-4B04-926C-3C33638F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0E4127-5629-4FB4-8759-C0C5E566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A73DBB-53DF-4F72-B402-970182BC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26C7CD-446B-4211-ACBB-40B65661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CE22E3-B768-450B-8F9D-2AB8C768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54A877-C040-47BE-9EEE-E006E139A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E2DE3D-F66B-4F80-865D-35C7C9EB6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A983EB-29AE-4D95-800C-165533A80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FA1214-4BE4-49CD-B8F9-6BB7C082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D6681F-1FF4-4243-9299-5119A68D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3733-B088-467D-9975-EE0C7E33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82D4A9-389D-4B95-AE6D-9145A234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99CEDA-5D7A-47BA-8C93-B0B7A2DC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EAE22F-659F-491D-87FE-A2AAF227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9DBC5E-0C34-4CEA-82C6-0309BC11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95E77B-DAF7-4AB0-B7C8-3AF674FB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10D40D-2293-4BCA-8776-58E5FD2B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F7E5B5-9D45-4222-889C-98942094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E56954-CDFE-4BD4-8849-DFBC5A0C6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875238-F336-4661-A56C-799CE9598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930ECE-FE3B-454A-9D47-B63CBED3F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CD30-0311-4D74-B0E7-40AC0532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7A4377-6FF2-405B-A755-9AADDE64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30D639-9FF1-46FD-909E-BC2F6016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634778-25A0-41B5-ABD2-259A65BF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AC0116-EABB-4CDD-8060-F2A807E9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3F0A65-F064-4A52-ABC4-CA025656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A9AE6B-E32D-4FCE-85CE-FBB8B3EE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B78AD0-3EE2-43D1-9F4F-739FCC1F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CE31D5-F88B-40A9-8201-4EA9D0D6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16FB8D-9BC4-4BDE-9729-8EC7C25F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157598-95AB-4466-BB78-8A7AF194B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06FD-E4B0-406E-A5D1-761DE9BE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03AFE0-71E9-4B97-A877-CD312DB77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CB705-B57D-47B4-96D5-4FA24C26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22945-00DB-4F24-BACC-BAE19331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6909C-456D-4463-9232-B7F3E976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2E6E7-0F6F-4EA5-885A-EEB539C2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5CD58-D74D-4006-B72C-3B17A2E1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CCA4A-7DB4-4B5B-80E8-A9441F61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71D20-6986-4C88-BBDE-EA54C28D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ACC04-FBAB-4F69-8C65-8F876BD3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0F150-BAFE-477B-95DC-0B5D96A1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18BE-F342-40D9-92F4-55902DFA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C6FDF-6C33-4756-9EBE-4033A5DD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27576-25C6-4AAC-AED3-851DBC32B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CCC82-D0C9-42D5-AD9E-04E94851A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A12D0D-908D-4164-BD1F-AE9C13A2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E6AF0D-32AE-4FE6-B309-750AC6E4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FBDCA0-0E55-4015-9AE5-B4B2D2AA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864B78-CC32-46CF-B658-2956AB9D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46058B-85F9-4E78-86D4-2E7A0715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C02B9E-ADDF-4803-B3D5-BE0B1C65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7962CC-B80A-441B-9407-E6CE54ED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170F-F67E-4857-8EA6-EC3FF04D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3007EB-D30D-4FD9-A78C-48078C69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5F729C-1DEB-4FA9-8F66-B5FCB03C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A47F76-27A5-4240-AD04-D2668A5C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A2C991-BA07-415B-B2C4-72FEA7EB8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F09D9C-D427-47C9-8340-1C6DCF39D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A6D3C-EB48-4C76-BC5C-84540E229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4762F-1984-4CFC-87D1-36A68C2E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69109-2851-48D9-9FBE-5E46FB7C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18AF8-0381-4E4F-AEB0-AF241A18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B70B6-5F43-436C-B109-7A5F9999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4551-FC7F-4EA4-939B-1499A502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9A493-55F7-4CDA-AE4A-F55319FC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0E90C-5095-474E-ACA8-3176051C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8724C-1F7D-44F0-BB4F-2A71A879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C174C-2AD5-450B-B847-ED77B0B8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BC35D-D22A-44F7-8174-A61B6029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18E59-327B-49E9-A62C-C7AF1F47A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B40C3-77AA-4EA7-AD54-61EB796C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BD7E-08A9-4D40-9A85-430ECBF5D8B8}" type="slidenum">
              <a:rPr b="1" lang="cs-CZ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délní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13BD-A6D7-4C4C-82AB-ACAFF4B98F5F}" type="slidenum">
              <a:rPr b="1" lang="cs-CZ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bdélní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bdélní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délní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3640-69B2-4716-908B-BADF00E59758}" type="slidenum">
              <a:rPr b="1" lang="cs-CZ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C897-BB0C-4A48-A0E9-C67520CD5E6A}" type="slidenum">
              <a:rPr b="1" lang="cs-CZ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ADFC-CCE7-4729-87DC-3F196E6D7A0D}" type="slidenum">
              <a:rPr b="1" lang="cs-CZ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5E58-6226-4C81-822E-4A43F71FFC91}" type="slidenum">
              <a:rPr b="1" lang="cs-CZ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Obdélní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bdélní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E055-0E01-45C1-8DBB-DC34DD93F7D3}" type="slidenum">
              <a:rPr b="1" lang="cs-CZ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Obdélní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bdélní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bdélní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0E42-01C2-45D6-B79B-626F7E630663}" type="slidenum">
              <a:rPr b="1" lang="cs-CZ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bddc3"/>
                </a:solidFill>
                <a:latin typeface="Tw Cen MT"/>
              </a:rPr>
              <a:t>EVOLUCE JAKO HRA S NENULOVÝM SOUČTEM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w Cen MT"/>
              </a:rPr>
              <a:t>Pavel Hasoň, Zuzana Jurková, Milan Kedroň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Simulace na starších počítačích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1. Vymizeli strategie absolutně dobr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2. Triumf zlých pouze dočasný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3. Vítězem půjčka na oplátk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k neznámému se zachová dobř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 dalších kolek pak kopíruje jeho chování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Důvod vítězství: zlé je podvedou jenom jednou, poté se už podráží vzájemně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Simulace na nových počítačích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Byla zavedena možnost chyby strategie“náhodný šum“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ůjčka na oplátku poražena strategií, která je ještě hodnějš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Schopnost odpouštět – zradu v průběhu hry jednou přehlédnem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Robert Wrigh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Žije ve Washingtonu, D. 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Autor článk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The New York Times Magazine, The Atlantic Monthly,…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National Magazine Award for Essay and Critis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Spisovat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íc než nic, Logika lidského osud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Morální zvíře: Evoluční psychologie každodenního život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Tři vědci a jejich bohové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Víc než nic, Logika lidského osudu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w Cen MT"/>
              </a:rPr>
              <a:t>Evoluce lidských společností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w Cen MT"/>
              </a:rPr>
              <a:t>Kam je unášeno lidstvo ve svých dějinách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w Cen MT"/>
              </a:rPr>
              <a:t>Využívání teorie her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w Cen MT"/>
              </a:rPr>
              <a:t>Vývoj historie lidstva = nenulová hra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w Cen MT"/>
              </a:rPr>
              <a:t>Lidé jsou svazováni stále větší vzájemnou závislostí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w Cen MT"/>
              </a:rPr>
              <a:t>Naznačuje, k čemu pravděpodobně dojd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7" name="Zástupný symbol pro obsah 7" descr="wright.jpg"/>
          <p:cNvPicPr/>
          <p:nvPr/>
        </p:nvPicPr>
        <p:blipFill>
          <a:blip r:embed="rId1"/>
          <a:stretch/>
        </p:blipFill>
        <p:spPr>
          <a:xfrm>
            <a:off x="5500800" y="2000160"/>
            <a:ext cx="2379600" cy="35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Víc než nic, Logika lidského osudu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Příklad lovců a sběračů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Soupeřit o místa vysoko na společenském žebříčku znamená hrát hru s nulovým součtem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Jedním ze způsobů, jak v soupeření uspět, je objevit technologie, které vytvářejí nové hry, avšak tentokrát se součtem nenulovým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Příklad války – i zde nenulovost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Vývoj společností míří neustále kupředu, což potvrzuje teorii nenulového součtu jako výsledku vývoje společnosti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Citace z knih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Výhody získané z nenulových součtů organizovanost společnosti značně zvyšují. Účast v úspěšné hře s nenulovým součtem obvykle už sama o sobě znamená nárůst společenské složitosti. Od hráčů vyžaduje, aby koordinovali své chování. Lidé, kteří by jinak žili sami ve svém světě, se dají dohromady a vytvoří jeden uspořádaný celek, ve kterém se navíc téměř vždy uplatní dělba práce.“ </a:t>
            </a: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*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Tw Cen MT"/>
              </a:rPr>
              <a:t>* Str. 29, Robert Wright – Víc než nic, Logika lidského osudu, nakladatelství Lidové noviny: 2002, ISBN 80-7106-433-5, 457 s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Použité zdroj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Robert Wright – Víc než nic, Logika lidského osudu, nakladatelství Lidové noviny: 2002, ISBN 80-7106-433-5, 457 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b0f0"/>
                </a:solidFill>
                <a:latin typeface="Tw Cen MT"/>
              </a:rPr>
              <a:t>http://encyklopedie.seznam.cz/heslo/183426-clove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b0f0"/>
                </a:solidFill>
                <a:latin typeface="Tw Cen MT"/>
              </a:rPr>
              <a:t>http://rubriky.cz/darwinova_evoluce_a_inteligentni_plan.php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b0f0"/>
                </a:solidFill>
                <a:latin typeface="Tw Cen MT"/>
              </a:rPr>
              <a:t>http://www.scienceworld.cz/sw.nsf/ID/51121AEBBE0CA003C1256E9700489BE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b0f0"/>
                </a:solidFill>
                <a:latin typeface="Tw Cen MT"/>
              </a:rPr>
              <a:t>http://is.muni.cz/th/98689/fi_b/kooperace.tx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775f55"/>
                </a:solidFill>
                <a:latin typeface="Tw Cen MT"/>
              </a:rPr>
              <a:t>Evoluce jako hra s nenulovým součtem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Úvo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Evolu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Teorie h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WRIGHT, R. Víc než nic. Logika lidského osudu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4" name="Obrázek 3" descr="evoluce.jpg"/>
          <p:cNvPicPr/>
          <p:nvPr/>
        </p:nvPicPr>
        <p:blipFill>
          <a:blip r:embed="rId1"/>
          <a:stretch/>
        </p:blipFill>
        <p:spPr>
          <a:xfrm>
            <a:off x="2714760" y="2071800"/>
            <a:ext cx="61513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Evolu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Stáří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esmíru – 13,7 miliard le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lunce – 4,7 miliard le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Země – 4,6 miliard le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Život vznikl před 3,5 mld le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3 miliardy let byl pouze jednobuněčný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„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Moderní“ člověk - </a:t>
            </a:r>
            <a:r>
              <a:rPr b="1" i="1" lang="cs-CZ" sz="2900" spc="-1" strike="noStrike">
                <a:solidFill>
                  <a:srgbClr val="000000"/>
                </a:solidFill>
                <a:latin typeface="Tw Cen MT"/>
              </a:rPr>
              <a:t>Homo sapiens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- asi před 200 000 le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Evolu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Tw Cen MT"/>
              </a:rPr>
              <a:t>Darwinova evoluce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(Darwinismus) vs. </a:t>
            </a:r>
            <a:r>
              <a:rPr b="0" i="1" lang="cs-CZ" sz="2900" spc="-1" strike="noStrike">
                <a:solidFill>
                  <a:srgbClr val="000000"/>
                </a:solidFill>
                <a:latin typeface="Tw Cen MT"/>
              </a:rPr>
              <a:t>Inteligentní plán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(Intelligent design)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Darwinismus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(150 let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šechny organismy jsou modifikovaní potomci společného předka, kteří vznikly akumulací náhodných odchylek a neřízenými procesy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Inteligentní plá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z empirických důkazů lze některé rysy přírodního světa nejlépe vysvětlit pomocí inteligentní příčin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Fak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neexistuje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vědecký důkaz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, že živočišné druhy se vyvinuly ze společného předk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Darwinismus se neopírá o jediný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vědecky prokázaný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fakt, který by pokrokem ve vědě nebyl vyvrácen – vědecký konsensu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Poměr 500:700 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mezi odpůrci a příznivci darwinismu z řad renomovaných vědc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Z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fosilních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nálezů není možné za žádných okolností určit, kdo z nich je předek, kdo potomek, kdo otec, kdo sy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Fak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řítomnost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informace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v DNA vylučuje náhod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Bičík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trávící bakterie – Musel  být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rovnou sestaven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podle konkrétního plánu takový jaký je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Srážlivost krve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relizovaná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kaskádou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proteinových moleku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Darwinisté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bojkotují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publikování ve vědeckých časopisech práce ne-darwinistů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Evoluční hra a evoluční strategi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Nevztahuje se jen na biologické chování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Evoluční strategi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ztah k produkci potomstva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míra podstupovaného rizika – spojitost s finančními trh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Evoluční strategi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yužívá počítačové modely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čím úspěšnější, tím více potomků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Vězňova hr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Dva vězňové, čtyři možnosti řešen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nejvýhodnější pro nás já jsem zlý, on je dobrý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nejméně výhodná je opačná strategi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lušná výhoda při kooperaci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mírná prohra při vzájemném podraz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Zdánlivě se vyplatí podvádě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Ale! Při vzájemné kooperaci „body navíc“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Podmínky simula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Nekonečná hr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Dokonalá paměť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Čím více bodů, tím vícekrát strategie v dalším ko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Řada přednastavených strategi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8:13:04Z</dcterms:created>
  <dc:creator>Pafča</dc:creator>
  <dc:description/>
  <dc:language>en-US</dc:language>
  <cp:lastModifiedBy>Pafča</cp:lastModifiedBy>
  <dcterms:modified xsi:type="dcterms:W3CDTF">2008-10-01T11:42:18Z</dcterms:modified>
  <cp:revision>22</cp:revision>
  <dc:subject/>
  <dc:title>Evoluce jako hra s nenulovým součtem</dc:title>
</cp:coreProperties>
</file>