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885-8C78-4FC9-A9D1-C240063D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2E4C-440B-47EE-BC39-1DC60796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799D-9A01-4AB8-B897-50A50FEA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CD0E-5848-4526-A9FC-7672559C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6DA7-EB6D-40F3-8EE4-800D81B5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6B8B-F3F6-4FC6-BBC6-18FF6E5C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7402-1526-40C7-8682-554BDEB7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04B4-9906-41F4-9F18-FDB2F1A3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A723-FF4B-4299-A66A-74E83003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A751-558B-43CB-B083-E93F6D41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336C-10CE-4585-AFA7-C2E5F729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FB3-0951-4B0B-8B56-44DAE6F3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AB53-658D-43A0-B753-12CC8F4D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18BD-90D6-4B87-84D2-30245ECB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593A-DB8D-475D-BA13-198F1F95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2E24-0266-4422-89D0-042D9EFD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8CFC-9021-42FC-A50F-C1C41D02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EFEA-3DB3-419F-84D1-8D1E1FFD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9355-8CA5-41BA-9C4A-6DDEA728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8A2D-CF77-4295-81B6-32AFB98F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182A-0CE6-4C55-BDD6-F3AD297D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66E3-F438-4216-9A99-B44213EB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D632-1294-442F-A226-465946B4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760-2AED-43E6-BE36-EB55B263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2BCD-2136-4296-A470-851A24231B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69ED-0F50-4026-8BB2-FB97348BD8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</a:rPr>
              <a:t>Přirozená a kulturní evolu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chová, Jelínek, Kaszper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lověk  - výjimečný živočišný dru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 je motorem kultur. evol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původního přírodního řádu vytváří odvozený kulturní řá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ltura – nestandardní, potenciálně protipřírodní subsystém biosfé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Produkt 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tivované organis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tivované přirozené systé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uševní a duchovní k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Vztah přírodní a 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roda vytvořila dokonal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hardwar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“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tímco kultura, do níž se člověk socializu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í pouze je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softwar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Konflik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rozená vs. kulturní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ělé  vs. přirozeného (řád z řád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mná přirozená uspořádanost 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biosfé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ustupuje před hrubou nebiotickou uspořádaností 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technosfé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Drama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sledky konfliktu – ekologická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m směřuje šipka čas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Literatur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majs, J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Drama evolu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Praha: Hynek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majs, J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Konflikt přirozené a kulturní evoluc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no: MU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veney,P., Highfield, R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Šíp času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trava: OLDAG, 19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rwin, CH.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 O původu člověka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ha: Akademika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veney,P. Highfield, R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Mezi chaosem a řáde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Praha: Mladá fronta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11280" y="2491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Děkujeme za pozornos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je evolu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rozená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rozená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turní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lturní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flikt přirozené a kulturní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Co je evoluc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zvolný, průběžný vý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stitutivní, svébytný a spontánní pr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í stále jemněj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iferencovanější struktu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Co je evoluc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vní ucelenou evoluční teor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Jean Baptiste Lamar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značení procesu změn dědičných vlastností mezi organismy (evoluční biolog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nešní chápání vychází z </a:t>
            </a: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Charlese Darw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Co je evoluc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197000"/>
            <a:ext cx="64008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ledek evolučního procesu je vždy víceméně neznámý, předem nezjistitel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nepředpověditeln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běh evoluce je na každé organizační úrovni ovlivňován uvnitř i vně systému mnohými nahodilými fak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Ča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268360" y="1557360"/>
            <a:ext cx="6624720" cy="4176720"/>
            <a:chOff x="2268360" y="1557360"/>
            <a:chExt cx="6624720" cy="4176720"/>
          </a:xfrm>
        </p:grpSpPr>
        <p:sp>
          <p:nvSpPr>
            <p:cNvPr id="98" name=""/>
            <p:cNvSpPr/>
            <p:nvPr/>
          </p:nvSpPr>
          <p:spPr>
            <a:xfrm>
              <a:off x="4572360" y="1845360"/>
              <a:ext cx="1728000" cy="3888720"/>
            </a:xfrm>
            <a:prstGeom prst="downArrow">
              <a:avLst>
                <a:gd name="adj1" fmla="val 50000"/>
                <a:gd name="adj2" fmla="val 5626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04360" y="2565360"/>
              <a:ext cx="720000" cy="14400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č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12360" y="1557360"/>
              <a:ext cx="2304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Arial"/>
                </a:rPr>
                <a:t>BIOLOGICKÝ ŽIV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(energie, hmot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12360" y="2421360"/>
              <a:ext cx="2160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Organizovaná hmo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12360" y="3429720"/>
              <a:ext cx="2160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Soutěžení o zdro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12360" y="4149720"/>
              <a:ext cx="2160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Přirozený výběr (přežití nejzdatnějšíh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12360" y="4869720"/>
              <a:ext cx="2160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Evoluce s otevřeným konc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20360" y="213336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20360" y="2853360"/>
              <a:ext cx="144000" cy="576000"/>
            </a:xfrm>
            <a:prstGeom prst="downArrow">
              <a:avLst>
                <a:gd name="adj1" fmla="val 50000"/>
                <a:gd name="adj2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0360" y="386172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20360" y="4725720"/>
              <a:ext cx="144000" cy="144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68360" y="2853360"/>
              <a:ext cx="1008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Mut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08360" y="2853360"/>
              <a:ext cx="1152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sebereplik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56720" y="1557360"/>
              <a:ext cx="2160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Arial"/>
                </a:rPr>
                <a:t>UMĚLÝ ŽIV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(strojový čas, paměť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56720" y="2421360"/>
              <a:ext cx="2160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Organizovaná hmo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68720" y="3429720"/>
              <a:ext cx="2736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</a:rPr>
                <a:t>Soutěž o zdroje času a paměti CP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68720" y="4149720"/>
              <a:ext cx="3024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Přirozený výběr nejzdatnějšího sebereplikujícího se algoritm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00720" y="4869720"/>
              <a:ext cx="2016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Evoluce s otevřeným konc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4720" y="213336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64720" y="2853360"/>
              <a:ext cx="144000" cy="576000"/>
            </a:xfrm>
            <a:prstGeom prst="downArrow">
              <a:avLst>
                <a:gd name="adj1" fmla="val 50000"/>
                <a:gd name="adj2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4720" y="386172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64720" y="4725720"/>
              <a:ext cx="144000" cy="144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12720" y="2853360"/>
              <a:ext cx="1008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Mut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52720" y="2853360"/>
              <a:ext cx="1152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sebereplik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Přirozená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udká expanze kosmické hmo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 15 mld.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lký tř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ástice, atomy, molekuly, kosmické objekty, země, nerosty, horniny, vody, půdy a předchůdce člově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é fáze tvorby hvě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Přirozená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rozená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ležitost a vztah přirozené evoluce pro kulturní evolu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ladší systé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aznost na přirozenou evolu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ědomá aktivita li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ověká filozofická koncepce děj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stitutivn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4:56:11Z</dcterms:created>
  <dc:creator>Čech</dc:creator>
  <dc:description/>
  <dc:language>en-US</dc:language>
  <cp:lastModifiedBy> </cp:lastModifiedBy>
  <dcterms:modified xsi:type="dcterms:W3CDTF">2008-09-29T17:58:45Z</dcterms:modified>
  <cp:revision>5</cp:revision>
  <dc:subject/>
  <dc:title>Přirozená a kulturní evoluce</dc:title>
</cp:coreProperties>
</file>