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90BD-5132-48C6-9C73-FC6748722C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23DD-8CCF-4796-B911-F7B6DACFEE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130D-2C7B-43F3-80D0-0D415E0BEA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AF79-B85A-4533-A2F8-C68F3382FE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A3EE-EF8E-41EA-ABBA-D720F391D1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3E8F-2C25-4AD2-A1BA-B7FFB445DE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1C17-5025-4E58-9FD7-49A292C34B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EE30-A566-450F-B7E7-E6AC8D2049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D03A-94CF-4C85-B46A-80F8315634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8938-1F7C-477F-A5E2-A09BD7C124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87AE-4A95-45CC-B563-1F13B48BEC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5A53-3F57-43B9-9465-55AE594E8F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9374-3593-43CD-A64C-D1E9052A4A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BEA-678A-4323-AF8D-98004B70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0EB-9007-4A50-9E62-F81D84E9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19E-DDE5-49B9-8236-8450EE02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004-5C0D-4905-82C2-02139861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03C2-3B24-4CEF-9D9E-F297C007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45FC-582F-4FA1-9DF6-97AFAEFA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0607-4569-46DE-8062-58F076EF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546-F242-4B9B-A696-54B2CE8D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0217-0E61-41D0-86F9-48200CD5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EF4C-6A97-475D-A87F-FB153CBD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3823-FE46-4A9C-8306-0A6EF6B6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135-1969-4A87-969B-8C3D6866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45F7-9057-4BB8-B12C-ABC6D0E9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07B6-8DBC-4348-B8C3-91E56585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A267-8A05-45D9-A863-522B5F4A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DEA3-C894-4321-9BC3-3E027FFB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6235-F69A-47BD-B798-19793148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174-F783-494C-9179-2D3BADF6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10B-4B4F-4A9A-908E-35024AE2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2A9-B10D-4E90-824B-C0BC724A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99D-02DD-4D53-A906-F894259F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4C9-3C20-4F5F-8839-43433A2F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E0C-D0E8-447A-927E-373CF13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245-83A0-4DCF-A5C6-D57763D9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CE6A-3B3E-435A-B57C-FF36A420CEA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DF77-0D02-4D9F-9077-A2010C4B217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8920" y="5013000"/>
            <a:ext cx="32720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Hana Drozd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ára Ottich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EMOKRACIE PRO 21. STOLET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á demokracie (reprezentace a sebeprez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a decize (delegace práva rozhodov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chází generace „tvořen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FFLER, A., TOFFLEROVÁ, H. Nov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ivi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raha : Dokořán 2001. ISBN 80-86569-00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VIN A HEIDI TOFFLER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, korespondent Bílého domu, nositel čestných doktorátů v oboru právu, humanitních a přídorních věd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eidi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ka, nositelka četných vyznamená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olupracují s několika předními politiky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ROČ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vlna - „zemědělská“ revoluce (zhruba před 10 000 le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vlna - „průmyslová“ revoluce (od 18.stole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vlna - „informační“ revoluce (v USA od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55 - v USA počet bílých límečků poprvé v dějinách převýšil počet modrých límeč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stále zrychlující se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O JE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té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“továrnu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 (delegace pravomo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 nebo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Návrat k rod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ŘETÍ VLNA PODROBNĚ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ní faktory: po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hmotné hodnot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získávat, generovat, distribuovat a aplikovat poznatky (nehmot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asifikace: demasifikace celé společnosti (diverzita produktů, segmentace tr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řeba kvalifikovaných lidí, růst požadavků, rekvalifikace, soukromé VŠ, personální ag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ovace: pro soutěž nezbytná neustálá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ítko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struktury, nové typy podniků (joint-venture, holdingy), orientace na proc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ová integrace a infrastruktura: elektronická komunikace, nové formy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ychlení: místo úspor z rozsahu úspory z rych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 TOHO PL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zaměnitelnosti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un od kvantitativní ke kvalitativní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nik čistě manuální práce, vznik kognitari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dělení ekonomiky na sektory, rozpad profesních kateg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menší počet inteligentnějších pracovních 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L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otní konflikt: civilizace první vlny X civilizace druhé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nes: střet civilizací první, druhé a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ě střet mezi druhou a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91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OCIALISMUS DOPLATIL NA STŘET DRUHÉ A TŘETÍ VL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“Hardware” x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důsledkem aktuálního střetu druhé a třetí vlny v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en tábor chce zachovat nukleární rodinu, masové vzdělávání, obří korporace, masové odbory, centr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je pravým opakem (liberalizace, důraz na I + D, decentralizace, informace, poznání, nové typy rod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asifikace volič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10:12Z</dcterms:created>
  <dc:creator>Klára</dc:creator>
  <dc:description/>
  <dc:language>en-US</dc:language>
  <cp:lastModifiedBy>KRI</cp:lastModifiedBy>
  <dcterms:modified xsi:type="dcterms:W3CDTF">2008-10-15T22:00:01Z</dcterms:modified>
  <cp:revision>11</cp:revision>
  <dc:subject/>
  <dc:title>Třetí vlna a její důsledky</dc:title>
</cp:coreProperties>
</file>