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9865-B498-4CC8-9C62-04BCE040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F87B-C153-4CA5-A814-070E9600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375E-AF1A-4AF0-B837-4C1C0B1F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D056-4E75-4DF3-9254-25506CD2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3E5A-198D-46CE-95FE-5454E7DB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037C-7289-4267-A676-0F6F6C1E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1800-9C10-452F-BECF-EB4CA9FD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AE7D-7A2D-420B-BC6A-BE3D1B2C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225F-35C0-48D8-B84F-44860ECF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4A38-E0FC-4CA6-BDE7-53593D7C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922B-AD85-43D7-B171-86DBAE25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BD90-FD1F-40E4-8C48-27AA2166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E48B-88AB-4D22-8F8E-5FEE5B0DF6E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rod a vývoj kapitalizmu ako fenoménu industriálnej spoločnost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4920" y="5084640"/>
            <a:ext cx="309708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utori: Tereza Koklar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Michal Dančiš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Martin Ďub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3280" y="2205000"/>
            <a:ext cx="332604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Ďakujeme za pozornosť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o je kapitaliz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ký vý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účasné prú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térium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Čo je to kapitaliz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pitalizm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žne označuje ekonomický systém založený na súkromnom vlastníctve výrobných prostriedkov a súťaži súkromných podnikov na trhu a (sekundárne) tiež veľkej individuálnej podnikavosti, snahe o dosiahnutie zisku a systematickom reinvestovaní zisk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estantská etika a trhové hospodárst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závislá premenná – etika, ktorá je z dlhodobého hľadiska odvodená od Kalvínovej metafyziky spas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ávislá premenná - individuálne a kolektívne ekonomické chovanie, ktoré je etickými normami štrukturované a inštitucionaliz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Kalviniz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oderný ekonomický vývoj koreluje s prijatím a presadzovaním kalvínskej etiky a efektívnosť a účinnosť kalvínskeho kapitalizmu uznali i najzásadovejší odporcovia kapitalizm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ký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ný kapitalizmus – ekonomicky pokročilejšie časti Európy 16. - 18. storoč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rvou Európskou krajinou, ktorá uvoľnila cestu kapitalistickému vývoju, bolo Holandsk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emyslová revolúcia 18. – 19. storoč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ovŕšenie formovania základných tried kapitalistickej spoločnosti – priemyselníci, robotnícka trie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znik sociálnej otá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kritika kapitalizmu z pozícií humanizmu, éra ochranného sociálneho zákonodarstv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pitalizmus voľnej konkurencie (vrchol 60. – 90. roky 19. storoč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ípy liberalizmu, politika slobodného obch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účasné prú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chel Albert – dva hlavné prúdy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1. Neoamerický kapitaliz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je priťažlivejší, ale sociálne krutejší, ekonomicky me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fektív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2. Rýnsky kapitalizmus – zeme od Švajcarska až po Holandsko, Škandinávie, Japonsk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strohejší, ale výkonnejší a spravodlivejš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esto trhu v rýnskom a americkom modely – netrhové statky, zmiešané statky, trhové sta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ýnský kapitalizmus – hospodárska aj sociálna preva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riek tomu sa americký kapitalizmus presadzuje z psychologického i politického hľadi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érium kapitá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ernando de S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čo kapitalizmus triumfuje na Západe a zlyháva všade inde na sv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ysté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mystérium chýbajúcej informá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 mŕtvy kapitál, jeho hodno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mystérium kapit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 Kapitál je nositeľom dvoch paralelných  významov: jednak vyjadruje bezprostrednú materiálnu hodnotu aktív a jednak odkazuje k skrytému potenciálu produkovať nadhodnotu. + skrytý konverzný proces západu – formálne majetkové záznam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mystérium právneho zlyh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vlastníctvo v rozvojových a postkomunistických krajiná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klenený zv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f. ing. Faltus, Jozef, CSc., prof. Ing. Průcha, Václav, CSc., Všeobecné hospodářské dějiny 19. a 20. století, Vysoká škola ekonomická v Praze, Nakladatelství Oeconomica, 2004, ISBN 80-245-0499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ernando  de Soto, Mystérium kapitálu, Rybka Publishers, Praha 2007, ISBN: 978-80-87067-20-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lbert Michel, Kapitalizmus proti kapitalizmu, nakladatelství ELITA, Bratislava 1994, ISBN 80-85323-67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tz, W. G., Protestantská etika a tržní hospodářstv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Weber, M., Protestantská etika a duch kapitalism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7:29:20Z</dcterms:created>
  <dc:creator>Martin</dc:creator>
  <dc:description/>
  <dc:language>en-US</dc:language>
  <cp:lastModifiedBy>terka</cp:lastModifiedBy>
  <dcterms:modified xsi:type="dcterms:W3CDTF">2008-10-06T23:01:55Z</dcterms:modified>
  <cp:revision>12</cp:revision>
  <dc:subject/>
  <dc:title>Zrod a vývoj kapitalizmu ako fenoménu industriálnej spoločnosti </dc:title>
</cp:coreProperties>
</file>