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49F-083B-4D62-A8C7-CA6E73BA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121-63E0-478E-8192-C4F824D4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4DB-FF47-4B41-873D-0FBBBB6D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962-0827-4566-98E0-D62B0E01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D5E9-50C3-4004-BFF1-71B7711C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340E-1FC8-4798-81FB-C4D492C7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0150-E5B0-4AF4-A827-C02836C9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7C0B-D347-43F6-AAC1-6B7974F6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F966-9A27-4EBC-A348-5B037C47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B258-198D-431F-8733-8439A574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F1D3-DD71-4949-9F89-EFB27B45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D74-354B-4C04-A18E-D9FA2C4D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DAD7-4650-4F64-B978-4BD48803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910D-162E-4DA3-ACFE-B988266D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D781-7F3A-4358-967A-4CD84EC7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5469-9CDC-49C5-B685-B2A336F5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C095-07C3-421C-9C4B-2016CB64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6FD-C00A-4C8E-AE49-AB0D921E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163-7F4A-43DE-9674-C32E27A6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5183-B036-4898-A715-C5AD8517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57F-B1B0-4F9A-8B95-FBFF4E8F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6C0-2CE3-4B8D-83AA-DF129F79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85A-7944-47D2-BA62-DE586C03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D5E-F227-42F8-81A1-0CADBC3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EECE-8803-45C3-864C-9A2AEC264E8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FD84-E717-43B0-86FA-32900027EC8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řirozený a umělý řád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ucie Netí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iří Richt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osef Trubačí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28.9.2008 Brn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stup k evoluci jako řádu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jako vývoj systémů v ča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dán přirozenou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Od počátku vesmíru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dán kulturní evoluc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S příchodem člověka na ze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oluce nejen řád vytváří, ale je také sama jeho součá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írodní a umělý (kulturní) řá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Zřejmá nekompatibilita – hledání příčin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 obou nejasný výchozí cíl – spontánní evolu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Člověk jako součást obou řád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ní nemůže vzniknout bez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chopnost struktury udržovat, reprodukovat, rozvíjet a niči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ožnost vzájemné interak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J. Šmaj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ůraz na zatlačování přírody kulturou a negativní důsledky z toho plynou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ultura není možná bez přírodního řád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truktury zničené přírodou jdou kulturou obnovit, naopak to však nej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lavní nebezpečí pro existenci člově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oděkování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ěkujeme za pozornost </a:t>
            </a:r>
            <a:r>
              <a:rPr b="0" lang="en-US" sz="3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tor pro vaše dotazy, náměty a připomínky. A rovněž pro další zcela jistě natěšené prezentující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Literatur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ayek, F.A.: Právo zákonodárství a svoboda. Praha, Academia, 1991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Šmajs, J., Krob, J.: Úvod do ontologie. Brno, Masarykova univerzita, 1991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Základní pojm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Řád – uspořádaný stav věc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řirozený – vytvořený spontáními vlivy v ča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Umělý – vytvořený třetí silou za jistým účel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ntologie – věda o bytí, zabývá se řádem jako takový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Principy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místní existence přirozeného a umělého řád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jejich vývoj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ázka hledání příčiny odlišnosti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dlišné tendence směřování přírody a lid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Vývoj myšlen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yšlenka dvou řádů z období antického řec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 v metafyzic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ualismus řád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 filosofického hlediska – Descartes, Kant, Heg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Úsilí o překonání rozdvoje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nešní pohled stále diferencovaný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ní pojm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ývoj myšlen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. Šmaj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ývoj a existenc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řirozený řád – dán přírodou a nevědomou činností člověk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Umělý řád – dán člověkem úmyslně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ývoj paralel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Kritika myšlenky, že řád musí vznikat díky aktivitě myslící bytosti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zájemná koexistence a doplňov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Jeden typ řádu převládá v závislosti na okolnostec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F.A. Hayek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 rámci společ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řirozený řád neomezen velikost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mělý řád jen v malých společenstvíc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zv. organizace – pomáhají koordinovat činnosti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Měl by sloužit primárně menším společenstvím, obecně by se lidé měli řídit přirozený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louhodobé řízení společnosti umělým řádem je nutně neúspěšné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rátkodobě možné – náznaky diktatu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51:10Z</dcterms:created>
  <dc:creator>Jiří Richter</dc:creator>
  <dc:description/>
  <dc:language>en-US</dc:language>
  <cp:lastModifiedBy>Jiří Richter</cp:lastModifiedBy>
  <dcterms:modified xsi:type="dcterms:W3CDTF">2008-09-30T08:49:15Z</dcterms:modified>
  <cp:revision>20</cp:revision>
  <dc:subject/>
  <dc:title>Přirozený a umělý řádc</dc:title>
</cp:coreProperties>
</file>