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329-F525-4C7F-9FCB-901089CD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A36-08A1-4B91-925D-FCE51963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516-ACAD-493B-B54A-DA80A8C6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583-2001-41B8-A059-8925DA5B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149F-FEB3-4369-9BE4-A31F5031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5D1-7178-4864-A7D8-6945E1FB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E4D-E3C7-439C-81D7-D4C2D36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381-4586-4573-98C0-5F1FD55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BEFE-27BF-459C-B2C9-94F49758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E7C9-08FF-4992-96D7-37ACE20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C21E-BFF4-4CC8-8823-89A33D7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632-E14E-4C09-A9E7-C983A0DA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B271-8268-47E1-BF40-92BE9D4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9C87-2BA6-4970-BAFC-77D6C9E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4D9E-A85B-4524-9DCD-6DCE955B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9C54-E2DB-4952-9ACF-BB87DE9E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928-EB5B-4AF0-B781-AF3CBBD2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AFC43-C81D-48A2-BEF2-72D5CC09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52523-1486-44BE-A91C-C3D043D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1A0B2-DD4F-419B-9A26-1CF16D5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79022-18FA-4BF0-A140-05E4EB07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CE58F-2123-4421-B220-5AA5E551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88A-C285-496C-BDA1-1FBED2B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ADA5B-A82A-4BB2-A9AE-504C6F37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CB4B2-CB5E-4888-BC6C-212EA8C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0A69B-880D-4D6F-9B2F-D5248FAC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33EE8-2BD2-4DD2-A109-D6B21593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8AF75-5298-4193-AD75-F64A678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D03D4-99EF-4446-9179-5E6B017F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ADA7D-AB09-486B-A396-8D35CBE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6D7B-41BE-45D8-BDAC-18E1CD91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4FBF-C535-4FAC-8973-7B5FFE2B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4C05-2A65-42BF-B0C6-B4FE7786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79D-F648-464A-BFDD-D00427F2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C30F-4DF3-4BF6-9A54-2935EE49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5BD4-107E-4F52-81F1-213254CA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0BAC-D03C-4028-8984-F46F3100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65DC9-7391-443B-AE7F-2E66822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C8AF-69DC-4093-96A4-5A3607D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1B0F-4CE2-4B1A-8068-A28A668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8DB74-3FE2-42D1-BB63-F56FB51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0531-4D7B-4324-9C68-B5F52BA7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C832-6AB4-492E-8848-35991BF3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01A8B-4B93-4D69-A178-4246F374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782-5590-4A91-8D49-E5C25A77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904AA-5091-4916-B332-E377A1E8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4F123-F897-46E6-8EA4-33CDD47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0E631-8448-4C3E-8A59-DCA2DD5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3D0B4-3B90-4B3E-9926-DFE5B751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62B38-7F13-4620-9C73-031270F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F88C2-33FB-4FD5-BED0-E5F0B4D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010FD-069E-4E36-A691-C29BAD63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47720-E8C8-4AA2-91C9-5ACD40B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B9599-9832-462F-B991-35049CC0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B98B2-C544-410F-9A4F-BB95C2F5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478-CC50-4777-A507-55AE53E7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33AC5D-00C7-4F8E-A24D-B532DE6B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CA047-4CD9-49CE-B9CA-A4BB35C9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0989E-B8EA-4C99-87BC-9C3443E4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79901-59B3-49EE-9F4B-D26CB03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DBFB2-2898-4930-A904-EEC71CB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38D582-C9D4-4972-98D1-3031758F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FD0DC-FC9B-46A5-A545-0F086EAB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1CB06-1DCD-4CCA-9D62-551F57D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D1713-5584-406B-AEC4-AEBA844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00855-4012-4381-8352-48BD19A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98C-0E15-4E1B-906C-41DA1478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E0E42-C6A7-435B-8BEE-A3F09899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15E9D-A988-4930-A0B5-47B8A84B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47153-3C4C-4F8B-9D1C-C7BE3596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27E62-F471-4E7E-B1B1-40DEEB2B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684D6-59D6-4DC9-B344-7DBCA9C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D6ED5-D65C-4A1A-A55D-31F60E6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B99461-B52C-4493-AE88-13D8FA8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17323-A994-41EE-86C1-76C8A1C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16CA1-8755-493C-8EC0-6D9581A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DA1D4B-6D85-445D-8CD8-E15AD00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317-D66B-475D-8D39-D14652FA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D474D-6224-42C8-930C-82DCFAD0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20A5DB-B10D-4A90-98D2-D3FE8B60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7F5CD-58AF-412A-A5B5-1E69994C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7CF32-84EA-498E-8C62-29DB4845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308BE-9340-4C7C-BEED-13F8972C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8F3-2C04-4194-915F-7AA7E3FE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501E-0B0C-42F1-84FE-D3CBA0A368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596-43E3-4A72-81C2-78D53E6655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5662-3CFB-4D53-8419-AC65332FC9F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46C2-7B61-4C03-B07C-346FFDF413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4D5-0C85-4D30-BABD-FBE713D468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41DC-5CDD-42C8-91F9-1AEB9BAC83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4CF-F720-43D2-B113-CCA8CBF36A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Arial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entury Schoolbook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entury Schoolbook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entury Schoolbook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entury Schoolbook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entury Schoolbook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entury Schoolbook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,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entury Schoolbook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1970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ISBN 0-553-27737-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Děkujeme za pozornost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admin</cp:lastModifiedBy>
  <dcterms:modified xsi:type="dcterms:W3CDTF">2008-10-13T21:20:58Z</dcterms:modified>
  <cp:revision>20</cp:revision>
  <dc:subject/>
  <dc:title>Třetí vlna a její důsledky</dc:title>
</cp:coreProperties>
</file>