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02C-F81B-4846-972A-67F1C00C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46F-57F0-47B8-8838-DDB9E23A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906-F617-4D9E-872B-F65F97A5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6F7-001E-4CEA-A867-631EA505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1F7-005A-480C-A444-897D2FB2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64F-8D63-4DC5-943B-A3083405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4AC-9E77-4FF5-A69E-ED9D060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040-4042-47FB-8F6A-3B78416D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772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D1D-879C-4C0D-9664-F66E073F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42E-E9A1-49A9-B919-A995FAB1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D4C-48C1-46DD-8FD6-963FDBC0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34A-F130-4767-8DB6-9A23C9B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DFAA-0AC2-4076-9CA5-237169C44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Vývoj spoločnosti v pojatí A.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4910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Tri faktory zajtraj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futureshock_sm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95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Pominuteľ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615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e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Mie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Ľudia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vky situ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gan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Inform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276720"/>
            <a:ext cx="99036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Nov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lonovan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yborgov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Transplant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yužívanie oceá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Priemysel zážit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Rod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Rozmanit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Koniec štandardizá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nadmerný vý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Ško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Fil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Subkultú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Životné štý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400" spc="-1" strike="noStrike">
                <a:solidFill>
                  <a:srgbClr val="800000"/>
                </a:solidFill>
                <a:latin typeface="Arial"/>
              </a:rPr>
              <a:t>Šok z budúc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7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Výskum z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Orientačná reak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3600" spc="-1" strike="noStrike">
                <a:solidFill>
                  <a:srgbClr val="800000"/>
                </a:solidFill>
                <a:latin typeface="Arial"/>
              </a:rPr>
              <a:t>Adaptívna reakcia = s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Zmena nie je len potrebná k životu. Ona sama je život. A preto žiť znamená adaptovať sa. Adaptabilita má však svoje medze. Ak je kapacita prekročená, nastáva šok z budúcnosti.“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k-SK" sz="3000" spc="-1" strike="noStrike">
                <a:solidFill>
                  <a:srgbClr val="800000"/>
                </a:solidFill>
                <a:latin typeface="Arial"/>
              </a:rPr>
              <a:t>- Alvin Toff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Šok z budoucnosti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 ; z amerického originálu přeložil Stanislav Mundil.. -- 1. vyd.. -- Praha : Práce, 1992.. -- 28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Třetí vlna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.. -- [S.l. : s.n.], 1989.. - 83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Nová civilizace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00"/>
                </a:solidFill>
                <a:latin typeface="Arial"/>
              </a:rPr>
              <a:t>: třetí vlna a její důsledky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 / Alvin Toffler, Heidi Tofflerová ; přeložil Bohuslav Blažek.. -- 1. vyd. v českém jazyce.. -- Praha : Dokořán, 2001.. -- 124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4400" spc="-1" strike="noStrike">
                <a:solidFill>
                  <a:srgbClr val="8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Alvin Toff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4800" y="1981080"/>
            <a:ext cx="4340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Narodený 3.10.19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merický spisovateľ a futur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utor kníh ako Nová civilizácia, Tretia vlna, Vojna a ant</a:t>
            </a:r>
            <a:r>
              <a:rPr b="0" lang="sk-SK" sz="32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voj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43080" y="1981080"/>
            <a:ext cx="269388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Teória v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Človek ako lovec-zber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Agrárna (feudálna) spoločnosť (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Industriálna spoločnosť (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Post-industriálna spoločnosť (III.vlna)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(vesmírny vek, informačný vek, elektronická epocha, technotronický vek, globálna dedina, vedeckotechnická revolúcia, superindustriálna spoločnosť)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Základná architektúr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Techn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odukuje a prideľuje bohat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ocio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pisuje jednotlivcom úlohy v rámci systé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fosféra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prideľuje potrebné informácie, aby mohol systém fungova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Mocenská</a:t>
            </a:r>
            <a:r>
              <a:rPr b="0" lang="en-GB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sfé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oľnohospodárska výroba, domestikácia zvier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Usadlý spôsob živo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znik remes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Zmeny v náboženstve, umení a p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ukleárna rod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Feudal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čovné národy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vs. 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Impéri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II. vl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Boj národov druhej vlny proti národom prv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apitalizmus a komunizm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nergia, výroba, distribú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Štandardizácia, špecializácia, synchronizácia, koncentrácia, maximalizácia, centraliz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Elementárna rodina, škola továrenského typu, korporác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Nosiče informácií</a:t>
            </a:r>
            <a:r>
              <a:rPr b="0" lang="sk-SK" sz="2600" spc="-1" strike="noStrike">
                <a:solidFill>
                  <a:srgbClr val="800000"/>
                </a:solidFill>
                <a:latin typeface="Arial"/>
              </a:rPr>
              <a:t>, neviditeľný kl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24680" y="2057400"/>
            <a:ext cx="914040" cy="3427200"/>
            <a:chOff x="7924680" y="2057400"/>
            <a:chExt cx="914040" cy="3427200"/>
          </a:xfrm>
        </p:grpSpPr>
        <p:sp>
          <p:nvSpPr>
            <p:cNvPr id="60" name=""/>
            <p:cNvSpPr/>
            <p:nvPr/>
          </p:nvSpPr>
          <p:spPr>
            <a:xfrm>
              <a:off x="7924680" y="4950360"/>
              <a:ext cx="912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24680" y="4189320"/>
              <a:ext cx="91260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24680" y="2894760"/>
              <a:ext cx="912600" cy="12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800000"/>
                  </a:solidFill>
                  <a:latin typeface="Times New Roman"/>
                </a:rPr>
                <a:t>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057400"/>
              <a:ext cx="91260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800000"/>
                  </a:solidFill>
                  <a:latin typeface="Times New Roman"/>
                </a:rPr>
                <a:t>M</a:t>
              </a:r>
              <a:r>
                <a:rPr b="0" lang="sk-SK" sz="3200" spc="-1" strike="noStrike">
                  <a:solidFill>
                    <a:srgbClr val="8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205740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5483520"/>
              <a:ext cx="91260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924680" y="2057400"/>
              <a:ext cx="180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37280" y="2057400"/>
              <a:ext cx="1440" cy="837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94760"/>
              <a:ext cx="180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2894760"/>
              <a:ext cx="1440" cy="1294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24680" y="4189320"/>
              <a:ext cx="180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37280" y="4189320"/>
              <a:ext cx="1440" cy="76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24680" y="4950360"/>
              <a:ext cx="180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37280" y="4950360"/>
              <a:ext cx="1440" cy="53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24680" y="28947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24680" y="4950360"/>
              <a:ext cx="9126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924680" y="4189320"/>
              <a:ext cx="9126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Súčasnosť v pojatí Toffl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vantový skok v dejinách ľudst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Súčasná generácia je svedkom prechodu od druhej k tretej vl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Prichádzajú desaťročia zmien, turbulencií, prevratov, inovácií,  diskontinui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800000"/>
                </a:solidFill>
                <a:latin typeface="Arial"/>
              </a:rPr>
              <a:t>Koexistencia spoločností prvej (motyka), druhej (výrobný pás) a tretej vlny (počítač) súč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Dezorientácia čl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Neschopnosť adaptácie (zaplavenie informáciami)</a:t>
            </a:r>
            <a:r>
              <a:rPr b="0" lang="en-GB" sz="2400" spc="-1" strike="noStrike">
                <a:solidFill>
                  <a:srgbClr val="8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orovnanie druhej a tretej vlny vývoja spoloč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76520"/>
          <a:ext cx="8305920" cy="5011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2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.v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á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Poznanie (informácie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Kapitalizmus, socializ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Informačná, znalostn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emasifik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Synchronizácia, štandardizácia, 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Univerzálnosť, decentralizá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Fyzická práca (modr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Duševná práca (bílé límečky)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‏</a:t>
                      </a:r>
                      <a:r>
                        <a:rPr b="0" lang="en-GB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, supersymbolická spoločnos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om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sk-SK" sz="2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Heterogenit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800000"/>
                </a:solidFill>
                <a:latin typeface="Arial"/>
              </a:rPr>
              <a:t>Prechod k demokracii 21.storoč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82680" y="2274840"/>
            <a:ext cx="6094080" cy="3122640"/>
            <a:chOff x="1282680" y="2274840"/>
            <a:chExt cx="6094080" cy="3122640"/>
          </a:xfrm>
        </p:grpSpPr>
        <p:sp>
          <p:nvSpPr>
            <p:cNvPr id="83" name=""/>
            <p:cNvSpPr/>
            <p:nvPr/>
          </p:nvSpPr>
          <p:spPr>
            <a:xfrm>
              <a:off x="5090040" y="433116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Deľb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5680" y="433116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82680" y="433116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Koncentrácia rozhodovan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90040" y="3264840"/>
              <a:ext cx="228528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olo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5680" y="3264840"/>
              <a:ext cx="1674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82680" y="3264840"/>
              <a:ext cx="2133000" cy="106596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Priama demokrac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90040" y="2274840"/>
              <a:ext cx="228528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men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15680" y="2274840"/>
              <a:ext cx="1674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82680" y="2274840"/>
              <a:ext cx="2133000" cy="99000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800000"/>
                  </a:solidFill>
                  <a:latin typeface="Times New Roman"/>
                </a:rPr>
                <a:t>Vláda väčšin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82680" y="2274840"/>
              <a:ext cx="380736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2680" y="3264840"/>
              <a:ext cx="6093000" cy="108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82680" y="4331160"/>
              <a:ext cx="6093000" cy="14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82680" y="2274840"/>
              <a:ext cx="1080" cy="9900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1568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0040" y="2274840"/>
              <a:ext cx="1080" cy="312264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75680" y="2274840"/>
              <a:ext cx="1080" cy="31226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2680" y="3264840"/>
              <a:ext cx="1080" cy="2132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15680" y="5396040"/>
              <a:ext cx="1674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2680" y="5396040"/>
              <a:ext cx="213300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90040" y="5396040"/>
              <a:ext cx="2285280" cy="1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0040" y="2274840"/>
              <a:ext cx="228528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600360" y="3778200"/>
            <a:ext cx="114300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14760" y="2878200"/>
            <a:ext cx="114300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360" y="4859280"/>
            <a:ext cx="1079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 Mino</dc:creator>
  <dc:description/>
  <dc:language>en-US</dc:language>
  <cp:lastModifiedBy>El Mino</cp:lastModifiedBy>
  <dcterms:modified xsi:type="dcterms:W3CDTF">2008-10-08T16:43:36Z</dcterms:modified>
  <cp:revision>4</cp:revision>
  <dc:subject/>
  <dc:title>Prezentace aplikace PowerPoint</dc:title>
</cp:coreProperties>
</file>