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07F2-C09F-4393-BCC5-8A14A40E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7F6E-FC40-48BA-A603-474B088B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27BB-7876-4CA3-9338-FA357217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B3F6-4AFF-4130-8B0E-F411FA0A9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7774-A8BB-4B56-9A45-D747E68C7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4CBD-7E0F-40AC-8AB6-FF527408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3D57-B1AB-44C3-993A-670FC724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06C3-CD01-4096-9AC6-1C78BA90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BC69-695A-4BB0-83E7-975DBB93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26BC-9504-4A86-A610-7239E5E5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E36E-A08E-4DF5-97A2-65EB5E29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D7E7-002A-4B0C-922A-2AE83FD0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62F1-B8B1-4DDE-95A2-48257C94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AFCF-FDB3-46B4-9862-DE5A58AF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C938-46AE-4414-BDC6-B8E7B5F2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2F4F-E6EF-4A4A-B5B4-B0458E80E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5139-DF08-4F55-9F1B-F55FD82F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0AC9-8006-496F-846C-BBE14AA1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8EAE-2367-4593-AE9E-C95A4AA5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8698-7A2E-4C97-B2D5-0BBE3AD0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EF89-89CE-4471-95F6-14F72BD2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D23A-676E-456A-AFFE-E5E61104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642E-D4EF-4145-9F90-860C358E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2691-8080-4B46-A9CE-1048C1B6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777D-784C-423C-AC25-7818A7A6C33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5680-779C-4866-B754-82FA4C0B4C8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Třetí vlna a její důsledky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84240" y="4578480"/>
            <a:ext cx="598176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Linda Khall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Zuzana Soóki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Tretia vlna a politika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38080" y="2361960"/>
            <a:ext cx="7693200" cy="34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Druhá vlna: centralizovaná byrokracia, nukleárna rodina, masový vzdelávací systém, veľké korporác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Tretia vlna: pozeranie sa do budúcnosti, väčší podiel duševnej práce, heterogenita, malé a mladé podniky, </a:t>
            </a:r>
            <a:r>
              <a:rPr b="0" lang="sk-SK" sz="2800" spc="-1" strike="noStrike">
                <a:solidFill>
                  <a:srgbClr val="003366"/>
                </a:solidFill>
                <a:latin typeface="Arial"/>
                <a:ea typeface="Arial"/>
              </a:rPr>
              <a:t>↑investícií, podpora sektoru služie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Stavebné princípy vlád tretej vln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55640" y="2349000"/>
            <a:ext cx="7848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Moc menší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Polopriama demokra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Deľba deciz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Použitá literatú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TOFFLER, A. – TOFFLEROVÁ, H. </a:t>
            </a:r>
            <a:r>
              <a:rPr b="0" i="1" lang="sk-SK" sz="2000" spc="-1" strike="noStrike">
                <a:solidFill>
                  <a:srgbClr val="003366"/>
                </a:solidFill>
                <a:latin typeface="Arial"/>
              </a:rPr>
              <a:t>Nová civilizace - Třetí vlna a její důsledky. </a:t>
            </a: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1. vyd. Praha: Nakladatelství Dokorán, 2001. 125 s. ISBN 80-86569-00-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POE, R. </a:t>
            </a:r>
            <a:r>
              <a:rPr b="0" i="1" lang="sk-SK" sz="2000" spc="-1" strike="noStrike">
                <a:solidFill>
                  <a:srgbClr val="003366"/>
                </a:solidFill>
                <a:latin typeface="Arial"/>
              </a:rPr>
              <a:t>Třetí vlna – Nová epocha network marketingu. </a:t>
            </a: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1. vyd. Brno: Nakladatelství Jiří Alman, 1998. 255 s. ISBN 80-86135-03-9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66"/>
                </a:solidFill>
                <a:latin typeface="Arial"/>
              </a:rPr>
              <a:t>BLAŽEK, L. </a:t>
            </a:r>
            <a:r>
              <a:rPr b="0" i="1" lang="sk-SK" sz="2000" spc="-1" strike="noStrike">
                <a:solidFill>
                  <a:srgbClr val="003366"/>
                </a:solidFill>
                <a:latin typeface="Arial"/>
              </a:rPr>
              <a:t>Sylaby k jednotlivým tématům zveřejněné na www stránkách Ekonomicko-správní fakulty M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3366"/>
                </a:solidFill>
                <a:latin typeface="Arial"/>
              </a:rPr>
              <a:t>www stránky: http://www.park.cz/ke_treti_vlne_alvina_tofflera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366"/>
                </a:solidFill>
                <a:latin typeface="Arial"/>
              </a:rPr>
              <a:t>Ďakujeme za pozornosť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677000" y="20934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Vývoj spoločnosti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2491920"/>
            <a:ext cx="79200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vá vlna – vznik pred cca 10 000 rokmi, zemědelská revolú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ruhá vlna – vzn. pred 300 rokmi, priemyslová revolúcia 18.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retia vlna – vznik v USA v 60. rokoch 20.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retia vln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ívlastky: informačná, znalostná, digitál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ociálne, kultúrne, politické a morálne zme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Havný konflikt súčasnos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29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Stret civilizáci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Válka medzi záujmami 1. a 2. vln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V súčasnosti 3 súperiace civilizác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Demasifikácia spoločnos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220500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Upustenie od masovosti 2. vlny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Výroba, marketing, médiá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Heterogenita spoločnosti 3. vl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Informatizác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Informačná spoločnosť, komputerizá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Zdroj bohatstva: poznan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6666"/>
                </a:solidFill>
                <a:latin typeface="Arial"/>
              </a:rPr>
              <a:t>Hlavné princípy ekonomiky 3. vln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640" y="2421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Poznan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Demasifiká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Narastajúca nezameniteľnosť profesií, požiadavky na špecializované dovednos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Inovácie, reeingenee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Infraštruktúra: elektronické komunikác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Tretia vln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55280" y="2276280"/>
            <a:ext cx="7993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Nezamestnanosť sa presunula od kvantitatívnej ku kvalitatívnej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Zaraďovanie pracovníkov do kategórií podľa miery spracovania symbolov a duševnej prá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Intelektuálne“ versus „neintelektuálne“ podnik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6666"/>
                </a:solidFill>
                <a:latin typeface="Arial"/>
              </a:rPr>
              <a:t>Kritériá tretej vln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55640" y="256500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Pripomína to továreň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Demasifikuje to spoločnosť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Koľko vajec je v košíku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Je to vertikálne, alebo horizontáln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3366"/>
                </a:solidFill>
                <a:latin typeface="Arial"/>
              </a:rPr>
              <a:t>Vracia to domovu silu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10:29:21Z</dcterms:created>
  <dc:creator>snoopy</dc:creator>
  <dc:description/>
  <dc:language>en-US</dc:language>
  <cp:lastModifiedBy>snoopy</cp:lastModifiedBy>
  <dcterms:modified xsi:type="dcterms:W3CDTF">2008-10-13T11:25:02Z</dcterms:modified>
  <cp:revision>45</cp:revision>
  <dc:subject/>
  <dc:title>Třetí vlna a její důsledky</dc:title>
</cp:coreProperties>
</file>