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6CA-AD8C-42AD-BC35-DCA6B7D7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ECE-198A-4CAB-A2ED-BE8DD26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B129-A31C-4DCC-946C-6F54BCA6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1C6-BD52-42CA-93C4-18E41970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3C01-FA5D-42A0-BD9D-94C944862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4650-BDE3-4AE8-9251-63650DD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F764-CBBD-4A0F-8423-7AD23998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77E6-2DC0-4D54-862C-3C60521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CFA4-9B44-4DE0-AC42-1053E0D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5E9D-E3CA-4858-9C05-30DEBE49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2610-9B58-4FAC-B3E2-36203F6D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85A-A517-4F48-A3D6-D5D74AFD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276F-6775-4014-8129-75C832D6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F310-E1DD-491E-BC95-22793375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E388-23AE-4A7C-BD6E-68202120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F748-EFD8-403C-8BEA-A19974D8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7A3B-FD10-414F-8796-44E32436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487-1E17-473A-BDD6-F9380865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C73-8714-422F-9477-C5803EA2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200-C1EF-420C-B1C1-17BD57E2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74B-4135-45CA-893D-CD1BE3FA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488-30D7-48F3-97C6-C79C88E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C1F-A4E7-44D3-920B-6A73B622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3C6-D887-4B49-B582-E6E71C5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48B-7EC7-456E-9E89-D77A4EA4F4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214-8F46-42DD-9888-6253A2BB50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kologické aspekty industriální a postindustriální společnost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reza Hurní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Veronika Molák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udmila Šauer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oscilace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51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álná možnost – populace ry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 a kolaps (ne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544500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i reálný svět – tendence k překmitu a kolaps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46400" y="2349360"/>
            <a:ext cx="487656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znaky překmitu: mizející suroviny, plnící se výpusti, přirozené mechanismy likvidující znečištění selhávaj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roky proti kolapsu: rychlé ochránění surovin, pokles průtoku energie a materiálu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změna struktury systé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y, technologie a 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n trhy a technologie nejsou schopny obstarat udržitelnou společnost (slouží společnosti – krátký časový horizont, růstové cí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dsouvání mezí pomocí trhu a technologií – možnost nárazu na několik mezí součas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tráta schopnosti zvládat situac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vody překročení: signály trhu jsou zkreslené a zpožděn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486900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6308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72360" y="837000"/>
            <a:ext cx="84247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sty k trvale udržitelnému systém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měna struktury – změna informačních vazeb, ne kvantitativní změn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ktura: sociální normy, cíle, kulturní předpo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ůležité: stabilizace populace, zrychlení odezev, hospodárné využívání zdroj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ím delší prodleva v zavedení – tím větší výkyvy v populaci, produktu, objemu potrav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ení nutné snižovat životní úrove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č se lidé obklopují materiálními statky – neuspokojení nemateriálních potřeb (úcta, porozumě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, ne však kola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revoluce: zemědělská, industriální, trvale udržitelná společ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 změnu společnosti jsou nutní čestní vůdci, lidé mluvící pravdu a lidé, kteří se stále uč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ři věří v trvale udržitelnou společnost a v přechod k 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mosfé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četnost lidstva a rozvinutost techn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koncentrace jejích základních slože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ákladní složky – skleníkové plyny, ozón, vodní pára,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xid uhličit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ztah Q oxidu uhličitého a výší teplo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zrůst Q oxidu uhličitéh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vzrůst teplo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1556" t="28599" r="17355" b="28919"/>
          <a:stretch/>
        </p:blipFill>
        <p:spPr>
          <a:xfrm>
            <a:off x="3059280" y="3284640"/>
            <a:ext cx="23144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0658" t="1057" r="384" b="27438"/>
          <a:stretch/>
        </p:blipFill>
        <p:spPr>
          <a:xfrm>
            <a:off x="536400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oteplování neexistuj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2436" t="52154" r="9393" b="7427"/>
          <a:stretch/>
        </p:blipFill>
        <p:spPr>
          <a:xfrm>
            <a:off x="684360" y="2565360"/>
            <a:ext cx="42480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45000"/>
            <a:ext cx="76932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šší teploty ve středově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5442" t="37179" r="9328" b="28013"/>
          <a:stretch/>
        </p:blipFill>
        <p:spPr>
          <a:xfrm>
            <a:off x="4932360" y="2492280"/>
            <a:ext cx="4211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Hurikány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vyšování jejich délky i intenzity i počtu i sí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ouvislost s oteplování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nes versus 70.léta: ½ delší trvání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+50%vyšší intenzi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25360" y="1927440"/>
            <a:ext cx="7184520" cy="50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viromentalismu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se zabývá vztahy mezi přírodou a společností. Usiluje o změnu společenských, ekonomických a politických mechanismů, které brání snahám o ochranu životního prostředí. 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rvale udržitelná společnost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je taková, která uspokojuje potřeby přítomnosti, aniž by ohrozila uspokojení potřeb budoucích generací.</a:t>
            </a:r>
            <a:br>
              <a:rPr sz="28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vodn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vyšování počtu i intenz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plejší vod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↑Q vodní páry v bouřkových mrací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Část v jiných oblastech než obvyk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ř.Čína: jedna provincie sucha x sousední povod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zinárodní konflik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¼ světové produkce skleníkových plyn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6800kg emisí oxidu uhličitého ročně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Afrika 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ysychání jeze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álky, genocida, hladom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šiřování pouští (dezertifik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1970 zákon o čistotě ovzduš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ání permafrostu + požá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afrost = území na sever od polárního kru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 něm postaveny domy, silni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→ infrastruk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Asi 1 000 000 kilometrů čtvereční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oty → vysušení půdy a poros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Teplejší vzduch → více bles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romadný zánik druhů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00x rychlejší miz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zároveň působí negativně na krizi klima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čení amazonského deštného prale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vyhynutí mnoha druhů + oxid uhličitý do atmosfé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ceán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měna jejich chemického slože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rtvé zóny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→ důsledek řas, znečištění lidmi, teplejší vod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lednutí korál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Zvyšování mořské hladi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ransformace vztahu civilizace a ekologického systém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Č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ční exploze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 po potravinách, vodě, energiích, výr. zdrojí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ědeckotechnická revoluce (neočekávané vedlejší účinky – jiné důsledky než se starou techniko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působ uvažování o krizi klimatu (dezinformace, cenzura, úpravy, podplácení, znevažování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tát + rady na závě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ď mají zelenou ti, kdo zeleně myslí. Přišla doba, kdy zlepšování životního prostředí vede k výnosům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effrey R. Immelt (předseda správní rady General Electri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y: efektivně svítit, energeticky efektivní spotřebiče, jejich správné používání a udržování, efektivní vytápění domů, izolace domů, šetřit teplou vodou, zelená energi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↓emise dopravních prostředků, recyklovat, kompostov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49320" y="102816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áclav 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673520" y="2852280"/>
            <a:ext cx="401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odrá, nikoli zelená planeta“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lobální oteplování je zásadním ideovým a politickým střetem současnosti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Environmentalismus se stal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dominantní alternativou ideologií orientovaných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rimárně </a:t>
            </a:r>
            <a:r>
              <a:rPr b="1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na lidskou svobodu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.Kla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Environmentalismus je politické hnutí podobné socialismu, který 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se snaží omezit svobodu člověka a ekonomický růst</a:t>
            </a:r>
            <a:r>
              <a:rPr b="0" lang="cs-CZ" sz="2200" spc="-1" strike="noStrike">
                <a:solidFill>
                  <a:srgbClr val="003366"/>
                </a:solidFill>
                <a:latin typeface="Arial"/>
              </a:rPr>
              <a:t>, podáváním zkreslených údajů, které jsou prostřednictvím tlaku médií lidem vnucovány.“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rozbou jednadvacátého století přestává být socialismus, je jí moderní zelená odnož socialismu, environmnetalismus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édia neposkytují dostatečný prostor protichůdným názorům, tudíž jde o ovlivňování postojů společnosti zájmovýni skupinami.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ročení mez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ormace o změnách životního prostředí a přírodního bohatství, simuluje budoucí stav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aha o rozpoznávání vzájemných vazeb v přírod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kniha 1972, 2. kniha 19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 je sledování mezí toků (energie, materiály) ne v absolutních hodnotá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budoucích variant –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 je to myšlen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2421000"/>
            <a:ext cx="76932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řístup environmentalistů k přírodě je obdobou marxistického přístupu k ekonomickým zákonitost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naží se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ahradit přirozený vývoj světa „globálním plánováním“ světového vývoj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Jak by to mělo být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Je třeba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nechat probíhat přirozenou spontaneitu lidského vývoj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, „protože jinak vše dopadne daleko hůře.“(V. Klau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oč by měly naše zásahy do spontaneity vývoje dopadnout hůře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ždý pokus „poroučet větru a dešti“ se zatím ukázal být dlouhodobě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neúčinný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, nákladným a k tomu omezoval lidskou svobodu.“ </a:t>
            </a:r>
            <a:r>
              <a:rPr b="0" lang="cs-CZ" sz="2400" spc="-1" strike="noStrike">
                <a:solidFill>
                  <a:srgbClr val="666699"/>
                </a:solidFill>
                <a:latin typeface="Arial"/>
              </a:rPr>
              <a:t>(pozn. aut.:myšleno jako kritika Keynesiánství? Zásahy do ekonomiky snad ano, ale jaké byly globální pokusy chránit životní prostředí v minulosti a jak dopadly?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Al Gore ve své newyorské přednášce (2006)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čelíme planetární katastrofě“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 když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něco neuděláme během deseti let, nebude možné se vyhnout nezvratné zkáze obyvatelnosti planety pro lidskou civilizaci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.“(NewYorkUniverzityLawSchool, 18.9.06 </a:t>
            </a:r>
            <a:r>
              <a:rPr b="1" lang="cs-CZ" sz="1400" spc="-1" strike="noStrike">
                <a:solidFill>
                  <a:srgbClr val="003366"/>
                </a:solidFill>
                <a:latin typeface="Arial"/>
              </a:rPr>
              <a:t>– citováno V.Klaus, Modrá nikoli zelená planeta, s. 19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Tento výrok je zcela absurdní a má charakter poplašné zprávy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k ví V. Klaus, že tyhle informace nejsou postavené na vědeckém základě a pravdivé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elé dějiny naší planety včetně strukturace jejího povrchu jsou předmětem permanentních změn. V posledních několika tisících let je jedním z faktorů člověk a jeho činnost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odle environmmentalist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je člověk „exogenním faktorem“ působícím na přírodní mechanismy.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Základní příčinu problémů světa vidí v samotném rozšíření druhu Homo Sapie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4760" y="97092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. Klau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Environmentalisté, ač vycházejí původně snad i z dobrých úmyslů, snaží se zasahovat prostřednictvím přírodních věd do věd sociálně politických, což má katastrofální důsledky.“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666699"/>
                </a:solidFill>
                <a:latin typeface="Arial"/>
              </a:rPr>
              <a:t>(x návrh autorky k zamyšlení: jak by bylo možné odvrátit negativní ekologické dopady, pokud by se vědecké poznatky držely striktně na poli vědy a političtí reprezentanti podle nich nepřizpůsobili své program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hyn živočišných druh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ři evolučním vývoji planety přirozeně vznikají a zanikají živočišné druh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Úhyn živočišných druhů současné doby je normální a není třeba ho dávat za důsledek škodlivé činnosti člověka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eexistuje žádný předem daný oprimální stav světa, který jsme povinni chránit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ykácení pralesů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637000"/>
            <a:ext cx="76932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dskou činností sice byly vykáceny pralesy, na místo nich zde však byly vytvořeny jiné, neméně kvalitní statky.“(technosféra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66699"/>
                </a:solidFill>
                <a:latin typeface="Arial"/>
              </a:rPr>
              <a:t>(pozn – nejslíš byly myšleny pravěké pralesy, které pokrývaly většinu pevniny, ne deštné pralesy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kologická doporučení Al Gor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492280"/>
            <a:ext cx="769320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d bychom striktně dodrželi veškerá doporučení AlGora, tedy bychom se prakticky vrátili na úroveň před industriální společností, nejvíce patrným výsledkem by bylo, že by se obyvatelé Bangladéše utopili ne v roce 2100 ale až v roce 2115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4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V.Klaus: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„Nejlepší politikou dneška je s mírnou změnou klimatu žít a podporovat ekonomický rozvoj, který nám vytvoří budoucí, daleko efektivnější technolog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nak řečeno: ochrana přírody ano, environmentalismus ne.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áš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blém je daleko složitější.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k chce V. Klaus chránit přírodu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(zmíněno v jeho závěru)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fektivněji, než globálním uvedením v realitu některých opatření environmentalistů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slí si snad, že svobodný člověk neomezený ekologickými normami na nějž není vyvíjen tlak médii se bude chovat ekologick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řekm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tuální situace, překročení meze nečekaně a neúmysl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íčiny: rychlý pohyb, změna, potíže s ovládání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sledky: havárie, náprava, zvolněn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 překmitu může dojít k oscilaci, nebo ke kolaps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ůležité: růst nemůže trvat věčn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27640" y="837000"/>
            <a:ext cx="712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 zamyšlení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ž se v budoucnu dostaneme k efektivnějším technologiím přirozenou liberálně ekonomickou cestou, kolik živočišných a rostlinných druhů vymizí ze světa? A co když nastanou do té doby mnohem vážnější dopady změn klimatu, než jakých jsme svědky nyní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mezují ekologická opatření opravdu tak drasticky svobodu člověk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ADOWS,D. H. et al. Překročení mezí. Praha : Argo, 1995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RE, A. Nepříjemná pravda. Praha: Argo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AUS, V. Modrá, nikoli zelená planeta. Praha: Dokořán,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3141720"/>
            <a:ext cx="769320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Nyní je prostor pro Vaše otázky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ponenciální rů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zuje lidskou činnost – pozitivní zpětná vazba (zesilová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votní exp. růst - populace, kapit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uhotný exp. růst ostatních veličin - poháněny lidmi a kapitá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zlišení růstu čeho, pro koho, jak dlouh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X bezvýhradný růs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7640" y="764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řídla a výpu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jení s mezemi, překračování mezí zřídel a výpustí, tok energií a materiá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řídlo: místo původu (ropné naleziště), výpust: místo vypouštění (odpadní vody, ovzduš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obnovitelných zdrojů: ne rychlejší než možnosti reproduk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neobnovitelných zdrojů: ne rychlejší než rychlost nahrazování novými zdro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ůtok u škodlivin: ne rychlejší než rychlost zneškodně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enšení průtoku: zvýšení životnosti výrobků, pokles toků ze zří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stice „na konec potrubí“ (ne do nových technologi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litický problém (která země více znečišťuj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ka růstu v konečném světě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ulace programu World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arakteristiky modelu: růst, meze, zpoždění, erozní proces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 modely pro populaci a fyzickou ekonomiku (2 stabilní a 2 nestabilní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álý růst (stabilní model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stický růst (stabilní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46400" y="23954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4:09:03Z</dcterms:created>
  <dc:creator>Liduska</dc:creator>
  <dc:description/>
  <dc:language>en-US</dc:language>
  <cp:lastModifiedBy>snoopy</cp:lastModifiedBy>
  <dcterms:modified xsi:type="dcterms:W3CDTF">2008-10-13T08:59:05Z</dcterms:modified>
  <cp:revision>19</cp:revision>
  <dc:subject/>
  <dc:title>Překročení mezí</dc:title>
</cp:coreProperties>
</file>