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0DB2-7FB7-456D-8223-02EFE180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974-9962-4044-BAA6-73EEA9A1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F6B-759C-42B9-8813-C7F1AE95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DB6-E7C3-472E-919B-C98BADF7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7972-4F15-4740-A67C-9A228826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68ED-5F0F-45A8-94B5-674EBA3D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1EAC-1DC3-4A82-B637-A02813A8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28BB-71EF-44DD-89C2-A3D51FA4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4B34-BD90-4F44-9298-9F93530D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2CB1-302F-4856-911F-A311CCFC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7A79-613F-4F92-B811-B468546D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4FF-DFE0-4436-89AB-8A826FC8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2CB7-3B45-46B0-A2AD-20CE23DC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CE98-1642-4E4A-879A-EADB4E1C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B18D-2395-41C1-8956-5784B192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1BBD-10D0-45F3-BCE9-8B44474C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B89C-6BF9-42AB-AA88-6246C817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138-D19A-4461-A923-24DF7553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4F5A-995D-4308-8920-2DCDDF53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FD3-6A1C-4420-9F49-1E059614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ECE-B6D8-4304-B64F-ED2F4651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7D5-7A0C-453C-A3B9-F9DFE0B3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3DE-984D-439D-AE56-53BE3ADB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D3B-2D2C-443B-8077-759A1B07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88A3-AC6D-4B56-8756-93D4F85283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2E32-EA54-4423-B945-6EF93D9DC9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806292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D MASOVÉ VELKOVÝROBY K INOVATIVNOSTI A HODNOTĚ PRO ZÁKAZNÍK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11280" y="4508640"/>
            <a:ext cx="64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etra Břen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Kalandr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ana Navráti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zapálené bojov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ychle odstraňujte chy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měřitelné cíle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ujte schopnost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pracovat strategii inovace,která se vyznačuje velkým množstvím bleskově rychlých, ale skromných začátk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užívat multifunkční týmy pro všechny vývojové činnos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hradit návrhy pilotními projekty a prototyp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menout,že jste to nevynalezli a naučit se kopírovat od těch nejlepší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ganizujte marketingové úsilí při zavádění nových výrobků na základě výrazných kampaní rozšiřovaných ústním podán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řitahovat přeborníky  a bojovníky z personálu i z projekce k velkým projektům i k nezávislým ak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i osobně se svou každodenní činností staňte symbolem novátorstv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bírejte neúspě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ovaci proměňte na zaběhnutý způsob života firm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ichni se zajímají o všech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tavte týmy a dejte jim pravom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louchejte-oslavujte-uznávejte a chval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nujte dostatek času nábo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dělávejte a doškoluj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m pracovníkům stanovte pobídkovou mz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jte záruku trvalého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jednodušte a zredukujte strukturu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é pojetí úlohy středních manažer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traňte byrokratická pravidla a pokořující podmín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jte veškerý personál na všech úrovních a ve všech funkcích úplně do všeh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šechno organizovat pomocí týmů,abychom dosáhli zvýšeného soustředění a zaměření na úkol,novátorského přístupu a zaujetí jednotlivc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stavně naslouchat, shromažďovat nebo sdílet nápady a informace a uznávat úspěchy,oslavovat formálně i neformáln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datně investovat do náboru čas řadových pracovník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estovat do lidského kapitálu tolik jako do hardwa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aždému opatřit tučné finanční podně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jistit, aby velice zřídka nebo vůbec nedocházelo k propou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novte radikálně vyšší poměr řadových pracovníků k vedou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řední management = zařizovatel a ničitel funkčních barié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dikálně snížit a zjednodušit papírování a zbytečné procedu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racovat inspirativní v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ídit příkla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ktikovat viditelné říz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nujte pozornost (více naslouchej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ávejte odpovědnost a pravo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bouráním byrokracie usilujte o horizontální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ždého hodnoťte podle jeho lásky ke změ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ěstujte pocit naléhav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vizi, která vám dá sílu a mož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ďte především svým osobním příkladem – zejména pomocí množství ča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ktikujte viditelné řízení a snažte se o snížené zkreslování inform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vinně se staňte posluchač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egujte a každé předání pravomoci zkoumejte, aby jste se opravdu pravomoci vzdali a znovu ji neodejmuli a pečlivě stanovili podmínky jejího před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ci řiďte horizontálně, trvejte na tom aby vertikální řízení bylo nahrazeno horizontální spoluprá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 hodnocení vedoucích se zaměřit na otázky okolo počtu změn o které se vedoucí zaslouž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5. Budování systémů ve světě vzhůru noham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ěřte to co je důlež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pracujte hlavní řídící ná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ntralizace informací, pravomocí a strategického plán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splnitelné cí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žadujte naprostou integri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jednoduché podpůrné systémy, které budou pobídkou k účasti, kterým budou všichni rozumět a proto budou podporovat iniciativní jedn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jednodušte všechny tři primární způsoby řízení – hodnocení výkonnosti, stanovení cílů a popis pracovní nápl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šemi se dělte o všechny inform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ovte konzervativní cíle růstu a zejména trvejte na tom, že vývoj infrastruktury předchází projektovanému růstu příjmů a nezaostává za 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žadujte naprostou integritu ve všech jednáních s lidmi i systémy, uvnitř i mimo fir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měny ve vývoji ekonom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5 předpisů pro úspěšnou fir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 General Elec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1981 - Jack Welch v General Elec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rcholový management utváří vizi a formuluje ji do podnikového poslání, které klade zvýšený důraz na podnikavost, invenci, inovaci a lidský kapit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zásady strategie změn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oborech kde GE podniká, bude první nebo druhá na svět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zkumu investovat tolik, kolik je na prví nebo druhé místo tře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t naplno tvořivých sil všech lid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ý ústup od hierarchické pyramidy k ploché organizační struktuř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působ řízení založen na sdílení inform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tvoření pocitu důvěry a sdíl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řízení musí vládnout rychlost a jednoduc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kolení lidského faktoru – školící středisko Crotonville – výzva: osvoboďte se a důvěřujte, místo plánuj, organizuj, integruj, změ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chat si poradit zvenku prostřednictvím nejlepších poradenských firem, ale využívat vlastní zkušenosti a prosazovat vlastní přís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ETERS, T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Prosperita se rodí z chaos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Praha: Pragma, 2001. ISBN 80720581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ISLINGEROVÁ, E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Chování podniku v globalizujícím se prostředí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aha: C. H. Beck, 2005. ISBN 80717984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RUNEČE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Znalostní podnik ve znalostní společnosti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al Publishing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Děkujeme za pozornos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ZMĚNY VE VÝVOJI EKONOMIK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Ústup od masové výroby pro neznámého zákazníka ve prospěch zakázkové produk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Slučování a opětovné oddělování, rozdělování, joint ven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Technická revolu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enší a pružnější továr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Nová konkurence (zahraniční, domácí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ěnící se vkus a požadavk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PŘEDPISY PRO ÚSPĚŠNOU FIRMU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ovat absolutní vstřícnost k zákazník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ovace ve svižném tem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žení pružnosti předáním pravomocí li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čte se milovat změ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ování systémů ve světě vzhůru noh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-762120" algn="ctr"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erenciace. Specializace. Tvorba tématických sekt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nejvyšší jakost, ale tak, jak ji vnímá zákazn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vynikající služby. Zdůrazněte nehmotné služ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 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mimořádně vstříc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světovým podnik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vořte jedin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ě podlehněte posedlosti naslouchán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výroby udělejte tržní zbra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dělejte hrdiny z pracovníků prodeje a služ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poutejte zákaznickou r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ujte do aplik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azujte týmovou prá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pilotní projekt každého náp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a paní povídala“ jako marketingový syst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14:45Z</dcterms:created>
  <dc:creator>Tereza Kalandrová</dc:creator>
  <dc:description/>
  <dc:language>en-US</dc:language>
  <cp:lastModifiedBy>Ondřej Částek</cp:lastModifiedBy>
  <dcterms:modified xsi:type="dcterms:W3CDTF">2008-11-03T13:26:53Z</dcterms:modified>
  <cp:revision>15</cp:revision>
  <dc:subject/>
  <dc:title>OD MASOVÉ VELKOVÝROBY K INOVATIVNOSTI A HODNOTĚ PRO ZÁKAZNÍKA</dc:title>
</cp:coreProperties>
</file>