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4A5-1067-477C-AB83-7017918F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2AE-CA33-4A5C-A534-1E2AA4F5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62D-9243-4614-8518-D3BB7CB4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B5E-20DF-4F17-96DB-8F9B21A2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39951-2656-4D5E-9915-D43AF67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12152-301A-4456-9056-530D21BF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BF8AA-DC60-4A2F-A26C-D1CC4F5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CDEC-D79F-4A10-8C30-AE04CAAA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13494-4AC6-408C-94BA-EF270E95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7597-A3C6-42A2-B27A-AA39895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0C5A4-6E3D-45EF-8D63-BA83D1A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D2F-BF98-4EB3-AC33-2697730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999B1-8B19-4669-B737-6AAE81CF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2006-E603-4C1D-99A7-5DD786F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66D7D-C2C1-4610-9837-6BC541BC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28896-F731-4080-8B24-E7540F79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0B08D-46D2-49DB-9697-7087CB7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CEF-A678-4397-832D-3CA6F0EA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9CB-3194-4C5D-BB79-C65C154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A9D-3B8C-47BF-A00A-239D34C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6E55-57D5-45CA-AA43-684603F4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665-9E42-4623-844F-471079C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A9D-B85E-4C49-87BF-4D925FA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61C-6485-4EE7-B8A8-CC887AD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135-BA59-4A0C-90E0-709AFEB7B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3B3-5E1B-479F-BF60-B8C90AAAA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kologické aspe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pracov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zorec poškození životního prostředí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tížení = Populace * Blahobyt * Techn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člen rovnice má stejnou 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hobyt – základ v kapitálu na os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– energie * zátěž živ. pr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tát ekonoma z M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ktura modelu World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kteristiky model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y růstu (kapitál, popula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ožd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oz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uhy mezí v modelu World3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dělávatelná pů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nos z jednotky pů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obnovitelné zd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pnost Země absorbovat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chnologie, trhy a překročení mezí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zájemné působení trhu a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h problém ohlá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problém ře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dalování mezí - scénář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ížení spotřeby neobnovitelných zdroj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ologie snižující znečištění, zvyšující výnosy z půdy a technologie chránící pů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pad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výšení znečištění potlačí úrodnost pů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datečné vstupy do zemědělstv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lesá průmyslový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upá úmrt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olečné znaky kolapsu ve scénáří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 odkládá setkání s mezemi pomocí ekonomických a technických úpr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budoucnu tak narazí na několik z nich zároveň a dojde jí schopnost zvládat situ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á velikost průmyslového produ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é provádí kvantitativní změny, ale je třeba i strukturální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énář 1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dina se dvěma dětmi, požadované spotřební zboží na osobu omezené, všechny technologie pro lepší využívání zdrojů a regulaci znečišt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ad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ém  v rovnováze, trvale udržiteln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vale udržitelná společ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e: společnost, která může přetrvat generace, je dostatečně předvídavá, pružná a moudrá na to, aby si nepodkopala jak fyzické, tak sociální systémy, které ji podporu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nak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jem na kvalitativním rozvoji, ne fyzické expan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rvání na současných nespravedlivých způsobech rozděl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eriální zabezpečení a dostatek vš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ředpokla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okonalení signálů – informace vlád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rychlení odezev – aktivně hledat signály, v předstihu rozhod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dcházení erozi obnovitel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stavení exponenciálního růstu populace a fyzic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Úv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71 byly závěry, že dosažení fyzických mezí využívání energie a materiálů lidmi je několik desítek let před ná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 roce 1991 nehledě na vylepšené technologie, důraznější politiku ochrany životního prostředí, mnohé toky materiálů a znečištění překročily své udržitelné me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lišný pohled na vě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nvironmentální e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šíření etiky o vztah člověka k Zemi a rostlinám a živočichů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tur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ADOWSOVÁ, Donella h, MEADOWS, Dennis l, RANDERS, Jorgen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řekročení mezí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: konfrontace globálního kolapsu s představou trvale udržitelné budouc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avla Polechová a Ladislav Zvolánek. 1. vyd. Praha : Argo, 1995. 319 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ŠMAJS, Josef, et al.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Podnikatelská a environmentální etik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Brno : [s.n.], 2008. 184 s. ISBN 978-80-210-4564-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kladní defi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kmit: jít za mez trvale udržitelné únosnosti životního prostře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ýpust: místo používané konečného určení pro toky energie a materiá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řídlo: Místo vzniku – počátku toků materiálů a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onenciální růst: růst, kdy rostoucí veličina přibývá za konstantní časový interval o konstantní zlomek své velik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ponenciální růst populac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binace porodnosti a úmrtnosti jsou různoro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ředně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soce industrializované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ůst světového průmysl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ůmyslový kapitál rostl a roste rychleji než popul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 roku 1970 do roku 1990 vzrostl průmyslový produkt skoro o 100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jednoho člověka pouze asi o 1/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udo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ětná vazba dvou str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uje chudoba růst populace neb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pulace způsobuje chudob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ze: Zřídla a výpu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ůmyslový kapitál a populace jsou hnacími silami exponenciálního růstu díky své sebereproduk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yvatelstvo a kapitál berou materiály a energii ze Země, odpady a teplo do Země vracej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meze pro využití materiálů, energie i pro produkci odp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avidla pro meze průtoku podle Dalyho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novitelné zdroje – rychlost regener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obnovitelné zdroje – rychlost nahrazení obn. zdro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ečišťující látky – rychlost recyklace, absorbce nebo zneškodnění prostřed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ávěry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zita využívání přírodního bohatství a produkce odpadů není trvale udržiteln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dměrné průtoky nejsou nezbyt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ze Země jsou na dos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19:34Z</dcterms:created>
  <dc:creator>Drahoš</dc:creator>
  <dc:description/>
  <dc:language>en-US</dc:language>
  <cp:lastModifiedBy>Zbynek</cp:lastModifiedBy>
  <dcterms:modified xsi:type="dcterms:W3CDTF">2008-10-13T12:59:52Z</dcterms:modified>
  <cp:revision>16</cp:revision>
  <dc:subject/>
  <dc:title>Technologie, trhy a překročení mezí </dc:title>
</cp:coreProperties>
</file>