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643-08FF-4E2A-B3BD-32CC8DF6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73C-8C94-473E-8A15-AE0483A1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79B-B192-4784-8670-82000340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09D-F25F-4359-AE24-7CC8A9AB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2AD8-9576-41EB-BD66-DF0B937A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FC55-C4F3-41D8-821D-84697F90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98C8-FF2D-4B97-A53A-0F5027A0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A9EB-8359-472D-A0A5-18BC4A1C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1298-01E9-4F94-8538-47D0DCD8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DFF2-0560-43DC-B3B9-8A2AB86A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E895-FA32-45E3-9CB2-DE92E1FB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E37-A349-460A-9733-BB833EC4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7C6A-66A6-44EB-A5E7-86589708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F161-EF51-49F9-B082-294EE9F5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E5A3-01C2-49F3-BD88-53B5A675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BE09-E71E-4010-B757-4079AF3A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B529-519A-451A-A88C-27C71F8E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0C30B-A930-40EB-B5CA-E3C24C49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6C3B1-0D2D-4283-8F4A-2CC758C1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615AB-E9DF-43AF-8841-20764120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3FF13-A86B-416B-AEC9-1FDE437C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59FF3-3995-4129-B664-5D4EA171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377-B5A4-43A8-B402-076B016F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20E32-563A-4B51-977A-D8E58FE9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D963C-9A0B-4111-AE53-B9A702BE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4ECC4-2D60-4C8C-864B-F5CA9605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AF7AB-BCE1-48F8-9B2F-9BF1E0D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A6B22-AAAF-4E13-AC68-C72465E5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187CC-58B2-4062-8D89-DA53684B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66904-6523-46FC-A149-9F74BD22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ABD73-177E-4FF5-AA02-8B3C3A6F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6F099-15E0-46C9-BE63-3EDEC232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91367-A3A7-45CD-B338-B07F8ED2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C97-1595-4FFF-BCD9-A13952FA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A233-039B-4552-A500-95B3066A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7F4A3-469A-4D1B-B62E-A1AF5E3F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C3F8-C77E-49C0-8185-B2994B33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5B89-6F71-4530-9531-C445DFD5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5CCCF-E63B-44B8-AC74-46382B52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9B965-2DEB-4553-B8E0-D4169905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CD84C-7997-4DD9-BCD0-350F2403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097B2-7654-40CA-9822-DA442567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A13C8-E496-40FD-B7E1-BCDF07A2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E41FB-4BD8-4265-8004-0EFBD0D9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31A-84A8-4236-AA78-56677F24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C24FD-3266-46B1-B1B7-0BC23264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B91C1-4ECC-4FBE-B300-C6D06FFB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B488B-18E6-4EBD-8E07-00C8D1E2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FDCF3-84FD-4CC3-AAFA-E1740F81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4C02C-3052-42BA-9F5C-75147E39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AC78C-ECE2-492C-81F7-1486FDBC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0E7C1-4EFD-48DA-BAF7-275EBE55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5573B-50E6-41DE-8577-7E095F47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872AC-A6B2-4F56-AACF-2FA7472C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98D27-AB72-4C38-98F9-5AEB35C1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71E-FCF3-4945-B307-273373A4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983C6-08C5-44E2-8008-05F65630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E4056-3F21-4F46-BE7B-4B0B06F0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6593F-2B63-448E-B368-A6DEBABB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DB652-1CD0-49FC-A799-05A2D54A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19F40-4A7C-455E-8BCA-6E0B36AE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E54C7-3210-4156-8E00-2639BDE5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F3A58-9CBD-46CB-953D-06B8C5A9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1C36E-9348-4A2F-AFAD-047553C7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CB9BB-21FD-49E0-A0CC-CA4D9931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CC28C-60A8-444C-80DC-67AAE412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0A9-BCAE-443D-8417-A03E6504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1F333-CF58-4C0B-B832-FB1FFDE0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D3AAD-F08D-4637-B0D1-2CCF420D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F30C1-E03E-4CA8-A623-6215BB23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5E524-96CD-45C5-B429-BD4512F7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71E965-DE2B-4279-A4F5-09897400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382508-41A2-4432-ABFD-D70F27E0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37B04-5387-44DB-B791-3698EC78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5ADB4-2B5B-44D2-9B89-29A84A4C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62512-8DAE-4137-8BDE-78B13E22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9D304-9225-47E4-B30D-B135C47B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183-2F47-43FB-B35E-4B53A7C5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19E6B1-E305-49A7-AAEF-AF608A08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929BE4-05B5-4BBE-B058-6244B828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D6D962-1D0A-463E-8060-E39B1A26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F313E7-4F1B-4214-8DC1-2F6C3489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C86235-2D96-477F-B45C-BB67AD26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2FD-5E01-43E7-B74C-D4BC4972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FF96-CA2A-459F-8B96-1142B66F4C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6734-8532-4563-8930-3DD08F4D44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ACD7-67FD-4988-9759-50291425F9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4785-9D6A-490E-850B-E4471F07756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6F60-BCF9-440D-86A3-AFB001DDD2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7424-57DB-4866-A8CF-70363FB229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7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7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1BFE-1190-4F1F-AC0D-4AA1058C98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ennis_Meadows_Moscow_febr2007-1-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cs.wikipedia.org/wiki/1972" TargetMode="External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A A JEJÍ DŮSLED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f271c"/>
                </a:solidFill>
                <a:latin typeface="Calibri"/>
              </a:rPr>
              <a:t>Simona Jakubcov</a:t>
            </a: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Lucie Bielikov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f271c"/>
                </a:solidFill>
                <a:latin typeface="Calibri"/>
              </a:rPr>
              <a:t>Martin Lizn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Intelektuální versus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intelektuální podnik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nzita práce s poznání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ustředění duševní práce ve vede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hatství se měří podle materiálních statk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mbolické činnosti jsou považovány za neproduktivní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ektuální podnik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legace práce na jednotlivé zaměstnance, podporování inovací a nápadů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dnota většiny výrobků spočívá v poznatcích, které jsou do nich vlože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Moscow, 16 Febr.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86680" y="3068640"/>
            <a:ext cx="2857320" cy="37893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Donella a Denis Meadows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onella H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( 13.3.1941 – 20.2.200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ůkopnicí v systémové dynamice vědách o životním prostředí, učitelka a spisovatelk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197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se dostala do týmu vědců,vyvinuli počítačový model systémové dynamiky demograficko-ekonomických ukazatelů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World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financováno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Římským klub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enis L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7.6.194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americký vědec, profesor systémového management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f271c"/>
                </a:solidFill>
                <a:latin typeface="Calibri"/>
              </a:rPr>
              <a:t>Meadows – 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2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Meze růst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" sz="2400" spc="-1" strike="noStrike">
                <a:solidFill>
                  <a:srgbClr val="000000"/>
                </a:solidFill>
                <a:latin typeface="Calibri"/>
              </a:rPr>
              <a:t>Limits to Grow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992 –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Překročení mezí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004 – třetí pokračování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ezí růstu ( 30letý updat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endence k překmitu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držitelný způsob existence ( exponenciální růs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ychlé tempo používání hnojiv, růst měst, spotřeby energie a materiálů lidm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užování  materiální základny lidst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ůst světové popul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nečišťová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udoba a nezaměstnanost ( sociální rozdíl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lečnost na jedno použití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itické odmítání tématu mez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Trvale udržitelná společnost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 simulovaných světů ( rovnováh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vídavá, pružná, moudrá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valitativní rozvoj X fyzická expanz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pokojování potřeby přítomnosti bez ohrožení budoucnos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eriální zabezpečení pro všechny(NE chudob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nost pravidel,norem,sociálních doh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enění darů zemské kůry (neobnovitelné zdroj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il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Rysy restrukturalizace světového systému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dokonalení signál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rychlení odezev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alizace používání ne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dcházení erozi obnovitelných zdroj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yužívání všech zdrojů s max. účinnost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zastavení exponenciálního růstu populace a fyzického kapitálu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3. Vlna: Trvalá udržitelnost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ormace ( větší databáze, lepší statistiky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troje k trvalé udržitelnost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tváření vizí (cíl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o doopravdy chcem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zájemné propojování (sítě, organizace, povzbuzení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luvení pravdy (lež naruší info to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učen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ilování (X individualismu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Literatur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nnis L. Meadows, Donella H. Meadows a Jorgen Randers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kročení mez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nakladatelství Argo, 1995, 320 str., ISBN 80-85794-83-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ová civilizace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95, 125 str., ISBN 80-86569-00-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lvin Toffler,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Šok z budoucnosti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, 284 str., ISBN 8020801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f271c"/>
                </a:solidFill>
                <a:latin typeface="Calibri"/>
              </a:rPr>
              <a:t>Děkujeme za pozornost</a:t>
            </a:r>
            <a:r>
              <a:rPr b="0" lang="cs-CZ" sz="3000" spc="-1" strike="noStrike">
                <a:solidFill>
                  <a:srgbClr val="4f271c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4f271c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Obsah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lvin Toffl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lnová teor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itéria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lečnosti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intelektuální vs.intelektuální podnik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 + D Meadow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ndence k překmit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vale udržitelný společ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ysy restrukturalizace světového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ystém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360" indent="-228600"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vlna: Trvalá udržiteln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157140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arozen 3.10.1928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merický spisovatel a futurolo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daktor časopisu Fortun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ostující profesor na Cornellově univerzitě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ositel čestných doktorátů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atý s H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i Toff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vou –spisovatelka a futuroložka, mimořádná profesorka na Univerzitě národní obrany ve Washingtonu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ijí v Los Angel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1640" y="15001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H:\4.jpg"/>
          <p:cNvPicPr/>
          <p:nvPr/>
        </p:nvPicPr>
        <p:blipFill>
          <a:blip r:embed="rId1"/>
          <a:stretch/>
        </p:blipFill>
        <p:spPr>
          <a:xfrm>
            <a:off x="5072040" y="1928880"/>
            <a:ext cx="3406680" cy="239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ALVIN TOFFLER –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ybraná díla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7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uture shoc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Šok z budoucnost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80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he third wav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řetí vln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995 – </a:t>
            </a:r>
            <a:r>
              <a:rPr b="1" i="1" lang="cs-CZ" sz="3600" spc="-1" strike="noStrike">
                <a:solidFill>
                  <a:srgbClr val="000000"/>
                </a:solidFill>
                <a:latin typeface="Calibri"/>
              </a:rPr>
              <a:t>Creating a New Civilization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(Nová civilizace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yntéza předchozích dě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Vlnová teorie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ivilizační vl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1. vlna – 8000 př.n.l. – 1750 – zemědělsk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2. vlna – 1750 – 1955 – průmyslová rev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 vlna – 1955 - ? – informační revolu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955 – v USA poprvé počet „bílých límečků“ větší než „modrých límečků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á civilizace přichází se třetí vlnou a jediná možnost přežití je přizpůsobení 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Kritéria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Připomíná to továrn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Demasifikuje to společnost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Kolik vajec je v košík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Je to vertikální nebo virtuální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Calibri"/>
              </a:rPr>
              <a:t>Vrací to domovu sílu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71640" indent="-51444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Principy 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2.vlny (půda, práce, kapitál) – vyčerpatelné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F 3.vlny - nevyčerpatelné zdroje (data, informace,.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struktura – elektronická komunik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nání jako tvůrce technologického pokrok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investicích - pokles významu kapitálu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e skladování (just in tim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dopravě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24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Úspory v materiálních nákladech (nové surovin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271c"/>
                </a:solidFill>
                <a:latin typeface="Calibri"/>
              </a:rPr>
              <a:t>Charakteristická společnost třetí vlny</a:t>
            </a:r>
            <a:endParaRPr b="0" lang="en-US" sz="36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ladá (doba trvání, pracovníc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á (outsourcing, flexibili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ce (inovac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vestice do výzkumu a vývo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zce specializovaní zaměstnanc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oká míra využití informačních technologi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c8c8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Nezaměstnanost z pohledu </a:t>
            </a:r>
            <a:br>
              <a:rPr sz="4000"/>
            </a:br>
            <a:r>
              <a:rPr b="1" lang="en-US" sz="4000" spc="-1" strike="noStrike">
                <a:solidFill>
                  <a:srgbClr val="4f271c"/>
                </a:solidFill>
                <a:latin typeface="Calibri"/>
              </a:rPr>
              <a:t>třetí vlny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60.let přesun od manuální práce ke službám (3/4 pracovníků v US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covní příležitosti jsou méně zaměnitelné (důraz na vzdělání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městnanos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esun od kvantitativní ke kvalitativní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ve službá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, rekvalifikace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é pracovní pozi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76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finančnictví, poradenské služby, vzdělávání, pečovatelství, turismus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áce doma, flexibilní pracovní doba, půlené zaměstn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funkčnost tradičních monetaristických a keynesiánských nápravných prostředků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6:22:10Z</dcterms:created>
  <dc:creator>Lucie Bieliková</dc:creator>
  <dc:description/>
  <dc:language>en-US</dc:language>
  <cp:lastModifiedBy>Lucie</cp:lastModifiedBy>
  <dcterms:modified xsi:type="dcterms:W3CDTF">2008-10-13T20:48:59Z</dcterms:modified>
  <cp:revision>21</cp:revision>
  <dc:subject/>
  <dc:title>Třetí vlna a její důsledky</dc:title>
</cp:coreProperties>
</file>