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2FA-B0C4-4069-8C74-B552BDE6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480-E66D-4F02-9204-A5A877E8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525-9DCF-463D-A11F-C66913B2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0C1-FB20-4CAE-8A3B-9AD9D406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2B17-6053-44F7-B748-6EA9B7FD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6917-7114-4C8B-A0CD-FFCAE03C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07D2-594A-4307-95D1-FC2EFD44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042C-0322-45C7-844D-2B9FB0F7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D242-FE81-4E0F-9AB6-F5ACA4B0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C2C3-AE72-43F9-A011-AA7F9D5F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BE95-F8D8-45B6-A495-56E1E699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AF5-F374-455B-9055-07A44A71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C94D-27DD-4476-B883-09B2D514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83B7-B42C-413A-A11F-3017D6FC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1DDB-00C9-4716-8B4B-385A3E1B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498F-5690-4A24-AB9D-60D98AEE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EA8E-6288-42EB-BA31-2A2B1F71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D29-7CB5-4A56-A2F3-DBC2DD48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BBE-192D-487F-B137-3F344EE0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B66-CAE9-4BFA-9AAC-7DFE2B96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814-8CA8-4358-A8AE-752ABD20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0DA-6572-4168-9770-F9170AE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0B9-6C3F-46E7-ABFD-4A0D2136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8AC-4F68-4E16-995C-A5C936EC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4965-F229-4276-B756-DA4A4360AFA8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8D10-A929-487B-A560-8EEBF2510F07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Ekologické aspekty industriální        a postindustriální společ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ř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41641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67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6840" y="4797360"/>
            <a:ext cx="228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arie Adam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onika Kud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František Chur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Vliv lidské činnost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692280"/>
            <a:ext cx="820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elkové emise skleníkových plynů vznikající v důsledku lidské činnosti se od predindustriálního období zvýšily, s nárůstem o 70% mezi lety 1970 a 2004. Nejvýznamnější skleníkový plyn vznikající jako důsledek lidské činnosti j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CO2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. Roční emise tohoto plynu vzrostly 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mezi lety 1970 a 2004.“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300" spc="-1" strike="noStrike">
                <a:solidFill>
                  <a:srgbClr val="ffffff"/>
                </a:solidFill>
                <a:latin typeface="Tahoma"/>
              </a:rPr>
              <a:t>(Zdroj: Zpráva IPCC, 2007)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Globální roční emise antropogenních skleníkových plynů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3068640"/>
            <a:ext cx="50389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Nepříjemná pravda</a:t>
            </a:r>
            <a:br>
              <a:rPr sz="4400"/>
            </a:b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(Al Gore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 probíhá a je morální povinností člověka ji řeš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r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bezpečí          Příležit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76360" y="4724280"/>
            <a:ext cx="115236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4724280"/>
            <a:ext cx="100800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979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Jak je možné ovlivnit atmosféru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Zdroj: &lt;http://apps1.eere.energy.gov/state_energy_program/update/images/06-07_greenhouse_effect.jpg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O2 vznikající z lidské činnosti: spalování ropy a uhlí, auta, elektrárny, at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é skleníkové plyny: např. fluorid sírový, fluorderiváty uhlovodíků at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473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eplota na severní polokoul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droj: An Inconvenient Truth, dostupné z: &lt;http://staffwww.fullcoll.edu/tmorris/an_inconvenient_truth/temps_north_til_2000.jpg&gt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3454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Globální oteplování jako důsledek lidské činnost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ání sněhu a led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dostatek pitné v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uriká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zertifik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sychání zemědělské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habita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mírání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árůst invazivních druh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v ročních obdob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Faktory, které změnily vztah člověka k Zem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ční explo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ecko-technická revolu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Lidé jsou stále mocnější ve vztahu k příro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dě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zónová dí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my jsou odpověd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72 – Medze rastu (Limits to growth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žiadnom systéme s obmedzenými zdrojmi nemôže pokračovať rast po ľubovoľne dlhú dob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čítačový model World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1992 – Prekročenie medzí (Beyond the limi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 modelu dosadené aktuálne informác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nohé toky materiálov a znečistenia prekročili svoje udržateľné medze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Hnacou silou, ktorá spôsobuje, že ekonom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ľudstva sa blíži fyzickým možnostiam Zeme, 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exponenciálny ra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vetového priemysl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edze, na ktoré rast naráž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Žriedla (potraviny, voda, lesy, fosílne palivá, materiály, 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puste (odpady, znečisten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D.Meadowsová, D.Meadows, J.Randers: Překročení mez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Zaťaženie = Populácia x Blahobyt x Technológi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Každá spoločnosť by mala previesť zlepšenia 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Tahoma"/>
              </a:rPr>
              <a:t>oblasti, kde má najväčšiu možnosť ich previesť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jem Ekologi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vodně biologická vě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irší smysl slova – ochrana přír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logie – ideologie - ekolog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Komplexný model – počítačová simulácia sve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leduje stavy veličín: populácia, priemyselný kapitál, znečistenie, úrodná pôda, zd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erie v úvahu časové horizonty zmien jednotlivých veličí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eberie v úvahu: nerovnomerné rozdelenie bohatstva, prírodné a technické katastrofy, vojny, korupciu, bariéry trhu ap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4 druhy medzí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hospodarovaná pô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Výnos z jednotky pô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chopnosť Zeme absorbovať znečisten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úvislosti: výživa a očakávaná dľžka živo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apitál, technológie a trh, priemysel a znečisteni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ôda a znečistenie, neobnoviteľné zdro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World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4 typy chovania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pretržit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Logistický r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oscilác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ekmit a kola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3 spôsoby reakcie spoločnosti na signály o prekračovaní medz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ignály utajovať, zamlžova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ierniť tlaky technickými alebo ekonomickými opatreniami bez zmeny príčin kríz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meniť štruktúru syst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dmienk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Stabilizácia veľkosti populá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Obmedzenie hospodárskeho rastu – orientácia na kvalitativný 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Zlepšené technológie znižujúce emisie a zvyšujúce efektívnosť využívania prírodných zdroj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Čím dlhšie bude trvať pretvorenie spoločnosti sme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k trvalej udržateľnosti, tým nižšia veľkosť populácie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materiálna životná úroveň bude udržateľ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Cesty k trvale udržateľnému systém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ytváranie víz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ájomné prepoj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Hovorenie prav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Uče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ilova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3 od počátku cílen jako destruktivní, aby se stal zajímav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ktní limity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předpokládá, že ekonomický růst nutně způsobuje nárůs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tah: množství jídla na osobu – střední délka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konstantního výnosu z každé další jednotky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 malé efektivity lidské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ritika modelu World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ybějící prostor pro lidskou fantazii a operativní řešení probl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 nedělá přesné předpovědi – nedá se ověř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droj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EADOWS, Jorden. Překročení mezí. Argo 1995. 319s. ISBN 80-85794-83-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FREEMAN, Christopher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ls of Doom: A Critique of the Limits to Growth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volution [online]. Wikipedia.org 2008. Převzato 2008-10-13. Dostupné z www: http://en.wikipedia.org/wiki/Ev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cology [online]. Wikipedia.org 2008. Převzato 2008-10-13. Dostupné z www: http://en.wikipedia.org/wiki/Ec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práva Mezivládního panelu pro klimatické změny při OSN, 2007, Dostupné z www: http://www.ipcc.ch/pdf/assessment-report/ar4/syr/ar4_syr_spm.pd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GORE, Al. Nepříjemná pravda. Argo 2007. 325s. ISBN 978-80-7203-868-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vody ochrany přírod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etické (rekreač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ické (te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logické (ekologick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Vývoj k současnost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lověk a války svě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ulost – každá skupina mohla dělat cokoli chtěla a čas a válka ukázal, co je lepší (klima nebylo ovlivněn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časnost – globální společnost – nejrychlejší růst není nutný pro přežití, ovlivňuje ovšem globální kl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inulost  X  součas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inulost – neexistovaly negativní externality v globálním měřít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oučasnost – znečištění životního prostředí je negativní external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65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ázory na ekologické dopady industriální a postindustriální společnosti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263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ne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60240" indent="-66024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imatická změna probíh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a je přiroze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-577800">
              <a:spcBef>
                <a:spcPts val="799"/>
              </a:spcBef>
              <a:buClr>
                <a:srgbClr val="ffffff"/>
              </a:buClr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u zapříčinil člově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35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sahovat               Zasah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700000" y="4437000"/>
            <a:ext cx="1655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437000"/>
            <a:ext cx="172728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Data a východis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Oteplová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klimatického systému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j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cs-CZ" sz="3600" spc="-1" strike="noStrike" u="sng">
                <a:solidFill>
                  <a:srgbClr val="ffffff"/>
                </a:solidFill>
                <a:uFillTx/>
                <a:latin typeface="Tahoma"/>
              </a:rPr>
              <a:t>nespor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jak prokazují výsledky pozorování zvyšující se globální průměrné teploty vzduchu a oceánu, rozsáhlé tání sněhu a ledu a zvyšující se průměrná hladina světových moří.“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(Zdroj: Zpráva Mezivládního panelu pro klimatické změny při OSN, 2007, dostupné z: &lt;http://www.ipcc.ch/pdf/assessment-report/ar4/syr/ar4_syr_spm.pdf&gt;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Průměrná povrchová teplota a úroveň hladiny moř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Zdroj: Zpráva Mezivládního panelu pro klimatické změny při OSN, 2007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553440" cy="2859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58341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7:07:13Z</dcterms:created>
  <dc:creator>ucebna</dc:creator>
  <dc:description/>
  <dc:language>en-US</dc:language>
  <cp:lastModifiedBy>Kudlová</cp:lastModifiedBy>
  <dcterms:modified xsi:type="dcterms:W3CDTF">2008-10-15T23:56:07Z</dcterms:modified>
  <cp:revision>37</cp:revision>
  <dc:subject/>
  <dc:title>Snímek 1</dc:title>
</cp:coreProperties>
</file>