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662-5774-4039-8799-23DD8226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F00-6F8D-49D7-BEC3-625E13BF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5AE2-D434-4F92-98D0-5E1BF9EF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E08-DDE8-4035-8553-102D23C7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88C-ACA6-41F9-9715-F7800A37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C54-BAFF-4140-B304-FE45383C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426-998E-4F76-A8A5-CE770DA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CD6-64D4-422F-8C5C-89D5E6C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C96-4DFA-4303-AA3A-9C331BB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300-9DCF-4DB6-9D4B-A8AAD2B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613-1A18-41FF-B944-EDA6E91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CF5-3F84-4CFC-8215-E29523A8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65D8-EB41-432B-A958-0A5BCBBC05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rod a vývoj kapitalizmu ako fenoménu industriálnej spoločno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5084640"/>
            <a:ext cx="309708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utori: Tereza Koklar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chal Dančiš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rtin Ďu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3260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 je kapitaliz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Čo je to kapi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pitaliz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žne označuje ekonomický systém založený na súkromnom vlastníctve výrobných prostriedkov a súťaži súkromných podnikov na trhu a (sekundárne) tiež veľkej individuálnej podnikavosti, snahe o dosiahnutie zisku a systematickom reinvestovaní zisk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testantská etika a trhové hospodárs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ávislá premenná – etika, ktorá je z dlhodobého hľadiska odvodená od Kalvínovej metafyziky spas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vislá premenná - individuálne a kolektívne ekonomické chovanie, ktoré je etickými normami štrukturované a inštitucionaliz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Kalviniz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oderný ekonomický vývoj koreluje s prijatím a presadzovaním kalvínskej etiky a efektívnosť a účinnosť kalvínskeho kapitalizmu uznali i najzásadovejší odporcovia kapitaliz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ný kapitalizmus – ekonomicky pokročilejšie časti Európy 16. - 18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rvou Európskou krajinou, ktorá uvoľnila cestu kapitalistickému vývoju, bolo Holandsk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emyslová revolúcia 18. – 19. storoč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vŕšenie formovania základných tried kapitalistickej spoločnosti – priemyselníci, robotnícka trie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znik sociálnej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ritika kapitalizmu z pozícií humanizmu, éra ochranného sociálneho zákonodarst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italizmus voľnej konkurencie (vrchol 60. – 90. roky 19. storoč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ípy liberalizmu, politika slobodného obch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účasné prú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chel Albert – dva hlavné prúdy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1. Neoamerický kapital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je priťažlivejší, ale sociálne krutejší, ekonomicky me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. Rýnsky kapitalizmus – zeme od Švajcarska až po Holandsko, Škandinávie, Japon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strohejší, ale výkonnejší a spravodlivejš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esto trhu v rýnskom a americkom modely – netrhové statky, zmiešané statky, trhové 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ýnský kapitalizmus – hospodárska aj sociálna prev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riek tomu sa americký kapitalizmus presadzuje z psychologického i politického hľadi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érium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čo kapitalizmus triumfuje na Západe a zlyháva všade inde na sv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ysté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chýbajúcej inform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mŕtvy kapitál, jeho hodno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kapi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 Kapitál je nositeľom dvoch paralelných  významov: jednak vyjadruje bezprostrednú materiálnu hodnotu aktív a jednak odkazuje k skrytému potenciálu produkovať nadhodnotu. + skrytý konverzný proces západu – formálne majetkové zázn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mystérium právneho zlyh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lastníctvo v rozvojových a postkomunistických krajiná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lenený zv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f. ing. Faltus, Jozef, CSc., prof. Ing. Průcha, Václav, CSc., Všeobecné hospodářské dějiny 19. a 20. století, Vysoká škola ekonomická v Praze, Nakladatelství Oeconomica, 2004, ISBN 80-245-049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ernando  de Soto, Mystérium kapitálu, Rybka Publishers, Praha 2007, ISBN: 978-80-87067-20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bert Michel, Kapitalizmus proti kapitalizmu, nakladatelství ELITA, Bratislava 1994, ISBN 80-85323-6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tz, W. G., Protestantská etika a tržní hospodář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er, M., Protestantská etika a duch kapitalis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29:20Z</dcterms:created>
  <dc:creator>Martin</dc:creator>
  <dc:description/>
  <dc:language>en-US</dc:language>
  <cp:lastModifiedBy>terka</cp:lastModifiedBy>
  <dcterms:modified xsi:type="dcterms:W3CDTF">2008-10-06T23:01:55Z</dcterms:modified>
  <cp:revision>12</cp:revision>
  <dc:subject/>
  <dc:title>Zrod a vývoj kapitalizmu ako fenoménu industriálnej spoločnosti </dc:title>
</cp:coreProperties>
</file>