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8647-144F-4973-92B7-617B163A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9BB7-1DEC-4290-8403-514AD268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3E1D-83B0-4F5C-9B2A-0C3B6373A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62DB-EAE8-41C2-A192-22ABDA29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0F2F-EFEB-43E2-BA0A-F5063E589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B5C3-8B64-42D0-81F4-4F5267A4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3108-5CD7-41C8-9B8B-E184FD61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B6CF-D6FC-4D2D-AC99-CA6ED1F3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4D35-B589-4C73-85B0-691E62BC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DEE6-7D77-4FB9-BD71-505D400A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0300-57FB-426A-AB0E-02B5C071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9D11-F238-49DE-93D0-2D783CB3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742B-6B23-489C-9FB4-2DA21DC9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1723-85E3-4548-A6EA-ADCE076D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5CE4-1D99-4BB7-9032-D6F99EB7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CC95-873B-4044-B01B-8D9478F8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5EF6-7245-4909-AE6E-8F0826C5A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E69F-601D-4E45-954B-9B13B41D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A870-1AC4-4FDA-8C45-55CABF07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4E7C-9696-4CAF-AC9D-18975A3F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E209-45F6-448D-BBA4-C3EC2869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1E83-806D-4B70-8108-E5F09723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4280-A2DC-43CE-A216-797DDC5D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4CB6-9E3F-4BBB-BD2E-509D270F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AFC3-BFF8-44B7-BB31-EA9301284C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EC6D-5A6A-404B-A6DC-610A78C3F4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b7"/>
                </a:solidFill>
                <a:latin typeface="Arial Black"/>
              </a:rPr>
              <a:t>Přirozená a kulturní evoluce</a:t>
            </a:r>
            <a:br>
              <a:rPr sz="2800"/>
            </a:br>
            <a:br>
              <a:rPr sz="2800"/>
            </a:br>
            <a:r>
              <a:rPr b="1" lang="cs-CZ" sz="3200" spc="-1" strike="noStrike">
                <a:solidFill>
                  <a:srgbClr val="ffffb7"/>
                </a:solidFill>
                <a:latin typeface="Arial Black"/>
              </a:rPr>
              <a:t>(Josef Šmajs: Drama evoluce)</a:t>
            </a:r>
            <a:br>
              <a:rPr sz="48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280" y="4365360"/>
            <a:ext cx="68007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pracovali: Blaha Mich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rál Tomáš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aulíčková Marc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irozená a kulturní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oluce = proces, který směřuje proti rozpadu systému,zvyšování uspořáda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dle nositele evoluční ak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oluce přirozená - příro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oluce kulturní – člověk (člověk prvkem přirozené evoluce a aktérem kulturní evolu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ledisko evoluce klíčem pro pochopení a řešení ekologické kriz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zdělání lidí v oblasti závažnosti ekologického konfliktu, přijmutí nových hodnot (pochopení evoluce..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irozená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ositelem příro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nohem delší časové hledisko než evoluce kulturní, už od dob velkého třesku vznikaly prvky,struktury světa…(vznik abiotických a biotických systémů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ytváření, přetváření, modifikace určitých prvků a struktur, výsledek evolučního procesu předem neznám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spořádanost jednotlivých organismů i uspořádanost celého ekosysté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ulturní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Člověkem generovaný proces, cílevědomá i spontánní aktivi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měle vytvářená kultura vzniká z přírody, je závislá na přirozených evolučně starších systém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ákladem kulturních struktur: informace kulturní=duchovní kult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ka, kultivované organismy, přirozené systé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ěřuje proti evolučně vytvořeným strukturám přír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ůsledek rozmachu kultu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ůst a rozmach kultury- destrukce a snižování biologické rozmanitosti živo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ůmyslová revoluce- rostoucí nároky na suroviny, energie, hromadné čerpání zdrojů, znečiště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ritika koncepce  společenského vývoje bez ohledu na vývoj přírodní, nutnost považovat kulturu za podřízený subsystém biosfé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ritika povědomí, že člověk díky rozumu o přírodu přesahuje a je jí nadřaz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 je to informac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jem dosud uspokojivě nevysvět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jako obsah a smysl zpráv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jako obsah pamě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jako uspořádanost byt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tížně se rozlišují a v důsledku toho i zaměňuj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 je to informace? I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ázev pro obsah toho, co se vymění s vnějším světem, když se mu přizpůsobujeme a působíme na něj svým přizpůsobováním.“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va ty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ypy inform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ce přirozená, biotick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ce kulturní, uměl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irozená inform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dělila struktury na živé a neživ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ulturní inform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zniká modifikací starší informace přirozen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e produktem kulturní informace, ale zároveň i její podmínk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eorie vzniku „spontánního společenského řádu“ (Hayek, F. A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Ontická role kulturní inform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mořádnou roli zastává lidský moz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„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še, čeho jsme dosáhli, je výsledkem kulturního vývoje, jenž se opírá o mozek stále stejné kapacity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zek se rodí s hotovou strukturou, bude pracovat moderním způsobem, avšak tento mozek má svou historii. Byl budován během miliónů let, reprezentuje historii, které je výsledkem.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ývoj filozofi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ž donedávna filozofie bádala spíše v minulosti a snažila se vyložit podstatu nezpochybnitelného bytí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jí vztah k ostatním vědám byl opomíj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es moderní filozofie hledí na realitu a vyvozuje z ní budoucnost, podstupujíce svoje teorie testu dalšími vědam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 Black"/>
              </a:rPr>
              <a:t>Ontická role kulturní informace I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ůsobí protipřírodně, je v opozici k přírodní evolu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ulturní informace se stává informací přirozen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užitá literatur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majs, J.: Drama evolu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majs, J.: Konflikt přirozené a kulturní evolu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majs, J.: Základy systematické filosof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Wiener, N.: Kybernetika a společn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Gould, S. J.: Pandin pal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ung, C. G.: Analytická psycholog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udijní materiály předmětu Management I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kutečnost – co o ní vlastně víme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išel „zázrak“ zrození, Slunce nám dodává energii nutnou ke všem procesům na Zemi (na planetu Zemi přitom dopadají pouhé 2 miliardtiny sluneční energi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iotické x abiotické strukt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m směřuje skutečnost? Vesmír se rozpíná a chladne, zvyšuje se jeho entropie, naproti tomu na mnoha jeho místech vznikají stále složitější, organizovanější, struk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e směřování vesmíru náhodné či se jedná také o evoluční proc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ystém přírod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lobální biosféra – vytvořil ji život, nedevastuje Zemi, vychází totiž z jejích nejstarších strukt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tevřené živé systémy – mají epigenetickou paměť (CNS) a genetickou paměť. To vede k evoluc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odukty evoluce jsou onticky předepsané struktury samovolně se strukturující biosfé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zemský život se tak stává organizačně nejsložitější, fenotypově nejaktivnější a proto i nejhodnotnější ontickou vrstvou vesmírné skutečnos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Člověk jako součást systému přírody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ultura – druhý, mladší systém, součást přírody, nemůže bez ní existov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Antropocentrická iluze – nadřazenost člověka přírodě, kultura se musí biofilně přestavě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šší systém neznamená silnější, naopak, slabší, křehčí organizační úroveň skutečnost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ozpor přírody a kultu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ultura je součást přírody, kde vzniknul rozpor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ultura je druhým ontickým systémem se sociokulturní informací, antropocentrická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může dosáhnout klimaxu s přírodou neboť roste mnohem rychleji, hnána příkonem se spalování fosilních paliv. Není tak prostor pro negativní zpětnou vazbu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rama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icolai Hartmann – odlišuje vrstevnatost bytí a stejně tak jako první i přírodní a kulturní evoluc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Expanze planetární kultury zbytečně brzo ohrožuje člověka jako dru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orálka není vždy závislá na faktu přežití, člověk může být fylogeneticky sobecký. Je však pouze nepatrnou větvičkou na stromu života, bez kterého nemůže existov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utné odstranit konspiraci lhostejnos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Uspořádanost struktu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pořádanost poukazuje na vnitřní zjevnou i skrytou rozmanitost skute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pořádanost přirozená a kultur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nitřní architektura konkrétních struktur(biotických, kulturních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y udržující identitu těchto strukt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irozená uspořádanos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ílem evoluční ontologie- přirozená uspořádanost jako vysoká kulturní hodno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ulturní X přirozená uspořádanost: Nešetrné zásahy kultury do přírody ničí tuto biotickou uspořáda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Šmajs: S ohledem na zachování přirozené uspořádanosti a na udržení biologické rozmanitosti života bude třeba rostoucí prostorové expanzi kultury zabráni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6:26:56Z</dcterms:created>
  <dc:creator>marcela</dc:creator>
  <dc:description/>
  <dc:language>en-US</dc:language>
  <cp:lastModifiedBy>snoopy</cp:lastModifiedBy>
  <dcterms:modified xsi:type="dcterms:W3CDTF">2008-09-30T13:02:12Z</dcterms:modified>
  <cp:revision>12</cp:revision>
  <dc:subject/>
  <dc:title>Přirozená a kulturní evoluce</dc:title>
</cp:coreProperties>
</file>