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598-6359-41CF-994C-C9EE9C90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419-E991-487D-8DFD-4DFD84BA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31E-FA9F-4F89-A717-96AB1F6B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FC9-61EB-4EF4-875A-7C4CF7C4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8571-639C-4451-B90E-B9920736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50D0-715F-4297-83F4-9FED0F3D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D705-FB0D-4FCC-9C78-4DCBE3BB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68D4-B5D9-43C7-A62A-809F365D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F938-4A9B-48C9-9664-B3CAE810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4D8F-6418-415F-9B2A-9FB0E84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9CF4-0904-4F18-841C-B365CC9A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2DA-C626-4E87-839B-806DFFC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A9F-988F-4D1B-99BF-261B103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E8AA-7318-4D71-84A9-B21BA436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0438-981B-4E6E-801A-C585C945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9A48-D550-428C-A772-C680864E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FF1E-5FC9-4121-BF99-F329F247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EEA-4C9D-46B6-903E-ED20328D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CFA-6442-4E2A-AB03-39167925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357-FFEF-452A-86FF-52BEC220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49F-919C-4A2F-9B92-E31D6C53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B52-B820-434A-BCE1-B5D384DF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F41-9411-48A4-A40C-34AF42BD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7C1-0F0B-4D0B-990A-99E29E3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A110-DAEA-407C-A527-17A634B825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8D0C-1262-481A-AC4D-04789EDE5D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Instinkt, rozum a rozšířený řá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Michal Plače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Ondřej Roudnic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Juraj Podhradsk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ijaté způsoby jednání po nás často vyžadují zanechat toho co po nás vyžadují naše instink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de 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éně střet citu a rozu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íce spor vrozených instinktů a naučených pravi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znám se, že se musím usmívat vždy, když knihy o evoluci, dokonce i knihy napsané vědci, v nichž se uznává, že se vše až dosud vyvíjelo procesem spontánního řádu, končí apelem na lidský rozum, aby se teď, když věci začaly být tak složitými, chopil otěží a řídil budoucí vývoj.“ F.A.Hay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inkt starší než zvyk a trad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k a tradice jsou starší než rozu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íme se mít na pozoru před domněnkou, že zvládnutí vědecké metody rozšiřuje způsobilost myšlení obecně. Zkušenosti ničemu tak jasně neodporuje jako přesvědčení, že člověk, který vyniká v jednom nebo více oborech, je v otázkách každodenních záležitostí moudřejší než kdokoli jiný.“ W. Tro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zum podle Lock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NÍ schopnost pochop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LE principy činnosti, ze kterých vznikají ctnosti a vše nezbytné pro vznik morálních zás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álka není výtvorem lidského rozumu, ale produktem kulturní evolu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ecně platí, že čím inteligentnější a vzdělanější člověk je, s tím větší pravděpodobností bude nejen racionalistou, ale také zastáncem socialis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ionalisté mají sklon být inteligentní a intelektuálští a inteligentní intelektuálové tíhnou k socialism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igentní lidé ale budou mít tendenci nadhodnocovat význam inteligence a předpokládat, že současné výhody a příležitosti jsou spíše produktem promyšleného plánu než dodržování tradičních pravide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to co je racionálně zdůvodnitelné a lze to dokázat experimentem si zaslouží důvěr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n podle toho co působí potěšení, bychom měli jednat a ostatní odmít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&gt; hlavní morální tradice si nezasluhují naši oddanost a naším úkolem je konstrukce nové morálky podmíněné vědeckým poznáním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dpoklad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ržet se toho co nelze vědecky zdůvodnit nebo dokázat pozorován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održovat to, co člověk necháp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rozumné dělat cokoli nejsou-li předem známy účinky a nejsou-li tyto ověřitelné a prospěšné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zum a morálk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ysluplné a rozumné jen ty procesy, které jsou vědecky prokazatelné, pochopitelné a nepostrádají cí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ětšina principů, institucí a způsobů tradiční morálky nevyhovuje uvedeným požadavkům =&gt; jsou tedy nerozumnými a nevědecký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sa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vod do problematiky konfliktu instinktu a řá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um a morál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, růst populace a náboženstv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tratí-li slovo svůj význam, ztratí lidé svou svobodu“ Konfuci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zyk nám umožňuje nejen označovat objekty dané našim smyslům jako jednotlivé entity, ale také klasifikovat nekonečnou rozmanitost kombinací charakteristických zna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imizmus x artificialism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pitalismu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žní ekonom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HODNÉ výrazy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atalaxe = předmět ekonom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iččí slovo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 popisného významu se přechází k předpis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Účinky slova „sociální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vrácená představa, že to co vzniklo spontánně, je vlastně výsledkem cílevědomé lidské tvorb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eluje na lidi, aby znovu rozvrhli to co sami nemohli navrhno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bavuje významu substantiva za ním =&gt; lasičč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žívání termínu „sociální“ je totéž jako volání po distributivní spravedlnosti. Ta je neslučitelná s tržním řádem založeným na konkurenci =&gt; sociální = protispolečensk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husiánské teorie nemají v dnešní době opodstatnění, protože vycházejí z dvoufaktorové ekonomiky a homogenního faktoru prác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á populace je sebestimulující a není sebelimitující jako u zvíř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neskončí dokud nebudou jednotlivé úrodné části země přibližně stejně hustě osídlen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populace je esenciální pro růst blahobyt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Život nemá jiný účel než sebe sama (atomová katastrof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Jazyk, růst populace a náboženstv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áboženstv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ncip tvorby a zachování morálních zásad, protože tyto nemohou být zachyceny během jednoho živo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achovala se jen náboženství podporující oddělené vlastnictví a rodin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ákony svědomí, o kterých říkáme, že se rodí z přírody, se rodí ze zvyku“ M.E. de Montaig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Osudná domýšlivost: omyly socialismu. 1. vyd. Praha : Sociologické nakladatelství, 1995. 200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ayek, F.A., Kontrarevoluce vědy : studie o zneužívání rozumu. 1. vyd. Praha, Liberální institut. 1995. 212 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Šmajs, J., Filosofie psaná kurzívou. 1. vyd. Brno : Doplněk, 2003.113 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stoteles věřil, že počet lidí žijících v řádu nemůže o mnoho překročit množství, ke kterému by dolehla slova hlasatele, a proto je stát čítající 100 000 lidí neuskutečniteln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hodoval se na základě instinkt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lo by nám zatěžko uvěřit, že něco takového, jako je náš nynější řád, je vůbec možné, a vyprávění o něm bychom považovali, kdybychom v něm reálně nežili, za bájnou a zázračnou pověst o něčem, co nikdy nemůže nast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ynější dimenze existence lidstva a její struktura vznikla zejména díky pravidlům lidského chován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 se neobjevil najedno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žní řád je teprve nedáv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ktury a tradice tohoto řádu vznikali dlouh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 obratu od zvířete k člověku došlo díky kulturně determinovaným omezením vrozených reakc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učená pravidla, kterými se jedinec začal nevědomky řídit, nahrazovala instinktivní jednání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enetický a kulturní vývoj se dostává do konfliktu (analogicky prof. Šmaj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Mezi nejdůležitější z vrozených instinktů, které pomáhaly odstranit instinkty jiné, je schopnost učit 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esto zásadní konflikt mezi tím co mají lidé instinktivně rádi a naučenými pravidly chování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Úvod do problematiky konfliktu instinktu a řád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ířený řá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NÍ přirozený (nepřizpůsobuje se biologickému vybavení člověk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 přirozený – vzniknu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0:51:28Z</dcterms:created>
  <dc:creator>Ondra</dc:creator>
  <dc:description/>
  <dc:language>en-US</dc:language>
  <cp:lastModifiedBy>Ondřej Částek</cp:lastModifiedBy>
  <dcterms:modified xsi:type="dcterms:W3CDTF">2008-10-07T14:03:40Z</dcterms:modified>
  <cp:revision>8</cp:revision>
  <dc:subject/>
  <dc:title>Instinkt, rozum a rozšířený řád</dc:title>
</cp:coreProperties>
</file>