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99FF-44C6-4FEA-AEB9-A23526E0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55B1-7A2B-4F43-B6D5-A5FA29C4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F45-9A50-400F-AF98-25D7E4B3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279-9017-462F-A5CE-A4D8888A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7C4C-2C4E-46AE-8F59-400147E3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4DBC-D9C5-4A0D-9B1F-CFDEE834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F4E3-6371-4803-A565-0B4621E9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54AA-9942-4906-BBEA-D24E30C4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C9B7-685B-4243-BCB4-9185BC2D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0E62-F5B3-4745-8612-D0918134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A28F-2052-4BE5-81FF-54271B4C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0A3-390A-4055-A343-16CD60A0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6027-EACC-4101-B8EF-E8AB7DDD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25F3-DD8C-4ACB-A702-35B4FEAB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4CDD-96E6-47C1-9E8C-7EE097EE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4ED2-7239-46BE-91A0-73418279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C963-CA67-4FF4-8779-68071511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D12-591C-44BD-BDC1-3F33FEF8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BE3A-504F-4BD2-BE1E-0119BD9A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716-D80F-4355-A8C9-63FDED1F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47D-F888-457C-A38F-B2D5942F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07EF-D367-48DC-B3D6-DDAEE160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E2AD-0E5C-49DB-8D79-333E243C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925-D334-4A38-9374-9B6DB3B1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CD09-C4F7-40E7-8978-9E6E448F2C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D17A-ACE4-403E-B706-B7643C7962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řirozená a kulturní evoluce a konflikt mezi nimi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c. Zbyněk Jančú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Krejč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ichal Pavl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a filozoficky důležité momen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latňuje se nerovnoměrnost ve vývoji: pomalé fáze jsou střídány rychlými evolučními skoky (prudké vzestupy po dosažení jisté prahové hodnoty vývoj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díl mezi informací předávanou mezi organismy a informací předávanou v rámci eko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íky pokroku ve fyzikálních a biologických vědách začínáme částečně chápat obecná pravidla přírodní konstruolo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 rozdíl od obecně rozšířené Newtonowské teorie je třeba přírodě přiznat spontánní evoluční tvořivost, posvátnost, schopnost reprodukovat biosféru včetně člově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ke svému životu a vývoji nutně potřebuje přírodu, avšak příroda se bez člověka snadno obejd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51280" y="3716280"/>
            <a:ext cx="153360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ltura – organizační a funkční opozice vůči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přírodě závislý systé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řád který vznikl z řád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dosaženou úroveň přirozené pozemské evoluce nenavazuje – není jejím pokračování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rozená biotická evoluce nevrcholí jen v jedné linii, tj. člověk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 počátku nebiotickým systém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ze člověkem generovaný pro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kračovatelem genetické evoluce, ale jiným prostředk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domá aktivita strukturované pospolitosti lidí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stitutivním činitelem kultur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to systém se  samovolně reprodukuje a rozvíj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vyšuje poznávací , regulační i produktivní schopnost jedinc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chovní kul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konstitutivní informací kultu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uje kulturní společenstv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káže obrátit dílčí přírodní síly proti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émový charakter kultury duchovní složku kultury nejen podněcují a rozvíjejí, ale také omezují, transformují a ruší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álním živočišným dru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ho biologická prosperita závisí na celkovém „zdravotním“ stavu celé biosfé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logický předek člověka byl ale vybaven přirozenou evolucí k zažehnutí kulturní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ulturní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ská činnost sice generuje všechny úrovně a linie kulturní evol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lověk je ale jako bytost v individuálním projevu jejím podřízeným prvk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lečenské subsystémy se stávají přes svou existenční závislost na člověku značně autonomními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 výsledcích činnosti lidí se potom projevuje i to, o co lidé neusiluj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ská závislost na kultuře se zvyšuje. Systém vytváří své nové prvky, části a subsystémy (instituce, organizace,...)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olitická r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ořila téměř všechny druhy dnes domestikovaných zvířat a kulturních rost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 důkazem předností i omezených možností  nepřímé ontické tvořivosti kulturní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ohla být dílem samotného individu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člověka z přírodního řádu částečně vyřadil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ůmyslová revoluc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mach přímé ontotvorné síly kulturní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chod od instrumentální práce k práci strojové - prudký spontánní vývoj abiotické techni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členění  do produktivního procesu hlavně neživé přírodní struktury a s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romadné čerpání neobnovitelných přírodních zdrojů Zem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imulace produktivně zaměřenou přírodní vědou (sociální objednávka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ítězí panský postoj člověka k přírodě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irozená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orie vývoje druh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lověk jako součást přír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lturní evol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voj člověka jako kulturní byt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lturní r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likt mezi kulturou a přírod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avení člověka mezi ni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stindustriální fáz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kotvena v racionalitě klasického obdob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ložena na lidském fylogeneticky omezeném a deformovaném poznání přír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znikají méně agresivní technologie vůči přírod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kový charakter postoje k přírodě se příliš nemě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zšiřuje se nebezpečná spotřební orientace v životním způsobu lidí – vychází z tradičního liberálního práva člověka na vlastnictví a ničím neohraničenou spotřeb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dá se, že institut soukromého vlastnictví řešení ekologické krize znemožňuje (liberální právo člověka na půdu konstruováno antropocentrick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obální ekologická krize je konfliktem přirozeného a kulturního řádu, je dosud neznámým typem krize evolučního úspěchu kul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totiž není pánem tvorstva, správcem či pastýřem bytí. Není dokonce ani partnerem Země. Je jejím prvk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lověk a jeho kultura nemůže ani vytvářet proměnlivost, ani jí zabrán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ůže jen zachovávat a hromadit odchylky, které mu poskytuje příro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onflikt – vlastní náz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roda jako hlavní činitel evoluce a vývoje druhů přece jen na některé části nemůže pojmout. Při rozvoji kybernetiky a robotiky to v budoucnosti možná bude právě a jen člověk, který tuto novou kulturu bude vytvářet, formovat a určovat její odlišení a adaptovat ji na změny podmí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ožné je však i to, že příroda sama tuto vývojovou větev považuje za neperspektivní nebo i schopnou ohrozit ostatní dru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Drama evoluce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ha: Hynek, 2000. 188 s. ISBN 808620277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Ohrožená kultura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2. vyd.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ha: Hynek, 1997. 209 s. ISBN 808590653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MAJS, Josef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Potřebujeme filosofii přežití?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 vyd.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Brno: Doplněk, 2008. 104 s. ISBN 97880723922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ARWIN, Charles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O vzniku druhů přírodním výběrem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3.vyd. Praha: Academia, 2007. 576 s. ISBN 97880200149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NT, Imanuel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Kritika čistého rozumu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1. vyd. Praha: OIKOYMENH, 2001. 568 s. ISBN 80729803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.Šmaj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ama evol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hrožená kul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třebujeme filosofii přežití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.K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ritika čistého rozu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h. Darw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 vzniku druhů přírodním výběr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roda chápána jako přirozenost, tj. adjective (formaliter), znamená souvislost určení nějaké věci podle vnitřního principu kauzality. Naproti tomu substantive (materialiter) rozumíme přirodou úhrn jevů, souvisejících zcela podle vnitřních principů kauzality“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.K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ritika čistého rozumu, s.2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00720" y="3789360"/>
            <a:ext cx="122076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win popisuje přirozenou evoluci druhů jako teorii přírodního výběru, čili přežití nejsilnější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miňuje přirozený výběr schopností adaptovat se na změny životních podmínek (klimatické změny, zavlečení nového druhu atd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měna životních podmínek zvyšuje proměnliv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77080" y="4581360"/>
            <a:ext cx="14335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člověk může přispívat k přírodní evoluci (viz. Domestikovaná zvířata, šlechtění zemědělských rostl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šem příroda tak může činit mnohem snadněji, neboť má pro svou činnost neporovnatelně více ča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irozená evoluce podle Darwina má autoregulační schopnosti: žádný druh nemůže dominantně převážit nad ostatní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íklad: Teorie upírů (kritika Brama Stokera – román Dracu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 rozšiřováním druhu roste i počet jeho přirozených nepřátel nebo přichází úbytek potrav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Přirozená evoluce – přírodní výbě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razně lze říct, že přírodní výběr den co den a hodinu co hodinu zkoumá na celém světě každou, i tu nejmenší odchylku, zavrhuje špatné, zachovává a rozvíjí dobré, nehlučně a nepozorovaně pracuje „kdekoliv a kdykoliv se naskytne příležitost“ na vylepšení každého organizmu ve vztahu k organickým i neorganickým podmínkám života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h. Darw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 vzniku druhů přírodním výběrem, s.106-1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67640" y="3789360"/>
            <a:ext cx="950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irozená evolu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filozofického pohledu je klíčovou otázkou rozvoje života funkční začlenění subsystému vnitřní informace do živého 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íky tomuto se vytvořila hranice mezi živým a neživý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ložení vnitřní informace umožnilo živým systémům budoucí rozvoj oproti neživé kultuře a schopnost měnit své vlastnosti zároveň se změnami okol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9:01:49Z</dcterms:created>
  <dc:creator>Michal Pavlík</dc:creator>
  <dc:description/>
  <dc:language>en-US</dc:language>
  <cp:lastModifiedBy>Ondřej Částek</cp:lastModifiedBy>
  <dcterms:modified xsi:type="dcterms:W3CDTF">2008-09-29T10:16:59Z</dcterms:modified>
  <cp:revision>27</cp:revision>
  <dc:subject/>
  <dc:title>Přirozená a kulturní evoluce a konflikt mezi nimi</dc:title>
</cp:coreProperties>
</file>