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00B6-C261-4CD9-8050-981B06ED3B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BCB1-20C9-4D2B-89F6-DAFB03D0E8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02C7-87A7-48E3-986B-CD07C6ED22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8464-9C5D-4BE1-8758-D8D6BA126E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9397-4A6B-4B2A-81C0-54B7CFA605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71E2-1830-430D-B4DA-211449FB95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F840-5D25-4A3D-B794-300D6478BE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D164-CAE3-4EC2-9378-DBA493C0BB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53D4-B0CA-4B01-A342-7A4A6E99FA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62EE-4118-432C-8DB9-EF16EB5742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2B0C-1517-43DA-97FB-B2B550C4D8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56A-F089-4F01-8321-4041DE9BB3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9F57-ED44-4C63-9815-7823D80AA0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D13-D635-49AD-9071-EDD8369C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E97-A7FF-4A67-AB0E-D5650771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7EF-7133-435E-B543-5A2EC7E1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E98-37A8-4AD6-A2EB-1FFA403D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664A-E142-459A-88F4-7A1C54FC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2FD4-8256-4807-8723-B3EA5ACE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1C5F-5F73-4005-9FE7-2DB9B7B6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5636-D317-4DD7-8783-D277667D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4A3B-6964-48AB-80E2-5178B253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8419-B30A-4FA7-9610-BDF30491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82D5-C480-44A8-8773-4F358D1F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8B4-E375-43B9-A05D-8CD289BF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2467-E8F5-42AE-AA9B-C3C3ECF8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6E89-D07D-4856-B9DC-04E41A06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937C-5552-4514-9936-212DDEED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851-E92C-4C11-B04B-8C050027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6724-0ABB-4DB9-8286-1A6F647A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CD6-26A3-4836-AC8E-D26CC8C9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680-D108-4D80-96BE-F4EECFAA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AD1-573E-42A1-B126-30CD464D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D87-33B7-4E43-8A48-0B133683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9BD-B06D-46EA-BC4A-52E35BC7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28E-552A-4BA4-83F3-5DD2CEBC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D9F-7290-45B6-9267-C46C73D6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1DCC-3B8A-46E6-B6B2-D23553470D7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FDFE-2B81-4E38-B92D-3A6DB7F9D5B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etí vlna a její důsl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858920" y="5013000"/>
            <a:ext cx="32720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Hana Drozd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lára Ottich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c. Kristýna Trn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EMOKRACIE PRO 21. STOLET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y vlády třetí vln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c menš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přímá demokracie (reprezentace a sebeprezen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lba decize (delegace práva rozhodov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chází generace „tvoření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FFLER, A., TOFFLEROVÁ, H. Nov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iviliz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Praha : Dokořán 2001. ISBN 80-86569-00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LVIN A HEIDI TOFFLER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lvin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, korespondent Bílého domu, nositel čestných doktorátů v oboru právu, humanitních a přídorních věd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eidi Toff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fesorka, nositelka četných vyznamenání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olupracují s několika předními politiky U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PROČ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vlna - „zemědělská“ revoluce (zhruba před 10 000 le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vlna - „průmyslová“ revoluce (od 18.stole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vlna - „informační“ revoluce (v USA od 19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55 - v USA počet bílých límečků poprvé v dějinách převýšil počet modrých límeč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ustále zrychlující se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CO JE TŘETÍ VLN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ité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 Připomíná “továrnu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Demasifikac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Decentralizace organizací (delegace pravomo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4. Vertikální  nebo virtuální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 Návrat k rod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TŘETÍ VLNA PODROBNĚJ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robní faktory: po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hmotné hodnoty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opnost získávat, generovat, distribuovat a aplikovat poznatky (nehmotné hodno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masifikace: demasifikace celé společnosti (diverzita produktů, segmentace tr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řeba kvalifikovaných lidí, růst požadavků, rekvalifikace, soukromé VŠ, personální ag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ovace: pro soutěž nezbytná neustálá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ítko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é diferencované pracovní tý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é struktury, nové typy podniků (joint-venture, holdingy), orientace na proc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émová integrace a infrastruktura: elektronická komunikace, nové formy ved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rychlení: místo úspor z rozsahu úspory z rychl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 TOHO PLY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zaměnitelnosti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un od kvantitativní ke kvalitativní zaměstna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nik čistě manuální práce, vznik kognitari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c dělení ekonomiky na sektory, rozpad profesních kategor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: menší počet inteligentnějších pracovních 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L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otní konflikt: civilizace první vlny X civilizace druhé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nes: střet civilizací první, druhé a třetí vl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ě střet mezi druhou a třetí vl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91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OCIALISMUS DOPLATIL NA STŘET DRUHÉ A TŘETÍ VLN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alistické vlastnictví x Soukromé vlast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ální plánování x Tržní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“Hardware” x “Soft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ŘET VOLIČSTE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důsledkem aktuálního střetu druhé a třetí vlny v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en tábor chce zachovat nukleární rodinu, masové vzdělávání, obří korporace, masové odbory, centr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ý je pravým opakem (liberalizace, důraz na I + D, decentralizace, informace, poznání, nové typy rod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asifikace volič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5:10:12Z</dcterms:created>
  <dc:creator>Klára</dc:creator>
  <dc:description/>
  <dc:language>en-US</dc:language>
  <cp:lastModifiedBy>KRI</cp:lastModifiedBy>
  <dcterms:modified xsi:type="dcterms:W3CDTF">2008-10-15T22:00:01Z</dcterms:modified>
  <cp:revision>11</cp:revision>
  <dc:subject/>
  <dc:title>Třetí vlna a její důsledky</dc:title>
</cp:coreProperties>
</file>