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609-C5F3-41C1-8268-B2A508DE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F31-0D2D-4FEA-A106-5EB0251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83B-D375-4988-9CBD-35CA7FB4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02F-CF8F-4B12-AEF0-CD2FB8D7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6866-CB22-4DB0-8C5D-0025EC7F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2C6D-C616-4B92-A0BA-C576C1DA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339-BC79-4372-A792-76884FD9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9DA-F61D-4FE7-930D-6FD7006F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5FDD-2D42-4184-962E-D74732D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5949-3A01-4926-9869-142B12FD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6E2A-F7D9-4206-A585-FA250D2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1F2-AB97-4157-A78A-169831E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069-94E4-49B5-ACA1-F02E1FB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A20F-A33E-4706-8202-A70F287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5FD-F06A-4688-9BDC-7806F51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A354-2AAD-4F13-8103-C9C15845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2638-BE53-4B35-B2BA-01D18C03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1F0-39A8-414C-A545-D97855D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D138-4524-4E6F-80CA-70962754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2BA-7132-4F27-8290-8CBA5538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1FB-ADBB-4398-8C0C-231A198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13A-14D0-4A78-B8CA-4794C034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019-1EA8-4AA6-A432-1CC90F9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30D-F50F-4B2A-A0C9-35D8859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7B72-35FA-4445-AC42-D338D5C787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AB1-F69F-4125-B24D-4595EDA34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Přirozená a kulturní evolu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chová, Jelínek, Kaszpe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 - výjimečný živočišný d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 je motorem kultur. evo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původního přírodního řádu vytváří odvozený kulturní řá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a – nestandardní, potenciálně protipřírodní subsystém bio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rodukt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ch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organis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ivované přirozené systé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uševní a duchov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ztah přírodní a 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roda vytvořila dokona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tímco kultura, do níž se člověk socializu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pouze je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softwar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onflik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vs.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ělé  vs. přirozeného (řád z řá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mná přirozená uspořádanost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bi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stupuje před hrubou nebiotickou uspořádaností </a:t>
            </a:r>
            <a:r>
              <a:rPr b="0" lang="cs-CZ" sz="3200" spc="-1" strike="noStrike">
                <a:solidFill>
                  <a:srgbClr val="660066"/>
                </a:solidFill>
                <a:latin typeface="Arial"/>
              </a:rPr>
              <a:t>technosfé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rama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sledky konfliktu – ekologic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směřuje šipka čas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Litera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Drama evolu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Hynek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Konflikt přirozené a kulturní evolu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o: MU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,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Šíp času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trava: OLDAG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rwin, CH.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 O původu člověka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: Akademik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veney,P. Highfield, R. </a:t>
            </a:r>
            <a:r>
              <a:rPr b="0" i="1" lang="cs-CZ" sz="2000" spc="-1" strike="noStrike">
                <a:solidFill>
                  <a:srgbClr val="660066"/>
                </a:solidFill>
                <a:latin typeface="Arial"/>
              </a:rPr>
              <a:t>Mezi chaosem a řá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: Mladá fronta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evol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á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tur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flikt přirozené a kulturní 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zvolný, průběžný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, svébytný a spontánní pr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í stále jemně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iferencovanější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ucelenou evoluční teo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Jean Baptiste Lamar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značení procesu změn dědičných vlastností mezi organismy (evoluční biolog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nešní chápání vychází z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Charlese Darw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Co je evolu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197000"/>
            <a:ext cx="6400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ek evolučního procesu je vždy víceméně neznámý, předem nezjist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nepředpověditeln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h evoluce je na každé organizační úrovni ovlivňován uvnitř i vně systému mnohými nahodilými fak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Č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68360" y="1557360"/>
            <a:ext cx="6624720" cy="4176720"/>
            <a:chOff x="2268360" y="1557360"/>
            <a:chExt cx="6624720" cy="4176720"/>
          </a:xfrm>
        </p:grpSpPr>
        <p:sp>
          <p:nvSpPr>
            <p:cNvPr id="98" name=""/>
            <p:cNvSpPr/>
            <p:nvPr/>
          </p:nvSpPr>
          <p:spPr>
            <a:xfrm>
              <a:off x="4572360" y="1845360"/>
              <a:ext cx="1728000" cy="3888720"/>
            </a:xfrm>
            <a:prstGeom prst="downArrow">
              <a:avLst>
                <a:gd name="adj1" fmla="val 50000"/>
                <a:gd name="adj2" fmla="val 5626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4360" y="2565360"/>
              <a:ext cx="720000" cy="14400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Arial"/>
                </a:rPr>
                <a:t>č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360" y="1557360"/>
              <a:ext cx="2304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BIOLOGICK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energie, hmot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236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2360" y="342972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Soutěžení o zdr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2360" y="414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(přežití nejzdatnějšíh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12360" y="486972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036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2036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036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036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836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0836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56720" y="1557360"/>
              <a:ext cx="2160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Arial"/>
                </a:rPr>
                <a:t>UMĚLÝ ŽIVO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(strojový čas, paměť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6720" y="2421360"/>
              <a:ext cx="2160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Organizovaná hmo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8720" y="3429720"/>
              <a:ext cx="2736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</a:rPr>
                <a:t>Soutěž o zdroje času a paměti C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68720" y="4149720"/>
              <a:ext cx="30243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Přirozený výběr nejzdatnějšího sebereplikujícího se algoritm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720" y="4869720"/>
              <a:ext cx="20160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Evoluce s otevřeným konc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4720" y="213336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4720" y="2853360"/>
              <a:ext cx="144000" cy="5760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4720" y="3861720"/>
              <a:ext cx="144000" cy="2880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4720" y="4725720"/>
              <a:ext cx="144000" cy="144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2720" y="2853360"/>
              <a:ext cx="1008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ut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2720" y="2853360"/>
              <a:ext cx="115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bereplik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á expanze kosmické hmo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 15 mld.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ý tř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ástice, atomy, molekuly, kosmické objekty, země, nerosty, horniny, vody, půdy a předchůdce člově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é fáze tvorby hvě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Přirozená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rozená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ležitost a vztah přirozené evoluce pro kulturní evolu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Kulturní evolu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ladší systé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aznost na přirozenou evolu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á aktivita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ověká filozofická koncepce děj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stitutivn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56:11Z</dcterms:created>
  <dc:creator>Čech</dc:creator>
  <dc:description/>
  <dc:language>en-US</dc:language>
  <cp:lastModifiedBy> </cp:lastModifiedBy>
  <dcterms:modified xsi:type="dcterms:W3CDTF">2008-09-29T17:58:45Z</dcterms:modified>
  <cp:revision>5</cp:revision>
  <dc:subject/>
  <dc:title>Přirozená a kulturní evoluce</dc:title>
</cp:coreProperties>
</file>