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5AA-E511-45CC-A2DF-13AF1AF8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AA4-3BD4-4351-A1AC-BF24395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940-8A77-4BA4-84CB-D7D7F92A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1B2-D7D7-4053-9B24-E72FA61E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12B7-BA5F-4AFC-98C5-C9F9BF9D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CAA1-B444-4EAA-B49C-9CEB5B4D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2A8B-FAFD-4500-A03B-4E9B95D6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CE92-1B35-4C82-96CF-63450D1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8010-873A-446F-9468-8788AB76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BFDA-F056-4DC8-8107-76C60D78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6FA-CEFA-42F4-AB2A-18663A3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A11-C1C8-4E36-83D3-179A69DC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E1C6-AA5A-46D0-A7BB-7174125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35F-A683-4A7E-8F4E-BB789F1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DF8-81B0-4103-8004-A39B1AF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48CD-AF4B-4210-A0A8-C5B22F2D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97F4-7A9B-42EA-9E8F-38B53B1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47B95-FAD5-4BB2-8744-1F2E731E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3EA31-AEAA-40D9-9504-C597CC8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3C181-C166-47D6-95FD-0E586AB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B41AB-43D7-43F6-8492-680EA26A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DAB93-0624-4875-94EF-E176C5C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D23-A923-4BD8-9110-29B1297A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4F200-7272-4BDC-A02F-449B105F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D3A9A-6066-4CAE-B139-0EE8403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325BD-92DE-4E3B-A8E1-0806D635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F8223-0711-479B-AD08-DBE46B9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E1DF2-622C-422B-87A1-3C13ADB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59830-3E69-4379-8CE2-2CCD0CF4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65752-CD06-4BA0-9972-B58E3BC9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5D158-9C5F-47B7-AE65-79565AA6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A3C30E-FBDB-4928-84B3-CD277362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A2140-3A5C-4984-86A2-539F15D1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1AC-E6B3-4F43-9ED1-A8A73E7C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99C1D-34D1-4766-BACD-2FB9BCF9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71C34-51CA-40DF-BD7E-C61B9E04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E7A60-4932-4BB8-9826-F0C157C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69180-7552-4A89-B387-CC45B05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AD54C-B6ED-47EA-85E1-23862A4E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78886-10F5-4969-ADBE-D754B08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9A31A-EF32-4B6D-9FFF-18A8137C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A1932-8C88-4DEF-8C22-ED790EEE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875FC-934F-4E4B-BB7A-3BA2C2E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BA916-E7D2-4C4B-902C-DC7395AF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7B4-D0CA-40B0-A601-C188E7AC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CD2C2-AC05-4B39-9657-AE6F1E8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453B5E-3CF1-4A52-B4A3-EDE471D2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7D9CF-202F-4249-88D6-22F2263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61C2D-2857-49A3-8A97-05ED383A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6FF1B-A730-4EFB-9D10-67BC8CB2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66E42-2499-4169-990F-ADA362E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A42BE-B496-4A84-B2D9-BFC61438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5C846-4EA5-40DF-B34F-6588865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2454B-D3BA-4C4C-94DF-AF99460B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7EE57-1032-4561-9B55-7FDB2C94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2BF-E590-482C-AD40-757C0569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81F6A-AF78-43F6-BC01-4A4F7AE9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1ED3-065D-4090-9AE0-B16B8F7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EC1DC-5C0C-446D-9D0E-D1D7BFF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7E795-4316-46F5-9F69-F53FEB33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2F4A9-7F99-41B2-8125-D0D7EB03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D1EA-7D6B-41BC-9400-5B918A51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3BB1-D9E7-498A-B601-05DB955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0337-7621-4942-A64A-BB0C5CB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277A1-53B4-4E24-9916-5505DE7C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7E6F3-0F2A-4D57-B3A5-163C6CD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81E-A109-4CE3-B948-5E093DC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61885-11AF-40B6-8FCB-8F290420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E9FF0-735F-4F59-BB5C-5C39AD21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34790-4B94-4B6C-ABD5-4D39F41D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FA832-C134-4983-BEA5-918134B7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97925-6B8A-4417-B432-53BB0948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2B050-7FB9-4C96-91D4-757B70C6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140F8-5573-4628-9D91-4E8A3BEC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DBD10-6D14-462B-A385-1A7E1AEB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5A7261-52E9-461B-86DA-F753B60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BBB79-DD2D-4C69-9CDF-1FE2F24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7B4-0C8D-4185-88FB-A503F81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92E52-5D9D-4F86-A7B3-31714215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780B5-41A7-45C0-95D9-70413C4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7164A-F7FD-4918-BBBD-815B3AC0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4D41B-E31C-411F-86E9-7DEC36A7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4F9F1-B4DD-4AB4-BF1B-FD6BCB4E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0E08-1C90-432C-96D6-5A506D29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93EA-9BF1-4510-A52D-048B731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51776-54E5-4937-808C-2D5ED419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F612-2DE8-49EE-9FAB-415D3EB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1948C-E216-4B8B-AFD7-350E716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8BC-3A61-40E4-BA6F-113A438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FDFF3-5AC3-416D-988A-35BD51F0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43BE-6743-4CB6-BA15-A2261A81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4B739-7882-40C0-BB5E-7683F7F2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0D34-8CEE-4D36-B483-1762F04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D731-3A7A-4426-A0C1-C10AAEF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B2953-E129-4BCE-962E-96051BB3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5655-A537-4EBE-ACD6-62CABA35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458B-4FE4-4B28-8B18-4B2AE018569C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C0ED-D0A1-480F-971E-6E48CA856C37}" type="slidenum">
              <a:rPr b="1" lang="cs-CZ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8C20-092C-44A8-909C-B1EA8836B390}" type="slidenum">
              <a:rPr b="1" lang="cs-CZ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B18F-2BA9-4284-BCD5-1EE0011AF212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564-E7DE-473F-BC21-F6B968E5BD04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5F08-872C-43C4-8CDD-E99D49189A46}" type="slidenum">
              <a:rPr b="1" lang="cs-CZ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50F-D7E6-40C1-A533-16AF3E0E3DEE}" type="slidenum">
              <a:rPr b="1" lang="cs-CZ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A8D-8EDC-4204-9E4B-32E0B73E4D9A}" type="slidenum">
              <a:rPr b="1" lang="cs-CZ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bddc3"/>
                </a:solidFill>
                <a:latin typeface="Tw Cen MT"/>
              </a:rPr>
              <a:t>EVOLUCE JAKO HRA S NENULOVÝM SOUČTEM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starší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Vymizeli strategie absolutně dobr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Triumf zlých pouze dočasn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Vítězem půjčka na oplátk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 neznámému se zachová dobř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 dalších kolek pak kopíruje jeho ch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ůvod vítězství: zlé je podvedou jenom jednou, poté se už podráží vzájemně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Simulace na nových počítačí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Byla zavedena možnost chyby strategie“náhodný šum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ůjčka na oplátku poražena strategií, která je ještě hodnějš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chopnost odpouštět – zradu v průběhu hry jednou přehlédne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Robert Wrigh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je ve Washingtonu, D.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utor článk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he New York Times Magazine, The Atlantic Monthly,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tional Magazine Award for Essay and Critis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pisovat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íc než nic, Logika lidského osu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orální zvíře: Evoluční psychologie každodenního živ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ři vědci a jejich bohov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Evoluce lidských společn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Kam je unášeno lidstvo ve svých dějinách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yužívání teorie he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Vývoj historie lidstva = nenulová hr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Lidé jsou svazováni stále větší vzájemnou závislostí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Tw Cen MT"/>
              </a:rPr>
              <a:t>Naznačuje, k čemu pravděpodobně dojd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Zástupný symbol pro obsah 7" descr="wright.jpg"/>
          <p:cNvPicPr/>
          <p:nvPr/>
        </p:nvPicPr>
        <p:blipFill>
          <a:blip r:embed="rId1"/>
          <a:stretch/>
        </p:blipFill>
        <p:spPr>
          <a:xfrm>
            <a:off x="5500800" y="2000160"/>
            <a:ext cx="237960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íc než nic, Logika lidského osudu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lovců a sběračů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Soupeřit o místa vysoko na společenském žebříčku znamená hrát hru s nulovým součtem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Jedním ze způsobů, jak v soupeření uspět, je objevit technologie, které vytvářejí nové hry, avšak tentokrát se součtem nenulovým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Příklad války – i zde nenulovos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Vývoj společností míří neustále kupředu, což potvrzuje teorii nenulového součtu jako výsledku vývoje společnosti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Citace z kni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Výhody získané z nenulových součtů organizovanost společnosti značně zvyšují. Účast v úspěšné hře s nenulovým součtem obvykle už sama o sobě znamená nárůst společenské složitosti. Od hráčů vyžaduje, aby koordinovali své chování. Lidé, kteří by jinak žili sami ve svém světě, se dají dohromady a vytvoří jeden uspořádaný celek, ve kterém se navíc téměř vždy uplatní dělba práce.“ </a:t>
            </a:r>
            <a:r>
              <a:rPr b="0" lang="cs-CZ" sz="2700" spc="-1" strike="noStrike">
                <a:solidFill>
                  <a:srgbClr val="000000"/>
                </a:solidFill>
                <a:latin typeface="Tw Cen MT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cs-CZ" sz="1400" spc="-1" strike="noStrike">
                <a:solidFill>
                  <a:srgbClr val="000000"/>
                </a:solidFill>
                <a:latin typeface="Tw Cen MT"/>
              </a:rPr>
              <a:t>* Str. 29, Robert Wright – Víc než nic, Logika lidského osudu, nakladatelství Lidové noviny: 2002, ISBN 80-7106-433-5, 457 s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užité 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obert Wright – Víc než nic, Logika lidského osudu, nakladatelství Lidové noviny: 2002, ISBN 80-7106-433-5, 457 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encyklopedie.seznam.cz/heslo/183426-clov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rubriky.cz/darwinova_evoluce_a_inteligentni_plan.ph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www.scienceworld.cz/sw.nsf/ID/51121AEBBE0CA003C1256E9700489B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b0f0"/>
                </a:solidFill>
                <a:latin typeface="Tw Cen MT"/>
              </a:rPr>
              <a:t>http://is.muni.cz/th/98689/fi_b/kooperace.t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75f55"/>
                </a:solidFill>
                <a:latin typeface="Tw Cen MT"/>
              </a:rPr>
              <a:t>Evoluce jako hra s nenulovým součte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Úv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eorie h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RIGHT, R. Víc než nic. Logika lidského osudu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4" name="Obrázek 3" descr="evoluce.jpg"/>
          <p:cNvPicPr/>
          <p:nvPr/>
        </p:nvPicPr>
        <p:blipFill>
          <a:blip r:embed="rId1"/>
          <a:stretch/>
        </p:blipFill>
        <p:spPr>
          <a:xfrm>
            <a:off x="2714760" y="2071800"/>
            <a:ext cx="6151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Stář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esmíru – 13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nce – 4,7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emě – 4,6 miliard l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Život vznikl před 3,5 mld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3 miliardy let byl pouze jednobuněč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oderní“ člověk - </a:t>
            </a:r>
            <a:r>
              <a:rPr b="1" i="1" lang="cs-CZ" sz="2900" spc="-1" strike="noStrike">
                <a:solidFill>
                  <a:srgbClr val="000000"/>
                </a:solidFill>
                <a:latin typeface="Tw Cen MT"/>
              </a:rPr>
              <a:t>Homo sapien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- asi před 200 000 le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Darwinova evolu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Darwinismus) vs. </a:t>
            </a:r>
            <a:r>
              <a:rPr b="0" i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Intelligent design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arwinismus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(150 le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šechny organismy jsou modifikovaní potomci společného předka, kteří vznikly akumulací náhodných odchylek a neřízenými proces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teligentní plá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 empirických důkazů lze některé rysy přírodního světa nejlépe vysvětlit pomocí inteligentní příč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existuje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ý důkaz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, že živočišné druhy se vyvinuly ze společného před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mus se neopírá o jediný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vědecky prokázaný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fakt, který by pokrokem ve vědě nebyl vyvrácen – vědecký konsens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oměr 500:700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ezi odpůrci a příznivci darwinismu z řad renomovaných vědc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osilních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nálezů není možné za žádných okolností určit, kdo z nich je předek, kdo potomek, kdo otec, kdo sy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akt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ítomnos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informac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v DNA vylučuje náhod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ičík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trávící bakterie – Musel  být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rovnou sestaven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odle konkrétního plánu takový jaký j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Srážlivost krve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relizovaná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kaskádou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roteinových moleku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arwinisté </a:t>
            </a: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ojkotují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 publikování ve vědeckých časopisech práce ne-darwinist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Evoluční hra a evoluční strateg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vztahuje se jen na biologické chování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ztah k produkci potomstv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a podstupovaného rizika – spojitost s finančními trh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Evoluční strategi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yužívá počítačové modely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čím úspěšnější, tím více potomk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Vězňova hr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va vězňové, čtyři možnosti řeš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výhodnější pro nás já jsem zlý, on je dobrý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méně výhodná je opačná strategi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lušná výhoda při koopera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írná prohra při vzájemném podraz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dánlivě se vyplatí podvádě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Ale! Při vzájemné kooperaci „body navíc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odmínky simu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ekonečná h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okonalá paměť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Čím více bodů, tím vícekrát strategie v dalším ko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Řada přednastavených strategi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13:04Z</dcterms:created>
  <dc:creator>Pafča</dc:creator>
  <dc:description/>
  <dc:language>en-US</dc:language>
  <cp:lastModifiedBy>Pafča</cp:lastModifiedBy>
  <dcterms:modified xsi:type="dcterms:W3CDTF">2008-10-01T11:42:18Z</dcterms:modified>
  <cp:revision>22</cp:revision>
  <dc:subject/>
  <dc:title>Evoluce jako hra s nenulovým součtem</dc:title>
</cp:coreProperties>
</file>