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AE7-C934-4213-9F4A-D85DB049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F2B-554D-4D32-AFAB-E5C1FFC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9CE-BB8A-4675-8ACA-60D540F3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AB9-BF78-4B39-97A4-43CD99A1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64BE-6F3D-47E1-9295-8CD21D40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8E2B-35D6-49DD-A075-3BFACDCF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7280-07FD-4616-B804-FCF7B267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F7B-6139-4A74-A2E0-F6166D10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5FAF-D259-4AE7-B15A-D3170A6A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301F-83A0-4182-9D8F-659866AA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E65B-A882-409B-B71B-2D11FE9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535-DE56-493E-92DE-37EFF197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BB65-A96E-443F-853A-EE8C054F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989C-EC1B-40B0-A453-07CC6D68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767-8708-4B22-9104-69F377F9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E1F-5ACC-4FED-842A-6667F3CB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B523-1F00-4E32-8CAC-1C7ACA1D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A5BE-3065-4EDC-B77F-31BE0F4B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D706C-DADF-4BAF-950B-D6084E9B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625C-B2E7-4BF5-A31D-65BA46FA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CDA6-CB34-4CB9-8037-8B4497E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B9C7-72FB-45B1-9457-6A4A7579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060-2B0E-45B7-AA23-FE6F1E5B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064D-FB3B-4676-9411-D364ADB7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C3B8-C399-4A4E-914C-0CA2500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C9C0-0181-4846-BADD-AEF5EC46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D1AC-A141-4C0A-BA6C-1082EA7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3D02-3D33-4C5B-A92A-9A978479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305B-66B8-4BA5-8E0E-E3E378E5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0807-6810-4844-80A7-EA0C1BB9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FE5C-A709-44BF-9FCE-7BBE2559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7F83-D39B-46C4-AEA2-282D5BBF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18795-C09F-487F-B0E2-66BDE14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E45-82BA-4A6A-B0A1-63CD35A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49C8-648A-4F58-BE6E-DA6A09D9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4407-06A9-4CED-AF91-76E91EEA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302CA-A35F-419A-B36F-2208269F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46990-0591-489F-BF7D-B865CDEF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D7B9A-6723-4062-9F03-7512B82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0A04-0966-4B64-840C-5866871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C2B9-7486-49BB-89BB-BCA2CCCC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033E6-D9CF-46D6-A932-3B237767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F001-9AD8-4172-84DC-4A529F14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981-5330-4229-83DD-3EA7B098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65C-8626-4D70-8F2B-E90E320A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C48-295A-4FFB-96A2-4D4C1E63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6FD-A42F-4AEF-B05A-66647511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3EB-92CD-40D6-B1D6-7839C14C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85F4-22CE-42BF-8539-162B93C0DBE8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1315-19CD-4D4C-9321-178A7A665902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e9e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de9e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de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2E62-3A8A-410B-B1DA-5B6AAFE98F99}" type="slidenum">
              <a:rPr b="0" lang="cs-CZ" sz="1200" spc="-1" strike="noStrike">
                <a:solidFill>
                  <a:srgbClr val="d3de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42424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F958-D84B-4A2E-9F8D-309CDFDBB003}" type="slidenum">
              <a:rPr b="0" lang="cs-CZ" sz="1200" spc="-1" strike="noStrike">
                <a:solidFill>
                  <a:srgbClr val="4242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5000760"/>
            <a:ext cx="7854840" cy="909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áclav Klein, Vít Zouhar, Robert Kun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Děkujeme za pozornos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0040" y="4571640"/>
            <a:ext cx="822960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CO JE TO NENULOVÝ SOUČET?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KAM je unášeno lidstvo ve svých dějinách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Má nějaký VYŠŠÍ SMYSL?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WRIGHT: Vývoj, evoluce má svůj směr a cíl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BERGSON- ELÁN VITAL- pohání živé hmo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TEILHARD de CHARDIN-dějiny lidstva směřují k bodu omega, ten je umístěn mimo prostor a č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Příliš nadpozemské???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ALE…Správná základní myšlenka 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Evoluce organismů má sklon vytvářet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složitější formy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a stejně i lidské dějiny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íhnou k vývoj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stále větších a složitějších uskupení-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noosféra, globalizační vesnice.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LZE SMĚŘOVÁNÍ NA KTERÉ BERGSON A DE CHARDIN UPOZORNILI VYSVĚTLIT VĚDECKÝM ZPŮSOBEM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-podle Wright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ODPOVĚĎ BY PODLE WRIGHTA MOHLA BÝT V TEORII HER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Teorie her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or, který se snaží té které hře přiřadit právě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volučně stabilní strategi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le  úspěšnosti v aktuálním kole je získána jakási poukázka na množství potomků v kole následující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trate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50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Constantia"/>
              </a:rPr>
              <a:t> x </a:t>
            </a: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lze nalézt i v rámci jednoho druhu – vlivy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arwinovský boj o život – spíše v rámci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jednoho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ruhu, než mezi dru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Přizpůsoben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se prostřed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Žádní vítězové – pouze poražení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y protihráčů jsou nepřímo úměrné (fotbal, tenis, bo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Hry s nenulovým součtem-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isk jednoho nemusí být na úkor druhého. Obvykle se zájmy překrývají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řehled vývoje života lze uvádět stručn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řehled lidských dějin je spletit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: u obou lze zachytit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zorec vysvětlující směr 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ějin právě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mocí teorie her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Vznikají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nové technolgie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podněcují nové bohatší podoby vzájemneho působeni s nenulovým součtem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té se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vyvyjeji společenská uspořádán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, která tohoto 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tenciálu využijí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promění situace s nenulovým součtem v </a:t>
            </a:r>
            <a:r>
              <a:rPr b="1" lang="cs-CZ" sz="2600" spc="-1" strike="noStrike">
                <a:solidFill>
                  <a:srgbClr val="000000"/>
                </a:solidFill>
                <a:latin typeface="Constantia"/>
              </a:rPr>
              <a:t>pozitivní zisky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. V souladu s paretovým optimem-nikomu se nemůže ve společnosti dařit lepe na ukor jinéh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-například Technologické revoluce tak vytvářejí stále nové hry umožnujiící oboum stranám výhru(např. Hospodářský růst i pomocí technlogií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464653"/>
                </a:solidFill>
                <a:latin typeface="Calibri"/>
              </a:rPr>
              <a:t>HRY S NULOVÝMI A NENULOVÝMI SOUČTY</a:t>
            </a: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znamená to, ale že hry s nenulovým součtem musí být ziskové na obou stranách, nebo že by bylo vyloučené podvádění, nebo parazitismus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řesto, se ale po čase ukáže, že vzniká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více součtů kladných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ež záporných a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častější je oboustraný zisk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směřuje tak spíše k výhrám.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Uspořádání společnosti 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je tak stále 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složitější</a:t>
            </a: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 do šířky i do hloub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Dějiny života i lidstva sestávají se stále častějších, rozsáhlejších a složitějších her s nenulovým součtem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Hromadění nenulových her je podstatou narůstání biologické i společenské složitosti-hromadění nenulovos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Nenulovost dodáva hybnost základnímu směřování života na planetě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Výskyt strategií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Člověk se obvykle vyskytuje v prostředí, které mu je "přirozené", tedy mezi obdobnými strategiem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rozba infiltr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 zdánlivě slepý přírodní výběr přitom "odměňuje" entity, které jsou oproti svému okolí schopné lepšího zpracování informací. Čím lepší zpracování informací, tím blíže ke K strategii a tím větší je opět prostor pro altruismu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464653"/>
                </a:solidFill>
                <a:latin typeface="Calibri"/>
              </a:rPr>
              <a:t>ZMATEK DNEŠNÍ DOBY</a:t>
            </a:r>
            <a:br>
              <a:rPr sz="4500"/>
            </a:br>
            <a:endParaRPr b="0" lang="en-US" sz="45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rahová období-vývoj skočí z rovnovážného stavu na  vyšší úroveň rovnováh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 tomu dochází i dn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right uznává že rostouci zmatek je znamenim rozhodného kroku v postupu toho, co můžeme nazvat osudem svě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nstantia"/>
              </a:rPr>
              <a:t>Osudem našeho druhu je VYBRAT SI!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464653"/>
                </a:solidFill>
                <a:latin typeface="Calibri"/>
              </a:rPr>
              <a:t>Použitá literatura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avel Houser / Vzpoura genů : od velkého třesku k umělé inteligenci . -- 1. vyd.. -- Praha : IDG Czech, 2003. -- 127 s., [16] s. barev. obr. příl. :. ISBN: 80-86304-99-X (brož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bert Wright / Logika lidského osudu -- 1. vyd.. -- Praha : Lidové noviny, 2000. –356 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ttp://www.scienceworld.cz , nahlédnuto 4.10.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0:57:50Z</dcterms:created>
  <dc:creator>Zou</dc:creator>
  <dc:description/>
  <dc:language>en-US</dc:language>
  <cp:lastModifiedBy>Zou</cp:lastModifiedBy>
  <dcterms:modified xsi:type="dcterms:W3CDTF">2008-10-06T12:43:12Z</dcterms:modified>
  <cp:revision>2</cp:revision>
  <dc:subject/>
  <dc:title>Evoluce jako hra s nenulovým součtem</dc:title>
</cp:coreProperties>
</file>