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FF4-1A0B-4856-9BC8-70542954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90A-D00E-43B8-800F-F010C29F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A26-6BD4-4CD6-BD77-DC650B58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1104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096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112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1104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096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344-CAC5-42B2-A88E-FB8CF873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DE0E-124E-4B4C-B055-FC3BB53F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FF73-881E-4401-A8B5-903BDAE3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003C-A778-4563-9DB9-4C06BFC1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1A56-AFF3-4429-B41E-94C5F5FC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956F-E3F9-4388-BA32-1885A4CA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33360" y="837720"/>
            <a:ext cx="662940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46F2-70B9-4794-9950-A486981A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C1CB-57A3-466C-A1FA-26E0C1D1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808-D279-4AFE-8E5E-3B0A5008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C76E-FEF8-4CD1-A55A-26CFEE17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458A-7C75-4604-ACF3-67D01018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409F-9621-4757-B7EA-2C656C7D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4B6C-59B5-4A88-B4A3-1D518E69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104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0960" y="487656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112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71104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0960" y="5433840"/>
            <a:ext cx="14472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0F04-01E4-4300-8BA2-B3594AED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94C-0B36-4F9B-9F1D-BD582146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DBE-3197-4FA9-94C4-2DE3C38D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6B1-6209-485E-A9C5-727510C3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360" y="837720"/>
            <a:ext cx="662940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9A3-FA8E-4ED5-8E91-39D42EAF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0170-B705-4321-BEF7-BE7FE4B4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95120" y="543384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EBE-F30A-43C6-84E0-D2475736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1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95120" y="4876560"/>
            <a:ext cx="219384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1120" y="5433840"/>
            <a:ext cx="4495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195-BEAE-46F9-BFD9-D7BF9F4B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CC87-E52D-494D-A021-505AD1CA4309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6774-4EF3-4E82-9080-07925136B8A3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ff66"/>
                </a:solidFill>
                <a:latin typeface="Arial Black"/>
              </a:rPr>
              <a:t>Zrod a vývoj kapitalismu jako fenoménu industriální společnosti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1120" y="4876920"/>
            <a:ext cx="44956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Simona Doubk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Petra Krup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Lenka Valentová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Arial"/>
              </a:rPr>
              <a:t>16.10.2008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testantismus a kapitalismu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Kapitalisté a podnikatelé jsou většinou protestant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č? K získání hospodářských funkcí je třeba kapitál a nákladné vzděl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Řada bohatých měst se v 16. století přiklonila k protestantstv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estanti prokazují sklon k ekonomickému racionalism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atolic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ása za pomocí církve a svátost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Dobré skutky příležitostně – k odčinění hřích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ok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Jednotlivé skutky (dobré a špatné) se člověku připočítávaly a pak ovlivňovaly jeho věčný osud (úhrnné saldo života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Askeze mnišská v kláštere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alvin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Učení o vyvolenosti (predestinaci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Žádný kazatel ani svátost nejsou prostředky k získání milosti bož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epomůže ani církev, ale naopak - kdo do církve nevstoupí, nemůže být vyvolený ke spás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elze poznat, kdo je vyvolený a kdo zavrž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Jako prostředek k dosažení žádoucího vědomí se doporučuje neúnavně pracovat v povolán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okus rozšířit askezi do všedního života (nejen v klášterech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Systematické chování (metodisté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ovolání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kud člověk nemá pevné povolání, těká v příležitostné práci, utrácí víc času v lenošení než v dílu.“ [R. Baxter: Christian Directory]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Životu bez povolání chybí systematičnost, metodičnost, což žádá světská askez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Užitečnost povolání se měří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mravním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důležitosti produkovaných statků pro „celek“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Měřítkem soukromohospodářské výnosnosti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volání =&gt; Bohatství – pro Boha, nesmí svádět k hříšným požitkům a povalová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Vzni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412"/>
              </a:spcAft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odpora výdělečné činnosti a zisku, ale zároveň světská askeze, která bránila užívání majetku =&gt; to vedlo k akumulaci kapitál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testantská etika a tržní hospodářství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077000" cy="4267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38760" y="1752480"/>
            <a:ext cx="4076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Gerhard Wilhelm (William) Dit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r. 1917 v Praz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WW II – emigrace do   US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americký sociolog a ekonom českorakouského původu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2 proměnné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závisle proměnná – etika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                                      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dle Webera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ávisle proměnná – ekonomické chov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Vzni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(moderní tržní hospodářství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ojen s přijetím kalvinism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6000" y="404640"/>
            <a:ext cx="6480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ccff66"/>
                </a:solidFill>
                <a:latin typeface="Arial Black"/>
              </a:rPr>
              <a:t>Středověk vs. kalvinismus</a:t>
            </a:r>
            <a:endParaRPr b="0" lang="en-US" sz="3300" spc="-1" strike="noStrike">
              <a:solidFill>
                <a:srgbClr val="ccff66"/>
              </a:solidFill>
              <a:latin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99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žská práva král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 aristokraci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božská práva vlastník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- meritokracie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mezení spotřeby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asketismus a maximalizace výroby (zisku)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tabuizace úroků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důraz na spoření a investování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ráce - trest boží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„</a:t>
                      </a: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povolání“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111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uzavřená pyramidová struktur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otevřená pyramidová struktura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Kritika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arxist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žádná podpora pro dělnickou třídu (masy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dlouhodobá neudržitelnos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erkantilist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dohled krále a církve nad obchodník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Web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- nestabilní a institucionálně zranitelný systé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Obsah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6699"/>
                </a:solidFill>
                <a:latin typeface="Arial"/>
              </a:rPr>
              <a:t>Protestantská etika a duch kapitalismu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(M.Weber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estantská etika a tržní hospodářství (W.G.Ditz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Úpadek kapitalismu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adlužování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zaměstnanos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tátní zásah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důraz na lidská práv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Literatura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WEBER, M.  Protestantská etika a duch kapitalismu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DITZ, W. G.  Protestantská etika a tržní hospodářství. 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HINDLS, R., HOLMAN, R., HRONOVÁ, S. a kol. Ekonomický slovník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Arial"/>
              </a:rPr>
              <a:t>SIRŮČEK, P. a  kol. Hospodářské dějiny a  ekonomické teorie.</a:t>
            </a:r>
            <a:endParaRPr b="0" lang="en-US" sz="2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95280" y="83664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Děkujeme za pozornost!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ojem KAPITALISMUS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polečenský a ekonomický řád, charakterizovaný soukromým vlastnictvím, tržní koordinací ekonomických činností a námezdními vztahy mezi vlastníky kapitálu a pracovníky. </a:t>
            </a: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(Ekonomický slovník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rod v 16. stol. – raný kapitalismu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ahrazuje dosavadní feudální systém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Od feudalismu ke kapitalism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Feudalismus: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hlavní role: zemědělství – soběstačnos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99"/>
                </a:solidFill>
                <a:latin typeface="Arial"/>
              </a:rPr>
              <a:t>směna jen omezeného okruhu výrobků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rcholný středověk: rozkvět měst – cechovní řemeslná výroba, trhy, městská práva a svobody a nové sociální vrstvy (řemeslníci a obchodníci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ostupný nárůst populace, zvyšující se poptávka po zboží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rozšiřování dělby práce a směny – roste význam peněz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ámořské objevy – 15., 16. stol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nárůst vzdělanosti a náboženská reforma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ný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ciální transformace – kapitalističtí podnikatelé (buržoazie) a námezdní dělnictv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ystém založený na kapitálu a námezdní práci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oces kolektivní akumulace – počáteční nahromadění kapitálu a odloučení výrobců od vlastnictví výrobních prostředků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Diferenciace hospodářského vývoje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erovnoměrný vývoj v různých částech Evrop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západní Evr. rychlejší a přímočařejší vývoj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měny - buržoazní revolu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třední Evr. v 16. a 17. st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astavení růstu měst a rozvoje prvků raného kapitalism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dodavatel zemědělských, lesnických a zčásti báňských produktů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změny – reformy shor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růmyslová revoluce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echod od ruční výroby v manufakturách k tovární strojní velkovýrobě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Anglie v 2. pol. 18. stol. X méně vyvinuté časti Evr. v 2. pol. 19. stol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Kapitalismus volné konkurence (soutěže)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rchol 60. a 70. léta 19. stol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prosazování principů liberalismu do hospodářské politik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rušení omezení zahraničního obchodu - volný pohyb zboží, lidí a kapitál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aždý občan mohl založit podnik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slabší podléhali silnější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oncentrace výroby a kapitálu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vznik obchodních bank – roste objem úvěrů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99"/>
                </a:solidFill>
                <a:latin typeface="Arial"/>
              </a:rPr>
              <a:t>kapitalistická společnost – 2 třídy: buržoazie (průmyslníci) a dělnictvo – sociální otázk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ff66"/>
                </a:solidFill>
                <a:latin typeface="Arial Black"/>
              </a:rPr>
              <a:t>Protestantská etika a duch kapitalismu</a:t>
            </a:r>
            <a:endParaRPr b="0" lang="en-US" sz="30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38760" y="1752480"/>
            <a:ext cx="4076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Max Weber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1864 - 1920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ěmecký sociolog a ekono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řazen mezi tzv. otce zakladatele sociologie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49400" y="1752480"/>
            <a:ext cx="31971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9:31:11Z</dcterms:created>
  <dc:creator>čtenář</dc:creator>
  <dc:description/>
  <cp:keywords/>
  <dc:language>en-US</dc:language>
  <cp:lastModifiedBy>172114</cp:lastModifiedBy>
  <dcterms:modified xsi:type="dcterms:W3CDTF">2008-10-15T15:07:35Z</dcterms:modified>
  <cp:revision>38</cp:revision>
  <dc:subject/>
  <dc:title>Zrod a vývoj kapitalismu jako fenoménu industriální společnos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81029</vt:lpwstr>
  </property>
</Properties>
</file>