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B6801-7CCD-4C12-AB54-27A3E51E0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59600-65CF-48A8-80F8-D29A5BCD1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84381-2195-42A4-B07B-5280FDE20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D2200-66A7-4F53-8E27-BC60806B6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8D36D-628C-4BB5-AF78-DF5AE03EA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F3EBB-EC2F-4224-B759-FF47609D0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83415-2A47-458E-924E-AAF2CBF7C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82AAC-A633-403D-934C-0FCA9A4BC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0D2EE-EFC9-4E45-BE7E-9FEBC9CB8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75DCB-C1D8-49A2-A990-9212767E1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04273-806E-4C1B-92FB-A12AA337D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6BDEF-90EC-4F2E-8C5D-C87617EB3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BF129-99CB-452F-93CD-A2F4E05A8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BFB78-F780-4B86-933C-D8FAF464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DC1A2-F6BF-4D3B-9F5A-E89AB34EA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A23BF-85A4-4EE7-9976-A831BA287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9B22B-F3C2-47C8-BD7E-D066EC868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79141-5D5C-4A0A-B968-EAC8023D6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6CBF2-DA7A-45A7-B016-DB0A045B9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C8FFF-D6AA-4AAF-B8A2-5667C40D3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9F81E-3B5C-44E7-AAFF-DB7E7E4F7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D0717-EF52-47A7-AC58-00F4D0199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47BF7-E933-4FD5-8B14-DFE644E16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048B5-D2FF-4FD8-8044-A8D6768D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A67E7-1253-4945-AC15-D96EF680D9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FDEE6-7AD4-4ECD-A4C1-6DF5E95ACA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lean.org/" TargetMode="External"/><Relationship Id="rId2" Type="http://schemas.openxmlformats.org/officeDocument/2006/relationships/hyperlink" Target="http://www.lean.org/" TargetMode="External"/><Relationship Id="rId3" Type="http://schemas.openxmlformats.org/officeDocument/2006/relationships/hyperlink" Target="http://www.lean.org/" TargetMode="External"/><Relationship Id="rId4" Type="http://schemas.openxmlformats.org/officeDocument/2006/relationships/hyperlink" Target="http://www.lean.org/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Kapitalismus nové civilizac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ichaela Kaprál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nika Kovář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omáš Sedláč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Mud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&amp;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Lean Think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hno: </a:t>
            </a:r>
            <a:r>
              <a:rPr b="1" lang="cs-CZ" sz="3200" spc="-1" strike="noStrike">
                <a:solidFill>
                  <a:srgbClr val="00007d"/>
                </a:solidFill>
                <a:latin typeface="Arial"/>
              </a:rPr>
              <a:t>mud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= plýtvání, mar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hlcuje zdroje, nevytváří hodno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ones, Womack: </a:t>
            </a:r>
            <a:r>
              <a:rPr b="1" lang="cs-CZ" sz="3200" spc="-1" strike="noStrike">
                <a:solidFill>
                  <a:srgbClr val="00007d"/>
                </a:solidFill>
                <a:latin typeface="Arial"/>
              </a:rPr>
              <a:t>lean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eštíhlující myšl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ék na hýřivé prakti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ntinuální tok hod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ncipy zeštíhlujícího myšl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ecify value from the standpoint of the cust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dentify all the steps in the value stream – eliminate everything that does not create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tegrate the sequence so the product will flow smoothly toward the cust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et customers pull value from the 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ursue perfection through continuous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užby a to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nik nenabízí produkt, ale přímo službu, kterou daný produkt poskytu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lumí nestabilitu - vyrovnává výkyvy, protože produkty jsou dodávány plynu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ynulý tok služeb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ální podnik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hy a jejich fung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Trh-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„Je oblast ekonomiky v níž se střetává nabídka s poptávkou a výsledkem tohoto střetu je nákup resp. prodej určitého množství zboží za určitou cenu.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Kapitalismus- „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Kapitalismus je ekonomický systém, v němž jsou výrobní prostředky v soukromém vlastnictví a provozovány za účelem dosažení zisku. Ekonomické parametry (např. ceny) jsou určovány prostřednictvím volného trhu (nabídkou a poptávkou), a to i ceny práce, nikoli řízeny pouze zásahy stát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Dokonalá konkurence-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„Teoretický model trhu, v němž platí: existuje velký počet kupujících a prodávajících, žádný z nich nemůže ovlivnit cenu, produkceje homoggenní, neexistují překážky vstupu do odvětví, všichni mají dokonalé informace o cenách a množství zboží na trhu.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íčiny nefunkčnosti trh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Špatná alokace kapitá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ční selh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ční selh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ční selh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zika hodnotových řetěz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pravdivé a chybějící cenové signá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úplné trhy a vlastnická prá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45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kčnosti trhu napomáhají spravedlivá pravidla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Čína: Země, kde se kapitalismus s komunismem snoub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oční růst HDP okolo 9% (již od 70.le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$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,53 bilionů zahraničních měnových rezer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větší producent textilu, oceli, zlata a cem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roce 2006 dokončilo VŠ 2,4 mil. Student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 2011 – největší spotřebitel ener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zitivní kro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tevřenější a svobodnější zem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voboda cest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rušení registračního systé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86% číňanů je spokojeno s ekonomikou a jejím směřování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voboda podnik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tevřenost zahraničním investorů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ohatství a velký rozvoj mě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n malý posun v poli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pírání svobody slo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iskriminace menšin (tibeťané, Sin-ťia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ěznění aktivistů v pracovních táborech, muč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oni zablokováno přes 2500 www strán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kračující monopol komunistické str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kaz nezávislých odborů a některých církv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Špatné pracovní podmínky (postavení zaměstnanců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pitalističtější než US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ém hrazení zdravotnictví a sociálních služ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átní zásahy do ekonomiky v období nynější kr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de kapitalismus nevyhnutelně k demokraci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a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řírodní kapitalism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malizace a zeštíhlující myšl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hy a jejich fung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5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awken, P., Lovins, A., Lovins, L.H. </a:t>
            </a:r>
            <a:r>
              <a:rPr b="0" i="1" lang="cs-CZ" sz="2400" spc="-1" strike="noStrike">
                <a:solidFill>
                  <a:srgbClr val="666699"/>
                </a:solidFill>
                <a:latin typeface="Arial"/>
              </a:rPr>
              <a:t>Přírodní kapitalismus.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raha: Mladá fronta, 2003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5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666699"/>
                </a:solidFill>
                <a:latin typeface="Arial"/>
              </a:rPr>
              <a:t>„</a:t>
            </a:r>
            <a:r>
              <a:rPr b="0" i="1" lang="cs-CZ" sz="2400" spc="-1" strike="noStrike">
                <a:solidFill>
                  <a:srgbClr val="666699"/>
                </a:solidFill>
                <a:latin typeface="Arial"/>
              </a:rPr>
              <a:t>Principles of Lean Thinking“.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Womack, J. and Jones, D., 1996. Lean Enterprise Institute. </a:t>
            </a:r>
            <a:r>
              <a:rPr b="0" lang="cs-CZ" sz="2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www.</a:t>
            </a:r>
            <a:r>
              <a:rPr b="0" lang="cs-CZ" sz="24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lean</a:t>
            </a:r>
            <a:r>
              <a:rPr b="0" lang="cs-CZ" sz="24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.</a:t>
            </a:r>
            <a:r>
              <a:rPr b="0" lang="cs-CZ" sz="24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ttp://cs.wikipedia.org/wiki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ttps://ekonom.feld.cvut.cz/materialy/ekocz/EK02.pd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Časopis Euro, č.38/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 je dnes vzácn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čátek průmyslové revol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éně obyva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ální zásoby bezmezné a nevyčerpa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omezeným zdrojem jsou lid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říroda se stává vzácněj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Čtyři typy kapitál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nční kapitá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yrobený kapitá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řírodní kapitá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dský kapitá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onvenční kapitalism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nčně zisková avšak neudržitelná forma lidského výv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řírodní a lidský kapitál má malou hodno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lý zájem o odpad při produkci i staré výrob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írodní kapitalism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tředí není jen okrajovým faktorem výro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doucí rozvoj je limitován dostupností a funkčností přírodního kapitá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řeba radikálního zvýšení produktivity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ální strateg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kální produktivita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logické mimik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konomika služeb a to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ování do přírodního kapitá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írodní kapitá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vědomovaný, ovšem nezastupiteln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úbytek a snížení kv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nahraditelné a nezastupitelné přírodní služ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stice do přírodního kapitá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řeba revidovat systém daní a dot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verzní do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danění plynu, užívání všech vozidel a letadel,odpadů, umělých hnoj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maliz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k se provrtat nákladovou bariér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7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úspora energi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ostní systémové inženýrs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7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ek jako systém, ne jen suma čá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7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ání mu tradiční sché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7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šlení opačným směr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ndřej Částek</cp:lastModifiedBy>
  <dcterms:modified xsi:type="dcterms:W3CDTF">2008-11-03T13:26:29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