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D0E-98C5-4BA6-A8A5-03E3AA8E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FCD-8094-4528-9883-DFEC5184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A80-26DB-4B56-9A75-257F28AA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AF9-28BE-4E8C-975F-F1813F12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E9F5-2CE4-42C9-98D9-0C03DE33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A742-EA04-4A95-87DB-252D524E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9511-4F6F-4E3D-9B46-DDA1296A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C0FF-CC6C-4798-8631-F8DA80F9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E453-8562-45BA-94A7-78E6169A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E800-3005-4238-8D81-D98A17EF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4D7B-C70C-498B-8D12-FDDA90C2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C2C-34F4-49E7-9ED1-4CAE6EC1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A41A-5709-4236-A497-6472C9E1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929B-4605-4363-A3F1-8529AF4C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BFFA-A627-4C64-9E8A-513348B8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20F4-944C-4DA9-A3DA-9D8C1EFC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4870-F418-4E6B-A459-1BFB9E1D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EC1F-37C2-4379-85F6-8CD5A242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7A73F-2126-4269-A76E-B6A4D304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2FCE-E763-46FE-BCE0-46A9F5E4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87C07-36F7-47BA-9230-F1955AE6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20B83-CF4E-439A-B976-FB051930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EDC-F955-49A7-9A2B-2A11BD3E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DF269-BB67-4CAF-BABD-A240A8D2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B1095-D34A-4944-960F-719BA506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D9862-07CD-4FE8-AFC0-62AF460F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0B6F-71DE-4011-AB67-33F9F294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D6925-472B-4C4A-9DC7-3AA7CAF4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48B4B-3766-4436-B105-58E120C5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C181F-2138-40C1-A07A-95744978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F174-75FA-4096-82D1-92A6CB7E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175A4-F4B6-46C7-BB47-292E378E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DCA98-63AD-4D08-8C88-D88466B8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978-FCC8-47D3-81A0-C7F1D080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0EA41-FDCC-40D6-88DE-6FB43085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33FA0-1BD4-4DD8-8025-F2342701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C87E7-C6EB-443C-9F51-082A93FB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77FAD-1E21-49BB-A8F2-89BEF923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51606-7D09-4208-AD57-9165A671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BBE23-D9DC-4252-834E-94A74140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6F4E0-958B-492C-8B38-AF0F9F9B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99E1D-97EF-4E4B-B1EE-CF2F992F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FF0BB-2302-4EA6-9DF0-35816DBE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F26-B73B-443F-B0E1-180A19E8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961D-F3D3-4466-A82F-7F8B8B26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476-976A-453F-AD39-DB6F7C57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F65-AB5D-4DB0-AC1A-08E4CB83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75B-E955-4D5E-9BCB-4370DDCA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7B26-4189-4230-87DF-62EF5D2A6E53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5A77-255E-4346-B02E-2DF704EB3D08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878F-780A-4A59-95BD-0DAC12E02A82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4BE1-761B-45AA-9DB4-20F1FDE0DB03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5000760"/>
            <a:ext cx="7854840" cy="909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áclav Klein, Vít Zouhar, Robert Kund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Děkujeme za pozornos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0040" y="4571640"/>
            <a:ext cx="822960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CO JE TO NENULOVÝ SOUČET?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AM je unášeno lidstvo ve svých dějinách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á nějaký VYŠŠÍ SMYSL?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WRIGHT: Vývoj, evoluce má svůj směr a cí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BERGSON- ELÁN VITAL- pohání živé hmo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TEILHARD de CHARDIN-dějiny lidstva směřují k bodu omega, ten je umístěn mimo prostor a č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íliš nadpozemské??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ALE…Správná základní myšlenka 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Evoluce organismů má sklon vytvářet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složitější formy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a stejně i lidské dějiny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íhnou k vývoj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stále větších a složitějších uskupení-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noosféra, globalizační vesnice.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ZE SMĚŘOVÁNÍ NA KTERÉ BERGSON A DE CHARDIN UPOZORNILI VYSVĚTLIT VĚDECKÝM ZPŮSOBEM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podle Wrighta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AN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POVĚĎ BY PODLE WRIGHTA MOHLA BÝT V TEORII HER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Teorie her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or, který se snaží té které hře přiřadit právě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volučně stabilní strateg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le  úspěšnosti v aktuálním kole je získána jakási poukázka na množství potomků v kole následují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trate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 x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lze nalézt i v rámci jednoho druhu – vlivy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arwinovský boj o život – spíše v rámci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ednoho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ruhu, než mezi dru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řizpůsoben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se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Žádní vítězové – pouze poraže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y protihráčů jsou nepřímo úměrné (fotbal, tenis, bo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e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 jednoho nemusí být na úkor druhého. Obvykle se zájmy překrývaj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ehled vývoje života lze uvádět stručn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řehled lidských dějin je spletit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: u obou lze zachytit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zorec vysvětlující směr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ějin práv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mocí teorie her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Vznikají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nové technolgie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odněcují nové bohatší podoby vzájemneho působeni s nenulovým součtem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té se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yvyjeji společenská uspořádán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, která tohoto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tenciálu využij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promění situace s nenulovým součtem v 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zitivní zisky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V souladu s paretovým optimem-nikomu se nemůže ve společnosti dařit lepe na ukor jinéh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například Technologické revoluce tak vytvářejí stále nové hry umožnujiící oboum stranám výhru(např. Hospodářský růst i pomocí technlogií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znamená to, ale že hry s nenulovým součtem musí být ziskové na obou stranách, nebo že by bylo vyloučené podvádění, nebo parazitismus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esto, se ale po čase ukáže, že vzniká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více součtů kladných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ž záporných a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častější je oboustraný zis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směřuje tak spíše k výhrám.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Uspořádání společnosti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 tak stál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složitějš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o šířky i do hloub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ějiny života i lidstva sestávají se stále častějších, rozsáhlejších a složitějších her s nenulovým součte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Hromadění nenulových her je podstatou narůstání biologické i společenské složitosti-hromadění nenulovos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Nenulovost dodáva hybnost základnímu směřování života na planetě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Výskyt strategií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Člověk se obvykle vyskytuje v prostředí, které mu je "přirozené", tedy mezi obdobnými strategiem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rozba infiltr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 zdánlivě slepý přírodní výběr přitom "odměňuje" entity, které jsou oproti svému okolí schopné lepšího zpracování informací. Čím lepší zpracování informací, tím blíže ke K strategii a tím větší je opět prostor pro altruism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ZMATEK DNEŠNÍ DOB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ahová období-vývoj skočí z rovnovážného stavu na  vyšší úroveň rovnováh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 tomu dochází i dn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 uznává že rostouci zmatek je znamenim rozhodného kroku v postupu toho, co můžeme nazvat osudem svě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Osudem našeho druhu je VYBRAT SI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Použitá literatura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avel Houser / Vzpoura genů : od velkého třesku k umělé inteligenci . -- 1. vyd.. -- Praha : IDG Czech, 2003. -- 127 s., [16] s. barev. obr. příl. :. ISBN: 80-86304-99-X (brož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bert Wright / Logika lidského osudu -- 1. vyd.. -- Praha : Lidové noviny, 2000. –356 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ttp://www.scienceworld.cz , nahlédnuto 4.10.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0:57:50Z</dcterms:created>
  <dc:creator>Zou</dc:creator>
  <dc:description/>
  <dc:language>en-US</dc:language>
  <cp:lastModifiedBy>Zou</cp:lastModifiedBy>
  <dcterms:modified xsi:type="dcterms:W3CDTF">2008-10-06T12:43:12Z</dcterms:modified>
  <cp:revision>2</cp:revision>
  <dc:subject/>
  <dc:title>Evoluce jako hra s nenulovým součtem</dc:title>
</cp:coreProperties>
</file>