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883-462A-4CA0-A36D-9A6EEDB8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F78-1BF3-4E7F-8FBF-482A331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B22-5B03-421D-A35F-F1BCB388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F76-D740-421D-B57E-6E5A76F1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0B5E-F5C8-4079-9F84-59BFB15B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D2F-816E-4FBA-9978-F0A0ED39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B44B-56A6-4BE3-A002-8F8893DC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6393-51DC-4F30-82EA-35EA5AC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8028-D9F6-4AC2-A90D-0AEA112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D591-5570-4DFA-A4F3-6C830A95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C4B1-1542-4178-998E-D6F753C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2C2-9884-4F42-8657-B9515339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4843-E9AB-4A58-8E3A-64A6D74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CB1-F566-4B22-9A9B-6595C7F5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63DD-F229-4B45-9560-675EEEF2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F81-29FF-4871-8938-DFB68A40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9EC4-4A18-4FFB-9E9B-A4A14A7B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A68-E525-4804-AD67-9ACD7AEE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7A8-253C-4409-B898-F2D66B0A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27E-453E-48D1-9598-1AEDD13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5AA-2168-46E1-B3EA-831EAD00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97D-1C83-4D25-B526-78711122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C9E-A925-45B1-8F53-966BE31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9502-0B3D-42D0-B44C-DA05978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65F5-7936-4076-B277-F53ABBF8433F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ovací čára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římá spojovací čára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6D68-7A98-48AC-A638-027EB02DE7AF}" type="slidenum">
              <a:rPr b="0" lang="cs-CZ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8800" y="3928680"/>
            <a:ext cx="7286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Bookman Old Style"/>
              </a:rPr>
              <a:t>Přirozená a kulturní evoluce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64653"/>
                </a:solidFill>
                <a:latin typeface="Bookman Old Style"/>
              </a:rPr>
              <a:t>Marek Beleš, Martin Beleš, Pavel Kinc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jdříve domněnka,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že kultura pozemskou přírodu zlepšuje ( dotváří její síly, je koevolucí, přímým pokračováním života na Zemi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ozději: kultura navazuje na evoluční proces,  al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má schopnost je zneužívat pro růst moci kulturního spo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činou je konstitutivní činitel kultur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Je jím, dle Šmajse: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onstitutivním činitelem kultury je sílící proces cílevědomé i spontánní informační aktivity lidí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onstitutivní informací kulturních struktur nemůže být informace přirozená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Duchovní kultura - vlastní vnitřní informac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dokáže obrátit dílčí přírodní síly včetně přirozených potencí člověka proti ostatní přírodě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Člověk – nový biologický druh, byl přirozenou evolucí vybaven tak, že dokázal zažehnout kulturní evoluc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ro kulturu platí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Co připomíná F.  A. Hayek: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pontánní řád se formuje sám ze sebe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 a také ve smyslu Caprova výroku, že „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stroje se stavějí,  ale organismy rostou.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společenství, produkované 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Ne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Přím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 vs.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konflikt – přirozená poprvé v historii ohrožuje</a:t>
            </a:r>
            <a:br>
              <a:rPr sz="2400"/>
            </a:b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  evoluci kulturní</a:t>
            </a:r>
            <a:br>
              <a:rPr sz="2400"/>
            </a:br>
            <a:br>
              <a:rPr sz="24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škození živého i neživého prostředí planety, tedy systému,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který kdysi vznik přirozené evoluce umožnil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Zdro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965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Drama evoluce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Ohrožená kultur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Šmajs, J. : Základy filosofie (přednášky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ighfield, R. : Šíp času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4653"/>
                </a:solidFill>
                <a:latin typeface="Gill Sans MT"/>
              </a:rPr>
              <a:t>http://cs.wikipedia.org/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76720" y="4267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Děkujeme za pozornos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Přirozená a kulturní evoluce - Úv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– Obecný pojem používaný pro časový vývoj chování systému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 biologii se tento pojem používá pro Darwinovu vývojovou teorii,  podle které vyšší formy života povstaly postupným vývojem z forem nižších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Gill Sans MT"/>
              </a:rPr>
              <a:t>Evoluce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je antientropický děj =&gt; směřuje proti narůstání entropie, tedy proti degeneraci a rozpad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eznáváme ji na základě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Hlediska výběru přiměřené časové šká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998280" indent="-434160">
              <a:spcBef>
                <a:spcPts val="499"/>
              </a:spcBef>
              <a:buClr>
                <a:srgbClr val="bcbcbc"/>
              </a:buClr>
              <a:buSzPct val="76000"/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Určení nositele evolučních změ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Times New Roman"/>
              </a:rPr>
              <a:t>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25760" y="1339920"/>
            <a:ext cx="75016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ozvolný, průběžný vývoj  X  Revol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cesualita, aktivita, nevrat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Lamarck, Darwin + Wallace – evoluční biolo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600" spc="-1" strike="noStrike">
                <a:solidFill>
                  <a:srgbClr val="6b5680"/>
                </a:solidFill>
                <a:latin typeface="Gill Sans MT"/>
              </a:rPr>
              <a:t>evoluční teor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znik a vývoj života probíhal postupně hromadě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nahodilých změn a jejich selek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  <a:ea typeface="Arial"/>
              </a:rPr>
              <a:t>- kontroverzní téma – spory napříč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roblém evoluce – časové period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Předpokládáme, že evoluce přirozená vzniká se vznikem vesmír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Zářivé období vesmír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Hvězdné (látkové) období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vesmíru vedla ke vzniku biosféry včetně biologického předka dnešního člověk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postupuje „proti proudu“, proti rozpadu =&gt; potřebuje „výživu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Jak uvádí J. Šmajs: „</a:t>
            </a:r>
            <a:r>
              <a:rPr b="0" i="1" lang="cs-CZ" sz="2600" spc="-1" strike="noStrike">
                <a:solidFill>
                  <a:srgbClr val="000000"/>
                </a:solidFill>
                <a:latin typeface="Gill Sans MT"/>
              </a:rPr>
              <a:t>Evoluce tedy generuje, ruší a modifikuje prvky, komplexy, subsystémy a systémy tak, že diverzifikovaný celek svou narůstající uspořádaností stále úsporněji využívá svého omezeného evolučního zdroje“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Např.: biosféra energii slunečního záření, kultura energii vynakládanou a uvolňovanou člověk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Celkový průběh evoluce biosféry neznáme =&gt; planeta Země tvoří jeden velký organism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Ve vývoji života zjišťujeme dva důležité filosofické momenty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Nerovnoměrnost v biotickém evolučním proces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1006560" indent="-4572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. J. Gould: "</a:t>
            </a:r>
            <a:r>
              <a:rPr b="0" i="1" lang="cs-CZ" sz="2000" spc="-1" strike="noStrike">
                <a:solidFill>
                  <a:srgbClr val="000000"/>
                </a:solidFill>
                <a:latin typeface="Gill Sans MT"/>
              </a:rPr>
              <a:t>Po tři miliardy let byl nejvyšší formou života povlak prokaryont...pak, zhruba před 600 miliony let, se ve fosilních dokladech náhle objevují prakticky všechny stěžejní formy živočišného života, a to v průběhu několika málo milionů let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731880" indent="-457200">
              <a:spcBef>
                <a:spcPts val="499"/>
              </a:spcBef>
              <a:buClr>
                <a:srgbClr val="9fb8cd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 mezi uspořádaností informačně předepsanou  a nepředepsanou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jednotlivého organism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ill Sans MT"/>
              </a:rPr>
              <a:t>Uspořádanost ekosystémová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06560" indent="-457200">
              <a:spcBef>
                <a:spcPts val="601"/>
              </a:spcBef>
              <a:buClr>
                <a:srgbClr val="727ca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Šmajs: „</a:t>
            </a:r>
            <a:r>
              <a:rPr b="0" i="1" lang="cs-CZ" sz="2300" spc="-1" strike="noStrike">
                <a:solidFill>
                  <a:srgbClr val="464653"/>
                </a:solidFill>
                <a:latin typeface="Gill Sans MT"/>
              </a:rPr>
              <a:t>I mnohobuněčný systém totiž nutně vyrůstá z jediné buňky (zygoty) a jeho víceúrovňová organizace včetně procesu ontogeneze musí být proto zapsána ve struktuře jeho dědičné paměti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457200" indent="-457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Rozdílné uspořádání = rozdílné implikátní a explikátní pamět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přirozen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Evoluce nám pomáhá porozumět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Přírodní konstr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„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ní konstuologii“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cxnSp>
        <p:nvCxnSpPr>
          <p:cNvPr id="105" name="Přímá spojovací šipka 4"/>
          <p:cNvCxnSpPr/>
          <p:nvPr/>
        </p:nvCxnSpPr>
        <p:spPr>
          <a:xfrm flipH="1">
            <a:off x="2571480" y="3214440"/>
            <a:ext cx="2160" cy="500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Evoluce Kulturní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ill Sans MT"/>
              </a:rPr>
              <a:t>Kultura x příro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Gill Sans MT"/>
              </a:rPr>
              <a:t>Kultura </a:t>
            </a: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– její uspořádanost organizačně jednodušší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Výhodou vnitřní informace, uložená mimo geny – duchovní kultura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464653"/>
                </a:solidFill>
                <a:latin typeface="Gill Sans MT"/>
              </a:rPr>
              <a:t>Kultura, jako nebiotický systém, je možný díky vlastní vnitřní informaci – duchovní kultuře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9:20:08Z</dcterms:created>
  <dc:creator>Martin Beleš</dc:creator>
  <dc:description/>
  <dc:language>en-US</dc:language>
  <cp:lastModifiedBy>Marek</cp:lastModifiedBy>
  <dcterms:modified xsi:type="dcterms:W3CDTF">2008-10-01T18:03:44Z</dcterms:modified>
  <cp:revision>72</cp:revision>
  <dc:subject/>
  <dc:title>Přirozená a kulturní evoluce</dc:title>
</cp:coreProperties>
</file>