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47E-3C1C-4F13-B0DF-2226DBDE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89F-9D69-40C8-B915-ED34F585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81E7-C970-4DE4-8C91-EC6E11CF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980-CB9C-4B2D-9DD3-52A6B6B9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651-0AC5-4A32-9BF9-A7090D3F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47F-BC65-4D2C-9267-7C2A26AC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72F-04C6-4C5B-9C99-33E44D82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B48-E879-4C5F-B49C-67789B56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3F20-7694-4B80-87EE-BFDCA558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CE0D-18FA-4D67-8DE2-693754FD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97B-5461-4345-87E2-D6A2545E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AA2-2ED7-45BC-BC66-551AEB6C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39DB-2DA7-46D0-9A2F-32DE7339C8A0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7521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Verdana"/>
              </a:rPr>
              <a:t>Vývoj společnosti v pojetí A.Toffle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iroslav Mašlej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děžda Kalužová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ereza Žáčkov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25560"/>
            <a:ext cx="82296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10)ZRÝCHLEN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dochádza k úsporám z rýchlosti a nie veľkovýroby, „čas sú peniaze“ sa mení na „každý časový interval je hodnotnejší ako bol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Podľa Petersona: „ Peniaze sa pohybujú rýchlosťou svetla. Informácie sa musia pohybovať rýchlejšie.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99"/>
                </a:solidFill>
                <a:latin typeface="Verdana"/>
              </a:rPr>
              <a:t>Kritéria 3. vln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316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1)Pripomína to továreň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Ak áno, môže z toho vzniknúť hocičo, len nie 3. vln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2)Demasifikuje to spoločnosť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Zástanci 3. vlny chcú vykonávať prácu, ktorá si žiada demasifikáciu spoločnosti, zatiaľ čo stúpenci 2. vlny usilujú o uchovanie masovej výrob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3)Koľko vajec je v košíku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 3. vlne ide o prenesenie rozhodnutí na perifériu, a nie koncentrácia problémov na centrále, ktorá má málo informácii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4)Je to vertikálne alebo virtuáln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 3. vlne prevláda virtuálna integrácia – tzv. „zmluvné spojenia“ alebo „minimalistické, ba až neviditeľné organizácie“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5)Vracia to silu domovu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Verdana"/>
              </a:rPr>
              <a:t>Všetko, čo navracia silu rodine a zdôrazňuje jej rolu je prejavom 3. vlny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Šok z budoucn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ová duševní nemoc s těžkými následk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občané nejbohatších a technicky nejrozvinutějších zem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rojevy: dezorientace, ztráta schopnosti racionálně se vyrovnávat se svým okolí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kud zasáhne celou společnost -&gt; masová dezorient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Změny a jejich zrychle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blém držet krok s požadavkem změny, zrychlují se a je jich stále ví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tzv. „800. generace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ysoká spotřeba energ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znásobení objemu výroby a služeb (2x za 15let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omíjivos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kultura „věcí na jedno použití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architektura, technický pokrok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„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modularismus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najím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Tempo život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17360"/>
            <a:ext cx="7772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hluboce ovlivňuje cho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ndividuální postoj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umístění v ča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Asi 70%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minul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řes 25%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přítom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bytek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é budoucno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elativní vnímání času – starším utíká rychlej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lidské vztahy – pokles průměrné délky trvá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hektický pohyb lidé v superindustriální spo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Strategie pro přeži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Řešením „šoku z budoucnosti“ není umělé potlačení vývoj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Úroveň osobní a společenská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trategie pro přežití – osobní úroveň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100" spc="-1" strike="noStrike">
                <a:solidFill>
                  <a:srgbClr val="ffffff"/>
                </a:solidFill>
                <a:latin typeface="Verdana"/>
              </a:rPr>
              <a:t>snížení úrovně stimulac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pnout hudb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hnout se páchnoucím místů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avřít si dveř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Zábav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gulace množství rozhodnut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Udržování dlouhodobějších vztahů k věce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Vyhnout se reorganizací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Tvořit tzv. „zóny stabilit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ředvídat změny, plánovat – poměr čas : emo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trategie pro přežití – společenská úroveň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Omezení ničivých důsledků změn na člově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ituační skupin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oradenský systé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ům na půli cesty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enklávy minulosti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enklávy budoucnosti“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polečenské rituá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ozšíření adaptivních kapacit člově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řehled literatur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Šok z budoucnosti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. Praha : Práce, 1992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Třetí vlna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. 1989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OFFLER, A., TOFFLEROVÁ, H.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 Nová civilizace : třetí vlna a její důsledky. 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raha : Dokořán 2001.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Alvin Toffl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Futurolog, sociální myslit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Hlavní oblasti zájm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Dopad technologií na společnost/člověk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roces změn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Vybraná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díla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Šok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z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budoucnosti, 1970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Třetí vlna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, 1980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Posun moci, 1990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Nová civilizace: třetí vlna a její důsledky, 199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álka a antiválka: jak porozumět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dnešnímu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globálnímu chaosu, 199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rvní vlna – preindustriální společnos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hradila předchozí společnost lovců a sběrač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ůda představovala základ hospodářství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měna výrobků byla omezen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Jednoduchá dělba prá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ůvod determinoval postavení člověka v životě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Druhá vlna – industriální společnos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93680"/>
            <a:ext cx="777240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cca 1650 –1955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ůst počtu obyvatelstva, který povzbuzoval přesuny do měst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echnologický pokrok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Oddělení výroby od spotřeb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Rozvinutá dělba práce, special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ynchronizace a standard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aximal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Tretia vlna – zákl. charakteristiky 1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Začiatok cca po 2. W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Dnešná generácia na rozhraní 2. a 3. vl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Sú aj zeme pod vplyvom všetkých troch vĺn, kde každá má inú rýchlosť a sil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Ak prevláda jedna vlna- situácia ľahko odhadnuteľná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Ak súčasný výskyt dvoch alebo viacerých vĺn a ani jedna nepreváži- obraz budúcnosti je rozbit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Verdana"/>
              </a:rPr>
              <a:t>Protichodné tendencie vĺn sa prejavujú v práci, rod. živote, sex. postojoch, i osobnej morálke </a:t>
            </a:r>
            <a:r>
              <a:rPr b="0" lang="sk-SK" sz="2400" spc="-1" strike="noStrike">
                <a:solidFill>
                  <a:srgbClr val="ffffff"/>
                </a:solidFill>
                <a:latin typeface="Verdana"/>
                <a:ea typeface="Arial"/>
              </a:rPr>
              <a:t>→ zákl. konflikt medzi dvomi skupinami ľud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Tretia vlna – zákl. charakteristiky 2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Tento konflikt autor nazýva „superzápas“ zajtrajška. Je to vlnová teória konfliktu kde civilizácia 2. vlny bojuje proti civilizácii 3. vln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Vytvorili sa tak zeme 3 sektorov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1. vlny dodáva poľnohospodárske a nerastné zdroj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2. vlny poskytuje lacnú prac. silu a pásovú výrobu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Verdana"/>
              </a:rPr>
              <a:t>Sektor 3. vlny predáva informácie a inovácie, management, kultúru, vzdelávanie, výcvik, fin. služby a ost. služby celému svetu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99"/>
                </a:solidFill>
                <a:latin typeface="Verdana"/>
              </a:rPr>
              <a:t>Spôsob, ako vytvárame bohatstv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1)VÝROBNÉ FAKTO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práca, pôda, kapitá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poznanie zahrňujúc dáta, informácie, obrazy, symboly, kultúru, filozofiu a hodno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)NEHMOTNÉ HODNO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hodnoty podniku sa merajú pomocou hmotných aktí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hodnoty podniku sú v získavaní, generovaní, distribuovaní a aplikovaní poznatko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)DEMASIFIKÁ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2. vlna: výrobné systémy s neobmedzenou škálou výrobkov, s lacnou variabilitou, prevláda masová výrob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Verdana"/>
              </a:rPr>
              <a:t>3. vlna: masový trh sa rozpadá, špecifikuje, je rôznorodý podľa potreby zákazníka, zameranie až na „atómy“ t.j. na jednotlivc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81116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4)PRÁC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2.vlna: prevláda fyzická práca, ktorá bola ľahko zameniteľná vďaka masovému vzdelaniu robotníkov, bez nákladov za náhrad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prevláda duševná práca, ktorá je ťažko zameniteľná a nákladná kvôli vzrastajúcej špecializácii a rýchlym zmenám v požiadavkách na profesi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NOVÝ VÝZNAM NEZAMESTNANOSTI: presun od kvantitatívnej ku kvalitatívnej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5)INOVÁC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firmy požadujú od zamestnancov kreativitu a „odpútanie“ od smerníc, nové výrobky a nápady sú vítané vo svete neustálej konkurencie ak  chce spoločnosť prežiť na trhu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6)MERÍTK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ffff"/>
                </a:solidFill>
                <a:latin typeface="Verdana"/>
              </a:rPr>
              <a:t>3. vlna: prac. jednotky sa zmenšujú, rozsah operací sa minimalizuje, masy robotníkov sú nahradzované diferencovanými tímami, obrovské podniky sa zmenšujú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1746000"/>
            <a:ext cx="8445240" cy="45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7)ORGANIZÁCI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2. vlna: podniky mali podobné organizačné schémy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3. vlna: dnešné trhy, technológie a požiadavky sa menia tak rýchlo a vyvíjajú taký tlak, že uniformita nemá šancu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→ „</a:t>
            </a: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reengineering“ –reštrukturalizácia firmy podľa procesov a nie podľa trhov, či oddelení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8)SYSTÉMOVÁ ORGANIZÁCI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3. vlna: vzrastajúca komplexita volá po rafinovanejšej integrácii a managemente, ako aj po nových formách vedenia a vysokej úrovni systémovej integrácii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9)INFRAŠTRUKTÚR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3. vlna: nezbytné investovať do elekt. sietí, ktoré prepojujú počítače a databázy, ako aj firmy s dodávateľmi a so zákazníkmi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  <a:ea typeface="Arial"/>
              </a:rPr>
              <a:t>            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Presentation Helper</dc:creator>
  <dc:description/>
  <dc:language>en-US</dc:language>
  <cp:lastModifiedBy>Miroslav Maslej</cp:lastModifiedBy>
  <dcterms:modified xsi:type="dcterms:W3CDTF">2008-10-06T21:14:17Z</dcterms:modified>
  <cp:revision>10</cp:revision>
  <dc:subject/>
  <dc:title>Business 1 Template</dc:title>
</cp:coreProperties>
</file>