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50F-4B8E-44BB-9987-AE774F03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039-2593-4B55-82E2-AD13DEAC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79A-33C3-48C0-8C1A-E4595C47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D4A-62EB-46BB-B554-A0D080CB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8AE7-5A78-4F5A-8B11-4AE2F028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6802-B8CE-465A-8A39-D4A41420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7A21-5CA7-4492-82B3-9756938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DEA-E42A-4F48-91E6-621F3BDE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93D9-8098-4EA8-B7E7-B02AC079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3D47-FBD0-4E14-81B3-57632D15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59A6-AC5C-4F4E-8666-4145C7FA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3D5-AE79-4C32-B4E9-003C033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B118-E2E0-46D2-85FF-53AE028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B0B-ABF1-4EEC-A1C2-2D3F89F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A68C-73D5-441A-85E2-5C16AF6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0051-B31D-44EB-9E68-CBA4D65C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27024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424400"/>
            <a:ext cx="206064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BA96-6F2A-47AB-90A0-E908ECAD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5D5-0290-4B44-950F-C4BCF0BD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B80-B04F-4A48-8570-EFCF1285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0D4-4E83-479D-B3EA-1C7B1838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9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50D-1DAC-4838-BD41-406C091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BC5-9938-4D83-BBDB-3CC6FA2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42440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DBB-E49A-431D-B59A-FE80A2DD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270240"/>
            <a:ext cx="312336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424400"/>
            <a:ext cx="6400800" cy="105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FBE-70CA-459F-B798-58A84F1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70C0-8279-413F-9B85-468BA4652F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ACCB-4AEB-4A5D-A99C-606EFB557C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arel Ba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ůstává pouze ekonomická činnost v univerzálním homogenním stát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Střetávání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ekonaný nacional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lám - theokratický stát jako alternativ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emě historické a posthistoric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ožný konflikt mezi ni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sthistorická doba bude smutný čas a staletí n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uda vedoucí k začátku nových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j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zinárodní řá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8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9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ústredný pojem: diagnostika problémov súčasn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človeka            psychické a fyziologické probl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Calibri"/>
              </a:rPr>
              <a:t>konfrontácie s rýchlosťou zmi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ípka doprava 4"/>
          <p:cNvSpPr/>
          <p:nvPr/>
        </p:nvSpPr>
        <p:spPr>
          <a:xfrm>
            <a:off x="2000160" y="5300640"/>
            <a:ext cx="642960" cy="103320"/>
          </a:xfrm>
          <a:prstGeom prst="rightArrow">
            <a:avLst>
              <a:gd name="adj1" fmla="val 50000"/>
              <a:gd name="adj2" fmla="val 22126"/>
            </a:avLst>
          </a:prstGeom>
          <a:gradFill rotWithShape="0">
            <a:gsLst>
              <a:gs pos="0">
                <a:srgbClr val="000000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11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wickon</cp:lastModifiedBy>
  <dcterms:modified xsi:type="dcterms:W3CDTF">2008-10-03T19:00:00Z</dcterms:modified>
  <cp:revision>8</cp:revision>
  <dc:subject/>
  <dc:title>Vývoj společnosti v pojetí A. Tofflera </dc:title>
</cp:coreProperties>
</file>