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84BB-F9AC-402F-A90C-A5273BE6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DA95-1C1A-4FBF-9BD1-EE24D89A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3C5E-8F38-4574-922A-023D78E8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461D-2973-4C50-BA3A-0D80BC78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2F9B-C7AF-4EDB-AF92-B1CCFAE6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D72D-9A6D-4226-A460-32D71B30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191D-4521-4070-82DF-392F847A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A8EF-6670-4303-97A5-63A9D5EC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126D-435A-4BA5-BFCA-924B7A07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E2D4-3730-4664-9018-E7627A0C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5423-EF14-45B0-83CD-F92EE623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B2E0-644F-4B87-A909-AA787069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1046-288D-4AAA-B51B-A5F2C131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E20D-2595-40C6-AEB8-4D13CB00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ADCD-4606-470B-904A-3BC9FC56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DA30-5EEE-4878-8774-4B504434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C33B-F2D8-4558-9996-21005C04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D195-FBBA-494D-922A-3C9A5B80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A630-753E-480D-ABED-9EA2F519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93DA-5E9A-4FE3-930E-D9C4B7EB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7E83-7F70-463C-9C71-9969BCB8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67BB-0D56-40F8-B157-CB6CDE94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6133-3ADA-437F-B372-07D2E3DB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88E9-F45E-4435-9CDB-9A71B1FD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36C8-5686-460B-AA25-B7A62A6677C2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C698-53E3-4371-9933-7ABDB2C81D53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Strategie trvalo udržitelného rozvoj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inda Khall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uzana Soóki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Strategickí manažéri a trvalo udržateľný rozvoj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jenie ekonomického úspechu a zodpovednosti za životné prostredie = </a:t>
            </a:r>
            <a:r>
              <a:rPr b="0" i="1" lang="sk-SK" sz="3200" spc="-1" strike="noStrike">
                <a:solidFill>
                  <a:srgbClr val="ffffff"/>
                </a:solidFill>
                <a:latin typeface="Arial"/>
              </a:rPr>
              <a:t>trvalá udržateľnos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Pomocné hodnoty pre založenie trvalej udržateľnost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Celistv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tomst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b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Kval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Štruktúry pre trvalú udržateľnosť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Učiace sa organizác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ové hodnoty, ciele, štruktúry, systémy odmeňov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Úspech v dlhodobej perspektíve = začlenenie sa do prír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Systém managementu životného prostred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Reťaz hodnôt rozšírená o prírodné zdroje a uloženie odpa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nalýza životného cyklu výrob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Marketing pre životné prostred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a cie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elené výrobky + presvedčenie spotrebiteľov o vysokej kvalite a citlivosti týchto výrobkov voči životnému prostredi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Podpora managementu životného prostred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uditing životného prostr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Účtovanie plných náklad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nformačné systémy managementu pre životné prostre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nformovanie o životnom prostred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Použitá literatú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EAD, W.E., STEAD, J.G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Management pro malou planetu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vyd.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aha: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akladatelství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GplusG, 1998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84 s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ISBN 80-86103-15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ÍČEK, V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Globální problémy ve světové ekonomice  : vybrané problémy 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1. vyd. Praha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Nakladatelství Vysoká škola ekonomická v Praze, 1995. 118 s.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ISBN 80707942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rial"/>
              </a:rPr>
              <a:t>www stránky: http://cs.wikipedia.org/wiki/Trvale_udržitelný_rozvoj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400" spc="-1" strike="noStrike">
                <a:solidFill>
                  <a:srgbClr val="ccecff"/>
                </a:solidFill>
                <a:latin typeface="Arial"/>
              </a:rPr>
              <a:t>Ďakujeme za pozornos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(O čom to bude…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8360" y="2205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Globálne problé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Trv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udržateľný rozvo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trategickí manažéri a trv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udržateľný rozvo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Globálne problémy intersociál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360" y="19886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oblém vojny a mie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oblém sociálnej a ekonomickej zaostalosti rozvojových krají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oblém riešenia globálnej zadĺženost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oblém zmien medzinárodných vzťah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Globálne problémy prírodne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sociál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pulačný problé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travinový problé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urovinový a energetický problé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kologický problé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Definície trvalo udržateľného rozvoj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TUR je taký rozvoj, ktorým ľudstvo naplňuje potreby súčasnosti bez obmedzenia schopnosti budúcich generácií naplniť svoje potreby. (Svetová komisia pre životné prostredie a rozvoj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Rozvoj, ktorý súčasným aj budúcim generáciám zachováva možnosť uspokojovať ich základné životné potreby a pritom neznižuje rozmanitosť prírody a zachováva prirodzené funkcie ekosystémov. (</a:t>
            </a: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Zákon o životním prostředí č. 17/1992 Sb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Rozmery trvalo udržateľného rozvoj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95280" y="2060640"/>
            <a:ext cx="822960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Biofyzikálny roz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ocioekonomický roz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Morálny roz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Biofyzikálne rozme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8360" y="191628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osiahnutie úplnej recyklácie material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ytvorenie trvalo udržateľného energetického systé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Kontrola populačnej explóz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Uviesť v súlad ekonomickú činnosť a evolučné proce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Socioekonomické rozme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9640" y="2204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mierenie rozvinutých a rozvojových krají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ytvorenie štruktúr rozhodovania založených na obci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Morálny rozm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8360" y="206028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nvironmentálna et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17:27:39Z</dcterms:created>
  <dc:creator>Zuzanka</dc:creator>
  <dc:description/>
  <dc:language>en-US</dc:language>
  <cp:lastModifiedBy>x</cp:lastModifiedBy>
  <dcterms:modified xsi:type="dcterms:W3CDTF">2008-11-03T07:31:27Z</dcterms:modified>
  <cp:revision>24</cp:revision>
  <dc:subject/>
  <dc:title>Strategie trvale udržitelného rozvoje</dc:title>
</cp:coreProperties>
</file>