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4F3-0B62-4980-93B8-48B73615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CFC-9552-4E92-92B1-1111876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F2A-41C4-46B8-989A-38353D8C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029-8F48-416C-9E35-990BA8A7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2F87-0133-41C0-88C0-B831F593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4A1-2A3E-4D26-88BA-EEBC1E4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8EBC-8E7C-46B7-A5FF-C086E12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4408-0D0D-4B74-AE9C-62B7376D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154-0C53-4B72-A5CE-5D96C00A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4C4-6B1B-4D11-B89C-61883CC1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074-5FD0-4287-8068-C0C2ABF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521-A40C-40D1-B9A7-BA48B9DC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7F78-0BDD-4877-BC90-A66AE4A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901-6467-4AEF-B78D-BFCEBAF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84E-2C68-4BD8-8800-1E39BA9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068-B228-4D81-9E42-37EC8CF0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9D6-47FC-4782-852A-2ADE6836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46D-A750-4918-BFD1-BB7F5964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D89-DBFD-47AC-8571-F2D948DA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FDF-9E4B-4AE2-A98F-DB72586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463-D60F-4827-9A7F-AF7BED70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AA4-0387-451D-BF9F-78AB8AA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91F-EEEE-415C-A08D-6B318CA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22B-210C-40E7-8D37-BC18BCE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156D-7D98-433B-81D8-257BF6EAE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B80-B736-4F91-B102-9318C9E544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rategick</a:t>
            </a:r>
            <a:r>
              <a:rPr b="1" lang="cs-CZ" sz="4400" spc="-1" strike="noStrike">
                <a:solidFill>
                  <a:srgbClr val="b2b2b2"/>
                </a:solidFill>
                <a:latin typeface="Arial"/>
              </a:rPr>
              <a:t>é aliance se zahraničními partnery (Interkulturní manageme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pracovali: Michal Bla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Kr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cela Poulíčk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vlastní vnitřní podnikatelské situ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é, slabé stránky (klíčové – např. SWOT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odstranit slabé, zhodnotit silné strá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pecifických konkurenčních předností(rozbor konkurenční poz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zdrojových možnost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arianty scénářů pro dosažení cíl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adění zdrojových nároků na dosažení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tenzivní zdroje – např. strategická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cénář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pektivnost, zdrojová náročnost, návratnost zdrojů, riziko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sledná podnikatelská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valitní příprava společného podnikání (pracn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informace o možném partner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nikatelský profil, vize, strategické cíle, konkurenční pozice, vztah k partnerům, organizační struktura, kultu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avadní spolupráce, agentury (CzechInvest, Czechtrade),obchodní komory, informace od bank, od firem se kterými partner spolupracuje, jednání na konferencích a veletrzích, tiskové agentur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ence sporných až nelegálních metod získá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Vhodný partner (partneř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držení stálého souladu se zvolenou podnikatelskou strategií(x slaďování záměrů se zájmy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é podnikání – kompromisem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prospěšnější a nejpevnější partnerství: slabé stránky jednoho partnera kompenzovány silnými stránkami druhé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stit, že fungování aliance povede k společně dohodnutým cílům a bude respektovat sociální, ekonomické, organizační a kulturní podmínky (strategická kompatibilita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Příprava na jednání se zahraničním partner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cepci by mělo zajistit vrcholové ved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í negativisté“ v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ná koncepce strategického zámě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sychologická pří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lézt „správný kompromis zájm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luva o utajení „citlivých informac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a by trvat dlou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Jednání s partner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obní projednání s partne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uchu vzájemné důvě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jasnění vyjednávací poz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o by být konfliktní a zdlouha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běžné vyhodnoco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Komu se vyhnou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abým partner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čům na krátkou dob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sklonem k autoritativní domi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špatnou pově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profesionálně vedeným organizac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kumenty obvyklé při vzniku strategické alian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ý „podnikatelský záměr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a o vzájemném respektování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louva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polečný „společenský záměr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mezení účelu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stika pole spol.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cíle a jejich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stava o řízení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azky partnerů ke zdrojovému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štění před důsledky riz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ělení očekávaných zis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nároky a výjim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pokládaná organizačně-právní n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ěrečná ustano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jem „Strategická aliance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tegická alia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rategické cí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perativní cíle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1911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35809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hoda o vzájemném respektování zájmů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mezení pole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mluvních stran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sledky vyplývající z práce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up v případě neuzavření smlouvy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í zabezpečení a doba tr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mlouva o strategické alianc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časné společné vyprac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ěření její právní plat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p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ě závazný dok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trategické partnerstv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rategické partners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širší pojem, zahrnující více forem spoluprá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8769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ěs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0481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l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73392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é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4340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1440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79132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4880" y="5827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íra spolu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ítě strategických alianc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istoricky víc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ilateráln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ohod mezi partn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trend vytváření sítí strategických aliancí (boom v 90. let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mogenní x heterogenní sí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silnější firmy jsou v pozic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líčové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ituace v Č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2. pol. 90. let začíná mohutná vlna přísunu zahraničního kapitálu. (v 90. letech přesáhl objem investic 20 mld. U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současnosti v ČR zhruba 55 000 firem, na nichž se podílí zahraniční kapitál (vytváří asi 65-70% expor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ěstnávají asi 300 000 li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firmy jako Volkswagen, Siemens, Phillip Morris, Nestlé, Renault aj. budují systematicky sítě Strategických alianc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ce informací na www.czechinves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A v moderním podnik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itivní x negativní koope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kladní druhy 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měřené na sdílení činností a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tváření pozitivních integračních a synergických efektů spolu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dukci konkurenčních stře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hrazení negativní kooperace pozitivní koope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nik, přenos a využití znal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ískávat a zhodnocovat data pro podnikatelskou čin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Rozhodovací pro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 úvahu o strategické alianci nutný hlubší rozbor podmínek a širokého spektra var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ost dostatečného manažerského promyšlení a zdůvodnění budoucího sociálně-ekonomick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tou chy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náhlenost (rychlé a snadné řešení záměrů a probl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nadný výběr 1 či několika málo partnerů (nedocenění riz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dnikatelská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rategická aliance – jedno z mnoha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chodiskem pro rozhodování: vytvoření podnikatelské strate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sivní přístupy (opatrné hledání příležitostí, adaptivní chování vůči prostřed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aktivní přístupy (vytváření perspektiv, možností budoucího podnikán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vize, popř. pos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činná vize(J.P.Kotter): snadno představitelná, přitažlivá, uskutečnitelná, má jasné zaměření, flexibilní, srozumitel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ouhodobé vodít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vnějšího okol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ecný rozvoj podstatného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ý rozbor z hlediska potenciálních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44:54Z</dcterms:created>
  <dc:creator>Tommy King</dc:creator>
  <dc:description/>
  <dc:language>en-US</dc:language>
  <cp:lastModifiedBy>Tommy King</cp:lastModifiedBy>
  <dcterms:modified xsi:type="dcterms:W3CDTF">2008-11-11T10:34:20Z</dcterms:modified>
  <cp:revision>7</cp:revision>
  <dc:subject/>
  <dc:title>Strategické aliance se zahraničními partnery</dc:title>
</cp:coreProperties>
</file>