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E0F-C767-4FC9-AD0C-41EADEEB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17B-977F-47A1-8100-F30D4F38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EFC-9D14-4C12-B8DE-7C18CC32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34B-FC2A-4D1A-BB55-88F4ADE2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017A-270B-4C8C-8B45-F61C6571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311B-783D-4C95-9041-ABD3C3A8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24C7-98DA-4618-BB9A-59D723A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4A11-B157-4618-8078-48F0E83C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59E2-BE4E-45E1-A661-DD4EB5D5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8750-7AFE-4B8D-921B-2494887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A73-8150-4102-B61A-6A58E2CA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7D1-5FEC-4DF1-AAE2-4DF2157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A1CF-8EB0-4493-9CD5-6D84B98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588F-6776-452C-B3CB-B3ED2E2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059-D0B9-4DD9-8A5E-5640077D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0F09-5D06-4BB6-A27A-BE6FCE5C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518F-FD45-41D6-8F7F-1C110535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92E-F17D-4F04-A13D-D37F362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DB2-58E4-4BF0-AA1F-EB8F312E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FBD-D92B-42A3-9E7B-C13BFBC6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DF1-ED13-4307-8EB2-82E1F083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2F7-CFB3-4548-8DF2-C934DB4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61B-C8D2-4D94-A169-FA8B9D2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D1A-07C5-4228-85A9-8A9BF33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A8A-1BF7-4C2E-831C-08557E70D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E80F-62B4-41F5-9FF8-DEEBDC48DA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Jana Navrátilová</cp:lastModifiedBy>
  <dcterms:modified xsi:type="dcterms:W3CDTF">2008-10-30T23:34:33Z</dcterms:modified>
  <cp:revision>14</cp:revision>
  <dc:subject/>
  <dc:title>OD MASOVÉ VELKOVÝROBY K INOVATIVNOSTI A HODNOTĚ PRO ZÁKAZNÍKA</dc:title>
</cp:coreProperties>
</file>