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7D1-57F2-43E9-B1D8-F93F9391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0E9-25F4-461F-BD1C-5B6D6C81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512-BA05-48AF-ACE8-5BE90E2E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EBA-3AA8-4577-B6A8-5F9F72C0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F1A-838C-4B05-B718-3399D5E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04A1-8022-480F-91E7-55B5477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5716-E17A-4BC6-93BD-F0B4230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B39-E660-416E-8573-058C595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B44-99C6-4BFA-873A-2ADA8BEC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23B8-0104-4B84-815C-5C4080BE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FEA2-F18A-4E4E-9BE9-A09CD1E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F90-5D3E-4F29-81DA-4A6A257E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AF6C-5DAB-44C1-A454-B03BAD13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5E77-4280-4AE7-8C86-CAB73BF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E52-81AC-4207-9A71-7C64D69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3D47-5FA2-460F-AF95-0EE4F7B0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FE2-875C-4991-A515-83D6C1B6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318-E69C-41C8-A7FD-5DCE1B4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D36-8270-4041-8F86-E96ECCD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971-C3ED-4810-826A-CBE1EFB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4FF-04BE-4131-9F4A-96C39E4D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188-978F-465E-9338-91B1C81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0D5-FCAB-4EC6-B142-DE4C5786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8C5-8BA6-47C0-BA66-036125A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5DA-6FAA-43FE-9C3B-D8F57C7AE11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474-C49A-4DA6-BABF-F032B1A1A3D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 – 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i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2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ústredný pojem: diagnostika problém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účasného človeka            psychické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fyziologické problém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Šípka doprava 4"/>
          <p:cNvSpPr/>
          <p:nvPr/>
        </p:nvSpPr>
        <p:spPr>
          <a:xfrm>
            <a:off x="4572000" y="5357880"/>
            <a:ext cx="642960" cy="102960"/>
          </a:xfrm>
          <a:prstGeom prst="rightArrow">
            <a:avLst>
              <a:gd name="adj1" fmla="val 50000"/>
              <a:gd name="adj2" fmla="val 50103"/>
            </a:avLst>
          </a:prstGeom>
          <a:gradFill rotWithShape="0">
            <a:gsLst>
              <a:gs pos="0">
                <a:srgbClr val="000000"/>
              </a:gs>
              <a:gs pos="100000">
                <a:srgbClr val="fff6d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06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snoopy</cp:lastModifiedBy>
  <dcterms:modified xsi:type="dcterms:W3CDTF">2008-10-27T11:56:49Z</dcterms:modified>
  <cp:revision>12</cp:revision>
  <dc:subject/>
  <dc:title>Vývoj společnosti v pojetí A. Tofflera </dc:title>
</cp:coreProperties>
</file>