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AA18-5B83-4C13-9A34-9D16548F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1693-9E8D-4A4D-B659-616E582F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37E-B9FE-47DE-AF39-63F9E148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E2B-6903-467E-9F08-FFA00676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A72E-4C7A-4E60-9E9E-70E54657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E4D8-1A9C-4120-8B8F-7DD74B74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9AD5-18C6-4CB3-A214-E1D54748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7D0E-7F0E-4BBB-8032-97CD53D2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3C30-1644-440C-AE5B-5FF3DBA5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9B33-1992-4E5B-AB37-F4373096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6849-1EFA-44CB-9249-A9908351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981-019C-4212-9A5F-C4CA8328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1232-F48F-45D1-9945-EC663A3C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38AE-0D10-4010-A1A6-5CB310C5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0D7A-6695-42A4-987C-B1ED682B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0BBE-F4D1-47DF-A65F-58A45706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C5A1-0762-4329-8C5C-11258788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9E6B-0676-4EAF-8983-C168AE9D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1B76-7CFE-41E8-95DA-11CD4350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F80F-87B8-43C9-BB96-50989DEF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69C-0D29-431B-8C39-B8D1C9DC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DAFF-C820-4A9D-B77F-AE68A16E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843-4517-4280-8D33-A82B1D24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8DC-0514-433F-81AE-E41B925C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E049-BD64-4836-930A-7DA3603F3E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A2D4-4B37-4543-A76D-E84D457423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Od hierarchie k sítí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ategické aliance se zahraničními part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pracovaly: Bc. Hana Drozdová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lára Ottichová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c. Kristýna Trnkov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trategické sítě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lová poz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udržet loajalitu partn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partnery musí být výhodné být součástí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e na sítích - obrovské ulehčení s nástupem nových komun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Typy sítí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cenásobné aliance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ultiple alliance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tfolio aliancí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lliance portfoli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vučina aliancí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lliance web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Rozhodovací proces o účelnosti uzavřít SA a jeho rizik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ká orientace rozhodovacího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atelská strategie jako východisko k případnému partnerství (vize, mise, rozbor okolí, vnitřní analýza, zdrojové možnosti a dalš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hodnutí o účelnosti SA (příprava firmy, volba scénáře, typ 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ostupy hledání vhodného zahraničního partner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ce o možném partnerovi (partnere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dnocení informační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Komponenty S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dné s komponentami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, struktura, procesy, lidé a role, IS/I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ční hranice, vnější sociálně-ekonomické okolí, vnější technologické okol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fffff"/>
                </a:solidFill>
                <a:latin typeface="Arial"/>
              </a:rPr>
              <a:t>Podoba SA podle Johnsona se Scholese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dobu ovlivňu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k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ělitelnost ak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vlastnění ak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U strategických sítí potom platí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tiva nepotřebují společný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tiva nemohou být jednoduše oddělena od společností, resp. nelze to provést bez následk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ud jsou daná aktiva rozdělena do samostatných organizací, existuje velké riziko jejich přivlastnění jinou společnos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Moderní tendence rozvoje alianční spolupráce – MSP v EU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liv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globalizace, digit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ekonomika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-econom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aliance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-allian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 k řízení vztahů se zákazníky, s dodavateli, virtuální organizování spolupráce, elektronické obchodování, elektronické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Použitá literatur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dáček, L. – Vodáčková, O.: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trategické aliance se zahraničními partne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Management Press: 2002. P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dáček, L. – Vodáčková, O.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Malé a střední podniky: konkurence a aliance v Evropské un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Management Press: 2004. P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hnson, G. – Scholes, K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Cesty k úspěšnému podnik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Computer Press: 2000. P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, J.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družování malých a středních podniků po vstupu ČR do E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Studie In: Blažek, L. a kol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Vývojové tendence podniků I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Masarykova univerzita: 2007. B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DĚKUJEME ZA POZORNOS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d hierarchie k sítím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blematika strategických aliancí a sítí jako nový fenomén moderní ekonom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alice a sítě jako nový nástroj strategického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90. léta – dekáda alian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mezení pojmu: Heck (1999), Fry – Stoner – Hattwick (1998) a dal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Příčiny strategických aliancí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toucí dominance zákazníků nad dodavateli, rostoucí informovanost a požada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árůst nečekaných důsledků nespojitých změn v podnikatelském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ále ostřejší konku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izace, intenzita propojení novými prostředky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ědeckotechnický rozvoj a inovační důsled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Další z příčin dle J. Novotné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 jako nástroj odstraněn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úzkých mí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 MSP nejčastěji odby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ále opatřování výrobních faktorů, zejména lidské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Řeš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kooperace nebo konce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Základní formy S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Členění dle intenzity vazbového spoje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lné fo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tegické aliance (v užším poje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oint ventures (obvykle chápány jako strategické aliance v širším poje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sné fo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Klasifikace strategických aliancí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funkčního hle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teritoriálního hle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organizačního hle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vlastnického hle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hlediska cílové ori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hlediska trv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trategické aliance v moderním podnikání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90. lé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KAŽDÁ ALIANCE MUSÍ BÝT ÚSPĚŠNÁ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votní smysl: rozvoj pozitivní kooperace a redukce negativní koope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 dále jako nástroj čelení nejistotě a rizi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Úč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dílení činností a zdrojů, redukce konkurenčních střetů, vznik, přenos a využití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A zaměření na sdílení činností a zdrojů partner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 dvěma či více partnery dochází k systematickému řízení procesu účelného a účinného přiřazování (alokace, případně i realokace) činností a zd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ůže docházet k pozitivním integračním, popř. synergickým efekt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: zajištění vývoje a realizace složitých výrobků, získání potřebných finančních či jiných zdrojů pro náročnou investiční politiku, využití konexí a komunikačních kanálů partnera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A zaměřené na redukci konkurenčních střet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pravidla nejde o spolupráci v rámci jedné národní ekonom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íše obtížně kontrolovatelné nadnárodní vztahy a nadnárodní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ní nahradit negativní kooperaci (boj, soupeření, konkurenci) jejím protipólem, tj. pozitivní kooper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 americká General Motors – japonská Toyota; či korejská Daewoo 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22:31:24Z</dcterms:created>
  <dc:creator>Hani</dc:creator>
  <dc:description/>
  <dc:language>en-US</dc:language>
  <cp:lastModifiedBy>Hani</cp:lastModifiedBy>
  <dcterms:modified xsi:type="dcterms:W3CDTF">2008-11-05T23:04:28Z</dcterms:modified>
  <cp:revision>6</cp:revision>
  <dc:subject/>
  <dc:title>Od hierarchie k sítím</dc:title>
</cp:coreProperties>
</file>