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713C3-58BD-4076-A667-014CFCF91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48361-4086-48CF-9E37-FF67CC74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3C2A5-735F-43E9-B973-98C24D36E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65317-EABD-4975-B503-1CD1A9C62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AEFE-5447-4DBB-A8EA-50EC34DAA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062C-85BE-4A5D-BD15-508FDDF9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F154-755C-43C6-96CD-E5E9F5AC0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7D04-D096-48EB-84A6-AFA9C5DA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411A-6035-46F9-A456-47669413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4BE5-5F0A-4A1C-B9FB-4991E2A4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E11F-5CCE-4CA2-8546-55690206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F8F30-89B8-4589-9353-16CF9924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73FB-3028-47B9-AA9A-43E1B512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B0B2-2AC3-4D9F-B942-E250E3AD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85EF-0260-4876-8327-4C7D870A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7221-AEC6-4DC8-B81C-D09B258FD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F53F-CD6F-4525-BCF2-7413A83B5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5B528-36CC-4E35-B5C8-3F22C393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E6A61-6FE2-4C82-8070-FC3E04FE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679CD-ACD0-4355-A2F8-4E5EA9A3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D96D3-9BC6-44F4-A50D-44D53436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1A3CE-289B-4EC4-8251-D8400F76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FD729-D470-4A24-8F85-CE949E47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587FD-31FB-4A33-A04A-B9826FF2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2d3e35"/>
                </a:gs>
                <a:gs pos="100000">
                  <a:srgbClr val="2133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50000">
                  <a:srgbClr val="12592f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100000">
                  <a:srgbClr val="11532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166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166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50000">
                  <a:srgbClr val="156636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213329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50000">
                  <a:srgbClr val="008000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50000">
                  <a:srgbClr val="156636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21332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213329"/>
                </a:gs>
                <a:gs pos="50000">
                  <a:srgbClr val="27392f"/>
                </a:gs>
                <a:gs pos="100000">
                  <a:srgbClr val="2133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f1db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3710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3f1d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906F-8A62-4E40-8B4F-6DF334DA5B8C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2d3e35"/>
                </a:gs>
                <a:gs pos="100000">
                  <a:srgbClr val="2133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50000">
                  <a:srgbClr val="12592f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100000">
                  <a:srgbClr val="11532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166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166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50000">
                  <a:srgbClr val="156636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213329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50000">
                  <a:srgbClr val="008000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50000">
                  <a:srgbClr val="156636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21332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213329"/>
                </a:gs>
                <a:gs pos="50000">
                  <a:srgbClr val="27392f"/>
                </a:gs>
                <a:gs pos="100000">
                  <a:srgbClr val="2133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3f1db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1E23-12BE-44F5-A974-133ED64AD97D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d3f1db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1484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d3f1db"/>
                </a:solidFill>
                <a:uFillTx/>
                <a:latin typeface="Tahoma"/>
              </a:rPr>
              <a:t>Strategie trvale udržitelného rozvoje</a:t>
            </a:r>
            <a:r>
              <a:rPr b="0" lang="en-US" sz="4800" spc="-1" strike="noStrike">
                <a:solidFill>
                  <a:srgbClr val="d3f1db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pracovali: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indřich Hovor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Lukáš Neradile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f1db"/>
                </a:solidFill>
                <a:latin typeface="Tahoma"/>
              </a:rPr>
              <a:t>Strategie trvalé udržitelnosti 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typ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3710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řízené proces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poskytnou firmě výhody na straně nákladů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3710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řízené trh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konkurenční výhoda- pomohou firmám odlišit jejich výrobky od konkurence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f1db"/>
                </a:solidFill>
                <a:latin typeface="Tahoma"/>
              </a:rPr>
              <a:t>Učící se organizace 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.F.Schumac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osažení drobnosti v rámci velké organiza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5 pravid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ako příroda v malých buňkác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odavač balonk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3f1db"/>
                </a:solidFill>
                <a:latin typeface="Tahoma"/>
              </a:rPr>
              <a:t>Integrovaný systém managementu životního prostředí (EMS) </a:t>
            </a:r>
            <a:endParaRPr b="0" lang="en-US" sz="38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ší se v tom, jaké prvky jsou v nich obsaže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yžaduje stanovení jasných cílů a postupných cílů, systematické chování firmy vůči životnímu prostřed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f1db"/>
                </a:solidFill>
                <a:latin typeface="Tahoma"/>
              </a:rPr>
              <a:t>Smyčka řetězu hodnot 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= rámec pro diskusi množství nástrojů a procesů, které si myslíme, že jsou potřebné pro vytvoření EM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ahrnuje primární činnosti, týkající se výroby a prodeje výrobků a podpůrné činnosti, jako management lidských zdrojů, informační systémy, auditing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f1db"/>
                </a:solidFill>
                <a:latin typeface="Tahoma"/>
              </a:rPr>
              <a:t>Analýza životního cyklu (LCA) 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ormace o ekologických vlivech výrobků a procesů od kolébky ke hrobu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ískávání vstupů na živ. prostřed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ýrobní proc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prava a rozesílání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užívání výrobku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yklace nebo opětovné použití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ložení výrobku (toxiny, objem…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3f1db"/>
                </a:solidFill>
                <a:latin typeface="Tahoma"/>
              </a:rPr>
              <a:t>Strategie trvalé udržitelnosti řízené procesem </a:t>
            </a:r>
            <a:endParaRPr b="0" lang="en-US" sz="38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789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anagement životního prostředí úplné kvality (TQEM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710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avádí až 60% společností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710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př. Procter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amp; Gamble, AT&amp;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esign pro životní prostředí (DF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710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pojuje ekologické zájmy firmy, trendy trhu, technologické trendy a kontrolní požadavky do vzhledu výrobk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710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BM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3f1db"/>
                </a:solidFill>
                <a:latin typeface="Tahoma"/>
              </a:rPr>
              <a:t>Strategie trvalé udržitelnosti řízené trhem </a:t>
            </a:r>
            <a:endParaRPr b="0" lang="en-US" sz="38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arketing pro životní prostředí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2 úkol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c3710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ytvořit zelené výrobk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c3710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ytvořit v zákaznících představu, že jsou jak vysoké kvality, tak citlivé k životnímu prostředí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utné uvádět pouze pravdivé inform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apř. Loblaw a řada G.R.E.E.N., Ben and Jerry´s Homemade Ice Cream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f1db"/>
                </a:solidFill>
                <a:latin typeface="Tahoma"/>
              </a:rPr>
              <a:t>Podpůrné činnosti řetězu hodnot 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uditing životního prostřed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Účtování plných náklad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3710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externality,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nformační systémy managementu pro životní prostředí (EMI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3710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UMPLIS, DABAWAS, AWIDAT (databáz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3710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LEXIS a Hypertext (zpracová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nformování o životním prostřed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f1db"/>
                </a:solidFill>
                <a:latin typeface="Tahoma"/>
              </a:rPr>
              <a:t>Použitá literatura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TEAD, W.E., STEAD, J.G. Management pro malou planetu. Praha: GplusG, 1998. ISBN 80-86103-15-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d3f1db"/>
                </a:solidFill>
                <a:latin typeface="Tahoma"/>
              </a:rPr>
              <a:t>Literatura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EAD, W.E., STEAD, J.G. Management pro malou planetu. Praha: GplusG, 1998. ISBN 80-86103-15-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EADOWS,D. H. et al. Překročení mezí. Praha : Argo, 1995. ISBN 80-85794-83-7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CHUMACHER E.F., Malé je milé : aneb ekonomie, která by poèítala i s èlovìkem. Brno: Doplněk, 2000. ISBN 80-72390-3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d3f1db"/>
                </a:solidFill>
                <a:latin typeface="Tahoma"/>
              </a:rPr>
              <a:t>Současná nutnost změny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Globální problém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710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xponenciální populační rů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710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čerpávání neobnovitelných zdroj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710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nečistě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710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kles biodiversity(Teorie Gaia, zákon entropie, průmyslový metabolismu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710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Mentalita předpokládaného neomezeného růst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710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říliš rychlé čeprání obnovitelných zdroj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ropa, plyn, uhlí, lesy, (půda, mokřad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d3f1db"/>
                </a:solidFill>
                <a:latin typeface="Tahoma"/>
              </a:rPr>
              <a:t>Podmínky trvalé udržitelnosti</a:t>
            </a:r>
            <a:br>
              <a:rPr sz="3800"/>
            </a:br>
            <a:r>
              <a:rPr b="0" lang="cs-CZ" sz="2800" spc="-1" strike="noStrike">
                <a:solidFill>
                  <a:srgbClr val="d3f1db"/>
                </a:solidFill>
                <a:latin typeface="Tahoma"/>
              </a:rPr>
              <a:t>Naplnění potřeb dneška bez omezení budoucnosti</a:t>
            </a:r>
            <a:endParaRPr b="0" lang="en-US" sz="28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Úplná recyklace materiál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Udržitelný energetický systé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Kontrola populační exploz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Uvedení v soulad ekonomických a evolučních procesů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měna náhledu(konec karteziánstv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míření západu s rozvojovým svě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3f1db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říslib snížení porodnosti na jedné straně a spotřeby na druh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3f1db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dpuštění dluhů a „zelené“ technologie za možnost šetrně využívat přírodních zdrojů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f1db"/>
                </a:solidFill>
                <a:latin typeface="Tahoma"/>
              </a:rPr>
              <a:t>Podíl přírody v organizacích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dílník = osoby, nebo skupiny, které mohou ovlivnit nebo jsou ovlivněny dosažením cílů organiz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 Země není osoba ani skup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liv ovšem m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elení podílníci Zem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f1db"/>
                </a:solidFill>
                <a:latin typeface="Tahoma"/>
              </a:rPr>
              <a:t>Zelení podílníci Země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8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acovníci kontro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elení spotřebitel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ravní investoř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aměstnan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kologické zájmové skupi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ůjčovatelé a pojistitel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, kdo určují normy pro živ. prostředí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f1db"/>
                </a:solidFill>
                <a:latin typeface="Tahoma"/>
              </a:rPr>
              <a:t>Trvale udržitelný strategický management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 všechny procesy potřebné k integraci trvalé udržitelnosti do jádra organiz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í ale také uznat vzájemnou propojenost všech firem a jednotlivců v globálním společenství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d3f1db"/>
                </a:solidFill>
                <a:latin typeface="Tahoma"/>
              </a:rPr>
              <a:t>Paradigma ekocentrického managementu </a:t>
            </a:r>
            <a:endParaRPr b="0" lang="en-US" sz="38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aul Shrivast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emě je základním podílník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2 základní představ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3710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ekocentrický managem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3710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ůmyslové ekosystém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d3f1db"/>
                </a:solidFill>
                <a:latin typeface="Tahoma"/>
              </a:rPr>
              <a:t>Ekocentrický management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lozofický ideál potřebný k propojení managementu organizací a biofyzikálních proces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nimalizace používání neobnovitelných surovin, vyloučení emisí, odpadních vod, minimalizace nákladů na životní cyklus výrobků a služeb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 bude upřednostňovat přírodu před lidstvem (karteziánský předpokla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f1db"/>
                </a:solidFill>
                <a:latin typeface="Tahoma"/>
              </a:rPr>
              <a:t>Průmyslové ekosystémy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.F. Schumac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ncept „odpovídající technologie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ichard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3 typy průmyslových ekosystém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deál- Typ II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nes: většinou přechod mezi Typem I a Typem I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1:40:31Z</dcterms:created>
  <dc:creator>mrerror</dc:creator>
  <dc:description/>
  <dc:language>en-US</dc:language>
  <cp:lastModifiedBy>Lukáš Neradilek</cp:lastModifiedBy>
  <dcterms:modified xsi:type="dcterms:W3CDTF">2008-10-26T22:21:15Z</dcterms:modified>
  <cp:revision>44</cp:revision>
  <dc:subject/>
  <dc:title>Seminární práce  Relaunche značky </dc:title>
</cp:coreProperties>
</file>