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909-4959-42DE-B2CB-343770EC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F4B-72F7-422F-BA20-03933AAB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E34-19D4-4CDB-8F7E-0D4BD124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8B8-330E-43A2-AF9F-CAA6543B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E6EB-8F9F-43DE-805B-7DBC9131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D041-5D43-422A-9F19-7AFFAA88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599F-A270-4334-A080-0E8493BE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8FC4-09AE-472B-B5F6-7E74CB74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0857-1E1C-4FB2-9FDB-87F05C0D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8DC8-7A5A-4044-ABCA-65CE3292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1A6C-2577-4BE9-94AD-7009AC14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AD0-C5A9-4672-A36F-9C0E6177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A9D3-6C86-4979-9709-8A010A6B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6DFF-271C-4FE3-A3AD-7C652184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36E5-67D1-46C7-B462-7FB29DA0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17C7-C98B-44E8-98FB-603E63C1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1F53-0E0A-4CEE-B79C-4DF71F83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E0B71-9BC2-4BFB-B2F0-12AAD19A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0C89-962C-4CD7-90E1-3268F4A4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6BDF7-3C4A-427A-AB58-BB6AB871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05B3-6E88-442F-AA48-A669E9F2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5E2D-9B6F-44C1-B80E-FDC8439A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E86-8561-41DB-B671-3AC48B02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3F92-AA73-4666-B2E3-FEF21BDC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AF09-AF7E-442A-AAB9-F8CE59D3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1B39-C2B6-471E-A9A5-6A4C672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93C9-3851-42CC-94BD-8A2D9F25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59B8-9448-41D8-B3C6-74D3BF09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EE3C-F625-4994-85B0-F837F148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1BBD-1CB4-434B-9696-0033B067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8CC-82F9-413C-B52B-0D3F16D1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73F-83DB-41C0-B5BC-C8C63600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6BF-DB92-4374-8D75-BC8D3714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FA9-53D7-44F1-8BCC-2BF73EB5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AA3-7544-4349-A1C7-9B81A6A4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FFD-7CB6-481F-912F-99991A81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E384-FCCC-4D7F-8714-3EE065D61E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071B-59B4-4237-AC67-E276684203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6E2C-71C7-4A17-B6D0-7C1D592D5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RADIKÁLNA PREMENA PODNIKU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8436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ereza Koklarov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artin Ďub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l Dančiš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eengineering v súčasnosti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br>
              <a:rPr sz="2400"/>
            </a:br>
            <a:r>
              <a:rPr b="0" lang="sk-SK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Agenda 2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ľa Hammera kniha predstavuje pragmaticky zameranú reakciu na udalosti, ktoré zmenili tvár dnešného sveta podnikania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skytuje manažérom niečo ako návody a pravidlá na to, ako prežiť v ekonomike dvadsiateho prvého storočia, v ktorej už nerozhodujú podniky ponúkajúce svoje výrobky a služby ale zákazníc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rot="1891200">
            <a:off x="7596000" y="1052640"/>
            <a:ext cx="10062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eengineering v súčas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dľa rozsahu, ktorý reštrukturalizačné aktivity v podniku zasiahnu, rozlišuje J. Veber nasledujúce úrovne reengineering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WPR – Work Process Reengin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zásadné zmeny, ktoré sa dotýkajú určitej časti podniku (projekcie, výroby v jednej prevádzke), ale ktoré podstatne neprekračujú hranice daného útvaru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BPR – </a:t>
            </a:r>
            <a:r>
              <a:rPr b="0" i="1" lang="sk-SK" sz="2200" spc="-1" strike="noStrike">
                <a:solidFill>
                  <a:srgbClr val="ff0000"/>
                </a:solidFill>
                <a:latin typeface="Tahoma"/>
              </a:rPr>
              <a:t>Business Process Re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zmeny, ktoré sa dotýkajú celého podniku; v tomto prípade ide o realizáciu zásadných zmien, ktoré menia organizačnú architektúru firmy s cieľom posilniť integračné a synergické efekty v jej chovaní, obzvlášť tak vo vzťahu k zákazníkov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TBR – Total Business Re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iniciovanie a realizácia zmien, ktoré sa týkajú nielen daného podniku ale aj jeho relevantného okolia, obzvlášť tak potom dodávateľov, poprípade i odberateľov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iadenie zmeny:</a:t>
            </a:r>
            <a:br>
              <a:rPr sz="4000"/>
            </a:b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Kto uskutočňuje reengineering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174760"/>
            <a:ext cx="777240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ODCOVSKÁ OSOBNOSŤ („líder“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LASTNÍK“ PROCE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ENGINEERINGOVÝ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ADIACI VÝ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ENGINEERINGOVÝ CÁ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236000" y="2492280"/>
            <a:ext cx="790560" cy="3600720"/>
          </a:xfrm>
          <a:prstGeom prst="downArrow">
            <a:avLst>
              <a:gd name="adj1" fmla="val 50000"/>
              <a:gd name="adj2" fmla="val 11386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Lov na reengineeringové príležit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ôkladný výber procesov – 3 kritériá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EFUNKČNOSŤ: Ktoré procesy majú najväčšie problémy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ZNAM: Ktoré procesy majú najväčší vplyv na zákazníkov firm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VLÁDNUTEĽNOSŤ: Ktoré z procesov sú v súčasnosti pre úspešný redesign najvhodnejši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dpoveď: N E F U N K Č N É  P R O C E S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...definované pojmy ako </a:t>
            </a: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symptómy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nefunkčnosti a porúch procesov a </a:t>
            </a: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choroby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, ktoré sú obvykle ich príčinam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4869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íležitosti pre re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765000"/>
          <a:ext cx="8229600" cy="574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ptó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ro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zívna výmena informácií, nadbytočnosť údajov a ich prepisovan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dôvodná fragmentarizácia prirodzeného proces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soby, rezervy a ďalšie aktív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émová neschopnosť čeliť neisto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podiel previerkových a kontrolných činností v porovnaní s činnosťami, v ktorých sa vytvárajú hodno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mentarizá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vy a opakované prá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očná spätná väzba medzi jednotlivými článkam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ožitosť, výnimky a špeciálne príp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loženie rozvoja na príliš jednoduchom zákla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ahoma"/>
              </a:rPr>
              <a:t>Informačné technológie a ich význam pri reengineering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účasť každého reengineeringového úsil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možňuje previesť reengineering podnikových proces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i nesprávnom použití iba posilní staré schémy a nesprávny zaužívaný spôsob mysle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k efektívnemu využitiu – potreba myslieť induktív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iesto: „Ako využiť novú informačnú technológiu na zlepšenie,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efektívnenie danej činnosti alebo daného procesu, ktorý už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konávame?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 potrebné pýtať sa: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o využiť informačnú technológiu na to aby sme mohli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konávať veci, ktoré sme doteraz nevykonávali?“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37162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znamná rola informačnej technoló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620640"/>
          <a:ext cx="8229600" cy="6059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é pravid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omová technoló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é pravid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ácie môžu byť v jednom čase dostupné na jedinom mies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ieľané databáz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ácie môžu byť súčasne prítomné všade kde sú potrebn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a experti môžu zvládnuť komplexnú prác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tné systém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zalista môže vykonávať prácu exper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žéri rozhodujú o všetko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stroje na podporu rozhodovania (databázový prístup, software pre modelovani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hodovanie je súčasťou každej pracovnej funkc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lepší kontakt s potenciálnym zákazníkom je osobný kontak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ktívny videodis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lepší kontakt s potenciálnym zákazníkom je efektívny kontak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ógia je jedným z najviac využívaných dátových formátov pri uskutočňovaní vnútroštátnych či medzinárodných elektronických obchodných transakci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pierová dokumentác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ektronické dokume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ynulá komunikácia medzi aplikáciami rôznych nezávislých obchodných spoločností, organizácií či vládnych útvarov prostredníctvom vzájomnej výmeny štandardných štruktúrovaných doklado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39337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ínosy 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ie objemu papierovania (vytváranie a zakladanie dokument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ššia presnosť vzhľadom k obmedzeniu manuálneho spracov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ššia rýchlosť prenosu objednávok a ďalších d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medzenie kancelárskej práce/administratívy pri zadávaní dát, zakladaní, zasielaní dokumentov poštou  a pri súvisiacich činnosti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žnosť zaoberať sa strategickými záležitosťami v oblasti nákupu (pretože administratívnym úkonom je možné venovať menej ča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é náklady na podávanie faktúr, objednávok a ich sprac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lepšená dostupnosť informácií vzhľadom k urýchleniu avizovania a oznamovania o zásiel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ové zníženie objemu práce a zvýšená informovanosť i iných oddelení prostredníctvom napojení EDI na ďalšie systémy, ako napríklad systém sledovania zásob pomocou čiarových kódov alebo elektronický prevod peňaz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ie stavu zásob vzhľadom k zlepšenej presnosti a skráteniu doby cyklu objedná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oužité zdro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BLAŽEK, L., LANDA, M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Ekonomika a řízení podniku. 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1. vyd. Brno : Masarykova univerzita, 2006. 96 s. ISBN 80-210-3960-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ČÁSTEK, O. Materiály Procesní analýza k předmětu Provozní management. Brno : Ekonomicko-správní fakulta, 2006. 19 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DRDLA, M., RAIS, K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Řízení změn ve firmě - reengineering: jak vybudovat úspěšnou firmu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1. vyd. Praha : Computer Press, 2001. 144 s. ISBN 8072264117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HAMMER, M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Agenda 21: Co musí každý podnik udělat pro úspěch v 21. století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. Překl. Hana Škapová. 1. vyd. Praha : Management Press, 2002. 62 s. ISBN 8072610740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HAMMER, M., CHAMPY, J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Reengineering - radikální proměna firmy: manifest revoluce v podnikání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3. vyd. Praha : Management Press, 2000. 212 s. ISBN 8072610287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LAMBERT, D. M., STOCK, J. R., ELLRAM, L. M.: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Logistika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, Praha: Computer Press, 2000, 589 s. ISBN 80-7226-2221-1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VEBER, J. a kol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Management: základy, prosperita, globalizace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1. vyd. Praha : Management Press, 2000. 700 s. ISBN 807261029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ah prezentác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kladné pojmy  (reengineering, pro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engineering podnikových procesov v súčasnos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el Hammer a jeho publikác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to uskutočňuje re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eengineeringové príležit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plyv informačných technológi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echnológia E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ĎAKUJEME ZA POZORNOSŤ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nikový proces je logicky a sekvenčne usporiadaný súbor transformácií majúcích spoločný cieľ (technologických operácií, riadiacich aktivít, postupových krokov, činností) kde výstup z predošlej transformácie je prepojený so vstupom do nasledujúcej transformácie.“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stupným signálom je nejaká zákaznícka potreba, ta spustí onú postupnosť sekvenčných aktivít, ktorá podľa daných pravidiel využije či spotrebuje určité podnikové zdroje a vytvorí produkt alebo službu, ktorý/ktorá na výstupe uspokojí počiatočnú zákazníkovu potrebu.“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y v podnik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adiace / hlavné / vedľajšie / podporné / zdieľan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árne / kľúčové / podporn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stup proce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objekt, resp. jeho stav pred pôsobením skúmaného procesu. Stáva sa predmetom pôsobenia proces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ýstup proce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objekt, resp. jeho stav po pôsobení tohto proce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Reengine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efinícia Hammera &amp; Champyh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eengineering v podstate znamená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zásadn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prehodnotenie a 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radikálnu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rekonštrukciu (redesign) podnikových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proceso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tak, aby mohlo byť dosiahnuté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dramatick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zdokonalenie z hľadiska kritických meradiel výkonnosti ako sú náklady, kvalita, služby a rýchlosť.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..previesť reengineering znamená odhodiť staré systémy  a začať odznovu. Jeho súčasťou je návrat k počiatku a nájdenie lepších spôsobov prá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Reengineering – radikálna premena 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firm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el Hammer -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ôvodca koncepcie reengineeringu podnikových činností a zakladateľ reengineeringového hnu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Hammerova formálna definícia reengineeringu sa opiera o štyri charakteristické kľúčové slov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zásadné</a:t>
            </a:r>
            <a:r>
              <a:rPr b="0" i="1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ako zásadné prehodnotenie podnikových proces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radikáln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 radikálna rekonštrukcia podnikových proces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dramatick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 dramatické zdokonal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procesy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 najdôležitejšie slovo tejto definíci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Čo nie je reengineering</a:t>
            </a:r>
            <a:br>
              <a:rPr sz="4000"/>
            </a:br>
            <a:r>
              <a:rPr b="0" lang="sk-SK" sz="3200" spc="-1" strike="noStrike">
                <a:solidFill>
                  <a:srgbClr val="333399"/>
                </a:solidFill>
                <a:latin typeface="Tahoma"/>
              </a:rPr>
              <a:t>(negatívne vymedzenie reengineeringu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totožňovanie reengineeringu s rôznymi formami vylepšovania už existujúcich podnikových činností a procesov (reštrukturalizácia týchto činností, ich automatizácia, zmena rozsahu výrobnej kapacity alebo aj zvyšovanie kvality vyrábaných produktov či ponúkaných služie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totožňovanie s reorganizáciou organizačných štruktúr, či s obmedzovaním byrokratickej moci v podni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Reengineering – cesta k zmen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oblémy v podniku nevyplývajú z jeho zlých organizačných štruktúr ale zo štruktúr procesný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..preto je pri prevádzaní reengineeringu potrebné zabudnúť na predpoklady vychádzajúce z paradigmy Adama Smitha, ako sú hierarchické riadenie či úspory z rozsahu a deľba práce a začať hľadať úplné nové možnosti organizácie prá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34936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d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chae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S T O M E R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ákazníci rozhodujú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M P E T I T I O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onkurencia sa stáva intenzivnejš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 A N G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mena sa stáva neustálo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475080" cy="4238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538440" cy="417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67280" y="2565360"/>
            <a:ext cx="93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15843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8:27Z</dcterms:created>
  <dc:creator>Administrator</dc:creator>
  <dc:description/>
  <dc:language>en-US</dc:language>
  <cp:lastModifiedBy>Administrator</cp:lastModifiedBy>
  <dcterms:modified xsi:type="dcterms:W3CDTF">2008-11-11T02:13:28Z</dcterms:modified>
  <cp:revision>9</cp:revision>
  <dc:subject/>
  <dc:title>Rdikálna premena podniku</dc:title>
</cp:coreProperties>
</file>