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FFB-8F76-428E-80B6-5EC5A254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9C2-4232-4E8C-81DF-63E40BAF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757-700B-421F-8DFC-76113103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EC8-B79B-4FDF-912E-E493992C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E28-55D8-42C8-800E-C30E0D48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A2E8-D9B6-40DE-8A44-8B450EF0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EB93-1C60-432A-B210-7DC72E3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0489-362B-4BBF-80B0-4760A1CF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F170-38AC-4AEA-B59A-2963CD1E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27F3-0136-4F60-9076-EC8A478B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DAC9-8C12-425E-A87B-C2268A1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7AB-684B-4B25-A2A3-F23BA81A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2CEE-C82E-4DE6-9001-8950AF9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6100-68E9-4A15-A7FE-F0A5AF6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CDA-552A-4C3B-A483-E1F0E4F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2BF-0026-42FF-950C-93DC8EAE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60E5-CECB-485A-A11D-09FECA0C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898-284D-4CF8-99E0-750AC78C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EA7-5920-4EE8-A3C1-7F5E7B9A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A1F-9AA7-469A-A7B9-1BACE0E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14D-AF33-48BA-9F84-9729EDC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96E-08CC-4578-8952-B4030DF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BEC-E87B-431D-A112-F4FAE91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F43-D3B4-42B2-8B72-7BBACB8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74CE-0C3B-4248-A1EB-082315515D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4D4C-9F51-4CC3-BE94-AFA6D1D74F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ysoce zhodnocující podn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taré velkovýrobní ekonomiky – produkty s výraznou státní příslušnos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vé vysoce zhodnocující podniky – původ výrobku více a více nejas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íklad: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recizní vybavení pro hokej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– navrhováno ve Švédsku, financováno v Kanadě, sestavováno v Clevelandu a Dánsku, výzkum slitiny v USA, výroba slitiny v Japonsku, reklamní kampaň v Británii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349360"/>
            <a:ext cx="78883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mětem mezinárodní obchodní výměny jsou spíše služby související se specializovaným řešením problémů a se zprostředkovatelstv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Příklad: Když si Američan koupí auto u GM na 20 000 dolarů, tak: 6000 do J. Koreji – práce a montáž, 3500 do Japonska – komponenty, 1500 do Německa – návrhy karoserie a konstrukce, 800 do Tchajwanu a Singapuru – malé komponenty, 500 do Británie – reklama, 100 do Irska a Barbadosu – zpracování dat, 8000 do Detroit, NY, Washington, GM – právníci, lobbisté, stratégové, pojišťovny…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akcionář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roblémy spojené s globální sít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aň z přij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ostředky k manévrování a obcházení úředních na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naha o zvýhodnění v mezinárodním obch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vlékání národního k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apř. Nařízení Pentagonu pro nákup „amerického“ vojenského vybavení, protesty firmy Hyster, FOR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Státní příslušnost převládajících akcionářů firmy a špičkových manažerů             stále méně spojena s místem, kam se investuje a s jakým partnerem se uzavírají smlouv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Nadnárodní korporace nerespektující státní hranice - globální výroba je optimální způsob, jak „využít nejnovější technologie, kterou může firma použít“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Např. firma DuPont – podpora a spolupráce na virologickém výzkumu v československém Ústavu organické chemie a biochemi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Šipka doprava 3"/>
          <p:cNvSpPr/>
          <p:nvPr/>
        </p:nvSpPr>
        <p:spPr>
          <a:xfrm>
            <a:off x="5357880" y="200016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71040" y="23320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Z národního šampiona             globální sí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Model této sítě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elkovýroba standardizovaných produktů v zemí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 nízkou úrovní mez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ce zhodnocující řešení              všude tam, kde lze najít užitečné nápad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Šipka doprava 3"/>
          <p:cNvSpPr/>
          <p:nvPr/>
        </p:nvSpPr>
        <p:spPr>
          <a:xfrm>
            <a:off x="5076720" y="2421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Šipka doprava 5"/>
          <p:cNvSpPr/>
          <p:nvPr/>
        </p:nvSpPr>
        <p:spPr>
          <a:xfrm>
            <a:off x="5580000" y="42926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hraniční investice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lobalizace invest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idský kapitál = nejcennější aktiv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ř. – SO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V r.1989 koupila spol.SONY filmové ateliéry Columbia Pictures.(3,4mld). Získala právo na zisky z mnoha vynikajicích děl Hollywood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ALE!!!! Nezískala tímto talent filmařů a scénáristů (Peter Guber, Jon Peters; Batman, Rain Man - Ty získala za 55mil., 2,75mil./rok, podíl na zisku ateliérů, prémie 50mil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jcenější je lidský kapitál – největší zisky nemají akcionáři a vedoucí osoby, ale talentovaní a schopní lid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ICH, R.B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Dílo národů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Prostor, 19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NDY, CH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Hlad duch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Management Press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d velkovýroby k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ec plánování a realizace velkovýro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schopnost maximalizace zisku, dosahování příjmů z velkovýroby standardního zbož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esun k výrobkům a službám ušitým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ace a globalizace inve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 produkty, ale specializované znal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užby a zboží = služ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 základní schopnosti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Řešení problémů spojených se specializac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nal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vé aplikace a kombin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edcházení problém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kazník chápe své potře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k je uspokojit individuálním výrobk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 marketing (hledání příležitostí x přesvědčován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ment myšlenek ne organiz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ky informací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.z.p. nelze organizovat dříve často používaným systémem pyrami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utná provázanost tří klíčových skupin – řešitelé problémů, identifikátoři problémů, strategičtí zprostředkovatel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ychlý tok inform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doba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voučí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vá doba si žádá nová řeše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ítě“ – určující termín nové ekonom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cké centrum umožňující propojení ostatních bodů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líčová je rychlost, flexibilnost, komplex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xní náklady?? Pryč s nimi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erimentování je žádou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y podnikových sí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závislá zisková cent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i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isté zprostředkovatel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c a pravomoc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 se koncentruje v rukou schopný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ální pravomoci ztrácí na význa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á rozhodnutí často ve skry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utečná moc bývá zastřena, i díky odbornému tis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zek“ bere vš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rozdělování zisku směrem od dělníků a investorů k „mozkům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jcennějším aktivem firem jsou nehmotná ak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ektuální kapitál – největší význ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chodní znač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enty, vydavatelská prá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závisí na přibývajících zkušenostech klíčových „mozků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hrazování starých pyramid klíčových velkovýrobních podniků organizačními sítěmi vysoce zhodnocujících podni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řesun od kontroly shora a centralizovaného vlastnictví do skupin, které jsou schopné řešit a identifikovat problémy a strategicky zprostředkováv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1:21:27Z</dcterms:created>
  <dc:creator>Zora Navrátilová</dc:creator>
  <dc:description/>
  <dc:language>en-US</dc:language>
  <cp:lastModifiedBy>Zora Navrátilová</cp:lastModifiedBy>
  <dcterms:modified xsi:type="dcterms:W3CDTF">2008-11-12T15:48:39Z</dcterms:modified>
  <cp:revision>5</cp:revision>
  <dc:subject/>
  <dc:title>Vysoce zhodnocující podniky</dc:title>
</cp:coreProperties>
</file>