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5B7F-8148-4B4D-882E-7E13F65D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A18F-8ED0-44F2-9D2E-0AF2A35F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81308-F240-4968-B810-313A7E5D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F8C54-22D2-43D8-A0BA-F08339ED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3A644-AB2C-415E-A252-AE5914B0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44190-B43E-4555-BCE0-67173B04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29441-1DBA-4B8D-A2F3-631699A7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71BD1-BB12-452D-A450-5672088D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6D70D-6450-4521-90BD-4A8ABA49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CE0CA-D91E-43F9-BF64-1C5D9C4B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F8F47-67AC-41A4-B741-43B79347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A0FE-FF50-41FD-A3A6-7324AF5D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B137-3A2D-4F4C-909B-B9BB6AC8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0ECD-AB84-40A9-8E1B-074122C2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CDF8-B229-4223-B10F-4F580852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67A8-261B-4CD9-AA3A-F5C0ED21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52C8-B76B-4D3E-9825-88460177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0098-CDA7-4756-9F15-27860A56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AC47-6DAF-435E-8501-AC48233D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855D-2CF8-46D1-BFEC-7F15174F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1916-1B15-445F-823C-2FD44253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B982-9893-4B31-88B1-F4FECA89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67A1-1D1C-47FB-A067-4E63535C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5A46-57C3-4862-BC3F-7693D173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09D6-0268-46B1-A6C9-C9DE02F4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D35D-9ACC-4834-B1E7-C06CAE56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A1578F-4E6A-4ACB-AC5A-82BA449C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789D07-FF90-4C20-A208-C09CF2A6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EA3924-1606-4D5A-84C7-ED796E9D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33C12F-97FA-43E0-AD39-B60A0324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A7CD2-9762-4D0C-9E78-D6725FD4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CEC6-5495-4F7A-8DC8-7A756F9C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E58FE-8500-441B-86D8-E2480D10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BC26BF-ADBE-4300-8F76-43A11ED5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F1C555-1317-47C4-822C-923DDA9D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F143D6-D36F-4D68-B491-9CEB0A37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AAC84F-2D11-4DF3-9877-DE19F575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2C29DD-A793-4691-9060-CFB5AF3D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82255-D73E-414A-AE59-0FDCED313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AE39DB-F37E-47D3-B81A-E924CBEC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0F8B7B-2357-404E-BF75-CADBD567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53F824-ADBC-4B2D-8343-7801DC6D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BC8F-04A5-458D-8435-39AF90E4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EB7EF9-C3DD-48D1-852F-FDF67AC3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695210-D66B-4148-9F03-8DF9DA28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7A10A3-43F7-4C96-BAB5-AA17CCA2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73B801-EFDB-4CC9-BF8A-6A23448A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62CE04-A59D-459F-9910-C73F511D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34036F-9E97-41DF-88C4-69D90B68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10E8DE-678A-43C6-9CB0-DBD1B6D4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551050-B6F8-4024-A05C-B05D9DFD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30CE5D-D18E-4D08-8A5B-2ED12970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A8E8F1-1795-49DA-907E-8CC2EB5E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9EAA-C5A6-4491-B1E3-943647CA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D8813A-2DBB-491E-BAC3-7DCA1FE1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E67FF4-73DE-461B-849F-44C5DCD5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B699AC-D178-45B6-87BE-BF43D483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84E57C-6D38-4314-B9DA-B497FD92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5E7EE7-A416-45A5-80FA-528AE4C6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396143-7E8B-4EEA-8D55-02870F33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8913B8-B229-435F-A071-586B46A3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36330F-55BF-4F2E-8714-79327F6C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27A96A-8A6E-47A4-A552-13725E99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7597FF-51EA-4E58-A6C1-61ECC901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9470-D323-4C1A-A87D-5BC2A739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874EFC-325B-44A9-A08C-D5FE372C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ACA29-E912-4B59-B551-6BF704D8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E52AF-F80D-4FA8-8BA3-1E8DF5FE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FFBBA-F1EF-4BD1-90E4-507DFEFD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DAB98-EB2C-4C69-9569-3EB1FC34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9525D-B179-4910-8342-0131BED1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24B24-0822-4713-AF5A-744B84D2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9F3DD-5F59-4F93-A98A-59B660DF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5D138-E5F5-4A0E-817D-C5F488F9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81348-B13A-441B-9C46-96D867AF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66DA-3B04-401D-A524-064A9E3D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B0D79-DA73-47AC-8C9A-F43B2267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12CB8-75B0-40C6-AB47-3C8C48A0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83F34-2D27-43A1-9B48-CE6051EC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3053A2-9A7C-4F70-B9D8-C79480D3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4D9DC1-D48C-4303-8D7C-4E716A46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6AA875-7E50-479E-AF90-E99D0C2C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1AC94C-8ECD-4FA5-92E7-6792FCDD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0954D2-2145-4464-924F-524ACAD0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9B845F-50F8-4BA9-A4D5-5A1CF795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3DE00A-6611-410A-BB1E-99D8F683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647E-F98A-4F4A-AFCB-D7CCD007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887A42-051F-4E22-8A94-F2358296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17F870-F694-4ABB-9525-E5229932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D66441-0BA6-4E0F-AE24-789C9D4B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92C20B-E9F6-4DA5-9324-1338AD33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2A8B2D-7FC2-493E-80F6-0B91F5D3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72C1E-9212-41B7-B44A-71E31110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AD7E0-F47C-4946-9DF2-805B335B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A5667-3866-4257-87A4-143823D1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D1D01-F4AB-4ECC-B83D-7B02630D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70960-10EB-4D41-9839-14286B76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99AB-713E-4D4F-AB30-64DF5B67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36223-262D-4945-9FE3-D213CD36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9E5BC-3E18-4606-94E9-B048CF2E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BCF88-37C9-4A0E-8CB0-47DCA0ED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335B2-C787-4655-AB75-85C8EF0B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FAE76-5030-483E-AAF6-C8E50C17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C1711-4BF7-49A6-A41E-3163C3F8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39A55-87B9-455C-B820-533D60EA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8C5B6-4B6D-4713-B9D1-021FB9F7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EBB81-1275-4C0F-B309-32A082D6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0F303-B702-405C-B788-791C6224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B57B-9103-4583-948B-17788D9186C8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6733-32C0-42C4-8C4A-2DF93E7B2109}" type="slidenum">
              <a:rPr b="1" lang="cs-CZ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bdélní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délní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2BC2-0F6C-4F61-BCF2-3F636A9D6559}" type="slidenum"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9BF5-9086-424C-A029-B1C9AA9EF336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1848-35D1-4809-855F-3EF5C028E411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A2BD-ECAF-4119-B1B8-F07476F877A5}" type="slidenum">
              <a:rPr b="1" lang="cs-CZ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Obdélní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772F-62BE-445E-A21E-43A8E5A7C198}" type="slidenum"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bdélní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bdélní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bdélní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8A8F-519C-4350-BBB2-E06BF79F747E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1087-B32F-42B2-85A9-160EE541B0CD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bddc3"/>
                </a:solidFill>
                <a:latin typeface="Tw Cen MT"/>
              </a:rPr>
              <a:t>ANALÝZA PRAXE MANAGEMENTU ÚSPĚŠNÝCH AMERICKÝCH SPOLEČNOSTÍ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w Cen MT"/>
              </a:rPr>
              <a:t>Pavel Hasoň, Zuzana Jurková, Milan Kedroň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General Electric (GE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1878 – Thomas A. Edison - Edison Electric Light Company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»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  <a:ea typeface="Arial"/>
              </a:rPr>
              <a:t> General Electric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Tržní hodnota z roku 1997 nejvyšší na světě: 300 mld. dolarů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ečlivý výběr vede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Rekrutování manažerů ze svých řad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Je lepší a levnější si talenty pěstova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Diagram 16"/>
          <p:cNvGrpSpPr/>
          <p:nvPr/>
        </p:nvGrpSpPr>
        <p:grpSpPr>
          <a:xfrm>
            <a:off x="1220760" y="96480"/>
            <a:ext cx="6703200" cy="6647400"/>
            <a:chOff x="1220760" y="96480"/>
            <a:chExt cx="6703200" cy="6647400"/>
          </a:xfrm>
        </p:grpSpPr>
        <p:sp>
          <p:nvSpPr>
            <p:cNvPr id="415" name="_s1028"/>
            <p:cNvSpPr/>
            <p:nvPr/>
          </p:nvSpPr>
          <p:spPr>
            <a:xfrm flipH="1" flipV="1">
              <a:off x="3396600" y="1655640"/>
              <a:ext cx="847440" cy="131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1029"/>
            <p:cNvSpPr/>
            <p:nvPr/>
          </p:nvSpPr>
          <p:spPr>
            <a:xfrm>
              <a:off x="2466720" y="535680"/>
              <a:ext cx="1215000" cy="121464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Dopravn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systém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1030"/>
            <p:cNvSpPr/>
            <p:nvPr/>
          </p:nvSpPr>
          <p:spPr>
            <a:xfrm flipH="1" flipV="1">
              <a:off x="2599200" y="2581200"/>
              <a:ext cx="1423800" cy="64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1031"/>
            <p:cNvSpPr/>
            <p:nvPr/>
          </p:nvSpPr>
          <p:spPr>
            <a:xfrm>
              <a:off x="1443600" y="1714680"/>
              <a:ext cx="121500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stémy p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lektrár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1032"/>
            <p:cNvSpPr/>
            <p:nvPr/>
          </p:nvSpPr>
          <p:spPr>
            <a:xfrm flipH="1">
              <a:off x="2428200" y="3563280"/>
              <a:ext cx="1546920" cy="22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_s1033"/>
            <p:cNvSpPr/>
            <p:nvPr/>
          </p:nvSpPr>
          <p:spPr>
            <a:xfrm>
              <a:off x="1220760" y="3261960"/>
              <a:ext cx="121500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s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_s1034"/>
            <p:cNvSpPr/>
            <p:nvPr/>
          </p:nvSpPr>
          <p:spPr>
            <a:xfrm flipH="1">
              <a:off x="2938680" y="3872520"/>
              <a:ext cx="1179360" cy="102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_s1035"/>
            <p:cNvSpPr/>
            <p:nvPr/>
          </p:nvSpPr>
          <p:spPr>
            <a:xfrm>
              <a:off x="1870920" y="4683960"/>
              <a:ext cx="121500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0640" rIns="170640" tIns="88920" bIns="88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ysílac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činn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_s1036"/>
            <p:cNvSpPr/>
            <p:nvPr/>
          </p:nvSpPr>
          <p:spPr>
            <a:xfrm flipH="1">
              <a:off x="3966120" y="4054680"/>
              <a:ext cx="438840" cy="149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_s1037"/>
            <p:cNvSpPr/>
            <p:nvPr/>
          </p:nvSpPr>
          <p:spPr>
            <a:xfrm>
              <a:off x="3185640" y="5528880"/>
              <a:ext cx="121500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dravotnick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stém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_s1038"/>
            <p:cNvSpPr/>
            <p:nvPr/>
          </p:nvSpPr>
          <p:spPr>
            <a:xfrm>
              <a:off x="4744440" y="4054680"/>
              <a:ext cx="441000" cy="149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_s1039"/>
            <p:cNvSpPr/>
            <p:nvPr/>
          </p:nvSpPr>
          <p:spPr>
            <a:xfrm>
              <a:off x="4747320" y="5528880"/>
              <a:ext cx="121428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světlen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_s1040"/>
            <p:cNvSpPr/>
            <p:nvPr/>
          </p:nvSpPr>
          <p:spPr>
            <a:xfrm>
              <a:off x="5031720" y="3869640"/>
              <a:ext cx="1179000" cy="102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_s1041"/>
            <p:cNvSpPr/>
            <p:nvPr/>
          </p:nvSpPr>
          <p:spPr>
            <a:xfrm>
              <a:off x="6061680" y="4683960"/>
              <a:ext cx="121428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formačn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lužb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_s1042"/>
            <p:cNvSpPr/>
            <p:nvPr/>
          </p:nvSpPr>
          <p:spPr>
            <a:xfrm>
              <a:off x="5171760" y="3559320"/>
              <a:ext cx="1544760" cy="22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_s1043"/>
            <p:cNvSpPr/>
            <p:nvPr/>
          </p:nvSpPr>
          <p:spPr>
            <a:xfrm>
              <a:off x="6708960" y="3261960"/>
              <a:ext cx="121500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ůmyslov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stém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_s1044"/>
            <p:cNvSpPr/>
            <p:nvPr/>
          </p:nvSpPr>
          <p:spPr>
            <a:xfrm flipV="1">
              <a:off x="5121720" y="2574360"/>
              <a:ext cx="1418760" cy="6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_s1045"/>
            <p:cNvSpPr/>
            <p:nvPr/>
          </p:nvSpPr>
          <p:spPr>
            <a:xfrm>
              <a:off x="6486480" y="1714680"/>
              <a:ext cx="121500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apitálov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lužb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_s1046"/>
            <p:cNvSpPr/>
            <p:nvPr/>
          </p:nvSpPr>
          <p:spPr>
            <a:xfrm flipV="1">
              <a:off x="4898880" y="1653480"/>
              <a:ext cx="842040" cy="131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_s1047"/>
            <p:cNvSpPr/>
            <p:nvPr/>
          </p:nvSpPr>
          <p:spPr>
            <a:xfrm>
              <a:off x="5463360" y="535680"/>
              <a:ext cx="1215000" cy="121464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omác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otřebič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_s1048"/>
            <p:cNvSpPr/>
            <p:nvPr/>
          </p:nvSpPr>
          <p:spPr>
            <a:xfrm flipV="1">
              <a:off x="4571280" y="1311480"/>
              <a:ext cx="0" cy="155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_s1049"/>
            <p:cNvSpPr/>
            <p:nvPr/>
          </p:nvSpPr>
          <p:spPr>
            <a:xfrm>
              <a:off x="3963600" y="96480"/>
              <a:ext cx="121500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teck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t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_s1050"/>
            <p:cNvSpPr/>
            <p:nvPr/>
          </p:nvSpPr>
          <p:spPr>
            <a:xfrm>
              <a:off x="3963600" y="2870640"/>
              <a:ext cx="1215000" cy="121500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GENERA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ELECTRIC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Proměny General Electric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řeorganizoval od základů obchody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ropustil téměř 200 tis. zaměstnanců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„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ísto malých posunů rovnou skočit“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Koncept „tréninku“ jako nový nástroj komunik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Obnovení důvěry mezi zaměstnanci a managementem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rolomení bariéry a podpoření kreativ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75f55"/>
                </a:solidFill>
                <a:latin typeface="Tw Cen MT"/>
              </a:rPr>
              <a:t>10 tajemství manažerského stylu Jacka Welche: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Investujte do lidí – Na lidech záleží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Ovládněte trh nebo ho vykliďte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Nikdy se nezastavt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Myslete na služby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Zapomeňte na minulos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Učte se a veďte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Žádné žvanění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Zlikvidujte byrokracii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Zůstaňte u jedné korporac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Řiďte svůj podnik jako obchod na nároží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Produktivita zásluhou lidí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FLEXTRONIC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Mezinárodní společnost (Singapur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řední poskytovatel EMS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108440" indent="-2214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w Cen MT"/>
              </a:rPr>
              <a:t>Vývoj, výroba, logistika, poprodejní servi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OEM a ODM zákazníc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Akvizice společnosti Solectron (2007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Tržby $33,6 miliar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obočky ve &gt;30 zemích na 5 kontinentech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ývojové centrum v Brně (segment Industrial – centrála v Dallasu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Flextronics - Klíčové hodno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Intenzivní spoluprá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Zaměření na zákazník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ečlivá, rychlá a disciplinovaná realiz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Závazek k trvalému zlepšová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Vytrvalé směřování k cíl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Flextronics a H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70 zaměstnanců 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60 vývojových inženýr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90% muži, Ø věk 32 l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Nastavení systému odměňová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tanovení mzdy dle LEVEL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tanovení systému hodnoce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Školení a rozvoj zaměstnanců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tanovení flexibilních zaměstnaneckých benefitů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Flextronics a H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Pružná pracovní dob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evná část 10:00 – 14:30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olitelná část 5:00 – 10:00, 14:30 – 22:0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Mzd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Fixní částk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Přesč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roplácen nad rámec Z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Mimořádné odměn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ýjimečné pracovní výsledky, mimořádné úkol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Flextronics a H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Benef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travenk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říspěvek na ŽP, P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Kurzy A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Akcie společnost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itný reži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Dovolená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4+1 týden navíc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ick day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ronájem tělocvičn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ingpo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Firemní ak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Zdroj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Tom Peters, Robert H. Waterman jun., Hledání dokonalosti, ISBN 80-7205-817-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Crainer Stuart - Byznys podle Jacka Welche, Pragma 2005, ISBN: 80-7205-947-5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http://www.businessweek.com/magazine/content/01_49/b3760040.ht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http://en.wikipedia.org/wiki/In_Search_of_Excelle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www.flextronics.co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www.flextronics.cz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75f55"/>
                </a:solidFill>
                <a:latin typeface="Tw Cen MT"/>
              </a:rPr>
              <a:t>Hledání dokonalosti – Tom Peters a Robert Waterman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Kniha byla vydána v roce 1982 (zastaralost názorů?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Široké spektrum společnost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Jejich přísný výběr podle mnoha ukazatelů (musely vykazovat dlouhodobý úspěšný růst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Zabývají se řízením společností z pohledu celého management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75f55"/>
                </a:solidFill>
                <a:latin typeface="Tw Cen MT"/>
              </a:rPr>
              <a:t>Hledání dokonalosti – Tom Peters a Robert Waterman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Je jim vytýkán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ěkteré data byly nepřesné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a většinu společností přišla slabší léta, i když byly prezentovány v knize jako „dokonalé“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ěkteré úspěšné společnosti se do hodnocení nedostaly, kvůli striktnímu dodržování ukazatelů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Hodnocené společnosti byly velké a měly dominantní postavení na trh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Předpoklady dokonalost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Hledání pomocí 7s (strategie, struktura, zaměstnanci, systém řízení, sdílené hodnoty, styl vedení, dovednosti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efinují oblasti, které musí management řeši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omocí nich identifikovali klíčové oblasti a vztahy mezi nim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Nalezli 8 těchto oblastí přispívajících k dokonalost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8 základních atributů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1. Motivace k jedná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naha udělat doje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Malé skupiny pracovníků, kteří přicházeli s řešením bez zbytečného papírová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raktické zařízení pro organizační změn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2. Blíže k zákazníkov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Učit se od lidí, kterým slouž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Kvalita, služby a spolehlivost – trvalá hodno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Dobré služby jsou výjimko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8 základních atributů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3. Autonomie a podnikavo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osilování vedoucích a inovátorů v rámci organiza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olná síť malých buněk ve velkých organizacích, bez omezování kreativ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4. Produktivita zásluhou lid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e kapitálové investice, ale postavení a zařazení lidí jako hlavní zdroj kvality a zisku z produktiv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racovníci jako zdroj myšlenek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8 základních atributů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5. Prosazování praktické stránky zaměření na hodno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Základní filozofie organizace přináší větší úspěch než technologie, kapitál a struktur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6. Zůstaňte věrni svému obor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ikdy nevlastněte podnik, který neumíte řídi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ejlepší výsledky dosahují společnosti, které zůstávají blízko činnosti, kterou znaj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8 základních atributů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7. Jednoduchá forma, nepočetný personá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Jednoduchá struktura organiza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Špičkový personál málo početný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8. Současně volno-pevné vlastnost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ejlepší společnosti jsou buď centrálně řízené, nebo decentralizované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tlačení autonomie k dýmům dílen nebo rozvojovým kolektivů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Centralisté kolem několika základních hodnot,které mají podle společnosti význa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Jack Welch (*1935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Vystudoval chemické inženýrstv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1960 nastoupil do oddělení plastů General Electric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Vystupuje ostře proti byrokraci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1968 se stává nejmladším generálním ředitel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řevzal společnost, která byla modelem moci amerických korporací a moderních manažerských techni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2:53:57Z</dcterms:created>
  <dc:creator>PC</dc:creator>
  <dc:description/>
  <dc:language>en-US</dc:language>
  <cp:lastModifiedBy>Pafča</cp:lastModifiedBy>
  <dcterms:modified xsi:type="dcterms:W3CDTF">2008-11-05T15:42:03Z</dcterms:modified>
  <cp:revision>29</cp:revision>
  <dc:subject/>
  <dc:title>Hledání dokonalosti – Tom Peters</dc:title>
</cp:coreProperties>
</file>