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283-8851-4FCD-B3A4-3366EC5E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E54-B8B8-4897-BEE9-BD76C985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C8C-2B0E-4235-BF22-9CC49CA8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8F2-E73D-4C97-9288-8F92858F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34D-CC59-4AEB-9BB7-E8212FF9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8BB-5822-42B7-9573-3485CC33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737-0C99-4CB6-9548-953658EB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F6C-F1FC-412B-9284-82664545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683-0CD2-45E6-8715-FC6DDB94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1FE-7893-46CC-A722-1277FC0D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200-4E85-4EEB-B799-0F4812E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0A1-F757-4872-AE26-BD6217E6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669C-84DF-4995-97F9-BA6B87DB98F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Etika v postmoderní době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iroslav Mašle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reza Žáčk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děžda Kaluž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Niektoré výsledky prieskum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oradie preferencií jednotlivých vysvetlení pojmu „korupcia“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neužívanie verejnej funkcie na získanie materiálnych a iných výho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Dávanie a prijímanie fin. alebo nefin. dar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Klientelizmus, známosti, rodinkárstv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Uprednostňovanie osoby alebo firmy na základe lojality k polit. stran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Až 80,4% sa vyjadrilo, že korupcia v SR je veľmi vážnym problémom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06440" y="17902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Za najväčší problém pri podnikaní považujú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Klientelizmus, protekcionizmu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Nedostatočný prístup k úvero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Korupc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íčiny korupčného správa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náme prípady korupcie vysokých štátnych funkcionár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Možnosť korupcie politikov, vyšetrovateľov a sudcov nedáva ohlasovateľovi záruku, že tento trestný čin bude potrestaný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ejasné a nejednoznačné pravidlá v rozhodovaní úradník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88920"/>
            <a:ext cx="822960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Dôvod, kde MSP využili korupčné praktik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Registrácia vozidiel a ST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Registrácia podniku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Vybavovanie priestorov na podnikani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ocedúry, pri ktorých využili MSP vplyv priateľov či príbuzných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Vybavovanie stavebného povole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Získanie pôžičk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Styk s daňovým úrado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Urýchlenie súdneho procesu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46,4% respondentov by podalo trestné oznámenie o korupcii, aby nebola ohrozená firma. Až 51,8% by nepodala, z obavy o vlastnú bezpečnosť a z nedôvery o vyriešenie prípadu súdnou cestou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Nástroje boja proti korupci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1.Zavedenie jasnej a prehľadnej legislatív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2.Prísne potrestanie skorumpovaných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3.Zameranie sa na morálku jednotlivcov a celej spoločnost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Kto by mal s bojom proti korupcii začať?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Vláda S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Každý sám u seb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RSR, súdy a prokuratúr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Až 69,1% si myslí, že zmena situácie ohľadom korupcie musí začať v ľuďoch a až potom v zmene zákonov. 36,4% uprednostňuje najprv zmenu zákonov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otikorupčná stratégia MSP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a žiadnych okolností nezobrať žiaden úplato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Vzdať sa zákazky v prípade nekalých praktí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a každého mať rovnaký mete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e potreby prostredia MSP autori identifikovali nasledovné progresívne prístupy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Organizované, tzv. „korporatívne“ iniciatív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Budovanie transparentnej firemnej kultúr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Spoločensko-ekonomický audit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Medializácia zápasu o transparentnosť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ytvorenie od štátu nezávislého mechanizmu zberu a spracovania informácií o prípadoch korupcie (profesné združenia, neziskové organizácie)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Verdana"/>
              </a:rPr>
              <a:t>Aktívne prístupy vytesňovania korup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Závery prieskum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äčšina majiteľov MSP v SR sa nechce zapájať do korupčných afér; pokladajú to za nákladné, neefektívne a často riskantné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Majiteľom a manažérom MSP chýbajú často základné informácie a podpora v znalostiach, ako čeliť korupčným praktiká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ýsledkom je zmierenie sa so situáciou, že korupcia je nevyhnutné zlo, ktoré je súčasťou podnika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iera do budúcna, že v komunite MSP existuje motivácia na hľadanie spôsobov v boji proti korupcii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utnová A., Seknička P. (2007)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Etické řízení ve firmě : nástroje a metody, etický a sociální audi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Lipovetsky G. (1999)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Soumrak povinnosti : bezbolestná etika nových demokratických čas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Šmajs J. a kol (2008)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Podnikatelská a environmentální eti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Podnikatelská eti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ormy a pravidla vyjadřující obecné názory li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růnik mezi etikou a ekonomiko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Konflikt mezi vlastním sebezájmem a zájmy ostatních li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ožnost vyjádřit se k neřešeným problémům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polečenská objednáv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podobování světa - glob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Ekonomické výhody podnikatelské etik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nížení transakčních náklad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sílení loajality zaměstnanc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ytváření a posilování image firm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silování spokojenosti zákazník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řispívání k loajalitě investor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říspěvek k zisk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Kultivace podnikatelského prostře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Základní přístu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Deskriptivní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Normativní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Meta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Aplikovaná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Etická horeč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etická horečka bez hran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vlna obchodní etiky se rozšířila z US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kodexy a charty – nejdříve považovány za překážky ekonomické výkonnosti, nyní za nástroj řízení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Etika v obchodní prax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ocial corporate responsibility (závazky nejen k akcionářům, ale k celému kolektivu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dnik sám musí zformulovat své principy a praktiky – kodexy a prohlášen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Identita podniku -&gt; morální norm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Etika firmu neomezuj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Prípadová štúdi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Význam: corruption = community rupture = previnenie proti spoločenstv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orupcia spoločnosti ubližuje, rozkladá ju, ohrozuje ju ako celok, porušuje etický kódex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podoby: obálky, protislužby, úľavy, „pozornosti“,..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Korupcia vo SV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Podľa výskumu Svetovej banky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spomaľuje ekonomický rozvo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ohrozuje sociálny systém a budovanie        občianskej spoločnost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pôsobí protí prirodzeným trhovým mechanizmom </a:t>
            </a:r>
            <a:r>
              <a:rPr b="0" lang="sk-SK" sz="2500" spc="-1" strike="noStrike">
                <a:solidFill>
                  <a:srgbClr val="ffffff"/>
                </a:solidFill>
                <a:latin typeface="Verdana"/>
                <a:ea typeface="Arial"/>
              </a:rPr>
              <a:t>→ vysoké cen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  <a:ea typeface="Arial"/>
              </a:rPr>
              <a:t>Rozsiahle korupčné škandály vo SVE upozornili na vážnosť tohto problém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Korupcia v prostredí MS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MSP sú často konfrontovaní na rôznych úrovniach spoločnosti s korupciou a jej formami (úplatky za udelenie rôznych povolení, potvrdení a licencií, provízie, vydieranie, daňové úniky,...)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Nadácia Integra uskutočnila prieskum v prostredí MSP na Slovensku na podporu etického podnikania a na odhalenie korupčných praktík; sledovali sa provízie, vydieranie a rodinkárstvo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Dotazník s otázkami v 3 okruhoch: osobné postoje ku korupčným praktikám, prax s ktorou sa podnikatelia stretávajú, riešenie a východiská z tohoto problému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Miroslav Maslej</cp:lastModifiedBy>
  <dcterms:modified xsi:type="dcterms:W3CDTF">2008-11-03T19:44:44Z</dcterms:modified>
  <cp:revision>12</cp:revision>
  <dc:subject/>
  <dc:title>Business 1 Template</dc:title>
</cp:coreProperties>
</file>