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435-8CD3-4364-9D60-6546E0DB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192-9333-44CF-A778-53ECD708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C86-C693-4A61-93E1-78EC33D6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B28-A91A-4942-A83A-CF6979BF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AE5-C850-431A-8198-817822B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3E2-4531-4E1D-920D-E2B5CB5C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530-A77C-4C02-AA34-28F6924D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37C-C140-4577-8BC9-C2D6F6D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1D7-D247-4905-9998-DC20134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097-0782-420B-894B-347FD946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196-B694-41B4-A5BD-8845A8C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259-BDA0-40B6-AE33-82A5C7B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DCB-5E5B-4356-9AD8-AB6464A10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 masové velkovýroby k inovativnosti a hodnotě pro zákaz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Lucie Bieli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artin Li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Simona Jakubc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2 Týmová práce ve výrobě i služb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dinou a nejdůležitější příčinou zpoždění vývojových činností je absence představitelů hlavních, vnitřních i vnějších, funkcí na vývojových projektech, kterých by se měli účastnit od počátku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unkční propojení, „život“ pohromadě, komunikace, připojení vnějších čini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3 Podporujte pilotní projekt každého nápa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říliš se nepřipravujte..spousta lidí, kteří chtějí podnikat, se snaží všechno vědět. Nikdy nic neudělají. Moje idea je.. Vyjít na to zatracené hřiště a začít kopat do míče…měl jsem jenom inspiraci. O kopané jsem toho moc nevěděl. Nevěděl jsem ani,že existují dvě velikosti míčů na kopanou.. Takže další inspirace je 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jít a začít něco děl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Don Benne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( první muž s amputovanou noho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kt. Vylezl na Mount Rainier)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4 „Tvůrčí výměna tvrdých míčů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: Věci zjevné a skry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– věcí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š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ní to náš vynález, ale pyšníme se tím, že jsem ho ukradli těm nejlepší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éhavé hledání jedin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5 „Jedna paní povídala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mpaň ústním podání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ledání příjemců milujících inovací ( ne nutně velc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6 Podporujte zapálené bojovník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spěšný člověk – zaujetí vydrží zesměšň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stnosti přeborníka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sed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deal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ychytra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zdržení překáž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měs lásky a nenávisti s podříze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žeři jako vedoucí bojovní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7 „Vzorová“ inovace-pra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čelová 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hledávání a oslavování nováto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aložení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vorany sláv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každé jednot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mě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ěžování podpůrných od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8 Rychle odstraňujte chy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OŽITOST + NUTNÁ RYCHLOST = VÍC CHY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vzbuzování k chyb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íň hanby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é chybován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e pouče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ytřejší k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chyby (neřeší 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ranatý kolík do kul. otvoru“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šování 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3284640"/>
            <a:ext cx="432000" cy="288720"/>
          </a:xfrm>
          <a:prstGeom prst="rightArrow">
            <a:avLst>
              <a:gd name="adj1" fmla="val 50546"/>
              <a:gd name="adj2" fmla="val 37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716280"/>
            <a:ext cx="504720" cy="287280"/>
          </a:xfrm>
          <a:prstGeom prst="rightArrow">
            <a:avLst>
              <a:gd name="adj1" fmla="val 50278"/>
              <a:gd name="adj2" fmla="val 436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4941720"/>
            <a:ext cx="432000" cy="287640"/>
          </a:xfrm>
          <a:prstGeom prst="rightArrow">
            <a:avLst>
              <a:gd name="adj1" fmla="val 56907"/>
              <a:gd name="adj2" fmla="val 375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566100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-9 Stanovte měřitelné cí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0 Vypěstujte v korpor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hopnost ino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ledání nových náp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ruchy jako příleži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ivníky proměnit v partn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učte se milovat změnu: Nový pohled na roli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doucího – na všech úrovn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vládnout paradox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ástroje vedoucího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ypracovat inspirativní vi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Řídit příkla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aktikovat viditelné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dení pomocí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ocněných lidí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Věnujte pozornost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Skloňte se před řadovými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racovní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ředávejte odpovědnost a pravomoc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Odbouráním byrokracie usilujte 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„horizontální“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ákladní myšlenk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aždého hodnoťte podle jeho lásky k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mě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ěstujte pocit naléha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: Zvládnout parado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a – laborato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avní parad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vnitřní s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stálé zm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ovýr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elkovýrobu umožnilo rozšíření železnice a telegrafu v nejvyspělejších zemích světa v polovině 19. stole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 přelomu 19. a 20. století začínají vznikat velké společnosti (U.S. Steel, General Electric, General Motors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tandardizace a specializace výroby vedla k výrobě v masových měřítcích(Ford, Baťa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vyšovaní produktivity práce a snižování nákladů na materiál vedlo k zvyšování efektivity plynoucí z velkovýro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: Vypracovat inspirativní viz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á sílu, stane se naším živo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statečně obecn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gující na dnešní a zítřejší potře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irat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sná a vyzýva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rážející pružnost podni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il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ko maj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postavena na drobnost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ýt v souladu s inovačními c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: Řídit příkla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mocí kalendáře – způsob využití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o povýší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: Praktikovat viditelné 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e z terén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celá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l: omezit zkreslení informací a umožnit lepší rozh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: Věnujte pozornost! (Více naslouche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uvení a dávání příkaz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ažované 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: Skloňte se před řadovými pracovní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rdinové organ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vomoc jed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: Předávejte odpovědnost a pravomoc (delegu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člivě zvážit co? a na koh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 předávání opravdov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álený „delegá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pravdu nezasah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: Odbouráním byrokracie usilujete o „horizontální“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í horizontální spolupráce řadových pracov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ažujte se za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měňte lidi, kteří usilují o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: Každého hodnoťte podle jeho lásky ke změ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zpoč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 přesně jste změnili?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čera lépe než d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: Pěstujte pocit naléha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íce rychlejších změn – pocit naléhav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stranění strachu: „Být při tom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ters, Tom. Prosperita se rodí z chaosu. Praha: Pragma, 2001. ISBN: 80-7205-816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989000"/>
            <a:ext cx="3097080" cy="1730520"/>
          </a:xfrm>
          <a:prstGeom prst="wedgeEllipseCallout">
            <a:avLst>
              <a:gd name="adj1" fmla="val 62662"/>
              <a:gd name="adj2" fmla="val 36879"/>
            </a:avLst>
          </a:prstGeom>
          <a:solidFill>
            <a:srgbClr val="d8d4ba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li ti velcí vůbec někdy výkon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o je velké je dobré, co je větší je lepší a co je největší je nejlepší. Lepší je hospodaření ve velkém měřítku – americký příst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práva o hospodaření U.S. Steel (1930) konstatovala: Společnost je veliký, roztažený a nečinný kolos. (výrobní operace jsou špatně koordinovány, nejsou dostatečně známy náklady a relativní výnosnost tisíců prodávaných polož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dseda správní rady General Motors ve 30. letech uved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dá se, že prakticky všechny naše činnosti trpí ochablostí, která je následkem našich velkých rozměrů. Týká se to tolika lidí a vyžaduje to tak ohromné úsilí, když se má zavést něco nového,že nový nápad se pravděpodobně bude považovat za nevýznamný ve srovnání s úsilím, které je nutné vynaložit na jeho prosazení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rederic Scherer studoval 15 závodů které dříve vlastnily velké společnosti, závody si později odkoupili manažeři, silný nárůst zisku, až na jeden zá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vody ke zlepš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yužití příležitostí ke snížení nákladů, které dříve byly nepovšimnu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arnotratnost byla nahrazena střídmos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nížení stavu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hrazení operací počítač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hodnocení rozhodnutí vyrobit nebo koup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dstranění složité byrokratické struk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vedení přísných kontrol inventá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é podniky X malé podn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ysoké náklady na vnitřní koordina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efektivní využití pracovní s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lé firmy lépe a rychleji reagují na potřeby vybraných skupin zákazníků a zaměřují se na okrajové segmenty tr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olečnosti s hromadnou výrobou se musí zaměřit na široký trh, některé segmenty trhu budou nuceni přenechat konkuren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doba vítě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ochá(organizační struktura má méně úrov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kost je prio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kytovat zákaznický ser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nohem rychlejší v inov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stříc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užívat dobře vyškolené lidi jako hlavní prostředek ke zvýšení hodnoty a podíl na zisku a spoluúčast lidí, kteří zvyšují hodn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ovace musí probíhat svižným temp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vestujte do aplikací - skromné začát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líčové strategi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sazujte týmovou práci ve výrob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každý pilotní proje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bojte se „tvůrčí výměny tvrdých míčů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Jedna paní povídala“ – marketingový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ktiky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zapálené bojo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agementu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zorová“ inovace- prax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dpor. inovaci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ychle odstraňujte chy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novte měřitelné cíle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vá tvář firmy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ypěstujte v korporaci schopnost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 Začátky mohou být skromn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lcí hoši“ – velké, složité projekty – prohráva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í hoši“ – rychle jedou a často také prohrávají – revol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lomte návyk „ velkého myšl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ý začátek: vyžaduje skutečnou autono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é financování a jednoduchý apa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starty – malé ztr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4:00:41Z</dcterms:created>
  <dc:creator>Lucie Bieliková</dc:creator>
  <dc:description/>
  <dc:language>en-US</dc:language>
  <cp:lastModifiedBy>Lucie</cp:lastModifiedBy>
  <dcterms:modified xsi:type="dcterms:W3CDTF">2008-11-11T06:48:05Z</dcterms:modified>
  <cp:revision>38</cp:revision>
  <dc:subject/>
  <dc:title>Od masové velkovýroby k inovativnosti a hodnotě pro zákazníka</dc:title>
</cp:coreProperties>
</file>