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59F-DFBD-47FC-AA8A-95610E4A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9DE-0149-4AAC-BCD0-37D016AB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5F6-0C7F-4EA9-B565-B6971F7C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AB4-95D9-4A15-93E0-E6B6A470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34A3-FAD3-4D4D-87EB-5C804EB7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D8D3-9A8F-4238-A7BD-F812ED3C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9992-E118-4E2E-BB23-BFB78147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AE62-ADC2-4855-8DEE-090D42F9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8F1E-1F57-473C-AE84-88324D84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D75D-0152-46D6-A7C7-FC4B0305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B641-4F66-473F-AE1A-0D389D8A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A1F-366A-4AFB-B438-E4F85AB7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EE6A-91B3-4CCC-BFA0-7DBFCE95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F391-9B37-4506-AF2B-8765CB8F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B4A5-6FBB-4E8A-9EE8-F0230FF4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52E2-BA72-4B8E-ADF4-599070F6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FEA5-B5E5-402B-9CC7-25817E02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C2C-D8A7-4670-8E74-76334F56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780-ECD1-4B4B-9959-C9D33537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DFF-E732-4FB2-96AC-0E097319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3C0-F0D9-4564-9552-C0D7A782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158-8878-4F5A-8353-5EDC8396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9BD-44D1-494C-993F-532CBA66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700-C32B-4E35-9107-FC2E177C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0099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8736-F3BC-448D-A288-6566844D200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7E01-38E6-40A8-AAF3-AB029A3DA3C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Analýza praxe managementu úspěšných amerických společnos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ucie Netí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iří Richt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osef Trubačí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11.11.2008 Brn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Publix: Práce potěšení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loridská síť supermarketů založená Georgem Jenkinse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em je přístup k pracovní sí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a šedesátiletou existenci nebyl propuštěn ani jeden zaměstnane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Publix: Práce potěšení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 práce se zaměstnanci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Základ v potřásání rouko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šichni začínají jako nosiči pytl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ty na pokladnách o třetinu vyšší než druhý nejlépe platící konkur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oncept společník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ětšina společnosti vlastněna zaměstnanc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láda nad vlastním obchod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inkerton: Lekce z prověřová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inkertonova Národní detektivní agen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braham Lincoln, Jasse James, Butch Cassidy, Sundance Ki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istorický klíčová role náboru zaměstnanc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inkerton: Lekce z prověřová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sady prověřování zaměstnanců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Žádost, pohovo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est zkoumající poctivost a ochotu dodržovat podniková pravidl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lliView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acovní anamnéza, kriminální činnost, dopravní záznamy, zkoumání bankovních účtů, zkoumání likvidity, veřejné regist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99"/>
                </a:solidFill>
                <a:latin typeface="Verdana"/>
              </a:rPr>
              <a:t>V žebříčku nejrespektovanějších firem světa vedou americké společnost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General Electric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Microsoft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IBM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Coca-Cola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Dell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Citigroup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Wal-M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Hewlett-Packard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Procter 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&amp;</a:t>
            </a: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 Gambl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218592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znik 1837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ýrobce svíček William Procter a výrobce mýdel James Gamble spojili své síly a založili firmu Procter &amp; Gamb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Verdana"/>
              </a:rPr>
              <a:t>založena v americkém státě Ohio ve městě Cincinnati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de-DE" sz="2600" spc="-1" strike="noStrike">
                <a:solidFill>
                  <a:srgbClr val="ffffff"/>
                </a:solidFill>
                <a:latin typeface="Verdana"/>
              </a:rPr>
              <a:t>o druhé světové válce společnost expandovala do Evropy a dále pak do celého světa.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1296720" cy="127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164360" y="260280"/>
            <a:ext cx="129708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v roce 2005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trhy ve více než 160 zemíc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íce než 100 000 zaměstnanc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výrobní závod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rakovnická Rakona, rumunský Temešvár, ruský Novomoskov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ukrajinských Borispol, Budapešť a Varšav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32720" y="1700280"/>
            <a:ext cx="1807920" cy="160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76500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Procter 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&amp;</a:t>
            </a: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 Gam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odzim 2000 šéfem Alan George Lafle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řijdi na to co spotřebitelka chce a dej jí to“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oustředil se na klíčové aktiv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ývoj značek nejvíce se podílejících na obratu firm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ětšina aktivit kolem Ariel, Pampers, Always, Pantene, Pringles, Lenor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během pěti let třikrát větší zisk a dvakrát vyšší hodnota akci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cílené akvizice – produkty a nápady vyvinuté i cizími zdroj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inovace a nové produk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inspirace u zákazníků - „Zákazník je pán“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kamery v prádelnách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lehčí otevírání prášků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dominantí pozice = manipulace s cenami dle potřeb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koupě Gillette – trh s výrobky pro muž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020000" y="5205240"/>
            <a:ext cx="1512720" cy="839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řístup k </a:t>
            </a:r>
            <a:r>
              <a:rPr b="1" lang="cs-CZ" sz="2600" spc="-1" strike="noStrike">
                <a:solidFill>
                  <a:srgbClr val="ffffff"/>
                </a:solidFill>
                <a:latin typeface="Verdana"/>
              </a:rPr>
              <a:t>zaměstnancům 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hlavním důvodem, že je firma špičkou ve svém obor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zaměstnanci nejdůležitější součástí podnik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mezinárodní kariéra, povýšení, odpovědnost od prvního dn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nadstandartní péče – nejen mzdy ale i různé benef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99"/>
                </a:solidFill>
                <a:latin typeface="Verdana"/>
              </a:rPr>
              <a:t>Nepeněžní výhody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enzijní připojiště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kupinová životní pojist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ojištění na cestová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o roce možnost nákupu akcií s přispění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nadstandartní medicínské centru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masážní centru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 kantýně ze 2/3 dotovaná strav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ýrobky za zvýhodněné cen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cca 1000Kč/rok lístky na sport a kultur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Poděkován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ěkujeme za pozornost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tor pro vaše dotazy, náměty a připomínky. A rovněž pro další zcela jistě natěšené prezentující…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Literatur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ETERS, T. J., WATERMAN, R.H. Hledání dokonalosti. Praha: Svoboda, 1992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ONNELLY, J.H. Jr., GIBSON, J.L., IVANCEVICH, J.M. Management. Praha: Grada Publishing, 2004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ELCH, J., BYRNE, J. A. Jack rovnou k věci. Praha: Pragma, 2006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ttp://www.procter-gamble.cz/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Osm atributů vynikajících společností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tivace jedn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Blíže zákazníkov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utonomie podnik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duktivita zásluhou lid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Osm atributů vynikajících společností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azování praktické stránky, zaměření na hodno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ůstaňte věrni svému obor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ednoduchá forma, nepočetný personá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oučasně volno-pevné vlast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řehodnocení strategie u General Electr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nerální ředitel Jack Welc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měny navzdory ziskov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ransformace management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ize sdílených hodno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řehodnocení strategie u General Electr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sady J. Welch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éně řídit znamená lépe řídi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ytvořte vizi a pak uhněte z ces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dukujte, dokud není příliš pozdě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rzda: zbavte se svého tuku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dstraňte hranice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oužijte e-business jako poslední hřebík do rakve byrokraci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51:10Z</dcterms:created>
  <dc:creator>Jiří Richter</dc:creator>
  <dc:description/>
  <dc:language>en-US</dc:language>
  <cp:lastModifiedBy>Jiří Richter</cp:lastModifiedBy>
  <dcterms:modified xsi:type="dcterms:W3CDTF">2008-11-11T07:32:42Z</dcterms:modified>
  <cp:revision>40</cp:revision>
  <dc:subject/>
  <dc:title>Přirozený a umělý řádc</dc:title>
</cp:coreProperties>
</file>