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6.jpeg" ContentType="image/jpeg"/>
  <Override PartName="/ppt/media/image4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6C23-23B7-47FE-9FD0-AD9DB128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D2FA-BC66-433D-8C32-B66EBD78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65A6E-A864-418C-8288-950AF9FE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707C2-59D1-4208-BE70-14C60338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252E7-FEB9-4397-AA2F-7CF67DF4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ABB20-8942-4891-A098-52646840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D8E08-3C62-4299-89CD-A0D86A0D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4116A-80F9-4692-ADF6-C7E79CD5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BFC9D-55D1-4057-A6F2-8584FE90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DB30C-4F9F-4BAB-AFAC-523A9747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09B54-7ECB-4760-A161-1D31F60F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CC3B-2987-46CA-8F57-9187CE9A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948-05EF-4731-B3BA-E138C58F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A061-0B62-4A95-8571-83F899FD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42B8-216F-438E-83C8-110A6D37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557A-3458-4C19-8325-1622ED47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3042-D639-476C-822F-3572393D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1818-5939-4FBD-A8E5-44F44B07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9AA8-D295-4411-8202-D224A4A1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FB00-7721-4418-A303-4C14D776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249-1D4B-4AD0-9884-970BF44B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B306-ED60-4508-AD4B-2FA5FA4A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2DC8-8BEC-42C5-A0D2-CC8ABED1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80E0-0639-41CE-AA0D-B704767B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A177-AE48-4750-B354-E2DD946C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026E-12DB-432F-B4B6-017A4652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A8F25-6834-47A2-B0E7-0178AC99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D5FB9-ED8A-4459-9572-FFA26F2A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40485-A6D2-4372-A57D-34D1C5B0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91872-C4B1-4D41-91BE-44FBF90E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A47C8-EED5-4E42-9554-52EB07C7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42D-3E06-4ED0-A1C3-8736F0E5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D1A3F-A5E2-41BF-A530-FB8531C0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42C8B-F9B1-4BC2-81DF-DEBC5928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04311-5D26-4EBF-93FB-D7732519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D3CE3-A544-4971-B721-9002BA0D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3F036-7A52-4B76-B159-8750B6BA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C64A9-1431-46F2-B4AA-AC03C42B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489F5-C178-4215-87AB-64406F84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E805C-79FA-416E-90DF-DCDCE7DB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3913E-6CAA-43C9-A454-48F1797D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E6A40-01DD-4300-97F6-AD3A1160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4558-6482-4A6C-9593-1C119245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54E13-A5CB-47F9-BA44-F6B3A6C1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9F561-1751-4624-B43B-1BB4896A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1918F-C673-4A96-BE02-20B61576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051BE-3E6C-4F68-A34E-DECCE88F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9B08A-6653-43D8-8511-F86D49A3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E2341-338C-4BE0-8C92-981D74AB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BA229-A8C9-495F-82CA-F8F121D3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45015-8E84-4CF9-869B-33DA1614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F8CA1-EC7B-4479-9F0B-408C85C7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E9D1D-E03C-4311-A9BF-FAF54F25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54B-FC37-47A1-B3A0-16B1A809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DFAA2-BAF6-4FB0-9F4C-6A7BE21E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123B9-6B07-45EF-BADA-CDC49E9B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3A747-64D5-4ED1-BA73-D8EA62C1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64E90-96CC-41FF-8553-BC87AC3A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B8711-2555-4EE6-8BDE-86978DB0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FEDF9-F402-443A-9412-DDB61610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68365-C3E3-4E88-B744-3E859642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0A46E-F02E-477E-904A-0B2D3015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6D050-F0A3-4A13-916F-3A44A2FF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D84DC-5DDD-484C-8FB7-9A458051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05A-A4BB-4D68-81B9-98D9846C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A12D5-67C8-42FD-9B32-A2A61AB8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6A0B6-7F67-4869-9BBD-3E7EBF8C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8DB28-8432-4000-B7EE-41FF472C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37DF7-F32E-4763-A831-0CD46CCC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716DA-D8E8-4113-A62D-4EC67132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85AD7-AA4C-4F6F-A076-09C5BC94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D99B9-7B53-4A86-ABEE-537C69FE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19D06-1A1A-4C6C-8559-194B9FDA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238CF-3913-4573-8E28-A0CABAA8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C826B-CFA7-49AD-898A-E4FAFDB1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9B05-ECA4-43AE-975F-B1B1B85E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A8DF8-DEE8-4B08-8E7A-316DE39B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6635A-167D-49CC-A991-0232E0F9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8ADCC-82EB-4263-ADF7-C8B546CA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D0A56-6875-4887-B97C-D09052E2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6A3EA-33A6-4A7F-8507-1300E28D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A0D90-E140-40A6-ACD2-A74FC5E0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99A95-09DA-42DB-A73F-D5098FD8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D980E-2F0B-46A8-A9E0-E9FC8FC4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66677-AAD2-4CA6-B82A-F35C13E3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4ABFB-CC42-4678-88E4-0CDCA905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0B4-DADF-4DB7-91AA-94596B6C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396EF-4702-49A8-B49F-B66ECAC1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346E8-49BF-4F32-B7DD-F9596D56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BB735-C3E2-4685-A9FD-853BD822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C26E6-8F56-42E9-8AFF-54DCE78A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8354A-C51D-451C-9663-D30E2EFB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FB1B9-BA94-46B1-BBAA-FE0D3EC3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F8F42-C512-4996-8143-05078408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E8AF4-FFFB-4CCE-A5C5-8A9A18B9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B2675-CE2A-4D26-B912-8B4E841B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976B8-FC8F-4239-B6B4-DFAC4875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7E8A-9104-4D4B-81A2-FBEFD86E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F9CAD-B7C0-4967-AEF0-DCBAED3D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31D8D-6A8F-4B56-B8D1-2C2C5CED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20CE8-7C08-48E0-96EE-90E19200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606D3-7A6F-4D28-92F5-2ACBFA6A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7C68B-1585-4698-8EEC-FF22419C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52CF0-D05D-4DC8-9DF1-572AAEDD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8ABFD-ABE5-46A4-B5D9-089931CF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04343-4783-4A9A-9C3A-A06288CF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2366C-8BAE-45CA-8673-253BBDB5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D5F67-A34F-4384-9BB5-56EC6030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1B10-0BE4-43DA-B75D-B773668D16D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ovací čára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9EA3-8EAA-4FCC-A2F0-0C2FCAD368A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8B6B-1045-4A63-9F75-48141E3D042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Přímá spojovací čára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FEEA-100B-49CB-B6CB-D5951BD6842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Přímá spojovací čára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Přímá spojovací čára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8744-4B00-40F0-88DE-A0ACFFF166D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4AF6-2F24-44B1-967A-3A1DBBE0E93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Přímá spojovací čára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Přímá spojovací čára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0A44-87EC-4A6B-A820-A1136DCCB8E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0476-5908-4EFF-AA59-11468B8D93D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3043-46F0-4068-B957-81B215E7068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Nadpis 1" descr=""/>
          <p:cNvPicPr/>
          <p:nvPr/>
        </p:nvPicPr>
        <p:blipFill>
          <a:blip r:embed="rId2"/>
          <a:stretch/>
        </p:blipFill>
        <p:spPr>
          <a:xfrm>
            <a:off x="85680" y="2475000"/>
            <a:ext cx="866160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43329"/>
                </a:solidFill>
                <a:latin typeface="Franklin Gothic Book"/>
              </a:rPr>
              <a:t>Monika Lemonová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43329"/>
                </a:solidFill>
                <a:latin typeface="Franklin Gothic Book"/>
              </a:rPr>
              <a:t>Jozef Barnia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Nejedná se o klasické pyramidy </a:t>
            </a: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(Ředitel- manažeři- dělníci…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ZP - pro byrokracii není míst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rychlost, žřetelnost, informační tok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Tvůrčí týmy, skupin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-  </a:t>
            </a:r>
            <a:r>
              <a:rPr b="0" lang="cs-CZ" sz="3600" spc="-1" strike="noStrike">
                <a:solidFill>
                  <a:srgbClr val="4e3b30"/>
                </a:solidFill>
                <a:latin typeface="Franklin Gothic Book"/>
              </a:rPr>
              <a:t>Pavoučí síť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34" name="Volný tvar 3"/>
          <p:cNvGrpSpPr/>
          <p:nvPr/>
        </p:nvGrpSpPr>
        <p:grpSpPr>
          <a:xfrm>
            <a:off x="6248520" y="5181480"/>
            <a:ext cx="1761840" cy="1225800"/>
            <a:chOff x="6248520" y="5181480"/>
            <a:chExt cx="1761840" cy="1225800"/>
          </a:xfrm>
        </p:grpSpPr>
        <p:pic>
          <p:nvPicPr>
            <p:cNvPr id="435" name="Volný tvar 3" descr=""/>
            <p:cNvPicPr/>
            <p:nvPr/>
          </p:nvPicPr>
          <p:blipFill>
            <a:blip r:embed="rId3"/>
            <a:stretch/>
          </p:blipFill>
          <p:spPr>
            <a:xfrm>
              <a:off x="6248520" y="5181480"/>
              <a:ext cx="176184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6357960" y="5214960"/>
              <a:ext cx="16430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37" name="Picture 2" descr="C:\Program Files (x86)\Microsoft Office 2007\MEDIA\CAGCAT10\j0233018.wmf"/>
          <p:cNvPicPr/>
          <p:nvPr/>
        </p:nvPicPr>
        <p:blipFill>
          <a:blip r:embed="rId4"/>
          <a:stretch/>
        </p:blipFill>
        <p:spPr>
          <a:xfrm>
            <a:off x="6715080" y="2786040"/>
            <a:ext cx="2214720" cy="2249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Odstranění zbytečných nákladů velkovýrob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Kontrola FN není důležitá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ronájem hal, kanceláří, továren, sklad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Zaměstnanci na dočasný prac. poměr (účetní)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Málo fix. pracovník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Motivace pracovníků místo kontrol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experimentován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Jak se mění odměny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ejvětší podíl na zisku mají řešitelé a zprostředkovatelé, ne vlastníci VF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odnota podniku = nehmotná aktiv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VZP nelze zakoupit o nic snadněji než kvalifikované a talentované jedinc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ejde o pobočk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Ztrácí význam země původu zbož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nanční i intelektuální kapitál odkudkoliv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dukt           práce lidí v mnoha zemích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lužby  související se specializovaným řešením problému  (marketing, konzultace, finance…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Je rovno 3"/>
          <p:cNvSpPr/>
          <p:nvPr/>
        </p:nvSpPr>
        <p:spPr>
          <a:xfrm>
            <a:off x="2571840" y="3500280"/>
            <a:ext cx="571320" cy="285840"/>
          </a:xfrm>
          <a:prstGeom prst="pi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Američan si koupí automobil Pontiac – General Motors = 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20 000Usd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Z toho: 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Jižní korea 6000Usd Jižní Korea – práce, montáž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Japonsko 3500 (motor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Německo 1500 ( návrh karoserie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Tchajwan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Singapur         800 (malé komponenty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Japonsko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Británie 500 (reklama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Irsko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Barbados      100 (zpracování dat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Zbytek: 8000 - právníci, bankéři, stratégové, lobbisté, pojišťovny, akcionáři po celé Americ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47" name="Pravá složená závorka 3"/>
          <p:cNvGrpSpPr/>
          <p:nvPr/>
        </p:nvGrpSpPr>
        <p:grpSpPr>
          <a:xfrm>
            <a:off x="2262240" y="3170160"/>
            <a:ext cx="474480" cy="1116000"/>
            <a:chOff x="2262240" y="3170160"/>
            <a:chExt cx="474480" cy="1116000"/>
          </a:xfrm>
        </p:grpSpPr>
        <p:pic>
          <p:nvPicPr>
            <p:cNvPr id="448" name="Pravá složená závorka 3" descr=""/>
            <p:cNvPicPr/>
            <p:nvPr/>
          </p:nvPicPr>
          <p:blipFill>
            <a:blip r:embed="rId3"/>
            <a:stretch/>
          </p:blipFill>
          <p:spPr>
            <a:xfrm>
              <a:off x="2262240" y="3170160"/>
              <a:ext cx="4744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2357280" y="3220920"/>
              <a:ext cx="10188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50" name="Pravá složená závorka 4"/>
          <p:cNvSpPr/>
          <p:nvPr/>
        </p:nvSpPr>
        <p:spPr>
          <a:xfrm>
            <a:off x="2428920" y="3143160"/>
            <a:ext cx="285840" cy="92880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928800"/>
              <a:gd name="textAreaBottom" fmla="*/ 921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16200" y="10800"/>
                  <a:pt x="21600" y="10800"/>
                </a:cubicBezTo>
                <a:cubicBezTo>
                  <a:pt x="162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ravá složená závorka 5"/>
          <p:cNvSpPr/>
          <p:nvPr/>
        </p:nvSpPr>
        <p:spPr>
          <a:xfrm>
            <a:off x="2357280" y="4643280"/>
            <a:ext cx="214560" cy="500400"/>
          </a:xfrm>
          <a:custGeom>
            <a:avLst/>
            <a:gdLst>
              <a:gd name="textAreaLeft" fmla="*/ 0 w 214560"/>
              <a:gd name="textAreaRight" fmla="*/ 77400 w 214560"/>
              <a:gd name="textAreaTop" fmla="*/ 5400 h 500400"/>
              <a:gd name="textAreaBottom" fmla="*/ 495000 h 5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2"/>
          <a:stretch/>
        </p:blipFill>
        <p:spPr>
          <a:xfrm>
            <a:off x="500040" y="1500120"/>
            <a:ext cx="4284720" cy="3786120"/>
          </a:xfrm>
          <a:prstGeom prst="rect">
            <a:avLst/>
          </a:prstGeom>
          <a:ln w="0">
            <a:noFill/>
          </a:ln>
        </p:spPr>
      </p:pic>
      <p:pic>
        <p:nvPicPr>
          <p:cNvPr id="453" name="Nadpis 4" descr=""/>
          <p:cNvPicPr/>
          <p:nvPr/>
        </p:nvPicPr>
        <p:blipFill>
          <a:blip r:embed="rId3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54" name="Ovál 5"/>
          <p:cNvSpPr/>
          <p:nvPr/>
        </p:nvSpPr>
        <p:spPr>
          <a:xfrm>
            <a:off x="500040" y="2071800"/>
            <a:ext cx="3000240" cy="1428480"/>
          </a:xfrm>
          <a:prstGeom prst="ellipse">
            <a:avLst/>
          </a:prstGeom>
          <a:noFill/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5" name="Ovál 6"/>
          <p:cNvSpPr/>
          <p:nvPr/>
        </p:nvSpPr>
        <p:spPr>
          <a:xfrm>
            <a:off x="500040" y="3643200"/>
            <a:ext cx="3571920" cy="1643040"/>
          </a:xfrm>
          <a:prstGeom prst="ellipse">
            <a:avLst/>
          </a:prstGeom>
          <a:noFill/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BlokTextu 7"/>
          <p:cNvSpPr/>
          <p:nvPr/>
        </p:nvSpPr>
        <p:spPr>
          <a:xfrm>
            <a:off x="571680" y="5357880"/>
            <a:ext cx="42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Franklin Gothic Book"/>
              </a:rPr>
              <a:t>Celkový pohľad na Zlín a spoločnosť Baťa, 1935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BlokTextu 8"/>
          <p:cNvSpPr/>
          <p:nvPr/>
        </p:nvSpPr>
        <p:spPr>
          <a:xfrm>
            <a:off x="5572080" y="16430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Franklin Gothic Book"/>
              </a:rPr>
              <a:t>Koncern Baťa, a.s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8" name="BlokTextu 9"/>
          <p:cNvSpPr/>
          <p:nvPr/>
        </p:nvSpPr>
        <p:spPr>
          <a:xfrm>
            <a:off x="5643720" y="25718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Franklin Gothic Book"/>
              </a:rPr>
              <a:t>Domy pre zamestnancov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9" name="Picture 3" descr=""/>
          <p:cNvPicPr/>
          <p:nvPr/>
        </p:nvPicPr>
        <p:blipFill>
          <a:blip r:embed="rId4"/>
          <a:stretch/>
        </p:blipFill>
        <p:spPr>
          <a:xfrm>
            <a:off x="5072040" y="4143240"/>
            <a:ext cx="2643120" cy="2452680"/>
          </a:xfrm>
          <a:prstGeom prst="rect">
            <a:avLst/>
          </a:prstGeom>
          <a:ln w="0">
            <a:noFill/>
          </a:ln>
        </p:spPr>
      </p:pic>
      <p:sp>
        <p:nvSpPr>
          <p:cNvPr id="460" name="Rovná spojnica 15"/>
          <p:cNvSpPr/>
          <p:nvPr/>
        </p:nvSpPr>
        <p:spPr>
          <a:xfrm flipV="1">
            <a:off x="3500280" y="1999800"/>
            <a:ext cx="2071800" cy="785880"/>
          </a:xfrm>
          <a:prstGeom prst="line">
            <a:avLst/>
          </a:prstGeom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Rovná spojnica 17"/>
          <p:cNvSpPr/>
          <p:nvPr/>
        </p:nvSpPr>
        <p:spPr>
          <a:xfrm flipV="1">
            <a:off x="4071960" y="2999880"/>
            <a:ext cx="1643040" cy="1465560"/>
          </a:xfrm>
          <a:prstGeom prst="line">
            <a:avLst/>
          </a:prstGeom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Obláčik 27"/>
          <p:cNvSpPr/>
          <p:nvPr/>
        </p:nvSpPr>
        <p:spPr>
          <a:xfrm>
            <a:off x="7358040" y="4500720"/>
            <a:ext cx="1571760" cy="1000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3" name="Obláčik 28"/>
          <p:cNvSpPr/>
          <p:nvPr/>
        </p:nvSpPr>
        <p:spPr>
          <a:xfrm>
            <a:off x="6357960" y="3000240"/>
            <a:ext cx="2643120" cy="1500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BlokTextu 29"/>
          <p:cNvSpPr/>
          <p:nvPr/>
        </p:nvSpPr>
        <p:spPr>
          <a:xfrm>
            <a:off x="6572160" y="32148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ovy, to sú hromady tehál a betónu. Stroje, to je hromada železa a ocele. Život tomu dávajú až ľudia.“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BlokTextu 30"/>
          <p:cNvSpPr/>
          <p:nvPr/>
        </p:nvSpPr>
        <p:spPr>
          <a:xfrm>
            <a:off x="7500960" y="464328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š zákazník,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š pán.“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Osobná zodpovednosť za vykonanú prácu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Samospráva a účasť pracovníkov na zisku podniku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Pocit hrdosti a príslušnosti k podniku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Pozornosť ku mladej generácii a permanentné vzdelávani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Nákup základných surovín priamo od výrobcu a nakupovalo sa vtedy, keď to bolo cenovo najvýhodnejši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Predaj obuvi sa realizoval vo vlastných predajniach, teda bez sprostredkovateľov (obchodníkov), aby zbytočne nenavyšovali cenu pre zákazník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Na vedúce posty sa neprijímali ľudia zvonku, ale len vlastní „odchovanci“ – napr. po absolvovaní 3-ročnej prax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Ešte pred výrobou, museli byť jednotlivé dielce dopravené do dielní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Komponenty boli do dielní rozvážané lanovou dráhou, ktorá obopínala väčšinu budov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Dielne boli za niekoľko minút zásobené materiálom bez toho, aby doprava niekomu prekážala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0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832960" cy="9748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"/>
          <p:cNvPicPr/>
          <p:nvPr/>
        </p:nvPicPr>
        <p:blipFill>
          <a:blip r:embed="rId4"/>
          <a:stretch/>
        </p:blipFill>
        <p:spPr>
          <a:xfrm>
            <a:off x="5357880" y="4572000"/>
            <a:ext cx="32004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Hlavný zreteľ na nižšiu cenu ako je konkurenčná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Stanovenie ceny = služba verejnosti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Baťovské ceny 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Organizácia predaja: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- celosvetová sieť 2 500 predajní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- hlavný cieľ predajnej skupiny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4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83296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Predpoklad – vzájomné súperenie dielní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Zisk a odmena sú podmienené plnením vopred stanoveného plánu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Systém postavený na </a:t>
            </a:r>
            <a:r>
              <a:rPr b="0" lang="en-US" sz="21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umení šetriť</a:t>
            </a:r>
            <a:r>
              <a:rPr b="0" lang="en-US" sz="2100" spc="-1" strike="noStrike">
                <a:solidFill>
                  <a:srgbClr val="4e3b30"/>
                </a:solidFill>
                <a:latin typeface="Franklin Gothic Book"/>
              </a:rPr>
              <a:t>”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Princíp - hospodárska autonómia každého článku a výroby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Oddelenia nakupovali a predávali za vnútropodnikové ceny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V systéme vystupovalo oddelenie ako samostatný podnikateľský subjekt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7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83296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i="1" lang="cs-CZ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i="1" lang="cs-CZ" sz="3200" spc="-1" strike="noStrike">
                <a:solidFill>
                  <a:srgbClr val="4e3b30"/>
                </a:solidFill>
                <a:latin typeface="Franklin Gothic Book"/>
              </a:rPr>
              <a:t>V civilizované společnosti jsme všichni navzájem závislí. 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( Samuel Johnson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ůvodní myšlenka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občané jednoho státu mají společnou odpovědnost za svůj hospodářský blahoby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285840" y="1928520"/>
            <a:ext cx="8686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Systém odmeňovania zamestnancov založený na úsilí a kvalite práce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Princíp systému : každý pracovník si mohol okamžite vypočítať svoj podiel na zisku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Vedúci pracovník participoval ako na zisku tak aj na strate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Akumulácia likvidity = nevyužívanie úverov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Operatívne riadenie a rýchla výmena informácií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schopnosť promptne reagovať na vzniknuté problémy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Baťa zaviedol pre odmeňovanie záväzné kritériá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Slogan mal budiť v zúčastnených pocit, že sú spolumajiteľmi firmy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0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620200" cy="974880"/>
          </a:xfrm>
          <a:prstGeom prst="rect">
            <a:avLst/>
          </a:prstGeom>
          <a:ln w="0">
            <a:noFill/>
          </a:ln>
        </p:spPr>
      </p:pic>
      <p:sp>
        <p:nvSpPr>
          <p:cNvPr id="481" name="Šípka dolu 6"/>
          <p:cNvSpPr/>
          <p:nvPr/>
        </p:nvSpPr>
        <p:spPr>
          <a:xfrm>
            <a:off x="3203640" y="429264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e3b30"/>
                </a:solidFill>
                <a:latin typeface="Franklin Gothic Book"/>
              </a:rPr>
              <a:t>Dôležité posty = vlastní zamestnanci a odchovanci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e3b30"/>
                </a:solidFill>
                <a:latin typeface="Franklin Gothic Book"/>
              </a:rPr>
              <a:t>Preferencia mladých ľudí pri prijímaní do zamestnania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e3b30"/>
                </a:solidFill>
                <a:latin typeface="Franklin Gothic Book"/>
              </a:rPr>
              <a:t>Bývanie zamestnancov zabezpečené vo firemných rodinných domoch za nízke nájomné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e3b30"/>
                </a:solidFill>
                <a:latin typeface="Franklin Gothic Book"/>
              </a:rPr>
              <a:t>V podniku bolo zabezpečené stravovanie a možnosti na osobný rast, štúdium, zdravotnú starostlivosť, športové a kultúrne vyžitie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e3b30"/>
                </a:solidFill>
                <a:latin typeface="Franklin Gothic Book"/>
              </a:rPr>
              <a:t>Mzdové ohodnotenie bolo v porovnaní s celoštátnym priemerom skoro o 100% vyššie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e3b30"/>
                </a:solidFill>
                <a:latin typeface="Franklin Gothic Book"/>
              </a:rPr>
              <a:t>Zastával názor, že ako majiteľ a šéf musí byť pre ostaných podriadených osobným príkladom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4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6202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Základnou formou mzdového odmeňovania bola pôvodne úkolová - akordná mzd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V roku 1927sa zaviedla akordná mzda skupiny – t.j. dieln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Ustálený mzdový systém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Špeciálne odmeny a prémie najiniciatívnejším pracovníkom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Mzdy sa vyplácali týždenn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Termín výplaty bol určený na pondelok alebo utorok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7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6202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Základom: polročné plány, zostavené na zimnú a letnú sezónu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Výsledkom plánovania bolo prepojenie výroby a predaj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Diverzifikácia polročných plánov na týždenné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Týždenný plán sa skladal z čiastkových denných plánov, ktoré predpisovali plánovaný denný objem výroby každej dielni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Výsledok: Pracovný rok pozostával z 253 pracovných dní, pre ktoré spracovalo rozpočtové oddelenie 253 denných plánov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0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6202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Výstavba zamestnaneckých domov, študentských internátov, obchodných domov s lacným tovarom, kín, hotelov, športovísk, knižníc a nemocníc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Cena domu = maximálne jednoročný plat zamestnanca, ktorý mal záujem si dom sám postaviť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3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6202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Výrobná divízia Dolní Němčí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Na rozdiel od skôr vyrábaných veľkých sérií, ktoré sa nemenili i po viac ako 12 mesiacoch, sú dnešní zamestnanci schopní vyrábať niekoľko náročných vzorov za deň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Výroba vzorku podľa priania zákazníka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4e3b30"/>
                </a:solidFill>
                <a:latin typeface="Franklin Gothic Book"/>
              </a:rPr>
              <a:t>"Od vyrobenia vzorku podľa želania zákazníka, spracovania technickej dokumentácie, po finálny výrobok, mnohokrát neubehne ani týždeň„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6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6202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Nadpis 1" descr=""/>
          <p:cNvPicPr/>
          <p:nvPr/>
        </p:nvPicPr>
        <p:blipFill>
          <a:blip r:embed="rId2"/>
          <a:stretch/>
        </p:blipFill>
        <p:spPr>
          <a:xfrm>
            <a:off x="450720" y="281160"/>
            <a:ext cx="8699760" cy="1060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285840" y="1285920"/>
            <a:ext cx="86868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Franklin Gothic Book"/>
              </a:rPr>
              <a:t>Kudzbel, M: Baťa – hospodársky zázrak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Franklin Gothic Book"/>
              </a:rPr>
              <a:t>Kudzbel, M: Baťov systém riadeni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Franklin Gothic Book"/>
              </a:rPr>
              <a:t>Střitesky, M.: Tvůrčí odkaz T. Baťu současným podnikatelům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Franklin Gothic Book"/>
              </a:rPr>
              <a:t>Zelený, M.: Cesty k úspěchu: Trvalé hodnoty soustavy řízení Bať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Nadpis 1" descr=""/>
          <p:cNvPicPr/>
          <p:nvPr/>
        </p:nvPicPr>
        <p:blipFill>
          <a:blip r:embed="rId2"/>
          <a:stretch/>
        </p:blipFill>
        <p:spPr>
          <a:xfrm>
            <a:off x="450720" y="2567160"/>
            <a:ext cx="86997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Nadpis 1" descr=""/>
          <p:cNvPicPr/>
          <p:nvPr/>
        </p:nvPicPr>
        <p:blipFill>
          <a:blip r:embed="rId2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dea národního stát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árodní bohatství = bohatství vladaře X ne blaho obyčejných lid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Kvantitativní teorie peněz ( zlata, stříbra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8. st. Anglie  -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vlastenectví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„oběť pro vlastní národ“               19. st. - 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cl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Šipka doprava 4"/>
          <p:cNvSpPr/>
          <p:nvPr/>
        </p:nvSpPr>
        <p:spPr>
          <a:xfrm>
            <a:off x="2143080" y="5143680"/>
            <a:ext cx="9288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ynálezy ( železnice, telegraf, doprava…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elkovýroba              průmyslová nadvýroba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S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&gt; D               P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iln</a:t>
            </a: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ý protekcionismus = vysoká cl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Vysoká konkurence na domácím trhu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Malý zisk (nízké ceny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ctr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Šipka doprava 3"/>
          <p:cNvSpPr/>
          <p:nvPr/>
        </p:nvSpPr>
        <p:spPr>
          <a:xfrm>
            <a:off x="3071880" y="292896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Šipka doprava 4"/>
          <p:cNvSpPr/>
          <p:nvPr/>
        </p:nvSpPr>
        <p:spPr>
          <a:xfrm>
            <a:off x="2500200" y="3571920"/>
            <a:ext cx="285840" cy="46080"/>
          </a:xfrm>
          <a:prstGeom prst="rightArrow">
            <a:avLst>
              <a:gd name="adj1" fmla="val 50000"/>
              <a:gd name="adj2" fmla="val 4962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Šipka dolů 5"/>
          <p:cNvSpPr/>
          <p:nvPr/>
        </p:nvSpPr>
        <p:spPr>
          <a:xfrm>
            <a:off x="3071880" y="3429000"/>
            <a:ext cx="71280" cy="28584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Omezení domácí konkurence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Soustředění výroby do velkých národních korporací – hrozba zneužití hospodářské moc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1890 Shermanův protitrustový zákon x dohodám o rozdělení trh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Optimistické vidění – moc a prosperita z gigantických korporac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ysoká výdělečnost amerických korporac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ýznamný partner mezinár. obchod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elikost a technologická nadřazenos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ronikání am. Průmyslu do Evrop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Konec 20. st. Amerika ztrácí svoje postavení, konkurencischopnost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Nadpis 1" descr=""/>
          <p:cNvPicPr/>
          <p:nvPr/>
        </p:nvPicPr>
        <p:blipFill>
          <a:blip r:embed="rId2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Konec 20. st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Uspokojení potřeb konkrétních zákazník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Velkovýroba                 vysoká hodnota zbož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ř.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Ocelárny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: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e 5000zaměstnanců, ale speciální použití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elekomunikace : dálkové spoje „na míru“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Šipka doprava 3"/>
          <p:cNvSpPr/>
          <p:nvPr/>
        </p:nvSpPr>
        <p:spPr>
          <a:xfrm>
            <a:off x="3214800" y="357192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Přímá spojovací čára 5"/>
          <p:cNvSpPr/>
          <p:nvPr/>
        </p:nvSpPr>
        <p:spPr>
          <a:xfrm>
            <a:off x="1071720" y="3429000"/>
            <a:ext cx="1571400" cy="428760"/>
          </a:xfrm>
          <a:prstGeom prst="line">
            <a:avLst/>
          </a:prstGeom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Přímá spojovací čára 8"/>
          <p:cNvSpPr/>
          <p:nvPr/>
        </p:nvSpPr>
        <p:spPr>
          <a:xfrm flipH="1">
            <a:off x="1071720" y="3428280"/>
            <a:ext cx="1357200" cy="500040"/>
          </a:xfrm>
          <a:prstGeom prst="line">
            <a:avLst/>
          </a:prstGeom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Objem výroby              správný vztah mezi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Cena                         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   technologiemi a trhy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1581f"/>
                </a:solidFill>
                <a:latin typeface="Franklin Gothic Book"/>
              </a:rPr>
              <a:t>Zisky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 plynou z průběžného objevování nových spojení mezi různými řešeními a potřebami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římá spojovací čára 4" descr=""/>
          <p:cNvPicPr/>
          <p:nvPr/>
        </p:nvPicPr>
        <p:blipFill>
          <a:blip r:embed="rId3"/>
          <a:stretch/>
        </p:blipFill>
        <p:spPr>
          <a:xfrm>
            <a:off x="822240" y="2724120"/>
            <a:ext cx="2347920" cy="1433520"/>
          </a:xfrm>
          <a:prstGeom prst="rect">
            <a:avLst/>
          </a:prstGeom>
          <a:ln w="0">
            <a:noFill/>
          </a:ln>
        </p:spPr>
      </p:pic>
      <p:pic>
        <p:nvPicPr>
          <p:cNvPr id="423" name="Přímá spojovací čára 8" descr=""/>
          <p:cNvPicPr/>
          <p:nvPr/>
        </p:nvPicPr>
        <p:blipFill>
          <a:blip r:embed="rId4"/>
          <a:stretch/>
        </p:blipFill>
        <p:spPr>
          <a:xfrm>
            <a:off x="963720" y="2590920"/>
            <a:ext cx="1712880" cy="1706400"/>
          </a:xfrm>
          <a:prstGeom prst="rect">
            <a:avLst/>
          </a:prstGeom>
          <a:ln w="0">
            <a:noFill/>
          </a:ln>
        </p:spPr>
      </p:pic>
      <p:grpSp>
        <p:nvGrpSpPr>
          <p:cNvPr id="424" name="Volný tvar 9"/>
          <p:cNvGrpSpPr/>
          <p:nvPr/>
        </p:nvGrpSpPr>
        <p:grpSpPr>
          <a:xfrm>
            <a:off x="6188040" y="2773440"/>
            <a:ext cx="2528640" cy="1944360"/>
            <a:chOff x="6188040" y="2773440"/>
            <a:chExt cx="2528640" cy="1944360"/>
          </a:xfrm>
        </p:grpSpPr>
        <p:pic>
          <p:nvPicPr>
            <p:cNvPr id="425" name="Volný tvar 9" descr=""/>
            <p:cNvPicPr/>
            <p:nvPr/>
          </p:nvPicPr>
          <p:blipFill>
            <a:blip r:embed="rId5"/>
            <a:stretch/>
          </p:blipFill>
          <p:spPr>
            <a:xfrm>
              <a:off x="6188040" y="2822760"/>
              <a:ext cx="251640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301800" y="2773440"/>
              <a:ext cx="2414880" cy="191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8" name="Zástupný symbol pro obsah 2" descr=""/>
          <p:cNvPicPr/>
          <p:nvPr/>
        </p:nvPicPr>
        <p:blipFill>
          <a:blip r:embed="rId3"/>
          <a:stretch/>
        </p:blipFill>
        <p:spPr>
          <a:xfrm>
            <a:off x="231840" y="1474920"/>
            <a:ext cx="8766000" cy="4608360"/>
          </a:xfrm>
          <a:prstGeom prst="rect">
            <a:avLst/>
          </a:prstGeom>
          <a:ln w="0">
            <a:noFill/>
          </a:ln>
        </p:spPr>
      </p:pic>
      <p:sp>
        <p:nvSpPr>
          <p:cNvPr id="429" name="Je rovno 4"/>
          <p:cNvSpPr/>
          <p:nvPr/>
        </p:nvSpPr>
        <p:spPr>
          <a:xfrm>
            <a:off x="5072040" y="2214720"/>
            <a:ext cx="500040" cy="357120"/>
          </a:xfrm>
          <a:prstGeom prst="pi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Je rovno 5"/>
          <p:cNvSpPr/>
          <p:nvPr/>
        </p:nvSpPr>
        <p:spPr>
          <a:xfrm>
            <a:off x="2143080" y="4214880"/>
            <a:ext cx="428760" cy="357120"/>
          </a:xfrm>
          <a:prstGeom prst="pi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Je rovno 6"/>
          <p:cNvSpPr/>
          <p:nvPr/>
        </p:nvSpPr>
        <p:spPr>
          <a:xfrm>
            <a:off x="2786040" y="5286240"/>
            <a:ext cx="500040" cy="357480"/>
          </a:xfrm>
          <a:prstGeom prst="pi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5:10:49Z</dcterms:created>
  <dc:creator>Meloun</dc:creator>
  <dc:description/>
  <dc:language>en-US</dc:language>
  <cp:lastModifiedBy>snoopy</cp:lastModifiedBy>
  <dcterms:modified xsi:type="dcterms:W3CDTF">2008-11-10T13:06:55Z</dcterms:modified>
  <cp:revision>101</cp:revision>
  <dc:subject/>
  <dc:title>Vysoce zhodnocující podniky</dc:title>
</cp:coreProperties>
</file>