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66AB-50F4-471A-BA11-A19B0624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627C-C545-4B84-AF7A-43FF6A0C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F0EF-0F76-4CC8-B2CC-A7ABB37D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1B7B-0DE3-4C25-B947-EB692022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FD24-9854-47E1-AE1C-EBB3C01C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1366-FB4D-48BC-97F3-D496AA80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8BAF-6C5D-474D-81CA-9EDFDBE3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AAC9-E71C-4ED9-8592-0BEB7722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D7DB-9513-4AD4-8155-5583F6AE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0585-4CE7-4E18-9980-2BE938AC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D57E-7CC2-4542-8841-437527F7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D26F-DD9B-41A8-8CDE-E5EDBFDC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C8CB-2A61-401C-B399-15CF5CC2D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rava pre živ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76280"/>
            <a:ext cx="640080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a posledných 30 rokov sa množstvo kalórii, ktoré sú k dispozícii každému zvýšilo o 1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tradičná agrárna kultúra je nahradená managerskou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íroda ako učiteľ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io-intenzívne mini f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ávrat k tradíciá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- hlboká or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- kompostov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- rastliny blízko seba ale v širokých záhon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- zmes druhov rastlín ako ochr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émy v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 keď vody sú ¾ plochy Zeme, sladkej vody je má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Žiadna stratégia ponuky nedokáže držať krok s rastom dopy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yba spočíva vo využívaní kvalitnej vody vš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iné riešenie: šetriť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ológia úsp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ľnohospodárstvo využíva 2 x toľko čo iné odvet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ôležité je vzdel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okrok v zavlažova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vývoj plod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ác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využívanie úsporných systém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ozdelenie v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líma – ako uchovať zmysel vecí a ešte aj zarobi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tepľovanie Z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ftárske spoločnosti investujú do obnoviteľ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aznamenali výrazný rozm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eterná (26% /r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olárna  (23-42% /r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ediný spôsob ako budú rozv. krajiny schopné reálne zvyšovať svoje štandardy, je vyhnúť sa hýrivým praktikám industriálnych krají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Ľudský kapitá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Mestá veľmi často zisťujú, že príčinou ich problémov sú zlé rozhodnutia z minul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Experiment Curiti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istó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emysel a miestne spoločenst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eti, zdravie, odpad a výž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zdelanie, družiny a zamestn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Identita a ľudská dôstojno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 pohľady na základné ľudské problé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Modrý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– stúpenci voľného trhu vykazujú technologický optimiz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Červený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– zastupujú rôzne formy socializmu (ich názor podporuje chaos a hospod. výsled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elený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– sústreďujú sa na ekosystém a lepšie porozumenie nakoľko ekonomika ešte môže rá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Biely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– sú syntetizátory a aplikujú všetky systé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23:34:22Z</dcterms:created>
  <dc:creator>Maťo</dc:creator>
  <dc:description/>
  <dc:language>en-US</dc:language>
  <cp:lastModifiedBy>Maťo</cp:lastModifiedBy>
  <dcterms:modified xsi:type="dcterms:W3CDTF">2008-11-03T23:55:38Z</dcterms:modified>
  <cp:revision>2</cp:revision>
  <dc:subject/>
  <dc:title>Potrava pre život</dc:title>
</cp:coreProperties>
</file>