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3FC-2B06-47F0-BFC0-EC4FE3AA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447-8AFB-41D1-9C74-8E7A5FCE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848-CA0B-4553-9144-C1FA742E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9AB-7DCC-41C0-9CD7-1B98AA8A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412-9794-47DD-B722-95E865D6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501-7FBC-4136-A910-8D39248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783-20F7-4370-BDFE-E37F795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3A6D-A0B8-44E7-9823-3FAA31F5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78E-0922-46E8-8769-4F3C4F5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C357-1542-4158-8FDD-53551FA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3CE-3122-4C38-BF06-870E035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67F-F64D-4C03-85B6-A7285AD6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FC3-2186-4CE3-9B24-E09DC88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7E9-3B6E-45BC-AF7E-7E5B94D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BAAD-F266-4A44-957C-718B2AD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EB1-060C-489A-8739-A04FB7FE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524-C1F3-49D5-9F2B-DE7C54F1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ABC-1ECA-4064-AB7B-4C0C20D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1F7-8887-43B0-A1E5-BA75C8A9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6A5-5357-407B-8D0A-4522EF51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C0B-BB23-44D3-B29D-9984278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CAE-9EAB-4C15-BFA0-88EFE2C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7BB-6982-4E8B-BE53-22D357A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031-D3EF-47A0-AFFA-3ED6363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3001-9DEE-4FFC-A2F9-E852649D8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B7D-6401-4779-909A-9AB3CEECB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Analýza praxe managementu úspěšných amerických společnost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ní větších cel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tváření Operačních skupin (5-10 členů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„flexibilní, na projekt orientovan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ředí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istické rys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vání skupiny je omez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členství je dobrovol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romažďuje se rychle bez formál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jsou určeni žádní „stálí“ pracovní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okumentace je neformální a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ující organiz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a nejviditelnějším rysem motivace činnosti je ve špičkových společnostech jejich ochota experimen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: „Drobná, dokončená činnost, zkouška, kterou lze řídit a která pomáhá něco pozna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líže k zákazníkov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službami (zvláště po prodej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chod skutečně začíná po prodeji - ne před 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kv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zakládá se na lidském kapitálu spojeném s tradic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ření na segmenty tr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dukty a služby ušité na 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nomie a podnik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prvkem úspěchu je schopnost být velký a současně jednat jako ma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podněcují mezi svými lidmi podnikavost, protože umožňují autonom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ence dobrovolného zaníceného přebor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ktivita prostřednictvím lid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vat se k lidem jako k dospělým, jako k partnerům, chovat se ucti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plnost orientace na 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zyk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ílení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kotvená filozofie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Řízení v přímém dotyku, důraz na hodno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vný soubor hodnot společnosti a věrnost těmto hodnot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tom, že můžeme být nejlep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detailů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ů lidí jako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nejvyšším významu jakosti služ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neformálnosti pro podporu komunik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j to, co umí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i, které se pevně drží, co znají, obvykle podávají nejlepš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úspěšné jsou ty společnosti, které diverzifikují do široké řady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dnoduchá forma – nepočetný řídící personá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lá neměnná forma, často výrobková div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žně a rychle reagují na rychle se měnící podmínky a problé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vidlo stov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ři pilíře strukturní form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pilíř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ilíř podnikav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líř změny starých návy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né, ale zároveň pevné vede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e jsou přísně kontrolovány, přestože dovolují autonomii, podnikavost a inovace od řadov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nomie je produktem káz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čný prospěch organizace přináší vnitřní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homas J. Peters, Robert H. Waterman Jr.: Hledání dokonalosti, Olomouc 19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zk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or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 vyspělou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e spotřebním zbož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poskytující služ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abývající se vedením projek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pracovávající nerostné surov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st ukazatelů – tři týkající se růstu a tři ukazatele návratnosti kapitálu a rentability služe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splnění alespoň čtyř ukazatelů po více než 20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torské výsledky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alo 43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ky úspěšných společnost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racionálního přístupu k managementu, od příliš podrobných tržních předpovědí a analýz, od přílišného organiz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ost, loajálnost, ztotožnění se s úspěchem společnosti, lidský vztah mezi zaměstnancem a jeho dozorc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ření na kvalitu a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nění experimentátor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prostřednictvím nejefektivnějšího kanálu bez ohledu na organizační struk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žití projektových tý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ac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domění, že lidé nejsou racion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a sebe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eněžní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 předchozího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lý person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n několik klíčových hod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podněcování - Sk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Richard Scott – 4 stadia výv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81080"/>
          <a:ext cx="8228880" cy="4114440"/>
        </p:xfrm>
        <a:graphic>
          <a:graphicData uri="http://schemas.openxmlformats.org/drawingml/2006/table">
            <a:tbl>
              <a:tblPr/>
              <a:tblGrid>
                <a:gridCol w="2362680"/>
                <a:gridCol w="2919600"/>
                <a:gridCol w="2946600"/>
              </a:tblGrid>
              <a:tr h="80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Uza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e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acionální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. 1900-1930  Weber, Tay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. 1960-1970  Chandler, Lawrence, Lor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polečenský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. 1930-1960  Mayo a spol., McGregor, Barnard, Slezn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. 1970-?  Weick,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 jedn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žitost je příčinou letargie a setrvačnosti, v důsledku nichž je mnoho společností nepřístupných nebo reagují příliš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us špičkových společností zahrnuje širokou řadu mechanismů jednání, které zjednodušují jejich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ganizační flexibili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jsou rozlehlou sítí neformální, otevřené komunik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ka otevřených dve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itelný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udržo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pozitivní kri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9:01:55Z</dcterms:created>
  <dc:creator>snoopy</dc:creator>
  <dc:description/>
  <dc:language>en-US</dc:language>
  <cp:lastModifiedBy>Hana Kubicova</cp:lastModifiedBy>
  <dcterms:modified xsi:type="dcterms:W3CDTF">2008-11-10T21:05:31Z</dcterms:modified>
  <cp:revision>13</cp:revision>
  <dc:subject/>
  <dc:title>Analýza praxe managementu úspěšných amerických společností </dc:title>
</cp:coreProperties>
</file>