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43FC1-911A-4D89-A7DF-671CCF84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673F5-EB77-4C01-84CE-00839E54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5BA40-1055-4957-9E55-64B825BC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479E8-E6A0-47B3-8F68-8A5405F9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164C-F981-456B-AB3F-E82037A6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70DB-D8A3-4AC4-8328-FD2575A4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DDB7-9CAA-43F5-BD87-28AF4CCC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D78E-5D32-4A89-BF5D-B44D7519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5DF1-B707-46A2-A306-E8D1718F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0F93-79A9-44DD-AD01-02FB626B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129A-21D1-4F2C-97DA-00C31150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595CA-3CC1-47F6-8172-51A3A03A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1477-188B-4917-AA17-72150365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977C-CC67-44D2-84C2-76856B24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E44B-B5E7-4A9D-8AA9-DFB55A91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CA5D-96A5-4333-B360-600106F8B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B064-253A-404E-88CA-C107A3AA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AD943-60A9-4752-8CC1-1EC3E82F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30CCA-477C-4B24-8D9E-5B4F2328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83231-5718-43EA-9E61-787B6A12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0C998-1836-49C7-8951-75C46085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16770-6E78-4F95-946D-5881122F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0335C-635E-425C-A437-FCDA4CA2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9C0D8-7389-42A2-B7FE-60B38D55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CE97-85D3-4932-995F-C073E46DF0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4B06-85E7-4CC8-8748-82951CC0D7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lean.org/" TargetMode="External"/><Relationship Id="rId2" Type="http://schemas.openxmlformats.org/officeDocument/2006/relationships/hyperlink" Target="http://www.lean.org/" TargetMode="External"/><Relationship Id="rId3" Type="http://schemas.openxmlformats.org/officeDocument/2006/relationships/hyperlink" Target="http://www.lean.org/" TargetMode="External"/><Relationship Id="rId4" Type="http://schemas.openxmlformats.org/officeDocument/2006/relationships/hyperlink" Target="http://www.lean.org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Kapitalismus nové civilizac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ichaela Kaprál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nika Kovář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máš Sedláč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Mud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ean Think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hno: </a:t>
            </a:r>
            <a:r>
              <a:rPr b="1" lang="cs-CZ" sz="3200" spc="-1" strike="noStrike">
                <a:solidFill>
                  <a:srgbClr val="00007d"/>
                </a:solidFill>
                <a:latin typeface="Arial"/>
              </a:rPr>
              <a:t>mud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= plýtvání, ma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lcuje zdroje, nevytváří hodno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ones, Womack: </a:t>
            </a:r>
            <a:r>
              <a:rPr b="1" lang="cs-CZ" sz="3200" spc="-1" strike="noStrike">
                <a:solidFill>
                  <a:srgbClr val="00007d"/>
                </a:solidFill>
                <a:latin typeface="Arial"/>
              </a:rPr>
              <a:t>lean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štíhlující myšl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ék na hýřivé prak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tinuální tok hod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y zeštíhlujícího myšl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fy value from the standpoint of the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dentify all the steps in the value stream – eliminate everything that does not creat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grate the sequence so the product will flow smoothly toward the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t customers pull value from the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ursue perfection through continuous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užby a to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nik nenabízí produkt, ale přímo službu, kterou daný produkt poskyt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umí nestabilitu - vyrovnává výkyvy, protože produkty jsou dodávány plyn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ynulý tok služe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ální podnik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hy a jejich fung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Trh-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„Je oblast ekonomiky v níž se střetává nabídka s poptávkou a výsledkem tohoto střetu je nákup resp. prodej určitého množství zboží za určitou cenu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Kapitalismus- „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Kapitalismus je ekonomický systém, v němž jsou výrobní prostředky v soukromém vlastnictví a provozovány za účelem dosažení zisku. Ekonomické parametry (např. ceny) jsou určovány prostřednictvím volného trhu (nabídkou a poptávkou), a to i ceny práce, nikoli řízeny pouze zásahy stát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Dokonalá konkurence-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„Teoretický model trhu, v němž platí: existuje velký počet kupujících a prodávajících, žádný z nich nemůže ovlivnit cenu, produkceje homoggenní, neexistují překážky vstupu do odvětví, všichni mají dokonalé informace o cenách a množství zboží na trhu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činy nefunkčnosti trh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Špatná alokace kapitá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ční selh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ční selh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ční selh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zika hodnotových řetěz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pravdivé a chybějící cenové signá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úplné trhy a vlastnická 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osti trhu napomáhají spravedlivá pravidla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Čína: Země, kde se kapitalismus s komunismem snoub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ční růst HDP okolo 9% (již od 70.l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,53 bilionů zahraničních měnových rezer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větší producent textilu, oceli, zlata a c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roce 2006 dokončilo VŠ 2,4 mil. Studen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2011 – největší spotřebitel ene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zitivní kro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tevřenější a svobodnější zem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oboda cest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rušení registračního syst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86% číňanů je spokojeno s ekonomikou a jejím směřován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oboda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tevřenost zahraničním investorů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ohatství a velký rozvoj mě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n malý posun v poli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pírání svobody sl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skriminace menšin (tibeťané, Sin-ťia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ěznění aktivistů v pracovních táborech, mu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oni zablokováno přes 2500 www strá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račující monopol komunistické str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az nezávislých odborů a některých círk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patné pracovní podmínky (postavení zaměstnanc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pitalističtější než U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ém hrazení zdravotnictví a sociálních služ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átní zásahy do ekonomiky v období nynější k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de kapitalismus nevyhnutelně k demokraci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rodní kapit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alizace a zeštíhlující myš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hy a jejich fung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tyřbarevná plan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99cc"/>
                </a:solidFill>
                <a:latin typeface="Arial"/>
              </a:rPr>
              <a:t>Modří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volný trh, síla ekonomiky Západu, inovace, investice, svoboda,účinnost,produktiv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Rudí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socialisti, lupičský kapitalismus (Rusko), nůžky mezi bohatými a chudými,vykořisťování pracují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Zelení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koncept ekosystému, počet lidí, zahrnutí externalit do nákladů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ílí: -neodmítají ani nepřijímají žádný koncept, optimismus k lidstvu, integrace, respekt, důvěra, informace, ne ideologií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jótský protok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jednán 11.12.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 180 signatář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Účelem je snížit emise skleníkových plynů mezi lety 2008-2012 o 5,2% ve srovnání s rokem 19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 neratifikova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mínky platnosti(od 2/2005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 signatářských zem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mě zodpovědné za více než 55% produkce těchto ply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awken, P., Lovins, A., Lovins, L.H. </a:t>
            </a:r>
            <a:r>
              <a:rPr b="0" i="1" lang="cs-CZ" sz="1600" spc="-1" strike="noStrike">
                <a:solidFill>
                  <a:srgbClr val="666699"/>
                </a:solidFill>
                <a:latin typeface="Arial"/>
              </a:rPr>
              <a:t>Přírodní kapitalismus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raha: Mladá fronta, 200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666699"/>
                </a:solidFill>
                <a:latin typeface="Arial"/>
              </a:rPr>
              <a:t>„</a:t>
            </a:r>
            <a:r>
              <a:rPr b="0" i="1" lang="cs-CZ" sz="1600" spc="-1" strike="noStrike">
                <a:solidFill>
                  <a:srgbClr val="666699"/>
                </a:solidFill>
                <a:latin typeface="Arial"/>
              </a:rPr>
              <a:t>Principles of Lean Thinking“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Womack, J. and Jones, D., 1996. Lean Enterprise Institute. </a:t>
            </a:r>
            <a:r>
              <a:rPr b="0" lang="cs-CZ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</a:t>
            </a:r>
            <a:r>
              <a:rPr b="0" lang="cs-CZ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lean</a:t>
            </a:r>
            <a:r>
              <a:rPr b="0" lang="cs-CZ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16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ttp://cs.wikipedia.org/wik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ttps://ekonom.feld.cvut.cz/materialy/ekocz/EK02.pd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asopis Euro, č.38/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Wolf, Ch.: Capitalism, Chinese style, The International Economy, Winter 2002, Washing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je dnes vzácn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čátek průmyslové r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ně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ální zásoby bezmezné a nevyčerpa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omezeným zdrojem jsou lid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íroda se stává vzácněj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tyři typy kapitá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ční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robený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rodní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dský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venční kapital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čně zisková avšak neudržitelná forma lidského výv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rodní a lidský kapitál má malou hodno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ý zájem o odpad při produkci i staré výrob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rodní kapital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tředí není jen okrajovým faktorem výro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oucí rozvoj je limitován dostupností a funkčností přírodního kapitá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řeba radikálního zvýšení produktivity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ální strate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kální produktivita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ké mimik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onomika služeb a to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ování do přírodního kapitá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rodní kapitá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vědomovaný, ovšem nezastupitel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bytek a snížení kv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nahraditelné a nezastupitelné přírodní služ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ice do přírodního kapitá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řeba revidovat systém daní a dot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verzní do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danění plynu, užívání všech vozidel a letadel,odpadů, umělých hnoj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aliz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 se provrtat nákladovou bariér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spora energ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ostní systémové inžený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ek jako systém, ne jen suma čá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ání mu tradiční sché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šlení opačným smě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lim</cp:lastModifiedBy>
  <dcterms:modified xsi:type="dcterms:W3CDTF">2008-11-03T19:05:4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