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B01-8679-4570-8E5C-D40EEFB1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F708-1CE9-4D9F-ACD2-96C864F9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6C27-201B-4AA4-8D37-666C3AD0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5C24-BCF9-4ADA-9C36-4702692F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993E-89C6-404C-990B-0BEDD671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3CFB-CFA6-4E33-88D6-3BEE876A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94C1-9519-41DA-B798-B41D6217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745E-FACB-4F0E-9D32-BA0C2894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2408-17BC-4CBB-8A41-99DF88AA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D8C6-6820-4175-B99E-E956C34C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5979-3752-40CC-9AFD-2AF321C4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D98-6C98-43DE-AB12-D34F0794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06B2-431E-4651-AB28-5F01123A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9D39-0920-419D-993A-A9A25282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71BF-E6CD-4CBD-A0C4-699C8AE7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7120-380B-46B1-A2D4-589C612F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FD94-0B04-4C84-8504-BB06A0AA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10B-7BC3-4CB4-A9B4-E1AF26C5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AB11-9AC0-4EE5-92A8-388F8DD3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6521-737E-40E8-A191-45F5D757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AE70-3412-4538-B8CB-85C3FCDB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CA58-C59B-4606-98D9-16380C05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B19C-E334-429D-84D4-E78C877D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9B7-B607-4818-AA60-6B173DDC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0613-737C-4608-8A0B-D320FEBB3445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0885-F9A5-487F-A61E-EAD8898C632A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705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Sociální kořeny a důsledky globalizac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47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utoř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64200" y="4164120"/>
            <a:ext cx="196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67480" y="409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06840" y="4797360"/>
            <a:ext cx="228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Marie Adam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Monika Kudl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František Chur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ociální důsledky 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idský potenciál a práce je zbožím na trzích, tvořivost je produk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padek klasických obor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eregulace trhu prá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měny organiz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édonis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rov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emě jako omezený celek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ekolog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árodní hodnoty a ideolog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Zdroj: Lehmannová, Z.:  Aktuální otázky globalizac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ociální důsledky I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15920"/>
            <a:ext cx="75438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ivně optimistická definic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deální nástroj pro řešení sociálních a ekologických problé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dikálně kritická definic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ociální polariz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ěcně sociologická definic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konomické X politické síl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olitika už nemá šanci něco ovlivn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jistota pro nižší a střední vrstvy společnost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hrožení demokraci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708360" y="378936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ociální důsledky II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ojí zisk nadnárodních fir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ýroba v zemích s nízkou cenou pracovní sí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ej výrobků v zemích s vysokou kupní sil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danění v zemích, kde je to nejvýhodnější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opad trojího zisk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Firmy jsou bohatší než stá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odle skeptiků „…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časem dojde k situaci, k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v bohatších evropských zemích bude zaměstnáno zhruba jen 20% populace v ekonomicky aktivním věk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“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Zdroj: Keller, J.: Soumrak sociálního státu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eaeaea"/>
                </a:solidFill>
                <a:latin typeface="Tahoma"/>
              </a:rPr>
              <a:t>Politická a ideologická stránka globalizáci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Náš pohľad na problémy globalizácie je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Europocentrický, príp. euroatlantický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Z prostredia liberálnej demokracie – individualistické pojatie ľudských práv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Ale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Regionálne a miestne vplyv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Náboženské vplyv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Stretávanie kultúr – súboj s tradíciam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Proces globalizácie je chápaný ako centristický proces riadený z oblasti Atlantického oceánu – oblasť najbohatších štátov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aea"/>
                </a:solidFill>
                <a:latin typeface="Tahoma"/>
              </a:rPr>
              <a:t>Problémy ovplyvnené kultúrnym a sociálnym prostredím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atinskoamerická kritika neoliberalismu – globalizácia vytvára sociálnu nestabili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zijské pojatie demokracie – kolektivizmus, silná rola rodin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slámsky fundamentalizm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frika – tradičné usporiadanie spoločnosti, miestny komunitarizm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Náboženská otázk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dnoty, ideje a štruktúry sociálneho života v minulosti jasne definované náboženstvom sú naruš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možnosť vytvoriť globálnu náboženskú a politickú jedno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Globalizácia plodí konflik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oniec náboženského monopol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aeaea"/>
                </a:solidFill>
                <a:latin typeface="Tahoma"/>
              </a:rPr>
              <a:t>Čo z toho vyplýv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nergiu, akú Západ vydáva na šírenie demokracie, by mal vyvinúť aj na pochopenie ostatných kultúrnych a náboženských celkov, s ktorými sa na ideovom poli potýka, pretože iba tak sa dočká nejakého spoločného záveru a vzájomného obohatenia.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Zdroje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BAUMAN, Zygmunt: Globalizace. Mladá fronta 1999. 157s. ISBN 80-204-0817-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ELLER, Jan: Soumrak sociálního státu. Slon 2005. 158s. ISBN 80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6429-41-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EHMANNOVÁ, Zuzana a kol. Aktuální otázky globalizace. Oeconomica 2003. 407s. ISB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0-245-0621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HL, Martin: Globalizace pro a proti. Academia 2001. 185s. ISBN 80-200-0897-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jetí globalizace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konomick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k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ultu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onkrétní příklady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cDonald’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elev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world mus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hraniční turisté dovnitř i čeští cestovatelé v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vobodný 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aea"/>
                </a:solidFill>
                <a:latin typeface="Arial"/>
              </a:rPr>
              <a:t>Kniha: Globalizace (Bauman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auman: Časoprostorová kompre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auman: Konzum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auman: Mnozí sledují hrstku - celeb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aea"/>
                </a:solidFill>
                <a:latin typeface="Arial"/>
              </a:rPr>
              <a:t>Kniha: Globalizace (Bauman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auman: Svět se rozděluje na bohaté a chud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auman: Státy tlačeny vyhovět podmínkám investorů – dělat pracovní sílu pružn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ořeny globaliz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16280"/>
            <a:ext cx="7543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6. – 19. století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649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Konec středověku až 18. století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649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řelom 18. a 19. století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vropa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merik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ědecko-technický rozvoj + průmyslová výroba + export do svět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obální civilizační integrační proce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24360" y="436572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ředpoklady globaliz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ě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ional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kumulace inform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kt-objektový vztah k prostřed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ůsledky globalizace 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16280"/>
            <a:ext cx="75438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Tahoma"/>
              </a:rPr>
              <a:t>Dlouhodobá změna HDP na obyvatele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Tahoma"/>
              </a:rPr>
              <a:t>(v cenách roku 1980, v USD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droj: Angus Maddison, Monitoring the World Economy 1820-199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Development centre of OEC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2920" y="2822400"/>
            <a:ext cx="889308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ůsledky globalizace I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jem odciz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cizení člověka jeho vlastním výtvorů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cizení společenským silám a vztahů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cizení přírod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cizení sobě samé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07:07:13Z</dcterms:created>
  <dc:creator>ucebna</dc:creator>
  <dc:description/>
  <dc:language>en-US</dc:language>
  <cp:lastModifiedBy>snoopy</cp:lastModifiedBy>
  <dcterms:modified xsi:type="dcterms:W3CDTF">2008-10-29T11:16:39Z</dcterms:modified>
  <cp:revision>67</cp:revision>
  <dc:subject/>
  <dc:title>Snímek 1</dc:title>
</cp:coreProperties>
</file>