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1D9-E7E8-4175-9466-713A1A13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246-C328-4626-96AA-A169FDBC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418-7EB7-4FC2-BD81-AC93028C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FE4-2C7F-41DF-8545-F452FDD1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B08-9FFA-4774-8CB2-939CE2A3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682-5631-45EF-988F-0334BD8D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431-5AFC-4A98-B0EB-D2B12B7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E91-331C-4868-A915-ED74B796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368-E72D-4978-BC93-69A315A8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AF2-A140-44BF-A321-FDABAA9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55B-6705-4723-B5F3-4887401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607-0D96-48F2-AB60-587C9E5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DEDF5-2C5C-4317-8BDD-7B0B0DC8380A}" type="slidenum"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576360" y="2123640"/>
            <a:ext cx="8569440" cy="16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DejaVu Sans"/>
              </a:rPr>
              <a:t>STRATEGIE TRVALE UDRŽITELNÉHO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DejaVu Sans"/>
              </a:rPr>
              <a:t>ROZVOJE</a:t>
            </a:r>
            <a:r>
              <a:rPr b="0" lang="cs-CZ" sz="44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1152360" y="4067280"/>
            <a:ext cx="5148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4c1900"/>
                </a:solidFill>
                <a:latin typeface="Times New Roman"/>
              </a:rPr>
              <a:t>Autoři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Natália Čechová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Tomáš Jelínek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Renáta Kaszperová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2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MANAGEMENT A EKOMARKET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 algn="ctr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PRAX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DejaVu San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o j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DejaVu Sans"/>
              </a:rPr>
              <a:t>e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DejaVu Sans"/>
              </a:rPr>
              <a:t>k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DejaVu Sans"/>
              </a:rPr>
              <a:t>omanagement</a:t>
            </a: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- nebo </a:t>
            </a: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nvironmental management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, green managem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mana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žerská koncepce pro trvale udržitelný rozvoj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- aplikace ekologických metod, postup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ů, zásad a hodnot ve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edení podniku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MS – environmental management syste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HS – environmental health and safety management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CÍL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1.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DejaVu Sans"/>
              </a:rPr>
              <a:t>Snižování nebezpečí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 z průmyslových a jiných činnost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pro životní prostředí a zároveň přispívat ke zvyšová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efektivity podnikání a zachování trvale udržitelného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rozvoje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2. 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ískán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konkurenční výhod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nad ostatními konkurenty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RKETING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Co j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DejaVu Sans"/>
              </a:rPr>
              <a:t>ekomarketing</a:t>
            </a: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- nebo 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environmental marketing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- marketingová strategie, která staví na koncepci ekologicky přátelských (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environmentaly friendl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) hodnot, výrobků, postupů a služeb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>
                <a:solidFill>
                  <a:srgbClr val="4c1900"/>
                </a:solidFill>
                <a:latin typeface="Times New Roman"/>
              </a:rPr>
              <a:t>HLAVNÍ CÍL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90720" indent="-5335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DejaVu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ytvoř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„zelené“ výrobky/služb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, kde je v efektivní výkon, cena, vhodnost a slučitelnost s principy ochrany životního prostředí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-5335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DejaVu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ytvořit ve spotřebitelích představu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, že tyto výrobky/služby jsou jak vysoké kvality,tak citlivé vůči životnímu prostředí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MARKETING pro životní prostředí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DejaVu Sans"/>
              </a:rPr>
              <a:t>Meffert a Kirchgeorge</a:t>
            </a:r>
            <a:r>
              <a:rPr b="1" lang="cs-CZ" sz="2400" spc="-1" strike="noStrike">
                <a:solidFill>
                  <a:srgbClr val="000000"/>
                </a:solidFill>
                <a:latin typeface="DejaVu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Marketing pro živ. prostředí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je základním předpo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kladem pro proměnu konzumní společnosti na společnost trvale udržitelnou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DejaVu Sans"/>
              </a:rPr>
              <a:t>Jackie Ottman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Zelená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je nová přidaná hodnota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 ve svět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716120"/>
            <a:ext cx="907272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THE BODY SHOP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PATAGONI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SEVENTH GENERATI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DejaVu Sans"/>
              </a:rPr>
              <a:t>L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OBLAW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77080" y="1332000"/>
            <a:ext cx="2697120" cy="1190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87640" y="2700360"/>
            <a:ext cx="2100240" cy="1028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985080" y="2771640"/>
            <a:ext cx="1673280" cy="2386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879640" y="4859280"/>
            <a:ext cx="31082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 v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6120" y="1557360"/>
            <a:ext cx="94759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DejaVu Sans"/>
              </a:rPr>
              <a:t>ČESKÉ EKOLOGICKÉ MANAŽERSKÉ CENTRUM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Jiří Dostál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, generální ředitel, Kovohutě Příbram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ice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Zdeněk Hradil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, odborný ředitel, ORGREZ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ice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Josef Petr Ph.Dr., 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vedoucí odboru proces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bezpečnosti, inspekce a ostrahy, Hexion Specialty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Chemicals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272360" y="466560"/>
            <a:ext cx="25398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3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MMIT ZEMĚ 200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00789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S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UMMIT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ZEMĚ 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60360" y="1260000"/>
            <a:ext cx="936000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řadatel: OS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ísto konání: Johannesburg (JAR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čet zúčastněných zemí: 178 (i ČR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íl: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Zhodnocení naplňování závazků Z Ria (1992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chválení Implementačního plán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Teorie trvale udržitelného rozvoj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Ekomanagement a ekomarketing v prax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Sumit 200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KLÍČOVÉ BODY SCHVÁLENÉHO IMPLEMENTAČNÍHO PLÁNU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. VODA/SANITÁRNÍ ZAŘÍZEN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2. ENERGI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3. RYB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4. CHEMICKÉ LÁTK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5. ZDRAV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6. ŽEN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7. POMOC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8. GLOBALIZAC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9. OBCHOD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0. BIOLOGICKÁ DIVERZITA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1. VLÁDNUT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2. STRATEGI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3. CHUDOBA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4. PŘEDBĚŽNÁ OPATRNOST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5. SPOLEČNÁ, ALE DIFERENCOVANÁ ODPOVĚDNOST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MISE CO</a:t>
            </a:r>
            <a:r>
              <a:rPr b="0" lang="en-GB" sz="4000" spc="-1" strike="noStrike" baseline="-33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cs-CZ" sz="4000" spc="-1" strike="noStrike" baseline="-33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NA OBYVATELE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160720"/>
            <a:ext cx="6480000" cy="43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STRATEGICKÉ CÍLE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730520"/>
            <a:ext cx="9252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trvalý sociální a ekonomický rozvoj, který zabezpeč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ezbytné potřeb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ntegrace aspektů životního prostředí d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ekonomického systém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řechod k udržitelnému systému hospodařen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energií, co největší podíl recyklace materiál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dpora přírodě blízkého hospodaření v krajině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STRATEGICKÉ CÍLE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zachování a rozvíjení harmonické, plošně úsporné sídelní struktur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dpora místním Agendám 21, demokratickým a participativním formám rozhodován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ntegrace vzdělávání, výchovy a osvěty k udržitelnému rozvoji do společenského systém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VYSVĚDČENÍ GREENPEAC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09440" y="18352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Energi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Diverzita pralesů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Zemědělství a genetické inženýrstv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Jed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ce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bchod a rozvojová pomo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RTEL: </a:t>
            </a:r>
            <a:r>
              <a:rPr b="1" lang="en-US" sz="3200" spc="-1" strike="noStrike">
                <a:solidFill>
                  <a:srgbClr val="ff0000"/>
                </a:solidFill>
                <a:latin typeface="DejaVu Sans"/>
              </a:rPr>
              <a:t>NEPROSPĚ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00789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332000"/>
            <a:ext cx="906804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STEAD, W.E., STEAD, J.G. Management pro malou planetu. Praha: GplusG, 1998. ISBN 80-86103-15-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Practical Guide to Environmental Management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books.google.com/books?id=seUVusy2uw8C&amp;printsec=frontcover&amp;dq=environmental+management&amp;hl=sk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patagonia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bodyshop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seventhgeneration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loblaw.c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cemc.cz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http://www.mzp.cz/AIS/web-news.nsf/f896d23fe2b34882c1256e87005c6603/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313b71288700dabc1256bd5002f4fd4?OpenDocumen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 www.ekolist.Cz/summit.st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www.ekolist.cz/sum-about.shtm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www.hnutiduha.cz/publikace/WSSD.pdf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http://archive.greenpeace.org/earthsummit/report_card/index.htm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500"/>
                            </p:stCondLst>
                            <p:childTnLst>
                              <p:par>
                                <p:cTn id="6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000"/>
                            </p:stCondLst>
                            <p:childTnLst>
                              <p:par>
                                <p:cTn id="6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3239640"/>
            <a:ext cx="6048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Děkujeme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Vám za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</a:rPr>
              <a:t> pozorno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1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ORIE UDRŽITELNÉHO ROZVOJE (STEAD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emě jako živý systé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nímání lid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Manažerské rozhodová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55640" y="1476360"/>
            <a:ext cx="6121440" cy="5864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KOLO PROBLÉMŮ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NOMICKÝ RŮ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Schumacher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Jak si může někdo myslet, že růst je (vždy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dobrá věc? Pokud rostou mé děti, je to velmi dobré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kdybych já začal najednou růst, byla by to katastrofa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Proto je kvalitativní rozlišování hlavní věcí; je mnohem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důležitější než tajemné přičítání všeho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TRVALE UDRŽITELNÝ ROZVOJ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6000" y="212400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: místo, ve kterém lidstvo naplňuje potřeby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učasnosti bez omezení schopnosti budoucích generac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lňovat své potřeby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ažení trvale udržitelné rovnováhy znamená udrže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rovně využívání zdrojů, průmyslové činnosti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emědělství, populačního růstu a dalších na takové výši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terá může být zachována i v příštích generacích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možné docílit trvale udržitelnosti v dlouhém období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 je k tomu potřeba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1357200" y="1914480"/>
            <a:ext cx="615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31640" indent="-21564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TŘI POHLEDY na trvalou udržitelno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1. Biofyzikální pohled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2. Socioekonomický pohle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3. Morální pohle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NÁVRHY A DOPORUČENÍ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6000" y="234000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Rovnováha mezi podnikáním a ekosystéme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bjekt: Manaže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ahrnout Přírodu do hodnot a myšlenkových procesů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chopení trvalého rozvoje ve všech oblastech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ýtus planetární společnos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ktické návrhy“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man</dc:creator>
  <dc:description/>
  <dc:language>en-US</dc:language>
  <cp:lastModifiedBy> </cp:lastModifiedBy>
  <dcterms:modified xsi:type="dcterms:W3CDTF">2008-11-04T01:04:13Z</dcterms:modified>
  <cp:revision>24</cp:revision>
  <dc:subject/>
  <dc:title>Roman Kaszper</dc:title>
</cp:coreProperties>
</file>