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51EC-B7E3-4DD0-947A-91E64DB4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4914-DF45-4E98-94F4-CC4B4BCC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84A4-BBC1-4900-A54B-281F09CB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3865-4970-4DA5-A890-E33CACEB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8052-4974-4A26-837A-4F06E4B3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BBCF-AECA-4F5A-9769-80E8B2B6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7D5A-4961-46B2-859D-38CE5901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7DD2-6E37-446D-9624-6524E7FE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9232-0C2B-4644-B14C-4C90792B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D224-67F6-41D2-B799-0B3EE351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045C-7F96-4149-A592-64A1E458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01C3-3B1A-4BEE-929B-EB0BB5BF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3DDE-CFF2-4ACE-BE59-43A62EBD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8CCB-A462-40F7-8EF4-97D50985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A66F-3B12-4E42-8D10-8FFBCDC8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6372-F574-453B-B759-4DEA57EE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BEC9-802B-437C-AB7C-92D5C11B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6DD6-839C-4D1F-96D0-57AE179C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0B27-0D9F-435C-816F-5044A2A4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4928-C55C-4F01-83F7-60D415FD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55D8-8DB1-4B48-96ED-D2630176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BE9B-870F-4161-B095-307E389B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74CE-EB2F-418E-8801-949797F5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E72-742B-4E1E-9748-BF63042A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8AD5-3FC1-4C87-92C4-A556A6E57B0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3D80-2E04-4262-8036-6186726AD94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b9efee"/>
                </a:solidFill>
                <a:latin typeface="Garamond"/>
              </a:rPr>
              <a:t>Stakeholderský přístup k pojetí podniku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Jančúch Zbyně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Krejčí Mich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avlík Mich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Zaměstnanci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Garamond"/>
              </a:rPr>
              <a:t>nejtěsnější a nejstabilnější vztah k podniku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Garamond"/>
              </a:rPr>
              <a:t>tendence k rozvolňování a dynamizování vztahu k podniku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Garamond"/>
              </a:rPr>
              <a:t>prostředky vlivu zaměstnanců</a:t>
            </a:r>
            <a:r>
              <a:rPr b="0" lang="cs-CZ" sz="27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schopnost pracova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možnost práci odmítnout ( individuálně X kolektivně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Garamond"/>
              </a:rPr>
              <a:t>vyjednávací pozice podle stupně kvalifikovanosti   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Garamond"/>
              </a:rPr>
              <a:t>zasahování do řízení podniku prostřednictvím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dborových organizací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zastoupením zaměstnanců v dozorčí rad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sebeřízení pracovních týmů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Věřitelé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áno situací na finančním trhu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bonita podniku → zájem o poskytnutí úvěr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yspělé západní zem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ostatek finančních prostředků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nízké riziko nesplacení úvěru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věřitelé do správy podniku nezasahují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transformující se ekonomik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převis poptávky po úvěrech nad nabídkou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při vysokém zadlužení: věřitelé → postavení vlastníků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Dodavatelé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Garamond"/>
              </a:rPr>
              <a:t>jejich moc ovlivněna postavením na trhu Va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Garamond"/>
              </a:rPr>
              <a:t>nabízející strana zpravidla ve slabším postavení než poptávající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Garamond"/>
              </a:rPr>
              <a:t>různá obtížnost zrušitelnosti vazeb → transakční náklady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specifičnost produktu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přizpůsobení technologií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sdílené společné know-how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Garamond"/>
              </a:rPr>
              <a:t>riziko převahy moci na jedná straně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Veřejná správ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tát, region, ob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ostředky vliv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ydávání právních předpis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zice zákazník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rozdělování různých forem pomoci podnikatelské sféř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Vztahy stakeholderů a organizační blahobyt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droj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ST, James E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Redefining the corporation: stakeholder management and organizational weal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Členění stakeholderů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229360"/>
            <a:ext cx="194436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oint ven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amp; a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3284640"/>
            <a:ext cx="194436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n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08720" y="177336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městnan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88000" y="285264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88000" y="393372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ákazní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64000" y="486900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odběr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4920" y="479736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yvatelst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0920" y="134136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oř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378936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lá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270828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ulač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170028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krom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40360" y="2494080"/>
            <a:ext cx="502920" cy="647640"/>
          </a:xfrm>
          <a:prstGeom prst="upDownArrow">
            <a:avLst>
              <a:gd name="adj1" fmla="val 50000"/>
              <a:gd name="adj2" fmla="val 2563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40360" y="4437000"/>
            <a:ext cx="502920" cy="647640"/>
          </a:xfrm>
          <a:prstGeom prst="upDownArrow">
            <a:avLst>
              <a:gd name="adj1" fmla="val 50000"/>
              <a:gd name="adj2" fmla="val 2563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112600">
            <a:off x="5651640" y="3140640"/>
            <a:ext cx="503280" cy="647640"/>
          </a:xfrm>
          <a:prstGeom prst="upDownArrow">
            <a:avLst>
              <a:gd name="adj1" fmla="val 50000"/>
              <a:gd name="adj2" fmla="val 256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7418600">
            <a:off x="5580720" y="3790080"/>
            <a:ext cx="503280" cy="647640"/>
          </a:xfrm>
          <a:prstGeom prst="upDownArrow">
            <a:avLst>
              <a:gd name="adj1" fmla="val 50000"/>
              <a:gd name="adj2" fmla="val 256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9525200">
            <a:off x="5005440" y="4294080"/>
            <a:ext cx="503280" cy="647640"/>
          </a:xfrm>
          <a:prstGeom prst="upDownArrow">
            <a:avLst>
              <a:gd name="adj1" fmla="val 50000"/>
              <a:gd name="adj2" fmla="val 256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056800">
            <a:off x="5005080" y="2636640"/>
            <a:ext cx="503280" cy="647640"/>
          </a:xfrm>
          <a:prstGeom prst="upDownArrow">
            <a:avLst>
              <a:gd name="adj1" fmla="val 50000"/>
              <a:gd name="adj2" fmla="val 256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656800">
            <a:off x="3204720" y="4293720"/>
            <a:ext cx="503280" cy="647640"/>
          </a:xfrm>
          <a:prstGeom prst="upDownArrow">
            <a:avLst>
              <a:gd name="adj1" fmla="val 50000"/>
              <a:gd name="adj2" fmla="val 256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4064400">
            <a:off x="2627640" y="3644280"/>
            <a:ext cx="503280" cy="647640"/>
          </a:xfrm>
          <a:prstGeom prst="upDownArrow">
            <a:avLst>
              <a:gd name="adj1" fmla="val 50000"/>
              <a:gd name="adj2" fmla="val 256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6447600">
            <a:off x="2698920" y="2996280"/>
            <a:ext cx="503280" cy="647640"/>
          </a:xfrm>
          <a:prstGeom prst="upDownArrow">
            <a:avLst>
              <a:gd name="adj1" fmla="val 50000"/>
              <a:gd name="adj2" fmla="val 256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8869400">
            <a:off x="3349080" y="2564280"/>
            <a:ext cx="502920" cy="647640"/>
          </a:xfrm>
          <a:prstGeom prst="upDownArrow">
            <a:avLst>
              <a:gd name="adj1" fmla="val 50000"/>
              <a:gd name="adj2" fmla="val 2563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Investoř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ělím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lastníc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ěřitel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starání kapitálu, vlastního jmění a/nebo půjčk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tut a jméno na finančním trhu (snížení nákladů půjčky a rizik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Zaměstnanc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ahrnuje každou osobu, která v organizaci pracuj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nagem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bslužný personá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ělníci (sdružení v odborech i mimo ně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ozvoj lidského kapitál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ýmová práce a zvyky založené na pochopení a důvěř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polupráce na pracovišt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dbor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de jsou odbory, tam je zapotřebí vzájemně příznivých vztahů mezi nimi a organizac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bilita zaměstnanců a řešení konflikt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Zákazníci / uživatelé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ůzná forma a velik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ddanost značce a reput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akované / příbuzné nákup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ávrhy a rozvoj spolupráce, řešení problém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bsah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mezení pojmu stakehol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ztah stakeholderů, organizační blahoby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Konkurenční chování stakeholder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Dodavatelé 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&amp;</a:t>
            </a: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 odběratelé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Účastníci „hodnotového řetězu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fektivita sítě a „hodnotového řetězu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nížení nákladů technologií a běžných postup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Joint venture a alian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pojeno s různorodostí hmotných i nehmotných zdroj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trategické zdroje a schopno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Možnosti pro budoucí vývoj (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&amp;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, technologie,…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byvatelstv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ocial license to operate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zájemná podpora a přizpůsobe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lánování, komunální služby, „License to operate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Vlád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láda má vliv n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odmínky podnikání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rukturu zdaněn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kroekonomickou politik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ciální zájm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kroekonomická a sociální politik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odpora vztahů se zákonodárc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gulační autorit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gulační systémy mohou sloužit jako punc kvality – lepší než rekla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tvrzení specifických vlastností produktu / služby a úrovně kv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bré jméno – dodržování, integrita, nejlepší zacháze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oukromé společnost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chodní asociace, nezávislé skupiny tvořící standardy, aktivist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onstruktivní spolupráce mezi jednotlivými organizacemi a skupina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říznivé veřejné míně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vobodné (nezávislé) standard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O 9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Konkurenční chování stakeholderů</a:t>
            </a:r>
            <a:br>
              <a:rPr sz="4000"/>
            </a:b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Moc stakeholderů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aložena na možnosti rozhodovat se o navázání nebo odmítnutí vztahu vůči podni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ický tržní vzta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ýrobky a služby (dodavatelé x odběratelé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h práce (zaměstnanc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nanční trh (věřitelé, vlastníc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Moc stakeholderů</a:t>
            </a:r>
            <a:br>
              <a:rPr sz="4000"/>
            </a:b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Vlastníci a stát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ad rámec vlastníci a stát – příme ovlivňování podnik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lastníci – rozhodování pomocí řídících orgánů společn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tát – orgány veřejné správy pomocí řídících zásahů na základě právních předpis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ržní vztah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chází z teorie her – hra s nenulovým souč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U stakeholderů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kud je součet </a:t>
            </a: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kladný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snaha o navázání, udržení a rozvoji vztahu s podnikem – vidina vyšší získané hodnoty, než kterou stakeholder vloži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kud je součet </a:t>
            </a: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záporný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snaha o navázání vztahu s jiným podnikem, kde bude vidina příznivějších podmínek, popř. ukončit vztah se stávajícím podnik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Stakeholdeři a konkurenti podniku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050920" y="1284120"/>
            <a:ext cx="502308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Východisk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dnik není izolován od svého okolí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ivá práce stále významněji určuje hodnotu podnik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dnik jako společenství lidí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jeho dlouhodobá úspěšnost závisí na vztahu s: vlastníky, investory, zaměstnanci, zákazníky, dodavateli, okolní komunitou a dalšími zainteresovanými skupinami neboli stakeholde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Stakeholdeři a konkurenti podniku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Konkurence je vnímána mnohostranně =&gt; ne jen na trhu výrobků a služeb, ale na všech trzí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dnik se setkává v konkurenčním boji o přízeň jednotlivých skupin stakeholderů s ostatními podni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onkurenční trh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kciový tr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mise akci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držení investorů – snaha top managementu, jistota jejich mís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h prá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ájem o získání a udržení kvalitní pracovní sí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nční tr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naha o získání úvěru – přesvědčit věřitele o tom, že podnik je důvěryhodnější partner než konkur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onkurenční trh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h výrobků a služe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ztah k odběratelům – klasické tržní chování – snaha o získání a udržení zákazní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ztah k dodavatelům – boj o spolehlivé dodavate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ztah ke stá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átní zakázk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vilegia – daňové prázdniny, státní podpora, garance za úvěr, poskytnutí pozemku, právní úpravy, at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onkurenční chování podniku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efenzivní: Obrana vztahu ke stávajícím stakeholderům proti konkurenčním podniků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fenzivní: Snaha přilákat stakeholdery jiných podnik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Kombinací těchto strategií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Růst počtu stakeholderů nebo jejich obměna (platí i pro vztah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Úspěšnost závisí i na chování konkur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Konkurenční chování stakeholderů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Je obdobné jako u podnik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takeholdeři si snaží udržt nebo získat nové podniky (dodavatelé, věřitelé) a uzavírat s nimi co nejvýhodnější smlouv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naha nahrazovat méně výhodné smlouvy těmi výhodnějším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iteratur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POST, James E. </a:t>
            </a:r>
            <a:r>
              <a:rPr b="0" i="1" lang="cs-CZ" sz="2400" spc="-1" strike="noStrike">
                <a:solidFill>
                  <a:srgbClr val="ffffff"/>
                </a:solidFill>
                <a:latin typeface="Garamond"/>
              </a:rPr>
              <a:t>Redefining the corporation: stakeholder management and organizational wealth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. Stanford: Stanford University Press, 2002. ISBN 0-8047-4310-X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BLAŽEK, Ladislav. </a:t>
            </a:r>
            <a:r>
              <a:rPr b="0" i="1" lang="cs-CZ" sz="2400" spc="-1" strike="noStrike">
                <a:solidFill>
                  <a:srgbClr val="ffffff"/>
                </a:solidFill>
                <a:latin typeface="Garamond"/>
              </a:rPr>
              <a:t>Výzkum konkurenceschopnosti podniku.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Viz studijní materiály IS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BERLE, A., MEANS, G. </a:t>
            </a:r>
            <a:r>
              <a:rPr b="0" i="1" lang="cs-CZ" sz="2400" spc="-1" strike="noStrike">
                <a:solidFill>
                  <a:srgbClr val="ffffff"/>
                </a:solidFill>
                <a:latin typeface="Garamond"/>
              </a:rPr>
              <a:t>The Modern Corporation and Private Property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. New York: Macmillan, 1932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ěkujeme za pozornos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Stakeholde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vlivňují organizaci a organizace ovlivňuje j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jejich zájem o firmu přesahuje finanční dimenz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tojí s firmou v přímé nebo nepřímé výměně a mají materiální nebo nemateriální požadavky (Stake) na firmu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odavatelé, obchodní partneři, zákazníci, zaměstnanci a nepřímo také komunita, veřejnost, média a vlá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Shareholde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užší skupina zainteresovaných aktér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akcionáři, vlastníci a všechny osoby, které mají finanční zájem na úspěchu firmy a které se na firmě jako vlastníci podílů bezprostředně podílej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Členění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Primární: 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lastníci a investoři, zaměstnanci, zákazníci (stávající i potenciální), obchodní partneři (zejména dodavatelé), místní komunita, environmentální neziskové organizace a další mluvčí za životní prostředí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Sekundární: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eřejnost, vládní instituce a samosprávní orgány, lobbisté  a různé nátlakové skupiny, konkurenti, media, občanská obchodní sdruže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Analýza zainteresovaných stra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do jsou naši stakeholdeř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Jaký mají vliv na firmu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o od nás očekávají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teří z nich jsou opravdu klíčoví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Které vztahy jsou pro podnik klíčové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9" name="Zástupný symbol pro obsah 3" descr=""/>
          <p:cNvPicPr/>
          <p:nvPr/>
        </p:nvPicPr>
        <p:blipFill>
          <a:blip r:embed="rId2"/>
          <a:stretch/>
        </p:blipFill>
        <p:spPr>
          <a:xfrm>
            <a:off x="-73080" y="1352520"/>
            <a:ext cx="929016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Vlastníci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moc plyne z jejich podílu na kapitál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uplatňování moc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ystému vo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ystém ex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0:42:48Z</dcterms:created>
  <dc:creator>Michal</dc:creator>
  <dc:description/>
  <dc:language>en-US</dc:language>
  <cp:lastModifiedBy>Michal Pavlík</cp:lastModifiedBy>
  <dcterms:modified xsi:type="dcterms:W3CDTF">2008-11-10T11:46:39Z</dcterms:modified>
  <cp:revision>38</cp:revision>
  <dc:subject/>
  <dc:title>Stakeholderský přístup k pojetí podniku</dc:title>
</cp:coreProperties>
</file>