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722-AB06-4D3F-B491-50C8D241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0CB-00FD-47BD-A3CF-1959482B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87224-94A5-4602-B957-B00F63D2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1BF61-61E1-4C9C-974A-6C775D2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30BCE-CACF-4C0D-97AC-66F3015E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141BF-BCBA-4965-832C-4043AFF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0443D-A3A5-4045-BB0C-8F5A283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B2ED-D9D4-4931-B74B-223788BD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FA367-ED9E-480C-BC2B-A5ED9397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682BF-4030-432E-9903-622FB641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1AC9F-E750-49F7-8F3E-0BD7C818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BF8-46CB-4CFC-94E7-16D7D8BB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079-C89A-42F3-9250-EFC539E9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0DC9-7E6E-4DD6-8E49-F3E8484F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897A-B39D-40DA-BD50-C27A2731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B9DE-C4DF-48C0-A468-EA6AACC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CA9E-6716-451E-87E8-901CFA03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F4BC-1ACE-4EB9-B54C-7D2BA355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054E-97DF-4FC5-881A-7F9C2F8E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17CA-627A-4E67-959F-0FE7AFA3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4EF-63C0-41CB-9C96-0D8FE15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FB11-4E97-4946-B691-22275D4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46C7-D480-451C-9FB6-E1D981BD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5816-7A3D-49F6-9C9C-130E7F0B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F41D-851B-4420-8D0C-4D7D87A2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1B5F-DCC4-47CD-88FE-ED8CA1B2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0692-C24D-4F0C-9330-CAA62F1C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D99A-BED8-491E-A3B5-E0E6C51A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B2BC-5D95-48BE-982A-0CC483C7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490E-3911-49C8-84E3-D65C7C4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333C-3A19-4546-B5FC-EA6B65EC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86E-790A-4ACD-9A58-2085ECCE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35E3-8970-4106-86B6-63C35DDE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404B-4E6C-4DA3-A8EB-A6D0B53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8DC3-D51B-4C3E-8F7F-DED41ACF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5390-7F49-43C8-8AC8-EC20B6E3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276A-3C03-47D5-94F7-49508ADF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9127-B23F-4F28-BE67-3BBE20F5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B05C-930E-4671-858B-D78BBED0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8651-C625-4949-83C7-ACE743D4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96D69-546D-4624-9A73-1BA7FD07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4D13-0FE4-4CE2-A473-9E3928E8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D21-9B0A-4D47-AF14-BA7E1A17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72DB-012E-4142-9600-C8EF5926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56C9-86B4-41D1-AAAC-6D9CF4B2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E5E8-02B8-45F8-BA55-7025F710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090B-AC9B-4C85-BFAE-C96BCCC2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80E5-F0FA-43AA-AB21-824011E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6E51-9B97-412A-A6D7-7AAD9F49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2EA1E-590E-4188-B592-68261588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52EB-6520-42E4-B3DC-EDB9DE17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225CC-F7B9-4B9A-A2C3-B4C4D43D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6B08-C881-40B7-B7FF-34F68257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677-ED3C-4B62-A3DD-1F713C9C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C46B-15A1-4E26-A0EB-F6FCC90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13411-CBEB-42CC-88E6-67E0313A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19BE-07A8-403E-BC95-8CB38CFA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8F5B3-990E-4495-AB86-DD93028B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111D-02CC-4D59-BFC8-F278B1AA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13DE3-C433-48C2-AC15-FA2B470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67D8-B2FC-4693-8744-37FAA2B7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8CC4C-EFA0-4EDE-9104-BE4BD511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AE87-F3E8-4814-B94B-B91ABA4F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A1A4-ADB1-4BCA-A088-A1234A1E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705-49D4-4C13-A120-8CDC83C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C911-E334-454E-A28D-22E0DFD0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5598-1E6E-4A9D-8172-67698911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65CD9-E640-4F39-8484-B8E6599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2D263-387B-4367-92E0-B2285AE2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BCB9A-686E-49A5-B4EE-D2433298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4580-0D48-40FE-85C0-DEFE86E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B6E0-9829-4D93-9BEB-74543A1A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105C2-EE71-440E-92A5-AC37417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8A7E5-ED4F-4A24-9F63-1B956954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83E9-C7B9-4867-A22A-B19C890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D99-0F79-4276-A223-0DF5B0F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D84B3-A25C-4D36-A9ED-BF98DDCB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3663-747F-4A16-9626-FA82BEBB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D3AAB-BF55-4ACC-B24C-80FC4D3F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5DA97-7C8F-4841-9B1F-0B19FC62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314A-946D-4D27-BDF4-9D910CE9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0E57-905A-4F44-8121-99284C37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2DA0A-FA7F-431D-B1A9-D3B65C2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CDB4-926F-42E4-9A2D-CA4B0606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E88C2-B0AC-4A8C-924D-67795B8D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81AB-6007-4BCA-8700-9AAB8F0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A06-7B6E-4EF7-987A-C4DD0852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FE667-3116-4C59-B55A-728EE100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385E-CF75-4730-96D0-F336498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187E2-7E76-4F53-9EBC-C28400A5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277B-5045-4C62-8367-ADF265B3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2CB2F-425E-45B9-B40D-2437969B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64CCA-91A9-4207-B2D9-6A9B67A2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1AB3-6F46-4405-8FC4-1B54B6D7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C33B8-E2E6-40CD-BDA1-6151DDBB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DBB76-A039-47DA-8300-949E2021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D6DE0-531F-424A-822A-FED78972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C19-AADF-4875-B5B1-2C71BE5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FF154-075D-446A-A9B1-C000486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1DAA-E273-4D7A-A4FF-7BF5A9C6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8C946-1659-49CF-8D28-19D6DD4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2BA0A-DADE-444B-9BC3-B37E2148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712FF-F848-4663-810A-D22551B0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004C1-9952-46D7-A2FB-E19D573E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9A03E-11C4-4B3D-B37D-ED79AA43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480A7-DDB9-4547-98C9-F3B88692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8C589-A5A0-41A7-A6C8-5BE7484F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DFDDC-145A-427F-B2F0-2ECEFB1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3400-2B72-45D0-81C5-AF4FE1C4A2B4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2D49-703F-4CB9-A993-CD8A4F206917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132D-DA3F-44E1-A068-AD4A3313014F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B056-5184-4B41-A036-460A19B9FBFB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CB2-AE49-4996-ABC2-C9B9419B983F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6BE-CC1A-44D0-BF3F-E85946EF4EDA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CF0B-2F65-4AD4-A281-924A14EF3B94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0E25-31B5-41D9-9415-3C2EF7818644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7871-7659-4664-98D6-BE2C99BD415F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ůmyslová revolu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Materiální možnosti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Přírodní kapitá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ová průmyslová revolu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Meze prosperity, pokrok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eny komodit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9" descr="C:\Users\admin\Desktop\EIAManufacture1c.gif"/>
          <p:cNvPicPr/>
          <p:nvPr/>
        </p:nvPicPr>
        <p:blipFill>
          <a:blip r:embed="rId2"/>
          <a:stretch/>
        </p:blipFill>
        <p:spPr>
          <a:xfrm>
            <a:off x="4572000" y="1714680"/>
            <a:ext cx="4295880" cy="19904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apitál a jeho typ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Degenerat. proces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lekt. Posu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Diagram 3" descr=""/>
          <p:cNvPicPr/>
          <p:nvPr/>
        </p:nvPicPr>
        <p:blipFill>
          <a:blip r:embed="rId2"/>
          <a:stretch/>
        </p:blipFill>
        <p:spPr>
          <a:xfrm>
            <a:off x="3041640" y="2567160"/>
            <a:ext cx="6108840" cy="4078080"/>
          </a:xfrm>
          <a:prstGeom prst="rect">
            <a:avLst/>
          </a:prstGeom>
          <a:ln w="0">
            <a:noFill/>
          </a:ln>
        </p:spPr>
      </p:pic>
      <p:sp>
        <p:nvSpPr>
          <p:cNvPr id="407" name="Zahnutá šipka dolů 4"/>
          <p:cNvSpPr/>
          <p:nvPr/>
        </p:nvSpPr>
        <p:spPr>
          <a:xfrm rot="20115000">
            <a:off x="3700440" y="3028680"/>
            <a:ext cx="2000160" cy="714240"/>
          </a:xfrm>
          <a:custGeom>
            <a:avLst/>
            <a:gdLst>
              <a:gd name="textAreaLeft" fmla="*/ 433080 w 2000160"/>
              <a:gd name="textAreaRight" fmla="*/ 1477800 w 200016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4" hR="21600" stAng="10800000" swAng="5400000"/>
                <a:lnTo>
                  <a:pt x="11283" y="0"/>
                </a:lnTo>
                <a:arcTo wR="9354" hR="21600" stAng="-5400000" swAng="3551650"/>
                <a:lnTo>
                  <a:pt x="21303" y="16200"/>
                </a:lnTo>
                <a:lnTo>
                  <a:pt x="19672" y="21600"/>
                </a:lnTo>
                <a:lnTo>
                  <a:pt x="17446" y="16200"/>
                </a:lnTo>
                <a:lnTo>
                  <a:pt x="18410" y="16200"/>
                </a:lnTo>
                <a:arcTo wR="9354" hR="21600" stAng="-1848350" swAng="-3397426"/>
                <a:lnTo>
                  <a:pt x="10318" y="115"/>
                </a:lnTo>
                <a:arcTo wR="9354" hR="21600" stAng="-5554224" swAng="-5245776"/>
                <a:close/>
              </a:path>
              <a:path fill="darkenLess" w="21600" h="21600">
                <a:moveTo>
                  <a:pt x="0" y="21600"/>
                </a:moveTo>
                <a:arcTo wR="9354" hR="21600" stAng="10800000" swAng="5400000"/>
                <a:lnTo>
                  <a:pt x="9354" y="0"/>
                </a:lnTo>
                <a:arcTo wR="9354" hR="21600" stAng="-5400000" swAng="154224"/>
                <a:lnTo>
                  <a:pt x="10318" y="115"/>
                </a:lnTo>
                <a:arcTo wR="9354" hR="21600" stAng="-5554224" swAng="-5245776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ahnutá šipka doprava 5"/>
          <p:cNvSpPr/>
          <p:nvPr/>
        </p:nvSpPr>
        <p:spPr>
          <a:xfrm rot="5996400">
            <a:off x="7369200" y="2327760"/>
            <a:ext cx="714600" cy="1785960"/>
          </a:xfrm>
          <a:custGeom>
            <a:avLst/>
            <a:gdLst>
              <a:gd name="textAreaLeft" fmla="*/ 95760 w 714600"/>
              <a:gd name="textAreaRight" fmla="*/ 618840 w 714600"/>
              <a:gd name="textAreaTop" fmla="*/ 379440 h 1785960"/>
              <a:gd name="textAreaBottom" fmla="*/ 131724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80" stAng="-5400000" swAng="-5400000"/>
                <a:lnTo>
                  <a:pt x="0" y="11340"/>
                </a:lnTo>
                <a:arcTo wR="21600" hR="9180" stAng="10800000" swAng="-3523212"/>
                <a:lnTo>
                  <a:pt x="16200" y="21308"/>
                </a:lnTo>
                <a:lnTo>
                  <a:pt x="21600" y="19440"/>
                </a:lnTo>
                <a:lnTo>
                  <a:pt x="16200" y="16988"/>
                </a:lnTo>
                <a:lnTo>
                  <a:pt x="16200" y="18068"/>
                </a:lnTo>
                <a:arcTo wR="21600" hR="9180" stAng="7276788" swAng="3350269"/>
                <a:lnTo>
                  <a:pt x="150" y="10260"/>
                </a:lnTo>
                <a:arcTo wR="21600" hR="9180" stAng="-10627057" swAng="5227057"/>
                <a:close/>
              </a:path>
              <a:path fill="darkenLess" w="21600" h="21600">
                <a:moveTo>
                  <a:pt x="21600" y="0"/>
                </a:moveTo>
                <a:arcTo wR="21600" hR="9180" stAng="-5400000" swAng="-5400000"/>
                <a:lnTo>
                  <a:pt x="0" y="9180"/>
                </a:lnTo>
                <a:arcTo wR="21600" hR="9180" stAng="10800000" swAng="-172943"/>
                <a:lnTo>
                  <a:pt x="150" y="10260"/>
                </a:lnTo>
                <a:arcTo wR="21600" hR="9180" stAng="-10627057" swAng="5227057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Zahnutá šipka doprava 7"/>
          <p:cNvSpPr/>
          <p:nvPr/>
        </p:nvSpPr>
        <p:spPr>
          <a:xfrm rot="8295000">
            <a:off x="6891120" y="3198960"/>
            <a:ext cx="714240" cy="1814400"/>
          </a:xfrm>
          <a:custGeom>
            <a:avLst/>
            <a:gdLst>
              <a:gd name="textAreaLeft" fmla="*/ 95400 w 714240"/>
              <a:gd name="textAreaRight" fmla="*/ 618840 w 714240"/>
              <a:gd name="textAreaTop" fmla="*/ 385200 h 1814400"/>
              <a:gd name="textAreaBottom" fmla="*/ 1334520 h 18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74" stAng="-5400000" swAng="-5400000"/>
                <a:lnTo>
                  <a:pt x="0" y="11300"/>
                </a:lnTo>
                <a:arcTo wR="21600" hR="9174" stAng="10800000" swAng="-3137852"/>
                <a:lnTo>
                  <a:pt x="14863" y="21142"/>
                </a:lnTo>
                <a:lnTo>
                  <a:pt x="21600" y="19410"/>
                </a:lnTo>
                <a:lnTo>
                  <a:pt x="14863" y="16762"/>
                </a:lnTo>
                <a:lnTo>
                  <a:pt x="14863" y="17889"/>
                </a:lnTo>
                <a:arcTo wR="21600" hR="9174" stAng="7662148" swAng="2967662"/>
                <a:lnTo>
                  <a:pt x="146" y="10236"/>
                </a:lnTo>
                <a:arcTo wR="21600" hR="9174" stAng="-10629810" swAng="5229810"/>
                <a:close/>
              </a:path>
              <a:path fill="darkenLess" w="21600" h="21600">
                <a:moveTo>
                  <a:pt x="21600" y="0"/>
                </a:moveTo>
                <a:arcTo wR="21600" hR="9174" stAng="-5400000" swAng="-5400000"/>
                <a:lnTo>
                  <a:pt x="0" y="9174"/>
                </a:lnTo>
                <a:arcTo wR="21600" hR="9174" stAng="10800000" swAng="-170190"/>
                <a:lnTo>
                  <a:pt x="146" y="10236"/>
                </a:lnTo>
                <a:arcTo wR="21600" hR="9174" stAng="-10629810" swAng="5229810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působ myšlení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ízká hodnota přírodního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výšení produktivity přírodních zdrojů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Šrafovaná šipka doprava 6"/>
          <p:cNvSpPr/>
          <p:nvPr/>
        </p:nvSpPr>
        <p:spPr>
          <a:xfrm rot="2613000">
            <a:off x="961560" y="2390400"/>
            <a:ext cx="5786640" cy="1785960"/>
          </a:xfrm>
          <a:prstGeom prst="pie">
            <a:avLst/>
          </a:prstGeom>
          <a:solidFill>
            <a:srgbClr val="f0a22e">
              <a:alpha val="68000"/>
            </a:srgbClr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ovéPole 7"/>
          <p:cNvSpPr/>
          <p:nvPr/>
        </p:nvSpPr>
        <p:spPr>
          <a:xfrm>
            <a:off x="6072120" y="557208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Nová průmyslová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C:\Users\admin\Desktop\06.06.15.HolySmokeMir-X.gif"/>
          <p:cNvPicPr/>
          <p:nvPr/>
        </p:nvPicPr>
        <p:blipFill>
          <a:blip r:embed="rId1"/>
          <a:stretch/>
        </p:blipFill>
        <p:spPr>
          <a:xfrm>
            <a:off x="4191120" y="1071720"/>
            <a:ext cx="4952880" cy="3695400"/>
          </a:xfrm>
          <a:prstGeom prst="rect">
            <a:avLst/>
          </a:prstGeom>
          <a:ln w="0">
            <a:noFill/>
          </a:ln>
        </p:spPr>
      </p:pic>
      <p:pic>
        <p:nvPicPr>
          <p:cNvPr id="415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střed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Limitující faktor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výšení produktivity zdroj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lné ocenění všech forem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Users\admin\Desktop\news5_strategy.jpg"/>
          <p:cNvPicPr/>
          <p:nvPr/>
        </p:nvPicPr>
        <p:blipFill>
          <a:blip r:embed="rId1"/>
          <a:stretch/>
        </p:blipFill>
        <p:spPr>
          <a:xfrm>
            <a:off x="5072040" y="1928880"/>
            <a:ext cx="3591000" cy="3548160"/>
          </a:xfrm>
          <a:prstGeom prst="rect">
            <a:avLst/>
          </a:prstGeom>
          <a:ln w="0">
            <a:noFill/>
          </a:ln>
        </p:spPr>
      </p:pic>
      <p:pic>
        <p:nvPicPr>
          <p:cNvPr id="418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Radikální produktivita zdroj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Biologické mimik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konomika služeb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vestování do přírodního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7:15:24Z</dcterms:created>
  <dc:creator>Heczko Michal</dc:creator>
  <dc:description/>
  <dc:language>en-US</dc:language>
  <cp:lastModifiedBy>Heczko Michal</cp:lastModifiedBy>
  <dcterms:modified xsi:type="dcterms:W3CDTF">2008-11-02T20:35:40Z</dcterms:modified>
  <cp:revision>21</cp:revision>
  <dc:subject/>
  <dc:title>Kapitalismus nové civilizace</dc:title>
</cp:coreProperties>
</file>