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61D-E99F-4A57-821A-D79DDB9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D60-9593-4C49-92B7-5E2A0900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263-EC0A-4CDB-9ED8-47E2DAA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91A-9A1E-4178-9B57-3AA8EFA1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9D5-0A9A-484A-831D-A380E6E6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102-6A97-420F-81A0-E4B27DD3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37C-040D-4925-ACDC-03D4381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7D9-ACBC-40E7-83BB-066B85BE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60D-33BE-4B73-8D05-04A1E17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0919-D163-4F9E-BCFA-B0E42040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C83-DAC1-4185-B0DA-5FB3477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C0A-0812-4273-BF45-FE78822C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2F9-6AA6-4077-A313-8180C45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C07F-657E-4E80-8FEE-DDE63F0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9DDC-D0CB-463B-9F26-EE0A7E88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FC7B-E8F8-4078-BB01-689B4E69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48AD-EFB1-4D24-B381-C7D21946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81A7-1B7C-4F71-8B9B-1B69B235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C0AA-D97C-4C76-B4CC-355F98D2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5313-AB4C-4BDA-83E2-E1647C8C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3670-2C62-41A0-BDCB-370F8B5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6FF8-0080-4C68-83E2-276F3F2A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D1A-730D-47B2-BE31-3385454F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1300-E02F-45F7-AFCB-C3A1717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E709-8CB6-47B0-BA04-620B25FC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71D8-C9E3-468D-9588-CE6C419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14F5-31B6-4717-9D4B-5FA740C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B27C-A66F-404F-AC25-E7E6E4B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8469-A77B-44E0-8922-8FAFD7DF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1547-F6E9-4293-B829-AB144A60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0684-8419-4247-BDF8-0929C891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17D2-59BA-48FD-A069-55A220DA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83E3-38D1-40B9-956D-F234B7EE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F61-D099-4093-B856-BFAB1B5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C65B-55CB-4A3C-B296-E9B5A1F0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61E9-9DD9-4085-83AC-961FA6ED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09C9-3677-4586-B3B7-BA8DE0A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ECB4-B056-4E59-888C-B343E51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3885-9335-4E1C-B032-CD922F2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A944-6FAD-478C-8DBA-D817E86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4A53-BECC-40D4-8CFF-E33CDAE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620F-CFC8-4901-A7AD-B46E52D6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EBB0-674B-41C1-A88C-A003AE8B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AF1-092C-48CD-B5AB-7FF9EB35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09E-8600-4F33-A324-886C532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B07-6752-4963-ACA2-B7FA71B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95B-7F6E-4834-BC0E-1170070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15F-A96F-4719-BF2F-CEAD231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1D8-7F3D-4DDA-B819-28CFF6DFBE47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8592-7C81-4D67-9A63-3A9D3CC03DD6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C9A-85D6-483D-A955-5525C59E3DE4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A378-2F93-4D3D-8E96-41933CC10561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v postmoderní době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00480" y="4357800"/>
            <a:ext cx="268596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Kincl Pa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e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Management a etika zodpovědnost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Řízení fungovalo „na kázni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Taylorovské podnikání = vykořisťování pracovní sí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nes funguje „na etice“ – potlačuje se pohrdání člověk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gement a etika = vytvářejí dvě zrcadlové tváře téhož fakt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00040" y="2286000"/>
          <a:ext cx="8229600" cy="274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st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yramidální a autoritativ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tivní a horizontální management (=„kopernikánský obrat“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chanické rozdělení úko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rzačení lidského potenc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zvýšit iniciativu každého jedince „zmobilizovat inteligenci vše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dynamizovat tvůrčí zdroje všech spolupracovníků a rozvinout kvalitu života v prá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Taylorovský podnik vs. Posttaylorovský podni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v managementu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bavuje organizace strnul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novuzrození normativního ideálu hodn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středěnější pozornost k psychologickým a relačním ukazatelům pracovní motiv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ní fáze věku konzumu charakteristické binární opoz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olno-prá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Štěstí-kázeň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oukromý život – profesiní živ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časnost, nové zaměření volného času („neopalovat se do blba“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ykly kulturního vzděláván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emináře duchovní medit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entra prohlubování vědom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ka zodpově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nastoluje autoritativní normy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ýbrž činí zodpovědnost předmětem to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uší strohý protiklad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- Profesní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Soukromý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omocí autonomie a osobního roz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ý přístup ke správě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at jin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mená též pracovat ví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sttaylorovské podniká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 personál připravený na změnu, motivovaný a odhodlaný k záp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rod metod a kurzů tzv. „osobního rozvoje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tická jednohlas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ofesní úbytek kvalifikace, sociální rozpolcenost a vytlačování na okraj spole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valozpěv, úcta vede k tajnůstkářským a opovrženíhodným praktik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těchto podmín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malé nadšení pro posttaylorovskou formu organizace prá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sem současných spole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pouze touha po spoelčenském a morálním uzn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moderní individualismus ji nevynalézá, avšak šíří ji do oblastí, jichž se kdysi týkala jen málo nebo vů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tah jednoho člověka k druhém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strukturován vymýcením všech forem segregace, pokořování a poniž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etický ohled v řízení zaměstnanců má před sebou skvělou budouc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užité 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hompson M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Přehled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Lipovetsky G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Soumrak povin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ilosozická disciplí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rálka, normy jednání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odnoty a principy v jednáních, při kterých existuje svobodná vů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voj v období antiky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(Sokrates, Platon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ní úloha = potlačit nezodpovědný individualism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na první strá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zrůstající role a moc médií =&gt; roste i krize důvě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édia a informace = symboly manipu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tika médií – degradace demokraci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naha posílit žurnalistické povin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médií – dnes v centru zájm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rupce v médiích – dříve a d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formační a mediální et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hvála profesiona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žadavek spravedlivé svobody tisku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Komerční log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 pozvednutím kulturní úrovně – „trh s pravdou“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„senzační“ tisk</a:t>
            </a:r>
            <a:br>
              <a:rPr sz="2600"/>
            </a:b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=&gt; dualizace tis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ňatek etiky s byznys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mach obchodní etiky -&gt; ve velkých amerických firmá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znikaly tak etické kodexy – závazná pravidla náležitého chování uvnitř podnik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hics pay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is busines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é kodexy se jevily jako překážka ekonomické výkonnosti = šlo o z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ethic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enství morálních hodnot -&gt; etika se stává výkonným pomocníkem ekonomi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Ideálem je „spravedlivý střed“ – rovnováha mezi různými protikladnými zájmy ekonomických a společenských činite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Etické kodexy vs. podnikové projek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nikové projekty – cílem je vyjádřit záměr firmy a její hlavní sn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2960" y="2786040"/>
          <a:ext cx="7786800" cy="367344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tické kodexy –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dnikové projekty – Fran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zdíl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ymezuje závazky a práva každého zaměst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novuje cíle pokroku a širší ideály, které dávají podniku kolektivní smy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ilují o zvýšení zodpovědnosti normativní cestou „morální smlouvy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ipoutává zaměstnance výrazem sdílené kolektivní vů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poleč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íra manažerů ve výkonnost, postup předávání zodpovědnosti a zapojení personálu „kulturní“ cest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dnik neklade do popředí přejatý a neměnný zákon, nýbrž v principu si své zásady ukládá po proběhnutí kolektivní deba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ývoj obchodní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ábožensk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ciální – společenské zodpovědnosti podni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Snaha uspokojit legitimní očekávání a požadavky společnosti – v diskuzi s nátlakovými skupinami, anebo sám od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siness et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Podnik musí sám zreformovat své principy a praktiky a nastoupit trvalou stálou cestu úcty k morálním normá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opad na manažery podni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žerský diskur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sahem je:  manažer by se měl vždy chovat poctivě, nešidit sebe sama a respektovat své závaz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 vytyčuje směr „new age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4:30:20Z</dcterms:created>
  <dc:creator>snoopy</dc:creator>
  <dc:description/>
  <dc:language>en-US</dc:language>
  <cp:lastModifiedBy>Marek</cp:lastModifiedBy>
  <dcterms:modified xsi:type="dcterms:W3CDTF">2008-10-30T06:00:52Z</dcterms:modified>
  <cp:revision>2</cp:revision>
  <dc:subject/>
  <dc:title>Etika</dc:title>
</cp:coreProperties>
</file>