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AD5-6928-4972-8854-8993FC10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B50-27C4-4FB5-96E7-0CE54391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F4E4-D1F4-47EE-9B25-308563E0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E73-7ECB-4597-B08C-58634880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41FF-D67D-46B8-8417-E42FB152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48DC-8EB4-49D2-A2AD-A8937554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B6CD-E802-44EE-BE07-185DCB1E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F162-F859-44B5-9078-11E267ED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50C7-A942-4005-BC6F-BDB1104B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1A51-9AEE-4FC4-A92A-B9F86F14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C8E0-6106-40C7-85D9-D131F449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F91C-D82B-4067-90A1-F414A843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E7FC-4BFB-474D-8470-9020712C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CD6E-C6E0-472E-A8AD-1F794A44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3873-0E2F-4B56-A7CC-ECF0BC4D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45ED-9E10-4BEA-BB91-7CC2693E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ED2E-B092-42C5-929C-5FA04F3E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98F-0E57-43CB-8E9B-05DD0206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778-5555-42C9-8723-6F2D0F77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C43A-F6D0-45F2-A7DA-AFA0D579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33C-1674-4BBE-BE89-AF1968D6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BEE-FC03-48C1-A624-34DA60B8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C55-7832-4F8A-BD70-A0573BB3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9E87-5893-41F5-9006-418A024A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1C39-7F94-42A6-8E7B-753D3F9DC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91F6-A36E-472D-9CA4-4598A13779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Kapitalismus nové civiliz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4869000"/>
            <a:ext cx="6008760" cy="13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avel Popel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artin Lošť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artin Vymyslick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Dokončené projekty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e komerční stav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yklace stavby, materiály, pů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tová výsta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třebič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říroda a vlák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lesů získáváme výrobky z papíru a stavební dře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ste objem spotřeby papíru (5x rychleji než lidská popula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ční spotřeba na osobu 45-90 kg papí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% vyrobeného objemu přechází do „kulturní paměti“, zbytek odp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ír představuje 2% světového obchodu a 2,5% průmyslové výro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Jak nahrazovat papír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26560" y="141264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íl: nahrazovat „vlákna elektrony a papír pixely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ulturní revoluce – přechod k elektronické kanceláři s vyloučením papí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soká počáteční investice, ale získání trvalé konkurenční výhody (snížení nákladů, rychlejší a inteligentnější informační toky, rozhodování atd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oviny a časopisy – internetové verze, velký potenciál k úsporám (např. nedělní New York Times spotřebují na jedno vydání 75 000 stromů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Kombinace úspo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e úspor v různých částech hodnotového řetězce (od těžby surovin přes zpracování a dopravu až po distribuci služeb), úspory lze mezi sebou násob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ílem je zefektivňovat každý krok cesty od dřeva až ke službě zákazníko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ůraz na úspory, které mají nejblíže k zákazníkovi (kolik uspokojení přinese spotřebiteli každá jednotka služeb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Způsoby zlepšování účinnost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erénní účinnost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k účinně se lesy transformují na primární produk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fektivita transformac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k se primární produkty transformují na meziprodukty jako např. papí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Účinnost pro koncového uživatel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e meziproduktu do distribuovaných služ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unkční účinnost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k finální produkty zvyšují uspokojení potř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aktory zlepšení se budou násobit a poptávka po těžbě dřeva se sníží o 96%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Materiálové smyčky - recykl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16999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řevěné přepravní palety – výroba představuje asi 11% veškerého stavebného dřeva (6 palet na jednoho Američa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opravují se, vyřazují se, odpad by ročně stačil na nosnou konstrukci 300 000 do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ětovné využití přináší nejen úsporu, ale i nová pracovní mí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ná změna ekonomické stimul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Materiálové smyčky - recykl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yklační kopírky – smažou stopy tonerů na papíru tak, že se dá použít až desetkrát po sob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merový inkoust – spláchne se z papíru tím, že se vloží do vody o teplotě 54°C, následně se recykluje i smytý inko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zšíření této techniky sníží spotřebu materiálu pocházejícího přímo z lesa o 9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"/>
              </a:rPr>
              <a:t>Děkujeme za Vaši pozor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Úvo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84428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ší průmyslová revolu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sun z důrazu na lidskou produktivitu na radikální zvýšení produktivity zdroj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ěřování k udržitelnému ekonomickému modelu a ke snahám o zabránění globální ekologické kriz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chod od ovlivňování života technologiemi k ovlivňování technologií živo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lená revoluce – konkurenční výho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Destrukce biosfé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 posledních 30 let spotřebována 1/3 zdrojů plan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dní ekosystémy - úbytek 5% roč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polovina 20. stole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ehodnocení čtvrtiny veškeré orné pů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kácení třetiny lesních porost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íroda je nejenom zdroj materiálů, ale zajišťuje udržování podmínek nezbytných pro život - monetárně neocenitelné a bez možných substitut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řírodní kapitalism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rod nového typu kapitalis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měna filozofie, cílů a proces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centrace kapitálu vs. úbytek přírodního kapitá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ze prosperity - určovány spíše přírodním kapitálem, než výkony průmys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řírodní kapitalismus a jeho předpokl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tředí není okrajový fak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votní příčiny úbytku přírodního kapitá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patně navržené obchodní systé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ční rů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šetrná spotře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né oceňování všech forem kapitá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lepšování kvality a toku služeb namísto zvyšování celkových finančních to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řírodní kapitalismus a jeho předpokl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konomická a environmentální udržitelnost závisí na vyrovnání v globální nerovnosti v příjmu a v materiálním blahoby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lepší prostředí pro obchod – demokratické systémy založené na uspokojování potřeb lidí spíše, než na busines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„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Zelené“ projektován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eticky úsporné stavby, vnitřní vybavení, osvětlení, spotřebiče a další zaříz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é aktivní vytápění a chlazení nebo vůbec bez n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tší vizuální, termální a akustický komfort vytváří prostředí s nízkou úrovní stre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pší kvalita ovzduší v budovách at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Otázka nákladovosti, hospodářské efekty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dpoklad vyšších nákladů za postavení „zelené“ budovy  X snižování jiných nákla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Účinné nové budovy ušetří okolo 80% z tradiční spotřeby ener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elené projekty se rychleji prodáva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ižší úroveň stresu, vyšší produktivita práce (příklad firmy Lockheed, Wall-Ma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Otázka projek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ovaný projekční proces – týmově orientovaný proces, kterého se účastní všechny zainteresované osoby na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orář projektantů - procentuální podíl z ceny budov či vybavení  X  jiný stimulující způso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08:57:48Z</dcterms:created>
  <dc:creator/>
  <dc:description/>
  <dc:language>en-US</dc:language>
  <cp:lastModifiedBy>Popl</cp:lastModifiedBy>
  <dcterms:modified xsi:type="dcterms:W3CDTF">2008-11-03T21:40:09Z</dcterms:modified>
  <cp:revision>19</cp:revision>
  <dc:subject/>
  <dc:title>Kapitalismus nové civilizace</dc:title>
</cp:coreProperties>
</file>