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3C0-8836-4A65-B388-5086D9D3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590-49F3-481C-A905-18EB52E8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29C-18A6-44DD-969D-32FC6511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0A6-E7C8-4B35-BC64-FC0A3BC6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E91E-319D-4FB8-9376-F1A5A814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E866-26FC-47B2-A265-72ED8DAD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4D4F-C895-42EB-979A-DB452A63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52D0-A8B5-47FB-97C3-BA4D0FDE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DA56-DE9F-4BEA-9627-DF5A3740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B8D9-29D8-40E6-8C50-464C4E6D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4EB5-5AEF-495C-B801-E2C6A3C7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E43-27A8-4639-B8D7-BBEE89C8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8C07-059E-4432-B7B4-4458342E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3B08-0536-489E-ACAE-E185FF8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23AB-722C-4FE4-85B7-30AC9299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101A-7052-4636-8252-308FEDED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6D09-49F7-45C0-9F1F-A2DD1BB5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6A0-EA2F-457A-BFD4-23E2709F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C6F-EB52-4444-92C8-E11F5D55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B6B-9C57-475D-946F-A1294228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D3F-255A-4CC3-A1D6-5BB12D19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9F0-46E3-4488-A965-2F09F682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F21-0C7B-4F86-8DFE-55D8A3B6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0B6-A411-48D6-A0DB-6B805965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6CC5-9CD7-4723-858C-1071DF06A1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7B24-4761-4FDE-B295-9C4C0A0A12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eligentní projektování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jektování budo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elené do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kladová barié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Mudy, služby a to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tec firmy Toyota Taiichi Oh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eštihlující myšlení – metoda 4 vzájemně propojených prvk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skytování komplexních služ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ůst kapitál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periment BIOS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rodní kapitál – ekologický 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idské aktivity a tok ekosystémových služ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vestice do přírodního kapitá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říroda a vlák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binace druhů pro zvýšení úspor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06:25Z</dcterms:created>
  <dc:creator>Fido</dc:creator>
  <dc:description/>
  <dc:language>en-US</dc:language>
  <cp:lastModifiedBy>Fido</cp:lastModifiedBy>
  <dcterms:modified xsi:type="dcterms:W3CDTF">2008-11-03T22:38:16Z</dcterms:modified>
  <cp:revision>2</cp:revision>
  <dc:subject/>
  <dc:title>Inteligentní projektování</dc:title>
</cp:coreProperties>
</file>