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830-F2CE-4170-A412-AD1B85E7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CF1-2F5E-4C50-86E0-990FBFA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330-2851-4C3E-B6F5-88D28907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C9C-25F1-4AEF-9F89-B70AF658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6C15-506C-4EF1-843B-842C3CA3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B13F-92F9-43D6-89D0-39E2CCCF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6C28-3331-4B49-9367-E25DA361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BA97-2606-41DE-90F3-C35182CC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74D5-65F6-4219-BB5F-6A8AF7EF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741-0D96-434F-86C1-328B0335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C181-B389-46DE-8A12-371FD58F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DD1-8D0A-49B3-8EA6-E2A2F29D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2369-328F-419D-82F6-E56581BD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28C9-AD28-4CBF-A16D-E17A261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97DB-AC4A-4FF2-9CA9-04860717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577E-8EC0-489D-9F6F-5C6951F3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A9C8-637A-4C3D-8B71-CFED6DD4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4E7-6943-485E-9B13-98646E4F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55B-CF7F-4184-A90E-FB4A5C09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389-CD27-4340-993B-2789E3E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6D0-2881-4EF5-9735-D4600EFE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C21-39E4-4553-AEC9-4BFBC1A7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F8D-C9BF-4E08-895B-D5C6D6C4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D62-C5A0-4C38-84A0-A3A64D82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1F55-BC52-4C22-878F-C01B206D96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1AD0-51B4-423A-A104-1A105E1EC8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apitalismus nové civiliza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66880" y="48765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etra Krup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Lenka Valent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imona Doubk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6.11.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3. Ekonomika služeb a tok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un od ekonomiky zboží k ekonomice služ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my neprodávají zboží, ale služby – výrobek prostředkem, nikoli cí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. koberec – leasing tepla, krásy a pohodl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robce vlastníkem výrobku - údrž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4. Investování do přírodního kapitál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ínáme pocítíme velký nedostatek zdrojů, který se bude prohlubovat – ovlivňuje výrobu a zvyšuje nákla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noží se škody způsobené vlivy počas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sá množství vody, orné půdy, ryb na hlavu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rozí konflikty kvůli přístupu ke zdroj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řeba reinvestic do udržitelných, obnovujících se a zvyšujících se zásob přírodního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yčerpání zdrojů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kvěle prodejný mýt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jmír Hamp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ontroverze ohledně vyčerpání zdroj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pti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stoucí spotřeba fyzicky omezených přírodních zdrojů →zpomalení hospodářského rů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ěšitel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tastrofické vize nemají teoretické ani empirické opodstat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keptic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homas Malth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ůsledky růstu popul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avid Ricar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Hospodářské dopady omezené zásoby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imity růs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o 100 let vyčerpání klíčových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arciální řešení nemohou být úspěšn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lapsu zabrání pouze zbrzdění hospodářského rů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lthusiánství a ekolog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kologie x Ekologism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ismus se zelenou tvář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íla katastrofických scénář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otéza o globálním oteplo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č by vyčerpání nemělo děsi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ěřené zásoby x Celkové záso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poznání  relativizuje fyzickou omezenost zdr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hojnosti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Šok z ekologie </a:t>
            </a:r>
            <a:br>
              <a:rPr sz="44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neb politické systémy v rozpacích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47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an Kel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ber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Hlavní zásady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: všem lidem stejnou svobodu a práva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chat věcem volný průbě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íroda je bezprávný materiál, něco, co patří člověku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x ohrožení životních zájmů dosud nenarozených generací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řešení ekologických problémů – tržní mechanismus (privatizace přírody x zásahy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kritika liberalismu – člověk je částí celk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íroda nepatří člověku, ale člověk přírodě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lubinná ekologie – domyšlení ústřední liberální teze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mezíme-li svobodu člověka jen málo, nebo vůbec, stěží jako biologický druh přečkáme; omezíme-li ji výrazněji, nemusí to ve zdraví přežít liberalismu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Konzervat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Původní cíl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: uchování hodnot ohrožených nástupem průmyslové revoluce, obhajoba tradice, zavedených zvyků a institucí  x  přizpůsobiv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ochota zaregistrovat vážné ekologické hrozby           x  nutnost popřít základní principy svého uč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hierarchii ve společnosti nelze udržovat nezávisle na tempu změn; je-li nevratně poškozována příroda kolem nás, působí riziko ohrožení zpětně na lidi výrazně demokratickým až rovnostářským dopadem (negativní external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s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rodní kapital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čerpání zdrojů : skvěle prodejný mýt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Šok z ekologie aneb Politické systémy v rozpac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oci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zásluhou kapitalismu jako nezamýšlený ale zcela logický důsledek; vzniká v situaci, kdy je sociální spravedlnost nedostatková, zatímco zdroje se zdají být neomezen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éče o životní prostředí – neslučitelné rys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vzájemná solidarita mezi všemi skupinami li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zvyšování výrobní expanze společnosti jako cel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yšlenka solidarity - za socialismu přenesena do rodin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rozšíření na ostatní živé tv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WKEN, P. Přírodní kapitalism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MPL, M. Vyčerpání zdrojů - skvěle prodejný mýt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LLER, J. Šok z ekologie aneb Politické systémy v rozpac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řírodní kapit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titul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k se rodí další průmyslová revol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aul Hawken, Amory a L. Hunter Lovinsono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25560" y="1341360"/>
            <a:ext cx="3227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řírodní kapit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řírodní kapitá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zdroje, které poskytuje příroda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da, nerosty, ropa, stromy, ryby, půda, vzduch,… ale i živé systémy: pastviny, mokřady, ústí řek, oceány, deštné pralesy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nomika potřebuje 4 typy kapitál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dsk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anč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yrobený (stroje, továrny,…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řírodní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doposud podceňová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cepce přírodního kapitalism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rodní kapitál se vyčerpá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šetření přírodního kapitálu nikoli pomocí sankcí, zákazů a limitů, ale na základě aktivního a vynalézavého využívání, které bude 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konomicky výhod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íření ekologických cílů s ekonomickými – nesoupeří spolu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plňují 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→ integrované projektován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měny v myšle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měna firem – zodpovědnější k životnímu prostřed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myšlení lid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émy se nedají řešit způsobem myšlení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terý je vytvořil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A. Einstei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principy přírodního kapitalism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Radikální produktivita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Biologické mimik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Ekonomika služeb a to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Investování do přírodního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. Radikální produktivita zdroj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řeba zvýšit produktivitu zdrojů, resp. snížit materiálovou a energetickou náročnost výro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úspora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úspora peněz (snížení náklad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lepšení kvality živo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vá zlepšení otevřou i nový prostor pro vynalézavost, růst a rozvoj v oblasti obcho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ktor deset, faktor čtyř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lší průmyslová revol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. Biologické mimik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měna podstaty průmyslových procesů a materiá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nspirace v biologických systéme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nížení, resp. úplné vymizení odpa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valé znovuvyužívání materiálů v kontinuálně uzavřených cykle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0:33:30Z</dcterms:created>
  <dc:creator>172114</dc:creator>
  <dc:description/>
  <dc:language>en-US</dc:language>
  <cp:lastModifiedBy>snoopy</cp:lastModifiedBy>
  <dcterms:modified xsi:type="dcterms:W3CDTF">2008-11-05T18:03:17Z</dcterms:modified>
  <cp:revision>13</cp:revision>
  <dc:subject/>
  <dc:title>Kapitalismus nové civilizace</dc:title>
</cp:coreProperties>
</file>