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5AFFC-9B38-4783-BB70-7EB3880D1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26854-B261-4B5D-98BF-BE78CE066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918E2-F6EE-4926-8A45-0893FB801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5F7B1-A7AB-4E90-842E-64FBFC6E1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BC7A7-ED9C-441B-99C1-997DAEE17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6BCD3-B403-4E5C-B816-79A599418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6F9C5-D11E-4D25-8528-75C45C6A5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25A61-1233-402A-A6F9-6DE5F8FCB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F72ED-EA8E-4422-A5AE-02BFDEF4A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F5129-ADA7-45AD-AFC5-598DF4E9B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3D4D5-792F-417C-82B0-895F09590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183D7-93A6-4DF3-B443-87EB562D3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A8AA2-9964-4D29-A84D-381109CEC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7613C-65E4-4BCE-9805-EA149534E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CE5C1-DEA8-4129-914C-E7EF81B53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329CA-80A3-4013-B993-F6C35EB1C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07FBA-1CB0-41EE-AE53-607595D18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EED52-412A-42A4-8440-ED373818D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EBC31-4349-4A56-AA40-1A8070B3D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2FA05-3A04-46E5-855C-C438426B5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094CF-63E0-4D1B-9651-0BD458CC7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72F81-DE1D-4793-B2F8-CBCF58334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9572A-CCC5-4D04-8A86-00609EDE2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3BF6E-7E17-400A-9043-2D909815A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4A056-A5D0-4A1F-B8D2-DB2A5788D16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69D23-917B-4FEA-B160-CBD262FA9D1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RADIKÁLNÍ PŘEMĚNA PODNIKU</a:t>
            </a:r>
            <a:endParaRPr b="0" lang="en-US" sz="6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476360" y="393336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                    </a:t>
            </a:r>
            <a:r>
              <a:rPr b="0" lang="cs-CZ" sz="2400" spc="-1" strike="noStrike">
                <a:solidFill>
                  <a:srgbClr val="003366"/>
                </a:solidFill>
                <a:latin typeface="Tahoma"/>
              </a:rPr>
              <a:t>Bc. Hudcovský Tomáš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366"/>
                </a:solidFill>
                <a:latin typeface="Tahoma"/>
              </a:rPr>
              <a:t>            </a:t>
            </a:r>
            <a:r>
              <a:rPr b="0" lang="cs-CZ" sz="2400" spc="-1" strike="noStrike">
                <a:solidFill>
                  <a:srgbClr val="003366"/>
                </a:solidFill>
                <a:latin typeface="Tahoma"/>
              </a:rPr>
              <a:t>Bc. Nadim Ei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VÝBĚR PROCESU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dát procesům jmén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Prodej: od předběžného zájmu k obědnávc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procesní map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3 kritéria výběru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366"/>
                </a:solidFill>
                <a:latin typeface="Tahoma"/>
              </a:rPr>
              <a:t>NEFUNKČNOST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 (symptom, chorob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366"/>
                </a:solidFill>
                <a:latin typeface="Tahoma"/>
              </a:rPr>
              <a:t>VÝZNAM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366"/>
                </a:solidFill>
                <a:latin typeface="Tahoma"/>
              </a:rPr>
              <a:t>ZVLÁDNUTELNOST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 (faktory: rozsah, náklady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Tahoma"/>
              </a:rPr>
              <a:t>+ POROZUMĚNÍ PROCESŮ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Pozorováním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Benchmarketing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PROSAZENÍ (PŘESVĚDČENÍ)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ahoma"/>
              </a:rPr>
              <a:t>DŮVODOVÁ ZPRÁV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odnikatelský kontex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odnikatelský problé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ároky tržního prostředí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iagnostická čá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áklady nečinnost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ahoma"/>
              </a:rPr>
              <a:t>VIZ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vky - soustřeďuje se na činno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 zahrnuje měřitelné cíle a soustavu jejich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ěření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0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 mění základní konkurenční podmínky v odvětví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0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0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DŮVODOVÁ ZPRÁVA</a:t>
            </a:r>
            <a:br>
              <a:rPr sz="4000"/>
            </a:br>
            <a:r>
              <a:rPr b="0" lang="en-US" sz="4000" spc="-1" strike="noStrike">
                <a:solidFill>
                  <a:srgbClr val="003366"/>
                </a:solidFill>
                <a:latin typeface="Tahoma"/>
              </a:rPr>
              <a:t>- </a:t>
            </a: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farmaceutický podnik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Nejsme spokojeni s průběžnou dobou, kterou potřebujeme k vývoji a registraci nových léků ve Spojených státech a na hlavních mezinárodních trzích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Naši hlavní konkurenti mají podstatně kratší vývojové cykly, protože vybudovali rozsáhlé, vysoce pružné a globálně integrované výzkumné a vývojové organizace, které využívají jednotných pracovních postupů a společných informačních systémů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Konkurenční trend nepřeje naší skupině menších a nezávislých výzkumných a vývojových organizací, které jsou umístěny v různých decentralizovaných výrobních podnicích po celém světě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lné konkurenční a ekonomické podněty nás nutí, abychom co nejrychleji přešli ke globálně integrovanému modelu. Každý týden, který ušetříme v procesu vývoje a registrace, prodlužuje komerční životnost naší patentové ochrany a představuje minimálně 1 mil. USD dodatečného zisku před zdaněním ročně, a to pro každý lék v naší nabídce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e5ffff"/>
                </a:solidFill>
                <a:latin typeface="Tahoma"/>
              </a:rPr>
              <a:t>VIZE- </a:t>
            </a:r>
            <a:r>
              <a:rPr b="0" lang="cs-CZ" sz="3200" spc="-1" strike="noStrike">
                <a:solidFill>
                  <a:srgbClr val="003366"/>
                </a:solidFill>
                <a:latin typeface="Tahoma"/>
              </a:rPr>
              <a:t>Federal Express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„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Zásilku doručíme do půl jedenácté následujícího dne.“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NEJBĚŽNĚJŠÍ CHYBY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Snažte se proces vylepšit, místo toho abyste ho změnil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Nezaměřujte se na podnikové proces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Ignorujte vše s výjimkou redesignu procesu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Opomíjejte hodnoty a názory lidí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Angažujte se za dílčí, nepodstatné výsledk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Skončete příliš brz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Předem zužte vymezení problému a rozsah reengineeringového projektu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Připusťte, aby podniková kultura a postoje vedení zabránily zahájení reengineeringu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Usilujte o to, aby reengineering probíhal zdola nahoru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404280"/>
            <a:ext cx="8229600" cy="56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ffff"/>
                </a:solidFill>
                <a:latin typeface="Tahoma"/>
              </a:rPr>
              <a:t>Do čela reengineeringového projektu postavte člověka, který reengineeringu nerozumí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ffff"/>
                </a:solidFill>
                <a:latin typeface="Tahoma"/>
              </a:rPr>
              <a:t>Neúměrně šetřete na zdrojích určených pro reengineering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ffff"/>
                </a:solidFill>
                <a:latin typeface="Tahoma"/>
              </a:rPr>
              <a:t>Pohřběte reengineering v přívalu každodenních úkolů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ffff"/>
                </a:solidFill>
                <a:latin typeface="Tahoma"/>
              </a:rPr>
              <a:t>Rozptylujte energii na velký počet reengineeringových projektů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ffff"/>
                </a:solidFill>
                <a:latin typeface="Tahoma"/>
              </a:rPr>
              <a:t>Pusťte se do reengineeringu, když generálnímu řediteli scházejí dva roky do důchodu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ffff"/>
                </a:solidFill>
                <a:latin typeface="Tahoma"/>
              </a:rPr>
              <a:t>Nerozlišujte reengineering od jiných programů zdokonalování podnikových činností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ffff"/>
                </a:solidFill>
                <a:latin typeface="Tahoma"/>
              </a:rPr>
              <a:t>Soustřeďte se výhradně na projektování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ffff"/>
                </a:solidFill>
                <a:latin typeface="Tahoma"/>
              </a:rPr>
              <a:t>Snažte se realizovat reengineering tak, aniž byste se někoho dotkli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ffff"/>
                </a:solidFill>
                <a:latin typeface="Tahoma"/>
              </a:rPr>
              <a:t>Ustupujte, když lidé projevují odpor k reengineeringovým změnám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ffff"/>
                </a:solidFill>
                <a:latin typeface="Tahoma"/>
              </a:rPr>
              <a:t>Reengineeringový projekt protahujte co nejdéle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11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DĚKUJEME ZA POZORNOST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ahoma"/>
              </a:rPr>
              <a:t>O ČEM TO BUD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5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Kniha REENGINEERING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Současná situa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Reengineering- cesta ke změně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Reengineerinové proces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Změny vyvolané reengineeringe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Kdo provádí reengineering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Výběr proces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Prosazení (přesvědčení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Nejběžnější chyb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REENGINEERING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Autoři : </a:t>
            </a:r>
            <a:r>
              <a:rPr b="0" lang="cs-CZ" sz="3200" spc="-1" strike="noStrike">
                <a:solidFill>
                  <a:srgbClr val="003366"/>
                </a:solidFill>
                <a:latin typeface="Tahoma"/>
              </a:rPr>
              <a:t>Michael Hamm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Tahoma"/>
              </a:rPr>
              <a:t>           </a:t>
            </a:r>
            <a:r>
              <a:rPr b="0" lang="cs-CZ" sz="3200" spc="-1" strike="noStrike">
                <a:solidFill>
                  <a:srgbClr val="003366"/>
                </a:solidFill>
                <a:latin typeface="Tahoma"/>
              </a:rPr>
              <a:t>James Champ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Kniha : </a:t>
            </a:r>
            <a:r>
              <a:rPr b="0" lang="cs-CZ" sz="3200" spc="-1" strike="noStrike">
                <a:solidFill>
                  <a:srgbClr val="003366"/>
                </a:solidFill>
                <a:latin typeface="Tahoma"/>
              </a:rPr>
              <a:t>REENGINEERING – Radikální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Tahoma"/>
              </a:rPr>
              <a:t>                                     </a:t>
            </a:r>
            <a:r>
              <a:rPr b="0" lang="cs-CZ" sz="3200" spc="-1" strike="noStrike">
                <a:solidFill>
                  <a:srgbClr val="003366"/>
                </a:solidFill>
                <a:latin typeface="Tahoma"/>
              </a:rPr>
              <a:t>proměna firm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Jak vznikla koncepce reengineeringu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Staví na vlastnostech: individualismus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spoléhání na sebe sama,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Jádro: DISKONTINUÁLNÍ MYŠLENÍ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SOUČASNÁ SITUAC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svět Adama Smithe - paradigma včerejšk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DNES -  3C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19920" indent="-217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ZÁKAZNÍCI (</a:t>
            </a:r>
            <a:r>
              <a:rPr b="0" lang="cs-CZ" sz="3200" spc="-1" strike="noStrike">
                <a:solidFill>
                  <a:srgbClr val="003366"/>
                </a:solidFill>
                <a:latin typeface="Tahoma"/>
              </a:rPr>
              <a:t>C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USTOMER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1954440" indent="-217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zákazníci rozhodují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19920" indent="-217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KONKURENCE (</a:t>
            </a:r>
            <a:r>
              <a:rPr b="0" lang="cs-CZ" sz="3200" spc="-1" strike="noStrike">
                <a:solidFill>
                  <a:srgbClr val="003366"/>
                </a:solidFill>
                <a:latin typeface="Tahoma"/>
              </a:rPr>
              <a:t>C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OMPETITIO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1954440" indent="-217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konkurence se stává intenzivnějš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19920" indent="-217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ZMĚNA (</a:t>
            </a:r>
            <a:r>
              <a:rPr b="0" lang="cs-CZ" sz="3200" spc="-1" strike="noStrike">
                <a:solidFill>
                  <a:srgbClr val="003366"/>
                </a:solidFill>
                <a:latin typeface="Tahoma"/>
              </a:rPr>
              <a:t>C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HANGE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1954440" indent="-217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změna se stává neustálou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REENGINEERING – CESTA KE ZMĚNĚ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Reengineering= brát vše nebo nic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                       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= nový začáte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FORMÁLNÍ DEFINICE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Klíčová slova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cs-CZ" sz="3200" spc="-1" strike="noStrike">
                <a:solidFill>
                  <a:srgbClr val="003366"/>
                </a:solidFill>
                <a:latin typeface="Tahoma"/>
              </a:rPr>
              <a:t>ZÁSADN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Tahoma"/>
              </a:rPr>
              <a:t> </a:t>
            </a:r>
            <a:r>
              <a:rPr b="0" lang="cs-CZ" sz="3200" spc="-1" strike="noStrike">
                <a:solidFill>
                  <a:srgbClr val="003366"/>
                </a:solidFill>
                <a:latin typeface="Tahoma"/>
              </a:rPr>
              <a:t>RADIKÁLN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cs-CZ" sz="3200" spc="-1" strike="noStrike">
                <a:solidFill>
                  <a:srgbClr val="003366"/>
                </a:solidFill>
                <a:latin typeface="Tahoma"/>
              </a:rPr>
              <a:t>DRAMATICKÉ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- 3 druhy podniků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cs-CZ" sz="3200" spc="-1" strike="noStrike">
                <a:solidFill>
                  <a:srgbClr val="003366"/>
                </a:solidFill>
                <a:latin typeface="Tahoma"/>
              </a:rPr>
              <a:t>PROCESY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 - NEJDŮLEŽITĚJŠÍ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REENGINEERINGOVÉ PROCESY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ahoma"/>
              </a:rPr>
              <a:t>CHARAKTERISTIKY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ěkolik prací je spojeno do jedné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acovníci rozhodují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Kroky procesu jsou vykonávány v přirozeném sled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ocesy mají variantní provedení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áce se provádějí tam, kde je to nejrozumnější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dukují se kontrolní opatření a nástroj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inimalizují se smírčí jednání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nažer případu je jediným kontaktním míste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řevažují hybridní centralizované/decentralizované operac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e5ffff"/>
                </a:solidFill>
                <a:latin typeface="Tahoma"/>
              </a:rPr>
              <a:t>ZMĚNY </a:t>
            </a:r>
            <a:br>
              <a:rPr sz="4000"/>
            </a:br>
            <a:r>
              <a:rPr b="0" lang="cs-CZ" sz="4000" spc="-1" strike="noStrike">
                <a:solidFill>
                  <a:srgbClr val="e5ffff"/>
                </a:solidFill>
                <a:latin typeface="Tahoma"/>
              </a:rPr>
              <a:t>vyvolané reengineeringem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6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ĚNI SE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Tahoma"/>
              </a:rPr>
              <a:t>PRACOVNÍ JEDNOTK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d funkčních útvarů k procesním týmů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Tahoma"/>
              </a:rPr>
              <a:t>CHARAKTER JEDNOTLIVÝCH PRACOVNÍCH ČINNOSTÍ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d jednoduchých úkolů k mnohostranné prác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Tahoma"/>
              </a:rPr>
              <a:t>ROLE LIDÍ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d rolí podléhajících kontrole k rolím s větší pravomocí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Tahoma"/>
              </a:rPr>
              <a:t>PŘÍPRAVA K VÝKONU PRÁC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d výcviku ke vzdělání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404640"/>
            <a:ext cx="8229600" cy="612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cs-CZ" sz="2000" spc="-1" strike="noStrike">
                <a:solidFill>
                  <a:srgbClr val="003366"/>
                </a:solidFill>
                <a:latin typeface="Tahoma"/>
              </a:rPr>
              <a:t>ZAMĚŘENÍ NA VÝKONOVÁ KRITERIA A ZMĚNY V ODMĚŇOVÁNÍ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od činnosti k výsledků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cs-CZ" sz="2000" spc="-1" strike="noStrike">
                <a:solidFill>
                  <a:srgbClr val="003366"/>
                </a:solidFill>
                <a:latin typeface="Tahoma"/>
              </a:rPr>
              <a:t>KRITÉRIA POSTUPU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od výkonnosti ke schopnoste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cs-CZ" sz="2000" spc="-1" strike="noStrike">
                <a:solidFill>
                  <a:srgbClr val="003366"/>
                </a:solidFill>
                <a:latin typeface="Tahoma"/>
              </a:rPr>
              <a:t>HODNOT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od protektivních k produktivní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cs-CZ" sz="2000" spc="-1" strike="noStrike">
                <a:solidFill>
                  <a:srgbClr val="003366"/>
                </a:solidFill>
                <a:latin typeface="Tahoma"/>
              </a:rPr>
              <a:t>MANAŽEŘI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z dohlížečů v kouč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cs-CZ" sz="2000" spc="-1" strike="noStrike">
                <a:solidFill>
                  <a:srgbClr val="003366"/>
                </a:solidFill>
                <a:latin typeface="Tahoma"/>
              </a:rPr>
              <a:t>ORGANIZAČNÍ STRUKTUR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od hierarchické k ploché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cs-CZ" sz="2000" spc="-1" strike="noStrike">
                <a:solidFill>
                  <a:srgbClr val="003366"/>
                </a:solidFill>
                <a:latin typeface="Tahoma"/>
              </a:rPr>
              <a:t>VEDOUCÍ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ze zapisovatelů výsledků ve vůdčí osobnost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KDO BUDE PROVÁDĚT REENGINEERING?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773360"/>
            <a:ext cx="82296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Tahoma"/>
              </a:rPr>
              <a:t>VŮDČÍ OSOBNOST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 („lídr“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Tahoma"/>
              </a:rPr>
              <a:t>„</a:t>
            </a:r>
            <a:r>
              <a:rPr b="0" lang="cs-CZ" sz="2800" spc="-1" strike="noStrike">
                <a:solidFill>
                  <a:srgbClr val="003366"/>
                </a:solidFill>
                <a:latin typeface="Tahoma"/>
              </a:rPr>
              <a:t>VLASTNÍK“ PROCES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Tahoma"/>
              </a:rPr>
              <a:t>REENGINEERINGOVÍ TÝ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Tahoma"/>
              </a:rPr>
              <a:t>ŘÍDÍCÍ VÝBO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Tahoma"/>
              </a:rPr>
              <a:t>REENGINEERINGOVÝ CA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"/>
          <p:cNvSpPr/>
          <p:nvPr/>
        </p:nvSpPr>
        <p:spPr>
          <a:xfrm>
            <a:off x="5724360" y="2276640"/>
            <a:ext cx="79236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867280" y="3068640"/>
            <a:ext cx="792360" cy="647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076720" y="4581360"/>
            <a:ext cx="790560" cy="576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804000" y="4653000"/>
            <a:ext cx="647640" cy="1655640"/>
          </a:xfrm>
          <a:prstGeom prst="downArrow">
            <a:avLst>
              <a:gd name="adj1" fmla="val 50000"/>
              <a:gd name="adj2" fmla="val 63911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3T14:36:20Z</dcterms:created>
  <dc:creator>tomas</dc:creator>
  <dc:description/>
  <dc:language>en-US</dc:language>
  <cp:lastModifiedBy>tomas</cp:lastModifiedBy>
  <dcterms:modified xsi:type="dcterms:W3CDTF">2008-11-05T13:28:15Z</dcterms:modified>
  <cp:revision>27</cp:revision>
  <dc:subject/>
  <dc:title>RADIKÁLNÍ PŘEMĚNA PODNIKU</dc:title>
</cp:coreProperties>
</file>