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CAB-49ED-4F10-99D9-E1182B9E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D40-5C6F-4753-ADFC-6DA8FAD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1B4-FD74-4247-91B6-323F581A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476-05BD-4112-9E46-0332C06F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18C0-A1C2-49FA-9B78-2F4AC9DA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A65-5E39-4773-9B1F-ECAD99F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99E-450F-44EC-84CA-172FD2AD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BE53-F1C1-4D3B-BA3D-472D374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9D0-DCD0-4D7B-900F-56FA60E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EA9-218A-42C5-9FAF-FC14C60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BDAB-24E3-479B-876B-4B8970F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98C-2705-4827-B91D-07F2ADA0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1BED-E288-495C-B2B7-577325D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416-9A3A-4166-8996-F4504B8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500-E600-46BE-82E0-9B37659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D8FF-3D40-44D4-8A22-ECEAAD1E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AA0-17FF-4F83-875B-997A8DEA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8BE-AFEA-45FC-BDBE-1F8A6212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5A9-AFDA-4F64-B525-0A9FDB63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8BD-97C0-4409-A5F3-D3574C9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80B-11D5-4B02-AD1B-3E399B5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3FF-D171-4A9F-AFF9-30EF975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128-FB6D-453C-8EF8-4331173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6A0-8D0E-486F-8606-C60F047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CB93-BB92-46EF-8C6C-25BBF8F35D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B91-8733-4C6D-8771-94671AD933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adikální přeměna podniků: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racov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začít s reingeneeringem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me ochotni se k řízení procesu změn postavit pečlivě, odvážně a angažovan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ý reingeneering = „“dosáhnout obrovských přínosů jediným mocným rozmachem“, nikoli systematicky postupně dosahovat určitých příno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vní kro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dení definuje procesy, jichž se v organizaci uží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procesy se uspořádají podle významu a současné efe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ý krok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neme se, na kterých procesech chceme pracovat (současně max. 1-2 projek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mocí přiřazení KFÚ k proces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ritických faktorů úspěchu –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apř. spokojenost zákazníků, kvalitní zaměstnanci, vynikající dodavatelé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ím více KFÚ proces ovlivňuje, tím je důležitějš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ým oboduje procesy dle jejich dosavadní výko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enujeme reingeneeringový tým (5-7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ělíme role 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dící skup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ídící skupin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) vlastník podnikového proces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odpovědný za efektivnost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chápe přání zákazníků – určí správnost práce – řidí lidi kteří ji vykonávají, aby ji vykonávali efektivně)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(x klasická oddělení: pouze řízení lidí na určitém úseku vykonávání práce – může být vykonána efektivně nesprávná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Lídr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dr reingeneeringového tý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a vysoce výkonná a pracovně vytíž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manažer oddělení majícího klíčový význam pro reingeneer.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í kvality, nadšení pro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zprostředkovat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jež není součástí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á znalosti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í se na to, „jak“ postupovat, ne „co“ dě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ý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4) externí konzultatn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ano či 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koordiná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ze pokud máme ve firmě více než 1 proces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akty mezi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pracovní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ministrativní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6)Členové reingeneeringového tým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ich kolektivním úkolem je zajistit reingeneering proc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lidé ze střední úrovně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nadřízených/podřízených vztahů me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členů vč. Lí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. i specialistu neúčastnícího se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Úkoly reingeneeringového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opení procesu, který má být podroben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jeho vstupů, výstupů a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it požadavky zákaz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řit parametry současného procesu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(brainstorming týmu: „nedostatky“ x „přednosti“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soustředíme svou pozornost na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ze nového proces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konnostní kriteria – stanovte cíle =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ýsledky dosahované konkuren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možno uplatnit i v rámci jednotlivých lokalit poboček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 musí být v souladu 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rategií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zákaz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i formuluj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zitivn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(ne:bez jakýchkoli reklama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o: snížit počet rekla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viz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ěřite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ize začlen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innosti lidí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říklad z praxe – Jaguá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. léta x 60. léta (Bo-C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áta konkurenční 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ažers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vydělává x prodělá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vody pro vytvoření koncepce reengineerin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y pro fungování prvků tvořící podnik (struktura, management, výkonnost) – staré 200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ínky se radikálně změn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základní síly ovlivňující podnik – tzv. 3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se stává neustá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k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ce probl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n důsled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situ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zapojit zaměstnance a tak zvýšit jejich loajal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it hl. cíle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tit aktivity vedoucí k jejich dosa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cení a fixace nové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guár mimo korporac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ěné 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na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kvalita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esající presti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produktivita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á pracovní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kání se zaměstn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amžitá změna mnoha firemní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ní zruše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kce pracovník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ení kvality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cné povědomí o fungování firmy a jejich produ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ční a vzdělávací kampaň zaměstnanců všech organizačních stupň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ikace několika hlavních cíl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ovuobnov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stnanci, subdodavatelé a kontrolo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uštění, přísné předpisy, technologická modernizace, optimalizace některých proce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icencování, nová pravidla pro distributory, koncept nového vizuálního sty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odnocení a fixace dosažených změ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émní kva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ysoká produkti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kluzivní způsob prode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y akcií na burze velký vzes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MMER, M., CHAMPY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Management Press, 19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loš Drdla, Karel Rais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zení změn ve firmě - reengineering : jak vybudovat úspěšnou firm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 : Computer Press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SON, MIKE, ULLAH, PHILIP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ktická příručka podnikového reingeneering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anagement Press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1280" y="2361960"/>
            <a:ext cx="217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jem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: Znamená zásadní přehodnocení a radikální rekonstrukci podnikových procesů tak, aby mohlo být dosaženo dramatického zdokonalení z hlediska kritických měřítek výko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á slova: zásadní, radikální, dramatický,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začátek (jak bychom vytvořili podnik, kdybychom ho zakládali nyní) x pouhá ná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uštění starých prav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é jsou otázky PROČ něco děláme x jak to udělat rychleji, s nižšími nákl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ce na procesy ne na úkoly nebo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pokladem je nasazení informačních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é rysy reengineerovaných proces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olik prací spojeno do je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ky procesu vykonávány v přirozeném sl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ní provedení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kontrolních opa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r případu je jediným kontaktním mí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ace centralizace a decentr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y změ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jednotky: od funkčních útvarů k procesním tým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kter práce: od jednoduchých úkolů k mnohostranné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é získávají větší prav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přípravy k práci: od výcviku k vzděl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ři se stávají kou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ošťuje se organizač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ant podnikového systé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ov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funkce a                      Hodnoty a ná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y řízení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000" y="27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36572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27640" y="4365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516720" y="2852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informační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každého reengineeringu, je spolutvů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adavek induktivního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echnologie umožňují nasazení nových způsobů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vá pravidla pro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e jsou přítomny všude, kde jsou potřeb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zalista může vykonávat práci exp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ozní personál může předávat informace kdykoli a kdek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ci vám řeknou, kde js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ány se revidují průběž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5:58:47Z</dcterms:created>
  <dc:creator>Liduska</dc:creator>
  <dc:description/>
  <dc:language>en-US</dc:language>
  <cp:lastModifiedBy>Tereza</cp:lastModifiedBy>
  <dcterms:modified xsi:type="dcterms:W3CDTF">2008-11-10T00:09:01Z</dcterms:modified>
  <cp:revision>25</cp:revision>
  <dc:subject/>
  <dc:title>Reengineering</dc:title>
</cp:coreProperties>
</file>