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62F-43EA-49EC-BE4C-566CBF80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04F-E77E-4BC7-BFCE-27E8C26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529FE-83F7-4F41-BDD8-517C44D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06B9A-724A-48FA-A39C-72F5A60A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E595B-80C4-4331-9EFD-D9183D17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D51AD-8EF6-4C57-93BD-C3D42888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24E68-EDC1-4611-8B8E-FF8039D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0A695-E891-4F09-9369-0505F983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A2F7E-B0D6-4DB7-8C58-CCBAE61E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8E4E2-DCC5-48A2-A1BA-AE954A7B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5EBF1-64C6-4AB6-94B8-094A441A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45AA0-9AC7-4131-9C24-EF98FBE9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138-183A-4FA1-A985-52E4AA53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5EB02-5439-47F0-AEFD-37F06E9D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902B5-514E-46A4-A7EE-EEF7F5EB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C187F-63D3-4437-8EE5-329B49DF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CAA83-33C7-4CC0-9017-4E3E78F7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675F3-9144-4A81-AEC4-B904DB75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52262-EC27-4697-8A54-6F5783AB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F99FF-507F-4BB3-98B4-34839559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A0C14-9903-4F5C-B512-EB8E615E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E10AE-90C2-4A22-A63C-6696287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F5FF9-7B13-4988-9DB4-4F19E1C1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1EE-2823-4515-BC4D-2461CAA2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C7565-DC9D-45E7-98AC-0273B702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1D08B-A272-4D1A-AC32-98D0D21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610D0-C78F-4A04-B1F6-EF9EDC12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04814-34E0-4490-8974-90694C5C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8A517-2F1B-48B8-8F48-F512D477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54D77-1676-49CA-A0D8-35220B26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8BB5B-024C-4774-88C5-0E66FFAC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BF6E0-0806-43F5-9375-3C017E7E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847EC-B5E0-49F6-8CB7-6479384D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71211-F55F-4F1A-95B3-4A6FD335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08E6-4C2E-4147-9037-87E9C929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9304B-A49E-4D5C-8DF0-B558F91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888AC-A218-44D8-B0F4-367DD3C7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4B8A7-8345-4C18-8592-E299D179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635A9-F9EE-4BC8-ADCD-11E43A86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7F749-DCE1-40EA-AE82-50DCC730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4F7C9-26EB-4939-9226-4BEF6DDF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93B1F-41EC-476D-9091-CDACFFDC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BDA9A-C7C1-4957-9877-31F3B0FB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AF57A-018C-4A87-A420-B3578C4E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9DBB2-4700-4191-8E2C-29BE420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C76E-332B-4CED-9500-2607BC51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03DD2-EB64-43A1-ADAC-7117B02E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70027-2838-4E02-9910-F49FDF8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9DE19-596A-4C9F-84E5-D7D3DF7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0B95A-5DD1-4EB1-B133-EC5D5E79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4C3FF-8CB4-482A-B8A7-D0A6BEC1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C679-869A-4820-919D-5B2EE54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DCB-135D-443F-8E8A-6FE7504F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A4BD-1506-41C3-9048-31697A37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76D8-0C3B-4DCD-9D4C-FE49BC27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9697-869F-4B77-8722-29289C0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1AF-4C05-464B-AB3F-BB8D559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0689-5D8C-4A17-AA64-E80F9B09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76CF-2DB0-45BF-AC75-8D00523A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14CE-E8E5-43E6-8C46-3094DF57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E443-E38C-4BBD-9A4D-FC547D92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C20E-1AC4-44AD-90E3-5F5B7F37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DEDD-965D-41C6-A465-5DF1C3B5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2F1A-72D8-4BCB-A875-55FA7A8E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E971-8B58-4113-A90A-575C1928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93FD-FC26-4F1F-BF1E-065388F1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165C-1FD3-4F1C-82CD-616A69E3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A6F-4544-4633-9495-8E10E66F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2667-3DC3-48A6-9644-24D5EFED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7D10-87BF-4C42-AC41-67BE1ED6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F386-6A21-421E-8F14-4178125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926D-F415-4CA0-AC0A-027A49B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B07A-7A56-487C-ADD1-984D21FC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1D05-55CF-4A65-B9F5-C5856A69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AF9A-929D-4A11-9E4A-BA50DC16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9707-D985-4F20-B115-F0B41AE8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9F32-FD41-4D92-AB07-3B0F6A6D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8CA9-07BB-4AE3-A6FD-83B06A93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5F0-CA5B-4351-B60C-1235BAC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2A31-4661-4542-9374-DC792CB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038CE-E5BC-426F-9023-B8F61A31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EB9C-AF5C-4EEB-BD4C-5DA6761F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FB41-BC83-4499-ACAA-559C5D0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8BB83-EBDF-41A8-A6A5-F5035D02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A34B-A8D8-482F-80FE-3B3D1B5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A2D3-938E-458D-8920-64E57E3F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4FD4-8274-4F32-8C2D-6E1F3449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8D2E-9D25-4FAC-94DC-3E600406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0D488-5302-4C91-A29A-F774C2C1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3A2-859A-436D-B7F4-0E66DD83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5762-472C-4A6F-991F-36EC428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F985-2FB5-4065-8A6D-E8EF854C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346D-3314-442C-BD01-C4A5D396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772D-2947-4FEF-B381-EE4261E6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D020-2572-42BE-AEBC-E9B8DBA7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3C4D-638C-4BA9-9CA9-1E04ECC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0688-AA7C-45FE-AFF9-8A986C6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55D8-D87F-482F-A2AF-D55A12E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A9652-8749-4BA6-B806-D61DB2FC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D661-6029-4230-B1B5-ABBCDAD6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CEF-9452-48D0-97B5-BE707303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C132-0BA0-4858-831A-0E154CF7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4A24C-1A03-4D8F-BB9A-C75B3AE7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064F4-2C75-4E48-AEE0-F890D92D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C5BED-B418-483D-9B1F-A70DE36E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BE13D-BB14-46E6-853A-17EF35F4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E6AD8-7E56-405A-8766-5992BE28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283B7-8CB9-4BA2-9DCD-66D64737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CEC7-C80A-447D-AAFB-B0307EDE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0B1D7-B034-445A-8296-22EFEBC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1C668-5379-4D5A-8CD6-5E7F934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6CA-2F85-4B56-8442-2ADE7C70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86BF8-3A3E-4A8F-A0E7-96543C32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9D358-2CDE-41DD-8AB7-D86DBA5C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B847-76FA-4A7A-8712-68033A51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4A92-ED31-43A8-A750-0E922C8B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16C1-2FDA-4D47-AEFA-79436CB5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63201-D406-456F-BACF-580F821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398A0-7923-455D-AB3B-4C0DBEBD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7CDA-3A34-4AB6-853A-60FEEE0F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D2F2-5EA0-4BD7-80F4-BF3340E7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BE7A8-F347-4530-A63E-FB27453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035-1097-432A-95B5-96B9BF97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78B71-15D4-4B24-87CC-6F461E6A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53F2E-9304-4A48-A0DA-9F228CA2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5A367-5511-4402-882C-F671A991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DE6A2-F26A-490E-A43B-37C551D6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FCAE-0AFD-47D7-868F-AB884FB9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570D5-77CB-4815-95DE-A2E693BB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C3A46-E8B2-4F79-ACC2-A3ACA440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CB116-85ED-4739-9977-986BE144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5BED8-AB64-453B-A853-D31D44C9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C2F17-5C4B-45AF-B8AA-4FA4BFD8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59B-C7EF-42F0-A3DE-7F8F7B9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7E4F8-AD63-4D1D-A150-11E0C261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290AD-DBCC-46B2-9E0F-2641F7F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F7DDB-5F50-4110-A343-455EA2B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7B6B2-EAF4-45BE-887E-84CA79EC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4E75-F7D0-451D-A9A2-D0FEE51D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160CD-DD2D-4B2E-B24E-E08A8BA2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F1D0F-190F-44E1-AD15-9D655B2C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56114-72D0-4543-85C9-EBDBFCFF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7E6EF-0C94-4A47-8974-605CEE47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AA4AA-0508-49F5-BF4F-13BD2270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E49E-7720-47F5-BA67-888D42F3508A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52D5-05CA-4D8D-AC11-3162B331309C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16A5-D3BE-4473-89EB-5111435013DC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2DFA-E624-4516-A697-8CD7AAAAD07E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73BB-9969-41A6-BAAD-8988D659D9B7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C59-F8E7-423C-B9AA-018199A5AAB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C7D7-C3E3-4195-B691-33966D94B599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F640-71DD-4F25-85C4-BC96AC50C164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5AE4-6D4E-4D7D-B494-C5755859C047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6691-4372-48AB-8DCD-D75C7E003820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10E-E524-4385-A1EC-EBEF333E5827}" type="slidenum"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426F-088E-47C3-9F6A-E53A69FEAD3C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Globalizace" TargetMode="External"/><Relationship Id="rId2" Type="http://schemas.openxmlformats.org/officeDocument/2006/relationships/hyperlink" Target="http://dumfinanci.cz/ekonomika/franchising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Sociální kořeny a důsledky globalizac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ob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ální zákony, lokální řády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nald Clemmer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ězení jako škola zločin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ejvíce lidí ve věznicích „ze dna“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ěstské ghet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 Ghetta slušnému člověku vstup zakázá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Lokální nikoli globální zločinnos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kriminalizace chudo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trategi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„odmítání odmítačů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elmi jemný závě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Globalizace je společenský proces, který nejde zastavit, obejít, či ho ignorova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Globalizace není ani dobrá ani špatná. Globalizace je taková, jakou ji lidé udělají. Jako každý systém musí sloužit lidské osobě. Musí sloužit solidaritě a lidskému dobru.“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Jan Pavel I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Efektivn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vantifikace a kalkul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dvídateln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trol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Vědecký management  a fordismus jako předchůdce McDonaldizac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46b86"/>
                </a:solidFill>
                <a:latin typeface="Georgia"/>
              </a:rPr>
              <a:t>„ </a:t>
            </a:r>
            <a:r>
              <a:rPr b="0" lang="cs-CZ" sz="2000" spc="-1" strike="noStrike">
                <a:solidFill>
                  <a:srgbClr val="646b86"/>
                </a:solidFill>
                <a:latin typeface="Georgia"/>
              </a:rPr>
              <a:t>Jakýkoliv zákazník může mít naše auto jakékoliv barvy, kterou chce, pokud je to černá.“  H.For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McDonaldizace v byrokracii – standardizace procesů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izace společnost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cDentist, McDoctors, McPaper atd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proces ovlivňuje nejen restaurační stravování, ale také vzdělání, zaměstnání, cestování, volný čas, politiku, rodinu a potenciálně všechny sektory společnosti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cDonal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 jako známka globaliz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ať si dáte hamburger v New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Yorku, Londýně nebo v Praze, McDonald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’</a:t>
            </a: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s vám zaručí, že ve vašem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oblíbeném jídle bude přesně to, co chcete a na co máte chuť, a také vás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budou obsluhovat lidé ve stejných uniformách a budete v tak totožném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podniku tomu vašemu oblíbenému, že můžete nabýt dojmu, že jste ani svoji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rodnou zemi neopustili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Franchi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Franchising (z francouzského franchis osvobodit) je smluvní vztah mezi partnery, ve kterém poskytovatel franšízy (franchisor) poskytuje svou značku a právo užívat předmět podnikání své společnosti, tj. poskytuje své know-how, včetně systému řízení a zabezpečování služeb, a nabyvatel franšízy (někdy označován jako franšízant) se zavazuje zaplatit smluvně stanovenou odměnu a dodržovat komerční politiku poskytovatel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Mezi hlavní výhody franchisingu patří to, že dovoluje podnikat v daném oboru bez počátečních znalostí, bez dlouhého získávání zkušeností a praxe a snižuje riziko krachu. Dále dovoluje používat provozní systém a postupy, chráněné receptury a strategii marketingu franchisor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’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s a Franchi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Dnes můžeme výrobky McDonald’s nalézt ve více jak 100 zemích všech kontinentů. 30 000 restaurací po celém světě vycházejí ze společných základů, pravidel a zásad podnikán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Franšízant si kupuje vybavení restaurace a zároveň samotnou franchise, která ho opravňuje po dobu 20ti let používat obchodní známku a další práva společnosti McDonald‘s. Na druhé straně je povinen dodržovat standardy společnosti v oblasti kvality, servisu a čistoty a odvádět poplatky z pronájmu prostor a za poskytnutí franchise, které odpovídají určitému procentu z obratu restaura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? Kam to směřuje 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aha o sjednocení ať už Evropy či celého světa by mohla znamenat zánik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noha kultur, čímž by se člověk naprosto zbavil fascinující barevnosti a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exotiky na této planetě. Pravděpodobně by po tomto kulturním sjednoc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oupila jakási jednotná „kultura“, která by nás zahrnovala řado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ekvalitních, ale pro konzumní společnost velmi snadno stravitelných, filmů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nih, řadou konzumní hudby a další spoustou věcí, které by měli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uspokojit naší kulturní potřebu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Literatura a další zdro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BAUMAN, Z. Globalizace. Praha: Mladá fronta, 1999. ISBN 80-204-0817-7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Wikipedie: Globaliza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cs.wikipedia.org/wiki/Globaliz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Fanšíza, </a:t>
            </a:r>
            <a:r>
              <a:rPr b="0" lang="cs-CZ" sz="20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dumfinanci.cz/ekonomika/franchis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itzer, G. McDonaldizace společnosti. Praha: Academia, 1996. ISBN 80-200-0571-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lob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V nejobecnější rovině slovo globalizace znamená zvyšující se propojování světa ve všech oblastech života lidí. Globalizace je souborem mnoha různorodých procesů, které obsahují aspekty ekonomické, sociální, kulturní a politické. Tyto procesy jsou vzájemně provázané a navzájem se podmiňují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Zygmunt Bauman - Glob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Ať je tomu, jak chce, proces globalizace resp. lokalizace je neodvratný a jeho důsledky postihnou všechny bez rozdílu. Někomu přinesou nové netušené možnosti, jiným jen zpečetí krutý osu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lobalizace resp. lok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olný pohyb kapitálu (mobilita kapitálu) → svoboda od starostí a odpovědnosti -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”Každý, kdo může utéct z lokality, může utéct od důsledků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měna ve vnímání “vzdálenosti” – hlavní požadavek je rychlost – v dopravě, v přenosu informac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Technologické zrušení časoprostorových vzdáleností lidskou situaci spíše polarizuje, než homogenizuje.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álka s prost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vorba přísně racionálního, funkčního, městského prostoru, vede k rozpadu ochranných sítí utkaných z lidských vazeb a vede neomylně k osamělosti a intoleranc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Funkce měst, jako ochrany před nepřítelem “zvenčí” ztratila na významu a naopak byla nahrazena obavou z nepřítele “uvnitř”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Každodenní hromadění dat o každém z ná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Co dál po národním státě?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ýznam národního hospodářství klesá díky neomezené schopnosti pohybu kapitálu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ytvořil se 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„nový světový neřád“ = globální zmat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Pokusy o nalezení nadnárodní svrchovanosti a kontroly naopak vedly k ještě větší členitosti a roztříštěnosti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dlamování „opory třínožky svrchovanosti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Globalizace je prospěšná velmi malému množství lidí, dvě třetiny světové populace vynechává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Turisté, tuláci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Ideální typ konzumenta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ep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řilne k věc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sb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ěrač požitk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Uspokojování požitků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t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éměř okamžitě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Příslib uspokojení předchází potřebě, jež se slibuje uspokojit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Touha netouží  po uspokojení, touha touží po touze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Turisté, tuláci (2)</a:t>
            </a:r>
            <a:r>
              <a:rPr b="0" lang="cs-CZ" sz="3300" spc="-1" strike="noStrike">
                <a:solidFill>
                  <a:srgbClr val="7b9899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člověk v pohybu – turis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em však nemůže být každ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naději, že se požadované touze může přiblížit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mít dostatečné prostředky aby mohl volit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yčleňují se tak dvě skupiny – turisté vs. tulác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uristé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chtějí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mlouván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ítá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ulác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tla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en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asto ilegálně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ejsou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ítá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ob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ální zákony, lokální řád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ežádoucí (podezřelé) činnost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álepka zločin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riminalizace chudo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lád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Potírání klasické formy zločinu -</a:t>
            </a: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&gt; p</a:t>
            </a: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římo ohrožu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Upozorňuje na fyzické bezpečí 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Materiální zabezpečení a jistotu nemůže (globál. tlaky)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íce jsou postihování „chudí“ než „bohatí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9:24:17Z</dcterms:created>
  <dc:creator>Vajcka</dc:creator>
  <dc:description/>
  <dc:language>en-US</dc:language>
  <cp:lastModifiedBy>Vajcka</cp:lastModifiedBy>
  <dcterms:modified xsi:type="dcterms:W3CDTF">2008-10-27T09:39:32Z</dcterms:modified>
  <cp:revision>2</cp:revision>
  <dc:subject/>
  <dc:title>Sociální kořeny a důsledky globalizace</dc:title>
</cp:coreProperties>
</file>