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8EEF-8513-4E15-B355-E3FFFAD3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6E30-99B2-43BC-A4F4-8ED5B04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BBD8D-8BBC-4091-B1E8-617F0431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38A3-76AA-4529-A580-7503DF88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CAE3-007A-4DF8-B58D-4D1DC3CE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B9DC-7686-4E18-803E-5C5B495B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5D2-1440-4701-A208-8AE86E13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5710-D81D-47A9-9F9F-E35EC266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E61B-978C-4EF1-869C-0C30F199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E607-6CDB-4523-BF75-3444CB4F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49B3-83EA-4F1F-A2BD-8937429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D17F-6CF0-4C58-BA13-9943DE33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7A7B-3982-4D65-BE4A-BB274EA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289-7651-4695-817B-6D29E19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80F8-999C-4925-BB2C-4921CB9D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8663-E819-4ACC-BF2E-1115C26E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50B2-BC25-4B63-B160-379694FB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CEA5-3EF4-4058-B15E-2A18E74A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3A2A-8387-486A-9981-F1330471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CA1BD-FAF5-4020-A148-762C5AB6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3638-40E0-489F-BDFF-4CCE6FAE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184D-5D84-40A6-A6B8-A9317138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9996-634B-409A-A792-A4952A71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3BF3-86AB-4266-A7C7-1478546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86E5-F400-4AB5-82A8-BD934C869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4C77-C3C0-43DD-8CAF-BC622A5E4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takeholderský přístup k pojetí podniku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cházející situace – dva či více podniků má zájem o daného stakeholdera a tento subjekt má možnost volby, se kterým z daných podniků naváže vz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ná situace – dva či více stakeholderů mají zájem o daný podnik nebo o vztah k danému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tahy SME se stakeholdery v Jihomoravském kr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ára Kašparová, Alena Klapa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tahový market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↓investice, ↑switching costs, vytěžení max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e výzku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kterými stakeholdery navazují české mikro podniky a malé podniky dlouhodobé 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ůležitost vztahů se stakehold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kážky budování a udržování dlouhodobých vztahů se stakehold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itá metoda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ý rozhovor (5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oumaný sou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kro firem a 10 malých fi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mět činnosti – výroba, obchod,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i – nejvyšší představitelé firmy (17), střední management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kty, s nimiž mají stakeholdeři vybudovány dlouhodobé vzt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960560"/>
          <a:ext cx="8712000" cy="4348080"/>
        </p:xfrm>
        <a:graphic>
          <a:graphicData uri="http://schemas.openxmlformats.org/drawingml/2006/table">
            <a:tbl>
              <a:tblPr/>
              <a:tblGrid>
                <a:gridCol w="2314440"/>
                <a:gridCol w="2087640"/>
                <a:gridCol w="2233440"/>
                <a:gridCol w="2076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souhlasných odpově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souhlasných odpově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azní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ziskové or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odářská  / obchodní kom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mís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enské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č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ční cen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2298600"/>
          <a:ext cx="8785080" cy="3291120"/>
        </p:xfrm>
        <a:graphic>
          <a:graphicData uri="http://schemas.openxmlformats.org/drawingml/2006/table">
            <a:tbl>
              <a:tblPr/>
              <a:tblGrid>
                <a:gridCol w="2314440"/>
                <a:gridCol w="2087640"/>
                <a:gridCol w="2367000"/>
                <a:gridCol w="201600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hodnoc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hodnoc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mís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azní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enské fi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odářská kom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č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ěry hodnocení významu jednotlivých stakeholderů na škále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onální přínos vztahů s jednotlivými typy stakehold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rnost a loajalita zákazníků (16), získání nových zákazníků (5), zajištění stability a důvěryhodnosti (4), minimalizace rizika (4), nutnost pro zachování podnikání (4), vytvoření dobrého jména a získání prestiže (4), snazší komunikace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ískání nefinančních výhod (13), výhodnější podmínky – snížení nákladů (6), zajištění stability (5), nutnost pro zachování podnikání (4), minimalizace rizika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ovanost a loajalita zaměstnanců (12), získání nefinančních výhod (6), snížení nákladů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častěji uváděné překážky budování vztahu s jednotlivými typy stakehold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acita na straně firmy (4), negativní lidské vlastnosti – u zákazníků (4),komunikační problémy (3), nekorektní jednání (3), nekvalita služeb na straně firmy (3), nedostatek vzdělání a inteligence na straně zákazníků (2), přehnaná očekávání zákazníků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ční problémy (6), nekvalita poskytovaných výrobků a služeb (4), rozdílnost zájmů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ční problémy (5), nekvalitní práce (2), rozdílnost zájmů (2), věkový rozdíl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lečenská odpovědnost fir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R Corporate Social Respon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349360"/>
            <a:ext cx="7343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R dobrovolně integruje sociální a ekologické ohledy do podnikatelské činnosti firmy, a to ve spolupráci se zainteresovanými stranami podniku nebo stakeholdery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i pilíře: ekonomický, sociální a environme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nosy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ětší transparentnost a posílení důvěryhod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ětší přitažlivost pro inve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lišení od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výšená loajalita a produktivita zaměstnanc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žnost přilákat a udržet kvalitní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dování vztahů důvěry s okolí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R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ytvoření etického kodex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draví a bezpeč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yklační progr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dělávání a rozv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Úspora energie, v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mítání kor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mezení používání nebezpečných chemikáli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R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časné placení fakt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manitost na pracoviš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ora kvality živ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ora propuště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rodejní serv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kologická výr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klamní e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keholderské x shareholderské poje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ol.minulého století, v podmínkách rozkvětu hromadné výroby, byl nejdůležitější finanční a hmotný kapitá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ční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holders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etí vnímá podnik jako množinu věcí, které je možno vlast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závěru 20.st. i v současnosti nabývá na významnosti tvůrčí lidská práce, mezilidské vztahy uvnitř podniku a zejména pak vztahy podniku vůči jeho okol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důsledků těchto trendů je podnik vnímán jako množina vztahů a tomu odpovíd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etí podni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D, a.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iný producent černého uhlí v České republ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y v jižní části Hornoslezské uhelné pánve – v Ostravsko-karvinském rev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cký kodex – www.ok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ace OK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ložena v lednu 20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roce 2007 firma rozdělila mezi potřebné celkem 35 milionů ko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ace OKD, a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zdraví – zdraví, sociální pé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radost – kulturní vyžití, tradice a vzájemnost, 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budoucnost – kulturní a přírodní dědictví, ekologie, veřejný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Evr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ŽEK, L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ýzkum konkurenceschopnosti podniku. Aplikace stakeholderského přístupu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. Vývojové tendence podniků. Svazek I. Brno: Masarykova univerzita 2005. ISBN 80-210-3847-0. s.13-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ŠPAROVÁ, K. – KLAPALOVÁ, A. Vztahy se stakeholdery.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ývojové tendence podniků III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vyd.Brno: Ekonomicko-správní fakulta, Masarykova univerzita Brno, 2007. od s.717-730, 14.s. ISBN 978-80-210-4466-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olečenská odpovědnost podniku – móda nebo nutnos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nanční management, 12.06.2008, s.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.okd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keholderské pojetí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nímá podnik jako střet zájmů různých zúčastněných subjektů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zv.stakeholder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ří do vztahu vůči podniku dávají určit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„vklad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ěstnanci (včetně odborových organizac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řitelé (banky, jiní poskytovatelé finančních prostředk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ěratelé (zákaz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ři navazují s podnikem vztah na základě určitý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ček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Ve vyjednávání mohou uplatňovat určit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čekávání stakehold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450800"/>
          <a:ext cx="8229600" cy="507384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lizace zúročení vloženého kapitá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konávání zajímavé a dobře placené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ři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lizace zúročení úvěrů a jistoty jejich návrat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ního a solventního zákazní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třícného a spolehlivého partn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Řádné odvádění daní, zajišťování zaměstnanosti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 stakehold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773360"/>
          <a:ext cx="8229600" cy="477684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plývá z jejich podílu na kapitál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pnost pracovat, možnost práci odmítn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ři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situací na finančním trh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postavením na trhu výrobků a služe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postavením na trhu výrobků a služe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omoc vydávat právní předpis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urenční c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ceschop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niku je vlastnost (potenciál), která podniku umožňuje uspět v soutěži s jinými podniky (nejenom na trhu výrobků a služeb, ale i na jiných trzí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ikterak nesplňují definici stakeholdera. Ti s daným podnikem soutěží na trhu a žádný vklad do daného podniku nepřináše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keholdeři a konkurenti podni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86080" y="1413000"/>
            <a:ext cx="4370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urenční c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 všech skupin je založena na možnosti rozhodovat se o navázání nebo odmítnutí vztahu vůči podni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de o typický tržní vztah, realizovaný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výrobků a služeb (dodavatelé a odběratel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práce (zaměstnan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finančním (věřitelé, vlastní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 přímého ovlivňování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ci (rozhodování v řídících orgánech podn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t (řídící zásahy na základě právních předpis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ční chování předmětného podni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ůči jinému podniku spočívá jednak 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zivní konkurenční strate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brana svých stávajících stakeholderů či vztahů se stávajícími stakehold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enzivní konkurenční strate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naha získat nové stakeholdery či nové vztahy se stakehold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Úspěš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hoto usilování předmětného podniku bude záviset na chování konkurenčního podniku vůči danému stakeholdero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user</cp:lastModifiedBy>
  <dcterms:modified xsi:type="dcterms:W3CDTF">2008-11-12T18:58:19Z</dcterms:modified>
  <cp:revision>10</cp:revision>
  <dc:subject/>
  <dc:title>Stakeholderský přístup k pojetí podniku.</dc:title>
</cp:coreProperties>
</file>