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F9C-920F-424D-B58E-D151F23A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C4B-2D96-451A-ADBD-61CC9E77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B52-CBC5-468B-9DE1-6E8FA729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3E1-EDC9-4806-8251-A682BC01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F0B4-5F94-4BB2-AEE1-9183066A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0510-13D2-48DB-8C5B-5F071445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C0BA-2281-4B84-A415-ACA48D2A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A8D2-347E-4970-B396-17EC9DB9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DFCA-737E-44A6-9B72-74BD20DE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D71F-9E05-41BC-9EA2-6766ABF3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28EE-51EE-4E6D-B5C7-A3978421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BDF-EA55-4046-9809-02AAD8EA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0AC4-4A5C-44F4-B985-920B4BDE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12A1-E9CA-4A77-A253-B0DA830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4584-E782-442F-8720-1F50BA7E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B035-3095-44A0-BA22-934C1CD9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5282-35BA-4568-8D3F-6771304C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A12-3F10-4B3E-8C82-02EB69F6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6AC-DCA3-4B43-A1CC-A0557F0D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189-550E-4909-8B43-0B034AD6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1A1-B13E-41DB-850A-B46514DD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A11-2071-4E89-9C14-E6E26339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792-DA1E-4493-8D21-A1BB11FB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6DE-D70B-47B0-A1F6-14604010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4DEB-639C-4ECD-B4C6-79275DF06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CE4C-9B6E-4B9A-B44E-0E0951821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RADIKÁLNÍ PŘEMĚNA PODNIKU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Bc. Hudcovský Tomá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            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Bc. Nadim E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ÝBĚR PROCES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át procesům jmé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dej: od předběžného zájmu k obědnáv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ní m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3 kritéria výběru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NEFUNKČNOS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symptom, choro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VÝZN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ZVLÁDNUTELNOS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faktory: rozsah, náklad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+ POROZUMĚNÍ PROCES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zorování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Bench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SAZENÍ (PŘESVĚDČENÍ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ŮVODOVÁ ZPRÁ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nikatelský ko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nikatelský problé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ároky tržního prostřed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tická čá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áklady nečin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V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vky - soustřeďuje se na čin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zahrnuje měřitelné cíle a soustavu jeji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ěř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ění základní konkurenční podmínky v odvě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ŮVODOVÁ ZPRÁVA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armaceutický podnik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jsme spokojeni s průběžnou dobou, kterou potřebujeme k vývoji a registraci nových léků ve Spojených státech a na hlavních mezinárodních trzí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ši hlavní konkurenti mají podstatně kratší vývojové cykly, protože vybudovali rozsáhlé, vysoce pružné a globálně integrované výzkumné a vývojové organizace, které využívají jednotných pracovních postupů a společných informačních systém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kurenční trend nepřeje naší skupině menších a nezávislých výzkumných a vývojových organizací, které jsou umístěny v různých decentralizovaných výrobních podnicích po celém svět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lné konkurenční a ekonomické podněty nás nutí, abychom co nejrychleji přešli ke globálně integrovanému modelu. Každý týden, který ušetříme v procesu vývoje a registrace, prodlužuje komerční životnost naší patentové ochrany a představuje minimálně 1 mil. USD dodatečného zisku před zdaněním ročně, a to pro každý lék v naší nabíd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VIZE-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Federal Expres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silku doručíme do půl jedenácté následujícího dne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JBĚŽNĚJŠÍ CHYB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nažte se proces vylepšit, místo toho abyste ho změni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zaměřujte se na podnikové proce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gnorujte vše s výjimkou redesignu proce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pomíjejte hodnoty a názory lid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gažujte se za dílčí, nepodstatné výsled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ončete příliš brz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edem zužte vymezení problému a rozsah reengineeringového projek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pusťte, aby podniková kultura a postoje vedení zabránily zahájení reengineering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silujte o to, aby reengineering probíhal zdola naho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Do čela reengineeringového projektu postavte člověka, který reengineeringu nerozum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Neúměrně šetřete na zdrojích určených pro reengineer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ohřběte reengineering v přívalu každodenních úkolů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ozptylujte energii na velký počet reengineeringových projektů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usťte se do reengineeringu, když generálnímu řediteli scházejí dva roky do důchod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Nerozlišujte reengineering od jiných programů zdokonalování podnikových činnost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Soustřeďte se výhradně na projektován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Snažte se realizovat reengineering tak, aniž byste se někoho dotkl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Ustupujte, když lidé projevují odpor k reengineeringovým změná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eengineeringový projekt protahujte co nejdé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O ČEM TO BU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niha REENGINEERIN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učasná situ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eengineering- cesta ke změ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eengineerinové proce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y vyvolané reengineering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do provádí reenginee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běr proce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sazení (přesvědče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jběžnější chy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utoři :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Michael Ham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         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James Cham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niha :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REENGINEERING – Radikální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                                   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proměna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 vznikla koncepce reengineering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ví na vlastnostech: individualismu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éhání na sebe sama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ádro: DISKONTINUÁLNÍ MYŠLE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UČASNÁ SITU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ět Adama Smithe - paradigma včerejš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 -  3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STOM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 rozhodují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CE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MPETI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ce se stává intenziv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A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N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a se stává neustálou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ENGINEERING – CESTA KE ZMĚNĚ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engineering= brát vše nebo 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nový začá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ORMÁLNÍ DEFINIC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líčová slo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ZÁSAD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RADIKÁL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DRAMATICKÉ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3 druhy podnik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PROCES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NEJDŮLEŽITĚJŠ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ENGINEERINGOVÉ PROCES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HARAKTERISTIK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kolik prací je spojeno do jed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ovníci rozhodu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oky procesu jsou vykonávány v přirozeném sl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y mají variantní proved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áce se provádějí tam, kde je to nejrozumněj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kují se kontrolní opatření a nást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malizují se smírčí jedn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žer případu je jediným kontaktním mí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važují hybridní centralizované/decentralizované opera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ZMĚNY </a:t>
            </a:r>
            <a:br>
              <a:rPr sz="4000"/>
            </a:b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vyvolané reengineering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ĚNI 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RACOVNÍ JEDNOT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funkčních útvarů k procesním tým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HARAKTER JEDNOTLIVÝCH PRACOVNÍCH ČINNOST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jednoduchých úkolů k mnohostranné prá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ROLE LID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rolí podléhajících kontrole k rolím s větší pravomo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ŘÍPRAVA K VÝKONU PRÁ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výcviku ke vzděl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ZAMĚŘENÍ NA VÝKONOVÁ KRITERIA A ZMĚNY V ODMĚŇOV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činnosti k výsledk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KRITÉRIA POSTUP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výkonnosti ke schopno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HODNO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protektivních k produktiv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MANAŽEŘ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 dohlížečů v kouč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ORGANIZAČNÍ STRUK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hierarchické k ploch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VEDOUC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e zapisovatelů výsledků ve vůdčí osob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KDO BUDE PROVÁDĚT REENGINEERING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VŮDČÍ OSOBNOS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(„lídr“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VLASTNÍK“ PROCE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REENGINEERINGOVÍ TÝ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ŘÍDÍCÍ VÝ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REENGINEERINGOVÝ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2276640"/>
            <a:ext cx="7923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3068640"/>
            <a:ext cx="792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4581360"/>
            <a:ext cx="7905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4653000"/>
            <a:ext cx="647640" cy="1655640"/>
          </a:xfrm>
          <a:prstGeom prst="downArrow">
            <a:avLst>
              <a:gd name="adj1" fmla="val 50000"/>
              <a:gd name="adj2" fmla="val 6391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36:20Z</dcterms:created>
  <dc:creator>tomas</dc:creator>
  <dc:description/>
  <dc:language>en-US</dc:language>
  <cp:lastModifiedBy>tomas</cp:lastModifiedBy>
  <dcterms:modified xsi:type="dcterms:W3CDTF">2008-11-05T13:28:15Z</dcterms:modified>
  <cp:revision>27</cp:revision>
  <dc:subject/>
  <dc:title>RADIKÁLNÍ PŘEMĚNA PODNIKU</dc:title>
</cp:coreProperties>
</file>