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73E-6EF4-4BF8-9E9F-FDDAE909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A17-6EBD-4145-99E4-F9445D4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525-9166-47FB-8043-49A7B593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E5A-E6D0-47F1-86AD-AE3ACB95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0FEC-AB80-4F42-9A8F-1CD20716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B0A2-D444-44C9-BD15-ABE5B717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BC2C-6B3F-4BC7-A500-6025A05A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C56E-A095-4B76-A1AE-BE7DADD6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43D4-2E45-40C9-9376-79EA0223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373E-B384-4183-8EDD-5DB49E85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A6A4-1FDB-4DEF-B277-871FE64A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311-A5C1-4204-8B4F-ACCA501F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C71D-FC33-4112-AD8E-D092B654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E640-1F89-46B2-A3E4-A7B21D63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BF68-3A20-4194-816A-D64744BD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1625-C5A9-423B-9E56-D38FB6E8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073B-EFEA-4B80-87F3-6FA2A072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F8D-0DC7-44E2-8BBA-00808616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8D2-DB10-4D57-9F25-19DCA4C3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DE5-E7AC-4ED5-B545-27999477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593-5E95-4E06-9CB4-2B8B96E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383-5B59-425B-B718-C478B1C4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4CD-0109-4C88-84F3-F1CA7D84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B7A-43D7-4DC3-857A-6FE4E8E7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878D-FB62-4112-B8A5-8891371DF6BB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FD09-1B6B-4A1B-A482-F761F7AB1156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05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ociální kořeny a důsledky globaliz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idský potenciál a práce je zbožím na trzích, tvořivost je produk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padek klasických obor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regulace trhu prá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y organiz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édon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rov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emě jako omezený celek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ek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rodní hodnoty a ide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Lehmannová, Z.:  Aktuální otázky globaliza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ivně optimistická defin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deální nástroj pro řešení sociálních a ekologických problé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kálně kritická defin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ciální polariz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ěcně sociologická definic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konomické X politické sí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litika už nemá šanci něco ovliv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jistota pro nižší a střední vrstvy společnost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rožení demokraci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ojí zisk nadnárodních fir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ýroba v zemích s nízkou cenou pracovní sí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ej výrobků v zemích s vysokou kupní sil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anění v zemích, kde je to nejvýhodnějš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pad trojího zis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irmy jsou bohatší než stá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dle skeptiků „…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časem dojde k situaci, k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 bohatších evropských zemích bude zaměstnáno zhruba jen 20% populace v ekonomicky aktivním věk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“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Zdroj: Keller, J.: Soumrak sociálního státu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aeaea"/>
                </a:solidFill>
                <a:latin typeface="Tahoma"/>
              </a:rPr>
              <a:t>Politická a ideologická stránka globalizáci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áš pohľad na problémy globalizácie j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Europocentrický, príp. euroatlantický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 prostredia liberálnej demokracie – individualistické pojatie ľudských prá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Al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Regionálne a miestne vplyv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áboženské vplyv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Stretávanie kultúr – súboj s tradíciam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roces globalizácie je chápaný ako centristický proces riadený z oblasti Atlantického oceánu – oblasť najbohatších štáto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Tahoma"/>
              </a:rPr>
              <a:t>Problémy ovplyvnené kultúrnym a sociálnym prostredím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atinskoamerická kritika neoliberalismu – globalizácia vytvára sociálnu nestabili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zijské pojatie demokracie – kolektivizmus, silná rola rodin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slámsky fundamentaliz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frika – tradičné usporiadanie spoločnosti, miestny komunitariz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áboženská otázk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dnoty, ideje a štruktúry sociálneho života v minulosti jasne definované náboženstvom sú naruš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možnosť vytvoriť globálnu náboženskú a politickú jedno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Globalizácia plodí konfli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iec náboženského monopo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Čo z toho vyplýv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nergiu, akú Západ vydáva na šírenie demokracie, by mal vyvinúť aj na pochopenie ostatných kultúrnych a náboženských celkov, s ktorými sa na ideovom poli potýka, pretože iba tak sa dočká nejakého spoločného záveru a vzájomného obohatenia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AUMAN, Zygmunt: Globalizace. Mladá fronta 1999. 157s. ISBN 80-204-0817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ELLER, Jan: Soumrak sociálního státu. Slon 2005. 158s. ISBN 80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29-41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HMANNOVÁ, Zuzana a kol. Aktuální otázky globalizace. Oeconomica 2003. 407s. ISB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0-245-0621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HL, Martin: Globalizace pro a proti. Academia 2001. 185s. ISBN 80-200-0897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tí globalizac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nom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onkrétní příklad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cDonald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lev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world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hraniční turisté dovnitř i čeští cestovatelé v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obodný 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Arial"/>
              </a:rPr>
              <a:t>Kniha: Globalizace (Bauma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Časoprostorová kompr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Konzum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Mnozí sledují hrstku - celeb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Arial"/>
              </a:rPr>
              <a:t>Kniha: Globalizace (Bauma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Svět se rozděluje na bohaté a chu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Státy tlačeny vyhovět podmínkám investorů – dělat pracovní sílu pružn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ořeny global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6. – 19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4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onec středověku až 18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4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řelom 18. a 19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ropa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merik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ý rozvoj + průmyslová výroba + export do svět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ální civilizační integrač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24360" y="436572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ředpoklady global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umulace inform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kt-objektový vztah k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sledky globalizace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Tahoma"/>
              </a:rPr>
              <a:t>Dlouhodobá změna HDP na obyvate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Tahoma"/>
              </a:rPr>
              <a:t>(v cenách roku 1980, v USD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droj: Angus Maddison, Monitoring the World Economy 1820-199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Development centre of OEC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2920" y="2822400"/>
            <a:ext cx="88930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sledky globalizace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jem odci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člověka jeho vlastním výtvor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společenským silám a vztah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přírod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sobě sam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snoopy</cp:lastModifiedBy>
  <dcterms:modified xsi:type="dcterms:W3CDTF">2008-10-29T11:16:39Z</dcterms:modified>
  <cp:revision>67</cp:revision>
  <dc:subject/>
  <dc:title>Snímek 1</dc:title>
</cp:coreProperties>
</file>