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BEF-0801-41B7-B666-F57D5177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CE5-1F37-409E-872E-CC71EB11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65F-17C6-4B30-949E-44FBA012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7CE-8657-484D-81B2-CAE9BC3A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62C-66C2-48C7-BD79-4373C943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0B5-8920-4467-A40F-8AA2EF0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00B-1571-4633-BCDA-F73EA4A8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186-CF15-4A0D-B77C-AACE5458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286-7656-47FE-98DF-F557E681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939-8B0C-43DA-9306-2E0561B7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951-CD4F-440B-819B-7CA5B41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67F-0378-4D43-8D44-6D43459D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455-5F76-4047-99A9-FD73459EF3D8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Etika v postmoderní době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Niektoré výsledk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oradie preferencií jednotlivých vysvetlení pojmu „korupcia“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eužívanie verejnej funkcie na získanie materiálnych a iných výho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Dávanie a prijímanie fin. alebo nefin. da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lientelizmus, známosti, rodinkárstv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prednostňovanie osoby alebo firmy na základe lojality k polit. stran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80,4% sa vyjadrilo, že korupcia v SR je veľmi vážnym problémo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06440" y="17902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Za najväčší problém pri podnikaní považujú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Klientelizmus, protekcionizmu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Nedostatočný prístup k úver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orup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íčiny korupčného správ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áme prípady korupcie vysokých štátnych funkcioná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Možnosť korupcie politikov, vyšetrovateľov a sudcov nedáva ohlasovateľovi záruku, že tento trestný čin bude potrestaný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ejasné a nejednoznačné pravidlá v rozhodovaní úradník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Dôvod, kde MSP využili korupčné prakti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Registrácia vozidiel a ST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Registrácia podnik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Vybavovanie priestorov na podnikani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cedúry, pri ktorých využili MSP vplyv priateľov či príbuzných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ybavovanie stavebného povole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Získanie pôžič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tyk s daňovým úrad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rýchlenie súdneho proces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46,4% respondentov by podalo trestné oznámenie o korupcii, aby nebola ohrozená firma. Až 51,8% by nepodala, z obavy o vlastnú bezpečnosť a z nedôvery o vyriešenie prípadu súdnou cestou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Nástroje boja proti korupci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1.Zavedenie jasnej a prehľadnej legislatív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2.Prísne potrestanie skorumpovaných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3.Zameranie sa na morálku jednotlivcov a cel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Kto by mal s bojom proti korupcii začať?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láda S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Každý sám u seb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RSR, súdy a prokuratú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69,1% si myslí, že zmena situácie ohľadom korupcie musí začať v ľuďoch a až potom v zmene zákonov. 36,4% uprednostňuje najprv zmenu zákonov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tikorupčná stratégia MS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a žiadnych okolností nezobrať žiaden úplato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Vzdať sa zákazky v prípade nekalých praktí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a každého mať rovnaký mete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e potreby prostredia MSP autori identifikovali nasledovné progresívne prístupy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Organizované, tzv. „korporatívne“ iniciatív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Budovanie transparentnej firemnej kultúr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poločensko-ekonomický audi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Medializácia zápasu o transparentnosť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ytvorenie od štátu nezávislého mechanizmu zberu a spracovania informácií o prípadoch korupcie (profesné združenia, neziskové organizácie)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Verdana"/>
              </a:rPr>
              <a:t>Aktívne prístupy vytesňovania korup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Záver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äčšina majiteľov MSP v SR sa nechce zapájať do korupčných afér; pokladajú to za nákladné, neefektívne a často riskantné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Majiteľom a manažérom MSP chýbajú často základné informácie a podpora v znalostiach, ako čeliť korupčným praktiká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ýsledkom je zmierenie sa so situáciou, že korupcia je nevyhnutné zlo, ktoré je súčasťou podnik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iera do budúcna, že v komunite MSP existuje motivácia na hľadanie spôsobov v boji proti korupcii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utnová A., Seknička P. (2007)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Etické řízení ve firmě : nástroje a metody, etický a sociální aud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Lipovetsky G. (1999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Soumrak povinnosti : bezbolestná etika nových demokratických čas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Šmajs J. a kol (2008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Podnikatelská a environmentální eti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Podnikatelská eti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ormy a pravidla vyjadřující obecné názory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ůnik mezi etikou a ekonomik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onflikt mezi vlastním sebezájmem a zájmy ostatních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ožnost vyjádřit se k neřešeným problémům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polečenská objednáv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podobování světa - glob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Ekonomické výhody podnikatelské etik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nížení transakčních náklad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ílení loajality zaměstnanc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tváření a posilování image fi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ilování spokojenosti zákazník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ispívání k loajalitě investor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íspěvek k zisk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ultivace podnikatelského prostře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ákladní přístu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Deskrip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Norma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Meta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Aplikovaná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cká horeč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etická horečka bez hran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vlna obchodní etiky se rozšířila z US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kodexy a charty – nejdříve považovány za překážky ekonomické výkonnosti, nyní za nástroj řízení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ka v obchodní prax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ocial corporate responsibility (závazky nejen k akcionářům, ale k celému kolektivu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dnik sám musí zformulovat své principy a praktiky – kodexy a prohlášen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Identita podniku -&gt; morální no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Etika firmu neomezuj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Prípadová štúdi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Význam: corruption = community rupture = previnenie proti spoločenstv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orupcia spoločnosti ubližuje, rozkladá ju, ohrozuje ju ako celok, porušuje etický kódex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oby: obálky, protislužby, úľavy, „pozornosti“,..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o S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ľa výskumu Svetovej banky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spomaľuje ekonomický rozvo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ohrozuje sociálny systém a budovanie        občiansk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pôsobí protí prirodzeným trhovým mechanizmom </a:t>
            </a: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→ vysoké cen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Rozsiahle korupčné škandály vo SVE upozornili na vážnosť tohto problé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 prostredí MS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MSP sú často konfrontovaní na rôznych úrovniach spoločnosti s korupciou a jej formami (úplatky za udelenie rôznych povolení, potvrdení a licencií, provízie, vydieranie, daňové úniky,...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Nadácia Integra uskutočnila prieskum v prostredí MSP na Slovensku na podporu etického podnikania a na odhalenie korupčných praktík; sledovali sa provízie, vydieranie a rodinkárstvo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Dotazník s otázkami v 3 okruhoch: osobné postoje ku korupčným praktikám, prax s ktorou sa podnikatelia stretávajú, riešenie a východiská z tohoto problém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1-03T19:44:44Z</dcterms:modified>
  <cp:revision>12</cp:revision>
  <dc:subject/>
  <dc:title>Business 1 Template</dc:title>
</cp:coreProperties>
</file>