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130-F833-4728-B75D-8B0DC074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D6F-FA9B-4FD1-A9A2-66E16010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9C1-8011-4600-8DB9-4C3757F9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F20-4CF1-430F-A30D-93AF609F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3F32-7D11-402A-A717-890349E4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94F3-F43F-4E24-81D5-03D3ACB2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33EC-AE75-46A4-A579-968F1BA6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E019-3927-4964-B5A0-51FB1B7C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C09C-F0D4-4FCF-8CEC-D13704CD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4882-5D6A-4A54-ADF4-D9B27B45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F929-AD3F-4B6A-A5E8-1CC1E8A3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0BD-3C72-4B64-B9D8-167CC959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C71F-4B8F-4DFD-BF9E-45B4742F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4A73-B03B-4F9F-BBF7-8C30D124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8265-2DCD-45A2-897E-54980A3E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7630-8DA1-4FDA-958C-4D275407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8275-6D52-4AD1-AFA3-C0DF58EA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76A-C6D2-48B1-8E2D-230EA786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0BA-E85D-4177-8F5E-CFF3154F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D26-76C2-4A02-8D6C-794021B4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9A5-5A4D-4748-A8AC-4165EB35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53E-86E9-4216-BE74-3F9C192A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677-CD53-482A-9F3F-5D58E352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03B-227D-4926-AC81-581E782F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22F6-D8A4-44F6-955F-5590C64221A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7838-41DF-4B84-9DC0-045636D2EC0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apitalismus nové civiliza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666880" y="48765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etra Krupov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Lenka Valentov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imona Doubkov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6.11.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3. Ekonomika služeb a tok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un od ekonomiky zboží k ekonomice služe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my neprodávají zboží, ale služby – výrobek prostředkem, nikoli cí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. koberec – leasing tepla, krásy a pohodl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ýrobce vlastníkem výrobku - údrž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4. Investování do přírodního kapitál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čínáme pocítíme velký nedostatek zdrojů, který se bude prohlubovat – ovlivňuje výrobu a zvyšuje nákla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noží se škody způsobené vlivy počas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sá množství vody, orné půdy, ryb na hlavu,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rozí konflikty kvůli přístupu ke zdroj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třeba reinvestic do udržitelných, obnovujících se a zvyšujících se zásob přírodního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yčerpání zdrojů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kvěle prodejný mýt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jmír Hamp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ontroverze ohledně vyčerpání zdroj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epti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stoucí spotřeba fyzicky omezených přírodních zdrojů →zpomalení hospodářského růs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ěšitel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atastrofické vize nemají teoretické ani empirické opodstat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keptic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homas Malth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ůsledky růstu popul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avid Ricar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Hospodářské dopady omezené zásoby zdroj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Limity růs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o 100 let vyčerpání klíčových zdroj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arciální řešení nemohou být úspěšn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lapsu zabrání pouze zbrzdění hospodářského růs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althusiánství a ekolog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124"/>
              </a:spcBef>
              <a:spcAft>
                <a:spcPts val="4538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kologie x Ekologism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124"/>
              </a:spcBef>
              <a:spcAft>
                <a:spcPts val="4538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cialismus se zelenou tvář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124"/>
              </a:spcBef>
              <a:spcAft>
                <a:spcPts val="4538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íla katastrofických scénář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124"/>
              </a:spcBef>
              <a:spcAft>
                <a:spcPts val="4538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ypotéza o globálním oteplová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č by vyčerpání nemělo děsi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974"/>
              </a:spcBef>
              <a:spcAft>
                <a:spcPts val="5389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ěřené zásoby x Celkové záso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974"/>
              </a:spcBef>
              <a:spcAft>
                <a:spcPts val="5389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poznání  relativizuje fyzickou omezenost zdr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974"/>
              </a:spcBef>
              <a:spcAft>
                <a:spcPts val="5389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hojnosti zdroj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496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Šok z ekologie </a:t>
            </a:r>
            <a:br>
              <a:rPr sz="44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aneb politické systémy v rozpacích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47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an Kell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beral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Hlavní zásady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: všem lidem stejnou svobodu a práva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echat věcem volný průbě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říroda je bezprávný materiál, něco, co patří člověku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x ohrožení životních zájmů dosud nenarozených generací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řešení ekologických problémů – tržní mechanismus (privatizace přírody x zásahy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kritika liberalismu – člověk je částí celku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říroda nepatří člověku, ale člověk přírodě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lubinná ekologie – domyšlení ústřední liberální teze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mezíme-li svobodu člověka jen málo, nebo vůbec, stěží jako biologický druh přečkáme; omezíme-li ji výrazněji, nemusí to ve zdraví přežít liberalismu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Konzervat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Původní cíl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: uchování hodnot ohrožených nástupem průmyslové revoluce, obhajoba tradice, zavedených zvyků a institucí  x  přizpůsobiv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eochota zaregistrovat vážné ekologické hrozby           x  nutnost popřít základní principy svého uče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hierarchii ve společnosti nelze udržovat nezávisle na tempu změn; je-li nevratně poškozována příroda kolem nás, působí riziko ohrožení zpětně na lidi výrazně demokratickým až rovnostářským dopadem (negativní externali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bsa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rodní kapitalis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yčerpání zdrojů : skvěle prodejný mýt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Šok z ekologie aneb Politické systémy v rozpac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ocial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nik zásluhou kapitalismu jako nezamýšlený ale zcela logický důsledek; vzniká v situaci, kdy je sociální spravedlnost nedostatková, zatímco zdroje se zdají být neomezen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éče o životní prostředí – neslučitelné rys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vzájemná solidarita mezi všemi skupinami lid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zvyšování výrobní expanze společnosti jako cel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yšlenka solidarity - za socialismu přenesena do rodin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rozšíření na ostatní živé tv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teratur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WKEN, P. Přírodní kapitalism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MPL, M. Vyčerpání zdrojů - skvěle prodejný mýt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LLER, J. Šok z ekologie aneb Politické systémy v rozpac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ěkujeme za pozornost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řírodní kapital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dtitul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ak se rodí další průmyslová revolu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aul Hawken, Amory a L. Hunter Lovinsonov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25560" y="1341360"/>
            <a:ext cx="3227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řírodní kapital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řírodní kapitá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zdroje, které poskytuje příroda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da, nerosty, ropa, stromy, ryby, půda, vzduch,… ale i živé systémy: pastviny, mokřady, ústí řek, oceány, deštné pralesy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konomika potřebuje 4 typy kapitál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dsk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anč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yrobený (stroje, továrny,…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řírodní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doposud podceňová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cepce přírodního kapitalism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rodní kapitál se vyčerpá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šetření přírodního kapitálu nikoli pomocí sankcí, zákazů a limitů, ale na základě aktivního a vynalézavého využívání, které bude i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konomicky výhod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íření ekologických cílů s ekonomickými – nesoupeří spolu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plňují 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→ integrované projektován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Změny v myšlení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měna firem – zodpovědnější k životnímu prostřed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měna myšlení lidí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émy se nedají řešit způsobem myšlení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terý je vytvořil.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A. Einstei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4 principy přírodního kapitalism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Radikální produktivita zdroj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Biologické mimik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Ekonomika služeb a to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Investování do přírodního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. Radikální produktivita zdroj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třeba zvýšit produktivitu zdrojů, resp. snížit materiálovou a energetickou náročnost výro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úspora zdroj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úspora peněz (snížení nákladů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lepšení kvality živo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vá zlepšení otevřou i nový prostor pro vynalézavost, růst a rozvoj v oblasti obchod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ktor deset, faktor čtyř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lší průmyslová revolu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2. Biologické mimikr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měna podstaty průmyslových procesů a materiál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inspirace v biologických systéme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nížení, resp. úplné vymizení odpa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rvalé znovuvyužívání materiálů v kontinuálně uzavřených cykle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0:33:30Z</dcterms:created>
  <dc:creator>172114</dc:creator>
  <dc:description/>
  <dc:language>en-US</dc:language>
  <cp:lastModifiedBy>snoopy</cp:lastModifiedBy>
  <dcterms:modified xsi:type="dcterms:W3CDTF">2008-11-05T18:03:17Z</dcterms:modified>
  <cp:revision>13</cp:revision>
  <dc:subject/>
  <dc:title>Kapitalismus nové civilizace</dc:title>
</cp:coreProperties>
</file>