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png" ContentType="image/png"/>
  <Override PartName="/ppt/media/image9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A529-950B-48F0-8D2C-D9CE0E72D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647B-17A9-430A-8D24-A3D7CDFB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EE3B2-F060-4ED2-B0B5-DCDB14B3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344FBC-E991-4172-828D-4719BB8A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CFCE94-D791-449B-9BA3-0CFCC86F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F81957-DEE9-43EF-9814-94B1E884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3794F-F8B0-4CF3-BBD4-43BCAC31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22AB63-ED1F-45E7-ADB3-FEBE8610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8A9F6-7938-4AD5-8F98-ABACAC57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9590F-C931-42EF-90D7-9A5F100E3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FA949A-4519-4804-A2FB-E38D17A2A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66D8-9D5B-44FD-94CA-1ADFA30FF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35BE-EF61-48FC-9B5D-9555CF296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66C8-CC82-4B31-BC85-750F3901C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5570-4E7F-44A8-BAE0-E74C5330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5F4B-833E-4544-B307-376D39B0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9EEC-693F-47B5-AF2B-E1CA8822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F27BC-DE08-42C5-9D05-849CF2A0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EEE24-A3D9-4879-B479-B2D81946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49AD-E27B-4EF7-AAA5-CCCFE201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EC32-FB28-49AA-8146-294026C0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3E5F-0D67-484B-85E6-F4B13D22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1C6D-55C8-4247-A7CA-FDE9B3CF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7B90-75B4-4822-990B-C2306636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30D7-4FF4-4C4E-9665-2E28E9861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2318-32F1-44C9-8724-A9333926B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E60B6-6B77-48ED-AA02-4D1D88CDC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0CF08-B709-49C3-AFCA-FC2A6DF9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DA4B5-B9F9-4EFD-A11C-BCE85E7C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CC5EC-BB86-4B79-9BE5-F22192A1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29F82-1DAB-46ED-BDC1-33DFB79E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287A-B9C7-4F97-A043-CF21146C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65699-56A2-4688-A597-F8E5D8C6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244F9-21AF-4869-AB41-C6AEE62B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F3C06-5DAD-48E4-B55C-A444D2B2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2A77A-9AEC-4E5B-B9A8-E270CCE1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BEACB-0634-4F76-9516-E8648003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8908D-C5F1-4D9E-A3AD-3098013DB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C1F1D-93A3-4EB5-92BD-2DF1E1846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79544-F22A-424A-B52B-961AF68EB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796EA-E2B4-465D-8062-CE6A4BEF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719C3-AB2E-469C-A362-C2BCEEBB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1A99-29DD-4367-9C5C-2FBEB696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71A6A-E9C9-475E-8770-287EB1E8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E4FCB-4E3B-4A33-865F-9F069EAA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84C70-923B-48E7-92CD-B8D981DD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E6CFE-0537-471D-A36D-C406B2AC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8742E-F287-4DD7-B655-5C5A7527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DB67F-77CB-4212-AA56-01DF7078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65BF7-49F4-478C-8809-3684E07B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8C1FF-345E-4770-A347-E0EB3B9D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1D67B-093F-47FA-95AD-192A1AD99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D84DF-7E05-47D2-A6A4-5B822841B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927A-BE72-4485-947E-1D32892E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B3539-22C6-4E0A-9BE2-0814510C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FF152-C7F0-47E7-AE1C-AB5AFECB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15EB4-B521-440E-ABCF-D6F2D6EB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0DFB1-A1AB-40A7-A416-DC798D5D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AA905-6D0A-4897-AEFD-D58FB27A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3DAD7-39FA-48C0-9608-12B4B944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6486D-7642-40DE-8893-A83E0B5F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4C976-4DE4-4B55-A545-05FF1E0F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19F4B-7A66-411D-9423-B18A8A99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56327-299C-4945-8A4C-91333080A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51D6-CDF1-4341-8D1D-97F94812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A4673-0F5F-4998-A837-CA7CE4FA0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89FA2-72AC-4E4A-8B8B-8C2805838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7D329-42DB-47A3-A248-F5CC5CD1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8BF55-89F5-4394-ACFA-481648BA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3E9BD-CA28-493D-9FE0-27835174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68924-D8F8-44A5-8266-2284DF6C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8D1F6-D64E-46CD-B2E0-1139E9F2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61F1B-5310-46BD-AAAF-D3CAF1BF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DF532-159A-4C3C-BA16-A3380378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8040C-CA76-4187-BCF8-1CD45DC6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D6B4-115D-479E-B5A4-10518BA2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7D96C-4946-449F-B835-0BDCA997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8C45B-BC8E-43DC-ACE0-CA1286433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34D5C-B860-48EB-99BA-5998228FB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6ED56-0F31-469E-8864-C838F4811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74DCF-614E-4C38-A6D2-2DEA82BC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EBD5A-8D8C-4009-AA3A-4C9D0BFA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1459A-6123-4E59-B3CA-795D4E1E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CD6DB-C195-4A44-933E-D7EBBEF9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61DB7-B4DD-4A84-9FA5-4D5E245F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FD788-B7E0-4697-B3A2-4FCAAB5E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1C05-542C-48FB-B1C5-1858D236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480FC-086D-42BE-95A4-F030ACC8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E7481-3DD9-4C1E-ABCB-CA639F63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74A2D-3F6F-445E-A803-7E6BD80D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42200-6D5D-413E-93F7-D01B8C6DE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02E8C-23BB-4850-BD0F-9C8AED3B5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22D6C-5097-430B-8496-48E0BC4E9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8AAA4-B810-4B6F-89A3-691D5F04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6A718-932D-4DE6-8D0B-F6C5658D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2F5C6-B22F-4B07-A1DB-9EEBB598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7A111-351F-49CA-AD0A-432FC19B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F59B-5FB1-4844-AA8E-A54DC287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35D8C-3EFC-41D1-BECB-9BEE64D2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48BFE-A820-4F96-9E51-9ED142AB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AB982-C2AF-47A7-A201-F6F544D9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11FC4-449A-4198-9E9C-5B485791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F2D4A-9F53-4243-AD39-2D17C58C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89794-A44E-49F5-8AC2-38D15D79F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6291D-1BF8-4650-9C97-1FC9C5A9C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055DA4-DAF9-42C1-953B-06309FEEC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5B6C88-B7FB-4712-BF3A-EB05FAA9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77874-060A-4ED1-B5D4-1775C7F0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Přímá spojovací čára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Přímá spojovací čára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23B5-09D7-4FC3-A37F-F8749C856A84}" type="slidenum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Přímá spojovací čára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Přímá spojovací čára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Přímá spojovací čára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Přímá spojovací čára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Přímá spojovací čára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Přímá spojovací čára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3870-EB19-4BA2-834B-CE5D72C5641F}" type="slidenum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Přímá spojovací čára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Přímá spojovací čára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Přímá spojovací čára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Přímá spojovací čára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Přímá spojovací čára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Přímá spojovací čára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89B4-3AA9-4629-A203-62B7CF8F5BF0}" type="slidenum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Přímá spojovací čára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Přímá spojovací čára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69D1-4D3F-4212-BD4E-61885D4782A5}" type="slidenum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Přímá spojovací čára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Přímá spojovací čára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146C-4891-4E95-8181-BA42B422E2FE}" type="slidenum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72D4-0D8E-4F2D-B962-0AE323E7C53E}" type="slidenum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Přímá spojovací čára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Přímá spojovací čára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C683-4A82-4955-8F38-4F0B0D9306C1}" type="slidenum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94F5-5FC6-4038-9016-EE8653C1BF52}" type="slidenum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CDFF-4D10-40A6-8ED9-9E4E022E0871}" type="slidenum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Nadpis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400" spc="-1" strike="noStrike">
              <a:solidFill>
                <a:srgbClr val="443329"/>
              </a:solidFill>
              <a:latin typeface="Franklin Gothic Book"/>
            </a:endParaRPr>
          </a:p>
        </p:txBody>
      </p:sp>
    </p:spTree>
  </p:cSld>
  <p:transition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5717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Průmyslová revoluc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Materiální možnosti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Přírodní kapitál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Nová průmyslová revoluc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Meze prosperity, pokroku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Ceny komodit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3" name="Picture 9" descr="C:\Users\admin\Desktop\EIAManufacture1c.gif"/>
          <p:cNvPicPr/>
          <p:nvPr/>
        </p:nvPicPr>
        <p:blipFill>
          <a:blip r:embed="rId2"/>
          <a:stretch/>
        </p:blipFill>
        <p:spPr>
          <a:xfrm>
            <a:off x="4572000" y="1714680"/>
            <a:ext cx="4295880" cy="199044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Kapitál a jeho typ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Degenerat. proces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Intelekt. Posu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6" name="Diagram 3" descr=""/>
          <p:cNvPicPr/>
          <p:nvPr/>
        </p:nvPicPr>
        <p:blipFill>
          <a:blip r:embed="rId2"/>
          <a:stretch/>
        </p:blipFill>
        <p:spPr>
          <a:xfrm>
            <a:off x="3041640" y="2567160"/>
            <a:ext cx="6108840" cy="4078080"/>
          </a:xfrm>
          <a:prstGeom prst="rect">
            <a:avLst/>
          </a:prstGeom>
          <a:ln w="0">
            <a:noFill/>
          </a:ln>
        </p:spPr>
      </p:pic>
      <p:sp>
        <p:nvSpPr>
          <p:cNvPr id="407" name="Zahnutá šipka dolů 4"/>
          <p:cNvSpPr/>
          <p:nvPr/>
        </p:nvSpPr>
        <p:spPr>
          <a:xfrm rot="20115000">
            <a:off x="3700440" y="3028680"/>
            <a:ext cx="2000160" cy="714240"/>
          </a:xfrm>
          <a:custGeom>
            <a:avLst/>
            <a:gdLst>
              <a:gd name="textAreaLeft" fmla="*/ 433080 w 2000160"/>
              <a:gd name="textAreaRight" fmla="*/ 1477800 w 2000160"/>
              <a:gd name="textAreaTop" fmla="*/ 95400 h 714240"/>
              <a:gd name="textAreaBottom" fmla="*/ 618840 h 71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54" hR="21600" stAng="10800000" swAng="5400000"/>
                <a:lnTo>
                  <a:pt x="11283" y="0"/>
                </a:lnTo>
                <a:arcTo wR="9354" hR="21600" stAng="-5400000" swAng="3551650"/>
                <a:lnTo>
                  <a:pt x="21303" y="16200"/>
                </a:lnTo>
                <a:lnTo>
                  <a:pt x="19672" y="21600"/>
                </a:lnTo>
                <a:lnTo>
                  <a:pt x="17446" y="16200"/>
                </a:lnTo>
                <a:lnTo>
                  <a:pt x="18410" y="16200"/>
                </a:lnTo>
                <a:arcTo wR="9354" hR="21600" stAng="-1848350" swAng="-3397426"/>
                <a:lnTo>
                  <a:pt x="10318" y="115"/>
                </a:lnTo>
                <a:arcTo wR="9354" hR="21600" stAng="-5554224" swAng="-5245776"/>
                <a:close/>
              </a:path>
              <a:path fill="darkenLess" w="21600" h="21600">
                <a:moveTo>
                  <a:pt x="0" y="21600"/>
                </a:moveTo>
                <a:arcTo wR="9354" hR="21600" stAng="10800000" swAng="5400000"/>
                <a:lnTo>
                  <a:pt x="9354" y="0"/>
                </a:lnTo>
                <a:arcTo wR="9354" hR="21600" stAng="-5400000" swAng="154224"/>
                <a:lnTo>
                  <a:pt x="10318" y="115"/>
                </a:lnTo>
                <a:arcTo wR="9354" hR="21600" stAng="-5554224" swAng="-5245776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Zahnutá šipka doprava 5"/>
          <p:cNvSpPr/>
          <p:nvPr/>
        </p:nvSpPr>
        <p:spPr>
          <a:xfrm rot="5996400">
            <a:off x="7369200" y="2327760"/>
            <a:ext cx="714600" cy="1785960"/>
          </a:xfrm>
          <a:custGeom>
            <a:avLst/>
            <a:gdLst>
              <a:gd name="textAreaLeft" fmla="*/ 95760 w 714600"/>
              <a:gd name="textAreaRight" fmla="*/ 618840 w 714600"/>
              <a:gd name="textAreaTop" fmla="*/ 379440 h 1785960"/>
              <a:gd name="textAreaBottom" fmla="*/ 1317240 h 17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80" stAng="-5400000" swAng="-5400000"/>
                <a:lnTo>
                  <a:pt x="0" y="11340"/>
                </a:lnTo>
                <a:arcTo wR="21600" hR="9180" stAng="10800000" swAng="-3523212"/>
                <a:lnTo>
                  <a:pt x="16200" y="21308"/>
                </a:lnTo>
                <a:lnTo>
                  <a:pt x="21600" y="19440"/>
                </a:lnTo>
                <a:lnTo>
                  <a:pt x="16200" y="16988"/>
                </a:lnTo>
                <a:lnTo>
                  <a:pt x="16200" y="18068"/>
                </a:lnTo>
                <a:arcTo wR="21600" hR="9180" stAng="7276788" swAng="3350269"/>
                <a:lnTo>
                  <a:pt x="150" y="10260"/>
                </a:lnTo>
                <a:arcTo wR="21600" hR="9180" stAng="-10627057" swAng="5227057"/>
                <a:close/>
              </a:path>
              <a:path fill="darkenLess" w="21600" h="21600">
                <a:moveTo>
                  <a:pt x="21600" y="0"/>
                </a:moveTo>
                <a:arcTo wR="21600" hR="9180" stAng="-5400000" swAng="-5400000"/>
                <a:lnTo>
                  <a:pt x="0" y="9180"/>
                </a:lnTo>
                <a:arcTo wR="21600" hR="9180" stAng="10800000" swAng="-172943"/>
                <a:lnTo>
                  <a:pt x="150" y="10260"/>
                </a:lnTo>
                <a:arcTo wR="21600" hR="9180" stAng="-10627057" swAng="5227057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Zahnutá šipka doprava 7"/>
          <p:cNvSpPr/>
          <p:nvPr/>
        </p:nvSpPr>
        <p:spPr>
          <a:xfrm rot="8295000">
            <a:off x="6891120" y="3198960"/>
            <a:ext cx="714240" cy="1814400"/>
          </a:xfrm>
          <a:custGeom>
            <a:avLst/>
            <a:gdLst>
              <a:gd name="textAreaLeft" fmla="*/ 95400 w 714240"/>
              <a:gd name="textAreaRight" fmla="*/ 618840 w 714240"/>
              <a:gd name="textAreaTop" fmla="*/ 385200 h 1814400"/>
              <a:gd name="textAreaBottom" fmla="*/ 1334520 h 18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74" stAng="-5400000" swAng="-5400000"/>
                <a:lnTo>
                  <a:pt x="0" y="11300"/>
                </a:lnTo>
                <a:arcTo wR="21600" hR="9174" stAng="10800000" swAng="-3137852"/>
                <a:lnTo>
                  <a:pt x="14863" y="21142"/>
                </a:lnTo>
                <a:lnTo>
                  <a:pt x="21600" y="19410"/>
                </a:lnTo>
                <a:lnTo>
                  <a:pt x="14863" y="16762"/>
                </a:lnTo>
                <a:lnTo>
                  <a:pt x="14863" y="17889"/>
                </a:lnTo>
                <a:arcTo wR="21600" hR="9174" stAng="7662148" swAng="2967662"/>
                <a:lnTo>
                  <a:pt x="146" y="10236"/>
                </a:lnTo>
                <a:arcTo wR="21600" hR="9174" stAng="-10629810" swAng="5229810"/>
                <a:close/>
              </a:path>
              <a:path fill="darkenLess" w="21600" h="21600">
                <a:moveTo>
                  <a:pt x="21600" y="0"/>
                </a:moveTo>
                <a:arcTo wR="21600" hR="9174" stAng="-5400000" swAng="-5400000"/>
                <a:lnTo>
                  <a:pt x="0" y="9174"/>
                </a:lnTo>
                <a:arcTo wR="21600" hR="9174" stAng="10800000" swAng="-170190"/>
                <a:lnTo>
                  <a:pt x="146" y="10236"/>
                </a:lnTo>
                <a:arcTo wR="21600" hR="9174" stAng="-10629810" swAng="5229810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Způsob myšlení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Nízká hodnota přírodního kapitálu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Zvýšení produktivity přírodních zdrojů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Šrafovaná šipka doprava 6"/>
          <p:cNvSpPr/>
          <p:nvPr/>
        </p:nvSpPr>
        <p:spPr>
          <a:xfrm rot="2613000">
            <a:off x="961560" y="2390400"/>
            <a:ext cx="5786640" cy="1785960"/>
          </a:xfrm>
          <a:prstGeom prst="pie">
            <a:avLst/>
          </a:prstGeom>
          <a:solidFill>
            <a:srgbClr val="f0a22e">
              <a:alpha val="68000"/>
            </a:srgbClr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ovéPole 7"/>
          <p:cNvSpPr/>
          <p:nvPr/>
        </p:nvSpPr>
        <p:spPr>
          <a:xfrm>
            <a:off x="6072120" y="5572080"/>
            <a:ext cx="214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e3b30"/>
                </a:solidFill>
                <a:latin typeface="Franklin Gothic Book"/>
              </a:rPr>
              <a:t>Nová průmyslová revol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1000" fill="hold"/>
                                        <p:tgtEl>
                                          <p:spTgt spid="4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5" descr="C:\Users\admin\Desktop\06.06.15.HolySmokeMir-X.gif"/>
          <p:cNvPicPr/>
          <p:nvPr/>
        </p:nvPicPr>
        <p:blipFill>
          <a:blip r:embed="rId1"/>
          <a:stretch/>
        </p:blipFill>
        <p:spPr>
          <a:xfrm>
            <a:off x="4191120" y="1071720"/>
            <a:ext cx="4952880" cy="3695400"/>
          </a:xfrm>
          <a:prstGeom prst="rect">
            <a:avLst/>
          </a:prstGeom>
          <a:ln w="0">
            <a:noFill/>
          </a:ln>
        </p:spPr>
      </p:pic>
      <p:pic>
        <p:nvPicPr>
          <p:cNvPr id="415" name="Nadpis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Prostředí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Limitující faktor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Zvýšení produktivity zdrojů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Plné ocenění všech forem kapitálu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pull dir="u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4" descr="C:\Users\admin\Desktop\news5_strategy.jpg"/>
          <p:cNvPicPr/>
          <p:nvPr/>
        </p:nvPicPr>
        <p:blipFill>
          <a:blip r:embed="rId1"/>
          <a:stretch/>
        </p:blipFill>
        <p:spPr>
          <a:xfrm>
            <a:off x="5072040" y="1928880"/>
            <a:ext cx="3591000" cy="3548160"/>
          </a:xfrm>
          <a:prstGeom prst="rect">
            <a:avLst/>
          </a:prstGeom>
          <a:ln w="0">
            <a:noFill/>
          </a:ln>
        </p:spPr>
      </p:pic>
      <p:pic>
        <p:nvPicPr>
          <p:cNvPr id="418" name="Nadpis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Radikální produktivita zdrojů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Biologické mimikr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Ekonomika služeb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Investování do přírodního kapitálu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pull dir="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07:15:24Z</dcterms:created>
  <dc:creator>Heczko Michal</dc:creator>
  <dc:description/>
  <dc:language>en-US</dc:language>
  <cp:lastModifiedBy>Heczko Michal</cp:lastModifiedBy>
  <dcterms:modified xsi:type="dcterms:W3CDTF">2008-11-02T20:35:40Z</dcterms:modified>
  <cp:revision>21</cp:revision>
  <dc:subject/>
  <dc:title>Kapitalismus nové civilizace</dc:title>
</cp:coreProperties>
</file>