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446D-F569-4CD7-A973-DD662E324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CDAE-77AA-461C-840E-414B9759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31A1-90C2-4444-81F8-0A2C2EF3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CE38-C6B8-47E8-B0FE-E2AB9D5DC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6BB4-A0F5-4D39-B884-E2FE89AB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F944-7CED-4B4D-99EB-F903534F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A99B-4A0F-49C1-8401-2201EBB0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C852-6775-4768-8784-AF9755FF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DE2C-1841-4A29-8007-7E39F409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7517-458C-46C5-A992-4E685581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C5C4-01FF-4707-92FD-77AE0FE7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2474-1277-4681-BEB9-E27B0E64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9BFC-A234-4EB9-A439-5B8EBD91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7A80-6900-47FF-A308-36DA73E3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3C5B-4A0F-4B9B-A7C8-65254DF6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B284-5D79-4781-A12B-9E892C294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DD07-695A-4231-940E-15AD703C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D3CA-6880-4A51-9630-810EDA2D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B345-97FC-4E81-9C68-9AB9C9E7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90F7-AB8B-4065-970F-B23033DA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85D9-057F-4873-96D0-EFD1814D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08A1-9CA2-4F08-9AE8-10E5198F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C9C3-7E18-4687-987C-B385FBCC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D0CD-C351-41F5-AD40-833CDC21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2CF5-F96C-4226-92D8-D4EB07A05C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B50F-0A83-4CAE-8C8F-B3CAAAF373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Od hierarchie k sítí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rategické aliance se zahraničními partn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pracovaly: Bc. Hana Drozdová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lára Ottichová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Bc. Kristýna Trnkov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trategické sítě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lová poz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řeba udržet loajalitu partne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 partnery musí být výhodné být součástí sí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unikace na sítích - obrovské ulehčení s nástupem nových komunikačních technolog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Typy sítí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ícenásobné aliance (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multiple alliance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tfolio aliancí (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alliance portfoli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vučina aliancí (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alliance web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Rozhodovací proces o účelnosti uzavřít SA a jeho rizik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cká orientace rozhodovacího proc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nikatelská strategie jako východisko k případnému partnerství (vize, mise, rozbor okolí, vnitřní analýza, zdrojové možnosti a dalš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hodnutí o účelnosti SA (příprava firmy, volba scénáře, typ 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Postupy hledání vhodného zahraničního partner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ce o možném partnerovi (partnere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ční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dnocení informační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Komponenty S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dné s komponentami organ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e, struktura, procesy, lidé a role, IS/I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ční hranice, vnější sociálně-ekonomické okolí, vnější technologické okol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fffff"/>
                </a:solidFill>
                <a:latin typeface="Arial"/>
              </a:rPr>
              <a:t>Podoba SA podle Johnsona se Scholese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dobu ovlivňu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akt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dělitelnost akt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ivlastnění akt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U strategických sítí potom platí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tiva nepotřebují společný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tiva nemohou být jednoduše oddělena od společností, resp. nelze to provést bez následk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kud jsou daná aktiva rozdělena do samostatných organizací, existuje velké riziko jejich přivlastnění jinou společnos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Moderní tendence rozvoje alianční spolupráce – MSP v EU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Vliv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globalizace, digit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ekonomika (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-econom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aliance (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-allianc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př. k řízení vztahů se zákazníky, s dodavateli, virtuální organizování spolupráce, elektronické obchodování, elektronické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Použitá literatur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odáček, L. – Vodáčková, O.: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Strategické aliance se zahraničními partne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Management Press: 2002. P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odáček, L. – Vodáčková, O.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Malé a střední podniky: konkurence a aliance v Evropské uni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Management Press: 2004. P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hnson, G. – Scholes, K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Cesty k úspěšnému podnik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Computer Press: 2000. P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, J.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Sdružování malých a středních podniků po vstupu ČR do E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Studie In: Blažek, L. a kol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Vývojové tendence podniků II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Masarykova univerzita: 2007. B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DĚKUJEME ZA POZORNOS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Od hierarchie k sítím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blematika strategických aliancí a sítí jako nový fenomén moderní ekonom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alice a sítě jako nový nástroj strategického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90. léta – dekáda alian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mezení pojmu: Heck (1999), Fry – Stoner – Hattwick (1998) a dal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Příčiny strategických aliancí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stoucí dominance zákazníků nad dodavateli, rostoucí informovanost a požada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árůst nečekaných důsledků nespojitých změn v podnikatelském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ále ostřejší konku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izace, intenzita propojení novými prostředky komun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ědeckotechnický rozvoj a inovační důsled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Další z příčin dle J. Novotné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A jako nástroj odstranění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úzkých mí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 MSP nejčastěji odby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ále opatřování výrobních faktorů, zejména lidské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Řeše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kooperace nebo konce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Základní formy S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Členění dle intenzity vazbového spojen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olné fo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ategické aliance (v užším pojet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oint ventures (obvykle chápány jako strategické aliance v širším pojet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ěsné fo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Klasifikace strategických aliancí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e funkčního hledi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e teritoriálního hledi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e organizačního hledi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e vlastnického hledi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e hlediska cílové orien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e hlediska trva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Strategické aliance v moderním podnikání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o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90. lé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 KAŽDÁ ALIANCE MUSÍ BÝT ÚSPĚŠNÁ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votní smysl: rozvoj pozitivní kooperace a redukce negativní koope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 dále jako nástroj čelení nejistotě a rizi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Úč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dílení činností a zdrojů, redukce konkurenčních střetů, vznik, přenos a využití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SA zaměření na sdílení činností a zdrojů partnerů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zi dvěma či více partnery dochází k systematickému řízení procesu účelného a účinného přiřazování (alokace, případně i realokace) činností a zdr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ůže docházet k pozitivním integračním, popř. synergickým efekt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: zajištění vývoje a realizace složitých výrobků, získání potřebných finančních či jiných zdrojů pro náročnou investiční politiku, využití konexí a komunikačních kanálů partnera a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SA zaměřené na redukci konkurenčních střetů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pravidla nejde o spolupráci v rámci jedné národní ekonom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íše obtížně kontrolovatelné nadnárodní vztahy a nadnárodní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ní nahradit negativní kooperaci (boj, soupeření, konkurenci) jejím protipólem, tj. pozitivní kooper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 americká General Motors – japonská Toyota; či korejská Daewoo 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22:31:24Z</dcterms:created>
  <dc:creator>Hani</dc:creator>
  <dc:description/>
  <dc:language>en-US</dc:language>
  <cp:lastModifiedBy>Hani</cp:lastModifiedBy>
  <dcterms:modified xsi:type="dcterms:W3CDTF">2008-11-05T23:04:28Z</dcterms:modified>
  <cp:revision>6</cp:revision>
  <dc:subject/>
  <dc:title>Od hierarchie k sítím</dc:title>
</cp:coreProperties>
</file>