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B971-4A29-4E79-9E3B-F7BF0B88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669A-73EF-47BE-922B-1C9577D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217C-EF55-40E1-9AEA-9F3C94FD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57E2-9BF2-4DA9-8F3C-35B96C03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FBE6-11AE-4927-8743-EA49AA0B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4F9F-41BC-4491-A035-89200812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B3D-4531-4351-97CD-75C2705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27D4-3AFA-4A53-B01C-10F6BB3A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74C1-663B-4413-9073-70D69BB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127D-4602-4D58-8758-12753809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F53E-6263-43F3-8B0B-F00ACFF5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ABE7-ECA2-43DB-8F24-EC6EB76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75EB-E132-4765-88B0-936B2AA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24B0-04C9-4FF9-8D16-B7F52EE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5E1F-CF6D-4523-A5CE-5160D39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C08-773F-4323-BB34-FD19C84A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4E5-9121-45C2-8192-F9B0FF36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A70B-E61A-4280-B1E3-9B731577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652F-BAC9-4A9A-AA7F-69101F6B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08F4-FE4A-43DC-9DF3-1C2324A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CA03-8514-4BE1-A91C-CEE91AD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9FA0-683A-45CA-A9F7-F6EB2C2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B6D9-B18D-4A88-807A-4E579AD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07F0-9115-48B0-8245-9482BCF2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0FBF-5F7F-4C1C-92B7-55A191A83ADC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9CA-54B6-4E8D-B9FF-B60F258B3D60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d3f1db"/>
                </a:solidFill>
                <a:uFillTx/>
                <a:latin typeface="Tahoma"/>
              </a:rPr>
              <a:t>Strategie trvale udržitelného rozvoje</a:t>
            </a: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trategie trvalé udržitelnosti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yp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proces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oskytnou firmě výhody na straně nákladů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tr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onkurenční výhoda- pomohou firmám odlišit jejich výrobky od konkuren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Učící se organizace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ažení drobnosti v rámci velké organ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5 pravi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příroda v malých buňk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avač balon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Integrovaný systém managementu životního prostředí (EMS)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ší se v tom, jaké prvky jsou v nich obsaž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žaduje stanovení jasných cílů a postupných cílů, systematické chování firmy vůči životnímu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myčka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rámec pro diskusi množství nástrojů a procesů, které si myslíme, že jsou potřebné pro vytvoření 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nuje primární činnosti, týkající se výroby a prodeje výrobků a podpůrné činnosti, jako management lidských zdrojů, informační systémy, auditing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Analýza životního cyklu (LCA)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e o ekologických vlivech výrobků a procesů od kolébky ke hrob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vání vstupů na živ.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robní pro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rava a rozesíl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žívání výrob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yklace nebo opětovné použi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ožení výrobku (toxiny, objem…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proces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gement životního prostředí úplné kvality (TQE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vádí až 60% společn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př. Proc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Gamble, AT&amp;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sign pro životní prostředí (DF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juje ekologické zájmy firmy, trendy trhu, technologické trendy a kontrolní požadavky do vzhledu výrob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M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trh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 pro životní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úko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zelené výrobk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v zákaznících představu, že jsou jak vysoké kvality, tak citlivé k životnímu prostřed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é uvádět pouze pravdivé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př. Loblaw a řada G.R.E.E.N., Ben and Jerry´s Homemade Ice Cream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půrné činnosti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diting životního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čtování plných nákl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xternality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systémy managementu pro životní prostředí (EM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PLIS, DABAWAS, AWIDAT (databá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XIS a Hypertext (zpracov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ování o životním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ADOWS,D. H. et al. Překročení mezí. Praha : Argo, 1995. ISBN 80-85794-83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UMACHER E.F., Malé je milé : aneb ekonomie, která by poèítala i s èlovìkem. Brno: Doplněk, 2000. ISBN 80-72390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Současná nutnost změn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Globální problé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xponenciální populační rů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čerpávání ne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ečist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les biodiversity(Teorie Gaia, zákon entropie, průmyslový metabolism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ntalita předpokládaného neomezeného rů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liš rychlé čeprání 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pa, plyn, uhlí, lesy, (půda, mokř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odmínky trvalé udržitelnosti</a:t>
            </a:r>
            <a:br>
              <a:rPr sz="3800"/>
            </a:br>
            <a:r>
              <a:rPr b="0" lang="cs-CZ" sz="2800" spc="-1" strike="noStrike">
                <a:solidFill>
                  <a:srgbClr val="d3f1db"/>
                </a:solidFill>
                <a:latin typeface="Tahoma"/>
              </a:rPr>
              <a:t>Naplnění potřeb dneška bez omezení budoucnosti</a:t>
            </a:r>
            <a:endParaRPr b="0" lang="en-US" sz="2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lná recyklace materiá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ržitelný energetick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populační expl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edení v soulad ekonomických a evolučních proces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a náhledu(konec karteziánstv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íření západu s rozvojovým svě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íslib snížení porodnosti na jedné straně a spotřeby na druh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puštění dluhů a „zelené“ technologie za možnost šetrně využívat přírodních zdroj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íl přírody v organizacích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ílník = osoby, nebo skupiny, které mohou ovlivnit nebo jsou ovlivněny dosažením cílů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Země není osoba ani skup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liv ovšem m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podílníci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Zelení podílníci Země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ovníci kontr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spotřeb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avní investoř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cké zájmové skup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jčovatelé a pojist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, kdo určují normy pro živ.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Trvale udržitelný strateg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všechny procesy potřebné k integraci trvalé udržitelnosti do jádra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 ale také uznat vzájemnou propojenost všech firem a jednotlivců v globálním společenstv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aradigma ekocentrického managementu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ul Shriva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ě je základním podílní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základní předst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centrický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ůmyslové ekosysté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Ekocentr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ozofický ideál potřebný k propojení managementu organizací a biofyzikálních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surovin, vyloučení emisí, odpadních vod, minimalizace nákladů na životní cyklus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bude upřednostňovat přírodu před lidstvem (karteziánský předpokl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růmyslové ekosystém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 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cept „odpovídající technologi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ich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3 typy průmyslov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- Typ I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většinou přechod mezi Typem I a Typem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1:40:31Z</dcterms:created>
  <dc:creator>mrerror</dc:creator>
  <dc:description/>
  <dc:language>en-US</dc:language>
  <cp:lastModifiedBy>Lukáš Neradilek</cp:lastModifiedBy>
  <dcterms:modified xsi:type="dcterms:W3CDTF">2008-10-26T22:21:15Z</dcterms:modified>
  <cp:revision>44</cp:revision>
  <dc:subject/>
  <dc:title>Seminární práce  Relaunche značky </dc:title>
</cp:coreProperties>
</file>