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221-9326-4F26-9608-2165DA14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7B8-5124-457D-9F82-0B3CFAF3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B0BC3-B4A8-492A-B38E-666031C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875D7-F67E-46E4-B3DF-F4A9756F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907B0-DB96-4974-AB12-9CAA556F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F8DEB-1ECE-46E2-BB2E-924F6A7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0891-8DA9-496E-BB6D-DBF8BD5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C7827-7930-48FB-9871-01C370B6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ABB2C-DE74-4260-ADCB-7F7D8547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B7EBB-E31B-4866-8B4F-6BE92799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0F6EB-2C04-40E0-80F1-74FAC3BE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3A2-4F57-441E-AA27-66D3FF0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D79-95D4-4E5B-811F-154B42F5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C9C1-FD30-46B4-B200-036C926A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DE5-D942-41B1-B596-E2F21CC0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61DF-E213-4A8A-85C7-28691B97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CC2E-73C2-43BA-956C-5A2CF7E8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AB5-0C3B-488E-8C44-D3009B00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0D20-BAC8-4607-9FE6-097F9F73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EF32-CCA0-4FA8-90D0-21D160AC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F7A-5510-4B57-B61F-FFC3BE2A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085E-94E1-4D02-96D7-84B29E0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EC97-C379-46E5-9B6E-883DDEF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5E16-42D0-4135-A6E8-FE53A6B7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D128-72F9-4DE8-8D85-D8563235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1F3-CE59-4D01-B006-7E0582F7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0F646-0C67-4D82-BA75-CDE7AA1F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AC01E-4489-4C6C-A91C-60792307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DAB69-E807-4621-B877-5BE44C1C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23298-D0F6-4442-BB94-82FDAE41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1E873-C5C5-4DAC-BA2D-EDA2ACA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77C-CE73-4668-B997-3A7174CD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94720-408A-4C86-A117-6B64254D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B1183-1D70-44E6-87B4-F49DCAB5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5F9E9-EE9E-45F5-9FF3-E9409CF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02B8B-F6CB-4E4D-BE27-99B36EFC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2B569-B4E0-408A-A1F0-6EA6B873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1D20D-EE27-41EB-8C09-16765530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1E034-CC8B-409C-A0B9-E53D7D24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51B11-5309-4514-AFAD-C1EE628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8071D-F7AA-456F-A544-0142D0AD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42C7B-AE22-4EA3-A1C1-F9FA9F54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707-8921-4B6A-8C90-03143503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E0ECD-7370-42C5-9D65-81BF7A61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636A1-0A37-4853-B1B3-CEB63537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57DA0-9CE5-4A8A-9EA8-0A88AF6F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DD263-E4A6-4A2F-AB4A-147DEEF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26474-94E9-474F-A16D-02C2010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947EF-BB5E-49CF-B62F-4F19470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8E82C-055A-4DDE-8CC9-86ED315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9CA40-A94F-4D38-B5F5-95C25C81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A8FC8-87FD-44C3-8036-AF536FA0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355E6-615F-4E74-950C-F8C2B0E1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5C2-E57C-49E9-9877-D9A82A0B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43036-FCAE-4BB9-8FA0-667255C8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4D4AA-34DE-4412-9061-E165FE4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FE2E1-0988-40B5-BE4F-EAA1745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28163-8DC2-420E-91B8-F4B2F86F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F1805-E86F-4DE8-A9DA-29C779A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0FDA1-B906-4EA5-B6C2-4D4B9C6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44533-C9B6-49CA-B0A6-B744B6E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A8DA2-8292-4042-9910-631D605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C8556-4172-4850-A38F-435FBFB1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69EF3-8401-41CB-944C-8DE40E54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7BE-2033-4869-AD09-32B9E976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57877-F96E-401F-BAE1-B3C91916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42D6-FC48-45BE-95C3-DA4AD50C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D999-AABF-4675-94D2-9E51335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9ADA0-F554-4E10-96D8-55BA5229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1DC9-DC71-4083-83A7-3215877F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82C8C-9565-40E4-947D-37C3C7D1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19E7F-E7DD-44EE-9CBA-5AC2FC63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72E8-DEDD-4FFA-91A3-B50B49F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E9FAB-173C-4992-ABA0-C194846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DE12-9DDE-4039-9B30-668CF74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865-FB09-4FE1-97E5-162F1C7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73E9-5B4E-48CC-9ED7-37192AC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8BA5-1C49-443E-9744-C8F5E1F2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9E8C-369F-4C6E-9B3C-4CA26626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AFD02-574D-445F-BF30-982EA5D2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78EAA-F50D-478D-9BC9-4801C31A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21817-F5AD-44C0-BA06-F406BB51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0C05E4-9666-4B2A-80BB-ADACF26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F0F29-BCEA-4D08-B17E-A340CA6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73D62-B16C-4898-83FF-9A65D8D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B357C-BA0A-4E03-8FC4-694B1138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413-ABE5-4BCC-A687-954B241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F4464-2DE7-47EE-A446-C72ADB8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CFA03-2B81-4525-A7AB-E6C22DF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0717B-54BD-4EDA-803A-FE3C9D4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00D9B-8217-406F-8A9D-9A54BD02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A5B1A-1D5F-40BA-BC2D-195E8DB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9CE9-84CA-4245-A0A7-2CE62275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7D4A0-A154-4471-B7F9-7C04248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38F26-A3F1-4600-A954-A0AF8BE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7AEF6-3333-42F8-874A-073DA96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02FDA-B570-4DB3-AA6E-CE1B9DD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83F-8C1B-4D7E-9946-B4C6C5C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74389-A36C-4B56-A49F-40777A22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8314-7340-42BA-95D4-8345103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064B-3AD7-4259-AE68-526678E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16002-F68A-4821-B729-995A6AB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9B1CA-9134-4BA2-980F-69F78EA0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AA231-A89A-437B-B82B-8813B7CE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DD8E6-C3A1-42CB-BF89-79F67397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EA855-181A-4811-8613-76677321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A8265-A08F-4E8B-AD05-2FA69965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52AE2-327C-45AC-857A-F649DC41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8647-7B6A-42F6-940F-134D4897C7C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D5B9-9322-4D09-ACB3-9DBFD0AFB8EC}" type="slidenum">
              <a:rPr b="1" lang="cs-C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831-5EEC-416A-9DAC-87BA107073E2}" type="slidenum"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ACA4-7708-4F26-AB14-F339505D8CA6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305-8A25-43FA-9565-38B8F7035C1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59F4-BA10-49F6-A399-7B65F7AE9FF4}" type="slidenum">
              <a:rPr b="1" lang="cs-C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6AB3-71E9-4D15-95A2-4D5CCBDAF778}" type="slidenum"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D33-3A14-4821-90EE-B5CA4D9C93BA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5563-FD24-458C-8F34-D978869275D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bddc3"/>
                </a:solidFill>
                <a:latin typeface="Tw Cen MT"/>
              </a:rPr>
              <a:t>ANALÝZA PRAXE MANAGEMENTU ÚSPĚŠNÝCH AMERICKÝCH SPOLEČNOSTÍ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General Electric (G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878 – Thomas A. Edison - Edison Electric Light Company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»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  <a:ea typeface="Arial"/>
              </a:rPr>
              <a:t> General Electri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ržní hodnota z roku 1997 nejvyšší na světě: 300 mld. dolar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ý výběr ved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ekrutování manažerů ze svých řa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lepší a levnější si talenty pěstov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Diagram 16"/>
          <p:cNvGrpSpPr/>
          <p:nvPr/>
        </p:nvGrpSpPr>
        <p:grpSpPr>
          <a:xfrm>
            <a:off x="1220760" y="96480"/>
            <a:ext cx="6703200" cy="6647400"/>
            <a:chOff x="1220760" y="96480"/>
            <a:chExt cx="6703200" cy="6647400"/>
          </a:xfrm>
        </p:grpSpPr>
        <p:sp>
          <p:nvSpPr>
            <p:cNvPr id="415" name="_s1028"/>
            <p:cNvSpPr/>
            <p:nvPr/>
          </p:nvSpPr>
          <p:spPr>
            <a:xfrm flipH="1" flipV="1">
              <a:off x="3396600" y="1655640"/>
              <a:ext cx="847440" cy="131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29"/>
            <p:cNvSpPr/>
            <p:nvPr/>
          </p:nvSpPr>
          <p:spPr>
            <a:xfrm>
              <a:off x="246672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oprav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1030"/>
            <p:cNvSpPr/>
            <p:nvPr/>
          </p:nvSpPr>
          <p:spPr>
            <a:xfrm flipH="1" flipV="1">
              <a:off x="2599200" y="2581200"/>
              <a:ext cx="1423800" cy="64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31"/>
            <p:cNvSpPr/>
            <p:nvPr/>
          </p:nvSpPr>
          <p:spPr>
            <a:xfrm>
              <a:off x="144360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 p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ktrár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1032"/>
            <p:cNvSpPr/>
            <p:nvPr/>
          </p:nvSpPr>
          <p:spPr>
            <a:xfrm flipH="1">
              <a:off x="2428200" y="3563280"/>
              <a:ext cx="154692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033"/>
            <p:cNvSpPr/>
            <p:nvPr/>
          </p:nvSpPr>
          <p:spPr>
            <a:xfrm>
              <a:off x="12207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s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 flipH="1">
              <a:off x="2938680" y="3872520"/>
              <a:ext cx="1179360" cy="102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035"/>
            <p:cNvSpPr/>
            <p:nvPr/>
          </p:nvSpPr>
          <p:spPr>
            <a:xfrm>
              <a:off x="1870920" y="4683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0640" rIns="170640" tIns="88920" bIns="88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ysíla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čin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36"/>
            <p:cNvSpPr/>
            <p:nvPr/>
          </p:nvSpPr>
          <p:spPr>
            <a:xfrm flipH="1">
              <a:off x="3966120" y="4054680"/>
              <a:ext cx="438840" cy="14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37"/>
            <p:cNvSpPr/>
            <p:nvPr/>
          </p:nvSpPr>
          <p:spPr>
            <a:xfrm>
              <a:off x="3185640" y="55288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dravotni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8"/>
            <p:cNvSpPr/>
            <p:nvPr/>
          </p:nvSpPr>
          <p:spPr>
            <a:xfrm>
              <a:off x="4744440" y="4054680"/>
              <a:ext cx="441000" cy="149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39"/>
            <p:cNvSpPr/>
            <p:nvPr/>
          </p:nvSpPr>
          <p:spPr>
            <a:xfrm>
              <a:off x="4747320" y="552888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světl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40"/>
            <p:cNvSpPr/>
            <p:nvPr/>
          </p:nvSpPr>
          <p:spPr>
            <a:xfrm>
              <a:off x="5031720" y="3869640"/>
              <a:ext cx="1179000" cy="10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41"/>
            <p:cNvSpPr/>
            <p:nvPr/>
          </p:nvSpPr>
          <p:spPr>
            <a:xfrm>
              <a:off x="6061680" y="468396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rmač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42"/>
            <p:cNvSpPr/>
            <p:nvPr/>
          </p:nvSpPr>
          <p:spPr>
            <a:xfrm>
              <a:off x="5171760" y="3559320"/>
              <a:ext cx="1544760" cy="22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43"/>
            <p:cNvSpPr/>
            <p:nvPr/>
          </p:nvSpPr>
          <p:spPr>
            <a:xfrm>
              <a:off x="67089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ůmys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44"/>
            <p:cNvSpPr/>
            <p:nvPr/>
          </p:nvSpPr>
          <p:spPr>
            <a:xfrm flipV="1">
              <a:off x="5121720" y="2574360"/>
              <a:ext cx="141876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45"/>
            <p:cNvSpPr/>
            <p:nvPr/>
          </p:nvSpPr>
          <p:spPr>
            <a:xfrm>
              <a:off x="648648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apitá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46"/>
            <p:cNvSpPr/>
            <p:nvPr/>
          </p:nvSpPr>
          <p:spPr>
            <a:xfrm flipV="1">
              <a:off x="4898880" y="1653480"/>
              <a:ext cx="842040" cy="13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47"/>
            <p:cNvSpPr/>
            <p:nvPr/>
          </p:nvSpPr>
          <p:spPr>
            <a:xfrm>
              <a:off x="546336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á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řebič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48"/>
            <p:cNvSpPr/>
            <p:nvPr/>
          </p:nvSpPr>
          <p:spPr>
            <a:xfrm flipV="1">
              <a:off x="4571280" y="1311480"/>
              <a:ext cx="0" cy="155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49"/>
            <p:cNvSpPr/>
            <p:nvPr/>
          </p:nvSpPr>
          <p:spPr>
            <a:xfrm>
              <a:off x="3963600" y="964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e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50"/>
            <p:cNvSpPr/>
            <p:nvPr/>
          </p:nvSpPr>
          <p:spPr>
            <a:xfrm>
              <a:off x="3963600" y="2870640"/>
              <a:ext cx="1215000" cy="12150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měny General Electric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organizoval od základů obchod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pustil téměř 200 tis. zaměstnanc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ísto malých posunů rovnou skočit“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oncept „tréninku“ jako nový nástroj komunik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bnovení důvěry mezi zaměstnanci a managemente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lomení bariéry a podpoření kreativ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75f55"/>
                </a:solidFill>
                <a:latin typeface="Tw Cen MT"/>
              </a:rPr>
              <a:t>10 tajemství manažerského stylu Jacka Welch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Investujte do lidí – Na lidech zále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Ovládněte trh nebo ho vykli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Nikdy se nezastav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Myslete na služb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apomeňte na minulo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Učte se a ve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Žádné žvaněn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likvidujte byrokraci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ůstaňte u jedné korpora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Řiďte svůj podnik jako obchod na náro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duktivita zásluhou lid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LEXTRON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ezinárodní společnost (Singapu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ední poskytovatel EM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10844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w Cen MT"/>
              </a:rPr>
              <a:t>Vývoj, výroba, logistika, poprodejní serv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OEM a ODM zákazní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vizice společnosti Solectron (2007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ržby $33,6 miliar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bočky ve &gt;30 zemích na 5 kontinente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vojové centrum v Brně (segment Industrial – centrála v Dallasu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- Klíčové hodno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Intenzivní spoluprá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měření na zákazní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á, rychlá a disciplinovaná real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vazek k trvalému zlepš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rvalé směřování k cí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0 zaměstnanců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0 vývojových inžený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90% muži, Ø věk 32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Nastavení systému odměň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mzdy dle LEV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systému hodnoc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kolení a rozvoj zaměstnanc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flexibilních zaměstnaneckých benefit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ružná pracovní do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evná část 10:00 – 14:30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itelná část 5:00 – 10:00, 14:30 – 22: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zd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xní část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esč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plácen nad rámec Z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imořádné odmě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jimečné pracovní výsledky, mimořádné úko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enef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raven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íspěvek na ŽP, P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urzy A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cie společnost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tný reži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ovolená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4+1 týden naví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nájem tělocvič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ngpo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remní ak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om Peters, Robert H. Waterman jun., Hledání dokonalosti, ISBN 80-7205-817-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rainer Stuart - Byznys podle Jacka Welche, Pragma 2005, ISBN: 80-7205-947-5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www.businessweek.com/magazine/content/01_49/b3760040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en.wikipedia.org/wiki/In_Search_of_Excell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niha byla vydána v roce 1982 (zastaralost názorů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Široké spektrum společ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jich přísný výběr podle mnoha ukazatelů (musely vykazovat dlouhodobý úspěšný růs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bývají se řízením společností z pohledu celého management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jim vytýkán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data byly nepřes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 většinu společností přišla slabší léta, i když byly prezentovány v knize jako „dokonalé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úspěšné společnosti se do hodnocení nedostaly, kvůli striktnímu dodržování ukazatel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Hodnocené společnosti byly velké a měly dominantní postavení na trh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ředpoklady dokonalost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ledání pomocí 7s (strategie, struktura, zaměstnanci, systém řízení, sdílené hodnoty, styl vedení, dovednost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efinují oblasti, které musí management řeš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mocí nich identifikovali klíčové oblasti a vztahy mezi nim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alezli 8 těchto oblastí přispívajících k dokonal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Motivace k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naha udělat doj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alé skupiny pracovníků, kteří přicházeli s řešením bez zbytečného papír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ktické zařízení pro organizační změ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Blíže k zákazníkov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čit se od lidí, kterým slouž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valita, služby a spolehlivost – trvalá hodn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Dobré služby jsou výjimko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Autonomie a podnikav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silování vedoucích a inovátorů v rámci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ná síť malých buněk ve velkých organizacích, bez omezování krea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4. Produktivita zásluhou li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 kapitálové investice, ale postavení a zařazení lidí jako hlavní zdroj kvality a zisku z produk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covníci jako zdroj myšlen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5. Prosazování praktické stránky zaměření na hodno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ákladní filozofie organizace přináší větší úspěch než technologie, kapitál a struktur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. Zůstaňte věrni svému obor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ikdy nevlastněte podnik, který neumíte ří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výsledky dosahují společnosti, které zůstávají blízko činnosti, kterou znaj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. Jednoduchá forma, nepočetný personá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Jednoduchá struktura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pičkový personál málo počet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8. Současně volno-pevné vlastn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společnosti jsou buď centrálně řízené, nebo decentralizova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lačení autonomie k dýmům dílen nebo rozvojovým kolektivů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Centralisté kolem několika základních hodnot,které mají podle společnosti význ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Jack Welch (*1935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doval chemické inženýrstv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0 nastoupil do oddělení plastů General Electric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puje ostře proti byrokraci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8 se stává nejmladším generálním ředite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vzal společnost, která byla modelem moci amerických korporací a moderních manažerských techn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53:57Z</dcterms:created>
  <dc:creator>PC</dc:creator>
  <dc:description/>
  <dc:language>en-US</dc:language>
  <cp:lastModifiedBy>Pafča</cp:lastModifiedBy>
  <dcterms:modified xsi:type="dcterms:W3CDTF">2008-11-05T15:42:03Z</dcterms:modified>
  <cp:revision>29</cp:revision>
  <dc:subject/>
  <dc:title>Hledání dokonalosti – Tom Peters</dc:title>
</cp:coreProperties>
</file>