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29E-8000-451B-B938-2E701932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6D2-70DE-482A-B8FD-258EDF79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D99-400A-4E58-A1DA-C09B5817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EBC-567B-4DD6-BFEF-1C667FFC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A718-CB37-43EC-A13F-DDF1DDD2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819-15D9-4BF9-A1F4-0EC81CB9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89E1-AD52-4AEB-9932-2BAEF692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C74F-6BB3-40F3-94F8-A7094BAC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0355-CDE5-42F0-A183-E4786B9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D0F-1ECF-48B7-A2BE-196ADD65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C41-33BF-43F6-A02B-93D4D8F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8E8-90AE-40C0-9EBF-5500AE1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246C-6731-49D7-A063-64B15BA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34AE-3236-4D77-9FEE-AD35D43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2D14-8CB4-492A-9501-FF0AA9BF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2538-97BD-4D48-B895-4BE4D20D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9A58-ED44-4B0E-A4E3-96A7F286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1C38-F645-477F-A75B-7E907ECD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936A-594D-44CF-8AA0-9980DEA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205D-63AD-4834-A8BB-7370CA9B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0FA3-DF29-4BEF-B5BB-F3B15DCB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8E06-7ECB-45F4-A5BF-8A725609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9EC-3760-4775-A136-2D7E186E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AADF-0176-4AE3-8724-2E1FC4C4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CD3F-3EBA-4EC8-A927-67540C30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BAD37-E036-4BF8-8DB2-66447CD3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54F1-4F95-4CF8-9398-BD4864B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F2BAB-4A3D-401E-8AC2-D81C8414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8C55-BC19-42F7-B01E-4375FF2E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BB8D-23D4-4CE7-933A-09CD0AC4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104C6-3466-4B3B-AB59-EE4151A4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40A2-5EB3-4E88-A394-C818620A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ED4D-0AB8-4CB2-B43B-AB4ABEE3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0D9-0064-4499-B2D6-BB5FD39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E3AD-AAE3-4639-8B59-B56D79E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206F-8AF2-48A8-8C97-94154F8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3EA6-F365-4C02-A642-74DB434C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631B-EBDF-4248-A8DE-8E6AC39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4F23-5967-4C44-A23A-F319209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1676-C79C-4C5D-A54A-D27198B7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7F6D3-DD82-4B3E-A8FD-B18042F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A820-ED78-4B1C-9E4F-419C1F56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6F7E-E12A-4038-B0F5-FB00B891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F76-B0FA-4C31-9E72-358C32C5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D97-BEEC-45FC-A749-2923AA0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677-AD75-4CD3-99E9-5882972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2D7-EDD7-49E4-83E5-486286F7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9F0-6318-4DAC-B06B-2DA483E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0040-D798-419B-9513-CA4C6A4FADE3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D7B-2B35-4059-9663-613E5204E487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09CB-C8EF-4435-90E0-BC2934AB4EC0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095-62EB-4664-A829-07563EB84171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v postmoderní době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00480" y="4357800"/>
            <a:ext cx="268596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Kincl Pa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e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Management a etika zodpovědnost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Řízení fungovalo „na kázni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Taylorovské podnikání = vykořisťování pracovní sí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nes funguje „na etice“ – potlačuje se pohrdání člověk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gement a etika = vytvářejí dvě zrcadlové tváře téhož fakt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00040" y="2286000"/>
          <a:ext cx="8229600" cy="274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st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yramidální a autoritativ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tivní a horizontální management (=„kopernikánský obrat“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chanické rozdělení úko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rzačení lidského potenc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zvýšit iniciativu každého jedince „zmobilizovat inteligenci vše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dynamizovat tvůrčí zdroje všech spolupracovníků a rozvinout kvalitu života v prá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Taylorovský podnik vs. Posttaylorovský podni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v managementu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bavuje organizace strnul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novuzrození normativního ideálu hodn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středěnější pozornost k psychologickým a relačním ukazatelům pracovní motiv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ní fáze věku konzumu charakteristické binární opoz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olno-prá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Štěstí-kázeň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oukromý život – profesiní živ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časnost, nové zaměření volného času („neopalovat se do blba“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ykly kulturního vzděláván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emináře duchovní medit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entra prohlubování vědom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ka zodpově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nastoluje autoritativní normy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ýbrž činí zodpovědnost předmětem to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uší strohý protiklad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- Profesní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Soukromý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omocí autonomie a osobního roz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ý přístup ke správě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at jin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mená též pracovat ví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sttaylorovské podniká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 personál připravený na změnu, motivovaný a odhodlaný k záp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rod metod a kurzů tzv. „osobního rozvoje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tická jednohlas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ofesní úbytek kvalifikace, sociální rozpolcenost a vytlačování na okraj spole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valozpěv, úcta vede k tajnůstkářským a opovrženíhodným praktik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těchto podmín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malé nadšení pro posttaylorovskou formu organizace prá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sem současných spole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pouze touha po spoelčenském a morálním uzn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moderní individualismus ji nevynalézá, avšak šíří ji do oblastí, jichž se kdysi týkala jen málo nebo vů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tah jednoho člověka k druhém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strukturován vymýcením všech forem segregace, pokořování a poniž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etický ohled v řízení zaměstnanců má před sebou skvělou budouc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užité 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hompson M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Přehled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Lipovetsky G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Soumrak povin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ilosozická disciplí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rálka, normy jednání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odnoty a principy v jednáních, při kterých existuje svobodná vů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voj v období antiky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(Sokrates, Platon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ní úloha = potlačit nezodpovědný individualism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na první strá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zrůstající role a moc médií =&gt; roste i krize důvě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édia a informace = symboly manipu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tika médií – degradace demokraci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naha posílit žurnalistické povin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médií – dnes v centru zájm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rupce v médiích – dříve a d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formační a mediální et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hvála profesiona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žadavek spravedlivé svobody tisku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Komerční log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 pozvednutím kulturní úrovně – „trh s pravdou“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„senzační“ tisk</a:t>
            </a:r>
            <a:br>
              <a:rPr sz="2600"/>
            </a:b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=&gt; dualizace tis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ňatek etiky s byznys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mach obchodní etiky -&gt; ve velkých amerických firmá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znikaly tak etické kodexy – závazná pravidla náležitého chování uvnitř podnik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hics pay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is busines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é kodexy se jevily jako překážka ekonomické výkonnosti = šlo o z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ethic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enství morálních hodnot -&gt; etika se stává výkonným pomocníkem ekonomi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Ideálem je „spravedlivý střed“ – rovnováha mezi různými protikladnými zájmy ekonomických a společenských činite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Etické kodexy vs. podnikové projek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nikové projekty – cílem je vyjádřit záměr firmy a její hlavní sn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2960" y="2786040"/>
          <a:ext cx="7786800" cy="367344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tické kodexy –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dnikové projekty – Fran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zdíl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ymezuje závazky a práva každého zaměst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novuje cíle pokroku a širší ideály, které dávají podniku kolektivní smy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ilují o zvýšení zodpovědnosti normativní cestou „morální smlouvy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ipoutává zaměstnance výrazem sdílené kolektivní vů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poleč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íra manažerů ve výkonnost, postup předávání zodpovědnosti a zapojení personálu „kulturní“ cest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dnik neklade do popředí přejatý a neměnný zákon, nýbrž v principu si své zásady ukládá po proběhnutí kolektivní deba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ývoj obchodní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ábožensk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ciální – společenské zodpovědnosti podni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Snaha uspokojit legitimní očekávání a požadavky společnosti – v diskuzi s nátlakovými skupinami, anebo sám od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siness et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Podnik musí sám zreformovat své principy a praktiky a nastoupit trvalou stálou cestu úcty k morálním normá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opad na manažery podni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žerský diskur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sahem je:  manažer by se měl vždy chovat poctivě, nešidit sebe sama a respektovat své závaz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 vytyčuje směr „new age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4:30:20Z</dcterms:created>
  <dc:creator>snoopy</dc:creator>
  <dc:description/>
  <dc:language>en-US</dc:language>
  <cp:lastModifiedBy>Marek</cp:lastModifiedBy>
  <dcterms:modified xsi:type="dcterms:W3CDTF">2008-10-30T06:00:52Z</dcterms:modified>
  <cp:revision>2</cp:revision>
  <dc:subject/>
  <dc:title>Etika</dc:title>
</cp:coreProperties>
</file>