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429C-DD8A-495F-969C-795FA2BF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649A-AF10-40AC-BCEE-AD8EBA58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6FD8-35E4-4AD1-B1A6-60666CBB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079C-7CC7-45C7-A856-BDA9BEF3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2EFA-5A39-441B-8345-BC32F68C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33F9-64D9-4190-AAA5-7A00D96E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EA5F-641C-4D26-9434-EE64EE58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4963-9ACB-4B13-A3DB-D6FBB572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65E1-5DE0-41A0-B3D8-1489EA32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B63A-8742-4142-8E6B-DFEDF8A4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5324-AEE0-4C32-BB24-6DE9D365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4FEE-B800-4127-92C1-F81C36E3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6A27-ACD6-4775-BFF1-2050B2A4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A047-2D38-476F-9DD7-A641FBB9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926E-FB59-4FD6-993A-5E96338E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EE50-8A75-43F9-8DFB-E85B6C7F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9D5A-94FA-435B-A2AA-8369EF4C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77DB-7853-4039-A283-A530E953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381B-393B-47F8-842F-F139BB3F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C9EF-E67C-4284-AA39-6E76BDF7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6130-F618-46BA-A363-07673574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2757-818E-41F8-8FDA-38EA77AC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7F7D-FDE2-4D25-B340-F0917934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9BEF-C33B-48F8-B9F3-AAA1471B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131F-F7F3-4A65-A539-7E87C6E7117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5085-8085-4CDE-A214-1C88EB0D0B5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adikální přeměna podniků: Reengine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racova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reza Hurní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ronika Molá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udmila Šaue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Jak začít s reingeneeringem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me ochotni se k řízení procesu změn postavit pečlivě, odvážně a angažovaně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odnikový reingeneering = „“dosáhnout obrovských přínosů jediným mocným rozmachem“, nikoli systematicky postupně dosahovat určitých přínos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vní krok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edení definuje procesy, jichž se v organizaci uží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to procesy se uspořádají podle významu a současné efe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ruhý krok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hodneme se, na kterých procesech chceme pracovat (současně max. 1-2 projekt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mocí přiřazení KFÚ k procesů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kritických faktorů úspěchu – </a:t>
            </a:r>
            <a:r>
              <a:rPr b="0" i="1" lang="cs-CZ" sz="1800" spc="-1" strike="noStrike">
                <a:solidFill>
                  <a:srgbClr val="ff0000"/>
                </a:solidFill>
                <a:latin typeface="Arial"/>
              </a:rPr>
              <a:t>např. spokojenost zákazníků, kvalitní zaměstnanci, vynikající dodavatelé, 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čím více KFÚ proces ovlivňuje, tím je důležitějš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tým oboduje procesy dle jejich dosavadní výkon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menujeme reingeneeringový tým (5-7 lid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dělíme role v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řídící skupi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Řídící skupina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) vlastník podnikového proces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lověk odpovědný za efektivnost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= chápe přání zákazníků – určí správnost práce – řidí lidi kteří ji vykonávají, aby ji vykonávali efektivně)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(x klasická oddělení: pouze řízení lidí na určitém úseku vykonávání práce – může být vykonána efektivně nesprávná prá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 Lídr týmu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ídr reingeneeringového tý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ástečný úvaz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a vysoce výkonná a pracovně vytíže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lépe manažer oddělení majícího klíčový význam pro reingeneer. Pro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í kvality, nadšení pro pro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) zprostředkovat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oblasti jež není součástí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má znalosti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í se na to, „jak“ postupovat, ne „co“ dě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ečenský člově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4) externí konzultatnt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ano či 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)koordiná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ze pokud máme ve firmě více než 1 proces reingeneerin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akty mezi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ástečný pracovní úvaz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ministrativní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6)Členové reingeneeringového tým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jich kolektivním úkolem je zajistit reingeneering proce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lépe lidé ze střední úrovně organ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ez nadřízených/podřízených vztahů mezi seb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7 členů vč. Líd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s. i specialistu neúčastnícího se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Úkoly reingeneeringového týmu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chopení procesu, který má být podroben reingeneerin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jeho vstupů, výstupů a zákaz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jistit požadavky zákaz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měřit parametry současného procesu </a:t>
            </a:r>
            <a:r>
              <a:rPr b="0" i="1" lang="cs-CZ" sz="2800" spc="-1" strike="noStrike">
                <a:solidFill>
                  <a:srgbClr val="ff0000"/>
                </a:solidFill>
                <a:latin typeface="Arial"/>
              </a:rPr>
              <a:t>(brainstorming týmu: „nedostatky“ x „přednosti“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– soustředíme svou pozornost na nedosta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ze nového procesu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nchmarking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výkonnostní kriteria – stanovte cíle =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výsledky dosahované konkurenc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možno uplatnit i v rámci jednotlivých lokalit poboček pod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ces musí být v souladu 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trategií podn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žadavky zákazní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zi formulujt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ozitivně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(ne:bez jakýchkoli reklama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no: snížit počet reklamac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 viz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ěřitel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vize začleni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činnosti lidí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říklad z praxe – Jaguá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. léta x 60. léta (Bo-C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blém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tráta konkurenční výh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nažerský styl ved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ktura 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rma vydělává x prodělává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ůvody pro vytvoření koncepce reengineering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y pro fungování prvků tvořící podnik (struktura, management, výkonnost) – staré 200 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mínky se radikálně změn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základní síly ovlivňující podnik – tzv. 3 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kazníci rozhoduj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ku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měna se stává neustá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ykl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kace probl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ozuměn důsledk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hopit situ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épe zapojit zaměstnance a tak zvýšit jejich loajal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čit hl. cíle změ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hodnotit aktivity vedoucí k jejich dosaž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hodnocení a fixace nového sta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guár mimo korporac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jistěné problém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nanč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ízká kvalita výrob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lesající presti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ízká produktivita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patná pracovní morá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kání se zaměstnan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amžitá změna mnoha firemních proces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vní zrušení fi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kce pracovníků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lepšení kvality vý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ecné povědomí o fungování firmy a jejich produ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ční a vzdělávací kampaň zaměstnanců všech organizačních stupň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ntifikace několika hlavních cílů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ovuobnovení kv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městnanci, subdodavatelé a kontroloř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uktiv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pouštění, přísné předpisy, technologická modernizace, optimalizace některých proce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licencování, nová pravidla pro distributory, koncept nového vizuálního sty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hodnocení a fixace dosažených změ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rémní kval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ysoká produktiv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kluzivní způsob prode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y akcií na burze velký vzest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užitá literatur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189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AMMER, M., CHAMPY, J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Reengineerin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: Management Press, 199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loš Drdla, Karel Rais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ízení změn ve firmě - reengineering : jak vybudovat úspěšnou firmu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aha : Computer Press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BSON, MIKE, ULLAH, PHILIP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raktická příručka podnikového reingeneeringu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aha: Management Press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531280" y="2361960"/>
            <a:ext cx="2174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jem reengine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e: Znamená zásadní přehodnocení a radikální rekonstrukci podnikových procesů tak, aby mohlo být dosaženo dramatického zdokonalení z hlediska kritických měřítek výkon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íčová slova: zásadní, radikální, dramatický, pro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ý začátek (jak bychom vytvořili podnik, kdybychom ho zakládali nyní) x pouhá ná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kračován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ouštění starých pravi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íčové jsou otázky PROČ něco děláme x jak to udělat rychleji, s nižšími náklady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entace na procesy ne na úkoly nebo útv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dpokladem je nasazení informačních technolog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olečné rysy reengineerovaných proces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49000"/>
            <a:ext cx="7981920" cy="37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ěkolik prací spojeno do jed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ovníci rozhoduj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oky procesu vykonávány v přirozeném sl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ní provedení proces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kce kontrolních opat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žer případu je jediným kontaktním mí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binace centralizace a decentr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ruhy změn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ovní jednotky: od funkčních útvarů k procesním tým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kter práce: od jednoduchých úkolů k mnohostranné prá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dé získávají větší prav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měna přípravy k práci: od výcviku k vzděl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žeři se stávají kouč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lošťuje se organizační struk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ant podnikového systému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12664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nikové proce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ovní funkce a                      Hodnoty a náz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k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émy řízení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dnoc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700000" y="278136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4365720"/>
            <a:ext cx="649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227640" y="436536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516720" y="285228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le informační technologi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součástí každého reengineeringu, je spolutvů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žadavek induktivního myšl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é technologie umožňují nasazení nových způsobů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vá pravidla pro technologi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ce jsou přítomny všude, kde jsou potřeb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zalista může vykonávat práci expe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ozní personál může předávat informace kdykoli a kdek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ěci vám řeknou, kde js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ány se revidují průběž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5:58:47Z</dcterms:created>
  <dc:creator>Liduska</dc:creator>
  <dc:description/>
  <dc:language>en-US</dc:language>
  <cp:lastModifiedBy>Tereza</cp:lastModifiedBy>
  <dcterms:modified xsi:type="dcterms:W3CDTF">2008-11-10T00:09:01Z</dcterms:modified>
  <cp:revision>25</cp:revision>
  <dc:subject/>
  <dc:title>Reengineering</dc:title>
</cp:coreProperties>
</file>