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B59-E2E7-4DCA-8223-D3BF9BD7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33B-B083-4CBB-A515-C2F4B69F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F5F-3A87-455E-8BA4-06B3D981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094-3C14-4674-BD46-E120D120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671-79DB-46BC-8C3A-D3F7C9AD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8FA-2E79-4DAA-B1EF-C61E095D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F84-B132-4E86-9C8F-DB183B0F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6D1-53BD-40F3-B540-78421FF2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4E8-2C66-4355-9F8D-F6DED0C3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16F-DAEF-439F-B7FC-79358AB5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9B2-D6DD-4D84-B854-7D3F7928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8AEB-C973-4F4A-86DC-0ECE40F2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B1F6D-2F18-4F4C-9FFB-70C014542276}" type="slidenum"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Stratégia trvalo udržateľného rozvo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ystémy managementu životného prostredia: uzavretie reťaze hodnô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Analýzy životného cyklu: základ pre management od kolísky do hrob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tratégie trvalej udržateľnosti riadené procesom: predchádzať znečisteniu predtým, než k nemu dôj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tratégie trvalej udržateľnosti riadené trhom: odlíšiť sa pomocou správy výrobkov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Marketing pre životné prostred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2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Spoločnosť by sa nemala prezentovať ako zodpovednejšia za životné prostredie, než v skutočnosti je. Tí, ktorí sa zaoberajú marketingom pre životné prostredie, majú v popise práce pomáhať, aby skutky spoločnosti zodpovedali jej slovám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Frankel, Coddingt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Vytváranie systému managementu životného prostr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Vytváranie systému managementu životného prostr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Podpora smyčky reťaze hodnô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Auditing životného prostredi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Informačné systémy managementu pre životné prostred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Informovanie o životnom prostredí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Hľadanie trvalej udržateľnosti, ktorá ide za smyčku reťaze hodnô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Všeobecné ci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zabezpečenie zdravého životného prostred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udržanie ekonomickej prosper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resadzovanie sociálnej spravodlivosti, rovnosti a blahobyt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zachovanie zdrojov a biodiverz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vytvorenie etiky správy vo všetkých inštitúciách a u všetkých jedinco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rozvinutie trvalo udržateľných komuní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ovzbudzovanie občianskej zodpovednost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stabilizácia populáci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ropagácia vzdelávania s dôrazom na trvalú udržateľnosť a kvalitu život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President´s Council on Sustainable Development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Udržateľnosť</a:t>
            </a:r>
            <a:br>
              <a:rPr sz="4400"/>
            </a:b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útok troch komponen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História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7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ímsky klub („Medze rastu“), Konferencia OSN o ŽP (Štokho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87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áva Brundtlandovej komisie „Naša spoločná budúcnosť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9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ummit Zeme (Konferencia OSN o ŽP a rozvoji),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7 princípov TUR,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lán (Agenda 21), UN CSD (komisia pre T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ummit v Johannesburgu (RIO+10, Konferencia OSN o T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Kritiky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poruplnosť poj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udržateľnosť súčasného st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deológia namierená proti rozvojovým krajinám, ce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rísnejšie podmienky a pravidlá pre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ískanie rozvojovej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cept ne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nu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stato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n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zor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udob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ľ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orí najvia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pia poškodzova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životného prostr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Kritiky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bsentujúc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ázka ideológie ekonomického rast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ektorí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UR považuj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ideológ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o-liberaliz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UR príliš zameraný na člov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írodné zdroje sú bohaté a vzhľadom na tvorivosť človeka nie je TUR potreb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deál medzigeneračnej spravodlivosti je nevyvážený a má nedosta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AD, W.E., STEAD, J.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agement pro malou planetu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aha: GplusG, 1998. ISBN 80-86103-15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euractiv.com/en/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tur.gov.s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tur.s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en.wikipedi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Centrálne zdroje problémov životného prostr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Ekonomický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sobný a spoločenský blahob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Populačný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alá plané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olo problém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rvalá udržateľnos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„miesto, v ktorom ľudstvo napĺňa potreby súčasnosti bez obmedzenia schopnosti budúcich generácií naplniť svoje potreby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Svetová komisia pre životné prostredie a rozvoj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WCE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Biofyzikálne a socioekonomické rozmery 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vorenie úplnej recyklácie materiá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chod na trvalo udržateľný celosvetový energetick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abilizácia alebo zníženie úrovne ľudskej pop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ierenie rozdielov medzi rozvinutými a rozvojovými národmi sv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vorenie štruktúr rozhodovania založených na obci, ktoré umožnia široké koordinované zapojenie do rozhodovania o spoločných zdrojoch Z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ena vzťahu medzi ekonomickým a evolučným časovým merad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Morálny rozmer 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Ľudské bytosti nie sú stredom sveta, ani nestoja v centre Zeme. Je to iba jeden druh, i keď dôležitý, vo svete obývanom tisíckami druhov. Ľudia by bez existencie týchto druhov nemohli prežiť, zatiaľ čo ďalšie rastlinné a živočíšne druhy by mohli bez ľudského zásahu prežiť celkom dobre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R. A. Buchholz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Vnímanie, hodnoty a strategické rozhodova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nímanie – primárna úloha v ľudskom cho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existuje objektívna skutočnosť, existuje len vnímanie skutočn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dnoty – hrajú hlavnú rolu v rozhodovaniach manažé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stredná hodnota: trvalá udrža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mocné hodnoty: celistvosť, potomstvo, drobnosť, obec, kvalita, duchovné napln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50560"/>
            <a:ext cx="8839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Management podielnikov v organizáciách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stakeholder managamen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em: základný podiel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elení podielni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„zástupcovia Zeme v hospodárstve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ovníci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elení spotrebite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rav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tick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inves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stnan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kologické záujmové skupi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eritelia a poistitel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í, ktorí určujú normy pre životné prostred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trategický management pre malú planétu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kocentrický management: filozofia trvalej udržateľnost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nikateľská stratégia: stáť za trvalou udržateľnosť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atégia trvalej udržateľnosti: naplnenie zelených víz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atégie trvalej udržateľnosti riadené proce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atégie trvalej udržateľnosti riadené t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emyselné ekosystémy: prepojenie výroby s prírod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čiace sa organizácie: Štruktúry pre trvalú udržateľ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sadná zmena: Vytváranie trvalo udržateľných kultú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50:06Z</dcterms:created>
  <dc:creator>Ján Dvorák</dc:creator>
  <dc:description/>
  <dc:language>en-US</dc:language>
  <cp:lastModifiedBy>snoopy</cp:lastModifiedBy>
  <dcterms:modified xsi:type="dcterms:W3CDTF">2008-10-29T09:12:59Z</dcterms:modified>
  <cp:revision>9</cp:revision>
  <dc:subject/>
  <dc:title>Centrálne zdroje</dc:title>
</cp:coreProperties>
</file>