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D5871-5A32-432D-815E-24EFAD68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2AF8-555B-4175-8F96-8C8816F0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7F63-54AF-4C38-B1F4-FEE71260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6D92-E0A8-4B81-8846-4F547264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1616-AB44-4778-99DA-E4C313D6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3708-4B39-4CE2-AEFD-0BF9E0A6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6DE2-DEB6-47C4-A2D7-F0EAC284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733C-3007-491F-9BC5-0992594A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2793-E40E-4001-A57A-FD071BF2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4F0E-B445-41C2-ACF8-71DCD1C4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7441-62B4-40A1-ADB8-4AAD8C34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5A47-7CEE-4B6F-B736-72D4236F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B73A-0158-4F0D-83E7-61626083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8A8C-B0EC-45AE-82BD-DC9DF57A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9627-01F9-40D0-888C-8056ECCD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6F9E-5A4C-4E6A-9B6F-2D4BFD57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A17D-5B5E-45A7-AD3D-248D699C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E2C4-1FFD-4984-9566-8A27D2D5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41CD2-1069-4C4C-A73F-4161BD71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1BF25-35CF-435A-9D4F-40D94103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F5C0-DB22-4F5E-BFB3-EF17543A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0203-2BA2-47C3-A5E3-EDCE4508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1CF5F-EFE8-48D8-B16B-0632F36A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8324-64FE-49CA-BE0D-09DE2BF9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A37A-DA00-451A-9B82-A0D6FB0767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4022-58F6-4969-A1D1-A856096EE6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lean.org/" TargetMode="External"/><Relationship Id="rId2" Type="http://schemas.openxmlformats.org/officeDocument/2006/relationships/hyperlink" Target="http://www.lean.org/" TargetMode="External"/><Relationship Id="rId3" Type="http://schemas.openxmlformats.org/officeDocument/2006/relationships/hyperlink" Target="http://www.lean.org/" TargetMode="External"/><Relationship Id="rId4" Type="http://schemas.openxmlformats.org/officeDocument/2006/relationships/hyperlink" Target="http://www.lean.org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Kapitalismus nové civiliza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Mu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an Thin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hno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mu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plýtvání, ma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lcuje zdroje, nevytváří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nes, Womack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lean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štíhlující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ék na hýřivé prak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uální tok hod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y zeštíhlujícího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y value from the standpoint of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y all the steps in the value stream – eliminate everything that does not crea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grate the sequence so the product will flow smoothly toward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t customers pull value from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ursue perfection through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užby a t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 nenabízí produkt, ale přímo službu, kterou daný produkt posky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umí nestabilitu - vyrovnává výkyvy, protože produkty jsou dodávány plyn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nulý tok služe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ní podni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rh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Je oblast ekonomiky v níž se střetává nabídka s poptávkou a výsledkem tohoto střetu je nákup resp. prodej určitého množství zboží za určitou cen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Kapitalismus-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apitalismus je ekonomický systém, v němž jsou výrobní prostředky v soukromém vlastnictví a provozovány za účelem dosažení zisku. Ekonomické parametry (např. ceny) jsou určovány prostřednictvím volného trhu (nabídkou a poptávkou), a to i ceny práce, nikoli řízeny pouze zásahy stá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okonalá konkurence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Teoretický model trhu, v němž platí: existuje velký počet kupujících a prodávajících, žádný z nich nemůže ovlivnit cenu, produkceje homoggenní, neexistují překážky vstupu do odvětví, všichni mají dokonalé informace o cenách a množství zboží na trh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nefunkčnosti trh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patná alokace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ika hodnotových řetěz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ravdivé a chybějící cenové sig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úplné trhy a vlastnická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osti trhu napomáhají spravedlivá pravidla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ína: Země, kde se kapitalismus s komunismem sno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ční růst HDP okolo 9% (již od 70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,53 bilionů zahraničních měnových rez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ětší producent textilu, oceli, zlata a c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oce 2006 dokončilo VŠ 2,4 mil. Stud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2011 – největší spotřebitel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itivní kr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ější a svobodnější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cest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rušení registrač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6% číňanů je spokojeno s ekonomikou a jejím směřov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ost zahraničním investor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hatství a velký rozvoj mě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n malý posun v poli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írání svobody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riminace menšin (tibeťané, Sin-ťi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znění aktivistů v pracovních táborech, m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i zablokováno přes 2500 www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račující monopol komunistické str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az nezávislých odborů a některých círk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é pracovní podmínky (postavení zaměstnanc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ističtější než U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ém hrazení zdravotnictví a sociální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ní zásahy do ekonomiky v období nynější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e kapitalismus nevyhnutelně k demokrac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izace a zeštíhlující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barevná plan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99cc"/>
                </a:solidFill>
                <a:latin typeface="Arial"/>
              </a:rPr>
              <a:t>Modř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volný trh, síla ekonomiky Západu, inovace, investice, svoboda,účinnost,produkti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ud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socialisti, lupičský kapitalismus (Rusko), nůžky mezi bohatými a chudými,vykořisťování pracují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Zelen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koncept ekosystému, počet lidí, zahrnutí externalit do nákladů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ílí: -neodmítají ani nepřijímají žádný koncept, optimismus k lidstvu, integrace, respekt, důvěra, informace, ne ideologií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jótský proto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jednán 11.12.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 180 signatář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Účelem je snížit emise skleníkových plynů mezi lety 2008-2012 o 5,2% ve srovnání s rokem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 neratifikova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mínky platnosti(od 2/2005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signatářských ze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mě zodpovědné za více než 55% produkce těchto ply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wken, P., Lovins, A., Lovins, L.H. </a:t>
            </a: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Přírodní kapitalismus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aha: Mladá fronta, 200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„</a:t>
            </a: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Principles of Lean Thinking“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Womack, J. and Jones, D., 1996. Lean Enterprise Institute. 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ean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cs.wikipedia.org/wik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s://ekonom.feld.cvut.cz/materialy/ekocz/EK02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asopis Euro, č.38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olf, Ch.: Capitalism, Chinese style, The International Economy, Winter 2002, Was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dnes vzác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átek průmyslo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ně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ální zásoby bezmezné a nevyčerp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mezeným zdrojem jsou li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roda se stává vzác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i typy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robe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sk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č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ě zisková avšak neudržitelná forma lidské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a lidský kapitál má malou hodn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ý zájem o odpad při produkci i staré výrob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í není jen okrajovým faktorem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ucí rozvoj je limitován dostupností a funkčností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radikálního zvýšení produktivity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ální strate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kální produktivita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ké mimik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ka služeb a to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vání do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ědomovaný, ovšem nezastup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bytek a sníž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ahraditelné a nezastupitelné přírodní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ce do přírodního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řeba revidovat systém daní a dot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verzn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nění plynu, užívání všech vozidel a letadel,odpadů, umělých hnoj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provrtat nákladovou barié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a ener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ostní systémové inžený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k jako systém, ne jen suma čá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ání mu tradiční sch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šlení opačným smě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lim</cp:lastModifiedBy>
  <dcterms:modified xsi:type="dcterms:W3CDTF">2008-11-03T19:05:4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