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A50-2E80-4F91-8238-F40F2F2C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C0B-B014-4E64-8D08-603334E6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3BE4F-61D3-45EF-BCE8-758BBEED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1BE66-7670-4D59-8186-206742D7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2A364-2044-4CFA-B841-668C0865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A35EF-0409-402A-B6B6-EEB92E27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F55B4-CFD9-4BAC-A647-9AFD94E6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0DFFC-EDBC-4882-973D-42D804A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2FD17-0114-43F9-8D4F-5B7CC820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69992-D8AD-4162-8255-B68CDA60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1E261-C121-4663-B405-7FFDBF40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F28-2878-4CCB-AC75-81182E71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163-A15F-44F6-845B-A88E937C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5483-0EEE-4F4B-A4EA-BF717135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B33D-B85C-4F75-BDD1-C463F2FA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33C5-324F-4145-BD81-AF20F12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B485-E76C-4760-95CF-78B38473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B156-68E1-42F1-B4D0-B3F9963A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0296-16CF-4678-9A20-E09F6D5D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9ADA-4079-48D4-AB93-0F15F7C5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EC6-F50E-4814-9D05-3FA21528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7812-2608-4344-9C83-9A367FC0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AA86-8A53-463D-9A6F-AC53D642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414A-2692-4970-B31A-72C889C7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255C-498C-4139-A8FD-01E08218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6FF0-0214-44E2-96B9-59605525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49A3-2C83-49A8-9AD0-08F1060E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915A-EE74-4DE0-B527-93281D75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4DD5-B9BD-4F82-902A-0533D35E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C4DD-391B-4D3A-A8ED-F0443064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9BF8-111D-4940-8589-1E9CB534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B23-D67D-446B-BEE5-728D8EFD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55D4-5470-4FCD-91BA-D0568E83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7AAF-A4B7-450D-A477-4ABA4BC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EBE7-8533-4DA8-8CB0-B0B2FA57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CDA9-93A2-4A07-8837-C6620ABE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2318-2F11-4EF3-9BEE-620F7A93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8401-7455-49F2-A38E-68265160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4C78-320A-41A6-9713-66FCFA48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3055-603B-49B6-AC0F-646EAC9F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4B67-B0E5-4EC6-86C7-6E169607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13D7-28D6-4FA2-986E-CB81270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1BE-1A9C-4AE9-A9BB-6F09DA8C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C269E-7FB5-4BEC-B73F-069C4045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DC9A-2800-4334-BFD4-E7D9F103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D575-ADDD-4250-A55D-F9BBC54D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1F61F-7A3C-4930-A171-F2E8B7E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6FFEA-8E08-402A-B53B-D799398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6D80-E29F-4672-8511-762C9229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5E3F-6B25-42BE-89F2-9A2437FF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26D3-63B4-4473-A212-4BDDF3D1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BEE6D-D709-4B80-871D-1AC78AC7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46A4E-C75C-4DC5-ADA1-BFC12D5C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BB7-38E5-4768-A4D2-DFE34F55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382B-9678-46B6-8B92-15328B3D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49CB6-08EB-4F3D-993F-76633467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E55C-915D-4249-926E-3CBB9731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3B301-F575-4E62-902B-E2F173ED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311C-4099-44F7-8390-E9D0CB1A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B3A4B-B164-42CE-BDD3-B97F96B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9CFBB-2E89-4ADF-811D-019BC99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641A7-347E-41E5-9D5E-C45CE5D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5B42-FA3D-4955-BAF0-CE22D721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6B51D-0853-4FC5-8532-4606382F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ED1-37EF-4909-9189-0F76BD94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E27C7-5B65-46AF-8B7B-944BA4F5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DD5C2-122B-4648-BC24-21B3238E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2F51E-A1F1-4552-A6C6-1F84966C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2AA48-53B0-4A05-B8E6-8D753A4D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C4FA9-5251-4D87-9913-B3078E27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C7336-3A72-418A-B8F3-091E0B73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6124A-779F-42BB-99BD-FE3FDD7A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9A72B-EE3A-41EE-A9A3-7F0FAA35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E0715-5C11-459A-A11B-058F7AFB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CDC76-CCC9-48B2-B386-A6E50FBD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750-A39B-4DA9-8D1D-82A24C5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B4500-63D9-417A-AB17-F6D1C597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4A0C9-638A-4CDF-AB7A-3E3A38C5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04BF4-0030-407F-B319-E8FE42D1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9DC2D-6891-4533-AAF1-48D8818D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E5CCD-65E7-44F9-B729-0F4F191C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39936-73E0-4AEB-8B24-A7F0D1AD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D05A5-1C5F-4600-B98D-989AF79C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8A40-D087-4B5C-93DC-B3D57510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8CA00-0B8D-4C19-934C-6AB0A71D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87210-AFB4-46DA-A86A-D825D398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1A6-8E91-40EA-8B0C-C9312892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FC406-E926-4D0E-926F-9195873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5A638-5445-4263-A717-0D9F1976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1328A-ECE9-4B15-B729-878E743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9EA24-038E-449F-9C0B-C636089C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44672-DD2A-4CE7-8CBF-CB78A4EC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529F2-E901-40EC-A10D-BEA3661D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34035-C8C8-4B02-AD96-AAAC97BC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888A6-74E3-47C2-B94D-1044859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DB599-9756-4505-B4D5-CB814321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0B886-F2C1-4023-A4B3-FAA50F36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580-CAB4-4B56-95CC-C268EF5A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BED69-65BF-4EE6-888F-87BFB76A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7582-CB94-4CA5-9499-EF1501F8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B2F05-24BE-43EB-9591-1BDEBDA7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EFE63-DDA5-4023-A748-5C0FF84A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F72CB-C0AE-4296-9D12-DF639699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92919-CD98-419F-B636-EE4B037D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2BE58-8EE7-44D9-B59B-AD8722E1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5A1E9-01BC-4D61-9CB5-3B3103FB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857BE-E7C2-4A25-AE57-FD12052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C0F9D-BE30-405C-9824-B7354E5C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066F-1B29-4096-8E38-96DAE1B4C53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9CC2-D131-438B-9B70-530178E52B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11A-4B84-4575-AC33-2DB0D5343B9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D7B6-1B9D-4B64-B76C-7085EFEB53A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A54C-43DD-48EE-B915-55ECDFB99FA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CDC5-0D80-4A8D-9A9B-58DC057520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B251-10EA-4201-A6CC-E48CF3334F0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BE2C-6F29-4C93-9BA0-FABF06486C9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5602-A291-46A1-837D-17D769FB8F1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2"/>
          <a:stretch/>
        </p:blipFill>
        <p:spPr>
          <a:xfrm>
            <a:off x="85680" y="2475000"/>
            <a:ext cx="866160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Franklin Gothic Book"/>
              </a:rPr>
              <a:t>Monika Lemonová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Franklin Gothic Book"/>
              </a:rPr>
              <a:t>Jozef Barnia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ejedná se o klasické pyramidy 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(Ředitel- manažeři- dělníci…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ZP - pro byrokracii není mís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rychlost, žřetelnost, informační tok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vůrčí týmy, skupin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-  </a:t>
            </a:r>
            <a:r>
              <a:rPr b="0" lang="cs-CZ" sz="3600" spc="-1" strike="noStrike">
                <a:solidFill>
                  <a:srgbClr val="4e3b30"/>
                </a:solidFill>
                <a:latin typeface="Franklin Gothic Book"/>
              </a:rPr>
              <a:t>Pavoučí síť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34" name="Volný tvar 3"/>
          <p:cNvGrpSpPr/>
          <p:nvPr/>
        </p:nvGrpSpPr>
        <p:grpSpPr>
          <a:xfrm>
            <a:off x="6248520" y="5181480"/>
            <a:ext cx="1761840" cy="1225800"/>
            <a:chOff x="6248520" y="5181480"/>
            <a:chExt cx="1761840" cy="1225800"/>
          </a:xfrm>
        </p:grpSpPr>
        <p:pic>
          <p:nvPicPr>
            <p:cNvPr id="435" name="Volný tvar 3" descr=""/>
            <p:cNvPicPr/>
            <p:nvPr/>
          </p:nvPicPr>
          <p:blipFill>
            <a:blip r:embed="rId3"/>
            <a:stretch/>
          </p:blipFill>
          <p:spPr>
            <a:xfrm>
              <a:off x="6248520" y="5181480"/>
              <a:ext cx="176184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357960" y="5214960"/>
              <a:ext cx="16430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37" name="Picture 2" descr="C:\Program Files (x86)\Microsoft Office 2007\MEDIA\CAGCAT10\j0233018.wmf"/>
          <p:cNvPicPr/>
          <p:nvPr/>
        </p:nvPicPr>
        <p:blipFill>
          <a:blip r:embed="rId4"/>
          <a:stretch/>
        </p:blipFill>
        <p:spPr>
          <a:xfrm>
            <a:off x="6715080" y="2786040"/>
            <a:ext cx="2214720" cy="224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dstranění zbytečných nákladů velkovýrob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ontrola FN není důležitá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nájem hal, kanceláří, továren, sklad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aměstnanci na dočasný prac. poměr (účetní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álo fix. pracovník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otivace pracovníků místo kontrol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xperimentován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ak se mění odměn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jvětší podíl na zisku mají řešitelé a zprostředkovatelé, ne vlastníci V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dnota podniku = nehmotná aktiv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ZP nelze zakoupit o nic snadněji než kvalifikované a talentované jedin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jde o pobočk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Ztrácí význam země původu zbož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anční i intelektuální kapitál odkudkoliv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dukt           práce lidí v mnoha zemí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lužby  související se specializovaným řešením problému  (marketing, konzultace, finance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Je rovno 3"/>
          <p:cNvSpPr/>
          <p:nvPr/>
        </p:nvSpPr>
        <p:spPr>
          <a:xfrm>
            <a:off x="2571840" y="3500280"/>
            <a:ext cx="571320" cy="28584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Američan si koupí automobil Pontiac – General Motors = 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20 000Usd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Z toho: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ižní korea 6000Usd Jižní Korea – práce, montá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aponsko 3500 (motor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ěmecko 1500 ( návrh karoserie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Tchajwan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Singapur         800 (malé komponenty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aponsko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Británie 500 (reklama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Irsko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Barbados      100 (zpracování dat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Zbytek: 8000 - právníci, bankéři, stratégové, lobbisté, pojišťovny, akcionáři po celé Ameri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47" name="Pravá složená závorka 3"/>
          <p:cNvGrpSpPr/>
          <p:nvPr/>
        </p:nvGrpSpPr>
        <p:grpSpPr>
          <a:xfrm>
            <a:off x="2262240" y="3170160"/>
            <a:ext cx="474480" cy="1116000"/>
            <a:chOff x="2262240" y="3170160"/>
            <a:chExt cx="474480" cy="1116000"/>
          </a:xfrm>
        </p:grpSpPr>
        <p:pic>
          <p:nvPicPr>
            <p:cNvPr id="448" name="Pravá složená závorka 3" descr=""/>
            <p:cNvPicPr/>
            <p:nvPr/>
          </p:nvPicPr>
          <p:blipFill>
            <a:blip r:embed="rId3"/>
            <a:stretch/>
          </p:blipFill>
          <p:spPr>
            <a:xfrm>
              <a:off x="2262240" y="3170160"/>
              <a:ext cx="4744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357280" y="3220920"/>
              <a:ext cx="1018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0" name="Pravá složená závorka 4"/>
          <p:cNvSpPr/>
          <p:nvPr/>
        </p:nvSpPr>
        <p:spPr>
          <a:xfrm>
            <a:off x="2428920" y="3143160"/>
            <a:ext cx="285840" cy="9288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928800"/>
              <a:gd name="textAreaBottom" fmla="*/ 921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ravá složená závorka 5"/>
          <p:cNvSpPr/>
          <p:nvPr/>
        </p:nvSpPr>
        <p:spPr>
          <a:xfrm>
            <a:off x="2357280" y="4643280"/>
            <a:ext cx="214560" cy="500400"/>
          </a:xfrm>
          <a:custGeom>
            <a:avLst/>
            <a:gdLst>
              <a:gd name="textAreaLeft" fmla="*/ 0 w 214560"/>
              <a:gd name="textAreaRight" fmla="*/ 77400 w 214560"/>
              <a:gd name="textAreaTop" fmla="*/ 5400 h 500400"/>
              <a:gd name="textAreaBottom" fmla="*/ 49500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00040" y="1500120"/>
            <a:ext cx="4284720" cy="3786120"/>
          </a:xfrm>
          <a:prstGeom prst="rect">
            <a:avLst/>
          </a:prstGeom>
          <a:ln w="0">
            <a:noFill/>
          </a:ln>
        </p:spPr>
      </p:pic>
      <p:pic>
        <p:nvPicPr>
          <p:cNvPr id="453" name="Nadpis 4" descr=""/>
          <p:cNvPicPr/>
          <p:nvPr/>
        </p:nvPicPr>
        <p:blipFill>
          <a:blip r:embed="rId3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Ovál 5"/>
          <p:cNvSpPr/>
          <p:nvPr/>
        </p:nvSpPr>
        <p:spPr>
          <a:xfrm>
            <a:off x="500040" y="2071800"/>
            <a:ext cx="3000240" cy="1428480"/>
          </a:xfrm>
          <a:prstGeom prst="ellipse">
            <a:avLst/>
          </a:prstGeom>
          <a:noFill/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Ovál 6"/>
          <p:cNvSpPr/>
          <p:nvPr/>
        </p:nvSpPr>
        <p:spPr>
          <a:xfrm>
            <a:off x="500040" y="3643200"/>
            <a:ext cx="3571920" cy="1643040"/>
          </a:xfrm>
          <a:prstGeom prst="ellipse">
            <a:avLst/>
          </a:prstGeom>
          <a:noFill/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BlokTextu 7"/>
          <p:cNvSpPr/>
          <p:nvPr/>
        </p:nvSpPr>
        <p:spPr>
          <a:xfrm>
            <a:off x="571680" y="535788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Franklin Gothic Book"/>
              </a:rPr>
              <a:t>Celkový pohľad na Zlín a spoločnosť Baťa, 193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BlokTextu 8"/>
          <p:cNvSpPr/>
          <p:nvPr/>
        </p:nvSpPr>
        <p:spPr>
          <a:xfrm>
            <a:off x="5572080" y="1643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Franklin Gothic Book"/>
              </a:rPr>
              <a:t>Koncern Baťa, a.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BlokTextu 9"/>
          <p:cNvSpPr/>
          <p:nvPr/>
        </p:nvSpPr>
        <p:spPr>
          <a:xfrm>
            <a:off x="5643720" y="25718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Franklin Gothic Book"/>
              </a:rPr>
              <a:t>Domy pre zamestnanco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4"/>
          <a:stretch/>
        </p:blipFill>
        <p:spPr>
          <a:xfrm>
            <a:off x="5072040" y="4143240"/>
            <a:ext cx="2643120" cy="2452680"/>
          </a:xfrm>
          <a:prstGeom prst="rect">
            <a:avLst/>
          </a:prstGeom>
          <a:ln w="0">
            <a:noFill/>
          </a:ln>
        </p:spPr>
      </p:pic>
      <p:sp>
        <p:nvSpPr>
          <p:cNvPr id="460" name="Rovná spojnica 15"/>
          <p:cNvSpPr/>
          <p:nvPr/>
        </p:nvSpPr>
        <p:spPr>
          <a:xfrm flipV="1">
            <a:off x="3500280" y="1999800"/>
            <a:ext cx="2071800" cy="78588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ovná spojnica 17"/>
          <p:cNvSpPr/>
          <p:nvPr/>
        </p:nvSpPr>
        <p:spPr>
          <a:xfrm flipV="1">
            <a:off x="4071960" y="2999880"/>
            <a:ext cx="1643040" cy="146556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Obláčik 27"/>
          <p:cNvSpPr/>
          <p:nvPr/>
        </p:nvSpPr>
        <p:spPr>
          <a:xfrm>
            <a:off x="7358040" y="4500720"/>
            <a:ext cx="1571760" cy="1000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Obláčik 28"/>
          <p:cNvSpPr/>
          <p:nvPr/>
        </p:nvSpPr>
        <p:spPr>
          <a:xfrm>
            <a:off x="6357960" y="3000240"/>
            <a:ext cx="2643120" cy="1500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BlokTextu 29"/>
          <p:cNvSpPr/>
          <p:nvPr/>
        </p:nvSpPr>
        <p:spPr>
          <a:xfrm>
            <a:off x="6572160" y="3214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vy, to sú hromady tehál a betónu. Stroje, to je hromada železa a ocele. Život tomu dávajú až ľudia.“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BlokTextu 30"/>
          <p:cNvSpPr/>
          <p:nvPr/>
        </p:nvSpPr>
        <p:spPr>
          <a:xfrm>
            <a:off x="7500960" y="464328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š zákazník,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š pán.“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Osobná zodpovednosť za vykonanú prác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Samospráva a účasť pracovníkov na zisku podnik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ocit hrdosti a príslušnosti k podnik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ozornosť ku mladej generácii a permanentné vzdelávani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Nákup základných surovín priamo od výrobcu a nakupovalo sa vtedy, keď to bolo cenovo najvýhodnejši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redaj obuvi sa realizoval vo vlastných predajniach, teda bez sprostredkovateľov (obchodníkov), aby zbytočne nenavyšovali cenu pre zákazník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Na vedúce posty sa neprijímali ľudia zvonku, ale len vlastní „odchovanci“ – napr. po absolvovaní 3-ročnej prax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Ešte pred výrobou, museli byť jednotlivé dielce dopravené do dieln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Komponenty boli do dielní rozvážané lanovou dráhou, ktorá obopínala väčšinu budov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Dielne boli za niekoľko minút zásobené materiálom bez toho, aby doprava niekomu prekážal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tretch/>
        </p:blipFill>
        <p:spPr>
          <a:xfrm>
            <a:off x="5357880" y="457200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Hlavný zreteľ na nižšiu cenu ako je konkurenčná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Stanovenie ceny = služba verejnosti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Baťovské ceny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Organizácia predaja: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- celosvetová sieť 2 500 predajní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- hlavný cieľ predajnej skupiny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4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edpoklad – vzájomné súperenie dieln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Zisk a odmena sú podmienené plnením vopred stanoveného plánu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ystém postavený na 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umení šetriť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”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incíp - hospodárska autonómia každého článku a výrob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Oddelenia nakupovali a predávali za vnútropodnikové cen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 systéme vystupovalo oddelenie ako samostatný podnikateľský subjekt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7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V civilizované společnosti jsme všichni navzájem závislí. 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( Samuel Johnson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ůvodní myšlenka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bčané jednoho státu mají společnou odpovědnost za svůj hospodářský blahoby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285840" y="192852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ystém odmeňovania zamestnancov založený na úsilí a kvalite prác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incíp systému : každý pracovník si mohol okamžite vypočítať svoj podiel na zisku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edúci pracovník participoval ako na zisku tak aj na strat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Akumulácia likvidity = nevyužívanie úverov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Operatívne riadenie a rýchla výmena informácií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chopnosť promptne reagovať na vzniknuté problém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Baťa zaviedol pre odmeňovanie záväzné kritériá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logan mal budiť v zúčastnených pocit, že sú spolumajiteľmi firm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  <p:sp>
        <p:nvSpPr>
          <p:cNvPr id="481" name="Šípka dolu 6"/>
          <p:cNvSpPr/>
          <p:nvPr/>
        </p:nvSpPr>
        <p:spPr>
          <a:xfrm>
            <a:off x="3203640" y="429264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Dôležité posty = vlastní zamestnanci a odchovanci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Preferencia mladých ľudí pri prijímaní do zamestnania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Bývanie zamestnancov zabezpečené vo firemných rodinných domoch za nízke nájomné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V podniku bolo zabezpečené stravovanie a možnosti na osobný rast, štúdium, zdravotnú starostlivosť, športové a kultúrne vyžiti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Mzdové ohodnotenie bolo v porovnaní s celoštátnym priemerom skoro o 100% vyšši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Zastával názor, že ako majiteľ a šéf musí byť pre ostaných podriadených osobným príkladom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4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Základnou formou mzdového odmeňovania bola pôvodne úkolová - akordná mzd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 roku 1927sa zaviedla akordná mzda skupiny – t.j. diel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Ustálený mzdový systé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Špeciálne odmeny a prémie najiniciatívnejším pracovníko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Mzdy sa vyplácali týžden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Termín výplaty bol určený na pondelok alebo utoro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Základom: polročné plány, zostavené na zimnú a letnú sezón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ýsledkom plánovania bolo prepojenie výroby a predaj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Diverzifikácia polročných plánov na týždenné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Týždenný plán sa skladal z čiastkových denných plánov, ktoré predpisovali plánovaný denný objem výroby každej dielni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ýsledok: Pracovný rok pozostával z 253 pracovných dní, pre ktoré spracovalo rozpočtové oddelenie 253 denných plánov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stavba zamestnaneckých domov, študentských internátov, obchodných domov s lacným tovarom, kín, hotelov, športovísk, knižníc a nemocníc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Cena domu = maximálne jednoročný plat zamestnanca, ktorý mal záujem si dom sám postaviť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3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robná divízia Dolní Němč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Na rozdiel od skôr vyrábaných veľkých sérií, ktoré sa nemenili i po viac ako 12 mesiacoch, sú dnešní zamestnanci schopní vyrábať niekoľko náročných vzorov za deň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roba vzorku podľa priania zákazník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4e3b30"/>
                </a:solidFill>
                <a:latin typeface="Franklin Gothic Book"/>
              </a:rPr>
              <a:t>"Od vyrobenia vzorku podľa želania zákazníka, spracovania technickej dokumentácie, po finálny výrobok, mnohokrát neubehne ani týždeň„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6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Nadpis 1" descr=""/>
          <p:cNvPicPr/>
          <p:nvPr/>
        </p:nvPicPr>
        <p:blipFill>
          <a:blip r:embed="rId2"/>
          <a:stretch/>
        </p:blipFill>
        <p:spPr>
          <a:xfrm>
            <a:off x="450720" y="281160"/>
            <a:ext cx="8699760" cy="1060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285840" y="1285920"/>
            <a:ext cx="86868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Kudzbel, M: Baťa – hospodársky zázra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Kudzbel, M: Baťov systém riadeni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Střitesky, M.: Tvůrčí odkaz T. Baťu současným podnikatelů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Zelený, M.: Cesty k úspěchu: Trvalé hodnoty soustavy řízení Bať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Nadpis 1" descr=""/>
          <p:cNvPicPr/>
          <p:nvPr/>
        </p:nvPicPr>
        <p:blipFill>
          <a:blip r:embed="rId2"/>
          <a:stretch/>
        </p:blipFill>
        <p:spPr>
          <a:xfrm>
            <a:off x="450720" y="2567160"/>
            <a:ext cx="86997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dea národního stát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árodní bohatství = bohatství vladaře X ne blaho obyčejných lid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vantitativní teorie peněz ( zlata, stříbr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8. st. Anglie  -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vlastenectví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„oběť pro vlastní národ“               19. st. - 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cl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Šipka doprava 4"/>
          <p:cNvSpPr/>
          <p:nvPr/>
        </p:nvSpPr>
        <p:spPr>
          <a:xfrm>
            <a:off x="2143080" y="514368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nálezy ( železnice, telegraf, doprava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elkovýroba              průmyslová nadvýroba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&gt; D               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ln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ý protekcionismus = vysoká cl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Vysoká konkurence na domácím trhu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Malý zisk (nízké cen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Šipka doprava 3"/>
          <p:cNvSpPr/>
          <p:nvPr/>
        </p:nvSpPr>
        <p:spPr>
          <a:xfrm>
            <a:off x="3071880" y="292896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Šipka doprava 4"/>
          <p:cNvSpPr/>
          <p:nvPr/>
        </p:nvSpPr>
        <p:spPr>
          <a:xfrm>
            <a:off x="2500200" y="3571920"/>
            <a:ext cx="285840" cy="46080"/>
          </a:xfrm>
          <a:prstGeom prst="rightArrow">
            <a:avLst>
              <a:gd name="adj1" fmla="val 50000"/>
              <a:gd name="adj2" fmla="val 496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Šipka dolů 5"/>
          <p:cNvSpPr/>
          <p:nvPr/>
        </p:nvSpPr>
        <p:spPr>
          <a:xfrm>
            <a:off x="3071880" y="3429000"/>
            <a:ext cx="71280" cy="28584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mezení domácí konkurence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Soustředění výroby do velkých národních korporací – hrozba zneužití hospodářské moc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1890 Shermanův protitrustový zákon x dohodám o rozdělení trh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ptimistické vidění – moc a prosperita z gigantických korporac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soká výdělečnost amerických korporac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ýznamný partner mezinár. obchod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elikost a technologická nadřazenos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nikání am. Průmyslu do Evrop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onec 20. st. Amerika ztrácí svoje postavení, konkurencischopnost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Nadpis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onec 20. s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pokojení potřeb konkrétních zákazník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elkovýroba                 vysoká hodnota zbož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ř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celárny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 5000zaměstnanců, ale speciální použití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lekomunikace : dálkové spoje „na míru“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Šipka doprava 3"/>
          <p:cNvSpPr/>
          <p:nvPr/>
        </p:nvSpPr>
        <p:spPr>
          <a:xfrm>
            <a:off x="3214800" y="35719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římá spojovací čára 5"/>
          <p:cNvSpPr/>
          <p:nvPr/>
        </p:nvSpPr>
        <p:spPr>
          <a:xfrm>
            <a:off x="1071720" y="3429000"/>
            <a:ext cx="1571400" cy="42876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římá spojovací čára 8"/>
          <p:cNvSpPr/>
          <p:nvPr/>
        </p:nvSpPr>
        <p:spPr>
          <a:xfrm flipH="1">
            <a:off x="1071720" y="3428280"/>
            <a:ext cx="1357200" cy="50004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Objem výroby              správný vztah mezi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ena                         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  technologiemi a trh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1581f"/>
                </a:solidFill>
                <a:latin typeface="Franklin Gothic Book"/>
              </a:rPr>
              <a:t>Zisky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plynou z průběžného objevování nových spojení mezi různými řešeními a potřebam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římá spojovací čára 4" descr=""/>
          <p:cNvPicPr/>
          <p:nvPr/>
        </p:nvPicPr>
        <p:blipFill>
          <a:blip r:embed="rId3"/>
          <a:stretch/>
        </p:blipFill>
        <p:spPr>
          <a:xfrm>
            <a:off x="822240" y="2724120"/>
            <a:ext cx="2347920" cy="1433520"/>
          </a:xfrm>
          <a:prstGeom prst="rect">
            <a:avLst/>
          </a:prstGeom>
          <a:ln w="0">
            <a:noFill/>
          </a:ln>
        </p:spPr>
      </p:pic>
      <p:pic>
        <p:nvPicPr>
          <p:cNvPr id="423" name="Přímá spojovací čára 8" descr=""/>
          <p:cNvPicPr/>
          <p:nvPr/>
        </p:nvPicPr>
        <p:blipFill>
          <a:blip r:embed="rId4"/>
          <a:stretch/>
        </p:blipFill>
        <p:spPr>
          <a:xfrm>
            <a:off x="963720" y="2590920"/>
            <a:ext cx="17128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424" name="Volný tvar 9"/>
          <p:cNvGrpSpPr/>
          <p:nvPr/>
        </p:nvGrpSpPr>
        <p:grpSpPr>
          <a:xfrm>
            <a:off x="6188040" y="2773440"/>
            <a:ext cx="2528640" cy="1944360"/>
            <a:chOff x="6188040" y="2773440"/>
            <a:chExt cx="2528640" cy="1944360"/>
          </a:xfrm>
        </p:grpSpPr>
        <p:pic>
          <p:nvPicPr>
            <p:cNvPr id="425" name="Volný tvar 9" descr=""/>
            <p:cNvPicPr/>
            <p:nvPr/>
          </p:nvPicPr>
          <p:blipFill>
            <a:blip r:embed="rId5"/>
            <a:stretch/>
          </p:blipFill>
          <p:spPr>
            <a:xfrm>
              <a:off x="6188040" y="2822760"/>
              <a:ext cx="251640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301800" y="2773440"/>
              <a:ext cx="2414880" cy="19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Zástupný symbol pro obsah 2" descr=""/>
          <p:cNvPicPr/>
          <p:nvPr/>
        </p:nvPicPr>
        <p:blipFill>
          <a:blip r:embed="rId3"/>
          <a:stretch/>
        </p:blipFill>
        <p:spPr>
          <a:xfrm>
            <a:off x="231840" y="1474920"/>
            <a:ext cx="8766000" cy="4608360"/>
          </a:xfrm>
          <a:prstGeom prst="rect">
            <a:avLst/>
          </a:prstGeom>
          <a:ln w="0">
            <a:noFill/>
          </a:ln>
        </p:spPr>
      </p:pic>
      <p:sp>
        <p:nvSpPr>
          <p:cNvPr id="429" name="Je rovno 4"/>
          <p:cNvSpPr/>
          <p:nvPr/>
        </p:nvSpPr>
        <p:spPr>
          <a:xfrm>
            <a:off x="5072040" y="2214720"/>
            <a:ext cx="500040" cy="35712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Je rovno 5"/>
          <p:cNvSpPr/>
          <p:nvPr/>
        </p:nvSpPr>
        <p:spPr>
          <a:xfrm>
            <a:off x="2143080" y="4214880"/>
            <a:ext cx="428760" cy="35712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Je rovno 6"/>
          <p:cNvSpPr/>
          <p:nvPr/>
        </p:nvSpPr>
        <p:spPr>
          <a:xfrm>
            <a:off x="2786040" y="5286240"/>
            <a:ext cx="500040" cy="35748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10:49Z</dcterms:created>
  <dc:creator>Meloun</dc:creator>
  <dc:description/>
  <dc:language>en-US</dc:language>
  <cp:lastModifiedBy>snoopy</cp:lastModifiedBy>
  <dcterms:modified xsi:type="dcterms:W3CDTF">2008-11-10T13:06:55Z</dcterms:modified>
  <cp:revision>101</cp:revision>
  <dc:subject/>
  <dc:title>Vysoce zhodnocující podniky</dc:title>
</cp:coreProperties>
</file>