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66E1-CF4C-472B-9F15-B999E258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F76A-2BD1-4DF1-B907-B27610DC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053F-F021-4ADC-A761-F9F1A637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376E-666B-495B-B8FE-35E2EDFD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12AE-81DB-4871-B075-810D04BE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E43D-CC68-4935-BA9E-4ED27B51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4DD9-95C0-4DD1-AD7A-8C96A162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03D4-B775-4292-A083-DF7CF975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C907-F036-4ABF-923D-8EFDFCB9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8F6A-F065-4874-A948-D69068B8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D4C6-0104-4037-A040-E0667260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75D-3457-4058-801E-15F77C80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84E2-B612-4188-BE67-D334E208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F944-294B-41FA-B4FD-7CB9D2A4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3B3B-8BCA-4ADC-A4E7-783EEF54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6DA7-2337-402A-82BD-8850996C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1DCA-963F-44F2-8C97-DFEF2B25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2C9B2-8162-4C84-88B6-6B2D0CC9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0EE32-6A91-4B18-83EE-0642B7E8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AF8BC-5C64-4673-A772-5B47DA45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1487B-D766-4C58-9CB9-CC0F612A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CDC8F-8584-4825-864B-37B4A73D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E28-134B-41B8-AC46-60DD11F1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DA5D8-9479-4CCB-8AB8-16280CB8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E515C-DD9D-45D6-A550-5161ACE9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F5CE7-EDE5-4F43-BFF1-E6C43293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9F38A-B0C7-44C2-B4BF-9EF691B4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CCE87-F57C-4F57-848A-59E7144C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D6376-CAF2-4C66-B6E8-B3BEF020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1AC9D-D673-47BE-8ABD-21E1CA7C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8E2A-9B77-4D5A-96E2-C0DB16BC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4750-6FB5-43DC-AE97-FE4B6318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3BB-C6AC-41DC-9B41-64D55E53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A2DD-F556-48CE-949F-D04993F8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69B-E974-49C1-AE9C-676A973D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48D2-0C38-49AF-84A4-5D2AC4C1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5206-64CB-4E06-92DF-55C6705C0B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525B-4D45-482D-9201-A9C3E96BD0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1175-3839-40AB-87A6-A0CA4E8FE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RADIKÁLNA PREMENA PODNIKU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8436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Tereza Koklarov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artin Ďub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ichal Dančiš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Reengineering v súčasnosti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br>
              <a:rPr sz="2400"/>
            </a:br>
            <a:r>
              <a:rPr b="0" lang="sk-SK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Agenda 2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dľa Hammera kniha predstavuje pragmaticky zameranú reakciu na udalosti, ktoré zmenili tvár dnešného sveta podnikania 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skytuje manažérom niečo ako návody a pravidlá na to, ako prežiť v ekonomike dvadsiateho prvého storočia, v ktorej už nerozhodujú podniky ponúkajúce svoje výrobky a služby ale zákazníc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 rot="1891200">
            <a:off x="7596000" y="1052640"/>
            <a:ext cx="10062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Reengineering v súčasn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dľa rozsahu, ktorý reštrukturalizačné aktivity v podniku zasiahnu, rozlišuje J. Veber nasledujúce úrovne reengineering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200" spc="-1" strike="noStrike">
                <a:solidFill>
                  <a:srgbClr val="000000"/>
                </a:solidFill>
                <a:latin typeface="Tahoma"/>
              </a:rPr>
              <a:t>WPR – Work Process Reengin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(zásadné zmeny, ktoré sa dotýkajú určitej časti podniku (projekcie, výroby v jednej prevádzke), ale ktoré podstatne neprekračujú hranice daného útvaru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200" spc="-1" strike="noStrike">
                <a:solidFill>
                  <a:srgbClr val="000000"/>
                </a:solidFill>
                <a:latin typeface="Tahoma"/>
              </a:rPr>
              <a:t>BPR – </a:t>
            </a:r>
            <a:r>
              <a:rPr b="0" i="1" lang="sk-SK" sz="2200" spc="-1" strike="noStrike">
                <a:solidFill>
                  <a:srgbClr val="ff0000"/>
                </a:solidFill>
                <a:latin typeface="Tahoma"/>
              </a:rPr>
              <a:t>Business Process Reengine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(zmeny, ktoré sa dotýkajú celého podniku; v tomto prípade ide o realizáciu zásadných zmien, ktoré menia organizačnú architektúru firmy s cieľom posilniť integračné a synergické efekty v jej chovaní, obzvlášť tak vo vzťahu k zákazníkov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200" spc="-1" strike="noStrike">
                <a:solidFill>
                  <a:srgbClr val="000000"/>
                </a:solidFill>
                <a:latin typeface="Tahoma"/>
              </a:rPr>
              <a:t>TBR – Total Business Reengine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(iniciovanie a realizácia zmien, ktoré sa týkajú nielen daného podniku ale aj jeho relevantného okolia, obzvlášť tak potom dodávateľov, poprípade i odberateľov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Riadenie zmeny:</a:t>
            </a:r>
            <a:br>
              <a:rPr sz="4000"/>
            </a:b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Kto uskutočňuje reengineering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174760"/>
            <a:ext cx="7772400" cy="39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ODCOVSKÁ OSOBNOSŤ („líder“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LASTNÍK“ PROCES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ENGINEERINGOVÝ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IADIACI VÝB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ENGINEERINGOVÝ CÁ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236000" y="2492280"/>
            <a:ext cx="790560" cy="3600720"/>
          </a:xfrm>
          <a:prstGeom prst="downArrow">
            <a:avLst>
              <a:gd name="adj1" fmla="val 50000"/>
              <a:gd name="adj2" fmla="val 11386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Lov na reengineeringové príležit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ôkladný výber procesov – 3 kritériá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EFUNKČNOSŤ: Ktoré procesy majú najväčšie problémy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ÝZNAM: Ktoré procesy majú najväčší vplyv na zákazníkov firm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VLÁDNUTEĽNOSŤ: Ktoré z procesov sú v súčasnosti pre úspešný redesign najvhodnejši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Odpoveď: N E F U N K Č N É  P R O C E S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...definované pojmy ako </a:t>
            </a:r>
            <a:r>
              <a:rPr b="0" lang="sk-SK" sz="2000" spc="-1" strike="noStrike">
                <a:solidFill>
                  <a:srgbClr val="ff0000"/>
                </a:solidFill>
                <a:latin typeface="Tahoma"/>
              </a:rPr>
              <a:t>symptómy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nefunkčnosti a porúch procesov a </a:t>
            </a:r>
            <a:r>
              <a:rPr b="0" lang="sk-SK" sz="2000" spc="-1" strike="noStrike">
                <a:solidFill>
                  <a:srgbClr val="ff0000"/>
                </a:solidFill>
                <a:latin typeface="Tahoma"/>
              </a:rPr>
              <a:t>choroby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, ktoré sú obvykle ich príčinam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042920" y="48690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íležitosti pre re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765000"/>
          <a:ext cx="8229600" cy="5743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ptó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ro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zívna výmena informácií, nadbytočnosť údajov a ich prepisovan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dôvodná fragmentarizácia prirodzeného proces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soby, rezervy a ďalšie aktív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émová neschopnosť čeliť neisto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ý podiel previerkových a kontrolných činností v porovnaní s činnosťami, v ktorých sa vytvárajú hodno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gmentarizá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avy a opakované prá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ostatočná spätná väzba medzi jednotlivými článkam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ožitosť, výnimky a špeciálne príp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loženie rozvoja na príliš jednoduchom základ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99"/>
                </a:solidFill>
                <a:latin typeface="Tahoma"/>
              </a:rPr>
              <a:t>Informačné technológie a ich význam pri reengineeringu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účasť každého reengineeringového úsil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umožňuje previesť reengineering podnikových proces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i nesprávnom použití iba posilní staré schémy a nesprávny zaužívaný spôsob mysle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k efektívnemu využitiu – potreba myslieť induktívn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Miesto: „Ako využiť novú informačnú technológiu na zlepšenie,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efektívnenie danej činnosti alebo daného procesu, ktorý už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ykonávame?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je potrebné pýtať sa: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ko využiť informačnú technológiu na to aby sme mohli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ykonávať veci, ktoré sme doteraz nevykonávali?“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371628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znamná rola informačnej technoló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620640"/>
          <a:ext cx="8229600" cy="6059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é pravid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omová technológ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é pravid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ácie môžu byť v jednom čase dostupné na jedinom mies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ieľané databáz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ácie môžu byť súčasne prítomné všade kde sú potrebn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a experti môžu zvládnuť komplexnú prác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tné systém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zalista môže vykonávať prácu expert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žéri rozhodujú o všetko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stroje na podporu rozhodovania (databázový prístup, software pre modelovani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hodovanie je súčasťou každej pracovnej funkc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lepší kontakt s potenciálnym zákazníkom je osobný kontak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ktívny videodis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lepší kontakt s potenciálnym zákazníkom je efektívny kontak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ógia je jedným z najviac využívaných dátových formátov pri uskutočňovaní vnútroštátnych či medzinárodných elektronických obchodných transakci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pierová dokumentáci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ektronické dokumen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ynulá komunikácia medzi aplikáciami rôznych nezávislých obchodných spoločností, organizácií či vládnych útvarov prostredníctvom vzájomnej výmeny štandardných štruktúrovaných doklado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4140360" y="393372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ínosy E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íženie objemu papierovania (vytváranie a zakladanie dokumento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ššia presnosť vzhľadom k obmedzeniu manuálneho spracov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ššia rýchlosť prenosu objednávok a ďalších d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medzenie kancelárskej práce/administratívy pri zadávaní dát, zakladaní, zasielaní dokumentov poštou  a pri súvisiacich činnosti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žnosť zaoberať sa strategickými záležitosťami v oblasti nákupu (pretože administratívnym úkonom je možné venovať menej čas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ížené náklady na podávanie faktúr, objednávok a ich spraco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lepšená dostupnosť informácií vzhľadom k urýchleniu avizovania a oznamovania o zásielk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kové zníženie objemu práce a zvýšená informovanosť i iných oddelení prostredníctvom napojení EDI na ďalšie systémy, ako napríklad systém sledovania zásob pomocou čiarových kódov alebo elektronický prevod peňaz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íženie stavu zásob vzhľadom k zlepšenej presnosti a skráteniu doby cyklu objednáv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oužité zdroj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BLAŽEK, L., LANDA, M.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Ekonomika a řízení podniku. 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1. vyd. Brno : Masarykova univerzita, 2006. 96 s. ISBN 80-210-3960-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ČÁSTEK, O. Materiály Procesní analýza k předmětu Provozní management. Brno : Ekonomicko-správní fakulta, 2006. 19 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DRDLA, M., RAIS, K.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Řízení změn ve firmě - reengineering: jak vybudovat úspěšnou firmu.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 1. vyd. Praha : Computer Press, 2001. 144 s. ISBN 8072264117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HAMMER, M.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Agenda 21: Co musí každý podnik udělat pro úspěch v 21. století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. Překl. Hana Škapová. 1. vyd. Praha : Management Press, 2002. 62 s. ISBN 8072610740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HAMMER, M., CHAMPY, J.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Reengineering - radikální proměna firmy: manifest revoluce v podnikání.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 3. vyd. Praha : Management Press, 2000. 212 s. ISBN 8072610287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LAMBERT, D. M., STOCK, J. R., ELLRAM, L. M.: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Logistika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, Praha: Computer Press, 2000, 589 s. ISBN 80-7226-2221-1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VEBER, J. a kol.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Management: základy, prosperita, globalizace.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 1. vyd. Praha : Management Press, 2000. 700 s. ISBN 8072610295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ah prezentác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ákladné pojmy  (reengineering, proc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eengineering podnikových procesov v súčasnost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ichael Hammer a jeho publikác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Kto uskutočňuje re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Reengineeringové príležit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plyv informačných technológi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Technológia E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ĎAKUJEME ZA POZORNOSŤ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dnikový proces je logicky a sekvenčne usporiadaný súbor transformácií majúcích spoločný cieľ (technologických operácií, riadiacich aktivít, postupových krokov, činností) kde výstup z predošlej transformácie je prepojený so vstupom do nasledujúcej transformácie.“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stupným signálom je nejaká zákaznícka potreba, ta spustí onú postupnosť sekvenčných aktivít, ktorá podľa daných pravidiel využije či spotrebuje určité podnikové zdroje a vytvorí produkt alebo službu, ktorý/ktorá na výstupe uspokojí počiatočnú zákazníkovu potrebu.“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y v podnik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adiace / hlavné / vedľajšie / podporné / zdieľan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árne / kľúčové / podporn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stup proces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objekt, resp. jeho stav pred pôsobením skúmaného procesu. Stáva sa predmetom pôsobenia proces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ýstup proces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objekt, resp. jeho stav po pôsobení tohto proces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Reengine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Definícia Hammera &amp; Champyh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Reengineering v podstate znamená </a:t>
            </a:r>
            <a:r>
              <a:rPr b="0" lang="sk-SK" sz="2400" spc="-1" strike="noStrike">
                <a:solidFill>
                  <a:srgbClr val="ff0000"/>
                </a:solidFill>
                <a:latin typeface="Tahoma"/>
              </a:rPr>
              <a:t>zásadné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prehodnotenie a </a:t>
            </a:r>
            <a:r>
              <a:rPr b="0" lang="sk-SK" sz="2400" spc="-1" strike="noStrike">
                <a:solidFill>
                  <a:srgbClr val="ff0000"/>
                </a:solidFill>
                <a:latin typeface="Tahoma"/>
              </a:rPr>
              <a:t>radikálnu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rekonštrukciu (redesign) podnikových </a:t>
            </a:r>
            <a:r>
              <a:rPr b="0" lang="sk-SK" sz="2400" spc="-1" strike="noStrike">
                <a:solidFill>
                  <a:srgbClr val="ff0000"/>
                </a:solidFill>
                <a:latin typeface="Tahoma"/>
              </a:rPr>
              <a:t>procesov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tak, aby mohlo byť dosiahnuté </a:t>
            </a:r>
            <a:r>
              <a:rPr b="0" lang="sk-SK" sz="2400" spc="-1" strike="noStrike">
                <a:solidFill>
                  <a:srgbClr val="ff0000"/>
                </a:solidFill>
                <a:latin typeface="Tahoma"/>
              </a:rPr>
              <a:t>dramatické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zdokonalenie z hľadiska kritických meradiel výkonnosti ako sú náklady, kvalita, služby a rýchlosť.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...previesť reengineering znamená odhodiť staré systémy  a začať odznovu. Jeho súčasťou je návrat k počiatku a nájdenie lepších spôsobov prá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3600" spc="-1" strike="noStrike">
                <a:solidFill>
                  <a:srgbClr val="333399"/>
                </a:solidFill>
                <a:latin typeface="Tahoma"/>
              </a:rPr>
              <a:t>Reengineering – radikálna premena </a:t>
            </a:r>
            <a:r>
              <a:rPr b="0" lang="sk-SK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3600" spc="-1" strike="noStrike">
                <a:solidFill>
                  <a:srgbClr val="333399"/>
                </a:solidFill>
                <a:latin typeface="Tahoma"/>
              </a:rPr>
              <a:t>firm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ichael Hammer -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ôvodca koncepcie reengineeringu podnikových činností a zakladateľ reengineeringového hnu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Hammerova formálna definícia reengineeringu sa opiera o štyri charakteristické kľúčové slová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0000"/>
                </a:solidFill>
                <a:latin typeface="Tahoma"/>
              </a:rPr>
              <a:t>zásadné</a:t>
            </a:r>
            <a:r>
              <a:rPr b="0" i="1" lang="sk-S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ako zásadné prehodnotenie podnikových proces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0000"/>
                </a:solidFill>
                <a:latin typeface="Tahoma"/>
              </a:rPr>
              <a:t>radikálna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 ako radikálna rekonštrukcia podnikových proces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0000"/>
                </a:solidFill>
                <a:latin typeface="Tahoma"/>
              </a:rPr>
              <a:t>dramatické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 ako dramatické zdokonalen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0000"/>
                </a:solidFill>
                <a:latin typeface="Tahoma"/>
              </a:rPr>
              <a:t>procesy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 ako najdôležitejšie slovo tejto definíci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Čo nie je reengineering</a:t>
            </a:r>
            <a:br>
              <a:rPr sz="4000"/>
            </a:br>
            <a:r>
              <a:rPr b="0" lang="sk-SK" sz="3200" spc="-1" strike="noStrike">
                <a:solidFill>
                  <a:srgbClr val="333399"/>
                </a:solidFill>
                <a:latin typeface="Tahoma"/>
              </a:rPr>
              <a:t>(negatívne vymedzenie reengineeringu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totožňovanie reengineeringu s rôznymi formami vylepšovania už existujúcich podnikových činností a procesov (reštrukturalizácia týchto činností, ich automatizácia, zmena rozsahu výrobnej kapacity alebo aj zvyšovanie kvality vyrábaných produktov či ponúkaných služie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totožňovanie s reorganizáciou organizačných štruktúr, či s obmedzovaním byrokratickej moci v podnik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Reengineering – cesta k zmene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oblémy v podniku nevyplývajú z jeho zlých organizačných štruktúr ale zo štruktúr procesných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...preto je pri prevádzaní reengineeringu potrebné zabudnúť na predpoklady vychádzajúce z paradigmy Adama Smitha, ako sú hierarchické riadenie či úspory z rozsahu a deľba práce a začať hľadať úplné nové možnosti organizácie prá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9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234936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d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ichael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S T O M E R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ákazníci rozhodujú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M P E T I T I O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konkurencia sa stáva intenzivnejš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 A N G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mena sa stáva neustálo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475080" cy="4238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538440" cy="4176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067280" y="2565360"/>
            <a:ext cx="93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258920" y="4653000"/>
            <a:ext cx="158436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8:27Z</dcterms:created>
  <dc:creator>Administrator</dc:creator>
  <dc:description/>
  <dc:language>en-US</dc:language>
  <cp:lastModifiedBy>Administrator</cp:lastModifiedBy>
  <dcterms:modified xsi:type="dcterms:W3CDTF">2008-11-11T02:13:28Z</dcterms:modified>
  <cp:revision>9</cp:revision>
  <dc:subject/>
  <dc:title>Rdikálna premena podniku</dc:title>
</cp:coreProperties>
</file>