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823-6402-4D48-9A91-BC62F5FF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4F6-06AD-490B-8759-2EF5A555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1F6-17C1-4E9D-9BBC-1CA8027D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1F5-1C89-426D-B471-2346FE99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0614-42F5-4FD4-971D-A3150397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3418-9043-4A94-B52E-F76F190A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6733-12DC-4E4B-B780-F468652E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7148-16BA-476B-BB8D-9A322749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7800-8511-4763-99F8-D317368F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FC8F-5D58-497D-88DF-CE9279EC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BF1B-D95D-4542-96FD-43959E50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878-72DA-4B91-B1D1-EEFE7248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EE30-4965-4D6F-A213-20B44D37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D356-C41A-4FA7-9505-C075815A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E3F8-0678-4C4C-93AF-8E32394B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B733-AFEC-4C68-9271-B0001AF7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B4E0-9832-4512-80FF-180FF93E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50A-B698-4483-B24B-BE32457B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260-9B2D-48C5-A51E-1B15F5B0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7C5-6964-4B37-8D93-2CD154F4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F95-A795-4D6F-BF68-ADBDD091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9F2-4DCA-40E9-880E-A975A7B1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E1C-4492-4BDE-A649-289BB454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68A-E2CB-48BC-89A3-45A3BFC6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0099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A224-8632-4408-9950-61CECABB15A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A956-7260-4E7B-91C7-D2DDE333E2E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Analýza praxe managementu úspěšných amerických společnost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ucie Netík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iří Richt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osef Trubačí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11.11.2008 Brn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Publix: Práce potěšení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loridská síť supermarketů založená Georgem Jenkinse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em je přístup k pracovní sí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a šedesátiletou existenci nebyl propuštěn ani jeden zaměstnane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Publix: Práce potěšení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 práce se zaměstnanci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Základ v potřásání rouko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šichni začínají jako nosiči pytl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ty na pokladnách o třetinu vyšší než druhý nejlépe platící konkur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oncept společník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ětšina společnosti vlastněna zaměstnanc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láda nad vlastním obchode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inkerton: Lekce z prověřová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inkertonova Národní detektivní agen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braham Lincoln, Jasse James, Butch Cassidy, Sundance Ki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istorický klíčová role náboru zaměstnanc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inkerton: Lekce z prověřová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sady prověřování zaměstnanců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Žádost, pohovo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est zkoumající poctivost a ochotu dodržovat podniková pravidl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elliView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acovní anamnéza, kriminální činnost, dopravní záznamy, zkoumání bankovních účtů, zkoumání likvidity, veřejné regist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99"/>
                </a:solidFill>
                <a:latin typeface="Verdana"/>
              </a:rPr>
              <a:t>V žebříčku nejrespektovanějších firem světa vedou americké společnost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General Electric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Microsoft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IBM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Coca-Cola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Dell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Citigroup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Wal-Ma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Hewlett-Packard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Procter </a:t>
            </a: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&amp;</a:t>
            </a: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 Gambl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218592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znik 1837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ýrobce svíček William Procter a výrobce mýdel James Gamble spojili své síly a založili firmu Procter &amp; Gamb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Verdana"/>
              </a:rPr>
              <a:t>založena v americkém státě Ohio ve městě Cincinnati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de-DE" sz="2600" spc="-1" strike="noStrike">
                <a:solidFill>
                  <a:srgbClr val="ffffff"/>
                </a:solidFill>
                <a:latin typeface="Verdana"/>
              </a:rPr>
              <a:t>o druhé světové válce společnost expandovala do Evropy a dále pak do celého světa.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1296720" cy="1276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164360" y="260280"/>
            <a:ext cx="129708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v roce 2005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trhy ve více než 160 zemíc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íce než 100 000 zaměstnanc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výrobní závody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rakovnická Rakona, rumunský Temešvár, ruský Novomoskov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ukrajinských Borispol, Budapešť a Varšav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32720" y="1700280"/>
            <a:ext cx="1807920" cy="160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765000"/>
            <a:ext cx="82296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Procter </a:t>
            </a: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&amp;</a:t>
            </a: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 Gam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Managemen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odzim 2000 šéfem Alan George Lafle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řijdi na to co spotřebitelka chce a dej jí to“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oustředil se na klíčové aktiv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ývoj značek nejvíce se podílejících na obratu firm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ětšina aktivit kolem Ariel, Pampers, Always, Pantene, Pringles, Lenor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během pěti let třikrát větší zisk a dvakrát vyšší hodnota akci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cílené akvizice – produkty a nápady vyvinuté i cizími zdroj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inovace a nové produk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inspirace u zákazníků - „Zákazník je pán“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kamery v prádelnách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lehčí otevírání prášků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dominantí pozice = manipulace s cenami dle potřeb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koupě Gillette – trh s výrobky pro muž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020000" y="5205240"/>
            <a:ext cx="1512720" cy="839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Managemen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řístup k </a:t>
            </a:r>
            <a:r>
              <a:rPr b="1" lang="cs-CZ" sz="2600" spc="-1" strike="noStrike">
                <a:solidFill>
                  <a:srgbClr val="ffffff"/>
                </a:solidFill>
                <a:latin typeface="Verdana"/>
              </a:rPr>
              <a:t>zaměstnancům 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hlavním důvodem, že je firma špičkou ve svém obor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zaměstnanci nejdůležitější součástí podnik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mezinárodní kariéra, povýšení, odpovědnost od prvního dn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nadstandartní péče – nejen mzdy ale i různé benef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Managemen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99"/>
                </a:solidFill>
                <a:latin typeface="Verdana"/>
              </a:rPr>
              <a:t>Nepeněžní výhody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enzijní připojištěn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kupinová životní pojist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ojištění na cestován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o roce možnost nákupu akcií s přispěním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nadstandartní medicínské centrum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masážní centrum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 kantýně ze 2/3 dotovaná strav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ýrobky za zvýhodněné cen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cca 1000Kč/rok lístky na sport a kultur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Poděkován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ěkujeme za pozornost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stor pro vaše dotazy, náměty a připomínky. A rovněž pro další zcela jistě natěšené prezentující…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Literatur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ETERS, T. J., WATERMAN, R.H. Hledání dokonalosti. Praha: Svoboda, 1992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ONNELLY, J.H. Jr., GIBSON, J.L., IVANCEVICH, J.M. Management. Praha: Grada Publishing, 2004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ELCH, J., BYRNE, J. A. Jack rovnou k věci. Praha: Pragma, 2006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ttp://www.procter-gamble.cz/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Osm atributů vynikajících společností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otivace jedn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Blíže zákazníkov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utonomie podnik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duktivita zásluhou lid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Osm atributů vynikajících společností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sazování praktické stránky, zaměření na hodno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ůstaňte věrni svému obor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ednoduchá forma, nepočetný personá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oučasně volno-pevné vlast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řehodnocení strategie u General Electr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nerální ředitel Jack Welch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měny navzdory ziskov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ransformace management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ize sdílených hodno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řehodnocení strategie u General Electr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sady J. Welch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éně řídit znamená lépe řídi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ytvořte vizi a pak uhněte z ces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dukujte, dokud není příliš pozdě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rzda: zbavte se svého tuku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dstraňte hranice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oužijte e-business jako poslední hřebík do rakve byrokraci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7:51:10Z</dcterms:created>
  <dc:creator>Jiří Richter</dc:creator>
  <dc:description/>
  <dc:language>en-US</dc:language>
  <cp:lastModifiedBy>Jiří Richter</cp:lastModifiedBy>
  <dcterms:modified xsi:type="dcterms:W3CDTF">2008-11-11T07:32:42Z</dcterms:modified>
  <cp:revision>40</cp:revision>
  <dc:subject/>
  <dc:title>Přirozený a umělý řádc</dc:title>
</cp:coreProperties>
</file>