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FE68-6D0E-4558-A12E-C52067904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2C70-75B0-40E1-B16D-3D116FD96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DA12-D47E-4110-AADD-A6EC0EF8E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6602-DDBD-411A-A868-5F027BBF1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0C96-CE36-45A3-94F2-E16406BF6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6C27-1D6C-4DDE-A496-907E8F64D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984D-B1B7-413F-9467-9EDA1254C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2EE9-C853-4D44-B8AF-E1CA799CD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5882-E06E-484D-BEFE-69E9533EB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B12B-2F17-474F-8398-FA4222B81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CF95-CE91-4534-B1FB-B8F4404B8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220D-28AF-4445-8F1A-CE89A57DD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A9F8D-304B-4C72-B852-66B9149587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rava pre živ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276280"/>
            <a:ext cx="6400800" cy="33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Za posledných 30 rokov sa množstvo kalórii, ktoré sú k dispozícii každému zvýšilo o 13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tradičná agrárna kultúra je nahradená managerskou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íroda ako učiteľ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Bio-intenzívne mini far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Návrat k tradíciá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- hlboká or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- kompostovan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- rastliny blízko seba ale v širokých záhono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- zmes druhov rastlín ako ochr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émy vo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 keď vody sú ¾ plochy Zeme, sladkej vody je má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Žiadna stratégia ponuky nedokáže držať krok s rastom dopy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yba spočíva vo využívaní kvalitnej vody vš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diné riešenie: šetriť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ológia úsp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ľnohospodárstvo využíva 2 x toľko čo iné odvetv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ôležité je vzdelan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pokrok v zavlažova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vývoj plodí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mác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využívanie úsporných systém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rozdelenie v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líma – ako uchovať zmysel vecí a ešte aj zarobi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Otepľovanie Z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aftárske spoločnosti investujú do obnoviteľných zdroj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Zaznamenali výrazný rozm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eterná (26% /ro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olárna  (23-42% /ro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Jediný spôsob ako budú rozv. krajiny schopné reálne zvyšovať svoje štandardy, je vyhnúť sa hýrivým praktikám industriálnych krají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Ľudský kapitá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Mestá veľmi často zisťujú, že príčinou ich problémov sú zlé rozhodnutia z minul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Experiment Curitib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Histó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riemysel a miestne spoločenst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Deti, zdravie, odpad a výž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zdelanie, družiny a zamestna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Identita a ľudská dôstojnos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 pohľady na základné ľudské problém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Modrý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– stúpenci voľného trhu vykazujú technologický optimizm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Červený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– zastupujú rôzne formy socializmu (ich názor podporuje chaos a hospod. výsledk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Zelený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– sústreďujú sa na ekosystém a lepšie porozumenie nakoľko ekonomika ešte môže rás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Biely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– sú syntetizátory a aplikujú všetky systém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3T23:34:22Z</dcterms:created>
  <dc:creator>Maťo</dc:creator>
  <dc:description/>
  <dc:language>en-US</dc:language>
  <cp:lastModifiedBy>Maťo</cp:lastModifiedBy>
  <dcterms:modified xsi:type="dcterms:W3CDTF">2008-11-03T23:55:38Z</dcterms:modified>
  <cp:revision>2</cp:revision>
  <dc:subject/>
  <dc:title>Potrava pre život</dc:title>
</cp:coreProperties>
</file>