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FDB-5324-49C7-B7EA-8685D363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20E3-D50F-4906-8FDB-4EFB97DB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C2D-CE4F-4F0E-B586-9BC308CA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BA2-D601-4C3C-92E0-6BFD8F17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8155-2EB8-428D-8B85-C34F1C54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E8AA-22AC-44D3-8B20-B9C91BB5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49D0-27F3-4EE6-BF60-E5075EA4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A178-958C-4113-8A39-64F49EA9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2421-A13B-4537-A7F6-A05C60BE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E728-1147-4C86-A3F6-F23AD2F8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1576-24E1-4EDE-A00A-CAAD833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DAD-FE42-494B-82D9-F235DE10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2711-7433-444B-B3F0-443C734C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396C-0A5A-4507-93A8-BC3E4EBA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18F8-BE1A-44A5-BF87-65D6A581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8603-17F0-42B9-BF9A-6B378F2B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129F-3573-4619-9A9E-B56E243E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96D-D4AA-4B9B-AC88-F76B2A50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98C-889F-4F33-A468-5D9A99DE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7CE-B36A-422B-AE35-E1AC7BA9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C67-D858-4377-A848-B453FD5D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770-9EF6-4D97-A225-CB1F9DDF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73E-9BA7-4A33-BD8D-D504B4A9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252-7587-4EB1-817C-85F0BF1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3B8A-E76F-4E4E-B290-07210FB0D0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A548-0F45-4FF7-A2A6-25E5FB70A0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ysoce zhodnocující podnik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Zora Navrátil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chal Meluzí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omáš Dostá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taré velkovýrobní ekonomiky – produkty s výraznou státní příslušnost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ové vysoce zhodnocující podniky – původ výrobku více a více nejasn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íklad: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precizní vybavení pro hokej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– navrhováno ve Švédsku, financováno v Kanadě, sestavováno v Clevelandu a Dánsku, výzkum slitiny v USA, výroba slitiny v Japonsku, reklamní kampaň v Británii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2349360"/>
            <a:ext cx="788832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dmětem mezinárodní obchodní výměny jsou spíše služby související se specializovaným řešením problémů a se zprostředkovatelství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66"/>
                </a:solidFill>
                <a:latin typeface="Arial"/>
              </a:rPr>
              <a:t>Příklad: Když si Američan koupí auto u GM na 20 000 dolarů, tak: 6000 do J. Koreji – práce a montáž, 3500 do Japonska – komponenty, 1500 do Německa – návrhy karoserie a konstrukce, 800 do Tchajwanu a Singapuru – malé komponenty, 500 do Británie – reklama, 100 do Irska a Barbadosu – zpracování dat, 8000 do Detroit, NY, Washington, GM – právníci, lobbisté, stratégové, pojišťovny…</a:t>
            </a:r>
            <a:r>
              <a:rPr b="1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akcionář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roblémy spojené s globální sítí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Daň z přijm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rostředky k manévrování a obcházení úředních naříz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naha o zvýhodnění v mezinárodním obch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vlékání národního kr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Např. Nařízení Pentagonu pro nákup „amerického“ vojenského vybavení, protesty firmy Hyster, FORD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Konec národního šampio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Státní příslušnost převládajících akcionářů firmy a špičkových manažerů             stále méně spojena s místem, kam se investuje a s jakým partnerem se uzavírají smlouv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Nadnárodní korporace nerespektující státní hranice - globální výroba je optimální způsob, jak „využít nejnovější technologie, kterou může firma použít“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66"/>
                </a:solidFill>
                <a:latin typeface="Arial"/>
              </a:rPr>
              <a:t>Např. firma DuPont – podpora a spolupráce na virologickém výzkumu v československém Ústavu organické chemie a biochemie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Šipka doprava 3"/>
          <p:cNvSpPr/>
          <p:nvPr/>
        </p:nvSpPr>
        <p:spPr>
          <a:xfrm>
            <a:off x="5357880" y="200016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Konec národního šampio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71040" y="233208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Z národního šampiona             globální sí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Model této sítě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elkovýroba standardizovaných produktů v zemíc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 nízkou úrovní mez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soce zhodnocující řešení              všude tam, kde lze najít užitečné nápad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Šipka doprava 3"/>
          <p:cNvSpPr/>
          <p:nvPr/>
        </p:nvSpPr>
        <p:spPr>
          <a:xfrm>
            <a:off x="5076720" y="242100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Šipka doprava 5"/>
          <p:cNvSpPr/>
          <p:nvPr/>
        </p:nvSpPr>
        <p:spPr>
          <a:xfrm>
            <a:off x="5580000" y="42926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ahraniční investice ve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Globalizace investi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idský kapitál = nejcennější aktiv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ř. – SON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V r.1989 koupila spol.SONY filmové ateliéry Columbia Pictures.(3,4mld). Získala právo na zisky z mnoha vynikajicích děl Hollywoodu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ALE!!!! Nezískala tímto talent filmařů a scénáristů (Peter Guber, Jon Peters; Batman, Rain Man - Ty získala za 55mil., 2,75mil./rok, podíl na zisku ateliérů, prémie 50mil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ejcenější je lidský kapitál – největší zisky nemají akcionáři a vedoucí osoby, ale talentovaní a schopní lid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ICH, R.B. 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Dílo národů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 Praha : Prostor, 19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NDY, CH. 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Hlad ducha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 Praha : Management Press, 19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d velkovýroby k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ec plánování a realizace velkovýro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schopnost maximalizace zisku, dosahování příjmů z velkovýroby standardního zbož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řesun k výrobkům a službám ušitým na mír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izace a globalizace inves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 produkty, ale specializované znal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užby a zboží = služ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 základní schopnosti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Řešení problémů spojených se specializac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nalo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vé aplikace a kombin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ředcházení problém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ákazník chápe své potře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ak je uspokojit individuálním výrobk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 marketing (hledání příležitostí x přesvědčován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ategický zprostředkovat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agement myšlenek ne organiz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ky informací ve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.z.p. nelze organizovat dříve často používaným systémem pyrami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utná provázanost tří klíčových skupin – řešitelé problémů, identifikátoři problémů, strategičtí zprostředkovatel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ychlý tok informa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doba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voučí sít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vá doba si žádá nová řešen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ítě“ – určující termín nové ekonom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ategické centrum umožňující propojení ostatních bodů sít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líčová je rychlost, flexibilnost, komplex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xní náklady?? Pryč s nimi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perimentování je žádou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y podnikových sít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závislá zisková cent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yčleněná partner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řičleněná partner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c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Čisté zprostředkovatel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c a pravomoc ve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c se koncentruje v rukou schopný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ální pravomoci ztrácí na význa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íčová rozhodnutí často ve skry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kutečná moc bývá zastřena, i díky odbornému tisk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zek“ bere vš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rozdělování zisku směrem od dělníků a investorů k „mozkům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jcennějším aktivem firem jsou nehmotná akt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ektuální kapitál – největší význ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chodní znač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tenty, vydavatelská prá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závisí na přibývajících zkušenostech klíčových „mozků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ahrazování starých pyramid klíčových velkovýrobních podniků organizačními sítěmi vysoce zhodnocujících podnik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řesun od kontroly shora a centralizovaného vlastnictví do skupin, které jsou schopné řešit a identifikovat problémy a strategicky zprostředkováv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1:21:27Z</dcterms:created>
  <dc:creator>Zora Navrátilová</dc:creator>
  <dc:description/>
  <dc:language>en-US</dc:language>
  <cp:lastModifiedBy>Zora Navrátilová</cp:lastModifiedBy>
  <dcterms:modified xsi:type="dcterms:W3CDTF">2008-11-12T15:48:39Z</dcterms:modified>
  <cp:revision>5</cp:revision>
  <dc:subject/>
  <dc:title>Vysoce zhodnocující podniky</dc:title>
</cp:coreProperties>
</file>