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E2FC-5411-4183-8658-AF476D88A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03E8-BC54-49DE-8C8C-24F85E3B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E378-2C9E-44C0-941F-957CC4AA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0BA3-B6E0-44EE-BDB4-36802902D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4A0A-7EE9-4A6A-B8E7-05ED7A1F1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9ABB-3B53-4570-937C-5F1FB12A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88A5-C632-47F1-9F54-65F49343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217E-3F15-4F12-AE3C-F05C7853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506A-DD9C-40D1-B876-AD8ADD87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04D0-F912-41D0-AA6F-81503422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6A3D-2648-4B2E-A9A9-30112533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F160-2991-4553-B124-190F3DFA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A151-BA5A-4C09-BB2B-085CF918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58BF-6752-4028-B102-27C65F53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8020-FB16-430C-B5F7-F8D01F8D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5EDE-8349-4FB6-81E5-18B2AD524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9984-87DC-45A3-B317-27C833BB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442A-902F-4B33-A659-BBC1D74B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9953-8686-4CEF-8185-3F5E3CD4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D216-A6C7-44F1-9F62-F0CDD93C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58E8-4C03-4F06-AF26-1448F9F5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547F-52B4-499E-92AE-41F4E7B1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84C4-29D2-43B0-B085-A67316EF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721F-49FD-4700-AE2A-68747D9F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EECF-CF73-41BD-97A6-E804BE4868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6B39-EDE1-489C-95E9-192C149859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1844640"/>
            <a:ext cx="8062920" cy="23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D MASOVÉ VELKOVÝROBY K INOVATIVNOSTI A HODNOTĚ PRO ZÁKAZNÍK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411280" y="4508640"/>
            <a:ext cx="640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etra Břenk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reza Kalandr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ana Navrátil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2. INOVACE VE SVIŽNÉM TEMPU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porujte zapálené bojovní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ychle odstraňujte chy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ovte měřitelné cíle inov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pěstujte schopnost inov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H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pracovat strategii inovace,která se vyznačuje velkým množstvím bleskově rychlých, ale skromných začátků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užívat multifunkční týmy pro všechny vývojové činnost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ahradit návrhy pilotními projekty a prototyp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apomenout,že jste to nevynalezli a naučit se kopírovat od těch nejlepší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rganizujte marketingové úsilí při zavádění nových výrobků na základě výrazných kampaní rozšiřovaných ústním podání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řitahovat přeborníky  a bojovníky z personálu i z projekce k velkým projektům i k nezávislým akcí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mi osobně se svou každodenní činností staňte symbolem novátorstv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bírejte neúspě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ovaci proměňte na zaběhnutý způsob života firm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3. DOSAŽENÍ PRUŽNOSTI PŘEDÁNÍM PRAVOMOCÍ LIDE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šichni se zajímají o všech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tavte týmy a dejte jim pravomo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slouchejte-oslavujte-uznávejte a chval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ěnujte dostatek času nábo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zdělávejte a doškoluj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3. DOSAŽENÍ PRUŽNOSTI PŘEDÁNÍM PRAVOMOCÍ LIDE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šem pracovníkům stanovte pobídkovou mz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jte záruku trvalého zaměstn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jednodušte a zredukujte strukturu fir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é pojetí úlohy středních manažer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straňte byrokratická pravidla a pokořující podmín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H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apojte veškerý personál na všech úrovních a ve všech funkcích úplně do všeh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šechno organizovat pomocí týmů,abychom dosáhli zvýšeného soustředění a zaměření na úkol,novátorského přístupu a zaujetí jednotlivců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ustavně naslouchat, shromažďovat nebo sdílet nápady a informace a uznávat úspěchy,oslavovat formálně i neformálně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datně investovat do náboru čas řadových pracovníků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vestovat do lidského kapitálu tolik jako do hardwar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Každému opatřit tučné finanční podně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ajistit, aby velice zřídka nebo vůbec nedocházelo k propouštěn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anovte radikálně vyšší poměr řadových pracovníků k vedoucí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řední management = zařizovatel a ničitel funkčních barié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adikálně snížit a zjednodušit papírování a zbytečné procedu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4. Naučte se milovat změnu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pracovat inspirativní v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Řídit příklad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ktikovat viditelné říz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ěnujte pozornost (více naslouchej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4. Naučte se milovat změnu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edávejte odpovědnost a pravomo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dbouráním byrokracie usilujte o horizontální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ždého hodnoťte podle jeho lásky ke změ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ěstujte pocit naléhav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H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ypracujte vizi, která vám dá sílu a mož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ďte především svým osobním příkladem – zejména pomocí množství čas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ktikujte viditelné řízení a snažte se o snížené zkreslování informa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vinně se staňte posluchač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egujte a každé předání pravomoci zkoumejte, aby jste se opravdu pravomoci vzdali a znovu ji neodejmuli a pečlivě stanovili podmínky jejího před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zaci řiďte horizontálně, trvejte na tom aby vertikální řízení bylo nahrazeno horizontální spoluprá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i hodnocení vedoucích se zaměřit na otázky okolo počtu změn o které se vedoucí zaslouž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5. Budování systémů ve světě vzhůru noham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ěřte to co je důležit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epracujte hlavní řídící nástr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entralizace informací, pravomocí a strategického pláno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ovte splnitelné cí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žadujte naprostou integri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H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ypracujte jednoduché podpůrné systémy, které budou pobídkou k účasti, kterým budou všichni rozumět a proto budou podporovat iniciativní jedn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jednodušte všechny tři primární způsoby řízení – hodnocení výkonnosti, stanovení cílů a popis pracovní nápln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šemi se dělte o všechny inform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ovte konzervativní cíle růstu a zejména trvejte na tom, že vývoj infrastruktury předchází projektovanému růstu příjmů a nezaostává za ní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žadujte naprostou integritu ve všech jednáních s lidmi i systémy, uvnitř i mimo fir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měny ve vývoji ekonomi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5 předpisů pro úspěšnou fir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íklad General Elect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íklad 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 roku 1981 - Jack Welch v General Elect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rcholový management utváří vizi a formuluje ji do podnikového poslání, které klade zvýšený důraz na podnikavost, invenci, inovaci a lidský kapitá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ři zásady strategie změn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oborech kde GE podniká, bude první nebo druhá na svět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o výzkumu investovat tolik, kolik je na prví nebo druhé místo tře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ít naplno tvořivých sil všech lid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íklad 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stupný ústup od hierarchické pyramidy k ploché organizační struktuř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působ řízení založen na sdílení informac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tvoření pocitu důvěry a sdíln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 řízení musí vládnout rychlost a jednoduc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kolení lidského faktoru – školící středisko Crotonville – výzva: osvoboďte se a důvěřujte, místo plánuj, organizuj, integruj, změ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chat si poradit zvenku prostřednictvím nejlepších poradenských firem, ale využívat vlastní zkušenosti a prosazovat vlastní příst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UŽITÁ LITERATUR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ETERS, T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Prosperita se rodí z chaos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Praha: Pragma, 2001. ISBN 807205816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ISLINGEROVÁ, E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Chování podniku v globalizujícím se prostředí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Praha: C. H. Beck, 2005. ISBN 807179847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RUNEČEK, J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Znalostní podnik ve znalostní společnosti.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fesional Publishing,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Děkujeme za pozornos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ZMĚNY VE VÝVOJI EKONOMIK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Ústup od masové výroby pro neznámého zákazníka ve prospěch zakázkové produkc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Slučování a opětovné oddělování, rozdělování, joint ventur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Technická revoluc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Menší a pružnější továrn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Nová konkurence (zahraniční, domácí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Měnící se vkus a požadavky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PŘEDPISY PRO ÚSPĚŠNOU FIRMU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pěstovat absolutní vstřícnost k zákazníků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ovace ve svižném tem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sažení pružnosti předáním pravomocí lid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učte se milovat změ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dování systémů ve světě vzhůru noh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762120" indent="-762120" algn="ctr"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VYPĚSTOVAT ABSOLUTNÍ VSTŘÍCNOST K ZÁKAZNÍKŮ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erenciace. Specializace. Tvorba tématických sektor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jistěte nejvyšší jakost, ale tak, jak ji vnímá zákazní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jistěte vynikající služby. Zdůrazněte nehmotné služ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KONCEPCE ABSOLUTNÍHO VÝROBKU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84836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KONCEPCE ABSOLUTNÍHO VÝROBKU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71380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1. VYPĚSTOVAT ABSOLUTNÍ VSTŘÍCNOST K ZÁKAZNÍKŮ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ďte mimořádně vstříc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ďte světovým podnik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vořte jedineč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ědomě podlehněte posedlosti naslouchání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výroby udělejte tržní zbra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dělejte hrdiny z pracovníků prodeje a služ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poutejte zákaznickou revolu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2. INOVACE VE SVIŽNÉM TEMPU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ujte do aplika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sazujte týmovou prá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porujte pilotní projekt každého nápa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dna paní povídala“ jako marketingový systé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2:14:45Z</dcterms:created>
  <dc:creator>Tereza Kalandrová</dc:creator>
  <dc:description/>
  <dc:language>en-US</dc:language>
  <cp:lastModifiedBy>Jana Navrátilová</cp:lastModifiedBy>
  <dcterms:modified xsi:type="dcterms:W3CDTF">2008-10-30T23:34:33Z</dcterms:modified>
  <cp:revision>14</cp:revision>
  <dc:subject/>
  <dc:title>OD MASOVÉ VELKOVÝROBY K INOVATIVNOSTI A HODNOTĚ PRO ZÁKAZNÍKA</dc:title>
</cp:coreProperties>
</file>