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D579-C15B-4B39-8498-CCA61AEC2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01C9-BA0B-47D3-BD5F-EBC7DDF4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392F-4C01-4138-927E-AB6391637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0E84-D1D1-41E2-9BD5-3840961EC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4D37-DD3B-41F8-98B8-CBB82FA61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1A6B-C13F-407B-BA92-03440E4F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DE47-443C-4ACC-9F93-1DCF5B3F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2927-1C26-4F32-B454-96F3ADF2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70F6-69BD-462F-92F7-579ADCD9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8338-D246-40B0-8A29-0D0367DD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9DCF-192C-49C8-B37C-C1537BD5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92B7-925B-4A44-9307-85F6243D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0EFB-530E-4DC1-B529-610C989E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3B46-D0B6-4CFA-9568-7229442E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3BD6-A2BA-440C-8DF7-9B09717C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E6DA-0CAA-4518-BFD6-0865425AE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263A-B7C9-4BCD-9C09-85499B8BE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A8E3-F04E-4378-A5F4-34A49CF9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B96C-64AF-42DA-B7C3-6448C2EC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09BC-22FF-4DD5-9B76-3AE87244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4AAB-5EB8-4413-8191-B0A70FDF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92B4-1C0C-4BD7-A79E-B40E4E5B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6187-37BB-4162-83CA-BAD254E2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42F9-DDA9-43DF-AF8C-375B8094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7FF7-447E-4211-90AD-3BBC7709D17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6DF2-C249-4E9C-B313-7BFE55982BD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b9efee"/>
                </a:solidFill>
                <a:latin typeface="Garamond"/>
              </a:rPr>
              <a:t>Stakeholderský přístup k pojetí podniku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Jančúch Zbyně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Krejčí Mich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avlík Mich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Zaměstnanci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Garamond"/>
              </a:rPr>
              <a:t>nejtěsnější a nejstabilnější vztah k podniku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Garamond"/>
              </a:rPr>
              <a:t>tendence k rozvolňování a dynamizování vztahu k podniku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Garamond"/>
              </a:rPr>
              <a:t>prostředky vlivu zaměstnanců</a:t>
            </a:r>
            <a:r>
              <a:rPr b="0" lang="cs-CZ" sz="27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schopnost pracova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možnost práci odmítnout ( individuálně X kolektivně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Garamond"/>
              </a:rPr>
              <a:t>vyjednávací pozice podle stupně kvalifikovanosti   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Garamond"/>
              </a:rPr>
              <a:t>zasahování do řízení podniku prostřednictvím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dborových organizací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zastoupením zaměstnanců v dozorčí radě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sebeřízení pracovních týmů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Věřitelé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dáno situací na finančním trhu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bonita podniku → zájem o poskytnutí úvěr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vyspělé západní země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cs-CZ" sz="2600" spc="-1" strike="noStrike">
                <a:solidFill>
                  <a:srgbClr val="ffffff"/>
                </a:solidFill>
                <a:latin typeface="Garamond"/>
              </a:rPr>
              <a:t>ostatek finančních prostředků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Garamond"/>
              </a:rPr>
              <a:t>nízké riziko nesplacení úvěru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Garamond"/>
              </a:rPr>
              <a:t>věřitelé do správy podniku nezasahují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transformující se ekonomik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Garamond"/>
              </a:rPr>
              <a:t>převis poptávky po úvěrech nad nabídkou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Garamond"/>
              </a:rPr>
              <a:t>při vysokém zadlužení: věřitelé → postavení vlastníků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Dodavatelé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Garamond"/>
              </a:rPr>
              <a:t>jejich moc ovlivněna postavením na trhu Va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Garamond"/>
              </a:rPr>
              <a:t>nabízející strana zpravidla ve slabším postavení než poptávající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Garamond"/>
              </a:rPr>
              <a:t>různá obtížnost zrušitelnosti vazeb → transakční náklady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Garamond"/>
              </a:rPr>
              <a:t>specifičnost produktu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Garamond"/>
              </a:rPr>
              <a:t>přizpůsobení technologií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Garamond"/>
              </a:rPr>
              <a:t>sdílené společné know-how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Garamond"/>
              </a:rPr>
              <a:t>riziko převahy moci na jedná straně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Veřejná správ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tát, region, ob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rostředky vliv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vydávání právních předpis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ozice zákazník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rozdělování různých forem pomoci podnikatelské sféř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b9efee"/>
                </a:solidFill>
                <a:latin typeface="Garamond"/>
              </a:rPr>
              <a:t>Vztahy stakeholderů a organizační blahobyt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droj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OST, James E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Redefining the corporation: stakeholder management and organizational weal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Členění stakeholderů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5229360"/>
            <a:ext cx="1944360" cy="100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Joint ventu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amp; ali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19640" y="3284640"/>
            <a:ext cx="1944360" cy="100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dn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08720" y="1773360"/>
            <a:ext cx="1944720" cy="100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aměstnan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88000" y="2852640"/>
            <a:ext cx="1944720" cy="100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88000" y="3933720"/>
            <a:ext cx="1944720" cy="100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ákazní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64000" y="4869000"/>
            <a:ext cx="1944720" cy="100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davatel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amp;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odběr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4920" y="4797360"/>
            <a:ext cx="1944720" cy="100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yvatelst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90920" y="1341360"/>
            <a:ext cx="1944720" cy="100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stoř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3789360"/>
            <a:ext cx="1944720" cy="100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lá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2708280"/>
            <a:ext cx="1944720" cy="100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ulač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o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03280" y="1700280"/>
            <a:ext cx="1944720" cy="100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krom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gan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40360" y="2494080"/>
            <a:ext cx="502920" cy="647640"/>
          </a:xfrm>
          <a:prstGeom prst="upDownArrow">
            <a:avLst>
              <a:gd name="adj1" fmla="val 50000"/>
              <a:gd name="adj2" fmla="val 2563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40360" y="4437000"/>
            <a:ext cx="502920" cy="647640"/>
          </a:xfrm>
          <a:prstGeom prst="upDownArrow">
            <a:avLst>
              <a:gd name="adj1" fmla="val 50000"/>
              <a:gd name="adj2" fmla="val 2563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5112600">
            <a:off x="5651640" y="3140640"/>
            <a:ext cx="503280" cy="647640"/>
          </a:xfrm>
          <a:prstGeom prst="upDownArrow">
            <a:avLst>
              <a:gd name="adj1" fmla="val 50000"/>
              <a:gd name="adj2" fmla="val 2561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7418600">
            <a:off x="5580720" y="3790080"/>
            <a:ext cx="503280" cy="647640"/>
          </a:xfrm>
          <a:prstGeom prst="upDownArrow">
            <a:avLst>
              <a:gd name="adj1" fmla="val 50000"/>
              <a:gd name="adj2" fmla="val 2561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9525200">
            <a:off x="5005440" y="4294080"/>
            <a:ext cx="503280" cy="647640"/>
          </a:xfrm>
          <a:prstGeom prst="upDownArrow">
            <a:avLst>
              <a:gd name="adj1" fmla="val 50000"/>
              <a:gd name="adj2" fmla="val 2561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056800">
            <a:off x="5005080" y="2636640"/>
            <a:ext cx="503280" cy="647640"/>
          </a:xfrm>
          <a:prstGeom prst="upDownArrow">
            <a:avLst>
              <a:gd name="adj1" fmla="val 50000"/>
              <a:gd name="adj2" fmla="val 2561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2656800">
            <a:off x="3204720" y="4293720"/>
            <a:ext cx="503280" cy="647640"/>
          </a:xfrm>
          <a:prstGeom prst="upDownArrow">
            <a:avLst>
              <a:gd name="adj1" fmla="val 50000"/>
              <a:gd name="adj2" fmla="val 2561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4064400">
            <a:off x="2627640" y="3644280"/>
            <a:ext cx="503280" cy="647640"/>
          </a:xfrm>
          <a:prstGeom prst="upDownArrow">
            <a:avLst>
              <a:gd name="adj1" fmla="val 50000"/>
              <a:gd name="adj2" fmla="val 2561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6447600">
            <a:off x="2698920" y="2996280"/>
            <a:ext cx="503280" cy="647640"/>
          </a:xfrm>
          <a:prstGeom prst="upDownArrow">
            <a:avLst>
              <a:gd name="adj1" fmla="val 50000"/>
              <a:gd name="adj2" fmla="val 2561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8869400">
            <a:off x="3349080" y="2564280"/>
            <a:ext cx="502920" cy="647640"/>
          </a:xfrm>
          <a:prstGeom prst="upDownArrow">
            <a:avLst>
              <a:gd name="adj1" fmla="val 50000"/>
              <a:gd name="adj2" fmla="val 2563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Investoř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ělím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lastníc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ěřitel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íspěve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starání kapitálu, vlastního jmění a/nebo půjčk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tut a jméno na finančním trhu (snížení nákladů půjčky a rizik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Zaměstnanc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ahrnuje každou osobu, která v organizaci pracuj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nagem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bslužný personá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ělníci (sdružení v odborech i mimo ně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říspěvek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ozvoj lidského kapitál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ýmová práce a zvyky založené na pochopení a důvěř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polupráce na pracovišt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Odbor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de jsou odbory, tam je zapotřebí vzájemně příznivých vztahů mezi nimi a organizac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íspěve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bilita zaměstnanců a řešení konflikt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Zákazníci / uživatelé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ůzná forma a velik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íspěve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ddanost značce a reput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pakované / příbuzné nákup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ávrhy a rozvoj spolupráce, řešení problém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Obsah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ymezení pojmu stakehol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ztah stakeholderů, organizační blahoby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Konkurenční chování stakeholder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Dodavatelé 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&amp;</a:t>
            </a: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 odběratelé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Účastníci „hodnotového řetězu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íspěve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fektivita sítě a „hodnotového řetězu“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nížení nákladů technologií a běžných postup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Joint venture a alianc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pojeno s různorodostí hmotných i nehmotných zdroj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říspěve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Strategické zdroje a schopnost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Možnosti pro budoucí vývoj (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&amp;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D, technologie,…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Obyvatelstvo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ocial license to operate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říspěve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Vzájemná podpora a přizpůsobe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lánování, komunální služby, „License to operate“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Vlád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láda má vliv n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odmínky podnikání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rukturu zdanění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kroekonomickou politik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ociální zájmy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íspěve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kroekonomická a sociální politik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odpora vztahů se zákonodárc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gulační autorit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gulační systémy mohou sloužit jako punc kvality – lepší než rekla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íspěve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tvrzení specifických vlastností produktu / služby a úrovně kval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bré jméno – dodržování, integrita, nejlepší zacháze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oukromé společnost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chodní asociace, nezávislé skupiny tvořící standardy, aktivist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íspěve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onstruktivní spolupráce mezi jednotlivými organizacemi a skupinam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říznivé veřejné míně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vobodné (nezávislé) standard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SO 900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b9efee"/>
                </a:solidFill>
                <a:latin typeface="Garamond"/>
              </a:rPr>
              <a:t>Konkurenční chování stakeholderů</a:t>
            </a:r>
            <a:br>
              <a:rPr sz="4000"/>
            </a:br>
            <a:r>
              <a:rPr b="1" lang="cs-CZ" sz="4000" spc="-1" strike="noStrike">
                <a:solidFill>
                  <a:srgbClr val="b9efee"/>
                </a:solidFill>
                <a:latin typeface="Garamond"/>
              </a:rPr>
              <a:t>Moc stakeholderů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aložena na možnosti rozhodovat se o navázání nebo odmítnutí vztahu vůči podnik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pický tržní vzta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ýrobky a služby (dodavatelé x odběratelé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h práce (zaměstnanci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nanční trh (věřitelé, vlastníci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b9efee"/>
                </a:solidFill>
                <a:latin typeface="Garamond"/>
              </a:rPr>
              <a:t>Moc stakeholderů</a:t>
            </a:r>
            <a:br>
              <a:rPr sz="4000"/>
            </a:br>
            <a:r>
              <a:rPr b="1" lang="cs-CZ" sz="4000" spc="-1" strike="noStrike">
                <a:solidFill>
                  <a:srgbClr val="b9efee"/>
                </a:solidFill>
                <a:latin typeface="Garamond"/>
              </a:rPr>
              <a:t>Vlastníci a stát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ad rámec vlastníci a stát – příme ovlivňování podnik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lastníci – rozhodování pomocí řídících orgánů společnos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tát – orgány veřejné správy pomocí řídících zásahů na základě právních předpis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ržní vztah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ychází z teorie her – hra s nenulovým součt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U stakeholderů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okud je součet </a:t>
            </a: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kladný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snaha o navázání, udržení a rozvoji vztahu s podnikem – vidina vyšší získané hodnoty, než kterou stakeholder vloži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okud je součet </a:t>
            </a: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záporný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snaha o navázání vztahu s jiným podnikem, kde bude vidina příznivějších podmínek, popř. ukončit vztah se stávajícím podnik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b9efee"/>
                </a:solidFill>
                <a:latin typeface="Garamond"/>
              </a:rPr>
              <a:t>Stakeholdeři a konkurenti podniku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050920" y="1284120"/>
            <a:ext cx="5023080" cy="55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Východisk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odnik není izolován od svého okolí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živá práce stále významněji určuje hodnotu podnik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odnik jako společenství lidí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jeho dlouhodobá úspěšnost závisí na vztahu s: vlastníky, investory, zaměstnanci, zákazníky, dodavateli, okolní komunitou a dalšími zainteresovanými skupinami neboli stakeholde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b9efee"/>
                </a:solidFill>
                <a:latin typeface="Garamond"/>
              </a:rPr>
              <a:t>Stakeholdeři a konkurenti podniku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Konkurence je vnímána mnohostranně =&gt; ne jen na trhu výrobků a služeb, ale na všech trzí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odnik se setkává v konkurenčním boji o přízeň jednotlivých skupin stakeholderů s ostatními podnik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Konkurenční trh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kciový tr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mise akci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držení investorů – snaha top managementu, jistota jejich mís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h prá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ájem o získání a udržení kvalitní pracovní sí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anční tr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naha o získání úvěru – přesvědčit věřitele o tom, že podnik je důvěryhodnější partner než konkur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Konkurenční trh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h výrobků a služe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ztah k odběratelům – klasické tržní chování – snaha o získání a udržení zákazník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ztah k dodavatelům – boj o spolehlivé dodavate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ztah ke stát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átní zakázk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ivilegia – daňové prázdniny, státní podpora, garance za úvěr, poskytnutí pozemku, právní úpravy, at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Konkurenční chování podniku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efenzivní: Obrana vztahu ke stávajícím stakeholderům proti konkurenčním podniků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Ofenzivní: Snaha přilákat stakeholdery jiných podnik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Kombinací těchto strategií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Růst počtu stakeholderů nebo jejich obměna (platí i pro vztah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Úspěšnost závisí i na chování konkur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b9efee"/>
                </a:solidFill>
                <a:latin typeface="Garamond"/>
              </a:rPr>
              <a:t>Konkurenční chování stakeholderů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Je obdobné jako u podnik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takeholdeři si snaží udržt nebo získat nové podniky (dodavatelé, věřitelé) a uzavírat s nimi co nejvýhodnější smlouv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naha nahrazovat méně výhodné smlouvy těmi výhodnějším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iteratur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POST, James E. </a:t>
            </a:r>
            <a:r>
              <a:rPr b="0" i="1" lang="cs-CZ" sz="2400" spc="-1" strike="noStrike">
                <a:solidFill>
                  <a:srgbClr val="ffffff"/>
                </a:solidFill>
                <a:latin typeface="Garamond"/>
              </a:rPr>
              <a:t>Redefining the corporation: stakeholder management and organizational wealth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. Stanford: Stanford University Press, 2002. ISBN 0-8047-4310-X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BLAŽEK, Ladislav. </a:t>
            </a:r>
            <a:r>
              <a:rPr b="0" i="1" lang="cs-CZ" sz="2400" spc="-1" strike="noStrike">
                <a:solidFill>
                  <a:srgbClr val="ffffff"/>
                </a:solidFill>
                <a:latin typeface="Garamond"/>
              </a:rPr>
              <a:t>Výzkum konkurenceschopnosti podniku.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 Viz studijní materiály IS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BERLE, A., MEANS, G. </a:t>
            </a:r>
            <a:r>
              <a:rPr b="0" i="1" lang="cs-CZ" sz="2400" spc="-1" strike="noStrike">
                <a:solidFill>
                  <a:srgbClr val="ffffff"/>
                </a:solidFill>
                <a:latin typeface="Garamond"/>
              </a:rPr>
              <a:t>The Modern Corporation and Private Property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. New York: Macmillan, 1932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Děkujeme za pozornos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Stakeholde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ovlivňují organizaci a organizace ovlivňuje j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jejich zájem o firmu přesahuje finanční dimenz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tojí s firmou v přímé nebo nepřímé výměně a mají materiální nebo nemateriální požadavky (Stake) na firmu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odavatelé, obchodní partneři, zákazníci, zaměstnanci a nepřímo také komunita, veřejnost, média a vlá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Shareholde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užší skupina zainteresovaných aktérů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akcionáři, vlastníci a všechny osoby, které mají finanční zájem na úspěchu firmy a které se na firmě jako vlastníci podílů bezprostředně podílej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Členění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Garamond"/>
              </a:rPr>
              <a:t>Primární: 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lastníci a investoři, zaměstnanci, zákazníci (stávající i potenciální), obchodní partneři (zejména dodavatelé), místní komunita, environmentální neziskové organizace a další mluvčí za životní prostředí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Garamond"/>
              </a:rPr>
              <a:t>Sekundární: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eřejnost, vládní instituce a samosprávní orgány, lobbisté  a různé nátlakové skupiny, konkurenti, media, občanská obchodní sdruže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Analýza zainteresovaných stra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Kdo jsou naši stakeholdeři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Jaký mají vliv na firmu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Co od nás očekávají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Kteří z nich jsou opravdu klíčoví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b9efee"/>
                </a:solidFill>
                <a:latin typeface="Garamond"/>
              </a:rPr>
              <a:t>Které vztahy jsou pro podnik klíčové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9" name="Zástupný symbol pro obsah 3" descr=""/>
          <p:cNvPicPr/>
          <p:nvPr/>
        </p:nvPicPr>
        <p:blipFill>
          <a:blip r:embed="rId2"/>
          <a:stretch/>
        </p:blipFill>
        <p:spPr>
          <a:xfrm>
            <a:off x="-73080" y="1352520"/>
            <a:ext cx="929016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Vlastníci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moc plyne z jejich podílu na kapitál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uplatňování moci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systému vo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systém ex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0:42:48Z</dcterms:created>
  <dc:creator>Michal</dc:creator>
  <dc:description/>
  <dc:language>en-US</dc:language>
  <cp:lastModifiedBy>Michal Pavlík</cp:lastModifiedBy>
  <dcterms:modified xsi:type="dcterms:W3CDTF">2008-11-10T11:46:39Z</dcterms:modified>
  <cp:revision>38</cp:revision>
  <dc:subject/>
  <dc:title>Stakeholderský přístup k pojetí podniku</dc:title>
</cp:coreProperties>
</file>