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B47-AEF1-4EDE-BEEA-268DC3C4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1D0-FD47-4E01-A94B-657B8113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A2A-6764-4937-BE4F-A54986A9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3AC-6A4E-4647-B677-D3368A99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1305-F63C-49AA-8EB0-2945D8D5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BDBE-704A-4269-AB42-061B1842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C90B-18CB-4A7D-B2F0-4F42DE82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8DE7-BF7F-4E7A-A23B-8E85A989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AA30-77AA-40B2-A4EC-ADDFF81C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0D8F-208D-4F80-A9D6-73972C21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D3DD-F678-4182-8829-77EDDB37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27F-EECB-4637-8DE6-4CB1FA17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E854-0B64-4CAA-9F46-BC049CD5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2D3B-5322-427C-8061-404231D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E6F3-DA4E-4EA2-A9CB-588B0490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8720-CD6A-4DD5-9227-B223E578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F07D-BEE5-4213-973F-3954A71F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358-C025-401B-B7C9-4BDA14B0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E8B-9D06-4E30-A6EF-D2467194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7B2-E265-4C77-8955-7AC980F2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3D6-E5B3-48AD-AD9B-397D5B6F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1CE-F9CB-44D0-BE3C-F7603849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4B3-666D-467A-BDB4-6CEFD98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467-9DCB-47EE-BEF8-DAFFE176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703E-4005-44A7-B632-2D2B0ECC8B6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2B30-7A60-4FE2-AFAF-8F2D49F59BF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800" spc="-1" strike="noStrike">
                <a:solidFill>
                  <a:srgbClr val="cc3300"/>
                </a:solidFill>
                <a:latin typeface="Garamond"/>
              </a:rPr>
              <a:t>Vývoj společnosti v pojetí A. Tofflera</a:t>
            </a: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nika Lemono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ozef Barni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Vzdelanie v budúcom čas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obrátenie k systému, ktorý už um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výrob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industriálneho člove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činnosť intelektuálnu a kreatív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 školy založený na továrni“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zameraný na minulos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vybavenosť do prax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Obrázok 3" descr="42-16032510.jpg"/>
          <p:cNvPicPr/>
          <p:nvPr/>
        </p:nvPicPr>
        <p:blipFill>
          <a:blip r:embed="rId1"/>
          <a:stretch/>
        </p:blipFill>
        <p:spPr>
          <a:xfrm>
            <a:off x="6858000" y="3857760"/>
            <a:ext cx="17146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Šok z budúc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Fyzická dimenzi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adaptácia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hranice množstva zm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akcia na nadmernú stimuláci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cká dimenz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pravidelné fungovanie mys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schopnosť racionálne jedna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Obrázok 3" descr="shock_sign.jpg"/>
          <p:cNvPicPr/>
          <p:nvPr/>
        </p:nvPicPr>
        <p:blipFill>
          <a:blip r:embed="rId1"/>
          <a:stretch/>
        </p:blipFill>
        <p:spPr>
          <a:xfrm>
            <a:off x="6572160" y="4714920"/>
            <a:ext cx="1982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Střet civilizací – Samuel 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ět po studené válce je světem 7 nebo 8 zem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přátelství a spojenectví jsou určeny kultur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 ztrácí dominantní postave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21.st. Čína jako rival Záp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.H. vyzývá k utváření budoucnosti, doporučuje Západu přehodnotit zahraniční pol, prohloubit jednotu, rozšířit součinnost s Ruskem, Japonskem a Indií a stáhnout vojska z muslimské a čínské civiliz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ad se má sjednotit a uznat i ostatní civiliz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Fukuyama</a:t>
            </a: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 – Konec ději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ažený komunismus a faš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padní liberální demokracie jako konečná podoba vlá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ec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Použitá literatur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OFFLER, A. Šok z budoucnosti. Praha : Práce, 1992. ISBN 80-208-0160-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Huntington, S. Střet civilizací. Praha : Rybka Publishers, 2001. ISBN 80-86182-49-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Fukuyama, F. Konec dějin a poslední člověk. Praha : Rybka Publishers 2002. ISBN 80-86182-27-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Děkujeme za pozornost.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tiklad pojmu barbarství (18.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nost usedlá, urbanizovaná a gramotn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vilizace - celkový způsob života národa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je kultura ve velk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komplexní celky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boženství, generace, děiiny, zvyky, instituce, objektivní prv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…</a:t>
            </a: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mrtel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louhově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způsobují a vyvíjí 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iší se celkový počet civiliz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lavní: Čínská,Japonská, Hinduistická, Islámská, Západní, Latinskoamerická, Afric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Zápa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Evropa + Severní Amerika + země osídleny Evropany (Austrálie, Nový Zél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9.st. Evropa x Amerika  (zpátečnictví, útlak, hierarchie x svoboda, rovnost, budoucn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0.st. Amerika součást západu, první moc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7454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200" spc="-1" strike="noStrike">
                <a:solidFill>
                  <a:srgbClr val="cc3300"/>
                </a:solidFill>
                <a:latin typeface="Garamond"/>
              </a:rPr>
              <a:t>A. Toffler – Šok z budúcnosti</a:t>
            </a:r>
            <a:endParaRPr b="0" lang="en-US" sz="5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5840" y="164304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Veci, miesta, ľudia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yšlienky a organizačné štruktúry sa v životoch ľudí ,spotrebovávaj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rýchlejšie“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Toffler A., Šok z budúcnosti, str. 29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odnadpis 2"/>
          <p:cNvSpPr/>
          <p:nvPr/>
        </p:nvSpPr>
        <p:spPr>
          <a:xfrm>
            <a:off x="357120" y="3571920"/>
            <a:ext cx="8572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kultúrny š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ústredný pojem: diagnostika problém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súčasného človeka            psychické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fyziologické problémy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Šípka doprava 4"/>
          <p:cNvSpPr/>
          <p:nvPr/>
        </p:nvSpPr>
        <p:spPr>
          <a:xfrm>
            <a:off x="4572000" y="5357880"/>
            <a:ext cx="642960" cy="102960"/>
          </a:xfrm>
          <a:prstGeom prst="rightArrow">
            <a:avLst>
              <a:gd name="adj1" fmla="val 50000"/>
              <a:gd name="adj2" fmla="val 50103"/>
            </a:avLst>
          </a:prstGeom>
          <a:gradFill rotWithShape="0">
            <a:gsLst>
              <a:gs pos="0">
                <a:srgbClr val="000000"/>
              </a:gs>
              <a:gs pos="100000">
                <a:srgbClr val="fff6d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“</a:t>
            </a:r>
            <a:r>
              <a:rPr b="1" lang="sk-SK" sz="4000" spc="-1" strike="noStrike">
                <a:solidFill>
                  <a:srgbClr val="cc3300"/>
                </a:solidFill>
                <a:latin typeface="Garamond"/>
              </a:rPr>
              <a:t>Super - industrializmus</a:t>
            </a: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bielych golierov oproti modrý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minanta éry je pomíjivosť, dočasnosť a zm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zácia produk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riemysel zážitk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bývanie oceá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ové genetické varianty člove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časné manželst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čiatok masového konzumu vysoko štandardizovaných produkt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Zástupný symbol obsahu 3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56628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ok 4" descr="P0115b398_s_praca_zamestnanie.jpg"/>
          <p:cNvPicPr/>
          <p:nvPr/>
        </p:nvPicPr>
        <p:blipFill>
          <a:blip r:embed="rId2"/>
          <a:stretch/>
        </p:blipFill>
        <p:spPr>
          <a:xfrm>
            <a:off x="7358040" y="3143160"/>
            <a:ext cx="1571760" cy="884160"/>
          </a:xfrm>
          <a:prstGeom prst="rect">
            <a:avLst/>
          </a:prstGeom>
          <a:ln w="0">
            <a:noFill/>
          </a:ln>
        </p:spPr>
      </p:pic>
      <p:pic>
        <p:nvPicPr>
          <p:cNvPr id="106" name="Obrázok 5" descr="1_Tokyo_quer_miki.jpg"/>
          <p:cNvPicPr/>
          <p:nvPr/>
        </p:nvPicPr>
        <p:blipFill>
          <a:blip r:embed="rId3"/>
          <a:stretch/>
        </p:blipFill>
        <p:spPr>
          <a:xfrm>
            <a:off x="7358040" y="1643040"/>
            <a:ext cx="15717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Obrázok 6" descr="ekopestovanie_1.jpg"/>
          <p:cNvPicPr/>
          <p:nvPr/>
        </p:nvPicPr>
        <p:blipFill>
          <a:blip r:embed="rId4"/>
          <a:stretch/>
        </p:blipFill>
        <p:spPr>
          <a:xfrm>
            <a:off x="7358040" y="4572000"/>
            <a:ext cx="1571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Pomíjivosť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ýchlosť s akou sa menia naše vzťa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Verdana"/>
              </a:rPr>
              <a:t>Spoločnosť na jedno použiti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dopytu a ponuky po spotrebných statk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Šípka dolu 3"/>
          <p:cNvSpPr/>
          <p:nvPr/>
        </p:nvSpPr>
        <p:spPr>
          <a:xfrm>
            <a:off x="4429080" y="1214280"/>
            <a:ext cx="285840" cy="5004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Diagram 6" descr=""/>
          <p:cNvPicPr/>
          <p:nvPr/>
        </p:nvPicPr>
        <p:blipFill>
          <a:blip r:embed="rId1"/>
          <a:stretch/>
        </p:blipFill>
        <p:spPr>
          <a:xfrm>
            <a:off x="1494000" y="4206960"/>
            <a:ext cx="6796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Nové národ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k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významu vzdiale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spotrebovávame miesta a zbavujeme sa ich veľm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dobným spôsobom ako odhadzujeme papierové vreckovky alebo plechovky od pi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Toffler A., Šok z budúcnosti, str. 43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Obrázok 3" descr="1903-lietadlo-lissovam.gif"/>
          <p:cNvPicPr/>
          <p:nvPr/>
        </p:nvPicPr>
        <p:blipFill>
          <a:blip r:embed="rId1"/>
          <a:stretch/>
        </p:blipFill>
        <p:spPr>
          <a:xfrm>
            <a:off x="5940360" y="4500720"/>
            <a:ext cx="2867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8:02Z</dcterms:created>
  <dc:creator>Monika</dc:creator>
  <dc:description/>
  <dc:language>en-US</dc:language>
  <cp:lastModifiedBy>snoopy</cp:lastModifiedBy>
  <dcterms:modified xsi:type="dcterms:W3CDTF">2008-10-27T11:56:49Z</dcterms:modified>
  <cp:revision>12</cp:revision>
  <dc:subject/>
  <dc:title>Vývoj společnosti v pojetí A. Tofflera </dc:title>
</cp:coreProperties>
</file>