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2CF-04FE-41EA-ACC2-BF61412A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E4A-A933-4EF0-B833-A3835136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A24-B015-4AC4-8454-952A1216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B5A-AC82-461D-B21A-42B7511B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AAC0-51BF-416B-AB5E-5E1A8D7D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1356-76AA-472B-934F-530B5D26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FCBD-5D1D-4A46-B41A-6D6813E6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2A1B-292D-4868-8223-0D86B716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AD0A-E046-4A76-824D-3441291D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BF9F-B84F-4246-AA11-E526954C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5C86-99B8-4177-857A-42A6E7E3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099-5E38-4A15-97E5-0D276554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C532-4DAB-47D9-8855-CC704B35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F77D-CC98-4B76-B0C6-C2B5A45C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1A9F-F265-486C-BAE3-DE42CB64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F50B-0EB6-45F6-9BFE-D2DFC1E1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BFBA-AA52-4EDE-BEF3-C19C6A23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6E3-4C96-424C-A26D-A86F6359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A37-D001-43DD-922B-837E74B1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8A5-0736-4E4B-B440-18ACE0F6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C61-C9BE-4233-B443-A6BD3D44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095-3444-4C8F-8B99-F1D2F9FA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9A0-7A40-44AF-AAD5-390F1350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38A-8CAA-4286-B8A1-A654DAD3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20D6-75C8-4B3E-B392-D94B8BDDA2B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E181-0DC1-4376-8468-702A540118E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Strategie trvalo udržitelného rozvoj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nda Khall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uzana Soóki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trategickí manažéri a trvalo udržateľný rozvoj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jenie ekonomického úspechu a zodpovednosti za životné prostredie = </a:t>
            </a: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trvalá udržateľnos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omocné hodnoty pre založenie trvalej udržateľnost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Celistv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tomst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va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Štruktúry pre trvalú udržateľnos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čiace sa organizác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ové hodnoty, ciele, štruktúry, systémy odmeňov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Úspech v dlhodobej perspektíve = začlenenie sa do prír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ystém managementu životného prostr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eťaz hodnôt rozšírená o prírodné zdroje a uloženie od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nalýza životného cyklu výrob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Marketing pre životné prostred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a cie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elené výrobky + presvedčenie spotrebiteľov o vysokej kvalite a citlivosti týchto výrobkov voči životnému prostred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odpora managementu životného prostr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uditing životného prostr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Účtovanie plných náklad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nformačné systémy managementu pre životné prostre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nformovanie o životnom prostr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Použitá literatú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EAD, W.E., STEAD, J.G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 pro malou planetu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d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kladatelstv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plusG, 1998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84 s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ISBN 80-86103-15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ÍČEK, V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Globální problémy ve světové ekonomice  : vybrané problémy 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1. vyd. Praha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Nakladatelství Vysoká škola ekonomická v Praze, 1995. 118 s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SBN 8070794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rial"/>
              </a:rPr>
              <a:t>www stránky: http://cs.wikipedia.org/wiki/Trvale_udržitelný_rozvoj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ccecff"/>
                </a:solidFill>
                <a:latin typeface="Arial"/>
              </a:rPr>
              <a:t>Ďakujeme za pozornos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(O čom to bude…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2205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Globálne problé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v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udržateľný roz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trategickí manažéri a trv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udržateľný roz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Globálne problémy intersociál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1988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vojny a mie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sociálnej a ekonomickej zaostalosti rozvojových kraj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riešenia globálnej zadĺže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zmien medzinárodných vzťah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Globálne problémy prírodn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ociál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pulačn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travinov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urovinový a energetick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kologick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Definície trvalo udržateľného rozvo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TUR je taký rozvoj, ktorým ľudstvo naplňuje potreby súčasnosti bez obmedzenia schopnosti budúcich generácií naplniť svoje potreby. (Svetová komisia pre životné prostredie a rozvoj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Rozvoj, ktorý súčasným aj budúcim generáciám zachováva možnosť uspokojovať ich základné životné potreby a pritom neznižuje rozmanitosť prírody a zachováva prirodzené funkcie ekosystémov. (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Zákon o životním prostředí č. 17/1992 Sb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Rozmery trvalo udržateľného rozvo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06064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iofyzikálny roz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ocioekonomický roz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orálny roz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Biofyzikálne rozm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9162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osiahnutie úplnej recyklácie material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tvorenie trvalo udržateľného energetického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ontrola populačnej explóz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viesť v súlad ekonomickú činnosť a evolučn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Socioekonomické rozm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964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mierenie rozvinutých a rozvojových kraj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tvorenie štruktúr rozhodovania založených na obci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Morálny rozm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360" y="206028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nvironmentálna e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7:27:39Z</dcterms:created>
  <dc:creator>Zuzanka</dc:creator>
  <dc:description/>
  <dc:language>en-US</dc:language>
  <cp:lastModifiedBy>x</cp:lastModifiedBy>
  <dcterms:modified xsi:type="dcterms:W3CDTF">2008-11-03T07:31:27Z</dcterms:modified>
  <cp:revision>24</cp:revision>
  <dc:subject/>
  <dc:title>Strategie trvale udržitelného rozvoje</dc:title>
</cp:coreProperties>
</file>