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F8FB-E830-41EF-A8EB-603227941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0404-5455-4B65-BBE1-8CB661E8E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C2AA-FD45-4C93-A21D-CA39D05A2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740A-C770-480A-8F37-9F7926F03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5CC2-4C1F-48E5-84D1-B446B6D87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4745-7F3A-46A0-B22A-D536547E2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7368-5E91-44D5-A512-88C8E0574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5805-7F34-4A3E-9EF7-9C77E6E90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16C0-1C84-4DE6-9366-644987C6C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4263-3D5C-497F-962D-52FAEBE11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4C92-BE4F-4911-9A6F-B166B0FDC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FCB6-B2C9-487F-82AD-ED0909137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2" marL="1295280" indent="-21564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3" marL="1727280" indent="-21600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4" marL="2158920" indent="-21564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5" marL="2158920" indent="-21564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6" marL="2158920" indent="-21564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8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>
              <a:lnSpc>
                <a:spcPct val="8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8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ctr">
              <a:lnSpc>
                <a:spcPct val="8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8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8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2F05EB-C2C1-4258-8A4C-73F0B58E0270}" type="slidenum">
              <a:rPr b="0" lang="en-US" sz="14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440" y="0"/>
            <a:ext cx="10079280" cy="7559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576360" y="2123640"/>
            <a:ext cx="8569440" cy="16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DejaVu Sans"/>
              </a:rPr>
              <a:t>STRATEGIE TRVALE UDRŽITELNÉHO</a:t>
            </a:r>
            <a:br>
              <a:rPr sz="4000"/>
            </a:br>
            <a:r>
              <a:rPr b="1" lang="cs-CZ" sz="4000" spc="-1" strike="noStrike">
                <a:solidFill>
                  <a:srgbClr val="000000"/>
                </a:solidFill>
                <a:latin typeface="DejaVu Sans"/>
              </a:rPr>
              <a:t>ROZVOJE</a:t>
            </a:r>
            <a:r>
              <a:rPr b="0" lang="cs-CZ" sz="4400" spc="-1" strike="noStrike">
                <a:solidFill>
                  <a:srgbClr val="000000"/>
                </a:solidFill>
                <a:latin typeface="DejaVu San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3" name=""/>
          <p:cNvSpPr/>
          <p:nvPr/>
        </p:nvSpPr>
        <p:spPr>
          <a:xfrm>
            <a:off x="1152360" y="4067280"/>
            <a:ext cx="5148360" cy="17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400" spc="-1" strike="noStrike">
                <a:solidFill>
                  <a:srgbClr val="4c1900"/>
                </a:solidFill>
                <a:latin typeface="Times New Roman"/>
              </a:rPr>
              <a:t>Autoři: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4c1900"/>
                </a:solidFill>
                <a:latin typeface="Times New Roman"/>
              </a:rPr>
              <a:t>Natália Čechová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4c1900"/>
                </a:solidFill>
                <a:latin typeface="Times New Roman"/>
              </a:rPr>
              <a:t>Tomáš Jelínek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4c1900"/>
                </a:solidFill>
                <a:latin typeface="Times New Roman"/>
              </a:rPr>
              <a:t>Renáta Kaszperová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440" y="0"/>
            <a:ext cx="10079280" cy="7559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7" name=""/>
          <p:cNvSpPr/>
          <p:nvPr/>
        </p:nvSpPr>
        <p:spPr>
          <a:xfrm>
            <a:off x="900000" y="3959280"/>
            <a:ext cx="5400720" cy="23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000" spc="-1" strike="noStrike">
                <a:solidFill>
                  <a:srgbClr val="4c1900"/>
                </a:solidFill>
                <a:latin typeface="Times New Roman"/>
              </a:rPr>
              <a:t>2. ČÁST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16000" y="1547640"/>
            <a:ext cx="89280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lvl="1" marL="574560" indent="-358560" algn="ctr">
              <a:lnSpc>
                <a:spcPct val="63000"/>
              </a:lnSpc>
              <a:spcAft>
                <a:spcPts val="1137"/>
              </a:spcAft>
              <a:buSzPct val="100000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EKOMANAGEMENT A EKOMARKETING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574560" indent="0" algn="ctr">
              <a:lnSpc>
                <a:spcPct val="6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 PRAXI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440" y="0"/>
            <a:ext cx="10079280" cy="7559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DejaVu Sans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000" spc="-1" strike="noStrike">
                <a:solidFill>
                  <a:srgbClr val="4c1900"/>
                </a:solidFill>
                <a:latin typeface="Times New Roman"/>
              </a:rPr>
              <a:t>EKOMANAGEMENT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marL="375480" indent="-281520">
              <a:lnSpc>
                <a:spcPct val="9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Co j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DejaVu Sans"/>
              </a:rPr>
              <a:t>e</a:t>
            </a:r>
            <a:r>
              <a:rPr b="1" lang="cs-CZ" sz="3200" spc="-1" strike="noStrike" u="sng">
                <a:solidFill>
                  <a:srgbClr val="000000"/>
                </a:solidFill>
                <a:uFillTx/>
                <a:latin typeface="DejaVu Sans"/>
              </a:rPr>
              <a:t>k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DejaVu Sans"/>
              </a:rPr>
              <a:t>omanagement</a:t>
            </a: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3754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3754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jaVu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DejaVu Sans"/>
              </a:rPr>
              <a:t>- nebo </a:t>
            </a:r>
            <a:r>
              <a:rPr b="0" i="1" lang="en-US" sz="2800" spc="-1" strike="noStrike">
                <a:solidFill>
                  <a:srgbClr val="000000"/>
                </a:solidFill>
                <a:latin typeface="DejaVu Sans"/>
              </a:rPr>
              <a:t>environmental management</a:t>
            </a:r>
            <a:r>
              <a:rPr b="0" i="1" lang="cs-CZ" sz="2800" spc="-1" strike="noStrike">
                <a:solidFill>
                  <a:srgbClr val="000000"/>
                </a:solidFill>
                <a:latin typeface="DejaVu Sans"/>
              </a:rPr>
              <a:t>, green management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3754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DejaVu Sans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DejaVu Sans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DejaVu Sans"/>
              </a:rPr>
              <a:t>mana</a:t>
            </a:r>
            <a:r>
              <a:rPr b="0" lang="sk-SK" sz="2800" spc="-1" strike="noStrike">
                <a:solidFill>
                  <a:srgbClr val="000000"/>
                </a:solidFill>
                <a:latin typeface="DejaVu Sans"/>
              </a:rPr>
              <a:t>žerská koncepce pro trvale udržitelný rozvoj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3754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DejaVu Sans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DejaVu Sans"/>
              </a:rPr>
              <a:t>- aplikace ekologických metod, postup</a:t>
            </a:r>
            <a:r>
              <a:rPr b="0" lang="cs-CZ" sz="2800" spc="-1" strike="noStrike">
                <a:solidFill>
                  <a:srgbClr val="000000"/>
                </a:solidFill>
                <a:latin typeface="DejaVu Sans"/>
              </a:rPr>
              <a:t>ů, zásad a hodnot ve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3754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DejaVu San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DejaVu San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DejaVu Sans"/>
              </a:rPr>
              <a:t>  </a:t>
            </a:r>
            <a:r>
              <a:rPr b="0" lang="cs-CZ" sz="2800" spc="-1" strike="noStrike">
                <a:solidFill>
                  <a:srgbClr val="000000"/>
                </a:solidFill>
                <a:latin typeface="DejaVu Sans"/>
              </a:rPr>
              <a:t>vedení podniku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3754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375480" indent="-281520">
              <a:lnSpc>
                <a:spcPct val="9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DejaVu Sans"/>
              </a:rPr>
              <a:t>EMS – environmental management system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375480" indent="-281520">
              <a:lnSpc>
                <a:spcPct val="9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DejaVu Sans"/>
              </a:rPr>
              <a:t>EHS – environmental health and safety management</a:t>
            </a:r>
            <a:r>
              <a:rPr b="0" lang="sk-SK" sz="2800" spc="-1" strike="noStrike">
                <a:solidFill>
                  <a:srgbClr val="000000"/>
                </a:solidFill>
                <a:latin typeface="DejaVu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3754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5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000"/>
                            </p:stCondLst>
                            <p:childTnLst>
                              <p:par>
                                <p:cTn id="20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500"/>
                            </p:stCondLst>
                            <p:childTnLst>
                              <p:par>
                                <p:cTn id="21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" dur="5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2500"/>
                            </p:stCondLst>
                            <p:childTnLst>
                              <p:par>
                                <p:cTn id="21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2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" dur="500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3500"/>
                            </p:stCondLst>
                            <p:childTnLst>
                              <p:par>
                                <p:cTn id="22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9" dur="500"/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40" y="0"/>
            <a:ext cx="10079280" cy="7559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000" spc="-1" strike="noStrike">
                <a:solidFill>
                  <a:srgbClr val="4c1900"/>
                </a:solidFill>
                <a:latin typeface="Times New Roman"/>
              </a:rPr>
              <a:t>HLAVNÍ CÍLE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57276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DejaVu Sans"/>
              </a:rPr>
              <a:t>1.</a:t>
            </a:r>
            <a:r>
              <a:rPr b="0" lang="sk-SK" sz="2800" spc="-1" strike="noStrike">
                <a:solidFill>
                  <a:srgbClr val="000000"/>
                </a:solidFill>
                <a:latin typeface="DejaVu Sans"/>
              </a:rPr>
              <a:t>	</a:t>
            </a:r>
            <a:r>
              <a:rPr b="0" lang="sk-SK" sz="2800" spc="-1" strike="noStrike" u="sng">
                <a:solidFill>
                  <a:srgbClr val="000000"/>
                </a:solidFill>
                <a:uFillTx/>
                <a:latin typeface="DejaVu Sans"/>
              </a:rPr>
              <a:t>Snižování nebezpečí</a:t>
            </a:r>
            <a:r>
              <a:rPr b="0" lang="sk-SK" sz="2800" spc="-1" strike="noStrike">
                <a:solidFill>
                  <a:srgbClr val="000000"/>
                </a:solidFill>
                <a:latin typeface="DejaVu Sans"/>
              </a:rPr>
              <a:t> z průmyslových a jiných činností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57276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DejaVu Sans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DejaVu Sans"/>
              </a:rPr>
              <a:t>pro životní prostředí a zároveň přispívat ke zvyšování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57276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DejaVu Sans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DejaVu Sans"/>
              </a:rPr>
              <a:t>efektivity podnikání a zachování trvale udržitelného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57276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DejaVu Sans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DejaVu Sans"/>
              </a:rPr>
              <a:t>rozvoje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57276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57276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57276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DejaVu Sans"/>
              </a:rPr>
              <a:t>2. </a:t>
            </a:r>
            <a:r>
              <a:rPr b="0" lang="cs-CZ" sz="2800" spc="-1" strike="noStrike">
                <a:solidFill>
                  <a:srgbClr val="000000"/>
                </a:solidFill>
                <a:latin typeface="DejaVu San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DejaVu Sans"/>
              </a:rPr>
              <a:t>Získání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DejaVu Sans"/>
              </a:rPr>
              <a:t>konkurenční výhody</a:t>
            </a:r>
            <a:r>
              <a:rPr b="0" lang="cs-CZ" sz="2800" spc="-1" strike="noStrike">
                <a:solidFill>
                  <a:srgbClr val="000000"/>
                </a:solidFill>
                <a:latin typeface="DejaVu Sans"/>
              </a:rPr>
              <a:t> nad ostatními konkurenty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57276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57276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57276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0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4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500"/>
                            </p:stCondLst>
                            <p:childTnLst>
                              <p:par>
                                <p:cTn id="24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2000"/>
                            </p:stCondLst>
                            <p:childTnLst>
                              <p:par>
                                <p:cTn id="25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2" dur="5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2500"/>
                            </p:stCondLst>
                            <p:childTnLst>
                              <p:par>
                                <p:cTn id="25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6" dur="500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440" y="0"/>
            <a:ext cx="10079280" cy="7559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000" spc="-1" strike="noStrike">
                <a:solidFill>
                  <a:srgbClr val="4c1900"/>
                </a:solidFill>
                <a:latin typeface="Times New Roman"/>
              </a:rPr>
              <a:t>EKOMARKETING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DejaVu Sans"/>
              </a:rPr>
              <a:t>Co je </a:t>
            </a:r>
            <a:r>
              <a:rPr b="1" lang="cs-CZ" sz="3200" spc="-1" strike="noStrike" u="sng">
                <a:solidFill>
                  <a:srgbClr val="000000"/>
                </a:solidFill>
                <a:uFillTx/>
                <a:latin typeface="DejaVu Sans"/>
              </a:rPr>
              <a:t>ekomarketing</a:t>
            </a:r>
            <a:r>
              <a:rPr b="0" lang="cs-CZ" sz="3200" spc="-1" strike="noStrike">
                <a:solidFill>
                  <a:srgbClr val="000000"/>
                </a:solidFill>
                <a:latin typeface="DejaVu San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DejaVu San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DejaVu Sans"/>
              </a:rPr>
              <a:t>- nebo </a:t>
            </a:r>
            <a:r>
              <a:rPr b="0" i="1" lang="cs-CZ" sz="2800" spc="-1" strike="noStrike">
                <a:solidFill>
                  <a:srgbClr val="000000"/>
                </a:solidFill>
                <a:latin typeface="DejaVu Sans"/>
              </a:rPr>
              <a:t>environmental marketing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DejaVu San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DejaVu Sans"/>
              </a:rPr>
              <a:t>- marketingová strategie, která staví na koncepci ekologicky přátelských (</a:t>
            </a:r>
            <a:r>
              <a:rPr b="0" i="1" lang="cs-CZ" sz="2800" spc="-1" strike="noStrike">
                <a:solidFill>
                  <a:srgbClr val="000000"/>
                </a:solidFill>
                <a:latin typeface="DejaVu Sans"/>
              </a:rPr>
              <a:t>environmentaly friendly</a:t>
            </a:r>
            <a:r>
              <a:rPr b="0" lang="cs-CZ" sz="2800" spc="-1" strike="noStrike">
                <a:solidFill>
                  <a:srgbClr val="000000"/>
                </a:solidFill>
                <a:latin typeface="DejaVu Sans"/>
              </a:rPr>
              <a:t>) hodnot, výrobků, postupů a služeb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500"/>
                            </p:stCondLst>
                            <p:childTnLst>
                              <p:par>
                                <p:cTn id="26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7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1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500"/>
                            </p:stCondLst>
                            <p:childTnLst>
                              <p:par>
                                <p:cTn id="27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5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440" y="0"/>
            <a:ext cx="10079280" cy="7559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k-SK" sz="4000" spc="-1" strike="noStrike">
                <a:solidFill>
                  <a:srgbClr val="4c1900"/>
                </a:solidFill>
                <a:latin typeface="Times New Roman"/>
              </a:rPr>
              <a:t>HLAVNÍ CÍLE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990720" indent="-533520">
              <a:lnSpc>
                <a:spcPct val="9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DejaVu San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DejaVu Sans"/>
              </a:rPr>
              <a:t>Vytvořit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DejaVu Sans"/>
              </a:rPr>
              <a:t>„zelené“ výrobky/služby</a:t>
            </a:r>
            <a:r>
              <a:rPr b="0" lang="cs-CZ" sz="2800" spc="-1" strike="noStrike">
                <a:solidFill>
                  <a:srgbClr val="000000"/>
                </a:solidFill>
                <a:latin typeface="DejaVu Sans"/>
              </a:rPr>
              <a:t>, kde je v efektivní výkon, cena, vhodnost a slučitelnost s principy ochrany životního prostředí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990720" indent="0">
              <a:lnSpc>
                <a:spcPct val="90000"/>
              </a:lnSpc>
              <a:spcAft>
                <a:spcPts val="1137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990720" indent="0">
              <a:lnSpc>
                <a:spcPct val="90000"/>
              </a:lnSpc>
              <a:spcAft>
                <a:spcPts val="1137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990720" indent="-533520">
              <a:lnSpc>
                <a:spcPct val="9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DejaVu San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DejaVu Sans"/>
              </a:rPr>
              <a:t>Vytvořit ve spotřebitelích představu</a:t>
            </a:r>
            <a:r>
              <a:rPr b="0" lang="cs-CZ" sz="2800" spc="-1" strike="noStrike">
                <a:solidFill>
                  <a:srgbClr val="000000"/>
                </a:solidFill>
                <a:latin typeface="DejaVu Sans"/>
              </a:rPr>
              <a:t>, že tyto výrobky/služby jsou jak vysoké kvality,tak citlivé vůči životnímu prostředí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500"/>
                            </p:stCondLst>
                            <p:childTnLst>
                              <p:par>
                                <p:cTn id="28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6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0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440" y="0"/>
            <a:ext cx="10079280" cy="7559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000" spc="-1" strike="noStrike">
                <a:solidFill>
                  <a:srgbClr val="4c1900"/>
                </a:solidFill>
                <a:latin typeface="Times New Roman"/>
              </a:rPr>
              <a:t>MARKETING pro životní prostředí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863640" indent="0">
              <a:lnSpc>
                <a:spcPct val="83000"/>
              </a:lnSpc>
              <a:spcAft>
                <a:spcPts val="1137"/>
              </a:spcAft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DejaVu Sans"/>
              </a:rPr>
              <a:t>Meffert a Kirchgeorge</a:t>
            </a:r>
            <a:r>
              <a:rPr b="1" lang="cs-CZ" sz="2400" spc="-1" strike="noStrike">
                <a:solidFill>
                  <a:srgbClr val="000000"/>
                </a:solidFill>
                <a:latin typeface="DejaVu Sans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0">
              <a:lnSpc>
                <a:spcPct val="83000"/>
              </a:lnSpc>
              <a:spcAft>
                <a:spcPts val="1137"/>
              </a:spcAft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DejaVu Sans"/>
              </a:rPr>
              <a:t>„</a:t>
            </a:r>
            <a:r>
              <a:rPr b="1" lang="cs-CZ" sz="2800" spc="-1" strike="noStrike">
                <a:solidFill>
                  <a:srgbClr val="000000"/>
                </a:solidFill>
                <a:latin typeface="DejaVu Sans"/>
              </a:rPr>
              <a:t>Marketing pro živ. prostředí</a:t>
            </a:r>
            <a:r>
              <a:rPr b="0" lang="cs-CZ" sz="2800" spc="-1" strike="noStrike">
                <a:solidFill>
                  <a:srgbClr val="000000"/>
                </a:solidFill>
                <a:latin typeface="DejaVu Sans"/>
              </a:rPr>
              <a:t> je základním předpo</a:t>
            </a:r>
            <a:r>
              <a:rPr b="0" lang="sk-SK" sz="2800" spc="-1" strike="noStrike">
                <a:solidFill>
                  <a:srgbClr val="000000"/>
                </a:solidFill>
                <a:latin typeface="DejaVu Sans"/>
              </a:rPr>
              <a:t>kladem pro proměnu konzumní společnosti na společnost trvale udržitelnou.“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0">
              <a:lnSpc>
                <a:spcPct val="83000"/>
              </a:lnSpc>
              <a:spcAft>
                <a:spcPts val="1137"/>
              </a:spcAft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0">
              <a:lnSpc>
                <a:spcPct val="83000"/>
              </a:lnSpc>
              <a:spcAft>
                <a:spcPts val="1137"/>
              </a:spcAft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0">
              <a:lnSpc>
                <a:spcPct val="83000"/>
              </a:lnSpc>
              <a:spcAft>
                <a:spcPts val="1137"/>
              </a:spcAft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DejaVu Sans"/>
              </a:rPr>
              <a:t>Jackie Ottman: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0">
              <a:lnSpc>
                <a:spcPct val="83000"/>
              </a:lnSpc>
              <a:spcAft>
                <a:spcPts val="1137"/>
              </a:spcAft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DejaVu Sans"/>
              </a:rPr>
              <a:t>„</a:t>
            </a:r>
            <a:r>
              <a:rPr b="1" lang="cs-CZ" sz="2800" spc="-1" strike="noStrike">
                <a:solidFill>
                  <a:srgbClr val="000000"/>
                </a:solidFill>
                <a:latin typeface="DejaVu Sans"/>
              </a:rPr>
              <a:t>Zelená</a:t>
            </a:r>
            <a:r>
              <a:rPr b="0" lang="cs-CZ" sz="2800" spc="-1" strike="noStrike">
                <a:solidFill>
                  <a:srgbClr val="000000"/>
                </a:solidFill>
                <a:latin typeface="DejaVu Sans"/>
              </a:rPr>
              <a:t> je nová přidaná hodnota.“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1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5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1500"/>
                            </p:stCondLst>
                            <p:childTnLst>
                              <p:par>
                                <p:cTn id="30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9" dur="5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3" dur="5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440" y="0"/>
            <a:ext cx="10079280" cy="7559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000" spc="-1" strike="noStrike">
                <a:solidFill>
                  <a:srgbClr val="4c1900"/>
                </a:solidFill>
                <a:latin typeface="Times New Roman"/>
              </a:rPr>
              <a:t>EKOMANAGEMENT ve světe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4720" y="1716120"/>
            <a:ext cx="9072720" cy="50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DejaVu Sans"/>
              </a:rPr>
              <a:t>THE BODY SHOP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-32364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DejaVu Sans"/>
              </a:rPr>
              <a:t>PATAGONIA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-32364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DejaVu Sans"/>
              </a:rPr>
              <a:t>SEVENTH GENERATION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-32364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DejaVu Sans"/>
              </a:rPr>
              <a:t>L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DejaVu Sans"/>
              </a:rPr>
              <a:t>OBLAW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5977080" y="1332000"/>
            <a:ext cx="2697120" cy="11905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3887640" y="2700360"/>
            <a:ext cx="2100240" cy="10285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6985080" y="2771640"/>
            <a:ext cx="1673280" cy="23860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5"/>
          <a:stretch/>
        </p:blipFill>
        <p:spPr>
          <a:xfrm>
            <a:off x="2879640" y="4859280"/>
            <a:ext cx="3108240" cy="130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0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4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000"/>
                            </p:stCondLst>
                            <p:childTnLst>
                              <p:par>
                                <p:cTn id="32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8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3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2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3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6" dur="50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440" y="0"/>
            <a:ext cx="10079280" cy="7559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96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000" spc="-1" strike="noStrike">
                <a:solidFill>
                  <a:srgbClr val="4c1900"/>
                </a:solidFill>
                <a:latin typeface="Times New Roman"/>
              </a:rPr>
              <a:t>EKOMANAGEMENT v ČR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76120" y="1557360"/>
            <a:ext cx="9475920" cy="51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418680" indent="-313920">
              <a:lnSpc>
                <a:spcPct val="9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DejaVu Sans"/>
              </a:rPr>
              <a:t>ČESKÉ EKOLOGICKÉ MANAŽERSKÉ CENTRUM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marL="4186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DejaVu San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DejaVu San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DejaVu Sans"/>
              </a:rPr>
              <a:t>	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DejaVu Sans"/>
              </a:rPr>
              <a:t>Prezident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4186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DejaVu Sans"/>
              </a:rPr>
              <a:t>	</a:t>
            </a:r>
            <a:r>
              <a:rPr b="1" lang="sk-SK" sz="2800" spc="-1" strike="noStrike">
                <a:solidFill>
                  <a:srgbClr val="000000"/>
                </a:solidFill>
                <a:latin typeface="DejaVu Sans"/>
              </a:rPr>
              <a:t>	</a:t>
            </a:r>
            <a:r>
              <a:rPr b="1" lang="sk-SK" sz="2800" spc="-1" strike="noStrike">
                <a:solidFill>
                  <a:srgbClr val="000000"/>
                </a:solidFill>
                <a:latin typeface="DejaVu Sans"/>
              </a:rPr>
              <a:t>	</a:t>
            </a:r>
            <a:r>
              <a:rPr b="1" lang="sk-SK" sz="2800" spc="-1" strike="noStrike">
                <a:solidFill>
                  <a:srgbClr val="000000"/>
                </a:solidFill>
                <a:latin typeface="DejaVu Sans"/>
              </a:rPr>
              <a:t>Ing. Jiří Dostál</a:t>
            </a:r>
            <a:r>
              <a:rPr b="0" lang="sk-SK" sz="2800" spc="-1" strike="noStrike">
                <a:solidFill>
                  <a:srgbClr val="000000"/>
                </a:solidFill>
                <a:latin typeface="DejaVu Sans"/>
              </a:rPr>
              <a:t>, generální ředitel, Kovohutě Příbram, a.s. 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4186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DejaVu San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DejaVu San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DejaVu Sans"/>
              </a:rPr>
              <a:t>	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DejaVu Sans"/>
              </a:rPr>
              <a:t>Viceprezident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4186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DejaVu Sans"/>
              </a:rPr>
              <a:t>	</a:t>
            </a:r>
            <a:r>
              <a:rPr b="1" lang="sk-SK" sz="2800" spc="-1" strike="noStrike">
                <a:solidFill>
                  <a:srgbClr val="000000"/>
                </a:solidFill>
                <a:latin typeface="DejaVu Sans"/>
              </a:rPr>
              <a:t>	</a:t>
            </a:r>
            <a:r>
              <a:rPr b="1" lang="sk-SK" sz="2800" spc="-1" strike="noStrike">
                <a:solidFill>
                  <a:srgbClr val="000000"/>
                </a:solidFill>
                <a:latin typeface="DejaVu Sans"/>
              </a:rPr>
              <a:t>	</a:t>
            </a:r>
            <a:r>
              <a:rPr b="1" lang="sk-SK" sz="2800" spc="-1" strike="noStrike">
                <a:solidFill>
                  <a:srgbClr val="000000"/>
                </a:solidFill>
                <a:latin typeface="DejaVu Sans"/>
              </a:rPr>
              <a:t>Ing. Zdeněk Hradil</a:t>
            </a:r>
            <a:r>
              <a:rPr b="0" lang="sk-SK" sz="2800" spc="-1" strike="noStrike">
                <a:solidFill>
                  <a:srgbClr val="000000"/>
                </a:solidFill>
                <a:latin typeface="DejaVu Sans"/>
              </a:rPr>
              <a:t>, odborný ředitel, ORGREZ, a.s. 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4186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DejaVu San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DejaVu San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DejaVu Sans"/>
              </a:rPr>
              <a:t>	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DejaVu Sans"/>
              </a:rPr>
              <a:t>Viceprezident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4186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DejaVu Sans"/>
              </a:rPr>
              <a:t>	</a:t>
            </a:r>
            <a:r>
              <a:rPr b="1" lang="sk-SK" sz="2800" spc="-1" strike="noStrike">
                <a:solidFill>
                  <a:srgbClr val="000000"/>
                </a:solidFill>
                <a:latin typeface="DejaVu Sans"/>
              </a:rPr>
              <a:t>	</a:t>
            </a:r>
            <a:r>
              <a:rPr b="1" lang="sk-SK" sz="2800" spc="-1" strike="noStrike">
                <a:solidFill>
                  <a:srgbClr val="000000"/>
                </a:solidFill>
                <a:latin typeface="DejaVu Sans"/>
              </a:rPr>
              <a:t>	</a:t>
            </a:r>
            <a:r>
              <a:rPr b="1" lang="sk-SK" sz="2800" spc="-1" strike="noStrike">
                <a:solidFill>
                  <a:srgbClr val="000000"/>
                </a:solidFill>
                <a:latin typeface="DejaVu Sans"/>
              </a:rPr>
              <a:t>Ing. Josef Petr Ph.Dr., </a:t>
            </a:r>
            <a:r>
              <a:rPr b="0" lang="sk-SK" sz="2800" spc="-1" strike="noStrike">
                <a:solidFill>
                  <a:srgbClr val="000000"/>
                </a:solidFill>
                <a:latin typeface="DejaVu Sans"/>
              </a:rPr>
              <a:t>vedoucí odboru procesní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4186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DejaVu Sans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DejaVu Sans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DejaVu Sans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DejaVu Sans"/>
              </a:rPr>
              <a:t>bezpečnosti, inspekce a ostrahy, Hexion Specialty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4186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DejaVu Sans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DejaVu Sans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DejaVu Sans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DejaVu Sans"/>
              </a:rPr>
              <a:t>Chemicals, a.s. 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272360" y="466560"/>
            <a:ext cx="2539800" cy="7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0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500"/>
                            </p:stCondLst>
                            <p:childTnLst>
                              <p:par>
                                <p:cTn id="34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7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1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500"/>
                            </p:stCondLst>
                            <p:childTnLst>
                              <p:par>
                                <p:cTn id="35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2000"/>
                            </p:stCondLst>
                            <p:childTnLst>
                              <p:par>
                                <p:cTn id="35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9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500"/>
                            </p:stCondLst>
                            <p:childTnLst>
                              <p:par>
                                <p:cTn id="36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3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3000"/>
                            </p:stCondLst>
                            <p:childTnLst>
                              <p:par>
                                <p:cTn id="36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7" dur="5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3500"/>
                            </p:stCondLst>
                            <p:childTnLst>
                              <p:par>
                                <p:cTn id="36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1" dur="5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4000"/>
                            </p:stCondLst>
                            <p:childTnLst>
                              <p:par>
                                <p:cTn id="37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5" dur="500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4500"/>
                            </p:stCondLst>
                            <p:childTnLst>
                              <p:par>
                                <p:cTn id="37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9" dur="500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440" y="0"/>
            <a:ext cx="10079280" cy="7559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7" name=""/>
          <p:cNvSpPr/>
          <p:nvPr/>
        </p:nvSpPr>
        <p:spPr>
          <a:xfrm>
            <a:off x="900000" y="3959280"/>
            <a:ext cx="5400720" cy="23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000" spc="-1" strike="noStrike">
                <a:solidFill>
                  <a:srgbClr val="4c1900"/>
                </a:solidFill>
                <a:latin typeface="Times New Roman"/>
              </a:rPr>
              <a:t>3. ČÁST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16000" y="1547640"/>
            <a:ext cx="89280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lvl="1" marL="574560" indent="-358560" algn="ctr">
              <a:lnSpc>
                <a:spcPct val="63000"/>
              </a:lnSpc>
              <a:spcAft>
                <a:spcPts val="1137"/>
              </a:spcAft>
              <a:buSzPct val="100000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UMMIT ZEMĚ 2002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0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0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0"/>
            <a:ext cx="10078920" cy="7559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4c1900"/>
                </a:solidFill>
                <a:latin typeface="Times New Roman"/>
                <a:ea typeface="Lucida Sans Unicode"/>
              </a:rPr>
              <a:t>S</a:t>
            </a:r>
            <a:r>
              <a:rPr b="1" lang="cs-CZ" sz="4000" spc="-1" strike="noStrike">
                <a:solidFill>
                  <a:srgbClr val="4c1900"/>
                </a:solidFill>
                <a:latin typeface="Times New Roman"/>
                <a:ea typeface="Lucida Sans Unicode"/>
              </a:rPr>
              <a:t>UMMIT </a:t>
            </a:r>
            <a:r>
              <a:rPr b="1" lang="cs-CZ" sz="4000" spc="-1" strike="noStrike">
                <a:solidFill>
                  <a:srgbClr val="4c1900"/>
                </a:solidFill>
                <a:latin typeface="Times New Roman"/>
              </a:rPr>
              <a:t>ZEMĚ </a:t>
            </a:r>
            <a:r>
              <a:rPr b="1" lang="en-GB" sz="4000" spc="-1" strike="noStrike">
                <a:solidFill>
                  <a:srgbClr val="4c1900"/>
                </a:solidFill>
                <a:latin typeface="Times New Roman"/>
                <a:ea typeface="Lucida Sans Unicode"/>
              </a:rPr>
              <a:t>2002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360360" y="1260000"/>
            <a:ext cx="9360000" cy="57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Pořadatel: OSN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8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8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Místo konání: Johannesburg (JAR)</a:t>
            </a: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8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8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Počet zúčastněných zemí: 178 (i ČR)</a:t>
            </a: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8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8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Cíl: </a:t>
            </a: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Zhodnocení naplňování závazků Z Ria (1992)</a:t>
            </a: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8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Schválení Implementačního plánu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4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8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2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6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0" dur="5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40" y="0"/>
            <a:ext cx="10079280" cy="7559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000" spc="-1" strike="noStrike">
                <a:solidFill>
                  <a:srgbClr val="4c1900"/>
                </a:solidFill>
                <a:latin typeface="Times New Roman"/>
              </a:rPr>
              <a:t>OBSAH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16000" y="1547640"/>
            <a:ext cx="89280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lvl="1" marL="749160" indent="-533160">
              <a:lnSpc>
                <a:spcPct val="63000"/>
              </a:lnSpc>
              <a:spcAft>
                <a:spcPts val="1137"/>
              </a:spcAft>
              <a:buClr>
                <a:srgbClr val="000000"/>
              </a:buClr>
              <a:buSzPct val="78000"/>
              <a:buFont typeface="DejaVu Sans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DejaVu Sans"/>
              </a:rPr>
              <a:t>Teorie trvale udržitelného rozvoje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749160" indent="0">
              <a:lnSpc>
                <a:spcPct val="63000"/>
              </a:lnSpc>
              <a:spcAft>
                <a:spcPts val="1137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749160" indent="-533160">
              <a:lnSpc>
                <a:spcPct val="63000"/>
              </a:lnSpc>
              <a:spcAft>
                <a:spcPts val="1137"/>
              </a:spcAft>
              <a:buClr>
                <a:srgbClr val="000000"/>
              </a:buClr>
              <a:buSzPct val="78000"/>
              <a:buFont typeface="DejaVu Sans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DejaVu Sans"/>
              </a:rPr>
              <a:t>Ekomanagement a ekomarketing v praxi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749160" indent="0">
              <a:lnSpc>
                <a:spcPct val="63000"/>
              </a:lnSpc>
              <a:spcAft>
                <a:spcPts val="1137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749160" indent="-533160">
              <a:lnSpc>
                <a:spcPct val="63000"/>
              </a:lnSpc>
              <a:spcAft>
                <a:spcPts val="1137"/>
              </a:spcAft>
              <a:buClr>
                <a:srgbClr val="000000"/>
              </a:buClr>
              <a:buSzPct val="78000"/>
              <a:buFont typeface="DejaVu Sans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DejaVu Sans"/>
              </a:rPr>
              <a:t>Sumit 2002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440" y="0"/>
            <a:ext cx="10079280" cy="7559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2920" y="307440"/>
            <a:ext cx="907092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000" spc="-1" strike="noStrike">
                <a:solidFill>
                  <a:srgbClr val="4c1900"/>
                </a:solidFill>
                <a:latin typeface="Times New Roman"/>
              </a:rPr>
              <a:t>KLÍČOVÉ BODY SCHVÁLENÉHO IMPLEMENTAČNÍHO PLÁNU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DejaVu Sans"/>
              </a:rPr>
              <a:t>1. VODA/SANITÁRNÍ ZAŘÍZENÍ</a:t>
            </a:r>
            <a:endParaRPr b="0" lang="en-US" sz="22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8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DejaVu Sans"/>
              </a:rPr>
              <a:t>2. ENERGIE</a:t>
            </a:r>
            <a:endParaRPr b="0" lang="en-US" sz="22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8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DejaVu Sans"/>
              </a:rPr>
              <a:t>3. RYBY</a:t>
            </a:r>
            <a:endParaRPr b="0" lang="en-US" sz="22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8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DejaVu Sans"/>
              </a:rPr>
              <a:t>4. CHEMICKÉ LÁTKY</a:t>
            </a:r>
            <a:endParaRPr b="0" lang="en-US" sz="22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8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DejaVu Sans"/>
              </a:rPr>
              <a:t>5. ZDRAVÍ</a:t>
            </a:r>
            <a:endParaRPr b="0" lang="en-US" sz="22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8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DejaVu Sans"/>
              </a:rPr>
              <a:t>6. ŽENY</a:t>
            </a:r>
            <a:endParaRPr b="0" lang="en-US" sz="22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8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DejaVu Sans"/>
              </a:rPr>
              <a:t>7. POMOC</a:t>
            </a:r>
            <a:endParaRPr b="0" lang="en-US" sz="22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8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DejaVu Sans"/>
              </a:rPr>
              <a:t>8. GLOBALIZACE</a:t>
            </a:r>
            <a:endParaRPr b="0" lang="en-US" sz="22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8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DejaVu Sans"/>
              </a:rPr>
              <a:t>9. OBCHOD</a:t>
            </a:r>
            <a:endParaRPr b="0" lang="en-US" sz="22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8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DejaVu Sans"/>
              </a:rPr>
              <a:t>10. BIOLOGICKÁ DIVERZITA</a:t>
            </a:r>
            <a:endParaRPr b="0" lang="en-US" sz="22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8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DejaVu Sans"/>
              </a:rPr>
              <a:t>11. VLÁDNUTÍ</a:t>
            </a:r>
            <a:endParaRPr b="0" lang="en-US" sz="22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8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DejaVu Sans"/>
              </a:rPr>
              <a:t>12. STRATEGIE</a:t>
            </a:r>
            <a:endParaRPr b="0" lang="en-US" sz="22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8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DejaVu Sans"/>
              </a:rPr>
              <a:t>13. CHUDOBA</a:t>
            </a:r>
            <a:endParaRPr b="0" lang="en-US" sz="22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8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DejaVu Sans"/>
              </a:rPr>
              <a:t>14. PŘEDBĚŽNÁ OPATRNOST</a:t>
            </a:r>
            <a:endParaRPr b="0" lang="en-US" sz="22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8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DejaVu Sans"/>
              </a:rPr>
              <a:t>15. SPOLEČNÁ, ALE DIFERENCOVANÁ ODPOVĚDNOST</a:t>
            </a:r>
            <a:endParaRPr b="0" lang="en-US" sz="2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0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1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5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9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3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7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1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3500"/>
                            </p:stCondLst>
                            <p:childTnLst>
                              <p:par>
                                <p:cTn id="45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5" dur="5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4000"/>
                            </p:stCondLst>
                            <p:childTnLst>
                              <p:par>
                                <p:cTn id="45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9" dur="5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4500"/>
                            </p:stCondLst>
                            <p:childTnLst>
                              <p:par>
                                <p:cTn id="46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3" dur="500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5000"/>
                            </p:stCondLst>
                            <p:childTnLst>
                              <p:par>
                                <p:cTn id="46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7" dur="500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5500"/>
                            </p:stCondLst>
                            <p:childTnLst>
                              <p:par>
                                <p:cTn id="46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1" dur="500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6000"/>
                            </p:stCondLst>
                            <p:childTnLst>
                              <p:par>
                                <p:cTn id="47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5" dur="500"/>
                                        <p:tgtEl>
                                          <p:spTgt spid="1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6500"/>
                            </p:stCondLst>
                            <p:childTnLst>
                              <p:par>
                                <p:cTn id="47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9" dur="500"/>
                                        <p:tgtEl>
                                          <p:spTgt spid="1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7000"/>
                            </p:stCondLst>
                            <p:childTnLst>
                              <p:par>
                                <p:cTn id="48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3" dur="500"/>
                                        <p:tgtEl>
                                          <p:spTgt spid="11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7500"/>
                            </p:stCondLst>
                            <p:childTnLst>
                              <p:par>
                                <p:cTn id="48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7" dur="500"/>
                                        <p:tgtEl>
                                          <p:spTgt spid="11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440" y="0"/>
            <a:ext cx="10079280" cy="7559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000" spc="-1" strike="noStrike">
                <a:solidFill>
                  <a:srgbClr val="4c1900"/>
                </a:solidFill>
                <a:latin typeface="Times New Roman"/>
              </a:rPr>
              <a:t>EMISE CO</a:t>
            </a:r>
            <a:r>
              <a:rPr b="0" lang="en-GB" sz="4000" spc="-1" strike="noStrike" baseline="-33000">
                <a:solidFill>
                  <a:srgbClr val="000000"/>
                </a:solidFill>
                <a:latin typeface="Arial"/>
                <a:ea typeface="Lucida Sans Unicode"/>
              </a:rPr>
              <a:t>2</a:t>
            </a:r>
            <a:r>
              <a:rPr b="0" lang="cs-CZ" sz="4000" spc="-1" strike="noStrike" baseline="-33000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1" lang="cs-CZ" sz="4000" spc="-1" strike="noStrike">
                <a:solidFill>
                  <a:srgbClr val="4c1900"/>
                </a:solidFill>
                <a:latin typeface="Times New Roman"/>
              </a:rPr>
              <a:t>NA OBYVATELE 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1619280" y="2160720"/>
            <a:ext cx="6480000" cy="4308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500"/>
                            </p:stCondLst>
                            <p:childTnLst>
                              <p:par>
                                <p:cTn id="49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440" y="0"/>
            <a:ext cx="10079280" cy="7559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000" spc="-1" strike="noStrike">
                <a:solidFill>
                  <a:srgbClr val="4c1900"/>
                </a:solidFill>
                <a:latin typeface="Times New Roman"/>
              </a:rPr>
              <a:t>HLAVNÍ STRATEGICKÉ CÍLE ČR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68360" y="1730520"/>
            <a:ext cx="9252000" cy="50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DejaVu Sans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trvalý sociální a ekonomický rozvoj, který zabezpečí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8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DejaVu Sans"/>
              </a:rPr>
              <a:t>     </a:t>
            </a: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nezbytné potřeby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83000"/>
              </a:lnSpc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8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DejaVu Sans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integrace aspektů životního prostředí do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8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DejaVu Sans"/>
              </a:rPr>
              <a:t>     </a:t>
            </a: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ekonomického systému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83000"/>
              </a:lnSpc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8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DejaVu Sans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přechod k udržitelnému systému hospodaření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8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DejaVu Sans"/>
              </a:rPr>
              <a:t>     </a:t>
            </a: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DejaVu San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energií, co největší podíl recyklace materiálu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83000"/>
              </a:lnSpc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8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DejaVu Sans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podpora přírodě blízkého hospodaření v krajině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83000"/>
              </a:lnSpc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0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500"/>
                            </p:stCondLst>
                            <p:childTnLst>
                              <p:par>
                                <p:cTn id="50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9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3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1500"/>
                            </p:stCondLst>
                            <p:childTnLst>
                              <p:par>
                                <p:cTn id="51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7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2000"/>
                            </p:stCondLst>
                            <p:childTnLst>
                              <p:par>
                                <p:cTn id="51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1" dur="5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2500"/>
                            </p:stCondLst>
                            <p:childTnLst>
                              <p:par>
                                <p:cTn id="52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5" dur="500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3000"/>
                            </p:stCondLst>
                            <p:childTnLst>
                              <p:par>
                                <p:cTn id="52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9" dur="500"/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3500"/>
                            </p:stCondLst>
                            <p:childTnLst>
                              <p:par>
                                <p:cTn id="53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3" dur="500"/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440" y="0"/>
            <a:ext cx="10079280" cy="7559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000" spc="-1" strike="noStrike">
                <a:solidFill>
                  <a:srgbClr val="4c1900"/>
                </a:solidFill>
                <a:latin typeface="Times New Roman"/>
              </a:rPr>
              <a:t>HLAVNÍ STRATEGICKÉ CÍLE ČR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DejaVu Sans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zachování a rozvíjení harmonické, plošně úsporné sídelní struktury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83000"/>
              </a:lnSpc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8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DejaVu Sans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podpora místním Agendám 21, demokratickým a participativním formám rozhodování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83000"/>
              </a:lnSpc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8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DejaVu Sans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integrace vzdělávání, výchovy a osvěty k udržitelnému rozvoji do společenského systému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0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500"/>
                            </p:stCondLst>
                            <p:childTnLst>
                              <p:par>
                                <p:cTn id="54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4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1000"/>
                            </p:stCondLst>
                            <p:childTnLst>
                              <p:par>
                                <p:cTn id="54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8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1500"/>
                            </p:stCondLst>
                            <p:childTnLst>
                              <p:par>
                                <p:cTn id="55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2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440" y="0"/>
            <a:ext cx="10079280" cy="7559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000" spc="-1" strike="noStrike">
                <a:solidFill>
                  <a:srgbClr val="4c1900"/>
                </a:solidFill>
                <a:latin typeface="Times New Roman"/>
              </a:rPr>
              <a:t>VYSVĚDČENÍ GREENPEACE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009440" y="183528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Energie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8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Diverzita pralesů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8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Zemědělství a genetické inženýrství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8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Jedy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8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Oceány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8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Obchod a rozvojová pomoc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8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8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ORTEL: </a:t>
            </a:r>
            <a:r>
              <a:rPr b="1" lang="en-US" sz="3200" spc="-1" strike="noStrike">
                <a:solidFill>
                  <a:srgbClr val="ff0000"/>
                </a:solidFill>
                <a:latin typeface="DejaVu Sans"/>
              </a:rPr>
              <a:t>NEPROSPĚ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0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500"/>
                            </p:stCondLst>
                            <p:childTnLst>
                              <p:par>
                                <p:cTn id="56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3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1000"/>
                            </p:stCondLst>
                            <p:childTnLst>
                              <p:par>
                                <p:cTn id="56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7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1500"/>
                            </p:stCondLst>
                            <p:childTnLst>
                              <p:par>
                                <p:cTn id="56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1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2000"/>
                            </p:stCondLst>
                            <p:childTnLst>
                              <p:par>
                                <p:cTn id="57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5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2500"/>
                            </p:stCondLst>
                            <p:childTnLst>
                              <p:par>
                                <p:cTn id="57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9" dur="5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3000"/>
                            </p:stCondLst>
                            <p:childTnLst>
                              <p:par>
                                <p:cTn id="58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3" dur="5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3500"/>
                            </p:stCondLst>
                            <p:childTnLst>
                              <p:par>
                                <p:cTn id="58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7" dur="500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10078920" cy="7559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000" spc="-1" strike="noStrike">
                <a:solidFill>
                  <a:srgbClr val="4c1900"/>
                </a:solidFill>
                <a:latin typeface="Times New Roman"/>
              </a:rPr>
              <a:t>LITERATURA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04360" y="1332000"/>
            <a:ext cx="9068040" cy="59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401400" indent="-300960">
              <a:lnSpc>
                <a:spcPct val="8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DejaVu Sans"/>
              </a:rPr>
              <a:t>STEAD, W.E., STEAD, J.G. Management pro malou planetu. Praha: GplusG, 1998. ISBN 80-86103-15-3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401400" indent="-300960">
              <a:lnSpc>
                <a:spcPct val="8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DejaVu Sans"/>
              </a:rPr>
              <a:t>Practical Guide to Environmental Management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401400" indent="-300960">
              <a:lnSpc>
                <a:spcPct val="8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DejaVu Sans"/>
              </a:rPr>
              <a:t>http://books.google.com/books?id=seUVusy2uw8C&amp;printsec=frontcover&amp;dq=environmental+management&amp;hl=sk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401400" indent="-300960">
              <a:lnSpc>
                <a:spcPct val="8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DejaVu Sans"/>
              </a:rPr>
              <a:t>http://www.patagonia.com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401400" indent="-300960">
              <a:lnSpc>
                <a:spcPct val="8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DejaVu Sans"/>
              </a:rPr>
              <a:t>http://www.bodyshop.com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401400" indent="-300960">
              <a:lnSpc>
                <a:spcPct val="8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DejaVu Sans"/>
              </a:rPr>
              <a:t>http://www.seventhgeneration.com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401400" indent="-300960">
              <a:lnSpc>
                <a:spcPct val="8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DejaVu Sans"/>
              </a:rPr>
              <a:t>http://www.loblaw.ca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401400" indent="-300960">
              <a:lnSpc>
                <a:spcPct val="8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DejaVu Sans"/>
              </a:rPr>
              <a:t>http://www.cemc.cz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401400" indent="-300960">
              <a:lnSpc>
                <a:spcPct val="6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DejaVu Sans"/>
              </a:rPr>
              <a:t>http://www.mzp.cz/AIS/web-news.nsf/f896d23fe2b34882c1256e87005c6603/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401400" indent="0">
              <a:lnSpc>
                <a:spcPct val="6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DejaVu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DejaVu Sans"/>
              </a:rPr>
              <a:t>e313b71288700dabc1256bd5002f4fd4?OpenDocumen</a:t>
            </a:r>
            <a:r>
              <a:rPr b="0" lang="cs-CZ" sz="2000" spc="-1" strike="noStrike">
                <a:solidFill>
                  <a:srgbClr val="000000"/>
                </a:solidFill>
                <a:latin typeface="DejaVu Sans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401400" indent="-300960">
              <a:lnSpc>
                <a:spcPct val="6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DejaVu Sans"/>
              </a:rPr>
              <a:t>http:// www.ekolist.Cz/summit.stm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401400" indent="-300960">
              <a:lnSpc>
                <a:spcPct val="6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DejaVu Sans"/>
              </a:rPr>
              <a:t>http://www.ekolist.cz/sum-about.shtml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401400" indent="-300960">
              <a:lnSpc>
                <a:spcPct val="6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DejaVu Sans"/>
              </a:rPr>
              <a:t>http://www.hnutiduha.cz/publikace/WSSD.pdf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401400" indent="-300960">
              <a:lnSpc>
                <a:spcPct val="6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DejaVu Sans"/>
              </a:rPr>
              <a:t>http://archive.greenpeace.org/earthsummit/report_card/index.html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fill="hold">
                      <p:stCondLst>
                        <p:cond delay="0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500"/>
                            </p:stCondLst>
                            <p:childTnLst>
                              <p:par>
                                <p:cTn id="59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8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1000"/>
                            </p:stCondLst>
                            <p:childTnLst>
                              <p:par>
                                <p:cTn id="60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2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1500"/>
                            </p:stCondLst>
                            <p:childTnLst>
                              <p:par>
                                <p:cTn id="60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6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2000"/>
                            </p:stCondLst>
                            <p:childTnLst>
                              <p:par>
                                <p:cTn id="6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0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2500"/>
                            </p:stCondLst>
                            <p:childTnLst>
                              <p:par>
                                <p:cTn id="61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4" dur="5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3000"/>
                            </p:stCondLst>
                            <p:childTnLst>
                              <p:par>
                                <p:cTn id="61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8" dur="5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3500"/>
                            </p:stCondLst>
                            <p:childTnLst>
                              <p:par>
                                <p:cTn id="62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2" dur="50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4000"/>
                            </p:stCondLst>
                            <p:childTnLst>
                              <p:par>
                                <p:cTn id="62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6" dur="5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4500"/>
                            </p:stCondLst>
                            <p:childTnLst>
                              <p:par>
                                <p:cTn id="62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0" dur="500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5000"/>
                            </p:stCondLst>
                            <p:childTnLst>
                              <p:par>
                                <p:cTn id="6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4" dur="500"/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5500"/>
                            </p:stCondLst>
                            <p:childTnLst>
                              <p:par>
                                <p:cTn id="63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8" dur="500"/>
                                        <p:tgtEl>
                                          <p:spTgt spid="1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6000"/>
                            </p:stCondLst>
                            <p:childTnLst>
                              <p:par>
                                <p:cTn id="64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2" dur="500"/>
                                        <p:tgtEl>
                                          <p:spTgt spid="1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6500"/>
                            </p:stCondLst>
                            <p:childTnLst>
                              <p:par>
                                <p:cTn id="64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6" dur="500"/>
                                        <p:tgtEl>
                                          <p:spTgt spid="13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7000"/>
                            </p:stCondLst>
                            <p:childTnLst>
                              <p:par>
                                <p:cTn id="64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0" dur="500"/>
                                        <p:tgtEl>
                                          <p:spTgt spid="13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60000" y="3239640"/>
            <a:ext cx="604836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000" spc="-1" strike="noStrike">
                <a:solidFill>
                  <a:srgbClr val="4c1900"/>
                </a:solidFill>
                <a:latin typeface="Times New Roman"/>
              </a:rPr>
              <a:t>Děkujeme</a:t>
            </a:r>
            <a:r>
              <a:rPr b="1" lang="en-GB" sz="4000" spc="-1" strike="noStrike">
                <a:solidFill>
                  <a:srgbClr val="4c1900"/>
                </a:solidFill>
                <a:latin typeface="Times New Roman"/>
              </a:rPr>
              <a:t> </a:t>
            </a:r>
            <a:r>
              <a:rPr b="1" lang="cs-CZ" sz="4000" spc="-1" strike="noStrike">
                <a:solidFill>
                  <a:srgbClr val="4c1900"/>
                </a:solidFill>
                <a:latin typeface="Times New Roman"/>
              </a:rPr>
              <a:t>Vám za</a:t>
            </a:r>
            <a:r>
              <a:rPr b="1" lang="en-GB" sz="4000" spc="-1" strike="noStrike">
                <a:solidFill>
                  <a:srgbClr val="4c1900"/>
                </a:solidFill>
                <a:latin typeface="Times New Roman"/>
              </a:rPr>
              <a:t> pozornost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fill="hold">
                      <p:stCondLst>
                        <p:cond delay="0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440" y="0"/>
            <a:ext cx="10079280" cy="7559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8" name=""/>
          <p:cNvSpPr/>
          <p:nvPr/>
        </p:nvSpPr>
        <p:spPr>
          <a:xfrm>
            <a:off x="900000" y="3959280"/>
            <a:ext cx="5400720" cy="23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000" spc="-1" strike="noStrike">
                <a:solidFill>
                  <a:srgbClr val="4c1900"/>
                </a:solidFill>
                <a:latin typeface="Times New Roman"/>
              </a:rPr>
              <a:t>1. ČÁST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16000" y="1547640"/>
            <a:ext cx="89280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lvl="1" marL="574560" indent="-358560" algn="ctr">
              <a:lnSpc>
                <a:spcPct val="63000"/>
              </a:lnSpc>
              <a:spcAft>
                <a:spcPts val="1137"/>
              </a:spcAft>
              <a:buSzPct val="100000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ORIE UDRŽITELNÉHO ROZVOJE (STEAD)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440" y="0"/>
            <a:ext cx="10079280" cy="7559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2" name=""/>
          <p:cNvSpPr/>
          <p:nvPr/>
        </p:nvSpPr>
        <p:spPr>
          <a:xfrm>
            <a:off x="900000" y="3959280"/>
            <a:ext cx="5400720" cy="23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000" spc="-1" strike="noStrike">
                <a:solidFill>
                  <a:srgbClr val="4c1900"/>
                </a:solidFill>
                <a:latin typeface="Times New Roman"/>
              </a:rPr>
              <a:t>ÚVOD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16000" y="1547640"/>
            <a:ext cx="89280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lvl="1" marL="574560" indent="-358560">
              <a:lnSpc>
                <a:spcPct val="63000"/>
              </a:lnSpc>
              <a:spcAft>
                <a:spcPts val="1137"/>
              </a:spcAft>
              <a:buSzPct val="100000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DejaVu Sans"/>
              </a:rPr>
              <a:t>Země jako živý systém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574560" indent="0">
              <a:lnSpc>
                <a:spcPct val="63000"/>
              </a:lnSpc>
              <a:spcAft>
                <a:spcPts val="1137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574560" indent="-358560">
              <a:lnSpc>
                <a:spcPct val="63000"/>
              </a:lnSpc>
              <a:spcAft>
                <a:spcPts val="1137"/>
              </a:spcAft>
              <a:buSzPct val="100000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DejaVu Sans"/>
              </a:rPr>
              <a:t>Vnímání lidí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574560" indent="0">
              <a:lnSpc>
                <a:spcPct val="63000"/>
              </a:lnSpc>
              <a:spcAft>
                <a:spcPts val="1137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574560" indent="-358560">
              <a:lnSpc>
                <a:spcPct val="63000"/>
              </a:lnSpc>
              <a:spcAft>
                <a:spcPts val="1137"/>
              </a:spcAft>
              <a:buSzPct val="100000"/>
              <a:buBlip>
                <a:blip r:embed="rId4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DejaVu Sans"/>
              </a:rPr>
              <a:t>Manažerské rozhodování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574560" indent="0">
              <a:lnSpc>
                <a:spcPct val="63000"/>
              </a:lnSpc>
              <a:spcAft>
                <a:spcPts val="1137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574560" indent="0">
              <a:lnSpc>
                <a:spcPct val="63000"/>
              </a:lnSpc>
              <a:spcAft>
                <a:spcPts val="1137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440" y="0"/>
            <a:ext cx="10079280" cy="7559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655640" y="1476360"/>
            <a:ext cx="6121440" cy="58644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000" spc="-1" strike="noStrike">
                <a:solidFill>
                  <a:srgbClr val="4c1900"/>
                </a:solidFill>
                <a:latin typeface="Times New Roman"/>
              </a:rPr>
              <a:t>KOLO PROBLÉMŮ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16000" y="1547640"/>
            <a:ext cx="89280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cs-CZ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440" y="0"/>
            <a:ext cx="10079280" cy="7559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0" name=""/>
          <p:cNvSpPr/>
          <p:nvPr/>
        </p:nvSpPr>
        <p:spPr>
          <a:xfrm>
            <a:off x="900000" y="3959280"/>
            <a:ext cx="5400720" cy="23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000" spc="-1" strike="noStrike">
                <a:solidFill>
                  <a:srgbClr val="4c1900"/>
                </a:solidFill>
                <a:latin typeface="Times New Roman"/>
              </a:rPr>
              <a:t>EKONOMICKÝ RŮST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16000" y="1547640"/>
            <a:ext cx="89280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lvl="1" marL="574560" indent="-358560">
              <a:lnSpc>
                <a:spcPct val="63000"/>
              </a:lnSpc>
              <a:spcAft>
                <a:spcPts val="1137"/>
              </a:spcAft>
              <a:buSzPct val="100000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DejaVu Sans"/>
              </a:rPr>
              <a:t>Schumacher: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574560" indent="0">
              <a:lnSpc>
                <a:spcPct val="6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DejaVu San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574560" indent="0">
              <a:lnSpc>
                <a:spcPct val="6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DejaVu Sans"/>
              </a:rPr>
              <a:t>	</a:t>
            </a:r>
            <a:r>
              <a:rPr b="0" i="1" lang="cs-CZ" sz="2800" spc="-1" strike="noStrike">
                <a:solidFill>
                  <a:srgbClr val="000000"/>
                </a:solidFill>
                <a:latin typeface="DejaVu Sans"/>
              </a:rPr>
              <a:t>„</a:t>
            </a:r>
            <a:r>
              <a:rPr b="0" i="1" lang="cs-CZ" sz="2800" spc="-1" strike="noStrike">
                <a:solidFill>
                  <a:srgbClr val="000000"/>
                </a:solidFill>
                <a:latin typeface="DejaVu Sans"/>
              </a:rPr>
              <a:t>Jak si může někdo myslet, že růst je (vždy)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574560" indent="0">
              <a:lnSpc>
                <a:spcPct val="6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DejaVu Sans"/>
              </a:rPr>
              <a:t>	</a:t>
            </a:r>
            <a:r>
              <a:rPr b="0" i="1" lang="cs-CZ" sz="2800" spc="-1" strike="noStrike">
                <a:solidFill>
                  <a:srgbClr val="000000"/>
                </a:solidFill>
                <a:latin typeface="DejaVu Sans"/>
              </a:rPr>
              <a:t>dobrá věc? Pokud rostou mé děti, je to velmi dobré;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574560" indent="0">
              <a:lnSpc>
                <a:spcPct val="6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DejaVu Sans"/>
              </a:rPr>
              <a:t>	</a:t>
            </a:r>
            <a:r>
              <a:rPr b="0" i="1" lang="cs-CZ" sz="2800" spc="-1" strike="noStrike">
                <a:solidFill>
                  <a:srgbClr val="000000"/>
                </a:solidFill>
                <a:latin typeface="DejaVu Sans"/>
              </a:rPr>
              <a:t>kdybych já začal najednou růst, byla by to katastrofa…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574560" indent="0">
              <a:lnSpc>
                <a:spcPct val="6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574560" indent="0">
              <a:lnSpc>
                <a:spcPct val="6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DejaVu Sans"/>
              </a:rPr>
              <a:t>	</a:t>
            </a:r>
            <a:r>
              <a:rPr b="0" i="1" lang="cs-CZ" sz="2800" spc="-1" strike="noStrike">
                <a:solidFill>
                  <a:srgbClr val="000000"/>
                </a:solidFill>
                <a:latin typeface="DejaVu Sans"/>
              </a:rPr>
              <a:t>Proto je kvalitativní rozlišování hlavní věcí; je mnohem 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574560" indent="0">
              <a:lnSpc>
                <a:spcPct val="6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DejaVu Sans"/>
              </a:rPr>
              <a:t>	</a:t>
            </a:r>
            <a:r>
              <a:rPr b="0" i="1" lang="cs-CZ" sz="2800" spc="-1" strike="noStrike">
                <a:solidFill>
                  <a:srgbClr val="000000"/>
                </a:solidFill>
                <a:latin typeface="DejaVu Sans"/>
              </a:rPr>
              <a:t>důležitější než tajemné přičítání všeho.“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500"/>
                            </p:stCondLst>
                            <p:childTnLst>
                              <p:par>
                                <p:cTn id="7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500"/>
                            </p:stCondLst>
                            <p:childTnLst>
                              <p:par>
                                <p:cTn id="8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3000"/>
                            </p:stCondLst>
                            <p:childTnLst>
                              <p:par>
                                <p:cTn id="9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3500"/>
                            </p:stCondLst>
                            <p:childTnLst>
                              <p:par>
                                <p:cTn id="9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440" y="0"/>
            <a:ext cx="10079280" cy="7559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4" name=""/>
          <p:cNvSpPr/>
          <p:nvPr/>
        </p:nvSpPr>
        <p:spPr>
          <a:xfrm>
            <a:off x="900000" y="3959280"/>
            <a:ext cx="5400720" cy="23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000" spc="-1" strike="noStrike">
                <a:solidFill>
                  <a:srgbClr val="4c1900"/>
                </a:solidFill>
                <a:latin typeface="Times New Roman"/>
              </a:rPr>
              <a:t>TRVALE UDRŽITELNÝ ROZVOJ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16000" y="2124000"/>
            <a:ext cx="89280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92000"/>
          </a:bodyPr>
          <a:p>
            <a:pPr lvl="1" marL="528480" indent="0">
              <a:lnSpc>
                <a:spcPct val="6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efinice: místo, ve kterém lidstvo naplňuje potřeby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528480" indent="0">
              <a:lnSpc>
                <a:spcPct val="6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oučasnosti bez omezení schopnosti budoucích generací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528480" indent="0">
              <a:lnSpc>
                <a:spcPct val="6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aplňovat své potřeby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528480" indent="0">
              <a:lnSpc>
                <a:spcPct val="6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528480" indent="0">
              <a:lnSpc>
                <a:spcPct val="6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Dosažení trvale udržitelné rovnováhy znamená udržení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528480" indent="0">
              <a:lnSpc>
                <a:spcPct val="6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úrovně využívání zdrojů, průmyslové činnosti,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528480" indent="0">
              <a:lnSpc>
                <a:spcPct val="6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zemědělství, populačního růstu a dalších na takové výši,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528480" indent="0">
              <a:lnSpc>
                <a:spcPct val="6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která může být zachována i v příštích generacích.“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528480" indent="0">
              <a:lnSpc>
                <a:spcPct val="6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528480" indent="0">
              <a:lnSpc>
                <a:spcPct val="6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 možné docílit trvale udržitelnosti v dlouhém období?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528480" indent="0">
              <a:lnSpc>
                <a:spcPct val="6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 je k tomu potřeba?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7" name=""/>
          <p:cNvSpPr/>
          <p:nvPr/>
        </p:nvSpPr>
        <p:spPr>
          <a:xfrm>
            <a:off x="1357200" y="1914480"/>
            <a:ext cx="6159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31640" indent="-215640">
              <a:lnSpc>
                <a:spcPct val="6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500"/>
                            </p:stCondLst>
                            <p:childTnLst>
                              <p:par>
                                <p:cTn id="12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440" y="0"/>
            <a:ext cx="10079280" cy="7559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9" name=""/>
          <p:cNvSpPr/>
          <p:nvPr/>
        </p:nvSpPr>
        <p:spPr>
          <a:xfrm>
            <a:off x="900000" y="3959280"/>
            <a:ext cx="5400720" cy="23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000" spc="-1" strike="noStrike">
                <a:solidFill>
                  <a:srgbClr val="4c1900"/>
                </a:solidFill>
                <a:latin typeface="Times New Roman"/>
              </a:rPr>
              <a:t>TŘI POHLEDY na trvalou udržitelnost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16000" y="1547640"/>
            <a:ext cx="89280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lvl="1" marL="574560" indent="0">
              <a:lnSpc>
                <a:spcPct val="8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DejaVu San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DejaVu Sans"/>
              </a:rPr>
              <a:t>1. Biofyzikální pohled 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574560" indent="0">
              <a:lnSpc>
                <a:spcPct val="83000"/>
              </a:lnSpc>
              <a:spcAft>
                <a:spcPts val="1137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574560" indent="0">
              <a:lnSpc>
                <a:spcPct val="8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DejaVu San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DejaVu Sans"/>
              </a:rPr>
              <a:t>2. Socioekonomický pohled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574560" indent="0">
              <a:lnSpc>
                <a:spcPct val="83000"/>
              </a:lnSpc>
              <a:spcAft>
                <a:spcPts val="1137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574560" indent="0">
              <a:lnSpc>
                <a:spcPct val="8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DejaVu San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DejaVu Sans"/>
              </a:rPr>
              <a:t>3. Morální pohled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440" y="0"/>
            <a:ext cx="10079280" cy="7559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3" name=""/>
          <p:cNvSpPr/>
          <p:nvPr/>
        </p:nvSpPr>
        <p:spPr>
          <a:xfrm>
            <a:off x="900000" y="3959280"/>
            <a:ext cx="5400720" cy="23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000" spc="-1" strike="noStrike">
                <a:solidFill>
                  <a:srgbClr val="4c1900"/>
                </a:solidFill>
                <a:latin typeface="Times New Roman"/>
              </a:rPr>
              <a:t>NÁVRHY A DOPORUČENÍ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16000" y="2340000"/>
            <a:ext cx="89280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lvl="1" marL="574560" indent="-358560">
              <a:lnSpc>
                <a:spcPct val="83000"/>
              </a:lnSpc>
              <a:spcAft>
                <a:spcPts val="1137"/>
              </a:spcAft>
              <a:buSzPct val="100000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DejaVu Sans"/>
              </a:rPr>
              <a:t>Rovnováha mezi podnikáním a ekosystémem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574560" indent="-358560">
              <a:lnSpc>
                <a:spcPct val="83000"/>
              </a:lnSpc>
              <a:spcAft>
                <a:spcPts val="1137"/>
              </a:spcAft>
              <a:buSzPct val="100000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ubjekt: Manažer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574560" indent="-358560">
              <a:lnSpc>
                <a:spcPct val="83000"/>
              </a:lnSpc>
              <a:spcAft>
                <a:spcPts val="1137"/>
              </a:spcAft>
              <a:buSzPct val="100000"/>
              <a:buBlip>
                <a:blip r:embed="rId4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DejaVu Sans"/>
              </a:rPr>
              <a:t>Zahrnout Přírodu do hodnot a myšlenkových procesů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574560" indent="-358560">
              <a:lnSpc>
                <a:spcPct val="83000"/>
              </a:lnSpc>
              <a:spcAft>
                <a:spcPts val="1137"/>
              </a:spcAft>
              <a:buSzPct val="100000"/>
              <a:buBlip>
                <a:blip r:embed="rId5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chopení trvalého rozvoje ve všech oblastech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574560" indent="-358560">
              <a:lnSpc>
                <a:spcPct val="83000"/>
              </a:lnSpc>
              <a:spcAft>
                <a:spcPts val="1137"/>
              </a:spcAft>
              <a:buSzPct val="100000"/>
              <a:buBlip>
                <a:blip r:embed="rId6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ýtus planetární společnost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574560" indent="-358560">
              <a:lnSpc>
                <a:spcPct val="83000"/>
              </a:lnSpc>
              <a:spcAft>
                <a:spcPts val="1137"/>
              </a:spcAft>
              <a:buSzPct val="100000"/>
              <a:buBlip>
                <a:blip r:embed="rId7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raktické návrhy“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574560" indent="0">
              <a:lnSpc>
                <a:spcPct val="83000"/>
              </a:lnSpc>
              <a:spcAft>
                <a:spcPts val="1137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574560" indent="0">
              <a:lnSpc>
                <a:spcPct val="83000"/>
              </a:lnSpc>
              <a:spcAft>
                <a:spcPts val="1137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5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oman</dc:creator>
  <dc:description/>
  <dc:language>en-US</dc:language>
  <cp:lastModifiedBy> </cp:lastModifiedBy>
  <dcterms:modified xsi:type="dcterms:W3CDTF">2008-11-04T01:04:13Z</dcterms:modified>
  <cp:revision>24</cp:revision>
  <dc:subject/>
  <dc:title>Roman Kaszper</dc:title>
</cp:coreProperties>
</file>