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8E4-0050-4D3A-8980-CCAB65C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F39-0066-4310-8E6C-A09D3A8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3706-6627-4356-BB79-760FBCF0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9AA-1562-4D18-A6CA-67418D79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F299-8035-45A5-8603-4BEB5A01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009C-7D7A-4CDF-AE7C-2E5FA67E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E93A-8F4F-4137-B75B-01FFAADD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119E-C33D-4340-B443-76F1777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B4E-99AE-4B11-8F80-615FA9AE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FF31-7FC1-440E-9BF6-9AF7916B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73B8-945F-4713-80FC-AE8D7CB1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1EF-7E0F-4B05-9BD9-BD35A821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8B64-BA74-4F80-BF16-2BB8B60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7BC3-A84D-48E3-A3E9-72CA489C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2171-2463-49C4-8D64-602F7A4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4305-5652-4164-8868-65FA1031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37BA-68AD-4604-B959-88F2B33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F7D-78A8-484E-80DD-E6414026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04F-BA31-4C62-876A-D2D1C5E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532-850C-41A1-A509-6F530F6C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232-ED86-4A81-A7E6-6537FCDF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F62-5CEC-48A8-BF0F-8CE76F40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D0A-C9F8-43D2-9E31-B6E7912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013-201C-4B6E-B19F-97E2161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E0BB-99A4-4CD0-8A6F-7DFAE01AD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A5EB-EEB5-41CB-80A0-DAE6EC8A9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Analýza praxe managementu úspěšných amerických společnost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ní větších cel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tváření Operačních skupin (5-10 členů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„flexibilní, na projekt orientovan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ředí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istické rys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vání skupiny je omez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členství je dobrovol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romažďuje se rychle bez formál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jsou určeni žádní „stálí“ pracovní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okumentace je neformální a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ující organiz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a nejviditelnějším rysem motivace činnosti je ve špičkových společnostech jejich ochota experimen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: „Drobná, dokončená činnost, zkouška, kterou lze řídit a která pomáhá něco pozna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líže k zákazníkov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službami (zvláště po prodej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chod skutečně začíná po prodeji - ne před 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kv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zakládá se na lidském kapitálu spojeném s tradic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ření na segmenty tr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dukty a služby ušité na 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nomie a podnik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prvkem úspěchu je schopnost být velký a současně jednat jako ma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podněcují mezi svými lidmi podnikavost, protože umožňují autonom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ence dobrovolného zaníceného přebor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ktivita prostřednictvím lid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vat se k lidem jako k dospělým, jako k partnerům, chovat se ucti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plnost orientace na 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zyk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ílení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kotvená filozofie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Řízení v přímém dotyku, důraz na hodno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vný soubor hodnot společnosti a věrnost těmto hodnot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tom, že můžeme být nejlep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detailů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ů lidí jako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nejvyšším významu jakosti služ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neformálnosti pro podporu komunik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j to, co umí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i, které se pevně drží, co znají, obvykle podávají nejlepš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úspěšné jsou ty společnosti, které diverzifikují do široké řady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dnoduchá forma – nepočetný řídící personá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lá neměnná forma, často výrobková div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žně a rychle reagují na rychle se měnící podmínky a problé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vidlo stov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ři pilíře strukturní form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pilíř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ilíř podnikav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líř změny starých návy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né, ale zároveň pevné vede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e jsou přísně kontrolovány, přestože dovolují autonomii, podnikavost a inovace od řadov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nomie je produktem káz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čný prospěch organizace přináší vnitřní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homas J. Peters, Robert H. Waterman Jr.: Hledání dokonalosti, Olomouc 19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zk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or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 vyspělou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e spotřebním zbož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poskytující služ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abývající se vedením projek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pracovávající nerostné surov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st ukazatelů – tři týkající se růstu a tři ukazatele návratnosti kapitálu a rentability služe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splnění alespoň čtyř ukazatelů po více než 20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torské výsledky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alo 43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ky úspěšných společnost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racionálního přístupu k managementu, od příliš podrobných tržních předpovědí a analýz, od přílišného organiz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ost, loajálnost, ztotožnění se s úspěchem společnosti, lidský vztah mezi zaměstnancem a jeho dozorc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ření na kvalitu a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nění experimentátor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prostřednictvím nejefektivnějšího kanálu bez ohledu na organizační struk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žití projektových tý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ac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domění, že lidé nejsou racion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a sebe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eněžní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 předchozího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lý person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n několik klíčových hod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podněcování - Sk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Richard Scott – 4 stadia výv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81080"/>
          <a:ext cx="8228880" cy="4114440"/>
        </p:xfrm>
        <a:graphic>
          <a:graphicData uri="http://schemas.openxmlformats.org/drawingml/2006/table">
            <a:tbl>
              <a:tblPr/>
              <a:tblGrid>
                <a:gridCol w="2362680"/>
                <a:gridCol w="2919600"/>
                <a:gridCol w="2946600"/>
              </a:tblGrid>
              <a:tr h="80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Uza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e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acionální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. 1900-1930  Weber, Tay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. 1960-1970  Chandler, Lawrence, Lor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polečenský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. 1930-1960  Mayo a spol., McGregor, Barnard, Slezn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. 1970-?  Weick,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 jedn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žitost je příčinou letargie a setrvačnosti, v důsledku nichž je mnoho společností nepřístupných nebo reagují příliš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us špičkových společností zahrnuje širokou řadu mechanismů jednání, které zjednodušují jejich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ganizační flexibili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jsou rozlehlou sítí neformální, otevřené komunik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ka otevřených dve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itelný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udržo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pozitivní kri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9:01:55Z</dcterms:created>
  <dc:creator>snoopy</dc:creator>
  <dc:description/>
  <dc:language>en-US</dc:language>
  <cp:lastModifiedBy>Hana Kubicova</cp:lastModifiedBy>
  <dcterms:modified xsi:type="dcterms:W3CDTF">2008-11-10T21:05:31Z</dcterms:modified>
  <cp:revision>13</cp:revision>
  <dc:subject/>
  <dc:title>Analýza praxe managementu úspěšných amerických společností </dc:title>
</cp:coreProperties>
</file>