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81C-15CD-47AE-9653-CF229A34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E65-C868-4A90-8819-3EF72671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7C1-A1B0-4BF5-9C10-25EB7E33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F27-8BFD-411E-82E2-45F5EBC0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2C7F-1691-4A6F-BE1C-472F7453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44F4-04EC-4991-AB2F-925CF823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2DD9-D5E9-4711-8930-397A807D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4280-FC04-45D6-8D17-0F3BBAD7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C570-1473-4A8F-BA14-088C4B93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657D-DD4A-4DAE-AC9B-CF67B9A5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24AB-6FB7-40C1-BEC7-9DA4FF5E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80B-1E41-49D6-A127-4E0C72AF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D9B0-0B2D-47F7-9FAB-355B85BE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A339-9201-48C8-9A2E-900A417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A105-2D95-4F09-8659-298573F1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2137-3C7C-4DDB-85AE-4773BFF7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BDAE-1A38-4BDD-A05B-3BA26502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942-E3BD-464D-A461-3EF24C5C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EE7-12B6-4F55-BB82-2DAD1942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A62-806E-4B73-A5B2-ED0169F6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D99-3EA1-4B6B-9708-225745F4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9E3-FE5F-4AE0-9C4B-B8709E0F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A1B-5EE6-437E-8028-D130A5E8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26B-5E95-4099-B36A-F40D52A2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FF0B-546B-4D4B-8AEB-A4F9E168F1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477B-156C-44D4-905E-E49DA9807E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rategick</a:t>
            </a:r>
            <a:r>
              <a:rPr b="1" lang="cs-CZ" sz="4400" spc="-1" strike="noStrike">
                <a:solidFill>
                  <a:srgbClr val="b2b2b2"/>
                </a:solidFill>
                <a:latin typeface="Arial"/>
              </a:rPr>
              <a:t>é aliance se zahraničními partnery (Interkulturní management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pracovali: Michal Bla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Kr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cela Poulíčk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vlastní vnitřní podnikatelské situ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lné, slabé stránky (klíčové – např. SWOT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k odstranit slabé, zhodnotit silné strá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hodnocení specifických konkurenčních předností(rozbor konkurenční poz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bor zdrojových možnost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arianty scénářů pro dosažení cíl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adění zdrojových nároků na dosažení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tenzivní zdroje – např. strategická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hodnocení scénář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pektivnost, zdrojová náročnost, návratnost zdrojů, riziko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sledná podnikatelská strate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Informace o partner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valitní příprava společného podnikání (pracná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ladem informace o možném partner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nikatelský profil, vize, strategické cíle, konkurenční pozice, vztah k partnerům, organizační struktura, kultur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Informace o partner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savadní spolupráce, agentury (CzechInvest, Czechtrade),obchodní komory, informace od bank, od firem se kterými partner spolupracuje, jednání na konferencích a veletrzích, tiskové agentur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istence sporných až nelegálních metod získávání inform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Vhodný partner (partneři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držení stálého souladu se zvolenou podnikatelskou strategií(x slaďování záměrů se zájmy partner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ečné podnikání – kompromisem záj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prospěšnější a nejpevnější partnerství: slabé stránky jednoho partnera kompenzovány silnými stránkami druhé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jistit, že fungování aliance povede k společně dohodnutým cílům a bude respektovat sociální, ekonomické, organizační a kulturní podmínky (strategická kompatibilita partner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Příprava na jednání se zahraničním partner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cepci by mělo zajistit vrcholové ved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tý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í negativisté“ v tý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dnotná koncepce strategického zámě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sychologická přípr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lézt „správný kompromis zájmů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mluva o utajení „citlivých informac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ěla by trvat dlou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Jednání s partner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obní projednání s partne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duchu vzájemné důvě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jasnění vyjednávací poz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ělo by být konfliktní a zdlouha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běžné vyhodnocování inform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Komu se vyhnou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abým partner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ráčům na krátkou dobu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tnerům se sklonem k autoritativní domi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tnerům se špatnou pověs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profesionálně vedeným organizac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Dokumenty obvyklé při vzniku strategické alian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ný „podnikatelský záměr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hoda o vzájemném respektování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mlouva o strategické ali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polečný „společenský záměr“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mezení účelu strategické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akteristika pole spol. záj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lavní cíle a jejich zaj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dstava o řízení strategické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azky partnerů ke zdrojovému zaj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jištění před důsledky riz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dělení očekávaných zis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nároky a výjim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dpokládaná organizačně-právní n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ěrečná ustano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ojem „Strategická aliance“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ategická alian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rategické cí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Operativní cíle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191120"/>
            <a:ext cx="2514600" cy="1447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191120"/>
            <a:ext cx="251460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191120"/>
            <a:ext cx="685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358092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Dohoda o vzájemném respektování zájmů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mezení pole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ce smluvních stran na poli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ůsledky vyplývající z práce na poli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up v případě neuzavření smlouvy o strategické ali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ní zabezpečení a doba tr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mlouva o strategické alianc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časné společné vyprac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věření její právní plat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pl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ně závazný dok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trategické partnerstv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rategické partners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širší pojem, zahrnující více forem spoluprá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876920"/>
            <a:ext cx="16002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ěsné fo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048120"/>
            <a:ext cx="16002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olné fo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733920"/>
            <a:ext cx="2057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é 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43400"/>
            <a:ext cx="2057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oint Ven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14400" y="29718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79132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4880" y="582768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íra spolu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ítě strategických alianc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istoricky víc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ilaterální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dohod mezi partn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trend vytváření sítí strategických aliancí (boom v 90. let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mogenní x heterogenní sít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silnější firmy jsou v pozic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líčové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ituace v Č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2. pol. 90. let začíná mohutná vlna přísunu zahraničního kapitálu. (v 90. letech přesáhl objem investic 20 mld. US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současnosti v ČR zhruba 55 000 firem, na nichž se podílí zahraniční kapitál (vytváří asi 65-70% export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městnávají asi 300 000 li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firmy jako Volkswagen, Siemens, Phillip Morris, Nestlé, Renault aj. budují systematicky sítě Strategických alianc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ce informací na www.czechinvest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A v moderním podnikán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itivní x negativní koope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kladní druhy 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aměřené na sdílení činností a zdro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tváření pozitivních integračních a synergických efektů spoluprá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dukci konkurenčních stře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hrazení negativní kooperace pozitivní kooper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znik, přenos a využití znal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ískávat a zhodnocovat data pro podnikatelskou čin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Rozhodovací pro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 úvahu o strategické alianci nutný hlubší rozbor podmínek a širokého spektra vari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ost dostatečného manažerského promyšlení a zdůvodnění budoucího sociálně-ekonomického roz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astou chyb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náhlenost (rychlé a snadné řešení záměrů a probl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nadný výběr 1 či několika málo partnerů (nedocenění rizi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odnikatelská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rategická aliance – jedno z mnoha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chodiskem pro rozhodování: vytvoření podnikatelské strate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sivní přístupy (opatrné hledání příležitostí, adaptivní chování vůči prostřed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aktivní přístupy (vytváření perspektiv, možností budoucího podnikán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vize, popř. posl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činná vize(J.P.Kotter): snadno představitelná, přitažlivá, uskutečnitelná, má jasné zaměření, flexibilní, srozumitel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louhodobé vodít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bor vnějšího okol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ecný rozvoj podstatného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ý rozbor z hlediska potenciálních zákazníků i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44:54Z</dcterms:created>
  <dc:creator>Tommy King</dc:creator>
  <dc:description/>
  <dc:language>en-US</dc:language>
  <cp:lastModifiedBy>Tommy King</cp:lastModifiedBy>
  <dcterms:modified xsi:type="dcterms:W3CDTF">2008-11-11T10:34:20Z</dcterms:modified>
  <cp:revision>7</cp:revision>
  <dc:subject/>
  <dc:title>Strategické aliance se zahraničními partnery</dc:title>
</cp:coreProperties>
</file>