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D62-10AE-4CFC-9F86-AA97023C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16E-4BB4-4CB8-8607-D0D952FE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6CD1A-D78A-4A0C-9E68-5FA0616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D5DBC-9FA6-4D3A-97E3-721F1652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FBF3D-DF25-4BB9-A6C1-4E9BAE33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32C25-9B62-463C-8DA4-F262172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A2651-ABB6-4E70-86C2-CF4EE1D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6CC71-DEAD-4499-B4B9-B1501570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26A83-FCFB-42F5-A60C-BC5C3D1D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00AB8-1F34-4452-B230-64476AD4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61061-A1C5-49A7-9FDA-8D8059CE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E71FC-4720-4F7E-905B-18DD9664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A1C-7F88-45A2-BC40-B2F66F84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E2373-137C-41F4-842D-9695CA7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0477E-DEF6-4847-8586-97E3D24F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4CB9C-3D7F-4906-865A-4E7D6475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0FE8C-58FA-4AF9-9FEB-BEC6FB2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D60AF-8125-4D6F-AF1B-D82C77BB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65FDE-48F3-4EBD-A863-93AA9F9E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F5196-343B-486C-9706-5DEF8A4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BFC0D-DCA3-429D-813B-472B4BB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FB506-4413-4249-8BAA-8E270DAA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222A0-06D3-491D-AF72-C39E17B9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7B9-F085-44F7-94C2-9E21F025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3A0B5-26DA-45AC-AB85-4D276053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A2167-AE12-43AD-B4B6-FB774B84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C7015-A1A9-4AF4-ABE1-8E429E3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DA5DB-57FB-40E8-9C04-D14AF45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72128-FA10-4251-A756-53AF187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C0E15-1E95-49F0-992E-14FECE1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040BD-F807-4BEB-9396-5B82FADF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C5E7-1F93-409A-A9F6-47631F9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3425-08F3-4389-93ED-98B6A005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5FDBB-6A73-4F4C-82E7-F9295811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F22A-A480-48F2-9A3F-66EF45C5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1B635-E369-47D3-BFA4-7A35C2F2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28650-7139-418C-BB74-E6E00CC1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1200-1DFC-47C8-875F-49EEB61F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3183D-9F3A-4DDF-A34E-4AD91F09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5CD0F-400B-415F-9DD8-201DDD3C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E9A1FE-B32E-45D4-863F-06A83F3B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76C4B-004D-41E9-8567-1425B72B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A974D-9AB0-4D8A-83EE-D214DA46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823A8-2978-45D4-B8B7-8221D82F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AC257-CE04-4041-8228-93793A0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1C0-B092-40A7-8AC1-35DAE394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9946F-353B-4153-A642-33291DE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12C9E-A3D7-4D2D-9E02-64F9629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38CCF-3DA3-4E54-BDCA-C5A29FE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3210E-1ABF-4BF8-9384-F4794D97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1B2CD-C211-4A5D-8728-0485DEFA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D7F-AC58-4CB1-854C-ACE46F1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315B-234E-4317-B2D0-BB6F9D1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F79-03AB-47E9-8548-DDA3F23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4EA4-7EC8-4E05-B23E-ECB87C4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90A-6ABA-4B67-940D-EAAB6AE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F4E-5A59-43FF-9813-6B501680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5180-6EF0-44B0-A756-E8FE28B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912A-DD62-4974-A9D5-BE4F450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CB04-26BD-41AB-AC5E-A566611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6FC2-E507-44D4-B651-A2F7A22D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754-96AF-40DA-829E-AA854F89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AE93-09D0-4C86-8DC6-51D4D7C9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51B7-BB84-4B09-B67E-D350CB9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32C9-A8C6-4AD8-9E86-8D31AFCB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04D7-6015-4B17-83CE-A6B6031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7564-4B59-4CCB-A89A-67428E53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48F-4563-40CB-B650-63332B8A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803C-4B51-4195-BF74-F8C10D8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8FBE-B1D4-4C98-B116-A2EC3C8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0DC6-C5CC-4DAF-AC54-B97A3CF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2489-630C-49A4-A51A-5BA01BD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72AE-C952-4EF3-BAAE-7C3E9552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78E8-A73C-4E1B-9D94-D389C34E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1820-DDD9-4262-A89E-6BEC523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4343-E7CA-4C3B-9EE7-3E13B794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CACE7-E425-4844-A7F9-1A16E2BF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9DBA-D023-4CBB-8738-E71E0A5A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87C-CAAA-4158-9106-ACE61E01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76F7E-726A-4C09-9CA9-BFFF613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96A7-5A9D-42C5-A428-F8D2A7E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1547-4AE9-4AD3-A6D3-CE7AC70D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62F78-DFBA-423D-83E8-DC5AB7C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E11E-928B-48A8-94A7-8FCDFEEE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55BA-343F-487F-8363-813BEB6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9F38-E895-4BA0-8E40-67E606F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AD68-D5DB-46B9-B8D3-D2052407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57361-CDC6-49A7-A684-5BB45474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0B1F-3A7D-42F7-B5EF-814DAD6C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B05-8C78-4CCF-9D3E-92E780AD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2DFE-4C27-4A66-8D33-0D270697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DBE0-64FC-4CA3-9188-9C011170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87777-2533-4069-B55A-65B53CCB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EB18-C0BB-4E02-86BE-0DCBC085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7573-FD78-4F8C-BF61-F7247F59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70CA-0363-4F2F-9710-F7CF6E3C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C916-C554-4725-9A2F-0B223E9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8530-4532-40BF-8997-A38EC4C4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8010-4F3F-4979-8CA0-30300A1A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3B28-9FFD-4720-8BF8-2E8EC940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1D8-C4FE-405C-B503-98FD9B8F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A398-F089-411E-83E9-A5F63250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506EE-07A1-4CBA-9155-5ECFBC5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69FB4-E833-4672-9B3C-6FBA3047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BEC84-3830-46B3-BD76-7812F96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92A4A-2CD1-4A5B-B8E1-01FAF450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51A8-8FA8-4752-B671-DE3E7DA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684E-37A9-49C4-99CC-1071C644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4B428-284A-4FE4-B1A1-ED52F24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CD30-3781-45DA-A2F4-27DCD4C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9044-055E-486E-9D99-FD21755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A0D-9F3B-44DD-9C42-7805D92E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F6C3-1D29-430E-8C3C-8D37043C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B07A-F73A-41F2-9A22-2DA290D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9CB0-1CEB-44E7-A0A0-D1ACE181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9F7F-E436-4B03-BB55-9A4E0181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316E1-D446-482B-8E66-A768CBF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DBFF-E620-45C3-AD60-C2F7D449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A457-1D06-4E3D-84B8-7392C5A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C4A6-13B9-4598-B1AD-F378FFE1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EBD9-850D-4878-B53D-81ACF1C5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CCF56-3E97-4D4D-B661-38A0C650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44E-3F56-47AB-B132-6C5C3CC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C88F-87F8-4E69-80CC-72DA50C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FE77-CE86-416B-895E-A989FAB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60FDE-0F30-4CCC-8E18-5B582833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4672-33D7-4270-897E-811DD669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3DD92-9A8E-497D-B47A-02CBF0BC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9BB8B-F8A7-4993-B25B-0E21AD8E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12FF9-1784-4AC3-8B62-9B17B873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DBF5-D085-4190-8BDF-BEA92EA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A49C-5FE8-4C39-9524-4BA4945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2F09-B4D0-4103-92B2-3F26358B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8FD-259A-467A-BBF2-E698FA6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FA91-76A5-4DD9-9169-DF9E9E8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7B1A-4C7C-4D27-ABD7-9BA407D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969B8-8133-45FE-BC43-BA68F28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2CCA1-77FF-48D4-98F4-66AC7F6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A02FF-AEB0-4EB8-8D75-85D674B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BC509-8701-4827-BE77-5924A767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72D7E-88E7-4718-BC86-1591D4A4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C2F32-E106-4A98-8BC9-8ADAF776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3FA3A-BE17-4380-BED1-0421175E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BBE88-C5A2-41F3-A187-A49A5775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D1B-F73C-46A1-AA43-F281831A7CC5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A64B-5BC4-4600-A5C8-B9D56386D622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E4BE-B027-432E-8352-73D1B7CAA5FB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446-A72D-4A57-85F9-5F34740EF8FD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F869-E638-430A-8AB8-06A9C5111EF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61B-E1F6-4BC9-8EBE-04FDC6E48D8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897-A922-4E22-9165-727A73ABBDBF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6A31-FC06-4CEB-9D8F-A1B4FC7BD9E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E8C-B5FA-4D40-A6B1-EDAF8D49FF64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217E-5BB0-498C-90E1-F4E6F8A63CD7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7701-19D9-40EA-B67D-3982D34D1D3E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7D1-2A24-4229-975A-CA5A4DACC8C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Globalizace" TargetMode="External"/><Relationship Id="rId2" Type="http://schemas.openxmlformats.org/officeDocument/2006/relationships/hyperlink" Target="http://dumfinanci.cz/ekonomika/franchisin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Sociální kořeny a důsledky globalizac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nald Clemmer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zení jako škol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jvíce lidí ve věznicích „ze dna“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ěstské ghet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 Ghetta slušnému člověku vstup zakázá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Lokální nikoli globální zločinnos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trategi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„odmítání odmítačů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elmi jemný závě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Globalizace je společenský proces, který nejde zastavit, obejít, či ho ignorov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Globalizace není ani dobrá ani špatná. Globalizace je taková, jakou ji lidé udělají. Jako každý systém musí sloužit lidské osobě. Musí sloužit solidaritě a lidskému dobru.“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Jan Pavel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Efektiv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vantifikace a kalkul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dvídatel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trol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Vědecký management  a fordismus jako předchůdce McDonaldiza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„ </a:t>
            </a: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Jakýkoliv zákazník může mít naše auto jakékoliv barvy, kterou chce, pokud je to černá.“  H.For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McDonaldizace v byrokracii – standardizace procesů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 společnos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entist, McDoctors, McPaper atd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proces ovlivňuje nejen restaurační stravování, ale také vzdělání, zaměstnání, cestování, volný čas, politiku, rodinu a potenciálně všechny sektory společnost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onal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 jako známka globaliz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ať si dáte hamburger v New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Yorku, Londýně nebo v Praze, McDonal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’</a:t>
            </a: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s vám zaručí, že ve vaše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oblíbeném jídle bude přesně to, co chcete a na co máte chuť, a také vás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budou obsluhovat lidé ve stejných uniformách a budete v tak totožné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podniku tomu vašemu oblíbenému, že můžete nabýt dojmu, že jste ani svoji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rodnou zemi neopustili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Franchising (z francouzského franchis osvobodit) je smluvní vztah mezi partnery, ve kterém poskytovatel franšízy (franchisor) poskytuje svou značku a právo užívat předmět podnikání své společnosti, tj. poskytuje své know-how, včetně systému řízení a zabezpečování služeb, a nabyvatel franšízy (někdy označován jako franšízant) se zavazuje zaplatit smluvně stanovenou odměnu a dodržovat komerční politiku poskytovate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Mezi hlavní výhody franchisingu patří to, že dovoluje podnikat v daném oboru bez počátečních znalostí, bez dlouhého získávání zkušeností a praxe a snižuje riziko krachu. Dále dovoluje používat provozní systém a postupy, chráněné receptury a strategii marketingu franchisor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’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s a 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Dnes můžeme výrobky McDonald’s nalézt ve více jak 100 zemích všech kontinentů. 30 000 restaurací po celém světě vycházejí ze společných základů, pravidel a zásad podnikán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ranšízant si kupuje vybavení restaurace a zároveň samotnou franchise, která ho opravňuje po dobu 20ti let používat obchodní známku a další práva společnosti McDonald‘s. Na druhé straně je povinen dodržovat standardy společnosti v oblasti kvality, servisu a čistoty a odvádět poplatky z pronájmu prostor a za poskytnutí franchise, které odpovídají určitému procentu z obratu restaura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? Kam to směřuje 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aha o sjednocení ať už Evropy či celého světa by mohla znamenat zánik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noha kultur, čímž by se člověk naprosto zbavil fascinující barevnosti a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exotiky na této planetě. Pravděpodobně by po tomto kulturním sjednoc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oupila jakási jednotná „kultura“, která by nás zahrnovala řado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ekvalitních, ale pro konzumní společnost velmi snadno stravitelných, filmů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nih, řadou konzumní hudby a další spoustou věcí, které by měl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uspokojit naší kulturní potřebu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Literatura a další zdro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BAUMAN, Z. Globalizace. Praha: Mladá fronta, 1999. ISBN 80-204-0817-7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Wikipedie: Globaliza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cs.wikipedia.org/wiki/Globaliz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anšíza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dumfinanci.cz/ekonomika/franchi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itzer, G. McDonaldizace společnosti. Praha: Academia, 1996. ISBN 80-200-0571-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V nejobecnější rovině slovo globalizace znamená zvyšující se propojování světa ve všech oblastech života lidí. Globalizace je souborem mnoha různorodých procesů, které obsahují aspekty ekonomické, sociální, kulturní a politické. Tyto procesy jsou vzájemně provázané a navzájem se podmiňují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Zygmunt Bauman - 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ť je tomu, jak chce, proces globalizace resp. lokalizace je neodvratný a jeho důsledky postihnou všechny bez rozdílu. Někomu přinesou nové netušené možnosti, jiným jen zpečetí krutý os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 resp. lok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olný pohyb kapitálu (mobilita kapitálu) → svoboda od starostí a odpovědnosti -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”Každý, kdo může utéct z lokality, může utéct od důsledků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měna ve vnímání “vzdálenosti” – hlavní požadavek je rychlost – v dopravě, v přenosu informa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Technologické zrušení časoprostorových vzdáleností lidskou situaci spíše polarizuje, než homogenizuje.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álka s prost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vorba přísně racionálního, funkčního, městského prostoru, vede k rozpadu ochranných sítí utkaných z lidských vazeb a vede neomylně k osamělosti a intoleran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Funkce měst, jako ochrany před nepřítelem “zvenčí” ztratila na významu a naopak byla nahrazena obavou z nepřítele “uvnitř”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aždodenní hromadění dat o každém z ná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Co dál po národním státě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ýznam národního hospodářství klesá díky neomezené schopnosti pohybu kapitál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tvořil se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nový světový neřád“ = globální zmat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Pokusy o nalezení nadnárodní svrchovanosti a kontroly naopak vedly k ještě větší členitosti a roztříštěnosti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amování „opory třínožky svrchovanosti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Globalizace je prospěšná velmi malému množství lidí, dvě třetiny světové populace vynechává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Ideální typ konzumenta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p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řilne k věc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sb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rač požitk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Uspokojování požitků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éměř okamžit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Příslib uspokojení předchází potřebě, jež se slibuje uspokojit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Touha netouží  po uspokojení, touha touží po touze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 (2)</a:t>
            </a:r>
            <a:r>
              <a:rPr b="0" lang="cs-CZ" sz="3300" spc="-1" strike="noStrike">
                <a:solidFill>
                  <a:srgbClr val="7b9899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člověk v pohybu – turis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em však nemůže být každ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naději, že se požadované touze může přiblíži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ít dostatečné prostředky aby mohl volit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čleňují se tak dvě skupiny – turisté vs. tulác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risté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htějí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mlouvá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lác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l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e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asto ilegálně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jsou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žádoucí (podezřelé) činnost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álepk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lád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Potírání klasické formy zločinu -</a:t>
            </a: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&gt; p</a:t>
            </a: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římo ohrožu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Upozorňuje na fyzické bezpečí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ateriální zabezpečení a jistotu nemůže (globál. tlaky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íce jsou postihování „chudí“ než „bohatí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24:17Z</dcterms:created>
  <dc:creator>Vajcka</dc:creator>
  <dc:description/>
  <dc:language>en-US</dc:language>
  <cp:lastModifiedBy>Vajcka</cp:lastModifiedBy>
  <dcterms:modified xsi:type="dcterms:W3CDTF">2008-10-27T09:39:32Z</dcterms:modified>
  <cp:revision>2</cp:revision>
  <dc:subject/>
  <dc:title>Sociální kořeny a důsledky globalizace</dc:title>
</cp:coreProperties>
</file>