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E6F-68F6-4B72-B0CF-834B713F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D66-6F5B-41D9-BAC2-DDD21607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C7B-847E-42A7-9508-2A3789CC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761-7C28-4B72-B188-0068C4E5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2C6-B080-41BE-B453-95FDF2E3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571F-7A57-4969-863C-078C883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E4F8-A6DB-49A3-BF35-C52B1784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481E-AEDF-4E0D-8B26-C0E50F0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EC89-07C3-4124-A62C-E3879610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7BB4-D4CD-4477-8CA0-59CEE90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61C5-4B1E-47D3-9D8C-8CB9CFE4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1E9-A4FE-464A-98D0-49BFB313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4627-DDDF-41A1-8F70-EC90893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DB2-8D7F-4409-AFDE-AE708AB4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21D0-7864-4864-853C-32FDC1B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3CB-3835-41E8-9C51-7F798D1B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4A0-490A-4E5C-8698-6F873053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753-4837-49CC-9F3F-094B6C2E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A3D-3A76-4804-9F6B-4B636783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DF4-1D96-4529-9329-AB64D0ED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970-B0B8-427C-92FA-BEF0931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78B-6487-4AE4-B852-DDB5D75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28F-FF7F-4636-ACDE-D88922E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591-598E-40D5-9D36-0F5F341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0C4-49FF-4F3C-8254-539B9DF2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A50-0EF1-48A4-B13D-2EE30F9437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apitalismus nové civiliz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869000"/>
            <a:ext cx="600876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okončené projekt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e komerční stav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ce stavby, materiály, pů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tová výsta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řebi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a a vlák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lesů získáváme výrobky z papíru a stavební dř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ste objem spotřeby papíru (5x rychleji než lidská popu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ční spotřeba na osobu 45-90 kg pap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vyrobeného objemu přechází do „kulturní paměti“, zbytek od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ír představuje 2% světového obchodu a 2,5% průmyslové výro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Jak nahrazovat papí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: nahrazovat „vlákna elektrony a papír pixel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revoluce – přechod k elektronické kanceláři s vyloučením papí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ká počáteční investice, ale získání trvalé konkurenční výhody (snížení nákladů, rychlejší a inteligentnější informační toky, rozhodování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oviny a časopisy – internetové verze, velký potenciál k úsporám (např. nedělní New York Times spotřebují na jedno vydání 75 000 strom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ombinace úsp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e úspor v různých částech hodnotového řetězce (od těžby surovin přes zpracování a dopravu až po distribuci služeb), úspory lze mezi sebou náso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em je zefektivňovat každý krok cesty od dřeva až ke službě zákazní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raz na úspory, které mají nejblíže k zákazníkovi (kolik uspokojení přinese spotřebiteli každá jednotka služeb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působy zlepšování účin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rén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účinně se lesy transformují na primární produk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ektivita transformac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se primární produkty transformují na meziprodukty jako např. papí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Účinnost pro koncového uživatel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e meziproduktu do distribuovaných slu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kč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finální produkty zvyšují uspokojení potř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ktory zlepšení se budou násobit a poptávka po těžbě dřeva se sníží o 96%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řevěné přepravní palety – výroba představuje asi 11% veškerého stavebného dřeva (6 palet na jednoho Američ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ravují se, vyřazují se, odpad by ročně stačil na nosnou konstrukci 300 000 do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ětovné využití přináší nejen úsporu, ale i nová pracovní mí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ná změna ekonomické stimu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ční kopírky – smažou stopy tonerů na papíru tak, že se dá použít až desetkrát po s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ový inkoust – spláchne se z papíru tím, že se vloží do vody o teplotě 54°C, následně se recykluje i smytý inko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šíření této techniky sníží spotřebu materiálu pocházejícího přímo z lesa o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Děkujeme za Vaši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Ú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ší průmyslová revol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sun z důrazu na lidskou produktivitu na radikální zvýšení produktivity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ěřování k udržitelnému ekonomickému modelu a ke snahám o zabránění globální ekologické kr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ovlivňování života technologiemi k ovlivňování technologií živo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ená revoluce – konkurenční výh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estrukce biosf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posledních 30 let spotřebována 1/3 zdrojů plan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dní ekosystémy - úbytek 5% roč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lovina 20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ehodnocení čtvrtiny veškeré orné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kácení třetiny lesních porost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roda je nejenom zdroj materiálů, ale zajišťuje udržování podmínek nezbytných pro život - monetárně neocenitelné a bez možných substitu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rod nového typu kapital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filozofie, cílů a proce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centrace kapitálu vs. úbytek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e prosperity - určovány spíše přírodním kapitálem, než výkony průmys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tředí není okrajový 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votní příčiny úbytku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patně navržené obchodní systé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ční rů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šetrná spotř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né oceňování všech forem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ování kvality a toku služeb namísto zvyšování celkových finančních t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a environmentální udržitelnost závisí na vyrovnání v globální nerovnosti v příjmu a v materiálním blahoby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lepší prostředí pro obchod – demokratické systémy založené na uspokojování potřeb lidí spíše, než na busines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elené“ projektov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ky úsporné stavby, vnitřní vybavení, osvětlení, spotřebiče a další z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é aktivní vytápění a chlazení nebo vůbec bez n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í vizuální, termální a akustický komfort vytváří prostředí s nízkou úrovní str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kvalita ovzduší v budovách a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Otázka nákladovosti, hospodářské efekt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poklad vyšších nákladů za postavení „zelené“ budovy  X snižování ji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inné nové budovy ušetří okolo 80% z tradiční spotřeby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lené projekty se rychleji prod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žší úroveň stresu, vyšší produktivita práce (příklad firmy Lockheed, Wall-M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Otázka projek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ovaný projekční proces – týmově orientovaný proces, kterého se účastní všechny zainteresované osoby na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ář projektantů - procentuální podíl z ceny budov či vybavení  X  jiný stimulující způs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8:57:48Z</dcterms:created>
  <dc:creator/>
  <dc:description/>
  <dc:language>en-US</dc:language>
  <cp:lastModifiedBy>Popl</cp:lastModifiedBy>
  <dcterms:modified xsi:type="dcterms:W3CDTF">2008-11-03T21:40:09Z</dcterms:modified>
  <cp:revision>19</cp:revision>
  <dc:subject/>
  <dc:title>Kapitalismus nové civilizace</dc:title>
</cp:coreProperties>
</file>