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390-4D8B-479C-899E-894A493B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B83-05EE-437A-8BA7-A943B037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248-5916-4C66-A8DE-E155CF7C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B72-5E2C-4259-A063-6E9EB945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2777-D98E-416F-80B2-918BC51A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7169-FE3A-41E5-9929-D1AD5A7C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4111-4AB1-4A3D-A332-88C1BADA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D634-F75F-452F-8358-26FA7A25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DC14-C927-4EB6-9D09-94E38D14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0BDE-1A6E-48D0-9E17-3F40616E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6139-A944-416B-8A8F-F249570B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B44-D06E-40C0-AA72-A787DC17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8CA9-6C5B-4FC2-8704-B3558C52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09DE-95AE-4089-8BBC-5F51AB03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E537-2EB9-42DE-960D-26D52D19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37DB-F29A-45ED-BAF4-EF25700A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3A76-FC1B-4A64-9C81-43A35E6D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3C7-658C-428B-B8D5-CBE8E1B8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E5F-D80B-422A-AA44-C0A7DA00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4DA-6588-4AE9-96DC-81CC3EA9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426-05AC-4883-854F-D42A32F5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6B7-D88B-4636-B1A8-7A9D545E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7D8-CAE0-4D27-9B31-DF7B730E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43C-32BE-46D0-B0EE-BF02D048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EE15-728D-4378-8C90-964DB89B34A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889C-01A6-429D-8603-D20F9ED4470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eligentní projektování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jektování budo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elené do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kladová barié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Mudy, služby a to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tec firmy Toyota Taiichi Oh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eštihlující myšlení – metoda 4 vzájemně propojených prvk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skytování komplexních služ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ůst kapitál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periment BIOS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rodní kapitál – ekologický 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idské aktivity a tok ekosystémových služ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vestice do přírodního kapitá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říroda a vlák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binace druhů pro zvýšení úspor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06:25Z</dcterms:created>
  <dc:creator>Fido</dc:creator>
  <dc:description/>
  <dc:language>en-US</dc:language>
  <cp:lastModifiedBy>Fido</cp:lastModifiedBy>
  <dcterms:modified xsi:type="dcterms:W3CDTF">2008-11-03T22:38:16Z</dcterms:modified>
  <cp:revision>2</cp:revision>
  <dc:subject/>
  <dc:title>Inteligentní projektování</dc:title>
</cp:coreProperties>
</file>