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2DB-5EE8-4939-ABDA-39A2BAB083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6D0-7B6A-4B33-A377-116DBF7389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9BF-AE7E-484A-919E-5D897DBB06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78B-A22F-432E-A445-5AA3B593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A49-1F0F-4F04-9C6E-DCE7AE3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5D9-79CC-4437-8516-7AADCD8D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A31-B63E-4FB4-8030-0FAB9112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F7A5-3903-4786-B31C-ACE53AE8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7758-E96F-4C28-80E9-B3B9304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BD1B-5CC7-4C02-9A7E-A5FD9E4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51E2-08BF-4379-8D1E-4F28B3B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57D-FDDE-4F1C-B2C2-DAF0140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0F52-EDFB-4539-B8A4-7317F4E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BE0F-A927-498A-B766-CE76F5A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4E6-F2FF-445A-8C4B-5AD077C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270-8F9B-4F0F-98C2-CC994C5D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80F-D606-438A-84E8-F1BE659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2676-8C65-476D-B106-AF477429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6522-FCD5-409C-B21D-30E28AB4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19C-BD33-4418-836A-8C697B0F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C5DC-A97C-4193-98B4-6F044576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54A6-7A44-4B56-A9B9-2B41E1B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97CE-91E6-4400-9221-C27B200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A3DC-7B88-499E-AFAF-24E5544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5DE0-3E4C-4BD3-B561-38377F44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E0B-13CF-42ED-B0ED-A5A9DB6B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F02B-6307-4B90-9239-945E7AB7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0325-6B3B-4084-9BC2-546D1BD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5408-238E-40E5-8031-C39BE17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3BCC-2F2D-4AC0-AD75-A3CE723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60DE-1E94-424C-9FE1-5D2999AC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8225-EF73-47DE-9103-92C310E7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D2B2-87A1-4041-BA81-09EA704D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177F-8A7B-42C0-A6E9-00107633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7265-5ECB-414A-9DF0-C1279BF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EFC1-84BA-453A-A23C-53D01269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8A1-1FFC-41CA-9F97-5D55F81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6DDA-2EC5-4EBA-A2D9-ED9D135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1696-427D-4E15-AB9B-FAD0A10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9B3C-64EC-4EBF-807F-458C111E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4E03-8594-4855-87F5-C4E8E12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8BC2-393D-41FD-9CF7-DC9CF6AC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4017-788E-4CFD-8B8E-B07DE21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EB80-9EED-4D18-A5CC-51576E5D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BB9A-E97B-4CE9-BBC0-8C2F2546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F26D-AF2C-48E8-BE56-B9174311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FDC-3B6C-4F12-B1CA-3F297437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AB2-8379-41B3-B008-E8F05D32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C9C-9519-4FED-A0E9-732D4C5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DA0-B399-49EC-8835-11CEFB61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A7F-CD4B-4695-9231-B0A17CA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2A5-3EE7-4FA3-A443-6DD161F4E028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216-FC60-4DF5-8DA0-8B10948D3C87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D72B-0E64-4B25-9BC7-6D99496BE909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0FA-12BB-4A17-B4DF-B107C7F88574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dpis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8212320" cy="1536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00480" y="4571640"/>
            <a:ext cx="2414520" cy="170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Kincl Pavel</a:t>
            </a: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e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t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skytování informací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Selektivní poskytování informací</a:t>
            </a:r>
            <a:r>
              <a:rPr b="1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na základě rozhodnutí, co kdo potřebuje vědě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Tím, že sami rozhodujete, co je důležité, aby vaši podřízení věděli, ji upíráte jejich právo sami rozhodovat o tom, co je pro ně důležité a užitečn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všech možných informací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, které vytváří zahlcení a přetížení informace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ožnost zahlcení, pak přestaneme naslouchat a opomineme důležité informa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přiměřených informací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mezi dvěma extrémy existuje určitá rovnováh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, aby vaši podřízení věděli, jaké informace jsou k dispozici, aby se mohli sami rozhodnout, zda potřebují vědět více. Musíte však filtrovat informace, které poskytujeme, abychom zabezpečili, že budou užitečn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ynikající manaž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Mít pod kontrolou sami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Rozvíjí své komunikační dovednost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ste význam těchto doved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Šipka dolů 3"/>
          <p:cNvSpPr/>
          <p:nvPr/>
        </p:nvSpPr>
        <p:spPr>
          <a:xfrm>
            <a:off x="3500280" y="3429000"/>
            <a:ext cx="771840" cy="12859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4857840" y="37861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stup do 21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7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7120" y="1600200"/>
          <a:ext cx="428616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37209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mění vést l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g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dšení pro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edstav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usilovně prac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chopení pro dru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vyhmátnout pří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řešit nepříjemné situ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86480" y="1571760"/>
          <a:ext cx="4114800" cy="4105080"/>
        </p:xfrm>
        <a:graphic>
          <a:graphicData uri="http://schemas.openxmlformats.org/drawingml/2006/table">
            <a:tbl>
              <a:tblPr/>
              <a:tblGrid>
                <a:gridCol w="542880"/>
                <a:gridCol w="3571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1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lastní mo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ientace na c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pracovat v tý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munikační dov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snášet zátě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se uč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Řídící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exibi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ze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ování li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pora a pomoc lid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a 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skytnout lidem pros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ace je vždy sebe-motiv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roveň motivování lidí je jednou z nejdůležitějších součástí práce manažer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aktory motiva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cta k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jevy uznání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skytnutí odpovědnosti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b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ravá složená závorka 3"/>
          <p:cNvSpPr/>
          <p:nvPr/>
        </p:nvSpPr>
        <p:spPr>
          <a:xfrm>
            <a:off x="6000840" y="3786120"/>
            <a:ext cx="285840" cy="17859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785960"/>
              <a:gd name="textAreaBottom" fmla="*/ 1778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5"/>
          <p:cNvSpPr/>
          <p:nvPr/>
        </p:nvSpPr>
        <p:spPr>
          <a:xfrm>
            <a:off x="6715080" y="4286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tomnost vše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oč motivova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1.st. -&gt; Organizace musí být dynamická </a:t>
            </a:r>
            <a:r>
              <a:rPr b="0" lang="cs-CZ" sz="2400" spc="-1" strike="noStrike">
                <a:solidFill>
                  <a:srgbClr val="7f7f7f"/>
                </a:solidFill>
                <a:latin typeface="Constantia"/>
              </a:rPr>
              <a:t>(musí  se vyrovnávat se stálými změnami v technice, technologii a také v podnikatelském prostředí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=&gt;Potřeba lidí, kteří s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htěj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učit, měnit, rozvíjet a   přispívat ke změnám a inova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snadňuje řízení li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dividuální pozornost =&gt; přispívá k pracovnímu výkonu jednotlivce a tím i celému tý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y individuální práce s lidm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estnost a poctivost účelu a úmys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ůvěrnost jedn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asnost cí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dování dobrých vztah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výšení hodnoty a významu daného jed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ypy individuální práce s lid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ormální přezkoumání dosavadního výkon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(hodnotící rozhovory,  hodnocení projektů apod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formální rozhovor mezi čtyřma oč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zultování a kou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na pracoviš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ravá složená závorka 3"/>
          <p:cNvSpPr/>
          <p:nvPr/>
        </p:nvSpPr>
        <p:spPr>
          <a:xfrm>
            <a:off x="5572080" y="257184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072120" y="2786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upy se komb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skytnout lidem pro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nstantia"/>
              </a:rPr>
              <a:t>Deleg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třeba znát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Výsled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Standar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Para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legovanou odpovědnost monitoruj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profilem manažera 21. stole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 Kam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eta (GB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gram Journey to Mastery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(Cesta k dokonalost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Di Kamp"/>
          <p:cNvPicPr/>
          <p:nvPr/>
        </p:nvPicPr>
        <p:blipFill>
          <a:blip r:embed="rId1"/>
          <a:stretch/>
        </p:blipFill>
        <p:spPr>
          <a:xfrm>
            <a:off x="5846760" y="1484280"/>
            <a:ext cx="2763720" cy="352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ez názvu"/>
          <p:cNvPicPr/>
          <p:nvPr/>
        </p:nvPicPr>
        <p:blipFill>
          <a:blip r:embed="rId2"/>
          <a:stretch/>
        </p:blipFill>
        <p:spPr>
          <a:xfrm>
            <a:off x="3184560" y="3429000"/>
            <a:ext cx="153180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fvbd"/>
          <p:cNvPicPr/>
          <p:nvPr/>
        </p:nvPicPr>
        <p:blipFill>
          <a:blip r:embed="rId3"/>
          <a:stretch/>
        </p:blipFill>
        <p:spPr>
          <a:xfrm>
            <a:off x="900000" y="4005360"/>
            <a:ext cx="11541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fg"/>
          <p:cNvPicPr/>
          <p:nvPr/>
        </p:nvPicPr>
        <p:blipFill>
          <a:blip r:embed="rId4"/>
          <a:stretch/>
        </p:blipFill>
        <p:spPr>
          <a:xfrm>
            <a:off x="1712880" y="4437000"/>
            <a:ext cx="1174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i Kamp: Manažer 21. století.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Grafologie pro personalisty a manaž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ww.metapositive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bude jinak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ěnící se prostředí =&gt; manažeři = efektivní řízení lid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X normy a zvyklost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dkud vycházet?  &gt;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onstantia"/>
              </a:rPr>
              <a:t>Historie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příkazy + kontrola, autokratické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do 20. stol. – benefity, ale stále autokratism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=&gt; postupně respekt lidského potenciálu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lavní charakteristi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ideálního manažera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deální manaž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46400" y="1599840"/>
            <a:ext cx="57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rát roli vzoru pro ostat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Znát sebe s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tavně se vzdělá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potěšení ze změ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iz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si uvědomovat součastnou reali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ysokou úroveň etiky a hodno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yslet systémově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rávně komuniko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ozitivně mysl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mět se nadchn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ýt opravdov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munika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číná tím, jaký vztah máme k ostatním lid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emůžeme uměle vytvořit dobrý vzt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 mít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ky, které nám umožní budovat dobré 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mys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ak chceme vycházet s jinými lidmi – jednání s nimi. Řídí to naše postoje k nim, vzájemné působení. Náš postoj, poměr k lidem silně ovlivňuje to jak na nás reagují = je důležité jej promyslet a zváž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ědomá volba užitečných a pozitivních postojů k lidem = větší naděje pro vytváření dobrých vztah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ozpolož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 jakém rozpoložení jsme, ovlivňuje všechno, co děláme. Pozitivní rozpoložení – dobře se cítíme, věříme s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da dosáhneme výsledku, závisí na tom, zda jsme si vytvořili dobrý vztah. Existuje dlouhodobý výsledek – jestliže budujeme dobré vztahy a zlepšujeme vztahy s jinými lidmi, styky s těmito lidmi budou stále snadnější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alezení správné rov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hadnout náladu - neměli bychom rovnou konverzovat. Je třeba zjistit, co se s ním stane, co to s člověkem udělá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právný jazy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podnikový, manažerský, technický, zákaznický, dodavatelský, praktick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ážit si lid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dyž si viditelně vážíme lidí = dobré vztah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dy je to obtížné = budování důvě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ebezpečí plynoucí  z dobrých vztah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teří manažeři se domnívají, že ztratí respekt a kontrolu, a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obrý vztah   x   tajné srozumění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Dobrý vztah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přátelská úcta k jinému, která v něm vyvolává podobnou reakc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Tajné srozumění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polupráce s ostatními, která má přesvědčit, že jsme na jejich straně, i když vás to kompromituje = slevujeme ze svých zás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áme sklon přemýšlet o komunikaci jako o mluvení, ale komunikujeme i když naslouchá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ynikající schopnost přijímat informace spočívá v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řání či potřeba být informován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První krok, zájem o věci co se kolem nás děje. Měli bychom být otevření přijímat informace od jiných lidí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Věnovat informacím pozornost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„Nevypínat se“ – nenaslouchat selektivně. Skutečná pozornost má 5 rov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slovům, víme co bylo řeče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významu skrytému za slovy (tzn. důrazů na slova, váháni atd.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zorování toho , jak řeč těla doplňuje význam slov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užívání intuice – vaší „vnitřní reakce“ – ke čtení mezi řádk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dvědomé, citové vnímání toho, co se děj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kutečná pozornost je poté účinná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možňuje nám slyšet to, co se říká, ve své úplnosti a tak vhodněji reagova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skytuje nám dodatečnou informaci o tom, jak partner „funguje“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artner má pocit, že si jej vážíte = zlepšuje vaše dobré vztahy s ní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užívat informace dobř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– informace mají nějaký účel. (krom klepů, zákeřných informacích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idé co nám je poskytují, chtějí, aby se jim dostalo důkazu o tom, že jsme tyto informace dobře použili=zlepšuje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3:19:55Z</dcterms:created>
  <dc:creator>Marek</dc:creator>
  <dc:description/>
  <dc:language>en-US</dc:language>
  <cp:lastModifiedBy>Martin Beleš</cp:lastModifiedBy>
  <dcterms:modified xsi:type="dcterms:W3CDTF">2008-11-26T19:19:06Z</dcterms:modified>
  <cp:revision>30</cp:revision>
  <dc:subject/>
  <dc:title>Požadavky na manažery na prahu postindustriálního věku</dc:title>
</cp:coreProperties>
</file>