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03320" y="695160"/>
            <a:ext cx="484488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E02-942A-40C4-A8DA-D43F72E0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6EA-9F33-4B15-AFE1-70DBA885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374-18B8-4309-9D09-892F888B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7ED-343F-4607-8026-5713794F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E2EC-3ABB-4689-A580-AAFB9861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960-7579-472E-B0A7-724D549A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625B-264B-4470-B752-D857FC84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9098-3576-4AB2-B2FB-6B2134F9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085A-CF18-42C6-B7EC-457233B9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2BED-415C-40BB-9AD8-62A70EA5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A07A-D0A1-4068-97FC-10E0D9A6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929-5E05-4D4C-9A57-D11335DE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C653-A727-4AF6-90AC-AF15202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4137-3F1A-4008-980B-D8FAADD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64A2-9A15-4D81-8A26-1081B1AC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16C3-B75A-415F-A58F-8FE272FC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2EE1-77CB-45BF-ADE0-4CFD7E3B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A60-999F-4C46-B61A-49BE61AC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D26-3A4B-41ED-87CC-9D00DFA1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615-3706-43B9-BAC6-D739981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91E-59E3-4E25-8D26-5C18F9B7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925-0749-4F73-9969-5F233D3B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CED-7BF3-4EA8-BD4C-1F70917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8CB-1450-4CA2-9A7A-EF364E03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98040" y="-96840"/>
            <a:ext cx="9068040" cy="9063720"/>
            <a:chOff x="-1598040" y="-96840"/>
            <a:chExt cx="9068040" cy="9063720"/>
          </a:xfrm>
        </p:grpSpPr>
        <p:grpSp>
          <p:nvGrpSpPr>
            <p:cNvPr id="1" name=""/>
            <p:cNvGrpSpPr/>
            <p:nvPr/>
          </p:nvGrpSpPr>
          <p:grpSpPr>
            <a:xfrm>
              <a:off x="-1598040" y="-96840"/>
              <a:ext cx="9068040" cy="9063720"/>
              <a:chOff x="-1598040" y="-96840"/>
              <a:chExt cx="9068040" cy="90637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1598040" y="-96840"/>
                <a:ext cx="9068040" cy="9063720"/>
                <a:chOff x="-1598040" y="-96840"/>
                <a:chExt cx="9068040" cy="906372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36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1598040" y="-96840"/>
                  <a:ext cx="9068040" cy="9063720"/>
                  <a:chOff x="-1598040" y="-96840"/>
                  <a:chExt cx="9068040" cy="906372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560" y="1227240"/>
                    <a:ext cx="629280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92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72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1598040" y="-96840"/>
                    <a:ext cx="9068040" cy="9063720"/>
                    <a:chOff x="-1598040" y="-96840"/>
                    <a:chExt cx="9068040" cy="906372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5840" cy="602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1598040" y="-96840"/>
                      <a:ext cx="9068040" cy="9063720"/>
                      <a:chOff x="-1598040" y="-96840"/>
                      <a:chExt cx="9068040" cy="906372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8840"/>
                        <a:ext cx="6538680" cy="580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1598040" y="-96840"/>
                        <a:ext cx="9068040" cy="9063720"/>
                        <a:chOff x="-1598040" y="-96840"/>
                        <a:chExt cx="9068040" cy="906372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37760" y="931320"/>
                          <a:ext cx="321840" cy="360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0800" y="2611800"/>
                          <a:ext cx="241128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200" y="2224440"/>
                          <a:ext cx="240480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3040" y="1740960"/>
                          <a:ext cx="2415960" cy="281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37800" y="1171080"/>
                          <a:ext cx="2406240" cy="337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8080" y="769680"/>
                          <a:ext cx="1400760" cy="376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5200" y="2975760"/>
                          <a:ext cx="2388960" cy="1618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19800" y="328644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7080" y="4745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1240" y="452304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3040" y="381996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4480" y="4821480"/>
                          <a:ext cx="975600" cy="135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2640" y="4832640"/>
                          <a:ext cx="85644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1440" y="4832640"/>
                          <a:ext cx="7423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1760" y="483732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79360" y="4848480"/>
                          <a:ext cx="482400" cy="176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26960" y="4851720"/>
                          <a:ext cx="34272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1640" y="4872240"/>
                          <a:ext cx="792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2520" y="487548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1600" y="4884840"/>
                          <a:ext cx="33120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2120" y="4886280"/>
                          <a:ext cx="51192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1200" y="4886280"/>
                          <a:ext cx="6930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2360" y="4886280"/>
                          <a:ext cx="89316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7560" y="4890960"/>
                          <a:ext cx="110232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5200" y="488484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7160" y="4880160"/>
                          <a:ext cx="162252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58320" y="4864320"/>
                          <a:ext cx="19414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4440" y="4851720"/>
                          <a:ext cx="235728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7040" y="4842360"/>
                          <a:ext cx="2858760" cy="195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3520" y="482472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3520" y="4807440"/>
                          <a:ext cx="395496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6760" y="4789800"/>
                          <a:ext cx="3991320" cy="1394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77040" y="4746960"/>
                          <a:ext cx="3907440" cy="658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39240" y="3797640"/>
                          <a:ext cx="3216960" cy="88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6640" y="3278880"/>
                          <a:ext cx="2920680" cy="137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720"/>
                          <a:ext cx="2445840" cy="28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1598040" y="-96840"/>
                          <a:ext cx="9068040" cy="9063720"/>
                          <a:chOff x="-1598040" y="-96840"/>
                          <a:chExt cx="9068040" cy="906372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303640" y="471996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130840" y="449316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1868400" y="4121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1663200" y="3828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1445040" y="3432600"/>
                            <a:ext cx="2444760" cy="2579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217880" y="3146400"/>
                            <a:ext cx="3022920" cy="3127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941760" y="2824560"/>
                            <a:ext cx="3629520" cy="3681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696600" y="2502360"/>
                            <a:ext cx="4186080" cy="4215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397800" y="2208240"/>
                            <a:ext cx="4861440" cy="4740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81800" y="1870200"/>
                            <a:ext cx="5321880" cy="530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20000">
                            <a:off x="-30960" y="1554840"/>
                            <a:ext cx="5848200" cy="5880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780000">
                            <a:off x="-250560" y="1207080"/>
                            <a:ext cx="6373080" cy="6455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2120" y="1780200"/>
                          <a:ext cx="1318320" cy="281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4720" y="2132640"/>
                          <a:ext cx="1765440" cy="246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6520" y="1936080"/>
                          <a:ext cx="155268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4440" y="2291400"/>
                          <a:ext cx="1974960" cy="231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2360" y="246780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1440" y="2883600"/>
                          <a:ext cx="253440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4040" y="3094920"/>
                          <a:ext cx="27061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6360" y="3556080"/>
                          <a:ext cx="3028320" cy="111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47160" y="4041720"/>
                          <a:ext cx="3370680" cy="649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1840" y="437688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0040" y="4702680"/>
                          <a:ext cx="370080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7680" y="4724640"/>
                          <a:ext cx="3826080" cy="31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4960" y="4769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2360" y="4862880"/>
                          <a:ext cx="1742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4680" y="4810320"/>
                          <a:ext cx="1064160" cy="125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3800" y="4797720"/>
                          <a:ext cx="116568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6080" y="4789800"/>
                          <a:ext cx="127692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3120" y="4778640"/>
                          <a:ext cx="1373400" cy="96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6920" y="4772520"/>
                          <a:ext cx="14659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3880" y="4761360"/>
                          <a:ext cx="157500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0120" y="4751640"/>
                          <a:ext cx="16826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2680" y="4734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0280" y="4724640"/>
                          <a:ext cx="2003400" cy="18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5360" y="4712040"/>
                          <a:ext cx="212040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4800" y="4295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3040" y="4061160"/>
                          <a:ext cx="2398680" cy="609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1600" y="3557880"/>
                          <a:ext cx="239220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59280" y="972360"/>
                          <a:ext cx="209700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1080" y="831240"/>
                          <a:ext cx="1757520" cy="37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3000" y="786600"/>
                          <a:ext cx="102132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4000" y="83880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4360" y="1042200"/>
                          <a:ext cx="4320" cy="349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4880" y="1166400"/>
                          <a:ext cx="304560" cy="3381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6040" y="1310400"/>
                          <a:ext cx="585000" cy="324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0440" y="1459800"/>
                          <a:ext cx="845280" cy="310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3040" y="1626480"/>
                          <a:ext cx="1094400" cy="294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440" y="2679840"/>
                <a:ext cx="5016600" cy="4109040"/>
                <a:chOff x="28440" y="2679840"/>
                <a:chExt cx="5016600" cy="410904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5680" y="2679840"/>
                  <a:ext cx="2349360" cy="194904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3280" y="6049800"/>
                  <a:ext cx="357120" cy="73764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440" y="4281480"/>
                  <a:ext cx="2088720" cy="2507400"/>
                  <a:chOff x="28440" y="4281480"/>
                  <a:chExt cx="2088720" cy="25074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28960" y="6052320"/>
                    <a:ext cx="2772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0960" y="5043600"/>
                    <a:ext cx="1593720" cy="174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2240" y="6647760"/>
                    <a:ext cx="12492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3400" y="5754240"/>
                    <a:ext cx="8460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99960" y="4856400"/>
                    <a:ext cx="16308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440" y="4710960"/>
                    <a:ext cx="375120" cy="1490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3760" y="4856760"/>
                    <a:ext cx="288000" cy="310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6560" y="545220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32760" y="4281480"/>
                    <a:ext cx="2196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160960" cy="4678200"/>
              <a:chOff x="25560" y="2104920"/>
              <a:chExt cx="5160960" cy="46782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560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040"/>
                <a:ext cx="262584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080000">
                <a:off x="3121200" y="3047400"/>
                <a:ext cx="212364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00000">
                <a:off x="3063960" y="4150080"/>
                <a:ext cx="351792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0000">
                <a:off x="1576080" y="427608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0000">
                <a:off x="1080360" y="277452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615560" y="2104920"/>
                <a:ext cx="570960" cy="520560"/>
                <a:chOff x="4615560" y="2104920"/>
                <a:chExt cx="570960" cy="520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0000">
                  <a:off x="4641480" y="2325240"/>
                  <a:ext cx="3279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732560" y="223200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831560" y="222048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09320" y="211284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080320" y="2104920"/>
                  <a:ext cx="106200" cy="860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7C84C8-5628-4FE9-AE92-6F2727CD2C6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1622160" y="-61200"/>
            <a:ext cx="9069120" cy="9065160"/>
            <a:chOff x="-1622160" y="-61200"/>
            <a:chExt cx="9069120" cy="9065160"/>
          </a:xfrm>
        </p:grpSpPr>
        <p:grpSp>
          <p:nvGrpSpPr>
            <p:cNvPr id="166" name=""/>
            <p:cNvGrpSpPr/>
            <p:nvPr/>
          </p:nvGrpSpPr>
          <p:grpSpPr>
            <a:xfrm>
              <a:off x="-1622160" y="-61200"/>
              <a:ext cx="9069120" cy="9065160"/>
              <a:chOff x="-1622160" y="-61200"/>
              <a:chExt cx="9069120" cy="90651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1622160" y="-61200"/>
                <a:ext cx="9069120" cy="9065160"/>
                <a:chOff x="-1622160" y="-61200"/>
                <a:chExt cx="9069120" cy="90651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600" y="194004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1622160" y="-61200"/>
                  <a:ext cx="9069120" cy="9065160"/>
                  <a:chOff x="-1622160" y="-61200"/>
                  <a:chExt cx="9069120" cy="9065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3160" cy="55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1160" y="148284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720" cy="51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1622160" y="-61200"/>
                    <a:ext cx="9069120" cy="9065160"/>
                    <a:chOff x="-1622160" y="-61200"/>
                    <a:chExt cx="9069120" cy="906516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080" y="798480"/>
                      <a:ext cx="6766200" cy="602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1622160" y="-61200"/>
                      <a:ext cx="9069120" cy="9065160"/>
                      <a:chOff x="-1622160" y="-61200"/>
                      <a:chExt cx="9069120" cy="906516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080" y="1015200"/>
                        <a:ext cx="6539400" cy="580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1622160" y="-61200"/>
                        <a:ext cx="9069120" cy="9065160"/>
                        <a:chOff x="-1622160" y="-61200"/>
                        <a:chExt cx="9069120" cy="906516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4360" y="967320"/>
                          <a:ext cx="321840" cy="360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600" y="2648160"/>
                          <a:ext cx="2411280" cy="196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720" y="2260800"/>
                          <a:ext cx="240516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-360" y="1776600"/>
                          <a:ext cx="2415960" cy="28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4040" y="1206720"/>
                          <a:ext cx="2406240" cy="337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4320" y="805680"/>
                          <a:ext cx="1400760" cy="37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1080" y="3011400"/>
                          <a:ext cx="2388960" cy="1618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3600" y="332100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3320" y="4781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77480" y="455940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-360" y="385632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0360" y="4857840"/>
                          <a:ext cx="975600" cy="135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58880" y="4869000"/>
                          <a:ext cx="856440" cy="144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78040" y="4869000"/>
                          <a:ext cx="74232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08000" y="487368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5600" y="4884840"/>
                          <a:ext cx="482400" cy="17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3200" y="4888080"/>
                          <a:ext cx="342720" cy="187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67520" y="4908600"/>
                          <a:ext cx="756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0200" y="491184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7840" y="4921200"/>
                          <a:ext cx="33120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8360" y="4923000"/>
                          <a:ext cx="51228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7440" y="4923000"/>
                          <a:ext cx="693000" cy="190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58600" y="4921200"/>
                          <a:ext cx="89280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3800" y="4927680"/>
                          <a:ext cx="1102320" cy="18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1440" y="492120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3400" y="4916520"/>
                          <a:ext cx="162324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4560" y="4900680"/>
                          <a:ext cx="19418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1040" y="4888080"/>
                          <a:ext cx="2357280" cy="193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3640" y="4878360"/>
                          <a:ext cx="2858760" cy="1950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0120" y="486108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0120" y="4843440"/>
                          <a:ext cx="395460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3360" y="4826160"/>
                          <a:ext cx="399132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3640" y="4782960"/>
                          <a:ext cx="3907080" cy="65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5480" y="3833640"/>
                          <a:ext cx="3217320" cy="88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2880" y="3314880"/>
                          <a:ext cx="2920320" cy="137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080" y="4015080"/>
                          <a:ext cx="2446200" cy="280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1622160" y="-61200"/>
                          <a:ext cx="9069120" cy="9065160"/>
                          <a:chOff x="-1622160" y="-61200"/>
                          <a:chExt cx="9069120" cy="90651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279520" y="475668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106720" y="452664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1844640" y="4157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1639440" y="3864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1421280" y="3469320"/>
                            <a:ext cx="2444760" cy="2579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194120" y="3179160"/>
                            <a:ext cx="3022920" cy="3128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917640" y="2860200"/>
                            <a:ext cx="3629880" cy="36817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672840" y="2535480"/>
                            <a:ext cx="4186080" cy="421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373320" y="2244240"/>
                            <a:ext cx="4862160" cy="4740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57680" y="1903320"/>
                            <a:ext cx="5321880" cy="5302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20000">
                            <a:off x="-54360" y="1591200"/>
                            <a:ext cx="5847480" cy="5881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780000">
                            <a:off x="-274320" y="1243080"/>
                            <a:ext cx="6373800" cy="6456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28360" y="1816920"/>
                          <a:ext cx="1317960" cy="28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0960" y="2169360"/>
                          <a:ext cx="1765440" cy="2466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2760" y="1972440"/>
                          <a:ext cx="155304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0680" y="2327760"/>
                          <a:ext cx="1974960" cy="231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58600" y="250416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77680" y="2919600"/>
                          <a:ext cx="253476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0280" y="3130560"/>
                          <a:ext cx="27064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2600" y="3592800"/>
                          <a:ext cx="3028320" cy="1117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3400" y="4078800"/>
                          <a:ext cx="3371040" cy="648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28440" y="441144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6640" y="4737240"/>
                          <a:ext cx="370116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4280" y="4761000"/>
                          <a:ext cx="3826080" cy="31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1560" y="4805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88960" y="4898880"/>
                          <a:ext cx="17424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0560" y="4846680"/>
                          <a:ext cx="106452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09680" y="4834080"/>
                          <a:ext cx="116604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2320" y="4826160"/>
                          <a:ext cx="1276920" cy="106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89360" y="4815000"/>
                          <a:ext cx="137376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3160" y="4808520"/>
                          <a:ext cx="146592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0480" y="4797360"/>
                          <a:ext cx="157536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6000" y="4788000"/>
                          <a:ext cx="1683000" cy="62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38920" y="4770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6520" y="4761000"/>
                          <a:ext cx="2003400" cy="18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1240" y="4746600"/>
                          <a:ext cx="212112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1040" y="4331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-360" y="4097160"/>
                          <a:ext cx="239868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-1440" y="3594600"/>
                          <a:ext cx="239184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5880" y="1006920"/>
                          <a:ext cx="209736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7680" y="867240"/>
                          <a:ext cx="1757520" cy="370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79600" y="822600"/>
                          <a:ext cx="102168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0600" y="87516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0600" y="1078560"/>
                          <a:ext cx="4320" cy="349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1120" y="1202040"/>
                          <a:ext cx="304560" cy="338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2280" y="1346400"/>
                          <a:ext cx="585000" cy="3247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6680" y="1495800"/>
                          <a:ext cx="845280" cy="310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09280" y="1661400"/>
                          <a:ext cx="1094400" cy="2946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840"/>
                <a:ext cx="5016960" cy="4109760"/>
                <a:chOff x="4320" y="2715840"/>
                <a:chExt cx="5016960" cy="410976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1920" y="2715840"/>
                  <a:ext cx="2349360" cy="19494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79520" y="6086880"/>
                  <a:ext cx="357120" cy="73728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7840"/>
                  <a:ext cx="2089080" cy="2507760"/>
                  <a:chOff x="4320" y="4317840"/>
                  <a:chExt cx="2089080" cy="25077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5200" y="6089400"/>
                    <a:ext cx="27720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560" y="5079960"/>
                    <a:ext cx="1593000" cy="17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68120" y="6684840"/>
                    <a:ext cx="12528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39640" y="5791320"/>
                    <a:ext cx="84564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6920" y="4892400"/>
                    <a:ext cx="16272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960"/>
                    <a:ext cx="375480" cy="148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90360" y="4892400"/>
                    <a:ext cx="288000" cy="310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3160" y="548856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9360" y="4317840"/>
                    <a:ext cx="2160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440" y="2141640"/>
              <a:ext cx="5161320" cy="4677840"/>
              <a:chOff x="1440" y="2141640"/>
              <a:chExt cx="5161320" cy="4677840"/>
            </a:xfrm>
          </p:grpSpPr>
          <p:sp>
            <p:nvSpPr>
              <p:cNvPr id="277" name=""/>
              <p:cNvSpPr/>
              <p:nvPr/>
            </p:nvSpPr>
            <p:spPr>
              <a:xfrm>
                <a:off x="1440" y="425196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40" y="3623400"/>
                <a:ext cx="262620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080000">
                <a:off x="3097080" y="3083400"/>
                <a:ext cx="2124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00000">
                <a:off x="3040200" y="4186440"/>
                <a:ext cx="35182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0000">
                <a:off x="1552320" y="431244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0000">
                <a:off x="1056600" y="281124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591440" y="2141640"/>
                <a:ext cx="571320" cy="520560"/>
                <a:chOff x="4591440" y="2141640"/>
                <a:chExt cx="571320" cy="520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0000">
                  <a:off x="4617360" y="2361600"/>
                  <a:ext cx="32832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08800" y="226836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7440" y="225684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85560" y="214956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056560" y="2141640"/>
                  <a:ext cx="106200" cy="856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BE05D0-BB3A-4645-B1B6-30BB841F359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Globální kapitalism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vers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demokracie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1.12.200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hiquita Fruit Company (US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EU jí přidělila kvótu pro dovoz banánů (&lt;10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iquita – sponzor Republikánské i Demokratické stra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test americké administrativy u WTO (diskrimina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TO rozhodlo o změně kvóty, ale EU nevyhově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SA zavedla sankční cla (na koupelové soli, kabelky,..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Guatema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54 demokraticky zvolen J. A. Guzmá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vlastnil 80% plantáží (amerických společnost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ojenská diktatura podporovaná 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itika na prodej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blematika financování volebních kampa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bsence jasného ideového vy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odlišení jen marketingovou strate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značné finanční prostřed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na to vzít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soukromý sek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o za to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liv? Přímluv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důsledky: lidé se obrací k politice zá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hy omezit zákonem financování soukromým sektorem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roste vliv méd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suvka: krajské volby 2008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dražší kampaň v historii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rlamentní strany: 180 mil. K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S – 40 – 60 mil. Kč (4700 billboard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SSD – 56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SČM – 1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DU-ČSL – 24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elení – 12,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zdroj: Lidové novi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volte, radši nakupujt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bčané „obcházejí“ vlády, obrací se přímo na korpor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hrozby bojkotu a negativní rekla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konzumerismus = nástroj spotřebite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posuzují mimoekonomická krité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vět byznysu je pružnější než svět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kcionářský aktivis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lidé-spotřebitelé mají větší vliv než polit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ní všechno zlato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édia komercializována – obsah ovlivněn vlastníky média, zadavateli reklamy,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 získat důvěryhodné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rporace již sponzorují i univerzitní centra, veřejně prospěšné organizace, think-tanky,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-aktivismus -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rnet = nový zdroj inform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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ychlost, dostupnost, každý může sdělit svůj náz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tázka důvěryhodnosti, zveličování problému, zneuži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: naše optika nazírá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dumilní podnikatelé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 Soros – „muž, který položil Bank of England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litická filantrop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 Monaghan, Mike Milken, Michael Say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ill Gates, Ted Tur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ůno byznys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– maska peč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yznys začíná hrát roli stát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ískání výhod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ákazní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aměstnan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losvětově závažná tém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mý vl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do ohlídá hlídače?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ERTZOVÁ, N. Plíživý převrat: Globální kapitalismus a smrt demokrac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LÁŘ, P. Nejdražší kampaň v historii. Volby začínají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www.lidovky.cz/nejdrazsi-kampan-v-historii-volby-zacinaji-fk3-/ln_noviny.asp?c=A081017_000005_ln_noviny_sko&amp;klic=228128&amp;mes=081017_0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UTLOVÁ, H. Globaliza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dumfinanci.cz/zajimavosti/globalizac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5100" spc="-1" strike="noStrike">
                <a:solidFill>
                  <a:srgbClr val="c4c3aa"/>
                </a:solidFill>
                <a:latin typeface="Arial"/>
              </a:rPr>
              <a:t>Děkujeme za pozornost!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v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m global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reena Hertzová: Plíživý převr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Globaliza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měny projevující se jak ve společnosti, tak ve světové ekonomice, které jsou zapříčiněny rozvojem mezinárodního obchodu, vzájemnou spoluprací mezi jednotlivými státy, a tím i propojováním a sbližováním jednotlivých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vní projevy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SA - začátek 2. pol. 20. století – pronikání do Evro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aponsko - pronikání do Evropy a U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jována s globálním ekonomickým růste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půrci vs. přízniv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Noreena Hertzová: </a:t>
            </a:r>
            <a:br>
              <a:rPr sz="4000"/>
            </a:b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Plíživý převr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1280" y="155736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dtitu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ální kapitalismus a smrt demokracie (200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nepokojivé změny posledních 20 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ád obchodních barié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liv nadnárodních korpor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ohrožení základů moderní demokratické spole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4360" y="1700280"/>
            <a:ext cx="2930400" cy="4478400"/>
            <a:chOff x="684360" y="1700280"/>
            <a:chExt cx="2930400" cy="447840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293040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84360" y="1700280"/>
              <a:ext cx="293040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S-26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emonstrace 26. 9. 2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aha MMF a Světová ban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test proti globálnímu kapitalis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dnárodní společnosti mají příliš velkou mo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Koncernové oblud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láda korpor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00 největších nadnárodních společností kontroluje 20% globálních zahraničních aktiv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51 největších ekonomik jsou korporace a 49 národní stá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brat firem General Motors a Ford je větší než HDP celé subsaharské Afr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Úloha stát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nes – infrastruktura, veřejné služby a ochrana volného obcho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konomika má větší význam než poli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důležitější než stá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čast v politice nahrazena účastí na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znik nové pravi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79 britská premiérk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. Thatch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81 americký prezident R. Rea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astánci volného trhu, proti státním zásahům, odmítali keynesovskou ekonom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arizace společnost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radiční indikátory (HDP na hlavu) zamlžují prav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globální politiky - sbližovat životní úroveň bohatých a chudých zemí - opak je pravd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fituje pouze menš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US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3,7% obyvatel žije v chudob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% obyvatel vlastní 40% majet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1:25:32Z</dcterms:created>
  <dc:creator>snoopy</dc:creator>
  <dc:description/>
  <dc:language>en-US</dc:language>
  <cp:lastModifiedBy>doma</cp:lastModifiedBy>
  <dcterms:modified xsi:type="dcterms:W3CDTF">2008-12-10T18:38:38Z</dcterms:modified>
  <cp:revision>33</cp:revision>
  <dc:subject/>
  <dc:title>Snímek 1</dc:title>
</cp:coreProperties>
</file>