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494-BA4C-449E-AF8F-4AD4F032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BC5-A671-4D37-B7D0-160DE631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9272-505D-4AF0-A5C0-0D6AB589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11D3B-92FE-4C00-A293-570C996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B3C66-A411-43ED-A845-170F934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5400-99D2-4492-B4A4-ABDA9C9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B329A-0940-4F1A-9628-0FEAA441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D717B-21F8-40FB-ACB8-DD7BF24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8282-EB0A-4CC6-9051-704FFF2D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9048D-B752-434D-A787-334B1837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2C5DB-B0EA-42F9-902C-608F1122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4DA6C-19AA-48AE-A1D0-9BB6C8A4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5B8-FC8B-4351-82E5-0F792304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7193-9365-448E-BBCF-794A6C84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DD36-C32D-4406-B489-7254369C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CDAB5-7D59-4D2D-86B7-ACF75D5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DFBE-6E35-4BE5-BAC1-29ED10B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B86F2-0F96-4267-9215-B78554B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DBCD1-9F5F-42D0-8962-BF0999C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92AAF-027E-442A-9E71-66B62FD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88D1C-590A-4A09-887A-7318CA9E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0F899-CC30-49D1-B25E-5177B73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6E8F0-B66F-42A8-B588-3DD1DCC6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F96-0E19-4AB1-87E3-0B7D09D1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977AE-7585-4F9A-915A-A085E08E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26918-7AD2-4EBF-9BDE-D3C51973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1B34-82E6-4DC1-80C9-8BADF84D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F281B-0B0C-415B-8B9D-1123B2C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D3F49-B334-4AEE-9CBF-50FF0FF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9AFA-2CC8-43C5-A9CE-3EC0A28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2871-BB0D-4ED7-B907-2D6AA73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70835-7F3F-43EB-891A-3968214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8B77-6E37-43A1-99B5-FAD755D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92CD6-CFED-4F81-BF4E-511D87E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7F6-03A6-4204-AB42-BA907859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630B-8034-40B3-BB92-20B5DAD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A921-DCF2-4C74-BAD1-EC5769B6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20FA-A161-4E53-B225-7BB0475D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3A9C-383B-4DB1-9731-C63ACCE9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1CB30-907F-47BA-9D6A-E9BEBB9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F7CC5-EA16-4D34-92ED-4007841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8E1BF-911B-488E-89A7-3D0E597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18172-8EAA-4B74-BC0C-54D0F11C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74563-90D6-433F-AEC9-B8A4E23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9B88B-7033-47BE-B618-3A10178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250-3A23-43E5-976D-B5A3D5A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BCAC-BB18-4EAB-92B4-18A2B8C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CF9D1-5DF3-4CE8-912E-6E8CE81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79E45-8962-4177-A320-2794177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17562-B528-4DC5-8076-415A9D9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C73CB-3221-455D-B2E9-EC14D70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CAF-50B7-4CD6-81FF-3A98734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1F7-29E1-4FF4-B1C0-0FAECCFF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7D44-03B6-4B94-B875-AE17625F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7F4B-3A2B-4DDA-8439-465E02A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2D4-B061-4C98-ABB8-DCB4F81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9A5-99F2-4482-8212-A609010D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A340-0DAE-46B2-9EFF-E83D36D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570D-95FD-4E4E-A393-D15F043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EE1-F7F9-421D-8C41-27746BC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FE8D-674B-43E3-A68B-029662E4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39E-3D89-4048-B1BA-7CD7CC87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5FC8-34B3-43A5-9E3E-2B51F42F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AEB4-88A5-47F6-938D-3825AB3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5BC4-7DFC-41BB-A589-EB37CE9B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B0C4-C3A1-4E53-9F71-3299955A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E53F-F0FB-44F5-9408-8027AA3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D1B-5CE1-45C7-ADA3-23970E3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7CD2-D087-4E79-B0ED-964BE549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CC94-8C15-4A62-BD1F-130DE20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6140-2C88-4406-B2AD-70CA70C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A731-71AA-40FC-9BF2-F50F2D8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23A9-5DA0-4559-9EB4-8CE8FA6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834C-0CC1-4F6D-99B4-2AC82715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7297-B88A-41A5-8C02-BE3649B6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F8BE-AFB1-4BD6-AEE2-A1C41961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66BC-5C64-47B1-9DA8-D3A65C1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805B-528B-4BC9-BFAB-DFDB55FE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7F4-0D5D-47BF-8E63-FAD44548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10FE-08D2-4738-B308-0568435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B769-7431-45A5-B43A-4499687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BB8F-DFB8-497C-A424-2863AA84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2E44-3220-44EC-9F09-1469C75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8619-E121-47FB-BCF8-0FC61EF1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63A4-C25C-4BD2-B8E7-F766842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5591-C799-45E7-A109-1822B6F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4549-4802-4A7C-9FC4-53F6F1F0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7B0B-0759-44B7-B07D-C95FE08E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FCB1-E003-49CE-BC54-3F620A0E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E0C-DB8F-4182-8E82-A0A1E68B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2578-113B-4EF7-B903-A0F08A3B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EE37-7982-40AB-8F57-33107BE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5640-DCEB-4443-B6B7-A60C3E7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DF08-0480-43B5-A0D1-88C6C81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A1FD-3F51-4776-A805-9357F41B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9405-5495-4ECB-89E9-A0CFB06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29F0-B3E6-4004-A4CF-4F5E316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0F9A-EABC-4401-A045-6DFD4D1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D265-861E-4D2E-878F-8FABC747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CE52-381A-4E85-8C5F-77C72455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A16-2275-42DC-97B5-5903027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2A5B-4D99-4E36-B673-3B06661F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43A2-5B1F-4C8E-A025-AF2CA0E0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4586-710B-47FA-8403-6EFFBAD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2C9EA-2948-404F-824C-479A5AF0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D4FB-1EC3-4979-924F-F1705C1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C18F-42AA-4DD6-89DD-065FFE2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D7252-114E-46F9-88EE-DD9F863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BAD7-6AC0-49EB-A332-0ABEDB2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41AE4-BA30-4688-9D0C-DCB11E3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02C2-022A-4724-A9F4-33AEE53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508-2697-4A30-828B-B976C07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6405-9D88-463B-A64F-72183B2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2DE5D-B355-4718-B6B9-08D1C281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4BA7D-AAA6-46BF-948D-5BD53F92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9A7D-83BF-42B6-AFE3-1544AE84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DEF9-9B03-48F9-BDBA-3B69165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F0AE-C3C9-4F17-B59A-31CC5FB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1A51-C93D-4F4C-BD15-4111202C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66F1-97A0-49BA-814D-0FDE71C8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BAEF-204D-425B-A278-2400A33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B4D6-2512-4D72-925F-3460841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620-3DC2-4946-A30C-F448055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D8BD-09B7-4E5E-A107-7947AE9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D7CEB-8DF8-4214-BB82-BEAEE3B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7B984-08B4-4DBD-9ECD-EA9D9B7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7B39-A376-4C93-BBD8-788D36F2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42F7C-BEA7-4216-92A1-7D454BB8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7264-B38C-46EB-95B7-FB94B65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1229-53B9-4318-BC2D-87FDD2AB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EC598-D54B-4D89-8A73-A8DF1C4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E8776-5BD9-468D-9D6E-951D9852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1CA3-18A7-421E-96FD-AF2EA94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4D0-5FA0-4C16-A597-82B03F7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458B-B48D-427D-85D3-1CC1D49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EB4E-8D6B-480E-A517-A72B12C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17CD-A319-4A69-84ED-13F351F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3524-8C9B-4004-B195-21629F3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7EF2-BA66-494E-AD6E-99076D36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1AAB4-B70A-4A86-A6CD-E4D6D515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0C85-555B-4799-9C3A-E8AEF4E0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9239E-4397-4EA7-9253-3A3F9F13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2A52-7C48-4047-9396-42002D6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91FA-75EA-4EE1-B758-6AB027C0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5D0-AF56-4926-A2F4-428399FD8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59B-D612-46BF-8159-21281F8A2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4D56-4AF6-422C-A318-CABA680584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F721-EB2D-4824-A64D-7925DB662C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E37B-BECA-411C-B764-1EA5EFBF2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5A33-1AC9-4A0D-9148-ED14640E2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B28-064B-4C5E-B2F6-B47CA6A59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496-E2C8-49F6-A7BA-622476F8D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FC9-0F67-4FB4-85CE-2B0E0921C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1538-A6CD-4BE3-B688-C0C93BAFA8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FFF1-9D70-49E1-947E-F9CE7FFA1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AA8-38F2-4AAD-A392-B8469B844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ps.zcu.cz/materials/fikult.rtf" TargetMode="External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Lucie Bieli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Simona Jakubc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Martin Liz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e jako nástroj naplňování očekávání zájmových stran v určité organizační struk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Otázk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k se kultura, struktura a strategie navzájem ovlivňuj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Dlouhodobý rámec a směr, který sjednocuje ve firmě její hlavní cíle, priority a ak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cké 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vorb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mplementace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Vliv na obě fáze strategického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trategická myopie“ – co fungovalo v minulosti, bude fungovat i nadá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Vý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Determinace svými postoji a hodnotami - „filtr“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Zpracování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ilná kultura – stejná interpretace – omezené množství alternativ strategi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vorba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žerská subku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ční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ální  hodn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mplementace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e jako podpora nebo bariéra kult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11280" y="2421000"/>
          <a:ext cx="8280360" cy="3921120"/>
        </p:xfrm>
        <a:graphic>
          <a:graphicData uri="http://schemas.openxmlformats.org/drawingml/2006/table">
            <a:tbl>
              <a:tblPr/>
              <a:tblGrid>
                <a:gridCol w="1890720"/>
                <a:gridCol w="2914560"/>
                <a:gridCol w="1736640"/>
                <a:gridCol w="17384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strate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k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lab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ág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strategie na kultu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633400"/>
            <a:ext cx="76932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bsah“ strategie jako „způsob, jak věci dělám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 jako informace, kam společnost směř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kulturní artefakt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Šipka doprava 5"/>
          <p:cNvSpPr/>
          <p:nvPr/>
        </p:nvSpPr>
        <p:spPr>
          <a:xfrm>
            <a:off x="1979640" y="4508640"/>
            <a:ext cx="500040" cy="2696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jako „zástupce“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2572920"/>
            <a:ext cx="76932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ísemná neexistence strategie, ale realizovaná pracovník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ředpokladem je silná firemní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Extrémní situace: žádná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Řízení odrazem firem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Upevňování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Výběr vhodn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liminace uchazeči, kteří nezaručují akceptování hlavních hodn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bízení vzorů žádoucího chován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na příkladu kariérového postupu úspěšných pracovníků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daptace nov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sou programově seznamováni s historií, tradicemi, hodnotami a normami organiz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Čtyři varianty vztahu jedince </a:t>
            </a:r>
            <a:br>
              <a:rPr sz="2800"/>
            </a:b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        k organizační kultuře</a:t>
            </a: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cc00"/>
                </a:solidFill>
                <a:latin typeface="Arial"/>
              </a:rPr>
              <a:t>(K.A. Golden, 1992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Jednoznačn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vání zcela koresponduje s normami dominantní organizační kultur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Napjat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se chovají ve shodě s direktivami kultury. Mají však výhrady. Typickým projevem jsou vtipy na úkor organizace. Pomáhají tlumit konflik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taj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inec vyslovuje souhlas s normami, skrytě je však neakceptuje a nedodržuje. Když to není nebezpečné, demonstrují svůj opoziční posto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tevř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otevřeně neuznává hodnoty a normy dané organizace. Chovají se tak, pokud vědí, že je nestihnou žádné sank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ganizační kultura v mezinárodních společnostec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ztahy mezi národní a organizační kulturo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ka organizace mohou ovlivnit 2 kultur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je reprezentantem národní kultury např.: americké, německé nebo japonské podniky,  jejichž podnikové kultury jsou převážně odvozeny od národních kulturních trad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určitého podniku je samostatná a nezávislá.V rámci jedné národní kultury může existov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íce podnikových kultu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zi firemními kulturami organizací a dceřiných společností existují tři typy vztahů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ální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centrická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entrická podniková kultur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bsa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(definice, prv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a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iremní kultura 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Upevňová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ztah jedince k organizační kul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v mezinárodních společnos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lobální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a kultura pro všechny, často jde o hodnoty platné v zemi, kde je ústředí nebo organizace vznikla. Posilují se centralistické tende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kční, rychlá a spolehlivá komunikační síť (shodné významy, pojetí, interpretace), jednotná symbolika (značky, loga), mezinárodní identifikace, shodnost základních priorit a cílů firmy, nízké náklady na vzájemnou koordin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ěkd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álo citlivé na místní podmínky, nemusí umožňovat rychlou reakci na dílčí změny trhu, vysoké náklady na  mobilitu vedoucích pracovníků z mateřské firm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olycentrická podniková k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ytvoření specifické subkultury v každé jednotlivé zemi, značné osamostatnění dceřiných společností, vlastní systém řízení, vycházející  z místních tradic, zkušeností a odpovídající národní mentalitě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ozšíření základny zkušeností, při řešení problémů, omezení neproduktivních střetů a konfliktů, lepší zachycení změn v místním okolí a rychlá reakce na n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xistence jednotné kultury, a tedy i vědomí vzájemné provázanosti složek a jednotnosti organiz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eocentrická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organizační kultura, vytvořena spojením příznivých stránek kultur jednotlivých zemí. Problematické rozeznat teritorium sídla a „národní charakter“ firmy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kultura organizace respektující zvláštnosti jednotlivých zemí. Podmínkou existence je tolerance jedinců k jiným kulturám, schopnost jim porozumě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ejednoznačnost výsledku a nutné úsilí, spojené  s vytvářením této kultu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Zdroj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LUKÁŠOVÁ, R., 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kultura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Od sdílených hodnot k vyšší výkonnosti. Praha: Grada Publishing, 2004. ISBN 80-247-0648-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ĚLOHLÁVEK, F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chování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Učebnice pro každého. Olomouc: Rubico, 1996. ISBN 80-85839-09–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Interkulturní managemen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Lidé, kultura a management. Praha: Grada Publishing, 1996. ISBN 80-7169-260-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kps.zcu.cz/materials/fikult.r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Calibri"/>
              </a:rPr>
              <a:t>https://is.muni.cz/auth/tema/?issexppar=1&amp;isshlret=michal+mar%C4%8D%C3%ADk&amp;isssubm=Najdi&amp;isshlv=tthesis&amp;issu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Definice organizační kultu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Jak se věci u nás dělají“ … 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, co je pro organizaci typické, její zvyky, převládající postoje, vytvořené vzorce akceptovaného a neakceptovaného chování.“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Drennan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vky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áklad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z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ástroj utváře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sady chování v organiz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st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tefak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486900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530064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Sche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Artefa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Hodnoty, pravidla a normy ch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Základní předpokla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3284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2436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16360" y="4797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16360" y="3284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Hofste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3440" y="2729160"/>
            <a:ext cx="3489120" cy="3051000"/>
            <a:chOff x="3043440" y="2729160"/>
            <a:chExt cx="3489120" cy="3051000"/>
          </a:xfrm>
        </p:grpSpPr>
        <p:sp>
          <p:nvSpPr>
            <p:cNvPr id="522" name="_s121869"/>
            <p:cNvSpPr/>
            <p:nvPr/>
          </p:nvSpPr>
          <p:spPr>
            <a:xfrm>
              <a:off x="3043440" y="3164040"/>
              <a:ext cx="2616120" cy="2616120"/>
            </a:xfrm>
            <a:prstGeom prst="donut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_s121870"/>
            <p:cNvSpPr/>
            <p:nvPr/>
          </p:nvSpPr>
          <p:spPr>
            <a:xfrm>
              <a:off x="6008760" y="377208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_s121867"/>
            <p:cNvSpPr/>
            <p:nvPr/>
          </p:nvSpPr>
          <p:spPr>
            <a:xfrm>
              <a:off x="3370320" y="3490920"/>
              <a:ext cx="1962360" cy="1962360"/>
            </a:xfrm>
            <a:prstGeom prst="donut">
              <a:avLst>
                <a:gd name="adj" fmla="val 1666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_s121868"/>
            <p:cNvSpPr/>
            <p:nvPr/>
          </p:nvSpPr>
          <p:spPr>
            <a:xfrm>
              <a:off x="6008760" y="342432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rdinové ( Hero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_s121865"/>
            <p:cNvSpPr/>
            <p:nvPr/>
          </p:nvSpPr>
          <p:spPr>
            <a:xfrm>
              <a:off x="3697560" y="3818160"/>
              <a:ext cx="1307880" cy="1307880"/>
            </a:xfrm>
            <a:prstGeom prst="donut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_s121866"/>
            <p:cNvSpPr/>
            <p:nvPr/>
          </p:nvSpPr>
          <p:spPr>
            <a:xfrm>
              <a:off x="6008760" y="307656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Rituály ( Ritual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_s121863"/>
            <p:cNvSpPr/>
            <p:nvPr/>
          </p:nvSpPr>
          <p:spPr>
            <a:xfrm>
              <a:off x="4024440" y="4145040"/>
              <a:ext cx="654120" cy="65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_s121864"/>
            <p:cNvSpPr/>
            <p:nvPr/>
          </p:nvSpPr>
          <p:spPr>
            <a:xfrm>
              <a:off x="6008760" y="272916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odnoty ( Valu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4586600">
            <a:off x="4074120" y="4789800"/>
            <a:ext cx="1206360" cy="642960"/>
          </a:xfrm>
          <a:prstGeom prst="flowChartOnlineStorage">
            <a:avLst/>
          </a:prstGeom>
          <a:solidFill>
            <a:srgbClr val="ff99ff">
              <a:alpha val="87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4311720"/>
            <a:ext cx="1366920" cy="609480"/>
          </a:xfr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  <a:ea typeface="Arial"/>
              </a:rPr>
              <a:t>Pract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Organizační kultura a výkonno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bsah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íla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3429000"/>
            <a:ext cx="86508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42920" y="3429000"/>
            <a:ext cx="122580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5157720"/>
            <a:ext cx="1871640" cy="1008000"/>
          </a:xfrm>
          <a:prstGeom prst="ellipse">
            <a:avLst/>
          </a:prstGeom>
          <a:solidFill>
            <a:srgbClr val="99cc00">
              <a:alpha val="87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Výko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obsahu organizační kultury na výkonnost organizace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Dvojí účinek na výkonnost orga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Aktivuje (neaktivuje)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v závislosti na konkrétních hodnotách a normách chování, které zahrn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Směruje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k naplňování těch hodnot a cílů, které jsou kultuře daného obsahu vlast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síly kultury na výkonnost organiza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souladu ve vnímání a myšlení pracovníků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snadňování komunikace a redukce konfliktů uvnitř organiz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usměrňování chování jedinců v organiz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dílení společných hodnot a cílů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jedinci pociťují sounáležitost k organizaci, pozitivní postoj ke spoluprác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fixace organizace na minulou zkušenos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zavřenost, ignorance signálu z vnějš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bránění myšlení v alternativá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snaha o vyhnutí se kritice a konfliktům, podpora konform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rezistence vůči změná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55:53Z</dcterms:created>
  <dc:creator>Lucie Bieliková</dc:creator>
  <dc:description/>
  <dc:language>en-US</dc:language>
  <cp:lastModifiedBy>admin</cp:lastModifiedBy>
  <dcterms:modified xsi:type="dcterms:W3CDTF">2008-12-01T19:49:34Z</dcterms:modified>
  <cp:revision>21</cp:revision>
  <dc:subject/>
  <dc:title>Organizační kultura a strategie</dc:title>
</cp:coreProperties>
</file>