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1BC-050E-4116-B37F-DA3465B1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B4D-4130-4E99-B3D6-1B1CAE76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4F60B-4A97-4C1A-BF37-7BD1011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6CBA3-E65D-4321-A857-FE88CCF1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6DCD2-DFE3-48D2-94BA-D574E77E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EFDB9-8E72-4DF3-B68F-9F1FCDA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F9647-246D-4A3B-A733-26499D94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26832-84A6-4366-8E11-5F3D3406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7C5EE-3B14-466F-A654-5A63E2EC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5C3D5-679C-4B2F-A3F0-60756F8E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D6408-90D0-4374-8936-42A9A954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1FA33-88C3-4FC1-B5A4-0D52BA08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61E-8B2C-4031-AA0F-8FC83D71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8E3B6-8BAF-4B69-8CAB-D1A73ED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D6710-471F-409E-A2C5-22417E8A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8B618-011D-4EDB-BF40-FFD46A57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650F8-3646-4D4C-9EBE-C5B0195C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FC3FE-00DD-40ED-9EB5-390DEAF2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CAAA7-A665-49B1-80DF-A0FDF16F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94F29-3A1B-4D98-95C4-5D279CF3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28498-386A-407E-AB24-4F2541D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C8727-98B8-437B-9E8F-F0A197F0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F7D83-B004-4820-8E97-2ECF8963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016-3E5C-43F3-BD8E-81FE7A58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963AE-011A-4191-9B7E-7A5C632B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F3BC8-B51E-4407-821E-5D13DDB0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0B0A8-35BF-4765-A743-5CF23F01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6FC7F-1122-464B-AC71-539E4A5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B9B79-6FCC-44E9-9F35-B36F638F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C1459-878B-4936-B509-02ABB35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43B24-49E5-488A-9CC6-309D403D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6FE2B-DFEE-40F8-B58D-FF15527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893D0-5BC0-427E-A373-C7C30E68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208A5-C39D-49F7-A44D-F499A34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1D6-EC11-430D-9C4D-BF97ACB3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D43B2-7D53-41D3-A40C-C0DE7C57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33453-74BC-4D8F-B035-FD2DEF37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3A4D2-421F-4A36-A0C0-5D123DD0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F6A16-955C-4D84-B148-CF45EDE8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03FC2-D175-4F72-996B-10346F8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E5D31-D91A-4D2F-B00A-D9D9B492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AC873-DE31-46E9-A110-38261FE2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3D3BB-313C-4671-AEF6-DD909C13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E0D16-3284-4EE0-8C09-515DD8FB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377E4-9671-4779-B679-E00A159C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86E2-0422-4F66-894F-0CDECF6F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CD4B2-BFA2-44A3-9977-C407E055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AA6E7-176D-4133-9983-97C134A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3923C-E504-4E6A-A73D-1A5D0C43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D8200-DEAF-4375-A917-BC3A28BD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88AC9-FA1A-4D3C-8E78-74B23455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1C5C-C943-44B2-ACEB-847E925A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A0F5-62B5-4DAB-8D89-766C464C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F3EB-4BBE-4F95-A7B9-8F2AAEEA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EC6A-4418-489C-8143-D00D7878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4C01-F7BF-4979-AB9E-6F3AE931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835-00F5-45EF-8225-F8926BFF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0672-D5AD-4733-9F01-A52F1F5A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758A-6E6B-412B-BBE4-E30F8A41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E768-C63A-4A89-B5A1-ACB749E3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D097-258C-46D9-BE2B-77C783D7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D125-094D-42A0-A7A6-C6BAAFCF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284F-A484-44C6-B6D3-100D06EE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35D0-D64F-4172-B0D2-382BE268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45DC-9C32-46C8-AA17-D341CBF4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EE99-5720-45D0-8B81-777F850C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3E45-900C-47A7-99C0-FA36C18B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44B-7C8D-4540-99D1-2393B4DB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AE4E-0929-4F2F-A76B-6AA0BBDD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90DD-0D1E-4472-859C-19306AA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2C4D-DEE4-42D5-8677-2F774CCF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0A44-EB0B-4B1E-98BC-8C3D4004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4A33-462B-4301-B2DB-912E81FF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8D34-E12D-4A62-987E-836A6AEE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EE9B0-DCD5-41F3-A606-6EA55DC6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21D2-356F-4336-81AF-DC4485C6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18FB-3ACE-4E20-A812-B9775904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C75C-C6E2-4767-8ACC-D7937FEA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876-D9D3-4533-9B53-F49F428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DD294-5347-4CDF-B856-FDC102B6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4BC1-C979-4600-9723-2075EFC9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017A3-ECA5-48C5-BCF4-2E784B64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014E-F80F-4E5D-AB92-8C74FF8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9381-A2AD-47B4-B721-D6FD888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279AD-1E9F-4656-9D8A-56DCD92E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E9DB-6054-44DF-9920-7D90324F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C0CF-70B7-414D-8EBE-93BD4083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7C8C-DBB2-49A4-A00C-FFA6A092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488E-6E20-4EA5-A073-94B2A61B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3D8-4E45-4B0D-BA3E-58E6C869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BB47E-B9CE-4732-B8A3-745C872F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58303-E986-4AD9-A377-8F5FCD20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29DC-8ACE-4A4C-B992-DC8F862A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8A975-AA79-4C9B-8B37-006D7686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C63E-912B-48A0-8F24-F5442B2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FAC54-A0D3-4BF9-BADE-AE8B458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7A46F-1383-4C83-9587-2F6C19CF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D09D-C670-4478-968D-FA20C154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6405-DABD-4B5E-9F8D-E8AFAEC0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51689-FD56-4DB9-9543-23E2BE26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E19-2068-437B-8677-632CA036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B608A-A0F4-4226-B5F2-9932C42A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967D-BEEE-4001-9652-735E1A38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26F9-F207-4172-AA52-BD2A78BA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CCB80-8DC5-4D82-A9B1-4D65AFAE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71B26-80F1-47B2-BFA7-99E4C25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CAF17-A147-445E-BA90-7136845F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305AF-556F-42E5-9658-287FF8DB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4CB56-A899-4474-8CFC-65F2D62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20FF3-33A4-4528-91A4-A634C46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02AD-5048-4966-A61A-E91A68D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766-A01B-4FBC-9932-50F22CA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480EE-A833-4AEC-B2B9-C5242F59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7B2A6-85F5-4D41-93F2-077540AB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9B003-A960-4E97-9419-2253F804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097E-6B2B-4A03-B05F-F932F13B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1AEB3-657C-4AA3-BE76-86A9EDB6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D0DD8-CECA-4FF0-A973-AEC9B8A8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15571-ACC0-498C-B776-2D7EEF2E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B49F7-F6E9-4396-8766-5F8423A4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C5156-44E7-4182-965A-99489386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1DB7-CFDB-435D-9CE3-20C1DAD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984-B921-4807-847F-8BC51CE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9E764-BD7E-40BD-8EE8-462117C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D55FB-9B0C-42C0-9522-E19B2C8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932C9-64A2-4171-BCA1-EDADBE00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FC6C8-EFDE-41F2-8FB8-3AF1E812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8C6C-9A15-4CF8-967A-13AC702F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AB9C-ED80-41A9-905C-3506D6B3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68641-84FD-4923-B99F-64BFD362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62358-6434-4A80-899C-1693EF52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88922-C673-41BE-83CC-9C8D56C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C6BFC-732D-47EC-94D1-AD48866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052-1AA1-4F29-90A3-B03FD28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E0522-5F1F-4313-BF07-E6883AF4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FF730-E918-4872-8C7B-75F511FA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4CF5F-82AA-43F6-8DFE-FB291E2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EF6A4-276C-47DE-B781-0744DF96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82FEB-9602-48A1-92DF-37C74F49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89336-B531-47B5-8C03-4674F80F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5C7C6-9185-4270-8E11-A9404B38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FE07B-B52A-487C-BD73-1053E02C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A7007-FA63-40FC-9883-72159EFD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B7057-E970-4D5E-85CD-83DD5FE2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7CC3-34E8-475B-868B-9B2B040C0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894C-BE8B-4BC9-845F-2C21313CB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5FD2-09CB-42EA-B0A9-E6520FE45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8199-7E8E-409B-9C94-15D9409A0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25B4-4A47-4BA4-AD18-CE7FEE087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1D3-8189-4819-A414-6E3C41E74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D0E2-5C84-4774-9F7F-CAF634117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44E7-0183-4A26-9BE1-9125462E3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FF3B-A66D-46B6-A601-800594D8E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FB0E-37BB-4EBC-81C8-782A66E36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DC64-0731-466E-9D3F-CAE9E43EF6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B5D8-F92E-43AE-80B0-D74258DD6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6349"/>
                </a:solidFill>
                <a:latin typeface="Georgia"/>
              </a:rPr>
              <a:t>Organizační kultura a strategi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dnikov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siness – obchod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k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ické strategi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náklad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výrobek/služb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zákazníka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 x selský rozum a prax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konalý systém řízení neexistuj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yhovuje-li jakýkoli systém pro 70-80% požadavků, pak vyhovuje na 100% - zbytek jsou výjimky, jejich systémové řešení je neefek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aždý podnik musí umět „hasi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ze a strategie jsou všeobecně neproveditelné nebo nerealistick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dotažena na cíle střediska, oddělení, apo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svázána s dlouhodobými a/nebo krátkodobými alokacemi podnikových zdroj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pětná vazba necharakterizuje strategické záměry, ale jen opera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Nadpis 1"/>
          <p:cNvSpPr/>
          <p:nvPr/>
        </p:nvSpPr>
        <p:spPr>
          <a:xfrm>
            <a:off x="468360" y="26028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vytvořena jako SAMOSTATNÝ doku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jasné určení odpovědnosti za naplnění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ní dostatečný a vypovídající set metrik (ukazatelů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zi kulturou a strategií existuje oboustranně determinující vzta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kultury ovlivňuje tvorbu, obsah a realizaci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strategie vede k formovaní určitého typu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kultury na strategi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tvorbě strategie respektovat obsah a sílu organizační kultu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Vliv organizační kultury na proces tvorby a implementace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cíleném vývoji strategie ovlivňuje kultura organizace především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Postoj k potřebě formulace strategie a míru opatřování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Zpracování a interpretaci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Množství a obsah formulovaných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z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 jako „zástupce“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b9899"/>
                </a:solidFill>
                <a:latin typeface="Georgia"/>
              </a:rPr>
              <a:t>Soulad mezi kulturou a strategií</a:t>
            </a:r>
            <a:br>
              <a:rPr sz="2900"/>
            </a:br>
            <a:r>
              <a:rPr b="0" i="1" lang="cs-CZ" sz="1400" spc="-1" strike="noStrike">
                <a:solidFill>
                  <a:srgbClr val="7b9899"/>
                </a:solidFill>
                <a:latin typeface="Georgia"/>
              </a:rPr>
              <a:t>(podle Scholz, 1987, s. 85)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301680" y="1523880"/>
          <a:ext cx="8534160" cy="4598640"/>
        </p:xfrm>
        <a:graphic>
          <a:graphicData uri="http://schemas.openxmlformats.org/drawingml/2006/table">
            <a:tbl>
              <a:tblPr/>
              <a:tblGrid>
                <a:gridCol w="1878120"/>
                <a:gridCol w="2239200"/>
                <a:gridCol w="2240280"/>
                <a:gridCol w="2176560"/>
              </a:tblGrid>
              <a:tr h="48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strate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ab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ág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1)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(2)  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3)    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(4)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(5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        (6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            (7)                                       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(8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??                                      (9)                                        směr??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strategie na kultur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měl by být dominant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se stává pro členy organizace samozřejmou → vznik kultury odpovídající strateg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vorba strategie → utváření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ako „kulturní artefak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ulad mezi obsahem strategie a obsahem kultury je podmínkou dlouhodobé úspěšnosti fi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álem však není naprostá identi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Zdroje, litera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LUKÁŠOVÁ, R., NOVÝ, I. a kol. Organizační kultura. Praha : Grada, 2004. ISBN 80-247-0648-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ÁGNER, I.: Systém managementu. Brno: Vydavatelství MU, 2007, ISBN 978-80-210-4264-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LAŽEK, L. Management II. (Sylabus) Brno : Masarykova univerzita, 2006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ciální jev vztažený ke společenstv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evantní pojm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dniková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irem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d 70. let 20. 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představuje „tmel společnosti“ a plodí pocit „to jsme my“, čímž působí proti procesům diferenciace, které jsou nevyhnutelnou součástí života organizace. Kultura organizace nabízí sdílený systém významů, který je základem komunikace a  vzájemného pochopení. Jestliže tyto funkce nejsou plněny uspokojujícím způsobem, může kulturavýznamně oslabovat efektivnost organizace.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P. Brosse, J. Hentze 198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jsou společně vyznávané přesvědčení, postoje a hodnoty, které existují v organizaci. Jednodušeji řečeno, kultura je „způsob, jakým něco děláme.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Furnham a Gunter 1993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ři chápání kultury jako způsobu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mysl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 a myslí (kombinace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naha o zobecnění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ganizační kultura představuje soubor základních předpokladů, hodnot, postojů a norem chování, sdílené členy společenství, které se projevují v jejich myšlení, cítění a chování a v artefaktech (výstupech činností) materiální a nemateriální podoby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        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ágner I., upraveno podle Lukášková R. a Nový I.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nější projev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ne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Histork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Mýt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Jazyk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Image podnik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Vzhled budov, kanceláří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Podniková uniforma, produkty vytvářené podnikem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avidla společenského styk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dno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o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rmy chování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Zdrojem jejich vzniku je opakovaná zkušenost, či spíše funkčnost určitého způsobu řešení daného problému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tři úrovně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539640" y="1916280"/>
          <a:ext cx="7993080" cy="4063680"/>
        </p:xfrm>
        <a:graphic>
          <a:graphicData uri="http://schemas.openxmlformats.org/drawingml/2006/table">
            <a:tbl>
              <a:tblPr/>
              <a:tblGrid>
                <a:gridCol w="3095640"/>
                <a:gridCol w="1800360"/>
                <a:gridCol w="309708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RTEFA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ĚDOMÉ,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DNOTY, PRAVIDLA, NORMY CH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ČÁSTEČNĚ VĚDOMÉ, ČÁSTEČNĚ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ÁKLADNÍ PŘEDPO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EVĚDOMÉ, SPONTÁNNÍ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24000" y="1557360"/>
            <a:ext cx="853416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lná původní myšlenka nebo vi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ednotná firemní kultura a politik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á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26040" cy="4089600"/>
          </a:xfrm>
          <a:prstGeom prst="rect">
            <a:avLst/>
          </a:prstGeom>
          <a:ln w="0">
            <a:noFill/>
          </a:ln>
        </p:spPr>
      </p:pic>
      <p:sp>
        <p:nvSpPr>
          <p:cNvPr id="624" name="Zástupný symbol pro obsah 2"/>
          <p:cNvSpPr/>
          <p:nvPr/>
        </p:nvSpPr>
        <p:spPr>
          <a:xfrm>
            <a:off x="324000" y="3068640"/>
            <a:ext cx="374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ě navržené a efektivně fungující proces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ngující princip zpětné vaz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jem „strategie“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vyjadřují základní představy o tom, jakou cestou budou firemní cíle dosaže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plán naplnění mise a vize společnost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forma několika scénářů budoucího vývoje a reakcí firmy na jednotlivé možné varianty budoucího vývoje společnosti a jejího okol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7:39Z</dcterms:created>
  <dc:creator>Vajcka</dc:creator>
  <dc:description/>
  <dc:language>en-US</dc:language>
  <cp:lastModifiedBy>snoopy</cp:lastModifiedBy>
  <dcterms:modified xsi:type="dcterms:W3CDTF">2008-12-01T10:24:35Z</dcterms:modified>
  <cp:revision>11</cp:revision>
  <dc:subject/>
  <dc:title>Přirozený a umělý řád</dc:title>
</cp:coreProperties>
</file>