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F84E-4010-4307-930F-8494C92BD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2FE9-E403-4971-8953-52DC9A7D1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D664-691C-48D3-9EED-5CB0E3487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F301-C3A5-498B-82A1-1247C900A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39F7-9E15-46E3-952A-E0728A584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56C9-C9E6-4BDD-9EB2-3AC95175A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4D1B-B954-45B2-B379-5ADFDD314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DE05-5071-432E-A2F6-478839ED8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C96F-E0B6-4337-9F31-90067EABD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4502-2DC7-47E7-BA9F-57E5D7DD3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1FBB-5556-4E36-80D4-C5CE7BFA0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5558-C004-4018-ABD2-59662BF81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BFE6-BA18-486F-BD07-E64F901EB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ADC0-9A5E-4065-B71A-0C88EE42F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A2FC-0E4F-4751-8FA9-53C765432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B141-B92F-4B30-98E0-210407EC1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DC8F-C6A9-47BD-8869-933FE879A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1EEF-2BF9-4AF2-A0A3-E3B7A9A2F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05E1-E07C-4E82-8195-D4D5E4329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D5A8-7594-42EC-951A-3E218D9C9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6DEB-6697-4716-8E64-FC4FC5F29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17AD-CDBA-446F-929D-A39B5124D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1692-273A-43F8-92A1-CD2B3FDCA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112-1854-402D-9E96-7ADA6982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88E-AF02-4352-8767-EED62710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350-D3C3-44AC-A440-B3C0F463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669-DFF3-4639-A23C-EA2F8C41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551-F64C-4A97-AFAC-3F50F30F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567-8DE6-4238-B621-0042438B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B41-8C8B-4DED-B18A-18076856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514-D046-45E3-BB5F-A037E1DC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23A-83A0-46A2-9D8F-6144BB57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9D6-ED20-40DC-BB22-1887A65A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50D-BAB2-4858-9197-E1C79757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A24-E043-40B7-AF1A-F8F42197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BC7A-F851-4094-8719-5B6156F8FE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RGANIZAČNÍ KULTURA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Od sdílených hodnot a cílů k vyšší výkonnosti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5728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Bc. Hana Drozd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Klára Ottich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Bc. Kristýna Trnk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Implemen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kultury na strateg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strategie na kultu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oulad mezi obsahem strategie a obsahem kultury je podmínkou dlouhodobé úspěšnosti organizace. Ideálem však není naprostá identita, určitá míra konfliktu vytváří prostor pro tvorbu  nových strategi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výkon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íla OK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ytváří soulad ve vnímání a myšlení pracovník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měrňuje chování lid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namená sdílení společných hodnot a cíl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Fixuje organizaci na minulou zkuše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abraňuje myšlení v alternativá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působuje rezistenci vůči změná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Obsah O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ktivuje pracovní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měřuje k naplňování cílů a hodn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ozitivní vliv kultury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kultur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ontextuálně přiměř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rategicky přiměř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daptiv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 přiměřenými manažerskými praktik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řiměřeně silná a harmonizující, stmelujíc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3"/>
          <p:cNvSpPr/>
          <p:nvPr/>
        </p:nvSpPr>
        <p:spPr>
          <a:xfrm>
            <a:off x="4143240" y="3429000"/>
            <a:ext cx="47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EXISTUJE JEDINNÁ NEJLEPŠÍ VÍTĚZNÁ K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l D.R. Denis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l soupeřících hodnot“ B. Quinna a J.Rohrbaugha (CVM – Competing Values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řet kultur a jeho vliv na výkonnost organiz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Uvnitř organizace může existovat několik subkultur, nebo se může firma zapojovat do vztahů s jinými firmami a jejich OK na úrovn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ubkultur v rámci organ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K v rámci domácích fúzí, akvizicí a jiných forem spolupráce fir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rganizačních i národních kultur v rámci mezinárodních fúzí, akvizicí a jiných forem mezinárodní spoluprá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Jak předejít střetů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ologie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) Ve vztahu k 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 Harrisona a CH. Handy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F. Trompenaar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B) Ve vztahu k vlivu prostředí a reakci organizace na prostřed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T.E. Deala a A.A. Kennedy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soffova typ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E. Milese a C.C. Sno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E. Quinna a jeho spolupracovník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) Ve vztahu k chování organ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ompasový model W. H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eorie „krychle 2S“ R. Goffeeho a G. Jone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ypologie R. Harrisona a CH. Handy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7151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ypologie T.E. Deala a A.A. Kennedy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1336680"/>
            <a:ext cx="81435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agnostik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ba a specifikace teoreticko – metodologických východis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ba výzkumných met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jednotky analý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Může mít trojí účel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funkčnost OK ve vztahu k výkonnosti organiz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obsah OK z hlediska předností a omezení vůči zvažovaným strategickým alternativám (při vývoji firemní strategie) či vůči plánovaným organizačním změná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kompatibilitu (spojitelnost) kultury dané organizace s kulturou jiných organizací (při plánování fůze, akvizice či jiné formy strategické spoluprác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stup utváření žádoucí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dnoznačná, srozumitelná a dlouhodobě udržitelná strate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ormulace očekávání firmy vůči zaměstnanců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ormulace rozhodujících parametr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eskripce a hodnocení současné OK organizace v rozhodujících dimenzích, vážících se ke strategii fm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mezení nejdůležitějších oblastí podnikového řízení, které bezprostředně souvisejí s OK a mají charakter podmínek jejího dosaž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formování zaměstnanc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zdělávání, vysvětlování, tréni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ontrola, sank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agnostika změn v kultuř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Jsou dva základní přístupy k vymezení pojm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Interpretativní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– „něco, čím organizace je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Objektivistický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– „něco, co organizace má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Calibri"/>
              </a:rPr>
              <a:t>Zobecnění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Organizační kultura je soubor základních předpokladů, hodnot, postojů a norem chování, které jsou sdíleny v rámci organizace, které se projevují v myšlení, cítění a chování členů organizace a v artefaktech (výtvorech) materiální i nemateriální povah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iz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bsence jasné a srozumitelné strate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rozhodnost v rozsahu kontinuity a diskontinu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ostatečná operacionalizace očekávání, požadavků vůči zaměstnanc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provázanost nové/žádoucí kultury s jednotlivými personálními činnost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bsence mocenského nebo odborného promotora změ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ůsled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provázanost s ostatními měkkými a zejména tvrdými faktory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konzistentnost organizační a národní kultury či kult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ostatečná identifikace manažerů s žádoucí kulturou, zpochybňování manažersk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átkodobá orient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á kultura navž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liš silná identifikace s novou kultur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UKÁŠOVÁ, R., NOVÝ, I. a kol. Organizační kultura. Praha: Grada, 2004. ISBN 80-247-0648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fstede, Geert, Kultury a organizace : software lidské mysli : spolupráce mezi kulturami a její důležitost pro přežití / Geert Hofstede a Gert Jan Hofstede ; [překlad Luděk Kolman], Praha : Linde, 2007, 335 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ein, Edgar H., Psychologie organizace, 1.vyd.  Praha: Orbis, 1969, 161 s. (Malá moderní encyklopedie ; 6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ky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Artefak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kladní předpokla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odno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to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ormy chován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Jazy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istorky a mý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vyky, rituály, ceremoniá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rdinov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Firemní architektura a vybaven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 je multidimenzionální j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ky jsou strukturované do několika ro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tefakty a chování považují za vnější rovinu 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dgar Sch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.P. Kotter, J.L. Heskett a G. Hofst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. Hall, C. Lund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a síl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= základní předpoklady, hodnoty a normy chování sdílené v organizaci, navenek manifestované prostřednictvím chování a artefakt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íla = nakolik je obsah kultury sdílen v organiz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nik a vývo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droje OK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liv národní kultu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é a tržní prostřed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rofe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akladatel/vůd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elikost a délka existence organiz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kladním mechanismem vzniku a utváření OK je organizační učení – redukce úzkosti a pozitivní posilování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jedin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ztah k O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dnoznačn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apjat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tajen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tevřené nedodržová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Lidé si vybírají organizaci, pro kterou chtějí pracovat, na základě podobnosti mezi jejich individuálními hodnotami a hodnotami deklarovanými organizací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strate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 nefunguje izolovaně, ale je ve vzájemných vztazích s organizační strategií a struktur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voj a realizace strategických rozhodnutí a plánů je záležitostí lidí, kteří jsou nositeli určitých předpokladů, hodnot, názorů a norem chová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ma základními kroky strategického řízení jsou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vorba strategi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mplemen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Tvorba strate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ní strategické analý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nalýza vnějšího okolí a vnitřních zdrojů a schopností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 formulace strate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běr optimální varia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9:05:05Z</dcterms:created>
  <dc:creator>KRI</dc:creator>
  <dc:description/>
  <dc:language>en-US</dc:language>
  <cp:lastModifiedBy>KRI</cp:lastModifiedBy>
  <dcterms:modified xsi:type="dcterms:W3CDTF">2008-12-03T19:47:26Z</dcterms:modified>
  <cp:revision>19</cp:revision>
  <dc:subject/>
  <dc:title>ORGANIZAČNÍ KULTURA  - Od sdílených hodnot a cílů k vyšší výkonnosti podniku</dc:title>
</cp:coreProperties>
</file>