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86A1-C638-464A-A7FF-B662B2CC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BC6A-6833-4233-BB67-60562ED9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C73-A33F-4069-8886-82F6D4D1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AA6-D78A-47A9-A746-92BD992F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DEA0-0F6C-43ED-ADD3-CEE0D0F3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3164-8E5D-48DD-B741-78181C18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3CE2-A8C1-41DA-B8CB-FDAE9069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29D5-7AF7-4B9B-BEE9-58528C28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8737-AA84-43C5-A837-2735F19F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75BB-3708-48F7-AE42-8A5DF94F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38B8-DB39-4938-B3E0-8227F23C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40E9-8AFD-47CA-88AA-2723E9E0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8E86-4F0B-4EAD-B9EB-BA075B4B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D88C-9F46-4A20-8E9E-C638542F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BA3E-576F-43AC-9B59-4F8CE23A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1F23-8D5C-4AAE-B54E-D2C7DF7B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0545-230D-46CE-8ED0-A3E87D78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F1CF-9B0C-4527-960E-465D4C43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352B-A282-4B65-A02B-D99291ED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62BE-DD1B-405D-A169-D5A3F085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BA52-5232-4715-B1EA-5906F59E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3AF-F30F-47CD-AD82-EDF1AD0D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515C-BBF9-44D7-9898-A2F23AB4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1AD-4421-40C7-A412-08F9E3B4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C79F-F72D-4241-8D8B-734178BFD15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E3A9-CA31-4086-A316-4F3A7988100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Environmentalism" TargetMode="External"/><Relationship Id="rId2" Type="http://schemas.openxmlformats.org/officeDocument/2006/relationships/hyperlink" Target="http://ukinczechrepublic.fco.gov.uk/resources/cs/pdf/sternova-studie" TargetMode="External"/><Relationship Id="rId3" Type="http://schemas.openxmlformats.org/officeDocument/2006/relationships/hyperlink" Target="http://www.stuz.cz/view.php?cisloclanku=2007090010" TargetMode="External"/><Relationship Id="rId4" Type="http://schemas.openxmlformats.org/officeDocument/2006/relationships/hyperlink" Target="http://www.stuz.cz/view.php?cisloclanku=2007090010" TargetMode="External"/><Relationship Id="rId5" Type="http://schemas.openxmlformats.org/officeDocument/2006/relationships/hyperlink" Target="http://www.stuz.cz/view.php?cisloclanku=2007090010" TargetMode="External"/><Relationship Id="rId6" Type="http://schemas.openxmlformats.org/officeDocument/2006/relationships/hyperlink" Target="http://www.stuz.cz/view.php?cisloclanku=2007090010" TargetMode="External"/><Relationship Id="rId7" Type="http://schemas.openxmlformats.org/officeDocument/2006/relationships/hyperlink" Target="http://www.stuz.cz/view.php?cisloclanku=2007090010" TargetMode="External"/><Relationship Id="rId8" Type="http://schemas.openxmlformats.org/officeDocument/2006/relationships/hyperlink" Target="http://www.stuz.cz/view.php?cisloclanku=2007090010" TargetMode="External"/><Relationship Id="rId9" Type="http://schemas.openxmlformats.org/officeDocument/2006/relationships/hyperlink" Target="http://www.stuz.cz/view.php?cisloclanku=2007090010" TargetMode="External"/><Relationship Id="rId10" Type="http://schemas.openxmlformats.org/officeDocument/2006/relationships/hyperlink" Target="http://www.stuz.cz/view.php?cisloclanku=2007090010" TargetMode="External"/><Relationship Id="rId11" Type="http://schemas.openxmlformats.org/officeDocument/2006/relationships/hyperlink" Target="http://www.stuz.cz/view.php?cisloclanku=2007090010" TargetMode="External"/><Relationship Id="rId12" Type="http://schemas.openxmlformats.org/officeDocument/2006/relationships/hyperlink" Target="http://cs.wikipedia.org/wiki/V&#225;clav_Klaus" TargetMode="External"/><Relationship Id="rId13" Type="http://schemas.openxmlformats.org/officeDocument/2006/relationships/hyperlink" Target="http://cs.wikipedia.org/wiki/V&#225;clav_Klaus" TargetMode="External"/><Relationship Id="rId14" Type="http://schemas.openxmlformats.org/officeDocument/2006/relationships/hyperlink" Target="http://cs.wikipedia.org/wiki/V&#225;clav_Klaus" TargetMode="External"/><Relationship Id="rId15" Type="http://schemas.openxmlformats.org/officeDocument/2006/relationships/hyperlink" Target="http://cs.wikipedia.org/wiki/V&#225;clav_Klaus" TargetMode="External"/><Relationship Id="rId16" Type="http://schemas.openxmlformats.org/officeDocument/2006/relationships/hyperlink" Target="http://cs.wikipedia.org/wiki/V&#225;clav_Klaus" TargetMode="External"/><Relationship Id="rId17" Type="http://schemas.openxmlformats.org/officeDocument/2006/relationships/hyperlink" Target="http://cs.wikipedia.org/wiki/NGOismus" TargetMode="External"/><Relationship Id="rId18" Type="http://schemas.openxmlformats.org/officeDocument/2006/relationships/hyperlink" Target="http://www.reflex.cz/Clanek21556.html" TargetMode="External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eaeaea"/>
                </a:solidFill>
                <a:latin typeface="Tahoma"/>
              </a:rPr>
              <a:t>Svoboda, ekonomika, příroda, etik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onika Kudl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rie Adam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rantišek Chur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Kritika knih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goizmus naprieč generáciami – budúce generácie budú iste bohatš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e vyspělém světe zemědělství a lesnictví obvykle nevytváří víc než 3% celkového národního produktu. Ostatní odvětví ale klimatickými změnami výrazně ovlivněny nejsou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Hranie si so štatistickými číslami (pesticídy, úmrtia vplyvom teplo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Časová hodnota peňazí a životné prostredi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Že jsme překročili  ekologickou kapacitu území, ještě nemusí být tragické. Je to jako půjčka na dům, ve kterém chceme bydlet a vybavit si jej. Jen si musíme být vědomi, že dříve nebo později budeme tuto půjčku splácet. A čím později, tím to bude pro nás nebo pro naše děti dražší a bolestivější.“ (Matthis Wackernagel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NGOismus (dle Klause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89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GO = Non governmental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. (?): feministky, radikální ekologové, anarchisté, odbory, Al-Kai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GOismus: prosazují věci demokraticky neprosaditelné (př. Greenpea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NGOismus (dle Klause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GOismus typu A: zrušme parl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GOismus typu B: vedle parlamentu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Filipíny, Afr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laus: demokracie vs. vláda skup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NGOismus (druhý pohle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GO vštěpující názory jsou potřebné kvůli prosazování rovných práv menšin (př. vozíčkář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ionální neznalost ostatní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iteratur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KLAUS, V. Modrá, nikoli zelená planeta. Praha: Dokořán, 2007. ISBN 978-80-7363-152-9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Environmentalismus, Wikipedia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06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dostupné z: </a:t>
            </a:r>
            <a:r>
              <a:rPr b="0" lang="cs-CZ" sz="15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en.wikipedia.org/wiki/Environmentalism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Ekonomické aspekty změny klimatu – Sternova zpráva.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08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dostupné z: 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ukinczechrepublic.fco.gov.uk/resources/cs/pdf/sternova-stud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NOVÁČEK, P.: Živá planeta: Sto omyl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  <a:ea typeface="Tahoma"/>
              </a:rPr>
              <a:t>ů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Václava Klause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08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dostupné z: 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http://www.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stuz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.cz/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view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.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8"/>
              </a:rPr>
              <a:t>php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9"/>
              </a:rPr>
              <a:t>?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0"/>
              </a:rPr>
              <a:t>cisloclanku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1"/>
              </a:rPr>
              <a:t>=2007090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Václav Klaus, Wikipedia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08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dostupné z: 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2"/>
              </a:rPr>
              <a:t>http://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3"/>
              </a:rPr>
              <a:t>cs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4"/>
              </a:rPr>
              <a:t>.wikipedia.org/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5"/>
              </a:rPr>
              <a:t>wiki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6"/>
              </a:rPr>
              <a:t>/V%C3%A1clav_Klaus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NGOismus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10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500" spc="-1" strike="noStrike" u="sng">
                <a:solidFill>
                  <a:srgbClr val="ffffcc"/>
                </a:solidFill>
                <a:uFillTx/>
                <a:latin typeface="Tahoma"/>
                <a:hlinkClick r:id="rId17"/>
              </a:rPr>
              <a:t>http://cs.wikipedia.org/wiki/NGOismu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Václav Klaus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10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500" spc="-1" strike="noStrike" u="sng">
                <a:solidFill>
                  <a:srgbClr val="ffffcc"/>
                </a:solidFill>
                <a:uFillTx/>
                <a:latin typeface="Tahoma"/>
                <a:hlinkClick r:id="rId18"/>
              </a:rPr>
              <a:t>http://www.reflex.cz/Clanek21556.html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lobální krize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limatická změn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nožství protichůdných d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ázorová různost, Klaus X G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mo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znamnost dopad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drá, nikoli zelená plane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kologická krize neexistu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íroda se přizpůsob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ověk najde nové zdro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nvironmentalismus je ideolog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munismus – environmentalismu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ýnosy a nákla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droj je vždy funkcí ceny a technologie.“ (str. 4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ysoké náklady na ochranu (plus faktor diskontu) vs. malé výno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doucnost je méně významná než přítomnost.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kce není potřeb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16360" y="4160880"/>
            <a:ext cx="36194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lobální oteplován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eplování začalo před průmyslovou revolucí, pro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vlivem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lověk k němu ale přispí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do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zba mezi CO2 a globálním oteplování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Řešen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ntánní nepolitická, nikým neorganizovaná aktivita miliónů svéprávných a – ve svém vlastním zájmu – racionálně se chovajících lidí.“ (str. 2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chrana přírody ano, environmentalismus ne“ (str. 13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ůst blahobytu =&gt; lepší stav životního prostře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bojovat se změnou klimatu, ale přizpůsobit se j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Odkaz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4.správa Medzivládneho panelu OSN p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klimatické zmeny (únor 2007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Otepľovanie klimatického systému je jednoznačn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Bez zvýšeného úsilia v znižovaní emisií skleníkových plynov dojde k ďalšiemu zvýšeniu teploty, ktoré povedie k nevratným zmenám na klí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Sternova správa (duben 2007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Jeden z podkladov pre závery Európskej rady, ktorá definovala ciele a politiku transformácie Európ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Vyčísluje dopady zmien klímy a ekonomiku a potvrdzuje ekonomickú výhodnosť okamžitého zásah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Boj proti vedeckému konsenz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 „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podléhejme klamu vědeckého konsenzu, který je stejně docilován jen hlasitou menšinou a nikoli mlčící většinou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Je nám vnucována jedna jediná pravda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Kritika knih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áclav Klaus v postavení prezidenta prezentuje menšinové náz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erešpektuje oficiálne stanoviská vlády ČR a EU o klimatických zmená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Jednostrannosť, dezinterpretácia, chyby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kologická nevzdelanosť (kácanie pralesov, biomasa x uhlie, pojmy klima a počasie,..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uský preklad financoval Luko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21:05:23Z</dcterms:created>
  <dc:creator>Uživatel</dc:creator>
  <dc:description/>
  <dc:language>en-US</dc:language>
  <cp:lastModifiedBy>F Ch</cp:lastModifiedBy>
  <dcterms:modified xsi:type="dcterms:W3CDTF">2008-12-10T19:37:00Z</dcterms:modified>
  <cp:revision>17</cp:revision>
  <dc:subject/>
  <dc:title>Svoboda, ekonomika, příroda, etika</dc:title>
</cp:coreProperties>
</file>