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298-627D-47A0-A77A-07A01BFD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9F3-439F-465D-A028-C3415E2E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62C-0459-40A5-A348-CF9FCD89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A2B-A30B-47BF-93D6-70FF1423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BA4E-B9D0-4671-A221-FA9636D8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7FFE-F08D-4CE8-A926-6DAF1BD3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061F-EA54-4ED3-8310-E8B2D9BF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0BC7-CFE9-46BB-97B5-D3F8F500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BBFD-7A7C-4E15-BADB-E483AE61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2C67-55C2-4813-A3D2-DBA9729B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0FC8-AF67-45ED-AE41-708A6361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B3C-0963-411D-90D3-C33D111C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AEF1-6AD9-4FAE-9D54-B669AD2A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8599-F151-4B3E-B095-5F900AD4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B4DB-2698-41C4-B477-D5844B6C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D4E4-8981-40C6-B5C0-98501143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8D5D-3AAB-48A9-B5E2-661818DF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8F8-685A-45FF-9119-44CE37E5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A2A-835B-4B32-8018-2DAC7393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A26-2D2E-4B92-8AC7-05A35102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AEA-A494-4D8B-950F-1DC5B929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D49-9C8A-442D-9AE1-26DE7870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E68-7320-406B-ACD7-7F0FCBFF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F06-0DAF-4910-84CC-22742913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4353-3F23-4BB9-9471-A8CC5C50BAC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A92B-2DF5-416C-A958-E01CA826FF8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318944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627280" y="450828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Michal Plače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Ondřej Roudnick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Juraj Podhradsk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Vztah k vlivu prostředí a reakci organizace na prostředí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Autoři: T.E.Deal a A.A.Kened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19280" y="2484360"/>
            <a:ext cx="6048360" cy="30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Vztah k tendencím v chování </a:t>
            </a:r>
            <a:br>
              <a:rPr sz="4000"/>
            </a:b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organizace 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Kompasový model W.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58323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Diagnostika org. kultury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Kvalitativní metody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ozorování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- zúčastněné/nezúčastněné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Hloubkový rozhovor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problém rozlišit individ. názory a odpověďmi s odkazem na org. kul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Skupinový rozhovor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problém reduková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Analýza dokumentů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doplněk k ostatní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rojektivní metody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nedokončené věty apo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Vše bez předem zvolených kritérií hodnocení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Diagnostika org. kultury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vantitativní metody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ozorování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 zúčastněné/nezúčastněné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otazování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rozhovor nebo dotazní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tody mají standardizovanou podobu – užívány jednotné podněty, u dotazování předem připravené otázky, případně možnosti odpovědí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ílem je změřit četnost výskytu určitých znaků =&gt; nutnost volby znaků relevantních pro obsah kultur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Cíle analýzy org. kultury 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funkčnost OK ve vztahu k výkonnosti organiza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obsah OK ve vztahu ke zvažovaným strategiím firm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kompatibilitu OK s OK jiných organizací – při plánování fúze apo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77a4af"/>
                </a:solidFill>
                <a:latin typeface="Garamond"/>
              </a:rPr>
              <a:t>Utváranie žiadúcej organizačnej kultúry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Postup utvárania O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Riziká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Nové“ výzvy pre OK českých firie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Postup utvárania OK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Prečo utvárať novú OK? (Armstrong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roky utvárania OK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Jednoznačná a dlhodobo udržateľná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Očakávanie firmy voči zamestnanco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Fyzická podoba (jeden dokumen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Poznanie aktuálnej OK (zníženie nákladov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Informovanie a vzdelanie zamestnancov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Kontrola a sankci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Diagnostika zmien v kultúre</a:t>
            </a: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Riziká utvárania OK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Absencia jednej zrozumiteľnej stratégi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Miera kontinuity/diskontinu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dostatočná operacionalizácia očakávaní voči zamestananco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previazanosť novej OK s jednotlivými činnosťami v podniku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Absencia mocenského promotora zmen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dôslednosť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konzistentnosť OK a N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„</a:t>
            </a: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Nové“ výzvy českým firmám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orientovaná na zákazník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podporujúca kvalitu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podporujúca inováci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orientovaná na zákazník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Tržná (nie výrobková orientáci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Marketingová (tržná) O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Vzorec zdieľaných hodnôt a názorov, ktoré pomáhajú jedincovi chápať funkciu marketingu a poskytujú mu normy správania sa.“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616280" y="1585800"/>
            <a:ext cx="4032360" cy="4464000"/>
            <a:chOff x="4616280" y="1585800"/>
            <a:chExt cx="4032360" cy="4464000"/>
          </a:xfrm>
        </p:grpSpPr>
        <p:sp>
          <p:nvSpPr>
            <p:cNvPr id="156" name=""/>
            <p:cNvSpPr/>
            <p:nvPr/>
          </p:nvSpPr>
          <p:spPr>
            <a:xfrm>
              <a:off x="4616280" y="1585800"/>
              <a:ext cx="4032360" cy="446400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0360" y="2924280"/>
              <a:ext cx="1008000" cy="1728720"/>
            </a:xfrm>
            <a:prstGeom prst="triangle">
              <a:avLst>
                <a:gd name="adj" fmla="val 100000"/>
              </a:avLst>
            </a:prstGeom>
            <a:solidFill>
              <a:srgbClr val="b9c4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5723640" y="2997360"/>
            <a:ext cx="1008360" cy="1655640"/>
          </a:xfrm>
          <a:prstGeom prst="triangle">
            <a:avLst>
              <a:gd name="adj" fmla="val 100000"/>
            </a:avLst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580000" y="1483200"/>
            <a:ext cx="2952720" cy="3024360"/>
          </a:xfrm>
          <a:prstGeom prst="triangle">
            <a:avLst>
              <a:gd name="adj" fmla="val 50000"/>
            </a:avLst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96360" y="407664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407664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35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28526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133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628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30520" y="220500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Ľudia na fr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í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4880" y="285264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tred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naž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4520" y="350028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Pojem „KULTURA“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pecifický způsob organizace, realizace a rozvoje činností, objektivizovaný ve výsledcích fyzické a duševní práce.“ [Velký sociologický slovník, 1996, s. 547]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podporujúca kvalitu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podnikových štandardov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IS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TQM </a:t>
            </a:r>
            <a:r>
              <a:rPr b="0" i="1" lang="sk-SK" sz="2800" spc="-1" strike="noStrike">
                <a:solidFill>
                  <a:srgbClr val="000000"/>
                </a:solidFill>
                <a:latin typeface="Garamond"/>
              </a:rPr>
              <a:t>(Total Quality Management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podporujúca inovácie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Typy inovácií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Technologick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Výrobkov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Poskytovaných služieb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Organizačn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5003640" y="1916280"/>
            <a:ext cx="0" cy="30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501336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3722760" y="327348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apacita pre z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9240" y="50133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pä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2133720"/>
            <a:ext cx="2737080" cy="2663640"/>
          </a:xfrm>
          <a:custGeom>
            <a:avLst/>
            <a:gdLst/>
            <a:ahLst/>
            <a:rect l="l" t="t" r="r" b="b"/>
            <a:pathLst>
              <a:path w="1588" h="1641">
                <a:moveTo>
                  <a:pt x="0" y="1641"/>
                </a:moveTo>
                <a:cubicBezTo>
                  <a:pt x="230" y="828"/>
                  <a:pt x="461" y="16"/>
                  <a:pt x="726" y="8"/>
                </a:cubicBezTo>
                <a:cubicBezTo>
                  <a:pt x="991" y="0"/>
                  <a:pt x="1444" y="1331"/>
                  <a:pt x="1588" y="15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Organizační kultura : od sdílených hodnot a cílů k vyšší výkonnosti podniku,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Lukášová, R.; Nový, I.; a kolektiv., Praha : Grada, 2004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, Marques, C.; Jirásek, F., Praha : Bankovní institut, 1996.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Velký sociologický slovník. I, A-O.,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Sociologický ústav (Akademie věd ČR) Praha : Karolinum, 1996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Synergický management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, PLAMÍNEK, J., Praha : ARGO, 2000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Děkujeme Vám za pozornost !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Národní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rganizační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Pojem „ORGANIZAČNÍ KULTURA“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podniková kultura je soubor hodnotových představ a norem chování, který je produktem managementu podniku a ovlivňuje základní postoje zaměstnanců podniku (je všeobecně přijímán a udržován), projevuje se ve všech oblastech jeho života (…) podniková kultura závisí na podniku samotném, na tom, jak si ji podnik určuje, jak rozšiřuje a kontroluje chování svých zaměstnanců a každodenní normy, které považuje za žádoucí (…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. [MARQUES, F.; JIRÁSEK, F., 1996:248]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Scheinův model organizační kultur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Artefakt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astávané hodnoty, pravidla a normy chován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ákladní předpoklad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bsah a síla kultur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888080" y="1722600"/>
            <a:ext cx="35589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árodní kultur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tržního prostřed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profe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zakladatele/vůd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velikosti a délky existence organiza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technologi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Strategie =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&gt;</a:t>
            </a: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 Kultur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Kultura =&gt; Strategi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Vztah k organizační struktuře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Garamond"/>
              </a:rPr>
              <a:t>autoři: R. Harrison a Ch. Hand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Garamond"/>
              </a:rPr>
              <a:t>4 základní typy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moci – dominantní jedinec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rolí – založena na pravidlech a normách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úkolů – orientace na úkol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osob – členové jsou samostatn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8:50:38Z</dcterms:created>
  <dc:creator>Ondra</dc:creator>
  <dc:description/>
  <dc:language>en-US</dc:language>
  <cp:lastModifiedBy>***</cp:lastModifiedBy>
  <dcterms:modified xsi:type="dcterms:W3CDTF">2008-11-24T21:31:25Z</dcterms:modified>
  <cp:revision>6</cp:revision>
  <dc:subject/>
  <dc:title>Vztah k organizační struktuře</dc:title>
</cp:coreProperties>
</file>