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6331-7D65-4C25-98D5-C96C97BD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958F-5D1C-4F2F-AA1D-911F8A79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F919-B291-45FE-B0E0-DC601C65A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4DEC-A58F-4E3B-8EF9-85673F23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E1EE-C99C-4C6C-BC0F-F7DAA5D3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CD54-7C32-4B95-8F1D-1BB3482F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6CC4-6758-4637-8814-61A27C44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158C-63B3-46B4-9DFB-DE666893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E681-586A-48BD-AE3C-1A4725F3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D9A9-6986-464C-8244-3E39DB60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FF84-146B-4580-B346-6ECC7BC9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9884-E0A2-4D34-AB9D-BDC8444D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30AB-6BBF-416D-AF5F-DF802032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A1A1-228B-4711-AF9A-369304B4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16C2-8CE1-4536-98EE-0027D32C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413A-9889-4949-B194-44F9BD3F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4006-4913-422A-91EE-3BF2B76E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2E4E-BFC9-4B6A-B926-DBB1468C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8549-4094-4DBA-8FED-90207AF9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703D-70AF-45BE-ABDB-256141A1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E992-29AD-443C-8538-4D200471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D5F2-F541-4AA1-ACD8-C92791FC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6B19-9978-440C-B203-15A67BC2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A4A0-06AA-4FC4-8E14-80B986E9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25C4-462C-4709-B4D0-001FE2A90325}" type="slidenum">
              <a:rPr b="0" lang="sk-SK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D66B-178C-48A4-A4D4-B48929711290}" type="slidenum">
              <a:rPr b="0" lang="sk-SK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5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dbbd71"/>
                </a:solidFill>
                <a:latin typeface="Arial"/>
              </a:rPr>
              <a:t>Požadavky na manažery na prahu postindustriálního věku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adežda Kaluž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iroslav Mašle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ereza Žáčk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finice problému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dstata problé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ční past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ástupné problé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řešitelné problé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jednoznačné problé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vě práva uplatnitelná před řešením problé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sem ten, kdo by měl problém řeši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 problém jednoznačný, řešitelný a skutečný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alýza problému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zbytná k odhalení vnitřní podstaty problému, jeho příčin a různých souvislos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odely reality (teorie vitality, funkční model firmy, balanced scorecar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běr d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ůvěryhodn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elevance (zahlcení daty malé či nejasné užitečnost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suzování souvislostí (systematické myšlení ubývá, především přírodní vědy, např. matemat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osuzování souvislost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ásled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Časová posloupnost – vyskytuje se samostatně nebo spolu s nějakou další souvislostí? (pomůcka: kalendář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kční vztahy – D je smyslem C nebo C umožňuje/usnadňuje D -&gt; není možné/žádoucí, aby proběhlo D -&gt; 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auzální řetězce – mat.implik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uřad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storové vztahy (pomůcka: map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apacitní vztahy – hospodaření s omezenými zdroji (časové, finanční, lidské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osuzování souvislost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Interak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nfliktní vztahy – „palivo do motoru vývoje“ – při neexistenci stagnace, při neřešení krize, při úspěšném řešení pozvolný vývoj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pětné vazby – pozitivní zpětná vazba je základem individuálního učení, negativní z.v. základem stability dynamických systém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lupráce a synergie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– podmínky rozhodnou o tom, zda budou lidé soutěžit nebo spolupracovat; měli by sdílet cesty a cíle, vhodná diverzita v rolí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spořádanost – vztahy mezi lidmi,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jistota – pravděpodobnost a riziko, proměnliv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Generování možnost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luvené for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rainstorming – nápady se v průběhu zásadně nehodnotí, vytváření neobvyklých asociací, vhodná rozmanitá skup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ystém 365 – vytvořte skupiny po pěti lidech a dejte jim šest minut na to, aby se dohodli na třech řešeních problém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ísemné for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lující papí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nfoban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elfská meto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Generování možnost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ledání inspir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ledání analogi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oda přehledného pátr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apojení laik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říděn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liminace zjevných nesmysl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mysluplné x „smysluprázdné“ možnosti (např. podle konsensuálního pravidla, podle stupně příslušnost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spořádání skupiny možných řeš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edukce počtu možno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ýběr skup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dělování bod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odnocen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va přístup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elativní – nutně potřebujeme vybrat nebo může být řešení uplatněno jen jedno a jedn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Absolutní – více než pořadí nás zajímá, do jaké míry hodnocené možnosti vyhovují kritérií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Ďáblův advokát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– ne personifikace či celkové soud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eznamy plusů a mínus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rovn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námkov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odov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ystém DDB – distributivně delegativní bodov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ultikriteriální hodnoce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ozhodování a realiza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zhodov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utoritativ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articipativ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elegativ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eal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lán – tabulka, mapa ap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onitor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yhodnoc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bbd71"/>
                </a:solidFill>
                <a:latin typeface="Arial"/>
              </a:rPr>
              <a:t>Použitá literatúr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i KAMP, Manažer 21. století. Praha: Grada, 2000. ISBN 80-247-0005-0.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LAŽEK, L. Management II – průvodce studiem. Brn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LAMÍNEK, J., Řešení problémů a rozhodování. Praha: Grada, 200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bbd71"/>
                </a:solidFill>
                <a:latin typeface="Arial"/>
              </a:rPr>
              <a:t>Vývojové trend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verečné tri dekády 20. st. i začiatok 21. storočia sú v znamení rozmachu manažerskej eti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nažér nie je len zamestnancom slúžiaci vlastníkom, ale aj individualitou s ďalšími záväzkami voči rodine, komunitám i voči vlastnému svedomiu (M. Friedman)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bbd71"/>
                </a:solidFill>
                <a:latin typeface="Arial"/>
              </a:rPr>
              <a:t>Motivácia zamestnancov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ajdôležitejšia súčasť práce manažé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namená uvádzanie sa do pohyb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tivácia je vždy seba- motiváci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tivujúce faktory: 1. úcta k ľuď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2. prejavy uznania ľuď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3. poskytnutie zodpoved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4. zába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bbd71"/>
                </a:solidFill>
                <a:latin typeface="Arial"/>
              </a:rPr>
              <a:t>Prečo si prajeme motiváciu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Tahoma"/>
              </a:rPr>
              <a:t>Motivovaní ľudia uskutočňujú zmen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Tahoma"/>
              </a:rPr>
              <a:t>Uľahčovanie riaden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bbd71"/>
                </a:solidFill>
                <a:latin typeface="Arial"/>
              </a:rPr>
              <a:t>Faktory motiváci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cta k ľuď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Jednať s každým zásadovo a spravodli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držovať všeobecné zásady sluš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iať na vedomie individualitu ľudí a rešpektovať rozdiely medzi ni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yjadrovať úctu a vďačnosť za to, že dotyčný prispel k dosiahnutiu vašich cieľo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ejavy uznania ľuď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dmena za prác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aždodenná politika a správa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oskytovanie zodpoved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sobná zodpovednos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ová zodpovednosť pri nevyťažení pracovní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áb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bbd71"/>
                </a:solidFill>
                <a:latin typeface="Arial"/>
              </a:rPr>
              <a:t>Motivačné vzor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oaktivní – reaktiv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rne – externe motivova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rentovaní na rovnakosť – odlišnos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závislí - kooperativ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Základní pojmy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roblém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vnáší do systémů typu firem, rodin či společností nerovnováhu nebo nestabilitu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Stabilita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schopnost systému hledat rovnováhu, dosahovat jí, nebo k ní směřova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Rovnováha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takový stav systému, při němž se působení různých vlivů navzájem ruší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Spor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také vnáší do systému nerovnováhu nebo nestabilitu; souvisí ovšem s přístupem lidí, kteří mají problémy či spory řešit – snaží se prosadit určitý výsledek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Konflikt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nadřazený pojem pro problém i spo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Fáze řešitelského procesu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fini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alýz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enerová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řídě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dnoc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ozhodová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aliz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08:50:36Z</dcterms:created>
  <dc:creator>Tereza Žáčková</dc:creator>
  <dc:description/>
  <dc:language>en-US</dc:language>
  <cp:lastModifiedBy>Tereza Žáčková</cp:lastModifiedBy>
  <dcterms:modified xsi:type="dcterms:W3CDTF">2008-11-24T00:35:09Z</dcterms:modified>
  <cp:revision>10</cp:revision>
  <dc:subject/>
  <dc:title>Základní pojmy a fáze řešitelského procesu</dc:title>
</cp:coreProperties>
</file>