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D4BE-AE2F-4435-ADB2-EA3A8D5A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6A6D-2E53-4F32-95E2-0ADC36D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9EF1-C858-491F-97EB-03462992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7283-A40E-44D9-BB8F-21096FB6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BAF-5AF1-4862-9D78-B99108AA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D2E1-E96D-4C09-B04E-B0E21C1E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5FD-4E99-4373-B794-A6528CE5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1A99-3F4A-428B-B02E-4FC515C0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4C38-0698-4271-B723-F5780D09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2AA-641E-4589-A19D-0EDBD650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22DC-E665-44B4-A660-014B3C30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653C-67AF-4430-9754-23E4EA90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B7FD-455F-46C7-BFD6-E02B1D5F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34E8-8F6A-4A22-BFD1-AD2E7F4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38CB-4176-4042-BD6A-6FC1599C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F16-4DE3-404B-81F7-2A5F7D0D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28D0-39A3-44E2-BDD1-1F613DB8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BAA2-C81D-4B8E-A65B-0B9B052F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C5CE-0DDF-4EB5-8A92-C1D516B7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599B-291F-46C6-B0A1-C95ADEB8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91C2-C49B-4975-AF59-81D3C530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77D4-40C1-417B-8842-F8EA3A3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3F6B-328B-4341-9896-70D649EE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433F-97B1-4243-B75B-49F5A27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BB09-4258-4344-A8FC-C1C7872BB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B55F-C1AE-4C05-8EEA-A901C6954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ožadavky na podnik a jeho řízení na prahu postindustriálního věk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řenková Pet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landrová Terez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vrátilová Ja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ekomunik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aha o zlepšení spokojenosti zákazníků – základní kriterium – hodnota poskytovaných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k oddělení služeb zákazníkům – hodnocen na základě osobní produktivity ( počet tel. hovorů během dn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ispečer – hodnocen na základě míry využívání technických pracovníků (kolik doby stráví u zákazníka a ne na cestě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chnik – hodnocen podle produktivity (kolik zakázek denně vyřídi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2472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azník – okamžitá oprava tel. spojení, spolehlivé tel. spoj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ovník oddělení služeb – vyřídit telefonát co nejrychleji, i když nezískal veškeré potřebné inform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ečer – vysílat techniky do sousedních oblastí bez ohledu na dobu čekání zákazní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k – maximálně zkrátit čas strávený u zákazníka, kvalita práce druhořad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hy  o zlepšení služeb podkopávány vlastním systémem měř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Formální, strukturovaný a kvantitativní model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cí manažerům mobilizovat zdroje nutné k dosažení celkových cí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jující celkové podnikové cíle s jejich kontrolovatelnými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kazuje , že zatažením této páky se otevřou tyto dveř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Promyšlený proces využívání naměřených údajů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lepšování podnikové výkon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ívající údaje k odhalení příčin a určení nápravných opa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konnostní kriteria a žádoucí úrovně výsledků pro klíčové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riteria – objektivní, aktuální, snadno spočitatelná a snadno pochopiteln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Zaměřte se na konečn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5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niky netuší kdo jsou jejich skuteční 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sou od zákazníků odděleni distribučními řetězci (velko-, maloobchody,dealeři, distributoři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lká většina výrobků se dostane k zákazníkovi až projde rukama 1 a více prostřed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 distribuční kanály se dostává velmi málo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i – vědí o vše o výrobku málo o zákazní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toři – vědí vše o zákazníkovi málo o výrob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ční distribuční kanály – nevýkonné, vysoké nákla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ždá transakce zvyšuje cenu x nepřidává hodn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madění zás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ravinové zbo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ené trvanlivé výrob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zi tím než výrobek opustí linku a než se dostane do obchodu uplyne více než 100 d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íce než 40 % zboží projde minimálně 2ma zastávk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každé musí být zboží vyskladněno, uloženo a opět vybíráno a nalož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lkové náklady spojené s toky zásob jsou více než 100 miliard dola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63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Výrobci i zprostředkovatelé musí společně usilovat o to, aby vzájemně umocnily své specifické schop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Maximalizovat hodnotu z pohledu konečného zákazní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Minimalizovat vlast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Přetvořit distribuční kanály ve společenství, která usilují o společné cí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Každý člen společenství dělá to, co umí nejlé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Využívat internetu ke sdílení informací a zefektivnění transak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 2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 internetové stránky – pro distributory (zboží) a pro zákazníky (doplňk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plňky – snadno se balí, posílají, nepotřebují návod ani instal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aler – podíl na zisku podle oblasti, ze které si zákazník doplněk objed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né pro všech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101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vnější zdroje režijních, skladovacích a jiný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jte své procesy s procesy dodavatelů a zákaz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rozdělte činnosti mez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vřeně sdílejte informace se všemi zúčastněným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321000">
            <a:off x="6012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010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844280"/>
            <a:ext cx="7010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užijte příležitost ke spolupráci se spoluzákazníky a spolu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ěřujte firemní kulturu směrem k důvě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36000">
            <a:off x="3995640" y="37159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žerská pravidla pro úspěšnou firmu v 21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doporu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a není soběstačný celek, ale součást uskupení, které vytváří hodnotu pro zákazní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kterizujte podnik pomocí procesů, ne výrobků či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čete procesy ve kterých vynik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činnosti přenechte někomu, kdo je dělá lé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upracujte s ostatními a nedělejte jen sami na se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uďte připraveni zásadně přehodnotit identitu a strategii svého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Dejte se do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ud chcete uspět musíte patřit k nejlepším ve všem. Dnes už nelze být dobrý jen v něč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klad 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ři zásady strategi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, ostatní zruší nebo prod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 výzkumu investovat tolik, kolik je na první nebo druhé místo třeb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akonec: 6 doporučení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etržitě provádějte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klopte se kvalitními lid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lete pozitiv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ále se uč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ánujte co bude po 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ělejte chy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168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52848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UŽITÁ LITERETU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628280"/>
            <a:ext cx="7010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AMMER, M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21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Management Press, 2002. ISBN 80726107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rainer, S. Byznys podle Jacka Welche. Praha: PRAGMA, 1999. ISBN 80720594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ěkujeme za pozorno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šlo k nahrazení nedostatku nadbytk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azníci se stali mnohem zkušenějšími a informovanějšími kupující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robků se staly v podstatě nediferencovanými produ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vět jemuž vládnou zákazní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řizpůsobte podnik svým zákazníkům – staňte se PSNSD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ažte svým zákazníkům jedinou tvá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způsobte své postupy potřebám konkrétního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dvídejte potřeby zákaz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ídněte zákazníkům hladkou a bezproblémovou komunikaci během všech transakcí s vaším podni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užijte možnosti nechat zákazníka, ať se obslouží sá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ejte měřítka výkonu soustředěná na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Dejte svým zákazníkům, co pravdu chtějí - poskytujte VPH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ozlišujte mezi tím, co prodáváte a co vaši zákazníci kupují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ápejte sami sebe jako poskytovatele řešení spíše než dodavatele výrobků či služeb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nažte se pochopit širší  potřeby a problémy zákazníků, přesahující vás a vaše produk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ledujt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 vaši klienti dělají s tím, co od vás dostanou, a buď to udělejte za ně, nebo jim s tím pomozt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Vytvořte řád tam, kde vládne cha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azníci už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ejsou loaj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znova a znova přesvědčovat o kou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ratší život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voj nových a nových výrobků, inov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dej a vývoj nových výrobk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ci pracují tvrdě x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iště jako celek =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a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nevědomky pracují na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protichůdnýc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úkol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á situace se řeší ji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improvizuj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romýšlejí věci za pocho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Arial"/>
                <a:ea typeface="Arial"/>
              </a:rPr>
              <a:t>To, že se něco podaří je vlastně zázra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emický závo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keting – koncept nového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roba – výroba zamítla jako neproveditelný (moc prá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zkum – návrh nové technolog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 – nepraktické ( nerozumí ji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dyž už byl nový produkt náhodou protlač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finance – navrhovaná cena bude stejně ztrá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obchodní oddělení - stejně si to nikdo nekoup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aždé pracoviště vyvíjí obrovské úsilí, ale izolovaně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2165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ORDINACE a DISCIPLÍ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e o to činnosti pouze vykonat, ale sladit j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dohrom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vykonat je v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ém pořad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rčit přesnou posloupnost kroků a rozdělit odpovědnost za jejich plně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=&gt; Opakovatelnost, předvídatelnost a řiditel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lidé nebudou muset vynakládat úsilí, aby zjistili, jak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mají pracovat,mohou se soustředit na podstatu své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užívejte správná měřítka výko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857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ové systémy měření poskytují spoustu prakticky bezcenných údajů, které kvantifikují téměř vš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tom postrádají konkrétní záměr či d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jich takové množství, že se nedají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sou dodávány tak pozdě, že už jsou v podstatě zbyteč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at při řízení podniku finanční ukazatele je jako řídit auto s pohledem upřeným do zpětného zrcátka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05:14Z</dcterms:created>
  <dc:creator>Tereza Kalandrová</dc:creator>
  <dc:description/>
  <dc:language>en-US</dc:language>
  <cp:lastModifiedBy>snoopy</cp:lastModifiedBy>
  <dcterms:modified xsi:type="dcterms:W3CDTF">2008-11-20T13:38:15Z</dcterms:modified>
  <cp:revision>16</cp:revision>
  <dc:subject/>
  <dc:title>Požadavky na podnik a jeho řízení na prahu postindustriálního věku</dc:title>
</cp:coreProperties>
</file>