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A7755-37BE-463D-848B-D0EFF893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94AD7-C473-4556-8731-507FCC21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45012-D420-45BB-AC2B-B92D500C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7ACE0-EEBB-4DE8-BDA7-81E37366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B527-E13D-4DF5-BB12-4C7BB7CF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3B0F-029C-4742-B716-3F7BCEEB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5D14-36CA-4CDC-AB9C-8F2BDFF1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B942-ECE3-4639-87ED-B77452A7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B250-C666-43A1-BEB1-2A0E4494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775A-9585-4A24-9B49-2BFE8C77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2689-92A7-4CA6-818C-53A50AEA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F5493-0E50-4A89-B60B-ECEE0A9B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4179-3102-4F6A-9268-B4CE2CC4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5BB4-1305-4194-8A50-098B9A0E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F635-5BC2-4570-A1EB-DD02448B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9B7B-E956-421A-B90D-A0AF8B69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5C1B-878A-4B9F-AA35-BD291E1F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5F41B-B2AE-4C95-AACD-B7C47D9F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BD2CF-D890-460F-9BE5-6E218A4C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BDC1-78D3-4208-9E84-FA2A0BE5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664D1-6AB0-4157-8A3B-A3C320D2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EC8D-FFA5-4C52-9F70-1CE25DE6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74E8-C4D3-406E-84A6-AFA464BA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D93E7-D900-4399-88FE-3D2A441B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BED5-B6BF-4D46-86FC-6903AEE0E6BC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7759-3A66-4EBE-A390-73B10C7DAC50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800" spc="-1" strike="noStrike" u="sng">
                <a:solidFill>
                  <a:srgbClr val="ffffcc"/>
                </a:solidFill>
                <a:uFillTx/>
                <a:latin typeface="Tahoma"/>
              </a:rPr>
              <a:t>Vývojové trendy podniků a jejich řízení na prahu postindustriálního věku</a:t>
            </a:r>
            <a:endParaRPr b="0" lang="en-US" sz="5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pracovali: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indřich Hovor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ukáš Neradil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Výkonnost, produktivita, efektivita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 disponibilními zdroji vytvořit co nejvyšší efek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tné používat i ukazatele, z nichž lze usoudit budoucí vývoj, nefinanční ukazatel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úhel pohled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ement stresu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Produkt a značk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idružené služ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dávejte zážitky(prožitkový manaž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de in E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arley David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Efektivní portfoli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vádět pouze ty činnosti, v nichž je firma nejlep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ore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ledovat vývoj nákladů, krycího příspěvku a zisku na jednoho zákazní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cc"/>
                </a:solidFill>
                <a:latin typeface="Tahoma"/>
              </a:rPr>
              <a:t>Znalosti základem úspěchu</a:t>
            </a:r>
            <a:br>
              <a:rPr sz="3800"/>
            </a:br>
            <a:r>
              <a:rPr b="0" lang="cs-CZ" sz="2800" spc="-1" strike="noStrike">
                <a:solidFill>
                  <a:srgbClr val="ffffcc"/>
                </a:solidFill>
                <a:latin typeface="Tahoma"/>
              </a:rPr>
              <a:t>F.Bacon: „Vědění znamená moc“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ůležitost nápadů-tvotba vlastní poptáv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dprůměrná úroveň vědy a vzdělávání v Č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elkové investice do vzdělá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R 0,9% HDP, USA 2,7% HDP, OECD 1,7% HD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Š studentů 20-29/1000 obyvat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r 5,6, Francie, VB, Finsko přes 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Rychlost a pružnos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urbulentnost do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kurenční výho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Výkonostní motivační systé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hyblívá složka mzdy motivuje ví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ledování spokojenosti zaměstna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učást morálních kodexů fir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legování odpovědnosti na zaměst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dé potřebují vlastnit úk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Centraliza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utnost sladění všech částí podniku, konec autonomním diviz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formační technologie umožňují lepší propojení celku, umožňují vytvoření a užívání společné báze znal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liminace duplicity proces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Inovativnos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Gates: „Inovace musí být v krvi každého zaměstnance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íklad tranzisto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Zvítězí velcí, silní, progresivní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endence k vytváření alian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mezení duplicit a zvýšení výkon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40% mezi konkure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irtuální fir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Systém strategického řízení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ise, vize, strategiské cíle(měkké, tvrd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rategické řízení je nejobtížnější součást managemen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lad jedinečnosti fi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dvídavost, viz. Con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ariant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slučitelnost kr. a dl. cíl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Úvo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sou jen 2 typy firem, ty které se změní a ty, které zmizí.“ P.Kot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-li tempo změn uvnitř podniku předstiženo tempem změn mimo podnik, blíží se jeho konec.“ J. Wel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čněte dřív, než je to nutné.“ J.Wel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Strategické myšlení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rávný přístup a volba metod k řešení strategických úk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yšlení ve variantá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incip permanent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elosvětové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Interdisciplinární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yntéza exaktního a intuitivního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pětnovazebné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incip koncent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tika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Použitá literatur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SOUČEK, Z. Firma 21. století. Praha : Profesional Publishing. ISBN 80-86419-88-6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SOUČEK, Z. Strategie úspěšného podniku. Ostrava : Montanex, ISBN 80-85780-93-3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HAMMER, M. Agenda 21: co musí každý podnik udělat pro úspěch v 21. století. Praha : Management Press, ISBN 80-72610-74-0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Firmy se musí radikálně změnit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kladní prvky současných firem mají velmi starou histor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vět se však rozvíjí rych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častějším důvodem bankrotu je to, že firmy nereagují na změny na trhu (ne samotné změny) 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ké firmy přežijí a zvítězí v následujícím období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Absolutní orientace na zákazníka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š zákazník- náš diktát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úspěch firmy plně závisí na zákaznící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dnoty, které zákazník vnímá a jejich zlepš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volávat nové potřeby zákazník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držení dobrého zákazníka je mnohem levnější, než získání nového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Silný top management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chopnost strategicky předvídat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učasný svět je chaotick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dvídání a inform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ktivní vytváření budouc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uperkonku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formatiz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uperturbul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globaliz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Silný top manage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ormulace a implementace strategie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budoucí potenciá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dvaha pro radikální změny ve firm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ý styl řízen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hledávání a rozmisťování schopných pracovník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Aktivní vytváření poptávky a hledání nových trhů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xistence poptávky je základním předpokladem pro jakoukoliv firm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ne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ýrazný převis nabídky nad poptávko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rhy jsou přesycen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 skutečnosti nasycený trh neexistuj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uperprodukt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razy ideas“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Specifické přednosti a vnímané hodnot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ecifické přednosti= osobité vlastnosti, které firmu odlišují od jiných fir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azníc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yto vlastnosti musí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 vnímat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žitečně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 využít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usí být ochotni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zaplatit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cen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ustomizace (personalizace) produkt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dnosti nesmí být snadno a rychle napodobiteln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Orientace na špičkové výsledk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uď jste v tom, co děláte, nejlepší, nebo to nebudete dělat moc dlouho.“ J.Wel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irma musí dosahovat špičkových výsledků, aby byla úspěšn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elosvětová konku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lmi složit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jdůležitější prvek: včasná příprava kvalifikace pracovníků pro plnění úkolů, které budou v budoucnu plni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3:20:40Z</dcterms:created>
  <dc:creator>mrerror</dc:creator>
  <dc:description/>
  <dc:language>en-US</dc:language>
  <cp:lastModifiedBy>Lukáš Neradilek</cp:lastModifiedBy>
  <dcterms:modified xsi:type="dcterms:W3CDTF">2008-12-01T09:45:36Z</dcterms:modified>
  <cp:revision>19</cp:revision>
  <dc:subject/>
  <dc:title>Snímek 1</dc:title>
</cp:coreProperties>
</file>