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A2DBBF9-D417-4D08-B1A3-E455189E8F1C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aujímavého miesta, ktoré sa nachádza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mapu svoj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obrázok niektorého zemepisného prvku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, ktorý zobrazuje ročné obdobie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vieraťa alebo rastliny, ktoré sa vyskytujú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Na časovú os pridajte významné míľniky v histórii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em vložte obrázok znázorňujúci určitý zvyk alebo tradíci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hlavy štátu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ilustrujúci niektorú oblasť ekonomiky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6B8-AE06-490D-AF82-F10C7E4B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981-B9C2-462A-A661-A57BC64A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6CE-1292-4A00-865C-A8041027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4FF-94FE-4E27-B926-0B7ACE3F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4A6F-9831-407E-AF29-81974ECE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175E-26F3-4AE9-BDC5-2570B4EC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9864-09EE-48FF-AF39-1BAB1B30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7C9B-DCA2-4D37-B219-8E277011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81AF-CF08-480C-B31D-57B73DC6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1E7D-39A6-4478-BC36-D5797712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26BF-1C38-43EE-A6DE-2DAA174B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673-6E29-4CE0-B87B-80A136FB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3E2A-43D4-4643-8D45-36476CC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36B9-878C-40B4-A074-6B0E18D1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B759-8915-4F1B-844F-7BAC455F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8800-10EE-4ADC-A0A0-7A7E1A61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78E6-1F58-434A-89CC-3F516947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BEF-DF55-4D2D-A7EA-7A8CE00F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014-FC5C-451E-80D6-76D5CAB5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D56-E085-4087-B386-41DAF5E2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4A6-F19C-4840-811F-C254B621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8FE-9DC8-4F6A-94C6-53C43A02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E7D-4CC0-4F22-8B8A-E7A3FAF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6EC-22BF-4744-B9CD-5EA45E6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0453-AA02-4AB1-856C-393E4B4F0375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F3E-1CB0-4BC0-80DC-E294BA5AD0FE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08000" y="189000"/>
            <a:ext cx="5435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ichal Dančiš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rtin Ďube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Tereza Koklar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626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Holandský manažer s mezinárodními zkušenostm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a základě modelů G. Hofsteda, E.T.Halla a dalších autorů a s ohledem na své vlastní zkušenosti rozvinul vlastní model kulturních dimenz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ulturní rozdíly vznikají ve třech základních oblastech život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ostoji lidí k času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přírodě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ostatním lide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těchto oblastí odvodil následující dimenz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Fons Trompena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niversalismus/partikular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utrální/afektiv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pecifické/difuz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sažený status/připisovaný stat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přírod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v č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Kulturní standardy podle Alexandra Thoma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andardy představují konkrétní sociální normy, které jsou příslušníky kultury sdíleny a závazně respektován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jsou měřítkem toho, co je v určité kultuře považováno za normální, obvyklé, typické a akceptovateln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určují přípustnou míru tolerance od jiných standard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zřetelnými se stávají až v interakci s příslušníky jiné kultur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lze je proto identifikovat a interpretovat až v procesu konfrontace dvou nebo více konkrétních kultur (jejich charakteristiky platí opět jen pro tyto srovnávané kultur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epředstavují univerzální škálu, ale výsledky porovnávání konkrétních kultu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ozdíly v kulturních standardech se stávají zdrojem mnoha nedorozumění a často i bariérou vzájemné spoluprá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ze nabídnout poměrně jednoduchý postu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dobře zná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respektov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ztahu k cizí kultuře je třeba učinit vstřícné kro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Strategie řešení podnikové multikultura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minance – přizpůsob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prom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binace a integr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ovace, synerg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dmítnu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dení pracovník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pracovní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úko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 sjednání cí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problém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motivujících pracovních   podmín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vzta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dceňování struktur / láska k improviza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multá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ntrola orientovaná na lid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ájemné prolínání různých oblastí života a aspektů osob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lný komunikační kontex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hýbání se konfliktů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ísavá sebejisto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2781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Děkujeme za pozorno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7058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Schroll-Machl, S. a kol.: Interkulturní komunikace v řízení a podnikání, Praha 2003, Management Pr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 Schroll-Machl, S. a kol.: Spolupráce přes hranice kult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697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Základní literatura, autoř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 a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07160" y="2666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25360"/>
            <a:ext cx="81010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Interkulturní komunikace v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podnikání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7274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Ivan Nov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esor na VŠE v Praz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uje se na problematiku psychologických a sociologických aspektů podnikového a personálního řízení a interkulturního managementu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bývá se poradenskou a vzdělávací činností (Škoda Auto, Volkswagen, Bosch…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ylvia Schroll-Mach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náší interkulturní komunikaci na Wirtschaftsuniver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 ve Vídni a v Regensburg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uje se na interkulturní poradenství a na vzdělávání a výcvik manažerů (Siemens, Hewlett-Packard, Aud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lektorkou v Hernstein International Management Institu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5041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roblém interkurturní komunikace nespočívá jen v dokonalé znalosti cizího jazyka a schopnosti orientovat se v jeho odborné terminologii. Úspěch závisí i na dobré vzájemné znalosti kultury a zejména kulturních odlišností partnerů…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..podmínkou uvědomění si kulturních rozdílů je však i dokonalá znalost sebe sama, tedy kultury vlastní,…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75480" y="263196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505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ociální percep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40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ce – proces vnímaní, ve kterém lidé prostřednictvím svých smys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 přijímají informace z okolního prostředí a zpracovávají je za účelem jejich interpreta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 rozvoji vlastních percepčních dovedností člověka je porozumění procesu interpersonální percepce, v kt. se uplatňují především 3 komponent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jíci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jící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70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a zkušenostmi, motivačními zaměřeními a emocionál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m stavem jedi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ční obrana – jedinec „nevidí, neslyší“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048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11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ímaní druhého člověka je 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o těmito faktor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Fyzický vzhled, vnější úprav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erbální/neverbální proje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stat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Chován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Domnělá či skutečná shoda s pozorovatele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Míra nejednoznačnosti či „nečitelnosti“ pozorovaného člověk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a kulturní prostřed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ýsledky jeho činnost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468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Doplňuje informace, které máme o objektu vnímaní a ovlivňuje jejich interpreta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ČR – vysoký komunikační kontext. Oproti kulturám s nízkým komunikačním kontextem tak 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že být verbální stránka komunikace podstatně úspornější – tím však vznikají značné komunikační problémy a nedorozumnění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913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růkopníkem Holanďan Geert Hofste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 roce 1980 vytvořil dotazník, který byl přeložen do 20 jazyků a použit v 53 zemí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účelem bylo zkoumat tzv. pracovně orientované hodnotové předsta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závěr: je možné rozlišit 4 kulturní dimenze (později je rozšířil o další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rozpětí moci v hierarch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individualismus/kolektivism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yhýbání se nejistotě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skulinita/femini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louhodobá orienta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48:58Z</dcterms:created>
  <dc:creator>Martin</dc:creator>
  <dc:description/>
  <cp:keywords/>
  <dc:language>en-US</dc:language>
  <cp:lastModifiedBy>terka</cp:lastModifiedBy>
  <dcterms:modified xsi:type="dcterms:W3CDTF">2008-12-01T21:14:08Z</dcterms:modified>
  <cp:revision>3</cp:revision>
  <dc:subject/>
  <dc:title>Interkulturní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51</vt:lpwstr>
  </property>
</Properties>
</file>