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7039-99B1-4490-9F48-DF283941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858-BC41-4CD1-A3A3-B5CBDF33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956D-AF27-4C00-A992-02B36ED9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02E0-50F5-4EA8-8ABC-D70BF992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3FFA4-F3D1-4D1B-915B-CA24A768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4C263-3266-4567-B229-812C2233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5F638-E17E-4EAE-86DD-7B05F690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62E90-14FF-45E5-8261-1C56FCC5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BF759-99C4-4BD9-BF58-CDD8A12A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D2673-734A-47B9-B91B-1281CFDA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BAE9F-2ACD-4416-8EA8-D2AF7F50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BCB-9FA3-436E-B7DA-9DA16825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2CCDA-6DD8-410B-9DC5-5CCE8E22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932B6-5947-4D24-BC67-190803B4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A798A-9BB5-4D6C-A05D-6F4B0EBB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19D03-9EF1-423B-ADF4-1AB4E560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60E5D-D47F-4A8F-8EC7-C59E6DBE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A9B03-2082-406D-B2C4-7C7E0D23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53ADE-68A3-4534-B3F7-1FBA3052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7149F-E5CB-429F-9234-3B15065B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89C5A-EBF0-4FB6-B2A2-BDA39859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CFFD2-6A69-4120-8F32-BDBD7318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1A09-B859-4A0F-AB9B-82F09E3C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2BA57-AD61-4A0A-814E-AFFD270D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019AA-E279-475C-9C44-CA3134BC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930AF-F5F5-4777-ABA9-2E7B87C0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8A87A-0366-4413-B1A4-BEE111FD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32A50-0D77-4055-B410-8C49FCB6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26143-2BEA-453B-93F4-04CDE7D2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5E7F5-9873-42EF-95D4-609EFE1A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DE22-A2BF-4E02-8E7C-80FFC81F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5999-72FF-4C8F-8AAA-6743799C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2F5B-F475-4280-95B5-42C46731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768-B987-4E94-A156-D59AFE7E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BFB9-E54A-431F-AB06-4D87815B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E88-0C2A-4CB6-AF66-F3F35806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3DDB-3CF6-4814-B54F-3E13D00208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53EB-38F1-4B96-82A7-2E9BAAB3DD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DB59-1842-4DA5-8E43-711EBA90F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ate2biotech.cz/podnikova-kultura/" TargetMode="External"/><Relationship Id="rId2" Type="http://schemas.openxmlformats.org/officeDocument/2006/relationships/hyperlink" Target="http://www.gate2biotech.cz/podnikova-kultura/" TargetMode="External"/><Relationship Id="rId3" Type="http://schemas.openxmlformats.org/officeDocument/2006/relationships/hyperlink" Target="http://www.gate2biotech.cz/podnikova-kultura/" TargetMode="External"/><Relationship Id="rId4" Type="http://schemas.openxmlformats.org/officeDocument/2006/relationships/hyperlink" Target="http://www.gate2biotech.cz/podnikova-kultura/" TargetMode="External"/><Relationship Id="rId5" Type="http://schemas.openxmlformats.org/officeDocument/2006/relationships/hyperlink" Target="http://www.gate2biotech.cz/podnikova-kultura/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ffffff"/>
                </a:solidFill>
                <a:latin typeface="Arial"/>
              </a:rPr>
              <a:t>Interkulturní manageme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Michaela Kaprálov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Monika Kovářov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Tomáš Sedláče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8" descr="MCj04347500000[1]"/>
          <p:cNvPicPr/>
          <p:nvPr/>
        </p:nvPicPr>
        <p:blipFill>
          <a:blip r:embed="rId1"/>
          <a:stretch/>
        </p:blipFill>
        <p:spPr>
          <a:xfrm>
            <a:off x="7086600" y="51055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mezená platnost motivačních teori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 různých kulturách si lidé spojují potřeby s různými hodnotam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lektivismus x individu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ob enrichment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lektivism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ká snaha vyhnout se riziku a nejisto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dálenost mocenských po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flik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ká mocenská vzdálen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ryté konflikty jsou norm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lupracovníci nejsou ochotni si navzájem věř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á mocenská vzdálen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onické vzta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dpokládá se, že kolegové jsou ochotni spolupraco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ká snaha vyhnout se nejistot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flikty nežádoucí, soutěživost vnitřně neschvaluj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mají zájem na kompromis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á snaha vyhnout nejisto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flikty přirozené, soutěžení jako spravedlivé a správ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hotnější ke kompromis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d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interkulturním jednání musíme zvážit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itický a právní plural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zahraničních vlá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itcké a ekonomické změ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deologické a kulturní rozdí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ím dlouhodobější je spolupráce, tím podrobnější informace potřebuje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ávní, politické a ekonomické in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frastruk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covní sí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ulturní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kolnosti vlastního jedn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České podnikové prostředí jako součást interkulturního management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Česká organizační a pracovní k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ákladě výzkumu VŠ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 základní dimenz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) racionalita X emocionalita v podnikové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rak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) vnitřní X vnější přijetí org. nor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nedosta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ochota přijímat 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átkodobá ori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ologie českého zaměst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16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ovitý furiant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6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da oboru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6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avý kamarád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6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formní suchar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6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počítavý konformista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dřízený X podřízen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ční problé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la“ – nesebevědomí, podřízený, pasiv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itický komentátor“-respekt, pomlouvá, více sebevědom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peř“ – sebevědomý, konfrontace, hledá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yby nadřízený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mítání návr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ceňování dobrých vzta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rana osobních poz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dostatek sebekri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rativní jed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chopnost naslou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átkodobá orientace v českém prostřed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y a sny – většinou v osobní rovině (dovolená, kariéra, moc, prof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ýdenní, roční cy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áce = příležitost X zdroj problé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 rovi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1) osobní klid a stabi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krátkodobost časových horizo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rozporuplný vztah k práci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rvozita, nejisto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žerům je vytýkána neschopnost řídit se vzdálenějšími vizemi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niková k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39640" y="1773360"/>
            <a:ext cx="3888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louhé komunikační kaná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Špatná integrace zaměstnan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ment nejde příkla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soká adaptabi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hopnost improviz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16360" y="1628640"/>
            <a:ext cx="4032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jí význam narostl koncem 70.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říliv konkurenčních produktů ze zahrani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entace na úspě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sažení cí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kace se společn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16360" y="4005360"/>
            <a:ext cx="3816360" cy="25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soká produktivita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ovace v technologi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ůraz na kvalitu a výk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iremní identita (dlouhodob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senzus, loaja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amová odpověd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4005360"/>
            <a:ext cx="410364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tuály ve styku se zaměstna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ásady jednotného vedení a postu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vyklosti v oblék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ednotné ztvárnění pro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tuály ve styku se zákazn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niková kultura mezinárodních fir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centr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 každé zemi specifická sub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iná podniková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centr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azení hodnotových systémů společných vš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ystém hodnot, postojů a názorů, které jsou specifické pro danou zemi/skupinu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livňuje chování lidí v předvídatelných směr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naučená, předávaná rodiči a společ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rozhodování nadnárodních společností ovšem není jediným faktorem: poptávka, ekonomické faktory, právo, tech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ální vzta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39640" y="1773360"/>
            <a:ext cx="388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Opatrné, dlouhé navazování s.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Osobní a pracovní vztahy se prolínají (zvýhodňování, korup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ztahy mají své lim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áruka dodržování sml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4005360"/>
            <a:ext cx="4032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dměřenost ve vzájemných vztaz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triktní oddělení prac. a osob vzta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erovnost mezi nadřízeným a podřízený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16360" y="1628640"/>
            <a:ext cx="388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lká otevřenost (neupřímn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éně formální vzta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livost na problematiku sexuálního obtěž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16360" y="4005360"/>
            <a:ext cx="388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Relativně dlouhé navazování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partnerských vzta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řeba získání důvě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rizontální možnost rozv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Široká superv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ostatnost a prezentování úspěch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39640" y="1773360"/>
            <a:ext cx="38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16360" y="1628640"/>
            <a:ext cx="3959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ální nezávis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or pro plnění cí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uví o svých úspěš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soké sebevědom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647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1628640"/>
            <a:ext cx="3888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íce direktivní způsob vedení li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ontrola samostatné iniciati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Tendence nechat si věci schval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Čekají až je pochvál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Malé sebeprosazová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4005360"/>
            <a:ext cx="388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áce v tým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olečná odpovědnost i prezentace úspěchů (ne já ale 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konomie ča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39640" y="1773360"/>
            <a:ext cx="38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16360" y="1628640"/>
            <a:ext cx="395928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ak na efektivi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chlá 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dnání a porady zbytečně neprotahu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lišné pojetí pracovní doby (24/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1647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628640"/>
            <a:ext cx="3888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také poměrně dochvi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tolerované zpoždění 5-10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íp. „akademická čtvrthodinka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poždění nad půl hodiny- již nespěc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Tendence o(vy)mlouvat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admíra spěchu = 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005360"/>
            <a:ext cx="38880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elmi přesní (puntičkář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a schůzku se dostaví spíše s předsti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triktně ohraničená prac. d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šeobecně rigidní pracovní trh (E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4005360"/>
            <a:ext cx="388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ům. 2000 h za rok (Korea 23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ízká omezení prac. d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erfektní dochvi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Hlavní devíza ekon. rozvo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é úkoly a jejich deleg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9640" y="1773360"/>
            <a:ext cx="38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16360" y="1628640"/>
            <a:ext cx="395928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vé úkoly vnímají jako výz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soká přizpůsobivost zákazníků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:získat prac. příležit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 není problém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ěžná delegace úkolů - contr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1647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1628640"/>
            <a:ext cx="388800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ava z nejist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rují mít všechny prostředky, dovednosti a znalosti ke spl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áhavost = malá přizpůsobi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dí jen překáž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3933720"/>
            <a:ext cx="403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ádi postupují podle ověřených met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16360" y="4005360"/>
            <a:ext cx="381636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olektivní odpovědnost prac. sku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zájemná kontrola ve skupi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ostupná delegace podle zaběhnutých mode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žerské prak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Rectangle 15" descr=""/>
          <p:cNvPicPr/>
          <p:nvPr/>
        </p:nvPicPr>
        <p:blipFill>
          <a:blip r:embed="rId1"/>
          <a:srcRect l="0" t="6381" r="0" b="1276"/>
          <a:stretch/>
        </p:blipFill>
        <p:spPr>
          <a:xfrm>
            <a:off x="1908000" y="1197000"/>
            <a:ext cx="55436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ie „Z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Rectangle 15" descr=""/>
          <p:cNvPicPr/>
          <p:nvPr/>
        </p:nvPicPr>
        <p:blipFill>
          <a:blip r:embed="rId1"/>
          <a:srcRect l="0" t="13943" r="0" b="9295"/>
          <a:stretch/>
        </p:blipFill>
        <p:spPr>
          <a:xfrm>
            <a:off x="1174680" y="1628640"/>
            <a:ext cx="7969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Ý, I., SCHROLL-MACHL, S. a kol. Interkulturni komunikace v řízení a podnikání. Praha : Management Press, 1999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AD, R. International management: cross-cultural dimensions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ambridge : Blackwell, 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FSTEDE, G. Kultury a organizace: software lidské mysli. Praha : Linde, 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gate2biotech.</a:t>
            </a:r>
            <a:r>
              <a:rPr b="0" lang="cs-CZ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cz</a:t>
            </a:r>
            <a:r>
              <a:rPr b="0" lang="cs-CZ" sz="1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cs-CZ" sz="1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podnikova</a:t>
            </a:r>
            <a:r>
              <a:rPr b="0" lang="cs-CZ" sz="1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-kultura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http://www.e-vzdelavani.cz/public/demo_pk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http://www.mesec.cz/clanky/pracovni-doba-v-cesku-a-ve-svete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ůležitost interkulturního managemen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upající počet nadnárodních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avatelé i odběratelé z celého svě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ulturní standardy podle Gerta Hofstede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ká, resp. malá snaha vyhnout se riz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dálenost mocenských poz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ra individualismu, resp. kolektiv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vaha maskulinních, resp. femininních hod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átkodobá, resp. dlouhodobá ori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skalí koncepce kulturních standard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kce složité sociální a kulturní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kcí dvou kultur může vznikat specifická forma nové společné kul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utečnosti které kulturní standardy neobsahují – doba trvání, intenzita, dobrovolnost vzájemného kontaktu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Řešení a zvládání interkulturních rozdí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ře znát cizí kultu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ktovat cizí kultu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init vstřícné kro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 mezinárodních organizacích téměř nezbyt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áročný na čas a peníze, vyžaduje hodně úsilí a určité schopnosti manaž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dy je lepší ignoro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dyž manažer nemá dostatek schopno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řízení nepřinese žádné, popř. minimum pozitivních důsledk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ltura ovlivňu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kturu společnost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ční kultur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ztahy, komunikaci, motivován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n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191120" y="46623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ní jediným fakt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é pobídky odráží hodnoty v dané kultuř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jišťování potřeb vždy založit na analý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ltura je opět jen jedním faktorů působících na motivační struktu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ědičnost, ranný výv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hlaví, věk, vzdělání, ekonomický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kuš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ční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ovní faktory a specifika sekt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árodní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avrhování motiváto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ie, individuální rozvoje a postup - individualistická kul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áležitost – kolektivistická k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álost pracovního prostředí a jistota práce - kultura s velkou snahou vyhnout se nejistotě a riz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ležitosti k týmové spolupráci - kultura s menší vzdáleností mocenských poz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covní podmínky, vyhovující pracovní doba - femininní k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vádění odměn za individuální úspěchy nevhodné v kolektivistické kultu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výšení ženy na vedoucí pozici v silně maskulinní kultuře - probl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lim</cp:lastModifiedBy>
  <dcterms:modified xsi:type="dcterms:W3CDTF">2008-12-01T11:21:4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