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EC0-2F0D-4E61-91F2-6259DA81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C6C-7236-4E5C-9DCC-79F945A0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943-9196-44D2-9ED1-C1B04515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BD5-B49A-4014-B5EE-C125526E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768B-E533-4749-9259-ED0F9B9A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34B6-DEDD-4236-9CF4-5AAFA3B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3063-97F5-41FA-ACAB-645DDA3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C898-0F7C-419D-9B35-7506840A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93D5-EAFE-41F0-BECD-2A96E21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FC93-37C1-4FB8-840D-EB4FED88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C419-572F-4522-8206-E8AA037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4A1-0A65-4957-AD96-66B3700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5BB6-E89B-4AEF-956A-8B526EF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36A4-99F1-4C14-B1BC-6360146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BD69-95F4-4241-9F36-8C0BBDB8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9A2E-B8A5-4E48-B698-284CE487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59C1-0727-46E8-8F92-09FB2E8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956-2B5F-4D97-AF80-0C570DA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B89-74A8-4B42-BD5B-8B898181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FD3-990B-40FC-AF92-89C61639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4E6-CF6E-4513-8408-11AFC5F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F2C-FC68-4128-AE34-1887371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E1A-6B9C-4D0C-AEDF-602C65A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340-75B4-4986-9699-C1B0DEE4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334-FCA7-4B8B-884C-FC0EC9227B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84D2-B485-4487-B36A-211B34AD81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obální kapitalismus versus demokra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59000"/>
            <a:ext cx="640080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ostoj občanů k současné politice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dalování se politickým stranám (bojkot politiky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y ze Západních mocností, ale i středoevropských států nabývají obdobných výsledk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á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omo economicus x korporace „přinucené“ jedna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ta v rukou spotřeb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 nástroj konzumer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formační asymetrie – korporace x spotřebitel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cionářský aktivismus jako další možná „regulátor“ nadnárodních korpora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šemocná média?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kterých rukou spočívá moc médií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klad televizní stanice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tráta svobody médií je smrtící. Nevědomost znamená bezmocnost jakékoli kritik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tup internetu = nástup svobody k informací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ká filantrop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chopnost vlád reagovat, v kontrastu potřeba vůdců businessu tuto roli zastoup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HDP – generování obrovských zisků – co s těmito penězi jednotlivec může uděl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dace Billa Gatese hodlá věnovat 21 mld. USD na nákup vakcín a vzdělávací programy pro třetí svět – historicky bezprecedentní čás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adce pro filantropii pro bohaté zaměstnance v úspěšných firmách, např. v odvětví high-t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dnikatelé - nevolení státníc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získat přístup ke světovým lídrům a prosazovat různorodé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vlivňování politického i sociálního života v nevídaném rozsa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ní vlastnosti – agresivita, sebejistota, bystrý rozum + finanční prostř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jení i do oblastí, ve kterých diplomaté opakovaně selháv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čovatelské organizace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čátek uvědomování si faktu, že sociální a ekologickou problematiku nelze pojímat okrajově – při zhroucení systému ponesou následky i korpo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z podnikatelského hlediska je rozumné, aby korporace přispěly k rozvoji sociální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ce na sociálním dně = nedostatek kvalifikované a inteligentní pracovní síly, vysoká kriminalita, problémy s odbytem zbož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znys potřebuje stabilizovanou společnost k tomu, abych chránil vlastní stabilitu – to je prostě fak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79736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ir John Brow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edseda představenstva General Elec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…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ální hodnoty zaměstnanců a manažerů (zejména vysoce kvalifikovaná pracovní sí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ovlivnění dotace konkrétní oblasti zákazníkem (narozdíl od platby da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tačí neškodit, ale je nutné začít pomá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řešení úkolů snáze a rychleji, než vlá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žnosti selh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místění aktivit jinam – konec závazků korporace k dané lokali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slušné instituce jsou ponechány nerozvinuté – vláda se před odchodem neměla důvod angaž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měna priorit zákazníků – orientace na cenu – nutné snižování nákl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ávislost společenského pokroku na tvorbě zis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íživý převr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íná vládou Margaret Thatcherové a Ronalda Rea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rámci kapitalismu přešla nepřiměřená moc do rukou korporací, které získaly politickou moc a ohrožují demokra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ologie volného trhu ohrožena – nárůst sociálních problémů, ignorace voleb, demonst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znik Nové prav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79 – britskou premiérkou zvolena Margaret Thatcherová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81 – americkým prezidentem zvolen Ronald Reag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ba politici odmítali státní zásahy do ekonomiky, přijali názory Miltona Friedmana a Friedricha Hayek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rh dokáže alokovat zboží a služby efektivněji než st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kolem státu je vytvořit příznivé podnikatelské prostředí (rozsáhlá privatizace, snížení dan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dmítnutí sociálního myšle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dni na kolo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sun tradičního politického spektra – pravice i levice se přibližuj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šíření do kontinentální Evropy – přesvědčení, že podniky jsou schopny generovat bohatství efektivněji než vlád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rpo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¼ světových aktiv spravují nadnárodní společnost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uze 21 států světa má vyšší HDP, než činí roční obrat každé z 6 největších korporac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rat firem General Motors a Ford je větší než HDP celé subsaharské Afrik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ržby korporací představují 2/3 světového obchodu a 1/3 světové výrob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římé zahraniční investice explodovaly z 2,35 miliardy USD v 70. letech na 80 miliard USD v roce 19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 čem spočívá moc korporac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jsou schopny vládám nabídnout nová pracovní místa, investice do infrasktruktury, proto se je politici snaží udržet ve svém stát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ud by bylo příliš vysoké zdanění, přísné normy, malá státní podpora, pak pohrozí odchodem ze zem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operují globálně, odcházejí do zemí s nízkými výrobními náklady, pracovní sílu hledají u „sociálního dna“, pokud možno ve státě, kde neexistují odbor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se chová vlá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ystém „já na bráchu, brácha na mě“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ximální snaha udržet korporace v zemi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ižování daňových saz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á zvýhod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é rá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pad ve výběru daní ovšem způsobuje neschopnost fungování veřejného sektoru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Zvyšování daní je neprůchodné, hledání alternativních cest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krácení sociálních dávek bohatý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penzij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výšení nepřímých da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ální dů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en v nízkých, ale i vysokých vrstvách společ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šší počet lidí se stresovým onemocně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ůst prodeje antidepres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diče se nevěnují dětem z důvodu dlouhé pracovní do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yšující se počet sebevraž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lepšímu zdraví se těší lidé v zemích, kde existuje co nejrovnoměrnější přerozdělování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Při zmírnění příjmové diferenciace dochází ke snížení úmrtnosti na následky vážných nemocí, snížení kriminality nebo vražd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íme, že průmyslové společnosti námi manipulují, ale v samotné povaze byznysu je jít za každým dolarem, který lze legálně získat. Nedávejte vinu firmám, nýbrž státu. Hloupý je stá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harles Horn, senátor státu Oh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ojitost vlád a soukromého sektor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itika na prodej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inancování politických st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tědrý „sponzoring“ politickým stran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 USA(sponzoring úzkými elitami)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y v Evropě i za oceán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mecko (Kohl), Británie(Ecclest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(zdanění pi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5:46Z</dcterms:created>
  <dc:creator>test</dc:creator>
  <dc:description/>
  <dc:language>en-US</dc:language>
  <cp:lastModifiedBy>Popl</cp:lastModifiedBy>
  <dcterms:modified xsi:type="dcterms:W3CDTF">2008-12-01T22:18:12Z</dcterms:modified>
  <cp:revision>33</cp:revision>
  <dc:subject/>
  <dc:title>Globální kapitalismus versus demokracie</dc:title>
</cp:coreProperties>
</file>