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21CB-CCE9-4B4E-8005-C5CF1B55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FAD0-3F88-4C7D-B316-6EE0B4DE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A3ED-7516-4D1F-89C2-392A4175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2BEA-AC11-42D0-B93E-68C02CFB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76C4-B024-42E7-92D4-78414AA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DDF-FF09-4059-99AE-80C8E46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0B9-6105-452F-BEDB-4F965EF1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45BC-F9E1-4108-8BFC-D5D3BE9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B670-C0EE-41F1-9AC8-C36C7066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2D00-7D08-43AD-877E-6718A97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B84E-5B77-4214-BF93-2BB42F5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E11D-990B-4B44-AD6B-3B9929F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A702-352F-4302-B180-6B09C8C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4513-D809-4E58-8403-F89619A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8A25-18C3-4CC1-A6D8-CC21B05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7CA-8409-4CE5-B779-195206DF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8F68-8C18-428B-81A1-01E1149C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44CC-37F5-4B18-9C67-FDC6898E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75C1-43F9-4F29-8CE0-E69419F7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C759-48C0-4EA5-B799-58B1BF31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6924-EABB-4C2F-92F5-F3C0CCD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7CB8-B703-438C-8177-BA02C1D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526D-F568-4EE5-AF27-23B9B8D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B30C-B367-43C0-8BD4-0655C74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BF07-09F2-40EE-A6D9-35F4F7E68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D73-D37B-40CC-A917-AE36F3A04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ické obraty povzbuzující růst kapitá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nkovní úv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P ( public-private-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í silní vlastnící – penzij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yslová štíhlost – Japon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ňování nejen práce, ale i kapitálu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nalostní umocnění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ost rozmach smluvní spolupráce, joint ventures, aliance, sítě a řetězce, klastry, licence, frančí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oba produkce odpovídající spotřebě, tedy individualizované, ale ceny srovnatelné s předchozí univerzální výrob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toucí potřeba velkých ino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tahování intelektu d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T - stará dáma, která si za déle než půl století snad zaslouží úctu, ale výbojný junácký podnik se už o ni ucházet nebude. Nejvýše si ji nechá v záloze, když náročnější pokusy selž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hierarchie představivosti –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Gary Ha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současných procesů zaměřena interně                (restrukturalizace, re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tačí dostihnout úroveň, ale vynalézt nové h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určité fázi se objevuje nutnost zásadní obnovy konkurenční základ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utváření budoucnosti nelze používat staré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důležitých informací mimo vlastní o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 skutečnosti x hierarchie představivosti            (mnoho nových různých náz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perkonku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status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kračování dřívější hranice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racování doby projektování, konstruování, zavádění nových technolo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stále více myslet na budouc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ě přijímat časté nečeka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7 nových pravidel superkonkurenčního úspě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šší uspokojení opatřovatelů kapitálu vyvolá zájem na smělém manévr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zůstávat u předvídání, pustit se do smělých doh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pravit překvapení, jež vyvedou soupeře z mí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povat s krajní rychl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přístupy a uvádět soupeře ve zma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pouštět klamná znamení svých zámě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soustředění sil a prostředků, nečekaně střídat úd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udoucí práce podle Rifk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má ekonomický smysl jen tehdy, kdy tvoř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to třeba se povětšině odpoutat od uzavírání smluvního poměru na pevnou dobu a navázat smlouvu o práci na tu dobu, kdy kapitál práci skutečně potřeb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, penzijní záležitosti sám zaměstna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lená během volna, nebo úhrada více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ě japonská filosofie managementu spočívající ve stálých malých zlepšeních, za která jsou zodpovědní všichni pracovníci podniku, důraz je kladen na kontrolu kvality a zlepšovat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dosažení změny, která vydr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malými kroky ke kontinuálnímu zlepš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i všichni zaměstnanci od vedení firmy, až po řadové pracov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é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plikovat ve všech oblastech živ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, která má tisíce mil, musí začít prvním krokem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x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ce – rychlá, velká, dramatická, radi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asivní propouštění, veliké inve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 – malé, pohodlné kroky, které vedou ke zlep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dení malých otáz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malých myšl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ání malých akcí, které zaručují úspě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šení malých problémů, kdykoliv řešíte kr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ádání malých od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poznávání malých, ale zásadních momentů, které jiný igno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ÁSEK, J.A. Agenda příštích let. Praha : Profesional Publishing. ISBN 80-86946-04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kademon.cz/source/druck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URER, R.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 kaiz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BETA, 2005 s.141, ISBN 80-7306-178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ští společnost Petera Druck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Drucker – guru světového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išná od společnosti 20.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pracovn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ý nárůst starší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é ubývání mladší gen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nost pod reprodukční hodnotou 2,2 živě narozeného dítěte na ženu v reprodukčním věku (i v Číně a Brazíl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y – imigrace se stane významnou otázkou ve všech vyspělých zem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cky – trh hromadné spotřeby se rozdělí na trhy dva (větší trh zaměřený na střední generaci a mnohem menší trh zaměřený na mladé gener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lost je vš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í společnost = společnost zna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lostní pracovníci – dominantní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hlavní charakteristiky společnosti znalos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mez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up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jný potenciál úspěchu jako proh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to tři znaky učiní společnost znalostí vysoce kompetitivní (i globálně kompetitivní – internet umožní všem zákazníkům získávat informace o tom, co je dostupné jinde ve světě a za jakou cen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století – pokles sektoru zemědělstv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mově je produkce 4x-5x větší než před 1.sv.v., ale v roce 1913 představovala zeměd.produkce 70% světového obchodu, nyní pouze 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padek zemědělství vedl k rozšíření zemědělského protekcionis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protekcionismus bude mít formu spíše dotací, kvót (než tradičních c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děpodobně se objeví regionální bloky vnitřně založené na volném obchodu, avšak silně protekcionistické nave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, NAFTA, Mercosur již směřují těmito smě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vební kameny obchodních konfederací: aliance, společné podniky, minoritní podíly, dohody o sdílení know-how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yp organizace bude potřebovat zcela nový typ vrcholového managem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vrcholový management bude velmi pravděpodobně oddělený a vzdálený orgán a jeho odpovědností bude celá spole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y Petera Druck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ětší změny jsou stále před ná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nost v roce 2030 bude velmi odlišná od toho, co známe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ude dominována nebo formována informačními technologiemi. Informační technologie budou důležité, avšak budou pouze jednou z několika nových technolog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álním rysem budou nové instituce a nové teorie, ideologie a problé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7921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lav A. Jirásek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PŘÍŠTÍCH LE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O VADIS, MANAGEMEN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92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ky k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cí manažeři byli znárodněním velkého průmyslu, dopravy a bank nadšeni. Nebýt toho, museli by dlouhá léta čekat, než podniky dosáhnou vydatné akumulace, vyrostou i technicky se vybaví, a oni budou moci ovládat velké produktivní síly. Nyní mohli naráz řešit takové problémy jako koncentrace kapitálu, specializace, zahájení velkorysého technického vývo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ůjci plánů a rozvoje se opírali o americké a sovětské prameny. Byli si  inovačně  téměř rovnocenné. Ale sovětské měli nav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kum a vývoj se explozivně zvětšoval. Před válkou se počet odborníků ve vědě vykazoval jen jako 3 000, zato v socialistických poměrech stoupl na 2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Pavel</cp:lastModifiedBy>
  <dcterms:modified xsi:type="dcterms:W3CDTF">2008-11-26T21:18:46Z</dcterms:modified>
  <cp:revision>14</cp:revision>
  <dc:subject/>
  <dc:title>Stakeholderský přístup k pojetí podniku.</dc:title>
</cp:coreProperties>
</file>