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9D38-E245-40EC-A2BB-23B0C713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767-A090-4469-BD4E-793CA825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78EC-0A38-4137-ACCF-6D053351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586-B3DE-4B3E-8B05-67F2801F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CD02-F8BF-40C9-B75C-CCBBBB6F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3E20-85D0-4DC2-B60D-3D156DA3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F957-9AAD-4157-AFEA-7166C0B4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CE6D-7402-4F43-8FDD-C7467441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DB3C-04C4-45FB-A874-7A87AE9A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AB55-F367-4050-A2D8-13526E9D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7462-B37E-4607-8F80-B1966291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77A-18F0-4339-B0D3-6ACD555D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03C0-F634-4580-9159-E5CF5921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016C-27B3-4AF0-B2C3-F5E68A7E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0BBE-4366-4081-ABB9-379E07D1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E204-5B50-4279-BF2D-BE6C254B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B34F-714F-4ED4-8BE3-1D6BB496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C60-0406-4C7E-9A2C-FC3D9ED8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9F8B-7499-411C-9C96-E03ECB8D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960-6A95-4D49-8A59-74882C52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7EE-2C62-4A03-9591-8F2081D6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743-5A50-4215-ABF2-E4E0DCC3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56EC-382B-42FC-A8A4-F0777E6B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75C-AFBB-4681-8D4E-B4B57BA2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DC55-CDAF-4678-B3DC-BDA02D94E27E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4E04-4677-4145-BD48-B03B2310EFFE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Požadavky na manažery na prahu postindustriálního věku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udmila Šauer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ronika Mol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reza Hurní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itáty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Lidé, kteří přespříliš mluví, málo dělají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vět hledá lidi, kteří něco dovedou udělat, a ne lidi, kteří umějí vysvětlovat, proč něco neudělali. Rowlendov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tvářet a nevlastnit, působit a nezáviset, být v čele – a neovládat, to je, co nazývám tajemnou ctností. Lao-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Jak lépe myslet?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ískávání inform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jčastější chy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rušení zákona totožnost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rušení zákona spor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rušení zákona o vyloučeném třetí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užívání nesprávných slov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Jak lépe mluvit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řed projevem si uvědom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č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omu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ak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d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ři projev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ýchá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ýška a síla hlas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olba slov + stavba a délka vě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s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ozorno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řazení řečník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Mluvk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Žvani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Frázis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Diploma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Demago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Peda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Vtipálek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Boucher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Gramof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Snaži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Exhibicionis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Jak lépe psát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ůležitý pravopis a správné rozčlenění prá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rozumitelnost text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élka vě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lba slo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řítomnost sty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obní přiblíž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Stolování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Není důležité, co jím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Čestná míst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izinci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Manželé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Koučování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 je koučová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 řízení, vytváří vztah vzájemné podpory mezi koučem a koučovaný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ké prostředky a styl komunik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ílem je lepší výkon (odhalení potenciálu koučované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užívání: řešení problémů, v průběhu práce, kontrola, běžný hov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základní principy: vnímání reality, odpověd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nažer jako kouč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78850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Špičkový manažer        dobrý kouč (schopnost empatie, objektivnost,ochota změnit dosavadní styl komunika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Šéf ví co se děje, ale nositel výkonu se rozhoduje sám – převezme odpovědnost (skutečná kontro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jišťuje plnění úkolů i profesionální růst podřízený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1700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bývali jsme se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definováním požadavků na manažera postindustriálního vě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jak má manažer myslet a jak se chov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kou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Účinné otázky (vnímání reality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evřené otázky nutí přemýš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yslem je zjistit, zda má koučovaný dostatek informac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ačátek otázek: Co, Kdy, Kdo, Kol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uč by neměl podřízeného vést tam, kam chce 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edování řeči tě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oblasti: cíle, prověření reality,možnosti, co – kdy – kdo udělá a jaká je VŮ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pětná vazb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650360" cy="46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brá zpětná vazba napomáhá učení se a dosahování lepších výsledků (realita, odpovědno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ískávání podrobného nehodnotícího popis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čovaný musí o odpovědích přemýš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chvala (upřímná, rozumná, soudná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oučování tým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470720" cy="47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izace úkolů (cíle, realita,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zvoj tým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čovaní sami posuzují výkon – disku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č musí jít příklad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kud je tým dobrý a členové schopni spolupráce, je možný další rozvoj (tým i jednotlivc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19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213372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2268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 brání úspěšnému koučování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5484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nější bariéry: nevhodná kultura společnosti, nedůvěřivost lidí, lidé očekávají, že kouč bude dávat příka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nitřní bariéry: obava, že to nebudu dělat dobře, staré dosud fungovalo, jediné, co motivuje lidi, jsou peníze, ztráta auto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užitá literatu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YRNER, A.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Manažerská etika a etiketa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Vysoká škola ekonomická v Praze, 200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WHITMORE, J.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Koučování – rozvoj osobnosti a zvyšování výkonnosti.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aha: Management Press, 20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AMP, Di. Manažer 21. století. Grada Publishing, s.r.o., 2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 jakým změnám došlo v podnicích počátkem 21. století 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nížení počtu úrovní říze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výšení orientace na zákazní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lexibilní pracovní režimy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prac. síla s víceoborovou kvalifik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týmová prá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pružná prac. do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výšení odpovědnosti pracovní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rátkodobé cíle 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dlouhodob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žadavky na manaže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íše vést než ří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učovat podříze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yšovat pravomoci podřízený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ěnit přístup podřízených k prá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tné zlo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plňující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valit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y manaže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ýt vzor pro osta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át sám s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stavně se vzdělá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ládat změ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t vi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ně si uvědomovat real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t vysokou úroveň etiky a hod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kračování – kvality manaže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ře komunik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let systémo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let pozitivn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ět se nadchn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ýt opravdov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Změňte své myšlení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- nutnost si přiznat své schopnosti: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amyslete se, které z výše uvedených vlastností již máte, a kde je používá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apř.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„Když jsem na dovolené s přáteli, jsem velmi opravdový.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okud jde o mou zahradu, uplatňuji systémové myšlení.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dyž jsem se před rokem začal zabývat …….., měl jsem vizi.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užívání pozitivního myšle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nitřní rozhovor 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upravení našeho vnějšího sta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anipulace tím, co sami sobě říká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utnost být KONSTRUKT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apř.: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„prezentace se mi nepovede…budou kritičtí…“ </a:t>
            </a:r>
            <a:r>
              <a:rPr b="0" i="1" lang="cs-CZ" sz="2800" spc="-1" strike="noStrike">
                <a:solidFill>
                  <a:srgbClr val="ff0000"/>
                </a:solidFill>
                <a:latin typeface="Arial"/>
              </a:rPr>
              <a:t>NE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ff"/>
                </a:solidFill>
                <a:latin typeface="Arial"/>
              </a:rPr>
              <a:t>ANO: „mé prezentace předtím byly úspěšné. Vím, co chci říci. Kolegové jsou příjemní a mají pochopení. …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oužívejte metodu napodobování vzorů pro sebe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aké vlastnosti si chcete osvoj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ajděte si někoho s danou vlastnos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ozorujte jeho cho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zjistěte, na co myslí před a bě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zkuste si být přesně jako 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řizpůsobte si imito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yzkoušejte to v prax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4:07:42Z</dcterms:created>
  <dc:creator>Radek</dc:creator>
  <dc:description/>
  <dc:language>en-US</dc:language>
  <cp:lastModifiedBy>Tereza</cp:lastModifiedBy>
  <dcterms:modified xsi:type="dcterms:W3CDTF">2008-11-24T00:29:58Z</dcterms:modified>
  <cp:revision>25</cp:revision>
  <dc:subject/>
  <dc:title>Koučování</dc:title>
</cp:coreProperties>
</file>