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AFC8-9A8D-4395-BBD5-1F5A1699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C628-5E7C-41BB-B0AE-428F4EBA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8F1F-7034-4590-8622-181E2BA3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14F9-3857-4D43-B666-F034C620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C874-D8F6-4B67-9CA4-E331ADD0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1D88-1563-43FD-9E0A-7B2EFB52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2E2B-4DCB-4827-A2D6-0858D179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0AE7-AF08-4144-8957-7D8C51B0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40F6-7649-4728-A751-CA078D08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5438-0144-4CFA-853D-DF912A66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0438-BFFF-4DCE-AA75-B7B36AE5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824B-782E-4F7B-9C01-9316AF06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D812-A18F-4AB1-BC5B-F5D964FE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70A8-3AE6-45B3-963B-3F433F58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3462-6135-478F-A0A8-ABF6AC8B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135C-7869-4028-AA3D-60B9B81A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FDFC-3121-4DAD-9217-C771D407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5F38F-B2F5-4D11-92BF-0FB88892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85DC9-50B5-411C-9C4C-9C9312E1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2536B9-0A0A-4410-87C1-F21C3021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DC5333-6B77-4461-9BE5-F244DFAE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5EB856-FB53-4BE7-98E7-23204B35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9920-160A-47F6-AEB3-AEE35EEC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9F5E5-F3AF-47A8-8169-6C3F5849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C435E-47B3-42F8-B6BE-6A2FFF80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0AD16A-CDDF-44B4-90F3-AB7865B4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2ABAA8-27FA-4443-BBD3-18E286DB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79F72-9E67-4111-A8C8-24811F6A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E2A42D-7F64-41C8-9408-6CA08B10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95549-7EE7-4E1B-97BE-E44847B9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1EB377-2CA7-457E-AA55-21965D5F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4C1F75-72DD-4516-96D0-A0FDA191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08A4A2-1C62-48B3-9964-45183A1F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5B04-5BD1-4820-ACEC-A7A405BC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96D557-08CB-4135-8B86-A104A81B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930A9C-2DB6-4ECD-AF45-A606AE48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3EC1D2-E9A7-4CEA-87EF-40B42C6E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00FC0A-ECFC-4AD4-A50E-1F5D8F48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EEB28F-6237-4D50-8E9B-70E5F1BD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75B604-FFDD-4F7D-A801-F811B1A8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F766D6-5C03-4C08-A33D-DCC31FE2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70B44B-0BF1-4A83-A185-05DC6D61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D98487-25AD-4476-A167-6505B7A0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6DD1E7-D651-4459-B73D-9EAEA3B2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631C-0E30-4B32-AC6F-2771D804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C369C6-000E-4983-BFDF-A9B2BBD9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3C3434-DC00-4567-9561-1FF94A9D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72857D-071B-4BFA-ACDD-8A4BDAEF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CE93D6-3CCC-4F80-AF95-885BCE5C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3BD490-9A1A-4382-A659-1BB6027E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55E6CC-B1F7-4A70-A7F3-5E91C46C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F006D0-7F05-4818-85E4-91EDCA75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EB8A8F-5E3C-43AE-BA45-EC997CF1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1E36BC-5838-4C3B-A803-70C3D9A1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3100B5-1F3A-4B97-BC06-88923A56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6688-77ED-427A-8300-32EF8BFB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561C18-8212-48D4-B0E1-23A816C7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9F8D8-9882-467E-8A0A-8CC7F036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B6145-3235-4AC2-A419-6A3D0384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D0998-8CAE-4473-AAAE-8673C4E6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842B8-53FA-4BA2-8C8D-8C56A70A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ED0A4-7031-4626-9A4B-78672CA9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FA16C-D41D-40AA-88E4-E4ACCF0D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141D8-1C1F-4FA2-BE7D-CA9CD8F7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FAD69-B59F-416E-9EAB-07FDD2EF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17B3E-579A-49DE-8C9B-29A414FF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930E-D104-4583-AF10-D0C89D47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BE4F6-1AAC-4E5A-AF41-CD1F4A69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2CA7D-8446-4744-A4A2-6408C62C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7DBC0-8382-493D-A631-AA0D2F0B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C6BF03-B569-4167-90AF-4EC3FA47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C4B0F2-2EE2-4DF7-8654-0A19CD5C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1D16B3-5C21-477B-96A3-E66E9AE3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E65AAF-3C6A-4C40-9D3A-8944375E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04966A-A2E0-40A7-9696-BA633BB9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1E82E4-88DC-4C50-A615-10492B55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59E9F4-71B0-4AB5-B98B-59F7E98A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DF0E-9B1C-4CA1-B331-774ACB6D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6DE0A0-BF36-4665-BAFD-3CEBD64B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91E982-2A50-47F4-A6F5-AD24F3BA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EEB11D-7656-43F8-B0DE-D9D10743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19AA87-2301-41CF-A7CB-9FC0BBD4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132FB1-1C22-4F13-A37D-B8D12319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2707E-B0FF-4D7F-96CC-6BD961D6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37115-8104-449B-9ADA-FA061ADE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206E6-B5D4-4CD5-AC38-DCC9646B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563C0-6F0E-43E7-9EDA-FE277072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BF582-9DD0-4157-8A1C-E007CE4B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E837-F154-4EF7-BB1E-E550D60A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B959B-C2BA-46BA-A78D-5D54B48A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BDF43-22F8-4627-91DC-D3FC35B4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B59DD-5C3C-4D13-A565-78D3F822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F310A-3DF5-4071-A91F-CEA8B210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B6B23-AEAC-4855-A245-E9F4AB4D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58E45-B386-4A75-9C4B-1ACD1C22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EFDB1-FACD-4603-8942-B1B23DA3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4F2A-5455-4225-97C0-15AC0326109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66C6-6790-4943-BF22-91430C68733B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bdélní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délní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1125-06CE-448B-B4C4-E8E30D779742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53CE-D549-4E46-BE92-A76336F3AF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04CA-955F-4456-98B8-6B4232E280F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4A3D-5778-476A-AA35-F3F4FEF1FF48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bdélní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57A6-8727-4C22-883B-D146C6193DC4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bdélní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bdélní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bdélní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95EE-CFFC-42CA-BAA6-BA04B2C45BF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MANAŽERSKÁ ETIKA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w Cen MT"/>
              </a:rPr>
              <a:t>Pavel Hasoň, Zuzana Jurková, Milan Kedroň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ktivity mimo rámec legislativy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STÍNOVÁ EKONOMIK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Černá ekonomika – kriminální aktivity, prostituce, distribuce drog, krádeže, práce načerno a mnoho dalších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Šedá ekonomika – podplácení, nezdaněné příjmy, 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orup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árek nebo úplatek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áměr, s jakým byl předmět darová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Celospolečenský problé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ezinárodní nevládní organizace Transparency International - monitorování korupce v celosvětovém měřítku 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ČR se v roce 2008 umístila na 45. místě z celkových 180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raní špinavých peněz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= peníze získané trestnou činnost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Z obchodů s drogami, z vydírání, obchodu s bílým masem, prostituce, pašování, 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incipem je tyto peníze prohnat řetězcem  nejrůznějších transakcí, aby se na konci mohly vykázat jako legálně získané příjm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dhalování této trestné činnosti ztěžují rozdílné právní systémy v různých zemích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tika manažerské prá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ředpokládá dodržovat určité, v dané komunitě obecně uznané normy jedná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ciálně zodpovědné jednání manažer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rmy jedná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ísemná podob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epsaná pravidl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epsaná pravidl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anažer prověřuje tyto filt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Utilitarita rozhodová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áva a osobní svobod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pravedlnos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ro dva poslední se můžou vytvořit pravidl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ontrola dodržování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ála pozornost dodržování specifických etických pravi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formální kontro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yužívání informací důvěryhodných spolupracovník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jlepší pákou na dodržování manažerské etiky je pozornost nadřízených vedoucích pracovníků věnovaná manažerům na nižších stupních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obrý manaž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usí dodržovat značnou sebekázeň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usí pečovat o svou bezúhonno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Osobní image manažera = charakteristické rysy jeho chování a vztahů k lid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polupracovníci obvykle hodnotí tyto rysy svých nadřízenýc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avdomluvnost, čestnost, schopnost držet své slovo, ochota „pálit si prsty“za spolupracovníka, vztah k podřízeným, vztah k alkoholu apo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DŮLEŽITÉ!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ílevědomý a náročný manažer bude svým okolím za své jednání málokdy jednoznačně chválen. Může však dosáhnout toho, aby si ho převážná část dobrých spolupracovníků vážila.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oužité zdroj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utnová, A., Seknička, P. Etické řízení ve firmě. Praha : Grada, 2007. ISBN 978-80-247-1621-3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Rolný, I., Lacina, L. Globalizace – Etika – Ekonomika. Boskovice: Albert, 2001. ISBN 80-7326-000-X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tické řízení ve firmě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oc. RNDr. Anna Putnová, PhD., MB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hDr. Mgr. Pavel Seknička, Ph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Okruh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odnikatelská etika v tržní ekonomice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Etické hodnoty v ekonomické prax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incipy, nástroje a metody etického řízení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Etické říze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polečenská odpovědnost firem a její vývo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Etický a sociální audi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ituace v České republi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Počátky v 90. letech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1. ½ 90. le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Transformace ekonomik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Společnost pro etiku v ekonomice (NHÚ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Počátek výuky etik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2. ½ 90. le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Učební texty, medializace + průzkumy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Výsledky privatizace a akce „Čisté ruce“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Transparency International ČR (korupc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Etické fóru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ituace v České republi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1. stolet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rovnání s rozvinutými zeměm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tika podnikání jako součást začlenění ČR do E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Zřízen úřad ombudsman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le TIC hojně vyučován na VŠ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ématu se věnuje i konference v Parlamentu České republik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řístup k podnikatelské eti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13880" y="164304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merický vs. evropský přístup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dlišnosti v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radi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émantik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Zaměře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aktické zaměře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iciativa fire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konomické důvod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nížení transakčních náklad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osílení loajality zaměstnanc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Vytváření a posilování image firm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osilování spokojenosti zákazník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řispívání k loajalitě investor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říspěvek k zisk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Kultivace podnikatelského prostřed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odel morálního rozvoje podniku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morální organiz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málně-právní organiz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polečensky odpovědná organiz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ticky se rodící organiz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tická organiz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Společenská odpovědnost v podnikání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ojí v popředí zájmu většiny podnikatelských aktivi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vlivňuje hodnocení podniku okolí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odpovědné chování podniků může zapříčinit ekologickou katastrofu, destabilizovat trh, poškodit zákazníka, 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vě základní stránky etického myšlení: individuální a sociální etika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Zástupný symbol pro text 12" descr=""/>
          <p:cNvPicPr/>
          <p:nvPr/>
        </p:nvPicPr>
        <p:blipFill>
          <a:blip r:embed="rId1"/>
          <a:stretch/>
        </p:blipFill>
        <p:spPr>
          <a:xfrm>
            <a:off x="468360" y="0"/>
            <a:ext cx="806436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2:40:20Z</dcterms:created>
  <dc:creator>čtenář</dc:creator>
  <dc:description/>
  <dc:language>en-US</dc:language>
  <cp:lastModifiedBy>snoopy</cp:lastModifiedBy>
  <dcterms:modified xsi:type="dcterms:W3CDTF">2008-12-10T14:57:34Z</dcterms:modified>
  <cp:revision>9</cp:revision>
  <dc:subject/>
  <dc:title>Manažerská etika</dc:title>
</cp:coreProperties>
</file>