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E0A-6F5D-4B22-821F-CEE41DAA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B63-553A-44D0-9B38-9945A51C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FB1-DF3E-4700-92AC-CB62B0B2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08F-4893-47FB-BBFE-1F19C016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85E1-CC76-45F1-B3A6-1BAF6B70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7EAC-A8DE-466E-B91F-F4FD2A3E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4CD4-4778-4BF3-ACB2-4B21559F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486A-CE79-48EC-B0A5-204CED80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03AF-62D3-476B-9F16-CD8538A8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D62B-C89B-478E-A24F-3FC2241E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8CDC-33AB-4726-8CA1-671C6A09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746-9116-450C-BA3B-FF90A025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D4F3-F7FC-4862-95F8-965A8A37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452B-7C09-4756-B0EA-47317AD8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FC8E-1E7F-455B-B6E9-1F07DF7B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CDB6-0499-4AD2-B9EB-97C8AA40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5F2D-4C06-492E-B8F4-16F1194A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B92-2AA2-4E7F-9255-D8486186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5DD-08FB-45F4-A249-6B15AD3F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37E-AA15-43C3-804F-CC144B95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5B4-5FD6-467D-BCF7-21D35A60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F88-19F5-46A8-ADF5-106A0532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CAE-8A03-4035-A1FB-20EB2047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B26-2A43-44F7-A577-6E4578E8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0709-BD70-488E-AD07-CDA131850BF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068F-3CCC-4991-957F-1E5A7B2C55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trukturalni-fondy.cz/" TargetMode="External"/><Relationship Id="rId2" Type="http://schemas.openxmlformats.org/officeDocument/2006/relationships/hyperlink" Target="http://www.strukturalni-fondy.cz/" TargetMode="External"/><Relationship Id="rId3" Type="http://schemas.openxmlformats.org/officeDocument/2006/relationships/hyperlink" Target="http://www.strukturalni-fondy.cz/" TargetMode="External"/><Relationship Id="rId4" Type="http://schemas.openxmlformats.org/officeDocument/2006/relationships/hyperlink" Target="http://www.strukturalni-fondy.cz/" TargetMode="External"/><Relationship Id="rId5" Type="http://schemas.openxmlformats.org/officeDocument/2006/relationships/hyperlink" Target="http://www.strukturalni-fondy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ývojové trendy podniků a jejich řízení na prahu postindustriálního věku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ora Navrátilová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ichal Meluzín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omáš Dostá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ýkonnostní motivační systém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e 21.století zvítězí firma se zaujatými, odhodlanými a odpovědnými zaměstnanci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motné i nehmotné formy odměňová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jsilnější motivační faktor – mz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vé tendence – volný čas, zajímavá práce, samostatnost, dekolektivizace mzdových jednání (individuální sjednává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jlepší firmy vs. motivační systé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íce peněz na mzdy a zam.výh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K obsazení nové pozice využívají více interní zdr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ledují pravidelně spokojenost zaměstnanc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íce využívají mzdová pás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sně definované a propracované personální proces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rální kode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rd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entace na zákazní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zákazníci jsou největším aktivem podniku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P. Kot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Globální převaha nabídky nad poptávkou – vznik zákaznické ekonomi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náš zákazník – náš pán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T. Bať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ostavení zákazníka ještě posílí nové směrnice E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entace na zákazní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Uvědomění si orientace na zákazníka všemi pracovníky podni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ozpoznání hodnot a tuž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volávání nových potř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mýšlení nových produktů šitých na mír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Klíčová je loajalita stávajících zákazní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užití feedbac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ovativ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y a modernizace všech podnikových aktiv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mý či nepřímý profit pro zákazní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tné zvažování zaměření inova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x inovací – u produktových změ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ovace – pojetí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ce je úspěšné využívání nových myšlenek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Ministerstvo obchodu a průmyslu G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iciativa Equal (2004 – 2006), OP Podnikání a inov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ce není jen nápad samotný, ale především jeho implement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 ČR nízký stav inovační výkonn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ktivní vytváření poptávk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ahlcenost trhů zbožím a služba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zbytnost aktivně vytvářené poptáv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vůrčí přístup, fantazie, hledání nových produlktů – Superproduk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vídav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ychlost a pruž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ed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užnost společnosti –prodej X výro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nížení rizika – sezónnost, simultánnost, způsob kontroly kvality, organizace distribučních sítí, informační technolo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lný top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vídav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ategie, mise, vize fi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vádění radikálních změ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ma jako cel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tivace, stimu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ledání “správných“ pracovník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oncepční iniciátoři i mediátoř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ČEK, Z. Firma 21. století. Praha : Profesional Publishing. ISBN 80-86419-88-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strukturalni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-fondy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ttp://www.equalcr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kteristika prostřed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lké změny ve světové ekonom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ůdčí rol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sivní nástup firem z asijských stát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staralé rigidní metody manažerského řízení v Evrop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třeba změny firemní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867280" y="364500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ozvojové tendence světa 21.stolet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69436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erkonku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erturbul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format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lektual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litantnost a terorism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manit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niatur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sou jen dva druhy firem. Ty, které se změní a ty, které zmizí.“ </a:t>
            </a: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.Kot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2720" y="2362320"/>
            <a:ext cx="3241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incipy úspěšné firmy 21.stolet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bsolutní orientace na zákazní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ilný top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ktivní vytváření poptávky a hledání nových trh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soká výkon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ychlost a pruž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ýkonnostní motivační systé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tiv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derní informační technolo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ysoká výkonnost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ektivnost – vztah hodnoty výstupu k hodnotě vstup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ktivita – výkon za určitou časovou jednotk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konnost – schopnost subjektu vyprodukovat za určité období souhrn statků a služ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soká výkon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vé ukazate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valifikovaná strateg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valita vztahů se zákazníky – spokojenost zákazníků, počet ztracených zákazníků, C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Nehmotná aktiva – odbornost, inteligence, mobilita, osobní zaujet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hareholders – majitelé – ROI, E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                  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zákazníci – kvalita produktu, ce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2096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nocení výkon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díl na trhu – BCG ma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idaná hodn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manův ind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konnost zákazník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zhodující činitelé mající vliv na výkonnost: rychlost, jednoduchost procesů, transparentnost, jasně definované cíle, zpětná vazba, vzdělávání pracovní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ýkonnost českých fir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lné stránky – infrastruktura, relativně nízké náklady, geografická poloh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abé stránky – daňový systém, soudy, staré technolo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ležitosti – příliv technologií, E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zika – nedostatek pracovní síly, konkurence EU, As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1:09:01Z</dcterms:created>
  <dc:creator>čtenář</dc:creator>
  <dc:description/>
  <dc:language>en-US</dc:language>
  <cp:lastModifiedBy>Zora Navrátilová</cp:lastModifiedBy>
  <dcterms:modified xsi:type="dcterms:W3CDTF">2008-12-03T09:46:17Z</dcterms:modified>
  <cp:revision>7</cp:revision>
  <dc:subject/>
  <dc:title>Vývojové trendy podniků a jejich řízení na prahu postindustriálního věku</dc:title>
</cp:coreProperties>
</file>