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445-8FC3-4A72-8A77-7D808D99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CA8-F2E8-4C00-8750-B39DFF8A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F57-0890-466D-96ED-C085CDA5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1E0-85CA-48A2-81A6-85643C0B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F60C-8690-45F5-A522-98AAF701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321E-EFE6-45F9-AACE-D8850983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1295-02F4-4CF9-80C0-D43AB116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C415-1CFB-49C9-8125-1F3C0EF1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4C9C-E109-48E1-99A5-AF224A0B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E950-9537-4057-9ECE-48755C81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09D7-0B0A-42BD-853E-3A1399D9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34D-84C6-4137-8A5E-F331ED6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E1DB-0C85-453D-88AC-722CA30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E52D-C1D0-4B0A-8E1A-96AD6E9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9267-6BA5-4245-B1CD-498AB52A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9C47-E6FA-448C-B3B2-4709BECD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CEA9-0881-4627-AB81-363AFA5C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774-03D4-4C32-BDDA-7A4183F6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3EF-7283-440F-A792-6624C9F3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291-A7E8-4964-A068-5BADC349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9AB-FBB9-4C6E-B548-1E30E156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702-B513-4DA9-A592-2F64C852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171-A66B-4CE9-A053-3724D96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1CB-DF3D-4BC7-B08A-7E28C59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1482-52E6-43B1-986A-BF0C030C51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2A72-78FE-440C-8E64-7495CB430B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kulturn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í managem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chal Bl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máš Kr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cela Paul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důvěra vůči pravidlům, formalizovaným postupům, norm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nalézavost, improviz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aptabil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lkorysost (být nad věc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jetí kv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entace na sociální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tvoření soc. klimatu při jedn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ázení s negativními informace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řešení sociálních konflikt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kularism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ifú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oje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áce a volný č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mocionalita a racionalit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acovní role a vlastní osobn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ormální a neformální struktury, inform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labý komunikační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erbální, neverbální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gnály, ironie, nepřímé vyjadř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asto nízké sebevědomí a sebejist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lychronie času – více činností najedn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ěmecké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naha vyhnout se riz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rganizace, normy, postup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aměření na detail, perfekcionism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Funkční hierarch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ěcná orient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rimární věcnost jednání = profesional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dělová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lný komunikační kontext, přímá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bejist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onochronie času, přesné časové rozdělení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nsformační a trž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kulturní standardy univerzální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západního světa: kulturní standardy tržní ekonom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východní Evropy: transformační kulturní standar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zájemně se přibliž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ormismus ve vztahu k autoritám x Zaměřenost na výsl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ská snaha vše a všechny přežít, snaha všemu se vyvar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á ochota bojovat za svoje názory – strach z auto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í od „zeleného stol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upem času konformismu ubý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ence iniciativy x Inici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avní problém transform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tivita velkou překážkou – zahraniční manažeři nás mají za nevzdělané a nezk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ši si stěžují, ale nic neděla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ib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ismus x Individuáln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ěňování podle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ebeprezentace, Sebeprosaz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tiv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provizace x Kv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picky český fenom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lokvalifikovaná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atrný styl interakce x Sebejistá interak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ha vyčkat a nechat soupeře vyložit k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ch nezesměšnit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dá generace je na tom lépe než její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asová nepřesnost x Čas jsou pení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říve nebyl kritériem ekonomické efektiv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na dvě hodiny rozvržena na celý 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ordinace, logis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entace na soc. vztahy a utváření vzájemné 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dnání je formální, až ve chvíli, kdy si obě strany věř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obní vztah zárukou oboustranného dodržování do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ůrazňování symbolů stat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archie a autor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ousko: velká pravomoc, schopnost manažerů se okamžitě rozhodn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abs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kdo není kompetentní – dlouhé toky informa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ždý názor doplněn výhrada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samostatnosti – důvěra autorit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dní hrdost, orientace na minul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ojem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– původ v latinském slově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olere,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ož znamená pěstovat, šlechtit, ale i obývat, vážit si, uctív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statné jméno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yjadřovalo dříve vzdělávání, kultivování země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icero jej poprvé použil ve vztahu ke kultuře ducha v Tuskulských hovore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tak, jak se zformovala ve starověku – aktivita člověka, cílevědomé úsilí o zdokonalení světa i sebe sama, opozice vůči čisté přirod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prezentaci vlastních pracovních úspěc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chválí sami se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dceň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ekají na pochv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tší strach neudělat chybu, než zájem o úspěch a vítězs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čina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lišná očekávání od pracovního zařa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míře vyžadované samostat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stupy musí být schváleny sh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samostatnost – „plav, nebo se utop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kace se zaměstnaneckou organiz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váží si svého zaměst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ze zahraničí vnímáno jako neloajál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Interkulturní komunikace v řízení a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1999. ISBN 807261009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Lehmannová, Z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Kulturní dimenze v mezinárodním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. VŠE v Praze, 1999, ISBN 80707985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Spolupráce přes hranice kultur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2005, ISBN 80726112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Kulturní pluralita současného svě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větě existuje mnoho odlišných kultur, nikoliv jedna unifikovaná kul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aždá kultura je jedinečná, navzájem se liší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hodnotovým paradigmate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to paradigma má dva základní determinant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eografické podmí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storie (události, vlivy, ohrožení at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Současná podoba kulturní plural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host kultur existuje nejenom na horizontální úrovni, ale i na úrovni vertikál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globálního kulturního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adnárodních kulturních systémů (základních světových kult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árodních kulturních 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kulturních systémů etnických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ákladní klasifikace nadnárodních kulturních útva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p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fuciá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po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slám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nduist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atinsko-ame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f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Mezikulturní komunik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ní systémy zásadně ovlivňují způsoby vnímání, prožívání, hodnocení světa, způsoby myšlení a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a má 2 aspekty (dle R. Lintona)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jevný: výsledky lidského jed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obnostní kultura: znalosti, postoje,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chova k mezikulturní komunikaci je dnes již nezbytn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íl výchovy: komunikovat s příslušníky cizích kultur bez zkreslení předávaných informac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zvinutí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metaznalosti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jinak také kognitivní seberegulace – schopnost přistupovat k mnoha kulturám najednou, pohybovat se z jedné kultury do druhé bez ztráty osobní kulturní integ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nažer by měl ovládat interkulturní kompeten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ři základní krok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specifiky vlastní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dosažení tzv. kulturního sebeuvědomění (které kulturní determinanty ovlivňují naše vidění svě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odlišnosti jiné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pochopení jejich základních rysů. Rozumět jak lidé z jiné kultury vnímají a interpretují skute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omparace obou kulturních model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oproštění emocionálních reakcí vůči vlastní i cizí kultuře. Jedná se o kulturní nadhled, překoná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etnocentrismu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eze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ulturního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šok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a německé kulturní standar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mpirický výzkum (Nový, Schroll-Machl: Interkulturní komunikace v řízení a podnik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Kritické události –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kvapení, nepochop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dotazy, diskuze, sebepozorování, expertní posouzení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   ►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vzorce ch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3:18:16Z</dcterms:created>
  <dc:creator>marcela</dc:creator>
  <dc:description/>
  <dc:language>en-US</dc:language>
  <cp:lastModifiedBy>snoopy</cp:lastModifiedBy>
  <dcterms:modified xsi:type="dcterms:W3CDTF">2008-12-02T11:32:17Z</dcterms:modified>
  <cp:revision>8</cp:revision>
  <dc:subject/>
  <dc:title> České a německé kulturní standardy</dc:title>
</cp:coreProperties>
</file>