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BBC8-E314-45EF-A7B1-A024446AA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4092-08C5-46B5-B659-24A94C82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DED8-6971-410E-BD7C-282FA7D47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3A42-67F2-4969-962F-0EBEA6E86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F6E8-B611-4502-8866-AF39F0DB9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12DC-85B1-428C-8559-84185734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E606-113B-4C5F-99F6-EEF14DEE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3880-8CD7-43BC-8AF4-355F8043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A083-8EAF-45DB-9EA6-13D73EE3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744D-B8DF-43CD-AF5B-A3A2F78D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A50E-8DF5-4234-A801-2BA115BB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AE74-0901-4AFE-B6F8-76B997D9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0B0D-579B-4F07-B4E4-AA4E60D9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9783-FEFB-43A4-99D2-259208FE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4C1B-D2F9-4E39-A176-ED1A30E5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3E9D-B939-46E4-8D56-14451B0DB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0AE2-64DE-48A7-BC47-CE5257B28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8454-38E3-494F-8FFA-AF3084B8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708E-81F4-4918-9730-F05B9540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EA64-575E-44C8-84C8-6F9571D0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9873-9718-4FF7-9B2E-6E04B2D0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6F43-03A8-4082-838D-1D39343A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D8D3-5331-45C1-A8DC-244F1840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082D-9337-4EBF-8A36-5223562E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73D3-50F0-4E7F-BB9A-798124F1B107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9EC8-8B51-4926-BA22-E07FFA815AFE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Etika podnikání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ena Košíčk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a Kubic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byněk R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tické řízení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is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 tvorby zisk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zdělování zisk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ůvody pro etické chování podnik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výšení kvality živo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mparativní výhoda na trh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povědnost podniku za či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orální rozvoj podniku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stupeň – amorální organ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stupeň – formálně-právní organ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stupeň – společensky odpovědná organ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stupeň – eticky se rodící organ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stupeň – etická organ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Teorie Stakeholder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dnikatelská organizace má širší odpovědnost než jen vůči svým vlastníků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současnosti se zvyšuje tlak na sociální (společenskou) odpovědnost podnik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takeholders“ je skupina těch, kteří mají zájem na činnosti firmy, nebo-li skupiny participující na podnik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Primární stakeholdeř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aměstnan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lastní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ákazní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odavatel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onku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alo/velkoobch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ěřitel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Sekundární stakeholdeř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ístní společenstv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řejní aktivi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chodní asoci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ahraniční vlá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át a místní zastupitelstv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řej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ciální odpovědnost podniku 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(CSR)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 pohledu podniku je třeba dbát nikoli o dosažení maximálního zisku, ale optimálního zisku, který vezme v úvahu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šechny principy udržitelného rozvo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arentnost v rozhodování, finančním hospodaření a personální polit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vný postoj v otázce lidských prá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ačlenění etických norem nad rámec norem právních – „odpovědný občan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ůvody přijetí CSR firmam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naha vyhnout se vládním zásahů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třeba seberegulace byznysu jako odpověď na jeho vzrůstající ekonomickou mo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měňující se vnímání byznysu ze strany veřej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harakteristika CS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ři základní pilíř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Ekonomická oblast (etický kodex, protikorupční politika, ochrana duševního vlastnictví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ociální oblast (rozvoj lidského kapitálu, rovné příležitosti, lidská práv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Environmentální oblast (ochrana přírodních zdrojů, ekologická výrob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užitá literatur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utnová, A., Seknička, P.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Etické řízení ve firmě.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Praha : Grada, 2007. ISBN 978-80-247-1621-3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Luknič, A. Štvrtý rozmer podnikania – etika. Bratislava : Slovak Academic Press, 1994. ISBN 80-85665-30-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ěkujeme za pozornos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dnikatelská etik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 profesní, aplikovaná, normativní eti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ůvod vzniku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obal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zinárodní obch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y zdravého a dynamického rozvo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ývoj: po 2. světové válce v západních zemích – zlepšení kvality živo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 ČR hlavně 90. léta např. Čisté r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Ekonomické důvody naplňování podnikatelské etiky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nížení transakčních náklad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sílení loajality zaměstnanc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tvoření a posilování image fir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silování spokojenosti zákazník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íspěvek k loajalitě investor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ultivace podnikatelského prostřed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íspěvek k zisk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líčové hodnoty pro tržní ekonomiku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laté pravidlo morálky: Co nechceš, aby jiní dělali tobě, nedělej ani ty ji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Euroamerický  systém hodnot pro ekonomickou praxi pro řešení složitých etických problém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bsahuje tyto hodnoty: svoboda, spravedlnost, odpovědnost, důvěra, pokrok, prosperita, racionali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konomická svoboda: klíč k výkonné ekonomice, efektivnímu řízení, správě podniků a udržitelné míře růs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avedlnost: za stejných nebo podobných podmínek bude se všemi bytostmi jednáno stejn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povědnost jednajících osob či organizací, jež se vztahuje následky takových činů, jimiž nebyla porušena právní forma, ale přesto došlo k narušení etických norem a hodn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ástroje etického řízení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iční nástroj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dexy et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ické vz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ýcvik a vzdělávání v oblasti podnikatelské et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rní nástroj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ický a sociální aud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Úřad ombudsmana pro etiku ve firm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ické výb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incipy etického řízení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dpovědnost podnik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konomický a sociální vliv na podnik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nikatelské chov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ektování pravi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pora mezinárodního podnik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hrana životního prostřed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varování se nezákonných opera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tické kodex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jvýznamnější a nejpoužívanější nástroje et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lká Británie – 50-60% společnost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ČR – 20% společnos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avádění v době změ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plňuje zákonnou úpr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rozumitelnost a jednoznačn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Řeší vztahy se zákazníky, akcionáři, zaměstnanci, dodavateli, konkurencí, vlád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tické kodex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ické obsahové okruh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ektování prá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Čestnost a fér konku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zpečnost a kvalita produk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mítnutí diskrimin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ztahy s dodavate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rup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ální odpovědn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hrana životního prostřed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16:32:32Z</dcterms:created>
  <dc:creator>Hana Kubicova</dc:creator>
  <dc:description/>
  <dc:language>en-US</dc:language>
  <cp:lastModifiedBy>snoopy</cp:lastModifiedBy>
  <dcterms:modified xsi:type="dcterms:W3CDTF">2008-11-24T12:47:31Z</dcterms:modified>
  <cp:revision>8</cp:revision>
  <dc:subject/>
  <dc:title>Etika podnikání</dc:title>
</cp:coreProperties>
</file>