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A3290-019C-44D9-96AD-146AAB8A6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04511-FF74-4BAD-9D33-8B64E7F71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755F9-5AAC-421E-AF99-8F4450CD9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C8E0B-CDB5-4F94-84FE-D491F38FA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8F8F7-9138-4162-8462-E876FA696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AC1F5-8201-414F-B97F-22E1C84B1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43C17-B25D-4CF8-84BE-02C10A10D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EA080-F100-45AD-AA4E-71BED5337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B678F-D9C6-4621-95BE-2376811D4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02D37-8012-4207-B470-42065CD51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ABB0F-2AA4-496F-AE51-10F7DE060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5D74D-93F2-4CD5-9D69-A9ADF71B3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650F9-6656-4AE8-89F7-C5FF23F662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5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finitive Replacing a Clause - Additional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erbs Denoting a Change of St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clam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xclam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33520" y="1758960"/>
            <a:ext cx="8001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gative questions can also be use to exclai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sn’t Windows the best O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sn’t the transfer sluggish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esn’t the processor have a beautiful color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3 exercise 26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5 exercise 27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06 exercise 2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World Wide Web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-mail Protoc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finitive Replacing a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21932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vis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installed a modem to be able to connect to the internet via a phone lin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same su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shut down the system for it not to irritate her any more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different su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ther situations in which infinitive is used instead of a clau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rdinal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řadové číslovky),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last, on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the first to reveal the bug in the program.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první, kdo ..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were the last to see the computer functional. (posledn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kdo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Dad was the only person in our family to know how to ground the device. (jedin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ý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kdo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finitive Replacing a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835280"/>
            <a:ext cx="8382240" cy="44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noug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dostat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čně, dos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lway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llow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 adjective or adverb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emory of the VGA is large enough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 assu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proper display. (dost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velká na to, aby …)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- same su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emory of the VGA is large enough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 you to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le to play the game.  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t su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knows Perl well enough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 star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is career as a programm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large enough a mediu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 sto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program on it uncompres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ood enough software to me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your needs available for downloading on the Intern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finitive Replacing a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1219320"/>
            <a:ext cx="7925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found the mod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clumsy to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ard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big to be fit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to the sl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big a car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 fit i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to the sl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is card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big for him to fi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to the sl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’ve me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pretty a girl to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le to concentrate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 cases and frequent mistak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rocessor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ast enough for me to install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install 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guy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mart enough for me to dat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date hi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able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short for me to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use 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dwarf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short for Snowhite to marr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marry hi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is stupidity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hard for her to put up wit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put up with 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rbs Denoting a Change of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698480"/>
            <a:ext cx="8001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ten occurs in phras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et married, get angry, get ready, etc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for more details see pp. 193-194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ngli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čtina pro jazykové školy 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f you get the program ready in time, you will even be given a bon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Having heard about the system freezing, he got ang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becom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often intruduces a neutral change usually meaning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„stát se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He has become too dificult to socialize wi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he device has become too outdated to be u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rbs Denoting a Change of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2048040"/>
            <a:ext cx="8381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ro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ually refers to a slow (or gradual) chan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is hair’s grown gre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finding out the dwarf had grown up, Snowhite began to grow fond of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ur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ually refers to a sudden (abrupt) chan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found his keyboard soiled, he turned red with ang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 turning blue, the screen predicted a sleepless night full of adven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rbs Denoting a Change of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172404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.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al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ually occurs in phrases - for more details see p. 194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ngli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čtina pro jazykové školy 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fallen in love with his new interface. He can’t take his eyes off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fall behind their schoolmates in programm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ten introduces a change for the wor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ut for the screen filter, he would have gone bli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ce you failed to stick the meat in the fridge, it has gone of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spent a month trying to get rid of the blue screen, he went craz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rbs Denoting a Change of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2048040"/>
            <a:ext cx="8001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.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to/come 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used to refer to a gradual change (development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 the beginning I liked the blue color, but I came to hate it with each its recurre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nowhite needed to get to know the dwarf a little before marrying him. Why buy a pig in a po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xclam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33520" y="1758960"/>
            <a:ext cx="8001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a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s the use of noun which can be preceded by an adjective. If the noun is countable (singular),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compulso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 a trashy jack! It doesn’t fit 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 nonsense! Never heard anything like that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 a terrible and time-consuming project to work on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ow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s the use of an adjective or adverb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nasty of you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sophisticated the system i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surprising!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iron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0-13T12:39:24Z</dcterms:modified>
  <cp:revision>177</cp:revision>
  <dc:subject/>
  <dc:title>Lecture 1:</dc:title>
</cp:coreProperties>
</file>