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7579-F3BA-44E8-894D-E1F81FE71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B37F-39C8-4511-AED9-C45D1C6A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A382-2F4E-4D0F-A57B-2649CCE15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0089-A832-44AD-B28F-F8F64DEE6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8CD8-D8D5-41FE-B411-4AB73294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F919-455F-41E1-97CE-C07A81A3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8F21-206E-4CDF-9A68-BCD4A12A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50CE-1585-40C4-876D-B082A04C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DB85-18B4-4B59-A302-C442E9C8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C471-089E-4BA7-B919-F64999E7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F438-16ED-48E2-9663-5CA46F22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F6B8-253E-4F24-969C-E604E5BC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F87E-0A58-4EC3-A3D5-210C6186F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a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03Z</dcterms:modified>
  <cp:revision>153</cp:revision>
  <dc:subject/>
  <dc:title>Lecture 1:</dc:title>
</cp:coreProperties>
</file>