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93842-CE91-45AC-871A-8D944438E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F77B7-84A0-4A47-8374-A683A7FEB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3669E-8A09-457B-B4D5-5F2728849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0E9A0-A08C-4AC1-84FC-A81E98CD4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EA95F-FEEE-49A2-8EFE-BC6A947CA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70A04-D1C9-46EC-93B7-A3DC50FBE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98EFA-38CF-4992-B8B0-DAD25BFD0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8E5F2-9A4F-4BA7-84BD-B7A9B77A2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F9E6B-4B5F-4C4D-8418-0D19EDB30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A8FAE-81CF-477D-B420-8A60423EC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26BC7-9BD6-4DD7-B957-EDF7FF65C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CC907-B890-4778-9712-3C7154849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12C5A-D280-4840-AC12-C205F0962B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2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ime Clauses and their Conjun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axon Geni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 do I., Neither do I., and their Vari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ime Clauses and their Conj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2133720"/>
            <a:ext cx="8381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junctions introducing time claus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, while, before, after, as soon as (jakmile), till, until, once (jak jednou), by the time (kdy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whenever (kdykoliv), the moment (v tu chv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li, kd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rule to remember: Time clauses (introduced with one of the conjunctions above) must never conta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uture ten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When referring to future, they have to us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esent ten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ime Clauses and their Conj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600200"/>
            <a:ext cx="8382240" cy="49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icture will be breaking up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en you star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laying the file without the new code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fter you plu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new piece of hardware in, Windows will automatically detect it and assign the right driver to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not start selling the program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ntil I debu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say they will check my hardware setting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ile I wai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(na po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čkání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will be able to install that operating system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s soon as you re-parti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your dr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will receive the fil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y the time you are do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the conver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enever he ask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e for it, I will not help him ou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ime Clauses and their Conj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1981080"/>
            <a:ext cx="792504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 cas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 of present perfect in time clauses introduc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, as soon as, after, once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 to describe an action which will be completed before the action in the main cla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will get a pretty well-paid job when you have graduated from this schoo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nce I have finished reading the manual, I will try to get it to 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let you go out as soon as you have done your home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tudent will be admitted to a higher grade after he/she has passed all the necessary exa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axon Ge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066680"/>
            <a:ext cx="8001000" cy="57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axon Genitive 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express belonging to a person or, sometimes, anima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my father’s mod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one is allowed to touch my children’s toy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eachers often underestimate their students’ learning potenti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to express place, distance, periods of time, measure, value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 set out for an hour’s walk. (a one-hour wal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bought a sixteen inches’ monitor. (a sixteen-inch monito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twenty kilometers’ trip will never end. (twenty-kilometer tri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axon Ge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1371600"/>
            <a:ext cx="8381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at’s what I told you at the last week’s lec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pe they don’t thwart the tomorrow’s plan of m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only brought me a fifty centimeters’ cable. (a fifty-centimeter cab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nday’s newspapers (this Sunday’s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unday papers (Sunday edition - generall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Thirty Year’s War (the name of the war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thirty-year war (the one lasting thirty yea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do I., Neither do I., and their Vari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2124000"/>
            <a:ext cx="83818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 do I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á také.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So + auxiliary (modal verb) + subject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either do I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J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á také n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either + auxiliary (modal verb) + subject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islikes the FLASH technology. So does sh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can’t work with that program. Neither can my D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have overslept today. So has my brot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ur bandwidth does not enable us to transfer a large volume of data. Neither does thei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is as thick as two short planks. So is his sis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do I., Neither do I., and their Vari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2260440"/>
            <a:ext cx="8001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memb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a new car. S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oes 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got a new car. S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mustn’t increment that value. Neit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st the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needn’t have used fractions in the equation. Neit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ed 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mustn’t speak during the lessons. Neit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st s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oduce bug-free software. Neither do 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25 exercise 16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26 exercise 17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28 exercise 1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etwork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etwork Commun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0-13T12:38:33Z</dcterms:modified>
  <cp:revision>144</cp:revision>
  <dc:subject/>
  <dc:title>Lecture 1:</dc:title>
</cp:coreProperties>
</file>