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214C6-3BF9-40D5-B52F-2297D96DF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E23D0-619C-47E9-96FD-B9FBC4C3F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62FF9-88FE-40C3-8D6E-072EBC67C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10A64-5CF5-4D31-823C-1AFA3BDD7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020C5-5D89-40BA-910E-F265B6CC9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8E118-1BF0-4C8B-A920-57B7AF897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FB369-3990-44A0-942E-F39A4CB36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70F09-DA9E-4AED-8119-4ADD88C3C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39F72-65D3-4C6D-B1DA-AEC9722BA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73C09-2A6C-4031-BDC7-8410B5510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11221-29D4-4BDD-B67E-D084DE501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B78C8-1D1E-4049-95FD-1D1431A0A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C55D0-087C-4E72-89CB-3A7CC5056B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5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finitive Replacing a Clause - Additional In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erbs Denoting a Change of St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clam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xclam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33520" y="1758960"/>
            <a:ext cx="8001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gative questions can also be use to exclai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sn’t Windows the best O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sn’t the transfer sluggish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oesn’t the processor have a beautiful color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9480" y="16765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3 exercise 26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5 exercise 27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06 exercise 2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World Wide Web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-mail Protoc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finitive Replacing a Cla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219320"/>
            <a:ext cx="8381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vis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s installed a modem to be able to connect to the internet via a phone lin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same su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shut down the system for it not to irritate her any more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different su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ther situations in which infinitive is used instead of a clau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rdinal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řadové číslovky),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last, on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the first to reveal the bug in the program. 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první, kdo ..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were the last to see the computer functional. (posledn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í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kdo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Dad was the only person in our family to know how to ground the device. (jedin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ý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kdo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finitive Replacing a Cla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835280"/>
            <a:ext cx="8382240" cy="44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noug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dostat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čně, dos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lway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llow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 adjective or adverb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emory of the VGA is large enough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 assu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proper display. (dost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velká na to, aby …)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- same su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emory of the VGA is large enough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 you to b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ble to play the game.  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erent su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knows Perl well enough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 star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is career as a programm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s large enough a mediu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 sto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program on it uncompres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re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ood enough software to me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your needs available for downloading on the Intern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finitive Replacing a Cla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1219320"/>
            <a:ext cx="79250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found the mod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clumsy to u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card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big to be fit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to the sl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big a car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 fit i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to the sl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is card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big for him to fi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to the sl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’ve me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pretty a girl to b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ble to concentrate 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 cases and frequent mistak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processor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ast enough for me to install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install 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guy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mart enough for me to dat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date hi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cable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short for me to u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use 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dwarf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short for Snowhite to marr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marry hi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is stupidity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hard for her to put up wit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put up with 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erbs Denoting a Change of St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698480"/>
            <a:ext cx="8001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ten occurs in phrase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et married, get angry, get ready, etc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for more details see pp. 193-194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ngli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čtina pro jazykové školy 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f you get the program ready in time, you will even be given a bon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Having heard about the system freezing, he got ang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ii.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becom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often intruduces a neutral change usually meaning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„stát se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He has become too dificult to socialize wit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The device has become too outdated to be u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erbs Denoting a Change of St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2048040"/>
            <a:ext cx="83818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ro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ually refers to a slow (or gradual) chang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is hair’s grown gre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finding out the dwarf had grown up, Snowhite began to grow fond of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.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ur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ually refers to a sudden (abrupt) chang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found his keyboard soiled, he turned red with ang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y turning blue, the screen predicted a sleepless night full of advent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erbs Denoting a Change of St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172404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.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al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ually occurs in phrases - for more details see p. 194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ngli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čtina pro jazykové školy 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fallen in love with his new interface. He can’t take his eyes off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fall behind their schoolmates in programm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ten introduces a change for the wor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ut for the screen filter, he would have gone bli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ce you failed to stick the meat in the fridge, it has gone of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spent a month trying to get rid of the blue screen, he went craz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erbs Denoting a Change of St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33520" y="2048040"/>
            <a:ext cx="8001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.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to/come t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used to refer to a gradual change (development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 the beginning I liked the blue color, but I came to hate it with each its recurre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nowhite needed to get to know the dwarf a little before marrying him. Why buy a pig in a po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xclam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33520" y="1758960"/>
            <a:ext cx="8001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a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res the use of noun which can be preceded by an adjective. If the noun is countable (singular),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compulso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at a trashy jack! It doesn’t fit 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at nonsense! Never heard anything like that bef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at a terrible and time-consuming project to work on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ow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res the use of an adjective or adverb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nasty of you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sophisticated the system i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surprising!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iron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0-13T12:39:24Z</dcterms:modified>
  <cp:revision>177</cp:revision>
  <dc:subject/>
  <dc:title>Lecture 1:</dc:title>
</cp:coreProperties>
</file>