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F73F-A45B-4922-8448-4FAF73B65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2D40-5F07-43A7-B5CA-D4B6858F0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ED7B-22FE-444B-9B36-56506AAC1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F306-4176-4D19-B8C9-5E3AE1A7A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FA80-ED68-4307-926B-9C202F0B8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292D-E9EE-4BAD-B5CD-62F03372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86D3-CEA5-4C52-87F0-6E996A323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7C2D-6A48-4B82-AEE1-9A5FE9D0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BB94-875D-4FDC-8AF1-88D897D6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8944-E620-4176-A5D1-B2EAA2507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8557-DD7F-43F8-ADBD-2E4E2D28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7894-684B-475A-82F7-D0AFCF99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10D84-F5AE-45F9-8A8F-49206F5343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r. Dvořá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 you th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you could check m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swer shee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nd possibly award 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ore point fo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question you mentioned at 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’s lecture? I am writing this e-mail since I am not completely sure of what alternatives I have selected for the qu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sincerely (Best regards, Kind regards, Regards, All the best, Best wishe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a Polofor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l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676520"/>
            <a:ext cx="79250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incipal rules to 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 reply to any e-mail you receive letting the sender know you have received it and you have not ignored its contents. You should do so even if it were in the form of a simple ‘Allright’ n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ware of the person who does not reply to your e-mail despite receiving it since there is always a problem to surface in the future!! That is, such a person is likely to turn out slapdash, boorish, conceited, complacent, or having any other negative trait that might eventually get you in troubl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d of Lecture S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4005360"/>
            <a:ext cx="7632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inomial [bai’n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l] coefficient [kəui’f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nt] of the natural number n and the integer k is the number of combinations that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 binomial coefficient of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is often read as "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choose 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>
            <a:lum contrast="76000"/>
          </a:blip>
          <a:stretch/>
        </p:blipFill>
        <p:spPr>
          <a:xfrm>
            <a:off x="3995640" y="2205000"/>
            <a:ext cx="804960" cy="1368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71640" y="1484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binatoric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[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bi: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’to:riks]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32846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where n is the number of objects from which you can choose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is the number to be chosen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>
            <a:lum contrast="36000"/>
          </a:blip>
          <a:srcRect l="0" t="0" r="10290" b="-2151"/>
          <a:stretch/>
        </p:blipFill>
        <p:spPr>
          <a:xfrm>
            <a:off x="611280" y="1844640"/>
            <a:ext cx="7848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67652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poorly composed mess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 teach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nt the point for the question I wrote correc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 Bal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k Balíkovi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76520"/>
            <a:ext cx="79250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Sir/Mada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sending this message with regard to your e-mail of April 2, 2007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ere you say I might be awarded one more point for a question in my 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 h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swere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orrect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I wonder if you would be so kind as to check the test and make sure the question has been evaluated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faith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niel Kultivova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rak</cp:lastModifiedBy>
  <dcterms:modified xsi:type="dcterms:W3CDTF">2007-05-03T10:57:33Z</dcterms:modified>
  <cp:revision>221</cp:revision>
  <dc:subject/>
  <dc:title>Lecture 1:</dc:title>
</cp:coreProperties>
</file>