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647C-FF6D-417B-8FE6-00F49B314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CDC5-CF07-4DDF-8EE3-0ACEB35F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8E9D-2C26-4458-8BA3-9759BCDE3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677F-694E-4C95-B1B1-4FC545335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DA1D-F2BB-4619-A933-834CE108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55C4-C24C-4718-BA5A-AD12C4BCD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D62E-D32B-4376-9D54-AC6CC3A59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3593-B678-46F4-9F57-7BBD5C60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5CC9F-005F-493E-AE9C-DC443295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BD55-B3D4-4217-ADC6-8F0A4630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654D-9A25-4632-ADFA-21AD6000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48F5-3103-4A2D-96A2-BCBBB88B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BFE4-65D6-4E34-B0B9-45B8529E81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‘while’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5:06Z</dcterms:modified>
  <cp:revision>175</cp:revision>
  <dc:subject/>
  <dc:title>Lecture 1:</dc:title>
</cp:coreProperties>
</file>