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54AB4-34B0-48D8-92A6-45E4EBD33B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3653F-D91E-437E-904D-18CDDAD64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511CF-4806-4CC4-8549-6BF941307C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B3DC97-623D-42E7-A865-2E17E41B7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89E9E-C986-486D-A4D9-1B0C489C4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D4C73-61D8-4B1A-A396-6EF4CB550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58C04-9501-47CF-A726-230170A1F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C31F3-6AEF-4B97-867D-B2F0FB6A2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0628F-4AD1-43C8-A49B-60FBFC3D4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939C4-D659-48AF-B8A9-063FCFDB8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21E53-2C80-4F0E-80ED-678CE305C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27BED-B76C-4E69-871E-18AC57C9C5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3E3A1-A918-4C34-A61F-FDB2BD7260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0"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2"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pic>
        <p:nvPicPr>
          <p:cNvPr id="64" name="bookworm" descr=""/>
          <p:cNvPicPr/>
          <p:nvPr/>
        </p:nvPicPr>
        <p:blipFill>
          <a:blip r:embed="rId2"/>
          <a:stretch/>
        </p:blipFill>
        <p:spPr>
          <a:xfrm>
            <a:off x="2971800" y="3505320"/>
            <a:ext cx="320040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9:27Z</dcterms:modified>
  <cp:revision>205</cp:revision>
  <dc:subject/>
  <dc:title>Lecture 1:</dc:title>
</cp:coreProperties>
</file>