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D97C-2B2D-428F-BBC3-4B017A376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A348-AADD-43C8-8996-E1B395230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2AE8-5DDB-43BC-99C2-5F4E82836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BDD8-0682-4201-86CB-EDE560AF0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B962-BBB2-44F6-8948-5904E6181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605D-89D6-4449-8610-4695A6C2F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17E8-F7DA-411A-A6C5-8524A454F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FF2F-E80E-4B91-B642-9396CCA63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BB9B-5179-4F71-B05C-7BC176105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F9F6-D130-42CB-A96F-3C5F615CA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4D57-510A-4E9E-9F16-5F9F6A59D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CD95-54D8-4D55-9CBA-7DE4123AA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222D0-8276-4E8E-A9D0-A087338DB4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20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oliteness in Correspon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Politeness in Correspond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1676520"/>
            <a:ext cx="7925040" cy="50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 of a correctly composed message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ar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Mr. Dvořá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do you thi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you could check m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swer sheet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and possibly award m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e more point for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 question you mentioned at tod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’s lecture? I am writing this e-mail since I am not completely sure of what alternatives I have selected for the ques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ank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rs sincerely (Best regards, Kind regards, Regards, All the best, Best wishes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etra Poloform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ln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Politeness in Correspond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9480" y="1676520"/>
            <a:ext cx="7925040" cy="44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rincipal rules to rememb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ways reply to any e-mail you receive letting the sender know you have received it and you have not ignored its contents. You should do so even if it were in the form of a simple ‘Allright’ no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ware of the person who does not reply to your e-mail despite receiving it since there is always a problem to surface in the future!! That is, such a person is likely to turn out slapdash, boorish, conceited, complacent, or having any other negative trait that might eventually get you in trouble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1676520"/>
            <a:ext cx="7925040" cy="36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mputing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iding Hard Dr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nd of Lecture Ser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06668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un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fan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(x)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function of the variable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erivati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di’riv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tiv] – derivace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 expression representing the rate of change of a function with respect to an independent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f(x,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- 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the partial [‘pa: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ə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l] derivative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f(x,y)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with 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respect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to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447920"/>
            <a:ext cx="8382240" cy="46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eri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di’raiv] – odvodit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btain a function or equation from another by a sequence of logical steps (e.g. by differenti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ntegra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i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grəl] – int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grál </a:t>
            </a:r>
            <a:r>
              <a:rPr b="0" i="1" lang="cs-C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function of which a given function is a derivative (which may express the area under the curve of a graph of the fun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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 (x)d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-- the indefinite integral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f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with 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respect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to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14300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ogarith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lo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riδəm] – logaritm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 common logarithm of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 logarithm (base a) of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sain]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i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kəusain]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ng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tæn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tang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kəu’tæn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i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– calculated as a ratio of the side opposite a given angle to the hypoten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- sine x, cosine x, tangent x, cotangent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1447920"/>
            <a:ext cx="8001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 x, cos x, tg x, cotg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|a| - th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bsolute valu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f 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emainde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[ri’mein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]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- zbyt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uantit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kwontiti] – vel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atri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meitrix], pl.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atric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meitrisi:z] – matice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rectangular array of quantities or expressions in rows and columns that is treated as a single entity and manipulated according to particular r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– sum [sam]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u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26920" y="4005360"/>
            <a:ext cx="76327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binomial [bai’nə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mi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əl] coefficient [kəui’f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ənt] of the natural number n and the integer k is the number of combinations that exi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e binomial coefficient of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is often read as "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 choose k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>
            <a:lum contrast="76000"/>
          </a:blip>
          <a:stretch/>
        </p:blipFill>
        <p:spPr>
          <a:xfrm>
            <a:off x="3995640" y="2205000"/>
            <a:ext cx="804960" cy="13683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971640" y="1484280"/>
            <a:ext cx="69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binatoric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[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ə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bi: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ə’to:riks]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39640" y="328464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where n is the number of objects from which you can choose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is the number to be chosen.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>
            <a:lum contrast="36000"/>
          </a:blip>
          <a:srcRect l="0" t="0" r="10290" b="-2151"/>
          <a:stretch/>
        </p:blipFill>
        <p:spPr>
          <a:xfrm>
            <a:off x="611280" y="1844640"/>
            <a:ext cx="784836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liteness in Correspond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9480" y="1676520"/>
            <a:ext cx="79250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 of a poorly composed messa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 teache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nt the point for the question I wrote correct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etr Bal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k Balíkovi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Politeness in Correspond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9480" y="1676520"/>
            <a:ext cx="792504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 of a correctly composed message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ar Sir/Madam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sending this message with regard to your e-mail of April 2, 2007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ere you say I might be awarded one more point for a question in my te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may ha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swered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correct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I wonder if you would be so kind as to check the test and make sure the question has been evaluated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ank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rs faithfu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aniel Kultivova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rak</cp:lastModifiedBy>
  <dcterms:modified xsi:type="dcterms:W3CDTF">2007-05-03T10:57:33Z</dcterms:modified>
  <cp:revision>221</cp:revision>
  <dc:subject/>
  <dc:title>Lecture 1:</dc:title>
</cp:coreProperties>
</file>