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BBDE2A-9394-46C0-9BB4-D0B78ACCC5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3B8A5-B09B-4579-ADD4-8BEF1096B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686F8F-1ACD-4B32-86E7-B4EFFE7A9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CD0A0-A822-4501-A6EF-A4400085C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93924-7E2C-4DAF-8B24-E2B4E04D3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379C0-DBAC-4D3F-8F87-98ABD5117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BD7D0-7C7B-432F-84AD-82081D1B3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576DF-A517-45B7-8E78-E3ABB12BC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34691-CBF1-4F69-B4BC-A7DF56C56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D6CBD-0457-4880-B51A-8AC59C3AB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37E9B-E75F-4070-A331-EFAC40618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B8BBA-35D0-41C9-BDCA-FABE1A562F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8B213-D929-4936-BAD9-C76CAF7840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0"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2"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pic>
        <p:nvPicPr>
          <p:cNvPr id="64" name="bookworm" descr=""/>
          <p:cNvPicPr/>
          <p:nvPr/>
        </p:nvPicPr>
        <p:blipFill>
          <a:blip r:embed="rId2"/>
          <a:stretch/>
        </p:blipFill>
        <p:spPr>
          <a:xfrm>
            <a:off x="2971800" y="3505320"/>
            <a:ext cx="320040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9:27Z</dcterms:modified>
  <cp:revision>205</cp:revision>
  <dc:subject/>
  <dc:title>Lecture 1:</dc:title>
</cp:coreProperties>
</file>