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D53D-D3A3-42C5-B60A-F9D25B56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C4A4-4961-4D31-B3F8-C0EA0438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6FF6-CBBD-4C5E-9EDA-A3A247B69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062F-C04F-446A-B657-6546A2990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794E-22FC-4968-B5BC-543EE4C3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9F49-D798-49CD-B6C3-E24A17C1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69B4-F287-4280-9BC0-D87DDF6E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E98E-D590-4C4E-861E-E920F402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B2CB-9A59-4631-B00B-1594A6D8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A951-FD26-4F00-83D9-E3C7099C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E92C-3CD9-49BE-A968-AAF1B55C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17D2-EB7F-4A5F-A055-61E88BC2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35B3-1F0D-4DA7-8A83-72F348728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říliš 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ce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nowhite" descr=""/>
          <p:cNvPicPr/>
          <p:nvPr/>
        </p:nvPicPr>
        <p:blipFill>
          <a:blip r:embed="rId2"/>
          <a:stretch/>
        </p:blipFill>
        <p:spPr>
          <a:xfrm>
            <a:off x="3386160" y="2470320"/>
            <a:ext cx="2633760" cy="2939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571500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rry, but you’re too short for us to get marr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and the Seven Dwar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00Z</dcterms:modified>
  <cp:revision>179</cp:revision>
  <dc:subject/>
  <dc:title>Lecture 1:</dc:title>
</cp:coreProperties>
</file>