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6209F92-FA94-4214-B4A2-296A13F8B64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0027D59-BC8D-48E0-8B59-6B18C7F6C0E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8747512-69AE-4114-B4C7-9379C31C83E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0657340-1AC5-4D02-A763-A874EC63127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the various options for connecting subscribers to the 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9000" y="2577960"/>
            <a:ext cx="5089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2341440"/>
            <a:ext cx="6487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2340000"/>
            <a:ext cx="60804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32612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41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4440" y="2789280"/>
            <a:ext cx="4181400" cy="290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65680" y="2776680"/>
            <a:ext cx="4054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4-02T12:59:47Z</dcterms:modified>
  <cp:revision>33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