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72BA-52FF-4756-A542-CDA0D44B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403C-CBF1-4BC7-959A-D47EC665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52B3-8668-4802-9CA8-68609F22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096B-1CB5-4BCC-9B0B-FB0F4FC3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5360-56AC-4B03-A42B-6B45AFB3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CD28-D0D5-4BA3-AAE0-5F958799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B6A-C8F8-48AE-AEDA-8DC97FE3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B708-07B9-420A-97A8-2809CDF7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0906-251C-4151-801A-AFC5EA71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4564-26B1-4075-AD1E-F6F586B1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F318-EBC1-47D4-863B-5D85D8E4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646-76FD-47EA-8C26-4CCF3FDE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377966-D787-49C6-8282-2CDDC3241C6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13012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iffing network traffic in Pyth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se Nazario, Ph.D. &lt;jose@monkey.o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nids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 driven interface (nids_run(), nids_next(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stream re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state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TCP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s addresses, data, et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P and IP packet re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pynids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_in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.param(“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,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callb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.register_tcp(handleT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handleTcp(tcp):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_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 1: nids_nex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nids Order of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s com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exist? Create state or reus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based on state in c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P or 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handler, pass packe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process in c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Example (Pyth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ort n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&lt;handleTcpStrea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.param("scan_num_hosts", 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not nids.init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error -", nids.errbuf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.exit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.register_tcp(handleTcpStre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y:        nids.run()  # loop for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 KeyboardInterru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.exit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Example (Python)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handleTcpStream(tc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tcp.nids_state == nids.NIDS_JUST_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dport in (80, 8000, 8080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cp.client.collect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cp.server.collect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if tcp.nids_state == nids.NIDS_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cp.discard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if tcp.nids_state in end_st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addr:", tcp.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may be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To server:“, tcp.server.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 "To client:“, tcp.client.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Example (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in(int argv, char *argv[]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nids_init() =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(1, “error, %s”, nids_errbu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_register_tcp(handleTc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ds_ru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Example (C),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handleTcp(struct tcp_stream *tc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witch (tcp-&gt;nids_stat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JUST_EST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(tcp-&gt;addr.dest == 80) ||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tcp-&gt;addr.dest == 8000) ||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tcp-&gt;addr.dest == 808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p.server.collect = 1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p.client.collect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DATA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ids_discard(tcp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CLOSE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RESET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‘NIDS_TIMED_OUT’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“((%s, %d), (%s, %d))\n”, inet_ntoa(tcp-&gt;saddr), tcp.srce,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et_ntoa(tcp-&gt;daddr), tcp.des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“%s\n”, tcp-&gt;server.dat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“%s\n”, tcp-&gt;client.dat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5080" y="6248520"/>
            <a:ext cx="61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the same LoC, until we start string mani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ionDet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pyth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on h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y pa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: SSH (client, server), WWW (client, server), and SMTP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: coordinate data collection with TCP stack fingerpri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0560" y="5715000"/>
            <a:ext cx="79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63.236.16.161       SymbianOS 6048 (on Nokia 7650?)             www     80/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.236.16.161:  80:  Microsoft-IIS/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ionDetect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2.168.1.7:  22:  SSH-2.0-OpenSSH_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2.168.1.101:http:  Mozilla/5.0 (X11; U; OpenBSD i386; en-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; rv:1.5a) Gecko/20031030 Mozilla Firebird/0.6.1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68.75.65.85:  80:  Microsoft-IIS/5.0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65.1.76.60:  80:  Netscape-Enterprise/3.6 SP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68.75.65.69:  80:  Microsoft-IIS/5.0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68.75.65.87:  80:  Microsoft-IIS/5.0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9.28.159.7:  80:  ZEDO 3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8.65.148.234:  80:  Apache/1.3.29 (Unix) PHP/4.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6.150.209.231:  80:  Apache/1.3.31 (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2.187.153.30:  80:  Apache/1.3.31 (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2.187.153.37:  80:  Apache/1.3.31 (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2.187.153.32:  80:  thttpd/2.25b 29dec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4.209.232.207:  80:  Apache/1.3.27 (Uni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_perl/1.27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16.239.39.99:  80:  CAFE/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-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, passive pyth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s HTTP request hea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 /blog/styles-site.css HTTP/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st: www.jackch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r-Agent: Mozilla/5.0 (X11; U; OpenBSD i386; en-US; rv:1.5a) Gecko/20031030 Mozilla Firebird/0.6.1Accept: text/css,*/*;q=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ferer: http://www.jackcheng.com/blog/archives/2004/12/ipod_rumor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Pyth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ed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 to be slower tha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data structur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er LoC per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manipulate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ython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-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ed graph history of brow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ructs graph from referrer and URL in the hea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rer    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 you view your history as you took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natural “hubs” of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ls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uiweb.com.nyud.net:8090/issues/issue37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3581280"/>
            <a:ext cx="304920" cy="1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laying http-graph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s a small “dot”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t” part of “graphviz”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“neato” to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formats: SVG, PS, PDF, im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ake fully interacti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http-graph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888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bbing Data with pyn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.{server, client}.data and just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string operations will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“HTTP/1.0” in tcp.client.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Expression sear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re.search(“HTTP/1.[10]”, tcp.client.dat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.replace(req, “GET HTTP/1.0”, “”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y inva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rf 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conver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C, AIM, etc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, P2P apps, HTTP download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rupt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cp.kill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6400" y="5867280"/>
            <a:ext cx="50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dsniff is written in Pytho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gr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es sniffing with regular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like ngrep, tcpkill, and dsn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s the whole connection, not just a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data in streams using regular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or kill selected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t cheap IDS or 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400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tcpdump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packetfactory.net/projects/libnid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onkey.org/~provos/libeven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onkey.org/~dugsong/{dpkt, pycap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oss.coresecurity.com/projects/pcap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onkey.org/~jose/software/flowgre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pilcrow.madison.wi.us/pynid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ns, TCP/IP Illustrated vols 1 an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iffman, Building Open Source Network Security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Cs from the IE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rying Python and Sniff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es i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SWIGged, exported to Pyt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ap, dnet, nid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pcap/pcappy – pcap for pyt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kt – packet deconstruction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dnet – packet construction library (has python bindings in the distrib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ynids – connection reassembly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6320" y="593640"/>
            <a:ext cx="78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ibnid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reassemble IP stre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37440" y="1879560"/>
            <a:ext cx="616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DS “E” box (event generation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land TCP/IP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Linux 2.0.36 IP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libpcap, libnet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fragment re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76520" y="1066680"/>
            <a:ext cx="579096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3276720"/>
            <a:ext cx="220968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560" y="33526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343400"/>
            <a:ext cx="114300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14400" y="11034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76520" y="1066680"/>
            <a:ext cx="579096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3276720"/>
            <a:ext cx="220968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560" y="33526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4343400"/>
            <a:ext cx="114300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14400" y="11034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4191120"/>
            <a:ext cx="1143000" cy="609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61960" y="426708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bn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nids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in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callb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register_tc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regster_i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regiser_ud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ds_kill_tc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03640" y="5335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nids_run(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371600"/>
            <a:ext cx="1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79280" y="1371600"/>
            <a:ext cx="12985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1371600"/>
            <a:ext cx="16765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3640" y="335268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DP call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68400" y="33526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 call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21000" y="33526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call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120" y="4038480"/>
            <a:ext cx="278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stream ob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CP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li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rv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urce IP,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st IP,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q, ack, etc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83120" y="4038480"/>
            <a:ext cx="243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 pack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urce IP,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st IP,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DP pay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78960" y="4038480"/>
            <a:ext cx="25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truct IP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ntains upp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nids TCP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IDS_JUST_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TCP connected state (3W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eam-&gt;{client,server}.collect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et stream payload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IDS_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within a known, established TCP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IDS_RESET, NIDS_CLOSE, NIDS_TIMED_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connection is reset, closed gracefully, or was 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4240" y="6095880"/>
            <a:ext cx="90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nids doesn’t expose SYN_SENT, FIN_WAIT, etc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17:12:05Z</dcterms:created>
  <dc:creator>jose nazario</dc:creator>
  <dc:description/>
  <dc:language>en-US</dc:language>
  <cp:lastModifiedBy>jose</cp:lastModifiedBy>
  <dcterms:modified xsi:type="dcterms:W3CDTF">2004-12-18T19:34:08Z</dcterms:modified>
  <cp:revision>10</cp:revision>
  <dc:subject/>
  <dc:title>Sniffing network traffic in Python</dc:title>
</cp:coreProperties>
</file>