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C8C7-8E08-4CCC-B796-70823EF65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2C97-6630-4EDF-881B-47E6BCCE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0A09-732C-42A9-8703-210A5947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20ED-1578-43A2-8B00-187AF5D5B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7608-E94B-4E32-84AA-2AFBEEC8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4F0C-95CC-4471-B592-6040EF79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35D4-6A65-4831-8B50-74ACA2F2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90C4-792C-41C2-B614-FF867D6F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ADE1-39C9-404C-9109-0FAD1E3D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00D1-0812-4684-A408-635F0685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B931-A108-44AA-AC74-7AD52B50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3568-4DBD-483A-8EE1-488A2742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5B87-D110-4D3A-97A9-5734B42CF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dnesda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ednesda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2-02T13:00:05Z</dcterms:modified>
  <cp:revision>91</cp:revision>
  <dc:subject/>
  <dc:title>Lecture 1:</dc:title>
</cp:coreProperties>
</file>