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FCB-0AF7-4B67-95D5-5CDA8743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37E5-CDD6-4401-977B-70EE8E2F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551-C32D-4197-8709-AE066C18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ED8-5FFB-475D-9D07-D902D427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12F-4D2B-4973-B31D-90852DA3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A5C-07A2-4ABE-A182-6EA62D4B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579-C88F-4E54-B3C1-E964F4C8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450-C174-46F1-99AA-2C3E539F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7B6-9AE7-4F73-AF76-9FE8BBA2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2AC-34FD-4D77-B62D-897FDB5F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B09-A382-49C3-BB32-8EF9F5F9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6418-8045-46E5-96C1-238962EC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61FB-3257-42D5-A79D-31E437E15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7:33Z</dcterms:modified>
  <cp:revision>124</cp:revision>
  <dc:subject/>
  <dc:title>Lecture 1:</dc:title>
</cp:coreProperties>
</file>