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52DE-3DA7-497C-96B4-B7BD7C21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F2C7-358C-4DED-8522-1C086D12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F315-6709-4C0D-B788-7334E0DE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6231-B893-4FE6-AF2C-9F3B0F25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4393-7248-4A9A-A0DD-DBC1749C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80B9-1099-4E08-9DDA-FE02EDA8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FD17-7EEC-44DA-8853-E3DC84BC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0E98-BCB9-4130-88F7-7AFA46B6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98B2-E2F5-48C4-9535-64753C96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A746-048E-4EB4-9B10-96CF3BFE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2C88-3461-49C0-92C9-4C9C3A43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97E7-2400-4941-A7AB-41E3BD78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CE35-8C32-4888-B5B9-C88BF7F60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56Z</dcterms:modified>
  <cp:revision>194</cp:revision>
  <dc:subject/>
  <dc:title>Lecture 1:</dc:title>
</cp:coreProperties>
</file>