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605E-D397-4F96-BAEC-1B70E13D0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5E28-CD58-4B2E-9DD0-9DA5E450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A685-EB13-4F49-B837-F57D39837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38FB-9D8D-4F23-8EEF-F3D9B9CA1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DB5B-0329-468A-B607-5FB4E384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97B2-19D5-41C5-884B-7815CB869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CC5A-23EC-47F0-B167-BC5AE4CA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8129-715E-4485-B6BF-EAAD1F93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7252-CD7C-4404-932C-01070DD4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056C-4C27-4305-9BF1-8E89B868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F7BC-B0BA-4C92-AEE3-A9BA4D1C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1450-B932-49F1-BF97-B873A286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1984-14F1-4B92-868C-0FF364B1F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8:33Z</dcterms:modified>
  <cp:revision>144</cp:revision>
  <dc:subject/>
  <dc:title>Lecture 1:</dc:title>
</cp:coreProperties>
</file>