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1F8-8981-4CC1-AFC4-106C845B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2B5-4171-4D7F-B9CF-EED20F7E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2CE-0F90-4C91-9BAA-C2B5DAE4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033-5214-4FA5-B7A5-7A006E7D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4FE7-ADD3-4A00-B513-C9EF4748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BD3-4854-4660-B223-B6945D66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B71-F212-4C94-9361-37A2787E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DF5-EA46-4A4B-8DC6-A95948DD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565-15F4-4383-9046-0D94CC33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F0F-D17D-4285-BF20-F9328899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E12-9889-4CD7-ABB6-611394E7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66B-1036-40C1-B135-1D99F5AE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01B5-6084-43AC-95C6-4F0B706BB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1-18T14:25:59Z</dcterms:modified>
  <cp:revision>68</cp:revision>
  <dc:subject/>
  <dc:title>Lecture 1:</dc:title>
</cp:coreProperties>
</file>