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9AFA-4338-4E7B-9DD4-7B98641F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5E0D-0816-4E49-B8B6-1E9B055A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61DE-B44C-45A4-BD60-1716294A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0A22-8DB2-42DD-832F-20680670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3421-F472-4FF4-87EF-2CFDC173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BC78-2F72-4C78-B4D0-811689D1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A636-CBDA-4FD6-8A36-777EAB49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9144-3B93-4186-A031-DBB37862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4D32-E171-4EE9-96E1-D37748F4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5CD-9446-4398-80DD-873C942C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3590-7E9B-43F3-9E93-C07FA018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F9A8-BF4D-4A48-86C5-88847BBF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FC3B-B5B8-4B39-BF76-AC6BB99F4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43Z</dcterms:modified>
  <cp:revision>187</cp:revision>
  <dc:subject/>
  <dc:title>Lecture 1:</dc:title>
</cp:coreProperties>
</file>