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191-7CCA-4CFC-B790-CE9023E0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96D-2202-4B3C-BAB6-8C71B8B2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61A-5039-451E-904F-A5EC935E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5C8-F180-4AD5-B5B9-C26A3E15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4EA-B2F9-4A9A-AFF3-E90C7DA7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095-3704-4C2D-9629-41EB8A52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539-E0BA-48BB-B4ED-F8FE908E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E58-7F3A-42E8-83AF-7EA2BBA4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C98-CEC6-4431-BCF2-BF355079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FCA-2349-470B-A740-768229B7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1D6-3D76-4383-AA55-31D4CE8E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9BC-11B2-4E5D-B127-4127BCE1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C075-3C41-4663-AC5F-16234CC8E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2T13:00:05Z</dcterms:modified>
  <cp:revision>91</cp:revision>
  <dc:subject/>
  <dc:title>Lecture 1:</dc:title>
</cp:coreProperties>
</file>