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8707-624E-4AFE-A634-829509EAF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EC81-21EA-4911-8190-B79CBD7A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674D-B0A4-4538-B78A-29C9E4E47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7514-F0D4-4E3D-B1C3-E5CE2DA5E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9EF9-C56A-4A22-A6A2-018E33FF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19A4-C0C6-4937-914E-27ADE067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99FA-A8BB-4CF8-A3BD-44F4F4EF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30DA-452C-48F7-BD7B-D55C59E7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A447-F993-4F1F-8FAD-F558D45B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DBDB-9EF3-4E71-9613-3372EC9C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360F-210A-40D8-9120-3AC98087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3776-792E-4298-8E7C-BF318983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C286-04CB-4B1B-89DE-C908C41D6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56Z</dcterms:modified>
  <cp:revision>194</cp:revision>
  <dc:subject/>
  <dc:title>Lecture 1:</dc:title>
</cp:coreProperties>
</file>