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224-11E2-4EA2-B41F-0AB289C5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6D3-6E91-4CA8-8998-E91DAFCF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B59-7059-4049-AC71-849ED948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D4C-635B-458F-8EA9-C13C1E93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205-8BAC-402E-9A50-BD74854A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DF0-1285-472A-8243-E87E604A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7EB-3CD3-4F91-9F49-834BFD07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88E-4762-428F-9E13-720B7963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FEE-2717-4247-BA7E-C6CED80B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52C-6CE8-48DB-8E58-7EB90F9B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5B1-F926-468E-84BA-6ABC4CAA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21C-FA50-4FAE-9942-E9C919DE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99E7-6D74-42D9-9A4C-D9929351A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requ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21T11:48:28Z</dcterms:modified>
  <cp:revision>49</cp:revision>
  <dc:subject/>
  <dc:title>Lecture 1:</dc:title>
</cp:coreProperties>
</file>