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3FDD-5767-448A-9040-F2BE44AE1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CAEE-5DD9-4E74-BDB1-7C37B583D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D6A1-F24F-4212-BA28-9B43E8899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DC79-E7BD-4896-A03D-908AB97C5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0B97-48F9-4FD3-A8BC-7D90B00ED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C92A-F93D-4991-B0E6-923B5276E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2FCE-B284-461F-90D3-FA76F57E6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BA35-F7CE-426F-A79A-B3E3AA144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42B2-A41C-4F75-A48F-DAAE309D3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77A0-8D2E-486D-A946-565B46B05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D324-CDCF-4C21-AFD1-76599996F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E7DD-A09C-44F6-AB0B-9470D3944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AF21D-B712-42C5-B3A9-7044DD9BFB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-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st-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443320"/>
            <a:ext cx="82296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, wh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efining and non-defining relativ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(that) is 10 play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is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ays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523880"/>
            <a:ext cx="807696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 which (that) is at the beginning of the source code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, which is at the beginning of the source code,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st the CD (which, that) I had lent him, which got me down.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 (Czech “kte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 and additional information (Czech “c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-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G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990720"/>
            <a:ext cx="8076960" cy="57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n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(see eye to eye with h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CD writer. (do with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tragedy of my Marry contracting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sual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r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ting 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n/of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/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ar! I’m lea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marry her, but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 (backed out of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how I ca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b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money I m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is lectu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and done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21337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61 exercise 5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71 exercis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reading assigned this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1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future” - Czech has its equivalent in “hodla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chystat se něco udělat”; used when something is planned before being defi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assign this value to the scalar var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not going to have her license renewed unless they tell her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change the IRQ of the modem to reconcile it with your sound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752480"/>
            <a:ext cx="838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ction that is likely to happen (taking into account the conditions we are witnessing and that normally lead to the a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ky has got overcast. It is going to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s turned red. He is going to 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ampering with the computer. It is going to free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crosoft have raised prices. Linux is going to be praised for being fre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461960"/>
            <a:ext cx="8381880" cy="52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fix the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fix the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divorce him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ivorce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decision, fact (hig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probabil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get down/round to doing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don’t plan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get down/round to doing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sion, f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752480"/>
            <a:ext cx="838188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you be doing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programmer going to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be using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2260440"/>
            <a:ext cx="8382240" cy="39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t: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thin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ot succeed in getting the OS to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supp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dem will not work with this initializ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reck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ever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ong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think he is not going to succeed in getting the OS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suppose the modem is not going to work with th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ckon he is never going to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226044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ac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onna + infinitive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ly informal 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nna grass on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’s not gonna discuss that with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ways of expressing inten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about to say it, but you beat me to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on the point of starting the virus-infected program when I entered the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, whom, 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used in connection with people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so allows other uses; h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, hi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m, 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he kind of pers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never lear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te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ave me the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d you give it to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d you give it 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b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s th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t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ses of “whose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computer whose hard disk is faulty. This is the computer the hard disk of which is faul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buy a disk whose size is lower than 10 GB. I am not going to buy a disk the size of which is lower than 10 G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a keyboard whose cable was frayed. He brought me a keyboard the cable of which was fray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4-11-18T14:25:59Z</dcterms:modified>
  <cp:revision>68</cp:revision>
  <dc:subject/>
  <dc:title>Lecture 1:</dc:title>
</cp:coreProperties>
</file>