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2F6F-D105-4EA3-8AF0-6807EE42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D82-53E1-4736-9334-4EA047CF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AA35-38D5-49A4-8D67-E85873A3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785-49CB-404E-852B-6D93784F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8E4-3FAE-4BD5-BEAF-F264B7D0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4856-ED87-4CFC-94D2-3A04DB39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082-7B03-447D-B89B-6D767021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C38-122F-49C9-92C5-F14FDB9B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9AE-9687-458F-88C3-2E5C51E1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64A1-1023-405E-83E7-12DA1820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199-0CDB-4F5B-B27C-EFB03EDB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B4F-E1F9-45C5-8D01-27001F82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2B77-EDBD-441A-B8F3-78BB13B9B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related to final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9T13:49:42Z</dcterms:modified>
  <cp:revision>102</cp:revision>
  <dc:subject/>
  <dc:title>Lecture 1:</dc:title>
</cp:coreProperties>
</file>