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DA4-9B34-493D-853B-6E057A9D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269-474F-454A-BFB8-D7485D38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C1B-14FF-4631-8AE6-B527967B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45C-865A-42EF-8AEB-78E09BDA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5BB-4B0D-4E3F-9441-894DB5CE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5991-3CE9-482C-8EAD-51F9BB74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8D2-611A-45D1-AE6A-4A105D5C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F39-6178-4C00-B9E0-80A025A3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C6A-11DC-4A8E-BEFD-22C3956E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784-07DE-4A25-96EC-EE4EF738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02D-3765-4B1C-B1A7-AE2BDBE9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5BC-8CA0-4426-B7C7-B0A4BB8F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7A4A-EA0A-4A66-8257-CB42790B5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23:00Z</dcterms:modified>
  <cp:revision>9</cp:revision>
  <dc:subject/>
  <dc:title>Lecture 1:</dc:title>
</cp:coreProperties>
</file>