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05A-EE59-4841-9DFE-07E00BCE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070-163A-4529-B3A1-D018A6A5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5B0-1484-4D67-89A2-A997C725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3E3-E79F-46D2-8F03-D6740551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7BE-25DF-467D-A10D-02EB36B1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A47-F030-487A-9F6A-7DD5BE6A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B40-4389-436D-B497-1EF457A0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5E2-329B-4EE1-9BA4-D813B31D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82F-85D9-459C-AC0C-929937E9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404-6436-40C8-A9A4-B9F0CFA7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1D3-4EEB-412B-9B09-904D3A68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48C-FC55-42EF-AB3C-49EF3EC8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6BEF-859D-4411-A9BD-1AAA91F13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zed reading according to the teac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10:47Z</dcterms:modified>
  <cp:revision>17</cp:revision>
  <dc:subject/>
  <dc:title>Lecture 1:</dc:title>
</cp:coreProperties>
</file>