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42E-6410-4592-8EE7-DCC6F38F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561-92E0-4251-B446-D791BD26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6C6-4501-4918-AC89-2322324C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CC9-E083-49AA-BD2D-A93A67F8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355-1F4E-46CE-B6A1-AD8D6BFD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4B6-0175-4BD6-A329-2493143F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E24-6F62-4839-BEDF-F085B82D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237-1E08-461B-8B91-E50E5C2F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A4B-0D4A-4CC2-A525-5165B9D0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2FA-CE6B-4692-B7CC-3A572D01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8EC-C7BC-4837-B559-5EDFBA87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9C0-647C-476C-81F4-1A1A7CDB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D872-8AD6-4A2E-93EF-81EDA5FB1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1T17:03:35Z</dcterms:modified>
  <cp:revision>84</cp:revision>
  <dc:subject/>
  <dc:title>Lecture 1:</dc:title>
</cp:coreProperties>
</file>