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F972-A66F-4A92-8334-3C96D6A3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6E3-5092-426A-A363-7940E291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8FA-E820-4C62-BED9-2835CE00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038-5599-4C32-9F90-144C26E1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CAB-6CBE-48AF-9E94-74C121F8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4DA-B833-4A3B-9429-399787DF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E58-A477-4D87-AE28-EDF2A126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9905-C878-48DC-9CE4-D32DBA61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3A01-B06A-44F1-AD86-46D6DB3E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D2A-DF52-4DB1-B4D1-8CA68D5E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7F24-C199-4113-AB9C-B955DB6D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1F0-1ECE-4293-99B1-4F5E659E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041A-67AF-4A7F-BAFB-1728DB0AE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related to final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9T13:49:42Z</dcterms:modified>
  <cp:revision>102</cp:revision>
  <dc:subject/>
  <dc:title>Lecture 1:</dc:title>
</cp:coreProperties>
</file>