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893E-FD25-4737-BE93-94FFCE66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9E0-F341-4840-9AA0-FFED79A8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462-41C5-43DC-A2C5-7DBB2ED4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28B-9FC5-4C95-8F66-2A502D06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8A4-9519-4503-8DE4-64178193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920-2F50-465B-8F9A-167F4224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8A2-530D-4D08-B879-43B56650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529B-1728-4882-A0E5-6DEB75D4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A2E-3199-45EA-AA7A-AC7AFD4D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02ED-F535-463D-9A3D-83FEF0D7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AC3-1C8A-4D08-9F42-D32F68DF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841-2930-44AB-8202-84F75FDC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A16D-63AD-4100-AB97-8360B8E7C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zed reading according to the teac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10:47Z</dcterms:modified>
  <cp:revision>17</cp:revision>
  <dc:subject/>
  <dc:title>Lecture 1:</dc:title>
</cp:coreProperties>
</file>