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DA44-F699-4FD7-B4DF-1FE9BDDCD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ED21-D238-4F5D-B0BE-D9BD135C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925E-8F75-44E5-9E24-5F3A566A0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FA4A-DD5F-4CA6-8016-F54A5764C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C77F-D2A1-4C61-AA2B-E6DA23C31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7D76-52A6-4736-932E-A85BC5E2D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0433-7395-49DB-9E34-708603D8E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DA28-0D2D-4E15-B20C-7CE15E20A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CC3B-B53E-4D7E-B59F-C8ED0731A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304E-FC43-452A-815E-178B2FA6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3527-75AB-410C-B46E-345474C7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98C7-F6F9-4EE7-8851-533B5E26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C736F-7076-42F9-BE39-88FA52784A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st common verbs combined with pre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ree with, apologize for, approve of (souhlasit s, schvalovat), benefit from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prospěch 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epend on, feel lik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ít chu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insist on (trvat na), look forward to, object to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námitky vůč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rely on, resort to (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hýlit se 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cceed in, think of, vote for (hlasovat p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ologized for sending him a virus-infected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rongly objected to using FLASH technology on that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feel like learning to work with another 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sorted to launching the applications from the command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teacher succeeded in mastering some basic Unix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6 exercise 2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alog and Digital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iples are often used to shorte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imple -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for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to refer to simultaneous actions or parallel sta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browsing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en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row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subjects are iden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tampering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il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er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gateways amplify the signal they receive, they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plif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received signal, gateways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it is a terminal which comprises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termina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ri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 file was transferred in the binary mode, it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transferred in the binary mode, the file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y are not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being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ast participle for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which was discussed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which was addressed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dre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which is connected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st Gerund form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aving + past participle) - used to denote chronological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data-link layer  receives confirmation that the packet has arrived undamaged, it deletes the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received confirmation that the packet has arrived undamaged, the data-link layer delet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modem detected noise on the line, it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detected noise on the line, the modem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she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the message was not re-routed properly, it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having been re-routed properly, the message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 Use of participles makes speech (writing) sound (look) formal and academic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king scripts for my boss is my worst nightm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aking of scripts for my boss is my worst nightma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rcha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most common preposition-free verbs followed by gerun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mit, appreciate, avoid, celebrate, commenc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ačí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consider, deny, detest (nes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š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islike, enjoy, fear, finish, go, imagine, keep, mention, mind, miss, postpone, practice, resist (o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áv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tand (vys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g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golden rule to rememb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you can put “something” behind the verb, if you want to put another verb behind it, it should be in the gerund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dmitted making a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debugging the source code. (I appreciate that she is debugging/she debugs the source cod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having debugged the source code. (I appreciated that she has debugged the sourc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choolmate considered buying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oes not enjoy working with that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te him/his smoking in this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03Z</dcterms:modified>
  <cp:revision>153</cp:revision>
  <dc:subject/>
  <dc:title>Lecture 1:</dc:title>
</cp:coreProperties>
</file>