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729-BC75-4297-B34D-64FD0075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09E-72E3-49E7-9513-C8B45731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D83-0DB6-4DE0-8528-558DDB7A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413-9B60-41B3-AEBA-EF303741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8F0-CBCC-4AB9-ABEE-ECBA8CF1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DFD-88B7-4F7D-A06D-12F36DA9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6CC-9ED9-414F-85A6-E68F75F7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8ED-E369-4FE3-9B4E-273BD942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728-DD3D-4864-9A40-787D1854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D30-CE5B-498C-B3E7-9AF29CDF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AD0-743F-42F1-98F4-18F278AB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BE0-6837-4F78-B6DB-590C7FB3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CC23-6DF0-41BA-8112-CD6198787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23:00Z</dcterms:modified>
  <cp:revision>9</cp:revision>
  <dc:subject/>
  <dc:title>Lecture 1:</dc:title>
</cp:coreProperties>
</file>