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3A34-28A1-4514-87D9-A3CC5D90E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1189-2160-4810-828E-22164C88D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6369-3F15-4EA5-A41B-71BF79F68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6825-6EC2-4916-BEA4-E8DFC15CA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906D-7FD5-4844-B9B5-5A29F638C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CCD4-CC30-453D-BA6E-C183F651C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7FE7-AE61-4B53-B4BE-C4D71DDCD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A2DC-BB17-477B-A93A-5429F4191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0B2C-3187-4D64-A1CA-A89277876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4E4D-6C13-4984-97A8-0D8E7253E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DA45-BFB1-47FA-9C41-63CF9D6A1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31C1-E9C8-47CC-B975-224A9959B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FA801-5744-481C-8E5B-A965E2C5A3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13372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nctions introducing tim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while, before, after, as soon as (jakmile), till, until, once (jak jednou), by the time (kdy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whenever (kdykoliv), the moment (v tu chv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li, k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ule to remember: Time clauses (introduced with one of the conjunctions above) must never conta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When referring to future, they have to u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ent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9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icture will be breaking u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 you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laying the file without the new cod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fter you pl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piece of hardware in, Windows will automatically detect it and assign the right driver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start selling the progra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til I deb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say they will check my hardware setting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ile I wa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na p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kán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be able to install that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 soon as you re-parti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receive the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y the time you are d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conver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ever he ask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for it, I will not help him o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981080"/>
            <a:ext cx="79250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 of present perfect in time clauses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as soon as, after, once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 to describe an action which will be completed before the action in the main cl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get a pretty well-paid job when you have graduated from this sch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ce I have finished reading the manual, I will try to get it to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let you go out as soon as you have done your home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tudent will be admitted to a higher grade after he/she has passed all the necessary ex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066680"/>
            <a:ext cx="80010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xon Genitive 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belonging to a person or, sometimes, anim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my father’s mod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one is allowed to touch my children’s to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achers often underestimate their students’ learning potent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o express place, distance, periods of time, measure, value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et out for an hour’s walk. (a one-hour wal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ought a sixteen inches’ monitor. (a sixteen-inch moni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twenty kilometers’ trip will never end. (twenty-kilometer tr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what I told you at the last week’s le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pe they don’t thwart the tomorrow’s plan of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only brought me a fifty centimeters’ cable. (a fifty-centimeter c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nday’s newspapers (this Sunday’s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unday papers (Sunday edition - general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hirty Year’s War (the name of the war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thirty-year war (the one lasting thirty yea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212400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á také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o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ither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J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 také 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either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s the FLASH technology. So does s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an’t work with that program. Neither can my 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overslept today. So has my br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bandwidth does not enable us to transfer a large volume of data. Neither does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as thick as two short planks. So is his si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2604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got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mustn’t increment that value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th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needn’t have used fractions in the equation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ed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mustn’t speak during the lessons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s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duce bug-free software. Neither do 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5 exercise 1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6 exercise 1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8 exercise 1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mmun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8:33Z</dcterms:modified>
  <cp:revision>144</cp:revision>
  <dc:subject/>
  <dc:title>Lecture 1:</dc:title>
</cp:coreProperties>
</file>