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F415-E085-449A-BB23-76BC38D4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0113-573D-4114-967F-65036E30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27B8-9BD3-4515-A7CA-B90E1033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B65-A71A-4E0F-8079-D8A1D190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F21-C181-4505-88F7-67EAAD55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752-86C6-44F5-8F17-9D65F004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B13-A53B-4001-8A79-B1A37187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C8F6-DB82-4416-8C4B-5841810B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4BE1-6810-41CF-B650-BD7E4CA7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F5BD-06FB-4E0B-8972-CD1C85C6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1A13-28A8-4764-837D-98ABE195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186-7120-410B-A506-3AD247B3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18CE-B4CA-4323-A896-9303BCF3E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2T13:00:05Z</dcterms:modified>
  <cp:revision>91</cp:revision>
  <dc:subject/>
  <dc:title>Lecture 1:</dc:title>
</cp:coreProperties>
</file>