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B198-2E90-4B49-A4CE-CE9035A3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86F8-3138-4E43-95F4-32100344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167A-0358-4207-A4E0-92FEFB91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C8BF-E591-4619-B27B-9D680694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E24F-6C07-4B5C-8510-34566091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07FC-87AA-4971-B769-1DAFDC98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F29C-C4B4-489B-A68F-1D8DF28D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C870-A6E3-433F-AF37-46FDB5D5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F146-8AE8-440C-8858-04AC14C2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B47C-E3E2-4B81-A1AC-68D32420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BD48-CB9A-4599-8C9C-FB1027E5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12A9-6E88-4A7E-B576-64ECBFF2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094F-6CE2-4A2E-9127-5FC4FA997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43Z</dcterms:modified>
  <cp:revision>187</cp:revision>
  <dc:subject/>
  <dc:title>Lecture 1:</dc:title>
</cp:coreProperties>
</file>