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F9B-858B-465C-87FD-68A1D7D8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BCC-43E7-455B-8CD3-F4C9DC3D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51E-F318-4E76-8EEB-1E55F6FA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DAC-DD53-4F12-AF0E-B1182F01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DED-46ED-42DD-9C6F-436E3B45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B1F-EC62-4397-98D0-25FBCCA5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97A-7C1F-4990-BC03-67A7DFB8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DBB-4198-445A-A3D5-54A00E67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7DD-3212-4DD2-9CFD-553EBE3D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C6E-32C1-457E-B87E-235EA3E8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179-002F-43F3-BFA4-C17B1A21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27D-859C-4D13-95FD-9CCB5480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5200-A30F-4D2D-990A-44061A8E4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7:33Z</dcterms:modified>
  <cp:revision>124</cp:revision>
  <dc:subject/>
  <dc:title>Lecture 1:</dc:title>
</cp:coreProperties>
</file>