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C702-2A01-4062-A29B-0396E673B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28BC-3FF7-4DF1-9AA6-1677D7E2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18BF-8D6D-43E2-B60B-EB71361A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B03A-DCC5-4A86-AB1A-598A9F49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9C5B-B1D8-4BD9-AE92-F5ACB337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55A3-BBFE-40B4-8084-058710A7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A2F4-A673-4267-8E89-0196E6C3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D593-7B9B-4830-AA4D-59EB7021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DE9E-05FC-4AB7-B81D-20462CB3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5BD6-DA87-466B-836A-B8131AE9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7077-FC7C-4E9E-8449-5B363CE6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CCAA-7704-48AC-9B5D-232D1DC7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E9D6-D4DE-4D29-8168-690FC306E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get down/round to do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get down/round to do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1-18T14:25:59Z</dcterms:modified>
  <cp:revision>68</cp:revision>
  <dc:subject/>
  <dc:title>Lecture 1:</dc:title>
</cp:coreProperties>
</file>