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D43-C1E8-4EBD-8599-D86B1335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EBD-FB7A-42BA-AF77-F260BF90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47E-C019-4541-998D-4F1B24C6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FCA-1E82-4355-A361-8E67F141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CDE-00AD-4DCA-8136-71D030B6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A76-A79E-4173-86EF-3F074219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FA5-DF05-4F9C-8D5B-63395CB5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24A-F2D0-4119-BA0D-049A3E7B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741-973D-41F1-90CF-044A62E8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9C9-7ADA-4ABE-A5D8-1CD09A4F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A00-0662-48CF-87B0-39C2580B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BFB-7DBC-4FE0-A9BA-98A5099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7512-92F0-4CF5-97F4-20EF84596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ever wa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the 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0-14T12:58:08Z</dcterms:modified>
  <cp:revision>31</cp:revision>
  <dc:subject/>
  <dc:title>Lecture 1:</dc:title>
</cp:coreProperties>
</file>