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ACA-56E3-465D-A636-AA08180A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199-5426-4231-B9EB-2EAEE9FE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160-3AC4-41A9-915E-54F74E4C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897-FD1D-4D99-A710-57F42878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3C7-4DE7-4602-8E06-97142101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19C9-8BE7-4A42-97E5-3DAB81F0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5EA9-0166-4FFD-8A68-25563C00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9E9-E993-482E-9651-11D2AA82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A404-2A30-4015-BDD8-DF385F31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295-1FFB-43CE-95C7-B0561FD5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8C7A-7C3F-4C45-8EE6-B030D0D4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436-4B42-443C-B64E-97D06712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110C-0F44-4339-9E03-B254EF21E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zed reading according to the teac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10:47Z</dcterms:modified>
  <cp:revision>17</cp:revision>
  <dc:subject/>
  <dc:title>Lecture 1:</dc:title>
</cp:coreProperties>
</file>