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B198-48C8-48E9-B2F1-FE150DCC3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E44F-C076-45C6-A389-4CC56A8F3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DA6F-3B15-4BC1-8F2D-83C832A78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4415-60A5-48DF-A3FA-63E84A404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4C88-F484-4E6E-BF41-1FC0BB445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12A4-1CB4-4407-A8C1-668447668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1F64-F9B0-4962-934F-706C8BA11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DCC3-5B0A-462A-B2D9-3F19E8B84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5A99-7107-425E-ACBD-066143782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41B8-195A-4E97-B1C9-689F277FE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E24C-A4C7-4AEC-AED6-695B0E19B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83B5-9427-4E07-9280-95191B5AE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85DA1-1C23-44D4-9EEE-DE67E7B677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7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yself, yourself … themsel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990720"/>
            <a:ext cx="838224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annoyance, reproach or impatience associated with the action in ques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1905120"/>
            <a:ext cx="8382240" cy="35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Czech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ak dlouho + p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řít. ča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long have you been waiting he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long have you been trying to get the scanner to ru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long has the disk been malfunction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have the foggiest idea of how long he has been visiting the si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80880" y="1600200"/>
            <a:ext cx="8382240" cy="50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T: (exceptions)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present perfect simple must be used if the sentence contains a verb not usually occurring in the continuous form (see lecture 1, page 7) as well as the verb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b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ha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the sense of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posse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; there is also tendency towards replacing present perfect continuous with its simple counterpart in negative sent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known him for a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loved her all his lif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been here for the last ten min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had the watch for 10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not opened the computer case for quite a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yself, Yourself … Themsel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80880" y="1447920"/>
            <a:ext cx="8382240" cy="53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imself does not k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ext itself is rather nonsensic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results themselves turned out to be mislea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ha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ent there al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spent her vacation al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no one ar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ill configure the network by them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make the program by mysel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out anyone’s assi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21337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7 exercise 1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 exercise 2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32 exercise 3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raphical User Interface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er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758960"/>
            <a:ext cx="8382240" cy="49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an action that happened in the past (not specified) and whose consequences can be observed at present or affect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: What’s wrong with that machine? B: My sister has worked with it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only slept for 4 hou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 your friend going with us tonight? No, he has bought a new joysti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: Kate, why are you so depressed tonight? B: The bloody bastard has cheated on 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* notice: The sentences contain no specification of time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758960"/>
            <a:ext cx="8382240" cy="44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f the sentence contains time specification, past tense is used. It is not the consequences of the past action that are stressed but the time itself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bought a ca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esterd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have bought a c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specification          X            present-re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removed the virus two days ago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have removed the vir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two days ago that I removed the virus. X The virus is g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758960"/>
            <a:ext cx="8382240" cy="41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 was reconfigured a while ag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a while ago that the modem was reconfigu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 has been reconfigu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odem has a new configur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never happy ther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never been happy 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, not covering present           past + pres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75248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an action that is somehow related to present; indicator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ust, so far, not yet, since, ever, never, recently, late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ju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ogged 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pelling checker has detected 5 mistak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 f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jected the C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 has not got better at programming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inc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last year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et the IRQs manuall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ard anything like that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system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cently / late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rozen just o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461960"/>
            <a:ext cx="83818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905120"/>
            <a:ext cx="822960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a sequence of actions that took place in the past is given (story, fairytale, etc.), simple past is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as when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school that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for the first time. At that moment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aliz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she was the most beautiful person at the faculty. Her long hair and slender bod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ld 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he was the one. Unable to tame my desire,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cid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chat her u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752480"/>
            <a:ext cx="8381880" cy="30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perfect simple can be combined with the expression of time covering prese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give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onitor a wip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wee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discu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ith her student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d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open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new sto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ye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r bo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rai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salar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mon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2260440"/>
            <a:ext cx="8382240" cy="38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an action which started in the past, is still under way and is likely to continue in the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been study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nglish for five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candisk utilit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been runn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or three min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been debugg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ource code since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o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teac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been us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ndows 98 since 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ugh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mself a new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2260440"/>
            <a:ext cx="838224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an action which ceased a while ago, but the consequences are still obvi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wolfpant" descr=""/>
          <p:cNvPicPr/>
          <p:nvPr/>
        </p:nvPicPr>
        <p:blipFill>
          <a:blip r:embed="rId2"/>
          <a:stretch/>
        </p:blipFill>
        <p:spPr>
          <a:xfrm>
            <a:off x="3505320" y="3706920"/>
            <a:ext cx="2057400" cy="20080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09480" y="60199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wolf has been run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1T17:03:35Z</dcterms:modified>
  <cp:revision>84</cp:revision>
  <dc:subject/>
  <dc:title>Lecture 1:</dc:title>
</cp:coreProperties>
</file>