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0EB-A0C7-4107-A2E4-3B33B4F2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63E-0548-4E0D-ACA4-65097E2C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6C1-4383-4A34-BC1F-BB24062E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1CB-3DC8-4E41-9386-AD30A55E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984-2529-4436-B167-F9E570F4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49D-F10A-4101-B7FE-ABFE5B62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7F9-56D9-4339-8E26-F2C08E8A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5CE-6F4A-4D43-9F35-4F87148E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A1B-84DF-4CAF-B17D-3A330042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4F3-873D-464E-9575-824ABE5A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399-2DC3-4A42-9A18-3D827393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9D1-63C2-437B-82D2-7649E13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0AFE-E58C-4969-9F4C-086DD1D44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2T13:00:05Z</dcterms:modified>
  <cp:revision>91</cp:revision>
  <dc:subject/>
  <dc:title>Lecture 1:</dc:title>
</cp:coreProperties>
</file>