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E09-FFF3-4B50-9497-FBD58E6C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0E4-D18E-458F-92BF-CC4C37A1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66CB-93B5-4940-BA81-6E143BA0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8E5-A66D-46D1-A9CD-D1F3B943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E16-9168-47DF-9E1C-A8530DE5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E152-75EF-4B22-BA26-164EC1B4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52F-A845-41EE-85E2-AD3A3479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C4C-717C-46EF-A779-C7D95085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6DAB-F3D3-428A-AECA-65AD3822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C55-2578-43EC-B921-E2430851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F108-68AB-4A41-B16E-C97DFE96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43D-22CC-4842-8EE2-1A1750AC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1229-BAFF-479F-A608-7638730FA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43Z</dcterms:modified>
  <cp:revision>187</cp:revision>
  <dc:subject/>
  <dc:title>Lecture 1:</dc:title>
</cp:coreProperties>
</file>