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880-B4B4-42CF-863F-BA648B38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FC0-75C4-40C8-9955-AD6878BC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6D7-6385-4680-9687-C216F3DB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044-3115-43D9-AF9E-24B0A45B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2D0-3A21-4C11-A031-AA236060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0D7-E582-4AA6-B225-55DE7F69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0D1-FF4F-4E7A-B6C7-2BAE0324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B6C-5E89-4C91-824F-3148D441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B92-FFDA-4A65-A371-2BF5CAE8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D0D-47A7-4637-BDDF-04955B37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40E-E210-4A0F-A335-10F41E73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94A-361A-40A2-83F3-3CB87F37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BB51-8027-4BBB-A74D-3D6A61A31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56Z</dcterms:modified>
  <cp:revision>194</cp:revision>
  <dc:subject/>
  <dc:title>Lecture 1:</dc:title>
</cp:coreProperties>
</file>