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3316-27A2-437B-A804-B25CE785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A792-0589-499F-BA0E-370EFD5A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044F-951F-4442-80AC-99DD2D68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F2BA-D4E6-4D0E-945E-C908E13B6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250F-6244-42FE-A780-1A862A38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391C-03DA-41E9-B616-8B8268F3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D0DB-28A1-4271-B67F-125151D5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9B83-E853-440A-8297-11E51EC7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A5C6-A0B6-4A23-8D0F-46FC2E60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8DA6-266B-4DBE-8707-DA336CF2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73CE-2420-4818-8A68-49D81AD9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5BCA-4DAA-4E79-A64B-272477C5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527C-93B9-4884-BB8D-111190360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zed reading according to the teac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s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0-07T11:10:47Z</dcterms:modified>
  <cp:revision>17</cp:revision>
  <dc:subject/>
  <dc:title>Lecture 1:</dc:title>
</cp:coreProperties>
</file>