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3DF9-101C-4F10-9AC8-79620360E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360A-8E2D-47F3-A4E3-2F59121A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4A6F-D304-4AE1-A3AE-6523A6EC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54B9-011F-4151-A683-6B4FAEFFD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6DC8-246A-4BA8-BC76-59637F51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6049-7A9A-42A5-AAF4-7DB731F2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C564-3FEE-4215-8EED-6166B1FB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45DC-1C1D-486A-A3A1-0EF5215E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2F9C-E2E0-4B18-9C23-BAFBB6EA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0E05-E175-47C6-A5BB-03D35623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6979-FDB5-46A7-A206-D5B5D44A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A4D7-83A1-4338-99B9-CD495B98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2AB9-51D2-424C-9993-CF8354D40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get down/round to do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get down/round to do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1-18T14:25:59Z</dcterms:modified>
  <cp:revision>68</cp:revision>
  <dc:subject/>
  <dc:title>Lecture 1:</dc:title>
</cp:coreProperties>
</file>