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6ECF-82C7-4D9E-9897-3E31D5183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2A3A-73D8-4F0E-A91D-F43E227D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DA5E-8B27-46A3-B37E-F3B41FF93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6FB3-F420-4602-B684-43E46DF2D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F7D2-5EA0-4D75-975A-AFDB706C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63F1-6E70-4ACB-97DE-E1018B56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78D0-928C-425F-83FC-37B9BC90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CF47-8ABE-4410-92B9-17051E52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14D0-1226-41A3-BA06-E81B7050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BAEE-1F09-44BB-8DBB-E96BF265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60EE-03AA-4886-8D2B-A6CEAEA5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D468-8A65-43A2-872A-F043BD62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8A9C-44F7-43E2-A8F4-9FE949C381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1-04T13:54:20Z</dcterms:modified>
  <cp:revision>59</cp:revision>
  <dc:subject/>
  <dc:title>Lecture 1:</dc:title>
</cp:coreProperties>
</file>