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C356-62DA-42D6-A082-72E52FA2F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98F7-CBA3-460D-9208-E89CACD0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DC7F-4F11-4B30-B594-CCDF923A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76E8-AC60-43FE-A848-696230B09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4E7A-854C-41BD-BA29-C35E42C3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BCFB-A28E-4CF9-A803-F7DF98F1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7AC3-98DA-4398-89C3-EF846B87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DF4B-030A-4D51-818D-50B3AA7A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8514-169A-4D42-9D7C-3F3A8A35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1B22-7683-4A30-A915-E079534E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E70E-D7C1-49E8-B452-B947297F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D9EF-A086-4A7C-A721-4CBF6E19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EBD3-2089-494C-AFAD-4129EB6D4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Jana Smržová</cp:lastModifiedBy>
  <dcterms:modified xsi:type="dcterms:W3CDTF">2005-11-09T20:11:07Z</dcterms:modified>
  <cp:revision>33</cp:revision>
  <dc:subject/>
  <dc:title>Lecture 1:</dc:title>
</cp:coreProperties>
</file>