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2F54-8EEA-47F2-B8B5-AD9605E58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F882-79B4-4F14-8909-65AD62E37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D09C-CBFD-4951-A4D4-FF60C5E9E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80AB-4FFE-460E-A36D-FEA0362E8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80D1-1138-415C-B72D-39D7476CE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D93F-0EEB-4830-83D0-E6D9EEED6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F8F5-26AD-457D-A0E6-C8310F94F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4F67-E930-4A50-A1FD-9911F38A9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C72E-7F3C-4C9F-ADB7-A076A9FFF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D4C1-8099-4975-A66A-00681FAB2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868F-BE94-4118-AAFA-141E053FB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40EC-EDE6-46A6-85A8-4799291BC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DBFBE-9FA8-4E1B-B4E6-224879DDF9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5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finitive Replacing a Clause - Additional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clam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xclam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3520" y="1758960"/>
            <a:ext cx="8001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gative questions can also be use to exclai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n’t Windows the best O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n’t the transfer sluggish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esn’t the processor have a beautiful color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3 exercise 26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5 exercise 2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06 exercise 2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World Wide Web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-mail Protoc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21932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vi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installed a modem to be able to connect to the internet via a phone lin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same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shut down the system for it not to irritate her any mor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ifferent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ther situations in which infinitive is used instead of a clau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rdina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řadové číslovky),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last, 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the first to reveal the bug in the program.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rvní, kdo ..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ere the last to see the computer functional. (posled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kdo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ad was the only person in our family to know how to ground the device. (jedi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ý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kdo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835280"/>
            <a:ext cx="8382240" cy="44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noug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ostat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čně, dos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lway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llow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 adjective or adverb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emory of the VGA is large enough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assu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roper display. (dost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velká na to, aby …)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same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emory of the VGA is large enough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 you to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le to play the game. 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knows Perl well enough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sta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s career as a programm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large enough a mediu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sto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program on it uncompres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od enough software to me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r needs available for downloading on the Intern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21932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found the mod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clumsy to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ard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big to be fit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to the s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big a car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fit i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to the s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s card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big for him to fi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to the s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’ve me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pretty a girl to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le to concentrate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 cases and frequent mistak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cessor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ast enough for me to instal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install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guy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mart enough for me to d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date hi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abl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short for me to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use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dwarf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short for Snowhite to marr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marry hi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s stupidity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hard for her to put up wi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put up with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69848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ten occurs in phras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et married, get angry, get ready, etc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for more details see pp. 193-194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tina pro jazykové školy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f you get the program ready in time, you will even be given a bon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aving heard about the system freezing, he got ang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com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ften intruduces a neutral change usually meaning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„stát se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e has become too dificult to socialize wi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 device has become too outdated to be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204804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r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ually refers to a slow (or gradual) ch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s hair’s grown gre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finding out the dwarf had grown up, Snowhite began to grow fond of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ually refers to a sudden (abrupt) ch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found his keyboard soiled, he turned red with ang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turning blue, the screen predicted a sleepless night full of adven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72404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a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ually occurs in phrases - for more details see p. 194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tina pro jazykové školy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fallen in love with his new interface. He can’t take his eyes off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fall behind their schoolmates in programm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introduces a change for the wo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ut for the screen filter, he would have gone bli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you failed to stick the meat in the fridge, it has gone of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spent a month trying to get rid of the blue screen, he went craz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2048040"/>
            <a:ext cx="8001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to/come 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used to refer to a gradual change (developmen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the beginning I liked the blue color, but I came to hate it with each its recurr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nowhite needed to get to know the dwarf a little before marrying him. Why buy a pig in a po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xclam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1758960"/>
            <a:ext cx="8001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a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the use of noun which can be preceded by an adjective. If the noun is countable (singular),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compulso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a trashy jack! It doesn’t fit 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nonsense! Never heard anything like that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a terrible and time-consuming project to work 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ow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the use of an adjective or adver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nasty of you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sophisticated the system i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surprising!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iron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39:24Z</dcterms:modified>
  <cp:revision>177</cp:revision>
  <dc:subject/>
  <dc:title>Lecture 1:</dc:title>
</cp:coreProperties>
</file>