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6BAC-7938-4F59-BB59-9C678D2F1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9BB8-E592-4EEA-867B-0902387D5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E0EE-2279-4332-AD0A-DF4F0319A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567C-4544-46F9-AD20-E72FC3F56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D5F8-8FC3-49F7-9989-E1CC9A913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F39E-605D-4809-9EBD-E53AB702B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1997-608B-4C02-B443-D5D4A958A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8046-8422-497E-A4E1-67BA0508F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DA39-D34E-4599-BCDA-BFC227F01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1825-F5AB-4C32-956E-F1239F780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8524-E736-45EC-AFC3-E5AF07B98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BD97-4341-4F74-BE38-77B6979C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66349-046C-43AA-A9B6-782CC678AB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00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ha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 order in an English declarative sentence is governed 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VOM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subject, verb, object, adverbial of manner, place and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The speaker refers to an activity which takes place regularl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get up at six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very mornin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rk with the compute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ll the ti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updates his softwar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w and the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upload the file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ree times a week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The speaker refers to scheduled activities in the future (usually those occurring at fixed time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performance starts at 6 p.m. (is scheduled to sta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 time does the bus leave tonight? (is scheduled to lea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attention should be paid to word order - questions asking about subject vs.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broke the computer dow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has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went there with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y has he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have you met the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did you go there wit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Users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s Make the World Smaller and Smar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čtina pro jaz.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42 exercise 8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53 exercise 10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72 exercise 14.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got any money on you? No, I have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 you have any money on you? No I do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eel free to use any of the two alternatives,but never any oth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ttractive chick.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girl was so beautifu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ew computer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ld lemon of h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mad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software by himself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rash no one can u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ion i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ngerous animal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eferring to the whole species, group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  speaking about an activity taking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the mo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ou can’t speak to him now because he is giving his lec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computer is being repaired. Could you use another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ound is breaking up. Is there anything wrong with your sound car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  speaking about someone’s plan, arrangement or intention (usually when referring to the fut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not debugging the source code to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leaving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ndon tomorr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 she having her computer fixed or is she dumping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Referring to the activities taking place repeatedly which the speaker considers annoy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is talking nonsense all th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nitor is flickering (all the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not usually occurring in continuous form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dmire, adore, astonish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believe, belong, concern, consist, contain, deserv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tes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islik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doubt, envy, exist, fit, forget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at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hear, imagine, impress, include, involve, keep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know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lack, last, lik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ov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matter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owe, own, please, possess, prefer, reach, realize, remember, satisfy, seem, sound, stop, suppose, surprise, survive, suspect, understand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an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oes not like this programming language, does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speaking too quickly, aren’t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not speaking too quickly, am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 be a good programmer, mustn’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n’t plug the mouse in now, mus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needn’t have his card replaced, need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got two disks, ha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two disks, doe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, cannot, can’t (to be abl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, may not, mustn’t (to be allowed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, needn’t (to hav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ork in that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ust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format the di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eed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have the monitor replaced. It’s still all right. (she would do it in v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3T15:39:01Z</dcterms:modified>
  <cp:revision>11</cp:revision>
  <dc:subject/>
  <dc:title>Lecture 1:</dc:title>
</cp:coreProperties>
</file>