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D3FA-73EE-435C-9404-F5C68F387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5D7C-B8F8-4D2C-A6F9-E61B78EF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C60B-180E-4747-9A99-8F019D189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77BA-1B4E-45B7-9C39-68F4507C9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C42A-C6F8-4FF8-8168-E84F31CB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0A01-E681-4819-8625-A32FA3D3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3BD9-F32D-4372-A1F7-03C5BF8D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6BF4-C474-4130-A787-9A88E96C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79A8-25E3-4ED9-8DEB-E7630D0D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9BB7-65ED-4665-BBCE-F7FD0E10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FAE7-CB2A-4E5B-BCC6-1DD57D2B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EC1C-CEA8-4D7B-8A90-64CCEF9C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13B9-253C-4D39-8DCD-1D77C379E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676520"/>
            <a:ext cx="7925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5-04T12:50:07Z</dcterms:modified>
  <cp:revision>214</cp:revision>
  <dc:subject/>
  <dc:title>Lecture 1:</dc:title>
</cp:coreProperties>
</file>