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CBDC-8037-4C80-9B9E-9BC656804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4633-B803-48F9-9F30-77315669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6581-ABA3-443C-82B7-3AE683709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7857-CB86-4596-8F21-59C44013C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0833-D293-4436-889D-5002AC5B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AFB4-86F1-434A-A089-C323CF14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3793-20AD-4465-BEBC-A9F417AE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5558-F0D8-421C-B03A-2085B5EF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1DBE-0FCF-4A0B-ADD0-65E794A2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2D0F-86D9-42A3-BABA-270830E8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46CF-1185-420B-98EF-71ECB492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E48F-D6E5-4DC0-9726-068D0030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73F3-45DE-40D2-BD2B-6EE1C8110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20T13:18:32Z</dcterms:modified>
  <cp:revision>195</cp:revision>
  <dc:subject/>
  <dc:title>Lecture 1:</dc:title>
</cp:coreProperties>
</file>